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EFC7B-3AB1-4D38-BB87-6B8636E5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314CD16-5133-4795-88F5-D7AAB163E7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533-DF68-44E5-A6AF-85D2FE3B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A67-9935-434A-9245-C7275D0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8BD-1866-472C-96FE-DBFD158E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0B9-449A-4ECB-8100-C8BD56AB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CE83-E0CD-4D1E-AAC5-BCD68B4A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2F6-6CEA-4838-B1DA-0A23688F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20C-29E9-4376-9F0B-A2BEB27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256B-4B80-42CD-8551-89C3218E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9354-E722-48E1-BD32-AC76D306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8410-A7EF-4166-AE60-ED5D66E0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EF13-0163-4D7D-998C-E55C4DFA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4BC-0F15-43D0-9A05-7959250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2125-F964-4DE8-A91E-F7544D0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31A2-9D25-4A95-9E83-526685C9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0E19-B8C3-4CEC-B081-33B2D97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206-6724-4ECE-9CE7-74A19D75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3E9B-BDC2-4B69-88FE-E825720A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EE8-8328-4DF0-97C7-8F3CD3EC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C16-5763-4615-A8D9-9591246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170-4CCF-4B08-B0BC-CA9C094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711-D86B-41E3-9658-76DD08D2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CF8-AD8D-4973-AE75-5DCB14F1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155-4A43-43A3-8C6A-FBEC248F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B22-6F3F-4987-A150-C6A8177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856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3000" spc="-1" strike="noStrike">
                <a:solidFill>
                  <a:srgbClr val="000000"/>
                </a:solidFill>
                <a:latin typeface="Arial Black"/>
              </a:rPr>
              <a:t>单击此处编辑母版标题样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3E3A8EC-0805-4E7C-AB29-3E96F9DCE2A4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44280" bIns="-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900" spc="-1" strike="noStrike">
                <a:solidFill>
                  <a:srgbClr val="8b8b8b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70779DE-DE91-4A18-9838-A9A996CF1221}" type="slidenum">
              <a:rPr b="0" lang="en-US" sz="900" spc="-1" strike="noStrike">
                <a:solidFill>
                  <a:srgbClr val="8b8b8b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5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564360" y="771480"/>
            <a:ext cx="2002680" cy="1250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5"/>
          <p:cNvSpPr/>
          <p:nvPr/>
        </p:nvSpPr>
        <p:spPr>
          <a:xfrm>
            <a:off x="0" y="2044800"/>
            <a:ext cx="914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家乡的风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42278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1"/>
          <p:cNvSpPr/>
          <p:nvPr/>
        </p:nvSpPr>
        <p:spPr>
          <a:xfrm>
            <a:off x="480240" y="1162440"/>
            <a:ext cx="5315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时节雨纷纷，路上行人欲断魂。借问酒家何处有，牧童遥指杏花村。”这首《清明》是大家从小就开始背的一首诗，相信大家再熟悉不过了。清明节是祭祖、扫墓的节日，也是二十四节气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也叫踏青节。大多数人都会在这一天回到家乡去扫墓、祭祖。关于清明节的起源，还有一个传说呢！据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3041640" y="0"/>
            <a:ext cx="3060360" cy="594720"/>
          </a:xfrm>
          <a:prstGeom prst="rect">
            <a:avLst/>
          </a:prstGeom>
          <a:ln w="0">
            <a:noFill/>
          </a:ln>
        </p:spPr>
      </p:pic>
      <p:sp>
        <p:nvSpPr>
          <p:cNvPr id="131" name="矩形 33"/>
          <p:cNvSpPr/>
          <p:nvPr/>
        </p:nvSpPr>
        <p:spPr>
          <a:xfrm>
            <a:off x="2999160" y="7419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467640" y="4188960"/>
            <a:ext cx="547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  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899640" y="3723840"/>
            <a:ext cx="492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  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95640" y="701280"/>
            <a:ext cx="1809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佳作在线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接连接符 13"/>
          <p:cNvCxnSpPr/>
          <p:nvPr/>
        </p:nvCxnSpPr>
        <p:spPr>
          <a:xfrm>
            <a:off x="5823000" y="641880"/>
            <a:ext cx="360" cy="4182480"/>
          </a:xfrm>
          <a:prstGeom prst="straightConnector1">
            <a:avLst/>
          </a:prstGeom>
          <a:ln>
            <a:solidFill>
              <a:srgbClr val="a5a5a5">
                <a:lumMod val="50000"/>
              </a:srgbClr>
            </a:solidFill>
            <a:prstDash val="sysDash"/>
          </a:ln>
        </p:spPr>
      </p:cxnSp>
      <p:sp>
        <p:nvSpPr>
          <p:cNvPr id="136" name="矩形 19"/>
          <p:cNvSpPr/>
          <p:nvPr/>
        </p:nvSpPr>
        <p:spPr>
          <a:xfrm>
            <a:off x="6069960" y="1733040"/>
            <a:ext cx="2536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从《清明》这首古诗引出清明节是祭祖、扫墓的节日，也是二十四节气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480240" y="4609440"/>
            <a:ext cx="286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6084000" y="3149640"/>
            <a:ext cx="24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引出有关清明节的传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1"/>
          <p:cNvSpPr/>
          <p:nvPr/>
        </p:nvSpPr>
        <p:spPr>
          <a:xfrm>
            <a:off x="6861600" y="699480"/>
            <a:ext cx="14155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3036240" y="305532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3102840" y="43930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323640" y="699480"/>
            <a:ext cx="5688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始于古代帝王将相“墓祭”之礼，后来民间也仿效，在那一天祭祖扫墓，慢慢地就成为了中华民族一种固定的风俗。本来，寒食节与清明节是两个不同的节日，到了唐朝，因为时间关系，所以将祭拜扫墓的日子定为了清明节。一般是在新历的四月五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大约始于周代，到现在已经有二千五百多年的历史了。清明最开始是一个很重要的节气，清明一到，气温就升高，正是春耕播种的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连接符 9"/>
          <p:cNvCxnSpPr/>
          <p:nvPr/>
        </p:nvCxnSpPr>
        <p:spPr>
          <a:xfrm>
            <a:off x="6211800" y="641880"/>
            <a:ext cx="360" cy="4182480"/>
          </a:xfrm>
          <a:prstGeom prst="straightConnector1">
            <a:avLst/>
          </a:prstGeom>
          <a:ln>
            <a:solidFill>
              <a:srgbClr val="a5a5a5">
                <a:lumMod val="50000"/>
              </a:srgbClr>
            </a:solidFill>
            <a:prstDash val="sysDash"/>
          </a:ln>
        </p:spPr>
      </p:cxnSp>
      <p:sp>
        <p:nvSpPr>
          <p:cNvPr id="144" name="矩形 11"/>
          <p:cNvSpPr/>
          <p:nvPr/>
        </p:nvSpPr>
        <p:spPr>
          <a:xfrm>
            <a:off x="336240" y="1009080"/>
            <a:ext cx="5459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  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395640" y="1441080"/>
            <a:ext cx="5459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  ~~~~~~~~~~~~~~~~~~~~~~~~~~~~~~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323640" y="1923840"/>
            <a:ext cx="545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6356160" y="911520"/>
            <a:ext cx="2392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❸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慢慢”这个词说明清明节是民间长期仿效帝王将相“墓祭”之礼，在那一天祭祖扫墓，而形成的固定风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6372360" y="2787840"/>
            <a:ext cx="239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主要写了清明节的来历及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8"/>
          <p:cNvSpPr/>
          <p:nvPr/>
        </p:nvSpPr>
        <p:spPr>
          <a:xfrm>
            <a:off x="2211480" y="300384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9"/>
          <p:cNvSpPr/>
          <p:nvPr/>
        </p:nvSpPr>
        <p:spPr>
          <a:xfrm>
            <a:off x="3147840" y="1635480"/>
            <a:ext cx="38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"/>
          <p:cNvSpPr/>
          <p:nvPr/>
        </p:nvSpPr>
        <p:spPr>
          <a:xfrm>
            <a:off x="395640" y="699480"/>
            <a:ext cx="5355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节，以前还有“清明前后，种瓜点豆” “植树造林，莫过清明”的谚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的习俗有很多，扫墓是对祖先的思敬。按长期形成的风俗习惯，以前，北京人大多数都在清明节扫墓，但祭扫仪式并不在清明节的当天，而是在临近清明的“单”日举行。传说，只有僧人才在清明当天祭扫坟茔。也有插柳：因为有一句古话是这样说的“有心栽花花不成，无心插柳柳成荫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4"/>
          <p:cNvCxnSpPr/>
          <p:nvPr/>
        </p:nvCxnSpPr>
        <p:spPr>
          <a:xfrm>
            <a:off x="6211800" y="641880"/>
            <a:ext cx="360" cy="4182480"/>
          </a:xfrm>
          <a:prstGeom prst="straightConnector1">
            <a:avLst/>
          </a:prstGeom>
          <a:ln>
            <a:solidFill>
              <a:srgbClr val="a5a5a5">
                <a:lumMod val="50000"/>
              </a:srgbClr>
            </a:solidFill>
            <a:prstDash val="sysDash"/>
          </a:ln>
        </p:spPr>
      </p:cxnSp>
      <p:sp>
        <p:nvSpPr>
          <p:cNvPr id="153" name="矩形 5"/>
          <p:cNvSpPr/>
          <p:nvPr/>
        </p:nvSpPr>
        <p:spPr>
          <a:xfrm>
            <a:off x="4040280" y="1059480"/>
            <a:ext cx="385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498720" y="915480"/>
            <a:ext cx="224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前后，种瓜点豆” “植树造林，莫过清明”这两句谚语说明了清明这个节气的重要性：种瓜点豆、植树造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428760" y="767160"/>
            <a:ext cx="55112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据说，插柳的风俗，是为了纪念神农氏的。有的地方，人们把柳枝插在屋檐下，可以预报天气。除了这些习俗，清明节的习俗还有很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一家由于工作问题，所以就没有回家乡扫墓、祭祖，我就在网上祭奠了光荣牺牲的烈士们，阅读有关他们的故事，学习他们的优良品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不仅是一个传统节日，它也是我们中华民族悠久的“活”文化遗产。“清明时节雨纷纷，路上行人欲断魂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直接连接符 4"/>
          <p:cNvCxnSpPr/>
          <p:nvPr/>
        </p:nvCxnSpPr>
        <p:spPr>
          <a:xfrm>
            <a:off x="6211800" y="641880"/>
            <a:ext cx="360" cy="4182480"/>
          </a:xfrm>
          <a:prstGeom prst="straightConnector1">
            <a:avLst/>
          </a:prstGeom>
          <a:ln>
            <a:solidFill>
              <a:srgbClr val="a5a5a5">
                <a:lumMod val="50000"/>
              </a:srgbClr>
            </a:solidFill>
            <a:prstDash val="sysDash"/>
          </a:ln>
        </p:spPr>
      </p:cxnSp>
      <p:sp>
        <p:nvSpPr>
          <p:cNvPr id="157" name="矩形 5"/>
          <p:cNvSpPr/>
          <p:nvPr/>
        </p:nvSpPr>
        <p:spPr>
          <a:xfrm>
            <a:off x="6516360" y="915480"/>
            <a:ext cx="224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清明节还有单日祭扫，插柳等风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1200240" y="987480"/>
            <a:ext cx="5459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~~~~~~~~~~~~~~~~~~~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395640" y="1419480"/>
            <a:ext cx="777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~~~~~~~~~~~~~~~~~~~~~~~~~~~~~~~~~~~~~~~~~~~~~~~~~~~~~~~~~~~~~~~~~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6487200" y="3003840"/>
            <a:ext cx="224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文以《清明》中的诗句结尾，照应开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7"/>
          <p:cNvSpPr/>
          <p:nvPr/>
        </p:nvSpPr>
        <p:spPr>
          <a:xfrm>
            <a:off x="785880" y="2714760"/>
            <a:ext cx="7745040" cy="500760"/>
          </a:xfrm>
          <a:prstGeom prst="rect">
            <a:avLst/>
          </a:prstGeom>
          <a:noFill/>
          <a:ln w="28575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开头结尾互相呼应。作者联系文化发展的过程向我们介绍了清明节的由来及风俗，内容丰富，语句通顺，条理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https://ss0.bdstatic.com/70cFvHSh_Q1YnxGkpoWK1HF6hhy/it/u=2420330119,3946864923&amp;fm=23&amp;gp=0.jpg"/>
          <p:cNvPicPr/>
          <p:nvPr/>
        </p:nvPicPr>
        <p:blipFill>
          <a:blip r:embed="rId1"/>
          <a:stretch/>
        </p:blipFill>
        <p:spPr>
          <a:xfrm>
            <a:off x="675000" y="1059480"/>
            <a:ext cx="1286640" cy="1040040"/>
          </a:xfrm>
          <a:prstGeom prst="rect">
            <a:avLst/>
          </a:prstGeom>
          <a:ln w="0">
            <a:noFill/>
          </a:ln>
        </p:spPr>
      </p:pic>
      <p:sp>
        <p:nvSpPr>
          <p:cNvPr id="163" name="矩形 13"/>
          <p:cNvSpPr/>
          <p:nvPr/>
        </p:nvSpPr>
        <p:spPr>
          <a:xfrm>
            <a:off x="2383920" y="13935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4" name="Picture 5" descr="元宵灯会"/>
          <p:cNvPicPr/>
          <p:nvPr/>
        </p:nvPicPr>
        <p:blipFill>
          <a:blip r:embed="rId1"/>
          <a:stretch/>
        </p:blipFill>
        <p:spPr>
          <a:xfrm>
            <a:off x="683640" y="745920"/>
            <a:ext cx="2589840" cy="1927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5" name="Picture 6" descr="元宵灯会2"/>
          <p:cNvPicPr/>
          <p:nvPr/>
        </p:nvPicPr>
        <p:blipFill>
          <a:blip r:embed="rId2"/>
          <a:stretch/>
        </p:blipFill>
        <p:spPr>
          <a:xfrm>
            <a:off x="705240" y="2824200"/>
            <a:ext cx="2568240" cy="192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6" name="Picture 8" descr="春节庙会1"/>
          <p:cNvPicPr/>
          <p:nvPr/>
        </p:nvPicPr>
        <p:blipFill>
          <a:blip r:embed="rId3"/>
          <a:stretch/>
        </p:blipFill>
        <p:spPr>
          <a:xfrm>
            <a:off x="6026760" y="745560"/>
            <a:ext cx="1497240" cy="1927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7" name="Picture 9" descr="春节庙会2"/>
          <p:cNvPicPr/>
          <p:nvPr/>
        </p:nvPicPr>
        <p:blipFill>
          <a:blip r:embed="rId4"/>
          <a:stretch/>
        </p:blipFill>
        <p:spPr>
          <a:xfrm>
            <a:off x="3636000" y="745560"/>
            <a:ext cx="1865880" cy="1927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8" name="Picture 10" descr="春节庙会3"/>
          <p:cNvPicPr/>
          <p:nvPr/>
        </p:nvPicPr>
        <p:blipFill>
          <a:blip r:embed="rId5"/>
          <a:stretch/>
        </p:blipFill>
        <p:spPr>
          <a:xfrm>
            <a:off x="3623400" y="2824200"/>
            <a:ext cx="2090520" cy="1985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9" name="Picture 11" descr="春节庙会4"/>
          <p:cNvPicPr/>
          <p:nvPr/>
        </p:nvPicPr>
        <p:blipFill>
          <a:blip r:embed="rId6"/>
          <a:stretch/>
        </p:blipFill>
        <p:spPr>
          <a:xfrm>
            <a:off x="6000840" y="2786040"/>
            <a:ext cx="1949400" cy="2018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0" name="Text Box 15"/>
          <p:cNvSpPr/>
          <p:nvPr/>
        </p:nvSpPr>
        <p:spPr>
          <a:xfrm>
            <a:off x="8143920" y="761760"/>
            <a:ext cx="78552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2"/>
          <p:cNvSpPr/>
          <p:nvPr/>
        </p:nvSpPr>
        <p:spPr>
          <a:xfrm>
            <a:off x="714240" y="3326760"/>
            <a:ext cx="78897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离家三里远，别是一乡风。”我们的祖国幅员辽阔，民族众多，每个地方都有自己独特的风俗习惯。你的家乡有哪些特别的风俗习惯？请你介绍一种风俗，或写一写你参加一次风俗活动的经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041640" y="-276120"/>
            <a:ext cx="3060360" cy="140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C:\Users\Administrator\AppData\Roaming\Tencent\Users\541737432\QQ\WinTemp\RichOle\RD0S2E@~$D%3$HSUUMA1ARG.png"/>
          <p:cNvPicPr/>
          <p:nvPr/>
        </p:nvPicPr>
        <p:blipFill>
          <a:blip r:embed="rId2"/>
          <a:stretch/>
        </p:blipFill>
        <p:spPr>
          <a:xfrm>
            <a:off x="2287080" y="673920"/>
            <a:ext cx="4876920" cy="2690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23640" y="2459520"/>
            <a:ext cx="8357760" cy="124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次习作要求写家乡的风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66760"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材上给出了两个选择。可以介绍一种风俗，也可以写一写你参加一次风俗活动的经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23960" indent="-266760"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作时要突出民俗特点，内容要具体，语句要通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041640" y="0"/>
            <a:ext cx="3060360" cy="744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494280" y="779400"/>
            <a:ext cx="7533720" cy="502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说本次习作对我们提出了哪些要求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C:\Users\Administrator\Desktop\17e1884f61f242d2a7c5ee365a480b19.png"/>
          <p:cNvPicPr/>
          <p:nvPr/>
        </p:nvPicPr>
        <p:blipFill>
          <a:blip r:embed="rId1"/>
          <a:stretch/>
        </p:blipFill>
        <p:spPr>
          <a:xfrm flipH="1">
            <a:off x="3643560" y="1928880"/>
            <a:ext cx="2102760" cy="207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041640" y="0"/>
            <a:ext cx="3060360" cy="667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3"/>
          <a:stretch/>
        </p:blipFill>
        <p:spPr>
          <a:xfrm flipH="1">
            <a:off x="2715120" y="2643120"/>
            <a:ext cx="1151640" cy="1317240"/>
          </a:xfrm>
          <a:prstGeom prst="rect">
            <a:avLst/>
          </a:prstGeom>
          <a:ln w="0">
            <a:noFill/>
          </a:ln>
        </p:spPr>
      </p:pic>
      <p:sp>
        <p:nvSpPr>
          <p:cNvPr id="110" name="圆角矩形标注 35"/>
          <p:cNvSpPr/>
          <p:nvPr/>
        </p:nvSpPr>
        <p:spPr>
          <a:xfrm>
            <a:off x="5857920" y="714240"/>
            <a:ext cx="2857320" cy="856800"/>
          </a:xfrm>
          <a:prstGeom prst="wedgeRoundRectCallout">
            <a:avLst>
              <a:gd name="adj1" fmla="val -72697"/>
              <a:gd name="adj2" fmla="val 60098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可以从给出的两项习作内容中中选一项来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标注 37"/>
          <p:cNvSpPr/>
          <p:nvPr/>
        </p:nvSpPr>
        <p:spPr>
          <a:xfrm>
            <a:off x="214200" y="1214280"/>
            <a:ext cx="2288160" cy="1213920"/>
          </a:xfrm>
          <a:prstGeom prst="wedgeRoundRectCallout">
            <a:avLst>
              <a:gd name="adj1" fmla="val 69900"/>
              <a:gd name="adj2" fmla="val 53631"/>
              <a:gd name="adj3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5b9bd5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这次习作我们应如何去写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标注 8"/>
          <p:cNvSpPr/>
          <p:nvPr/>
        </p:nvSpPr>
        <p:spPr>
          <a:xfrm>
            <a:off x="5857920" y="1785960"/>
            <a:ext cx="2857320" cy="1142640"/>
          </a:xfrm>
          <a:prstGeom prst="wedgeRoundRectCallout">
            <a:avLst>
              <a:gd name="adj1" fmla="val -71321"/>
              <a:gd name="adj2" fmla="val -4375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如果介绍一种风俗，在写作时要抓住风俗的主要特点，分成几个方面来写，适当地写一写自己的体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标注 9"/>
          <p:cNvSpPr/>
          <p:nvPr/>
        </p:nvSpPr>
        <p:spPr>
          <a:xfrm>
            <a:off x="5643720" y="3286080"/>
            <a:ext cx="3214440" cy="1356840"/>
          </a:xfrm>
          <a:prstGeom prst="wedgeRoundRectCallout">
            <a:avLst>
              <a:gd name="adj1" fmla="val -52766"/>
              <a:gd name="adj2" fmla="val -69807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如果写自己参加风俗活动的亲身经历，要把现场活动和自身感受写具体，把风俗的特点或来历自然穿插在文中合适的地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C:\Users\Administrator\Desktop\17e1884f61f242d2a7c5ee365a480b19.png"/>
          <p:cNvPicPr/>
          <p:nvPr/>
        </p:nvPicPr>
        <p:blipFill>
          <a:blip r:embed="rId1"/>
          <a:stretch/>
        </p:blipFill>
        <p:spPr>
          <a:xfrm flipH="1">
            <a:off x="2143440" y="2357280"/>
            <a:ext cx="2102760" cy="2072880"/>
          </a:xfrm>
          <a:prstGeom prst="rect">
            <a:avLst/>
          </a:prstGeom>
          <a:ln w="0">
            <a:noFill/>
          </a:ln>
        </p:spPr>
      </p:pic>
      <p:sp>
        <p:nvSpPr>
          <p:cNvPr id="115" name="圆角矩形标注 35"/>
          <p:cNvSpPr/>
          <p:nvPr/>
        </p:nvSpPr>
        <p:spPr>
          <a:xfrm>
            <a:off x="4357800" y="1571760"/>
            <a:ext cx="3214440" cy="1642680"/>
          </a:xfrm>
          <a:prstGeom prst="wedgeRoundRectCallout">
            <a:avLst>
              <a:gd name="adj1" fmla="val -64062"/>
              <a:gd name="adj2" fmla="val 45283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在习作中可以把风俗活动现场看到的情景一一记录下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1000080" y="642960"/>
            <a:ext cx="7786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描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041640" y="80640"/>
            <a:ext cx="306036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2"/>
          <p:cNvSpPr/>
          <p:nvPr/>
        </p:nvSpPr>
        <p:spPr>
          <a:xfrm>
            <a:off x="1000080" y="699480"/>
            <a:ext cx="7786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穿插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C:\Users\Administrator\Desktop\17e1884f61f242d2a7c5ee365a480b19.png"/>
          <p:cNvPicPr/>
          <p:nvPr/>
        </p:nvPicPr>
        <p:blipFill>
          <a:blip r:embed="rId1"/>
          <a:stretch/>
        </p:blipFill>
        <p:spPr>
          <a:xfrm flipH="1">
            <a:off x="2358000" y="2428920"/>
            <a:ext cx="2102760" cy="2072880"/>
          </a:xfrm>
          <a:prstGeom prst="rect">
            <a:avLst/>
          </a:prstGeom>
          <a:ln w="0">
            <a:noFill/>
          </a:ln>
        </p:spPr>
      </p:pic>
      <p:sp>
        <p:nvSpPr>
          <p:cNvPr id="120" name="圆角矩形标注 9"/>
          <p:cNvSpPr/>
          <p:nvPr/>
        </p:nvSpPr>
        <p:spPr>
          <a:xfrm>
            <a:off x="4429080" y="1428840"/>
            <a:ext cx="3214440" cy="1642680"/>
          </a:xfrm>
          <a:prstGeom prst="wedgeRoundRectCallout">
            <a:avLst>
              <a:gd name="adj1" fmla="val -64062"/>
              <a:gd name="adj2" fmla="val 45283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在写自己参加风俗活动的过程中穿插写入有关的传说或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2"/>
          <p:cNvSpPr/>
          <p:nvPr/>
        </p:nvSpPr>
        <p:spPr>
          <a:xfrm>
            <a:off x="1000080" y="699480"/>
            <a:ext cx="7786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剪切组合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C:\Users\Administrator\Desktop\17e1884f61f242d2a7c5ee365a480b19.png"/>
          <p:cNvPicPr/>
          <p:nvPr/>
        </p:nvPicPr>
        <p:blipFill>
          <a:blip r:embed="rId1"/>
          <a:stretch/>
        </p:blipFill>
        <p:spPr>
          <a:xfrm flipH="1">
            <a:off x="2358000" y="2428920"/>
            <a:ext cx="2102760" cy="207288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标注 9"/>
          <p:cNvSpPr/>
          <p:nvPr/>
        </p:nvSpPr>
        <p:spPr>
          <a:xfrm>
            <a:off x="4429080" y="1428840"/>
            <a:ext cx="3214440" cy="1642680"/>
          </a:xfrm>
          <a:prstGeom prst="wedgeRoundRectCallout">
            <a:avLst>
              <a:gd name="adj1" fmla="val -64062"/>
              <a:gd name="adj2" fmla="val 45283"/>
              <a:gd name="adj3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0ad47">
                <a:lumMod val="75000"/>
              </a:srgbClr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把相关的传说或故事中的重点部分剪切组合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:\Users\Administrator\Desktop\17e1884f61f242d2a7c5ee365a480b19.png"/>
          <p:cNvPicPr/>
          <p:nvPr/>
        </p:nvPicPr>
        <p:blipFill>
          <a:blip r:embed="rId1"/>
          <a:stretch/>
        </p:blipFill>
        <p:spPr>
          <a:xfrm flipH="1">
            <a:off x="360" y="2928960"/>
            <a:ext cx="1737720" cy="1713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22"/>
          <p:cNvSpPr/>
          <p:nvPr/>
        </p:nvSpPr>
        <p:spPr>
          <a:xfrm>
            <a:off x="3071880" y="1143000"/>
            <a:ext cx="5500440" cy="326304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亲眼所见。 亲自参加家乡的风俗活动，认真观察活动中的物品、人物、活动过程，有了深刻的印象，写作时就像演电影一样历历在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亲耳所闻。请长辈介绍当地的风俗，让我们的耳朵像录音机一样记录下来。把听到的介绍声情并茂地写下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6"/>
          <p:cNvGrpSpPr/>
          <p:nvPr/>
        </p:nvGrpSpPr>
        <p:grpSpPr>
          <a:xfrm>
            <a:off x="714240" y="1000080"/>
            <a:ext cx="2285640" cy="1356840"/>
            <a:chOff x="714240" y="1000080"/>
            <a:chExt cx="2285640" cy="1356840"/>
          </a:xfrm>
        </p:grpSpPr>
        <p:sp>
          <p:nvSpPr>
            <p:cNvPr id="127" name="云形标注 5"/>
            <p:cNvSpPr/>
            <p:nvPr/>
          </p:nvSpPr>
          <p:spPr>
            <a:xfrm>
              <a:off x="714240" y="1000080"/>
              <a:ext cx="2285640" cy="1356840"/>
            </a:xfrm>
            <a:prstGeom prst="cloudCallout">
              <a:avLst>
                <a:gd name="adj1" fmla="val -33426"/>
                <a:gd name="adj2" fmla="val 73728"/>
              </a:avLst>
            </a:prstGeom>
            <a:solidFill>
              <a:schemeClr val="bg1"/>
            </a:solidFill>
            <a:ln>
              <a:solidFill>
                <a:srgbClr val="5b9bd5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chemeClr val="lt1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矩形 4"/>
            <p:cNvSpPr/>
            <p:nvPr/>
          </p:nvSpPr>
          <p:spPr>
            <a:xfrm>
              <a:off x="904680" y="1214280"/>
              <a:ext cx="2095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怎样写好家乡的风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819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8:45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03T07:54:02Z</dcterms:modified>
  <cp:revision>17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Notes">
    <vt:r8>2</vt:r8>
  </property>
  <property fmtid="{D5CDD505-2E9C-101B-9397-08002B2CF9AE}" pid="4" name="PresentationFormat">
    <vt:lpwstr>全屏显示(16:9)</vt:lpwstr>
  </property>
  <property fmtid="{D5CDD505-2E9C-101B-9397-08002B2CF9AE}" pid="5" name="Slides">
    <vt:r8>15</vt:r8>
  </property>
</Properties>
</file>