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dt" idx="5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ftr" idx="5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 type="sldNum" idx="5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FA0CAE-A08C-45BE-BDE7-D9E38BFF9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sldNum" idx="5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037C3E-BB18-4347-ACBC-7E304F4BFAC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sldNum" idx="5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318D97-5AD1-46E1-A7F0-B05EB7264AF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sldNum" idx="5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1EA111-FC0B-4BF8-BCF6-E41DF7E608D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sldNum" idx="5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124D71-632A-4A7C-A13A-2DA7FD50954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2293-AFB0-4026-898B-E2977146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02B5-F38E-41BE-8CDC-88191D3A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34909-110F-4AFE-9BE4-1FC2B0B6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853C7-2666-42A7-B7D5-8F16A8AB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2A541-D078-4CFE-A42F-3BDE887A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7A219-1574-42DA-B595-856EA2A0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16966-D3CF-4B03-95C1-0BCF4E3C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0B8B6-BA75-4738-B5D6-B15FDE25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024CA-D2F2-4CFB-99DF-115A1244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C7F51-1240-4335-9DC0-08744757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5D458-947F-427F-9305-F7DB25436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A5296-A7AE-40B5-B09A-6629D425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333E-D260-48B5-BD95-2515F2AB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A089B-E09E-4D11-9461-75233965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C11D1-6B59-4D99-9BF1-13BA6CD6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B679A-5C93-4539-BBEF-A9555EB1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95BEB-D170-456E-B194-AEF6D2D2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82B48-3FC2-4FCF-8817-68A812BE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39F9C-23CF-4449-9652-1B385864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0D156-3D83-4882-B3B9-0F06A5BA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BA076-8DBC-42F3-B8B8-995127A8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C5849-0A67-4818-B1A2-73EE68B2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A59122-B252-4906-8F20-9F51D076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A524-13B9-47AB-930F-6649D797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C8558-F1B6-405C-812A-4AB4B1EC9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F82CA-0EA4-46B5-86A2-F273BABF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32D7A-6BBF-4115-9BDD-BC363DE8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F32D7-DB90-41DB-A1A9-52EF9015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819E7-86D2-49E7-9109-A44EB598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A131E-CC68-4586-ACC5-4204B920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CA705-523C-43CF-A8A1-38D4083E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160EB-45D9-4BC2-8576-A94455C3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545AA-3138-4185-B9D8-095A67C5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97F13-C725-4A98-A52D-18EF1D99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7B07-3D13-4876-ABD5-0D22ED00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B6425-63D3-4633-8CB6-0C1C2A9F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A60C8-82C8-4D20-930C-3B49333B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92236-9D44-499B-BBC4-E7E1771F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EEC0D-AADB-4A8A-8A9E-345D54FB4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473B9-C7D2-4C71-8C0D-58FD5699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06908E-6DA8-4315-8456-582A6518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FFD80-9FEC-4E7C-ADDF-8B7BFA6A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BA23D-AE4D-4FD2-ACD9-10DC5969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A5C1B-318A-4F6B-8492-97A34348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BCD7B2-A196-4683-A2F4-BDFD1890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FA39-9CEE-4082-94C3-A9226506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FA5F3-8738-47A5-8774-2CC1BBAC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F4371-2188-4C8F-84A9-53320DCF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3316E-BEA5-4182-9AE5-33B2CCC9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A9192-63B7-441D-9B26-4C373C06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E1F3D1-421F-4EC0-9A30-565239D6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DA0FA6-ABB6-4156-93B9-2C274BE0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CC8D21-68C3-4C0C-951E-BE35EC37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C63474-4603-4EC5-B2A4-4B33DD1C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38BAC-2ECB-4895-8639-AE59602A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A31E3C-87B3-4C07-921A-4445357F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41B8-57AF-4108-ACBE-2E142B82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C4FE8B-668C-4538-9FA7-3CDA2F43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B2EB0D-DBAD-4835-B94A-4E783DAB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63BE45-E435-48D0-8AAF-79A106BB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39FE6B-7DBE-4974-AA73-63AD4C8E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91189-1D13-4873-BC31-5CFD9D28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903D76-690D-47C3-89D8-9C4D259C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33645F-8C7D-4D41-A518-005CF47C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262898-2019-4B72-A679-F47F72C9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5B6C46-3981-4810-98A2-BB5F1944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7C2106-086C-44F1-9D87-7437F0E1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27CA-8FAB-4CCA-8380-2A441CCA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C479E6-F094-459A-8B23-B8FA214A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7615B4-849E-49CE-97AE-D9FF67E3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6DB99C-BE67-4E25-B051-2BB6E214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634A20-C5AD-4019-8323-F9F9F0E9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3FD979-0975-4E72-A996-D918CECA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EA0891-4147-4E96-9022-C6026FD9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91CF09-114E-4307-88B0-65494586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9F2360-5381-40DC-9CF8-FF0090B1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6C5AC2-6B07-4373-A1B5-5EE9AE21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3FB5C9-8730-4FE1-B7C7-695C311C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E447-3166-4B4E-9C30-AD00892D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E882FA-C81C-45A5-BC49-EA8C7A5B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222AB9-F1E5-408F-8C1E-51307B1F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1BA0F9-9091-46A7-BFF9-477E3994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F5AAC3-C038-4A63-83E3-B0C25061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9F4676-1077-4CF3-A21A-74AA51F6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A89E87-17DD-4529-972A-9B2EDC12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FBD5F4-E2C8-4C7F-B1A5-866772A0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519A23-3F22-464E-8B61-C9FD4958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AD6526-295E-486C-8DFB-AD2FA241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B682CC-4FBE-4474-A616-84FE039B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8CDD-D44C-4011-B812-A3F2E1EF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EDC768-C8CF-47FF-97E0-2110BDC8E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61F03E-EDA4-469B-9ED0-08EC8075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A75613-006F-4C3C-9AB9-95D6166D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261065-B6BB-4859-BCA0-02E6A52E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59CC35-4B23-4C5C-AF3C-FC2AC4E2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AD47FA-6CA5-4973-8C30-187DAC91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CA829D-A1E3-44CE-9963-9E31083C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EE4D02-0287-4733-860C-3E9FF002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AFEA11-C8D3-48BF-98AB-B87E9A0D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5691FA-4FF4-4FB1-9B8F-CFEB1B39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FD20-997B-4FBF-BE42-A13D06E6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A22969-4924-4B3D-ABF0-1E25B19B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388103-3257-462E-A836-097CE0E5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5113CA-37E8-46AB-9B8B-3A3F95E0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747673-6853-4137-9985-FB46749F7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2F0959-3A42-4F8E-886C-9A40D2AC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97CE61-A0E5-4070-ACD1-ADBF657D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8CE0D7-61CD-46CF-8C77-216A1592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8DBCD3-8658-4D2A-999B-8D8124A7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BE6B94-D5E5-4050-B372-542E9D14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DD049D-8FA2-4095-9724-2425ED83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28E8-047C-41E2-B71E-25CD61E0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5097-BA4D-4E82-949C-9140AA4D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8B0AF1-726B-43EC-9292-46339505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0CC3CF-754D-49B8-8CE2-9D1C7941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F21F70-9429-49AC-B24E-9883994E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9B3ADB-F3C1-43D4-9F80-DE24627D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C17068-12B3-4E65-A6A5-C9869BE85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42AA-D95A-473D-B6FC-806FB1D1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F3E9-CA84-44EE-8455-BBF3AC79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4027-CA11-44AF-B8BC-7961AC2D8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0957-CB9D-483E-B3AA-F267C6AC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AE249-1D7B-417C-B7D7-2CB1390D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0D476-0448-4750-AFF8-10C14CB6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2453A-9739-4787-AF45-46B4C274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79BE2-026B-4FE9-ACB2-09E78FB4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3943C-38C7-42D1-9360-33DDD63E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11F5-B10C-491A-848D-DD2C32BD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0612A-070D-4099-8CCF-4B424476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C1802-8992-4A8F-B022-5A30D6B6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B0BE0-DFA3-4ED8-890B-7D556216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80407-D0CD-42C0-9CE3-F1F69E9E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565BC-22B0-496E-88F7-9D7BC305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0468B-FCBB-45D8-8001-9BAD05EA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C2551-4DA4-4302-8684-446203FB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9DD4D-EDA7-4C31-ACC6-12F7F296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0C3D7-588A-4318-B6FF-D4169BA0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B04D9-5B47-43D9-B8EA-6BE7AC7D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891F-B258-4C83-8AFE-33C57B5C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710EE-D2D1-4EEB-95BD-B2B62875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DBAD9-EAF5-408A-BE63-20959EE1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7C194-DAE4-4C57-BA4E-BA028A49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621C8-ACD0-4F71-8A8E-BE2AB07F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F0D87-FD4B-425A-ACA9-B2D67B5A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851DA-1C42-4368-9819-481B996A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41907-66F0-4A53-BAAC-3BEE1CE2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60D37-CC53-4083-85DB-E531882D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87536-3F5F-442A-8D17-C5CB9E81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B52A2-2805-4D22-A7DA-A80B81B5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AAA4-B766-4535-A98F-E8250A10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CB320-2D38-470E-9166-54E4D4D6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95AAE-E51B-412D-B395-70586975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E6CD2-56B9-4094-ABAC-69F62A4C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ACD60-DCEE-4646-9558-2C9DA3EE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D92DE-BD32-4F50-8EAD-8F1EC60F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77B76-1394-4BD6-816C-18BD1BD2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E1E05-B7A1-4AFC-B1F4-09E859CB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33BFA-EFF7-4C08-B755-61B56093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A4A75-4403-4119-85D5-677504A3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BE3CF-355E-4615-AC43-ACB93E1F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D50A-D24D-4CFF-8091-22CCD258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571DE-6B56-4B08-924A-D5B69A47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B2EA6-C283-4681-898D-D80AE8C7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61A57-A5CD-44FB-8559-BD6A6908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BC1F1-0E6E-4517-9941-C1F09BE4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76E5A-CD2C-4846-A9DB-E5890A1B9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2E208-4655-47AD-8F90-96D6151C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9C5F5-B24E-4CC1-9FD7-92886D4C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85392-E8AC-4A86-A062-9CDB4AF9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8F4CB-C829-4B9F-89C5-D3120C6E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234F6-8F52-4243-86E9-2CADD926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F818-CC9F-4AEF-ABCE-B2DA65CF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D43EF-432C-4069-B539-9642BD78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B2CE0-1942-4B2C-B5CF-C82401E1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2E6F7-8B58-4BB2-93A6-664DA64C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F68B4-0DAE-4343-B0BD-0B1005DB2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93E6D-F979-4CAA-8492-D90261D0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2C320-6627-4AD9-BCDF-653D971B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C035D-4AD4-4770-B013-4208F50D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0F81E-9401-4414-A8F3-F52A1E61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39D3A-7500-4B34-82B3-84F6A1CE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0F4AE-C19B-479A-8923-416C9DEE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372F-6E01-4BAC-895F-B42E4F1D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528D7-8CA7-4612-B5A8-57AD2F83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1E60D-FC9D-44F9-8AFB-60F4D603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0F3B5-4851-4340-ADF5-9D492054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A8A34-8D0E-4BC6-AE8E-273DF170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03638-62DA-4F9F-9EE6-61A0B187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0A2C1-E710-44EB-B21D-289D1710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94B93-70C8-47DB-B867-2ADBCB22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995D2-9F34-4E01-85BB-763487E5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F1BFA-BB8F-4D1B-AFC7-94EFD159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73F24-528C-44B3-8E3A-0484A6A2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8FFB-B056-43F4-8DC8-25C2DBB6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E9CDF-3698-47D5-AF7D-C949E894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7452E-6064-41EE-94BE-A691281A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F6107-2BFE-4FCF-94B7-4ABFF871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52175-86B6-41C5-BFB9-4F9631D2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42BC8-552B-4DEE-AEA7-886796C0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588BD-893B-417E-9D54-A457BEB9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DDDDB-842E-48E8-ABAC-43739802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090EE-8784-4FEA-951B-6A83E0AE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9E44E-A9A0-4767-83BA-75CC6C6A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207440"/>
              </a:tabLst>
            </a:pP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7F4A5-C11E-4249-8D91-569FCFE1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76320" rIns="57240" tIns="28440" bIns="28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48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C00509-B117-438A-861C-784A86ABD7D1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76320" rIns="57240" tIns="28440" bIns="28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48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dt" idx="28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ftr" idx="29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sldNum" idx="30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2C0F5C-455C-4F56-9ED9-876CF93F588E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76320" rIns="57240" tIns="28440" bIns="28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48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31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ftr" idx="32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33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37B475-1653-4177-8D1C-3E8987263648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76320" rIns="57240" tIns="28440" bIns="28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48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dt" idx="34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35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sldNum" idx="36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E092E0-3B9A-47D4-A178-63608E758961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76320" rIns="57240" tIns="28440" bIns="28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48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ftr" idx="38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sldNum" idx="39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9C36D8-7F24-4541-BE03-56F7F2FC736E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76320" rIns="57240" tIns="28440" bIns="28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48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dt" idx="40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ftr" idx="41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sldNum" idx="42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3E3C53-3429-4476-A733-D14AAA162468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76320" rIns="57240" tIns="28440" bIns="28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48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43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ftr" idx="44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45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56909B-1AA8-4556-B543-3F99E82C2C90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76320" rIns="57240" tIns="28440" bIns="28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48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46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ftr" idx="47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sldNum" idx="48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7456BD-2BB7-419D-BC29-052BD7AB076B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76320" rIns="57240" tIns="28440" bIns="28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48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dt" idx="49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ftr" idx="50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sldNum" idx="51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A14B13-EEBB-4AAD-A41D-6D2246770535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76320" rIns="57240" tIns="28440" bIns="28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48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668C83-CF56-4684-BD91-FF82D4F37AEE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76320" rIns="57240" tIns="28440" bIns="28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48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031AEF-3F16-413D-AF7D-25CDFA3D4D99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76320" rIns="57240" tIns="28440" bIns="28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48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C5C3F80-07EA-4895-94D7-E3B8A905CC7C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76320" rIns="57240" tIns="28440" bIns="28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48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4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5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95B82E-102C-4B10-B7D9-AD747DACF722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76320" rIns="57240" tIns="28440" bIns="28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48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6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17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8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44F0C2E-6D25-479D-B699-96576CB22345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76320" rIns="57240" tIns="28440" bIns="28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48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9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20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21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782ABB-3D80-48A4-8F95-8E466CD29530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76320" rIns="57240" tIns="28440" bIns="28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48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22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23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4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769727-7F07-4BF5-9B87-ABF391DC3C2E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cdc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60" bIns="36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2560" y="324000"/>
            <a:ext cx="8138880" cy="485640"/>
          </a:xfrm>
          <a:prstGeom prst="rect">
            <a:avLst/>
          </a:prstGeom>
          <a:noFill/>
          <a:ln w="0">
            <a:noFill/>
          </a:ln>
        </p:spPr>
        <p:txBody>
          <a:bodyPr lIns="76320" rIns="57240" tIns="28440" bIns="28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100" spc="148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25"/>
          </p:nvPr>
        </p:nvSpPr>
        <p:spPr>
          <a:xfrm>
            <a:off x="65988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26"/>
          </p:nvPr>
        </p:nvSpPr>
        <p:spPr>
          <a:xfrm>
            <a:off x="3087000" y="4762440"/>
            <a:ext cx="2969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7"/>
          </p:nvPr>
        </p:nvSpPr>
        <p:spPr>
          <a:xfrm>
            <a:off x="6458040" y="4762440"/>
            <a:ext cx="2024640" cy="2372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18C182-7EC3-4335-AAA7-235C525159F4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3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3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3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207440"/>
              </a:tabLst>
            </a:pPr>
            <a:r>
              <a:rPr b="0" lang="en-US" sz="1200" spc="11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11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3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207440"/>
              </a:tabLst>
            </a:pPr>
            <a:r>
              <a:rPr b="0" lang="en-US" sz="2000" spc="11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11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9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矩形 3"/>
          <p:cNvSpPr/>
          <p:nvPr/>
        </p:nvSpPr>
        <p:spPr>
          <a:xfrm>
            <a:off x="0" y="1510560"/>
            <a:ext cx="9143640" cy="1763280"/>
          </a:xfrm>
          <a:prstGeom prst="rect">
            <a:avLst/>
          </a:prstGeom>
          <a:solidFill>
            <a:srgbClr val="f9f9ec">
              <a:alpha val="5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760" name="文本框 9"/>
          <p:cNvSpPr/>
          <p:nvPr/>
        </p:nvSpPr>
        <p:spPr>
          <a:xfrm>
            <a:off x="7530840" y="2745000"/>
            <a:ext cx="13737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六年级下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4"/>
          <p:cNvSpPr/>
          <p:nvPr/>
        </p:nvSpPr>
        <p:spPr>
          <a:xfrm>
            <a:off x="4565160" y="1697040"/>
            <a:ext cx="4339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习作：家乡的风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5"/>
          <p:cNvSpPr/>
          <p:nvPr/>
        </p:nvSpPr>
        <p:spPr>
          <a:xfrm>
            <a:off x="4786200" y="4430160"/>
            <a:ext cx="3964320" cy="3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257040" indent="-25704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多特软件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-WWW.DUO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图片 8" descr="3cb31196ed4f36860b82dd6120d1a638"/>
          <p:cNvPicPr/>
          <p:nvPr/>
        </p:nvPicPr>
        <p:blipFill>
          <a:blip r:embed="rId1"/>
          <a:stretch/>
        </p:blipFill>
        <p:spPr>
          <a:xfrm>
            <a:off x="117720" y="-12240"/>
            <a:ext cx="1762200" cy="1187280"/>
          </a:xfrm>
          <a:prstGeom prst="rect">
            <a:avLst/>
          </a:prstGeom>
          <a:ln w="0">
            <a:noFill/>
          </a:ln>
        </p:spPr>
      </p:pic>
      <p:sp>
        <p:nvSpPr>
          <p:cNvPr id="804" name="文本框 3"/>
          <p:cNvSpPr/>
          <p:nvPr/>
        </p:nvSpPr>
        <p:spPr>
          <a:xfrm>
            <a:off x="897120" y="177120"/>
            <a:ext cx="18547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习作例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4"/>
          <p:cNvSpPr/>
          <p:nvPr/>
        </p:nvSpPr>
        <p:spPr>
          <a:xfrm>
            <a:off x="5899680" y="691560"/>
            <a:ext cx="2335320" cy="28116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有趣的火把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文本框 2"/>
          <p:cNvSpPr/>
          <p:nvPr/>
        </p:nvSpPr>
        <p:spPr>
          <a:xfrm>
            <a:off x="688320" y="1706400"/>
            <a:ext cx="78282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今年的火把节真有意义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不但火把燃得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还让我知道了很多关于火把节的故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希望明年的火把燃得更旺些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5" descr=""/>
          <p:cNvPicPr/>
          <p:nvPr/>
        </p:nvPicPr>
        <p:blipFill>
          <a:blip r:embed="rId2"/>
          <a:stretch/>
        </p:blipFill>
        <p:spPr>
          <a:xfrm>
            <a:off x="8091000" y="430920"/>
            <a:ext cx="698400" cy="74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图片 11" descr=""/>
          <p:cNvPicPr/>
          <p:nvPr/>
        </p:nvPicPr>
        <p:blipFill>
          <a:blip r:embed="rId1"/>
          <a:stretch/>
        </p:blipFill>
        <p:spPr>
          <a:xfrm>
            <a:off x="-23400" y="-19440"/>
            <a:ext cx="638640" cy="803160"/>
          </a:xfrm>
          <a:prstGeom prst="rect">
            <a:avLst/>
          </a:prstGeom>
          <a:ln w="0">
            <a:noFill/>
          </a:ln>
        </p:spPr>
      </p:pic>
      <p:pic>
        <p:nvPicPr>
          <p:cNvPr id="809" name="图片 26" descr="ff50a46eeb673509f74ea636535dc2cb"/>
          <p:cNvPicPr/>
          <p:nvPr/>
        </p:nvPicPr>
        <p:blipFill>
          <a:blip r:embed="rId2"/>
          <a:stretch/>
        </p:blipFill>
        <p:spPr>
          <a:xfrm>
            <a:off x="2645640" y="278280"/>
            <a:ext cx="3226680" cy="1815120"/>
          </a:xfrm>
          <a:prstGeom prst="rect">
            <a:avLst/>
          </a:prstGeom>
          <a:ln w="0">
            <a:noFill/>
          </a:ln>
        </p:spPr>
      </p:pic>
      <p:grpSp>
        <p:nvGrpSpPr>
          <p:cNvPr id="810" name="组合 1"/>
          <p:cNvGrpSpPr/>
          <p:nvPr/>
        </p:nvGrpSpPr>
        <p:grpSpPr>
          <a:xfrm>
            <a:off x="1301760" y="736200"/>
            <a:ext cx="6183360" cy="2978640"/>
            <a:chOff x="1301760" y="736200"/>
            <a:chExt cx="6183360" cy="2978640"/>
          </a:xfrm>
        </p:grpSpPr>
        <p:grpSp>
          <p:nvGrpSpPr>
            <p:cNvPr id="811" name="组合 20"/>
            <p:cNvGrpSpPr/>
            <p:nvPr/>
          </p:nvGrpSpPr>
          <p:grpSpPr>
            <a:xfrm>
              <a:off x="1301760" y="1989360"/>
              <a:ext cx="6183360" cy="1725480"/>
              <a:chOff x="1301760" y="1989360"/>
              <a:chExt cx="6183360" cy="1725480"/>
            </a:xfrm>
          </p:grpSpPr>
          <p:sp>
            <p:nvSpPr>
              <p:cNvPr id="812" name="文本框 17"/>
              <p:cNvSpPr/>
              <p:nvPr/>
            </p:nvSpPr>
            <p:spPr>
              <a:xfrm>
                <a:off x="1694160" y="2194560"/>
                <a:ext cx="4860720" cy="132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50000"/>
                  </a:lnSpc>
                </a:pPr>
                <a:r>
                  <a:rPr b="1" lang="zh-CN" sz="2700" spc="-1" strike="noStrike">
                    <a:solidFill>
                      <a:srgbClr val="c00000"/>
                    </a:solidFill>
                    <a:latin typeface="楷体"/>
                    <a:ea typeface="楷体"/>
                  </a:rPr>
                  <a:t>两篇作文都是写家乡风俗的，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</a:pPr>
                <a:r>
                  <a:rPr b="1" lang="zh-CN" sz="2700" spc="-1" strike="noStrike">
                    <a:solidFill>
                      <a:srgbClr val="c00000"/>
                    </a:solidFill>
                    <a:latin typeface="楷体"/>
                    <a:ea typeface="楷体"/>
                  </a:rPr>
                  <a:t>你们发现它们有什么不同了吗</a:t>
                </a:r>
                <a:r>
                  <a:rPr b="1" lang="en-US" sz="2700" spc="-1" strike="noStrike">
                    <a:solidFill>
                      <a:srgbClr val="c00000"/>
                    </a:solidFill>
                    <a:latin typeface="楷体"/>
                    <a:ea typeface="楷体"/>
                  </a:rPr>
                  <a:t>?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圆角矩形 18"/>
              <p:cNvSpPr/>
              <p:nvPr/>
            </p:nvSpPr>
            <p:spPr>
              <a:xfrm>
                <a:off x="1301760" y="1989360"/>
                <a:ext cx="6183360" cy="1725480"/>
              </a:xfrm>
              <a:prstGeom prst="roundRect">
                <a:avLst>
                  <a:gd name="adj" fmla="val 16667"/>
                </a:avLst>
              </a:prstGeom>
              <a:noFill/>
              <a:ln w="28575">
                <a:solidFill>
                  <a:srgbClr val="4472c4">
                    <a:lumMod val="60000"/>
                    <a:lumOff val="40000"/>
                  </a:srgbClr>
                </a:solidFill>
                <a:prstDash val="lgDashDot"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814" name="文本框 21"/>
            <p:cNvSpPr/>
            <p:nvPr/>
          </p:nvSpPr>
          <p:spPr>
            <a:xfrm>
              <a:off x="3741480" y="736200"/>
              <a:ext cx="169920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思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图片 1" descr=""/>
          <p:cNvPicPr/>
          <p:nvPr/>
        </p:nvPicPr>
        <p:blipFill>
          <a:blip r:embed="rId1"/>
          <a:stretch/>
        </p:blipFill>
        <p:spPr>
          <a:xfrm>
            <a:off x="-23400" y="-19440"/>
            <a:ext cx="638640" cy="803160"/>
          </a:xfrm>
          <a:prstGeom prst="rect">
            <a:avLst/>
          </a:prstGeom>
          <a:ln w="0">
            <a:noFill/>
          </a:ln>
        </p:spPr>
      </p:pic>
      <p:grpSp>
        <p:nvGrpSpPr>
          <p:cNvPr id="816" name="组合 12"/>
          <p:cNvGrpSpPr/>
          <p:nvPr/>
        </p:nvGrpSpPr>
        <p:grpSpPr>
          <a:xfrm>
            <a:off x="1071720" y="1454400"/>
            <a:ext cx="2634480" cy="2233800"/>
            <a:chOff x="1071720" y="1454400"/>
            <a:chExt cx="2634480" cy="2233800"/>
          </a:xfrm>
        </p:grpSpPr>
        <p:sp>
          <p:nvSpPr>
            <p:cNvPr id="817" name="圆角矩形 2"/>
            <p:cNvSpPr/>
            <p:nvPr/>
          </p:nvSpPr>
          <p:spPr>
            <a:xfrm>
              <a:off x="1071720" y="1454400"/>
              <a:ext cx="2505240" cy="2233800"/>
            </a:xfrm>
            <a:prstGeom prst="roundRect">
              <a:avLst>
                <a:gd name="adj" fmla="val 16667"/>
              </a:avLst>
            </a:prstGeom>
            <a:noFill/>
            <a:ln w="28575">
              <a:solidFill>
                <a:srgbClr val="4472c4">
                  <a:lumMod val="60000"/>
                  <a:lumOff val="40000"/>
                </a:srgbClr>
              </a:solidFill>
              <a:prstDash val="lgDashDot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  <p:sp>
          <p:nvSpPr>
            <p:cNvPr id="818" name="文本框 4"/>
            <p:cNvSpPr/>
            <p:nvPr/>
          </p:nvSpPr>
          <p:spPr>
            <a:xfrm>
              <a:off x="1162440" y="1706400"/>
              <a:ext cx="254376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第一篇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是以第三者的角度从不同方面介绍习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组合 14"/>
          <p:cNvGrpSpPr/>
          <p:nvPr/>
        </p:nvGrpSpPr>
        <p:grpSpPr>
          <a:xfrm>
            <a:off x="5484960" y="1455120"/>
            <a:ext cx="2651040" cy="2233800"/>
            <a:chOff x="5484960" y="1455120"/>
            <a:chExt cx="2651040" cy="2233800"/>
          </a:xfrm>
        </p:grpSpPr>
        <p:sp>
          <p:nvSpPr>
            <p:cNvPr id="820" name="文本框 5"/>
            <p:cNvSpPr/>
            <p:nvPr/>
          </p:nvSpPr>
          <p:spPr>
            <a:xfrm>
              <a:off x="5605560" y="1568160"/>
              <a:ext cx="2530440" cy="15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21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第二篇</a:t>
              </a:r>
              <a:r>
                <a:rPr b="1" lang="zh-CN" sz="21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以参与者的身份在讲述经历的过程中自然地穿插对风俗的介绍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圆角矩形 7"/>
            <p:cNvSpPr/>
            <p:nvPr/>
          </p:nvSpPr>
          <p:spPr>
            <a:xfrm>
              <a:off x="5484960" y="1455120"/>
              <a:ext cx="2505240" cy="2233800"/>
            </a:xfrm>
            <a:prstGeom prst="roundRect">
              <a:avLst>
                <a:gd name="adj" fmla="val 16667"/>
              </a:avLst>
            </a:prstGeom>
            <a:noFill/>
            <a:ln w="28575">
              <a:solidFill>
                <a:srgbClr val="4472c4">
                  <a:lumMod val="60000"/>
                  <a:lumOff val="40000"/>
                </a:srgbClr>
              </a:solidFill>
              <a:prstDash val="lgDashDot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Arial"/>
                <a:ea typeface="微软雅黑"/>
              </a:endParaRPr>
            </a:p>
          </p:txBody>
        </p:sp>
      </p:grpSp>
      <p:pic>
        <p:nvPicPr>
          <p:cNvPr id="822" name="图片 15" descr="91e5bfb86a4fc626760f7454122f7410"/>
          <p:cNvPicPr/>
          <p:nvPr/>
        </p:nvPicPr>
        <p:blipFill>
          <a:blip r:embed="rId2"/>
          <a:stretch/>
        </p:blipFill>
        <p:spPr>
          <a:xfrm>
            <a:off x="2516400" y="956160"/>
            <a:ext cx="3824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034640" cy="775080"/>
          </a:xfrm>
          <a:prstGeom prst="rect">
            <a:avLst/>
          </a:prstGeom>
          <a:ln w="0">
            <a:noFill/>
          </a:ln>
        </p:spPr>
      </p:pic>
      <p:sp>
        <p:nvSpPr>
          <p:cNvPr id="824" name="文本框 19"/>
          <p:cNvSpPr/>
          <p:nvPr/>
        </p:nvSpPr>
        <p:spPr>
          <a:xfrm>
            <a:off x="950040" y="2166480"/>
            <a:ext cx="6819480" cy="28116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①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通过查阅资料或请教长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对该习俗有深人了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文本框 20"/>
          <p:cNvSpPr/>
          <p:nvPr/>
        </p:nvSpPr>
        <p:spPr>
          <a:xfrm>
            <a:off x="966960" y="2878920"/>
            <a:ext cx="7040880" cy="2811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②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明确从哪些方面介绍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能把握重点，合理安排详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文本框 21"/>
          <p:cNvSpPr/>
          <p:nvPr/>
        </p:nvSpPr>
        <p:spPr>
          <a:xfrm>
            <a:off x="966960" y="3587040"/>
            <a:ext cx="3397680" cy="28116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③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适当写写实际体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左大括号 4"/>
          <p:cNvSpPr/>
          <p:nvPr/>
        </p:nvSpPr>
        <p:spPr>
          <a:xfrm rot="5400000">
            <a:off x="4239360" y="-1505520"/>
            <a:ext cx="326880" cy="6735240"/>
          </a:xfrm>
          <a:prstGeom prst="leftBrace">
            <a:avLst>
              <a:gd name="adj1" fmla="val 39989"/>
              <a:gd name="adj2" fmla="val 50000"/>
            </a:avLst>
          </a:prstGeom>
          <a:noFill/>
          <a:ln w="28575">
            <a:solidFill>
              <a:srgbClr val="5b9bd5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grpSp>
        <p:nvGrpSpPr>
          <p:cNvPr id="828" name="组合 8"/>
          <p:cNvGrpSpPr/>
          <p:nvPr/>
        </p:nvGrpSpPr>
        <p:grpSpPr>
          <a:xfrm>
            <a:off x="2536920" y="399600"/>
            <a:ext cx="3645360" cy="1078920"/>
            <a:chOff x="2536920" y="399600"/>
            <a:chExt cx="3645360" cy="1078920"/>
          </a:xfrm>
        </p:grpSpPr>
        <p:pic>
          <p:nvPicPr>
            <p:cNvPr id="829" name="图片 7" descr="37141cd10b0036138aa981d13c57f780"/>
            <p:cNvPicPr/>
            <p:nvPr/>
          </p:nvPicPr>
          <p:blipFill>
            <a:blip r:embed="rId2"/>
            <a:stretch/>
          </p:blipFill>
          <p:spPr>
            <a:xfrm>
              <a:off x="2536920" y="399600"/>
              <a:ext cx="3645360" cy="107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文本框 6"/>
            <p:cNvSpPr/>
            <p:nvPr/>
          </p:nvSpPr>
          <p:spPr>
            <a:xfrm>
              <a:off x="3417120" y="399600"/>
              <a:ext cx="276516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介绍风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034640" cy="775080"/>
          </a:xfrm>
          <a:prstGeom prst="rect">
            <a:avLst/>
          </a:prstGeom>
          <a:ln w="0">
            <a:noFill/>
          </a:ln>
        </p:spPr>
      </p:pic>
      <p:sp>
        <p:nvSpPr>
          <p:cNvPr id="832" name="文本框 19"/>
          <p:cNvSpPr/>
          <p:nvPr/>
        </p:nvSpPr>
        <p:spPr>
          <a:xfrm>
            <a:off x="615240" y="2126520"/>
            <a:ext cx="4225320" cy="28116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①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亲身经历过的民俗活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文本框 20"/>
          <p:cNvSpPr/>
          <p:nvPr/>
        </p:nvSpPr>
        <p:spPr>
          <a:xfrm>
            <a:off x="605880" y="2883240"/>
            <a:ext cx="7913520" cy="2811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②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在讲述经历的过程中自然插入对风俗特点或来历的介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文本框 21"/>
          <p:cNvSpPr/>
          <p:nvPr/>
        </p:nvSpPr>
        <p:spPr>
          <a:xfrm>
            <a:off x="615240" y="3639960"/>
            <a:ext cx="5923800" cy="28116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③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重点描写活动现场的情况和自身的感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左大括号 4"/>
          <p:cNvSpPr/>
          <p:nvPr/>
        </p:nvSpPr>
        <p:spPr>
          <a:xfrm rot="5400000">
            <a:off x="3840480" y="-1796400"/>
            <a:ext cx="604440" cy="6824880"/>
          </a:xfrm>
          <a:prstGeom prst="leftBrace">
            <a:avLst>
              <a:gd name="adj1" fmla="val 39989"/>
              <a:gd name="adj2" fmla="val 50000"/>
            </a:avLst>
          </a:prstGeom>
          <a:noFill/>
          <a:ln w="28575">
            <a:solidFill>
              <a:srgbClr val="5b9bd5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grpSp>
        <p:nvGrpSpPr>
          <p:cNvPr id="836" name="组合 8"/>
          <p:cNvGrpSpPr/>
          <p:nvPr/>
        </p:nvGrpSpPr>
        <p:grpSpPr>
          <a:xfrm>
            <a:off x="2343600" y="483840"/>
            <a:ext cx="3645360" cy="1078920"/>
            <a:chOff x="2343600" y="483840"/>
            <a:chExt cx="3645360" cy="1078920"/>
          </a:xfrm>
        </p:grpSpPr>
        <p:pic>
          <p:nvPicPr>
            <p:cNvPr id="837" name="图片 7" descr="37141cd10b0036138aa981d13c57f780"/>
            <p:cNvPicPr/>
            <p:nvPr/>
          </p:nvPicPr>
          <p:blipFill>
            <a:blip r:embed="rId2"/>
            <a:stretch/>
          </p:blipFill>
          <p:spPr>
            <a:xfrm>
              <a:off x="2343600" y="483840"/>
              <a:ext cx="3645360" cy="107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文本框 6"/>
            <p:cNvSpPr/>
            <p:nvPr/>
          </p:nvSpPr>
          <p:spPr>
            <a:xfrm>
              <a:off x="3048120" y="483840"/>
              <a:ext cx="2765160" cy="843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1" lang="zh-CN" sz="33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叙述经历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034640" cy="775080"/>
          </a:xfrm>
          <a:prstGeom prst="rect">
            <a:avLst/>
          </a:prstGeom>
          <a:ln w="0">
            <a:noFill/>
          </a:ln>
        </p:spPr>
      </p:pic>
      <p:sp>
        <p:nvSpPr>
          <p:cNvPr id="840" name="文本框 19"/>
          <p:cNvSpPr/>
          <p:nvPr/>
        </p:nvSpPr>
        <p:spPr>
          <a:xfrm>
            <a:off x="771480" y="2225520"/>
            <a:ext cx="5884200" cy="28116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【内容】风俗特点突出，素材详略得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20"/>
          <p:cNvSpPr/>
          <p:nvPr/>
        </p:nvSpPr>
        <p:spPr>
          <a:xfrm>
            <a:off x="762120" y="2982240"/>
            <a:ext cx="4235040" cy="2811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【表达】条理清晰，语言流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文本框 21"/>
          <p:cNvSpPr/>
          <p:nvPr/>
        </p:nvSpPr>
        <p:spPr>
          <a:xfrm>
            <a:off x="771480" y="3738960"/>
            <a:ext cx="6912360" cy="281160"/>
          </a:xfrm>
          <a:prstGeom prst="rect">
            <a:avLst/>
          </a:prstGeom>
          <a:solidFill>
            <a:schemeClr val="accent5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【其他】没有错别字；标点符号正确；字迹工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组合 8"/>
          <p:cNvGrpSpPr/>
          <p:nvPr/>
        </p:nvGrpSpPr>
        <p:grpSpPr>
          <a:xfrm>
            <a:off x="682560" y="929160"/>
            <a:ext cx="3645360" cy="1078920"/>
            <a:chOff x="682560" y="929160"/>
            <a:chExt cx="3645360" cy="1078920"/>
          </a:xfrm>
        </p:grpSpPr>
        <p:pic>
          <p:nvPicPr>
            <p:cNvPr id="844" name="图片 7" descr="37141cd10b0036138aa981d13c57f780"/>
            <p:cNvPicPr/>
            <p:nvPr/>
          </p:nvPicPr>
          <p:blipFill>
            <a:blip r:embed="rId2"/>
            <a:stretch/>
          </p:blipFill>
          <p:spPr>
            <a:xfrm>
              <a:off x="682560" y="929160"/>
              <a:ext cx="3645360" cy="107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文本框 6"/>
            <p:cNvSpPr/>
            <p:nvPr/>
          </p:nvSpPr>
          <p:spPr>
            <a:xfrm>
              <a:off x="1386720" y="929160"/>
              <a:ext cx="2765160" cy="843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1" lang="zh-CN" sz="33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评价标准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图片 11" descr=""/>
          <p:cNvPicPr/>
          <p:nvPr/>
        </p:nvPicPr>
        <p:blipFill>
          <a:blip r:embed="rId1"/>
          <a:stretch/>
        </p:blipFill>
        <p:spPr>
          <a:xfrm>
            <a:off x="-23400" y="-19440"/>
            <a:ext cx="638640" cy="803160"/>
          </a:xfrm>
          <a:prstGeom prst="rect">
            <a:avLst/>
          </a:prstGeom>
          <a:ln w="0">
            <a:noFill/>
          </a:ln>
        </p:spPr>
      </p:pic>
      <p:pic>
        <p:nvPicPr>
          <p:cNvPr id="847" name="图片 26" descr="ff50a46eeb673509f74ea636535dc2cb"/>
          <p:cNvPicPr/>
          <p:nvPr/>
        </p:nvPicPr>
        <p:blipFill>
          <a:blip r:embed="rId2"/>
          <a:stretch/>
        </p:blipFill>
        <p:spPr>
          <a:xfrm>
            <a:off x="2629440" y="520560"/>
            <a:ext cx="3226680" cy="1815120"/>
          </a:xfrm>
          <a:prstGeom prst="rect">
            <a:avLst/>
          </a:prstGeom>
          <a:ln w="0">
            <a:noFill/>
          </a:ln>
        </p:spPr>
      </p:pic>
      <p:grpSp>
        <p:nvGrpSpPr>
          <p:cNvPr id="848" name="组合 1"/>
          <p:cNvGrpSpPr/>
          <p:nvPr/>
        </p:nvGrpSpPr>
        <p:grpSpPr>
          <a:xfrm>
            <a:off x="1480320" y="978840"/>
            <a:ext cx="6183360" cy="3044520"/>
            <a:chOff x="1480320" y="978840"/>
            <a:chExt cx="6183360" cy="3044520"/>
          </a:xfrm>
        </p:grpSpPr>
        <p:grpSp>
          <p:nvGrpSpPr>
            <p:cNvPr id="849" name="组合 20"/>
            <p:cNvGrpSpPr/>
            <p:nvPr/>
          </p:nvGrpSpPr>
          <p:grpSpPr>
            <a:xfrm>
              <a:off x="1480320" y="2297880"/>
              <a:ext cx="6183360" cy="1725480"/>
              <a:chOff x="1480320" y="2297880"/>
              <a:chExt cx="6183360" cy="1725480"/>
            </a:xfrm>
          </p:grpSpPr>
          <p:sp>
            <p:nvSpPr>
              <p:cNvPr id="850" name="文本框 17"/>
              <p:cNvSpPr/>
              <p:nvPr/>
            </p:nvSpPr>
            <p:spPr>
              <a:xfrm>
                <a:off x="2051280" y="2780280"/>
                <a:ext cx="4860720" cy="77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50000"/>
                  </a:lnSpc>
                </a:pPr>
                <a:r>
                  <a:rPr b="1" lang="zh-CN" sz="3000" spc="-1" strike="noStrike">
                    <a:solidFill>
                      <a:srgbClr val="c00000"/>
                    </a:solidFill>
                    <a:latin typeface="楷体"/>
                    <a:ea typeface="楷体"/>
                  </a:rPr>
                  <a:t>制作《班级民俗作品集》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圆角矩形 18"/>
              <p:cNvSpPr/>
              <p:nvPr/>
            </p:nvSpPr>
            <p:spPr>
              <a:xfrm>
                <a:off x="1480320" y="2297880"/>
                <a:ext cx="6183360" cy="1725480"/>
              </a:xfrm>
              <a:prstGeom prst="roundRect">
                <a:avLst>
                  <a:gd name="adj" fmla="val 16667"/>
                </a:avLst>
              </a:prstGeom>
              <a:noFill/>
              <a:ln w="28575">
                <a:solidFill>
                  <a:srgbClr val="4472c4">
                    <a:lumMod val="60000"/>
                    <a:lumOff val="40000"/>
                  </a:srgbClr>
                </a:solidFill>
                <a:prstDash val="lgDashDot"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400" spc="-1" strike="noStrike">
                  <a:solidFill>
                    <a:schemeClr val="lt1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852" name="文本框 21"/>
            <p:cNvSpPr/>
            <p:nvPr/>
          </p:nvSpPr>
          <p:spPr>
            <a:xfrm>
              <a:off x="3322800" y="978840"/>
              <a:ext cx="2567160" cy="912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1" lang="zh-CN" sz="3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小组互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3" name="图片 2" descr="24243fc8f2630996884faf859d4d5f0b"/>
          <p:cNvPicPr/>
          <p:nvPr/>
        </p:nvPicPr>
        <p:blipFill>
          <a:blip r:embed="rId3"/>
          <a:stretch/>
        </p:blipFill>
        <p:spPr>
          <a:xfrm>
            <a:off x="3322800" y="1307160"/>
            <a:ext cx="183924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1"/>
          <p:cNvSpPr/>
          <p:nvPr/>
        </p:nvSpPr>
        <p:spPr>
          <a:xfrm>
            <a:off x="1197360" y="2217600"/>
            <a:ext cx="5748840" cy="70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ctr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这个单元，我们跟随多位作者深人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解了多个传统节日、多种民间风俗，深切感受到了长久以来滋养着中华儿女的传统文化的魅力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圆角矩形 7"/>
          <p:cNvSpPr/>
          <p:nvPr/>
        </p:nvSpPr>
        <p:spPr>
          <a:xfrm>
            <a:off x="824400" y="1188000"/>
            <a:ext cx="7495200" cy="2766960"/>
          </a:xfrm>
          <a:prstGeom prst="roundRect">
            <a:avLst>
              <a:gd name="adj" fmla="val 16667"/>
            </a:avLst>
          </a:prstGeom>
          <a:noFill/>
          <a:ln w="19050">
            <a:solidFill>
              <a:srgbClr val="70ad47">
                <a:lumMod val="60000"/>
                <a:lumOff val="40000"/>
              </a:srgbClr>
            </a:solidFill>
            <a:prstDash val="lgDashDotDot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856" name="文本框 3"/>
          <p:cNvSpPr/>
          <p:nvPr/>
        </p:nvSpPr>
        <p:spPr>
          <a:xfrm>
            <a:off x="922680" y="277560"/>
            <a:ext cx="1428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课堂小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图片 1" descr=""/>
          <p:cNvPicPr/>
          <p:nvPr/>
        </p:nvPicPr>
        <p:blipFill>
          <a:blip r:embed="rId1"/>
          <a:stretch/>
        </p:blipFill>
        <p:spPr>
          <a:xfrm>
            <a:off x="51840" y="113760"/>
            <a:ext cx="771120" cy="718920"/>
          </a:xfrm>
          <a:prstGeom prst="rect">
            <a:avLst/>
          </a:prstGeom>
          <a:ln w="0">
            <a:noFill/>
          </a:ln>
        </p:spPr>
      </p:pic>
      <p:pic>
        <p:nvPicPr>
          <p:cNvPr id="858" name="图片 3" descr="0beb3c19c03542f72b753351a78bf0ef"/>
          <p:cNvPicPr/>
          <p:nvPr/>
        </p:nvPicPr>
        <p:blipFill>
          <a:blip r:embed="rId2"/>
          <a:stretch/>
        </p:blipFill>
        <p:spPr>
          <a:xfrm>
            <a:off x="6946560" y="1737360"/>
            <a:ext cx="222480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8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9" name="图片 1" descr="timg (6)"/>
          <p:cNvPicPr/>
          <p:nvPr/>
        </p:nvPicPr>
        <p:blipFill>
          <a:blip r:embed="rId1"/>
          <a:stretch/>
        </p:blipFill>
        <p:spPr>
          <a:xfrm>
            <a:off x="-4680" y="-14400"/>
            <a:ext cx="9154800" cy="5165280"/>
          </a:xfrm>
          <a:prstGeom prst="rect">
            <a:avLst/>
          </a:prstGeom>
          <a:ln w="9525">
            <a:noFill/>
          </a:ln>
        </p:spPr>
      </p:pic>
      <p:sp>
        <p:nvSpPr>
          <p:cNvPr id="860" name=" 167"/>
          <p:cNvSpPr/>
          <p:nvPr/>
        </p:nvSpPr>
        <p:spPr>
          <a:xfrm>
            <a:off x="2087640" y="1612800"/>
            <a:ext cx="4358880" cy="1164960"/>
          </a:xfrm>
          <a:prstGeom prst="roundRect">
            <a:avLst>
              <a:gd name="adj" fmla="val 16667"/>
            </a:avLst>
          </a:prstGeom>
          <a:solidFill>
            <a:schemeClr val="bg1">
              <a:alpha val="71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  <a:scene3d>
              <a:camera prst="orthographicFront"/>
              <a:lightRig dir="t" rig="threePt"/>
            </a:scene3d>
            <a:sp3d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endParaRPr b="0" lang="en-US" sz="1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61" name="矩形 3"/>
          <p:cNvSpPr/>
          <p:nvPr/>
        </p:nvSpPr>
        <p:spPr>
          <a:xfrm>
            <a:off x="4214880" y="1580760"/>
            <a:ext cx="6721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谢谢观看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图片 8" descr="3cb31196ed4f36860b82dd6120d1a638"/>
          <p:cNvPicPr/>
          <p:nvPr/>
        </p:nvPicPr>
        <p:blipFill>
          <a:blip r:embed="rId1"/>
          <a:stretch/>
        </p:blipFill>
        <p:spPr>
          <a:xfrm>
            <a:off x="117720" y="-12240"/>
            <a:ext cx="1762200" cy="1187280"/>
          </a:xfrm>
          <a:prstGeom prst="rect">
            <a:avLst/>
          </a:prstGeom>
          <a:ln w="0">
            <a:noFill/>
          </a:ln>
        </p:spPr>
      </p:pic>
      <p:sp>
        <p:nvSpPr>
          <p:cNvPr id="764" name="文本框 23"/>
          <p:cNvSpPr/>
          <p:nvPr/>
        </p:nvSpPr>
        <p:spPr>
          <a:xfrm>
            <a:off x="897120" y="177120"/>
            <a:ext cx="18547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情景引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4"/>
          <p:cNvSpPr/>
          <p:nvPr/>
        </p:nvSpPr>
        <p:spPr>
          <a:xfrm>
            <a:off x="2752200" y="1030680"/>
            <a:ext cx="41158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说说你们家乡的风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图片 1" descr=""/>
          <p:cNvPicPr/>
          <p:nvPr/>
        </p:nvPicPr>
        <p:blipFill>
          <a:blip r:embed="rId2"/>
          <a:stretch/>
        </p:blipFill>
        <p:spPr>
          <a:xfrm>
            <a:off x="808200" y="1670040"/>
            <a:ext cx="3393000" cy="218556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pic>
        <p:nvPicPr>
          <p:cNvPr id="767" name="图片 2" descr=""/>
          <p:cNvPicPr/>
          <p:nvPr/>
        </p:nvPicPr>
        <p:blipFill>
          <a:blip r:embed="rId3"/>
          <a:stretch/>
        </p:blipFill>
        <p:spPr>
          <a:xfrm>
            <a:off x="5118840" y="1735920"/>
            <a:ext cx="3278160" cy="212004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图片 8" descr="3cb31196ed4f36860b82dd6120d1a638"/>
          <p:cNvPicPr/>
          <p:nvPr/>
        </p:nvPicPr>
        <p:blipFill>
          <a:blip r:embed="rId1"/>
          <a:stretch/>
        </p:blipFill>
        <p:spPr>
          <a:xfrm>
            <a:off x="117720" y="-12240"/>
            <a:ext cx="1762200" cy="1187280"/>
          </a:xfrm>
          <a:prstGeom prst="rect">
            <a:avLst/>
          </a:prstGeom>
          <a:ln w="0">
            <a:noFill/>
          </a:ln>
        </p:spPr>
      </p:pic>
      <p:sp>
        <p:nvSpPr>
          <p:cNvPr id="769" name="文本框 1"/>
          <p:cNvSpPr/>
          <p:nvPr/>
        </p:nvSpPr>
        <p:spPr>
          <a:xfrm>
            <a:off x="460080" y="1082880"/>
            <a:ext cx="836676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每当我吃到香甜可口的粽子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就会想起家乡的端午节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每年端午节前夕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我都会和姐姐一起上野外去采艾草。农历五月初五这一天，家家户户的门上都会插上艾草，据说，艾草能够驱蚊镇邪避灾。闻一闻那清香的艾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对我们来说是一件快乐的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所以每年我们都争着上野外去采一篮艾草，同时也采下一篮的快乐。妈妈还会用艾叶给我们煮好多好多的鸭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据说，这鸭蛋小孩吃了可以不咳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文本框 2"/>
          <p:cNvSpPr/>
          <p:nvPr/>
        </p:nvSpPr>
        <p:spPr>
          <a:xfrm>
            <a:off x="897120" y="177120"/>
            <a:ext cx="18547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习作例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Box 4"/>
          <p:cNvSpPr/>
          <p:nvPr/>
        </p:nvSpPr>
        <p:spPr>
          <a:xfrm>
            <a:off x="5701680" y="568800"/>
            <a:ext cx="2335320" cy="2811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家乡的端午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图片 7" descr=""/>
          <p:cNvPicPr/>
          <p:nvPr/>
        </p:nvPicPr>
        <p:blipFill>
          <a:blip r:embed="rId2"/>
          <a:stretch/>
        </p:blipFill>
        <p:spPr>
          <a:xfrm>
            <a:off x="7807680" y="177120"/>
            <a:ext cx="11883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图片 8" descr="3cb31196ed4f36860b82dd6120d1a638"/>
          <p:cNvPicPr/>
          <p:nvPr/>
        </p:nvPicPr>
        <p:blipFill>
          <a:blip r:embed="rId1"/>
          <a:stretch/>
        </p:blipFill>
        <p:spPr>
          <a:xfrm>
            <a:off x="117720" y="-12240"/>
            <a:ext cx="1762200" cy="1187280"/>
          </a:xfrm>
          <a:prstGeom prst="rect">
            <a:avLst/>
          </a:prstGeom>
          <a:ln w="0">
            <a:noFill/>
          </a:ln>
        </p:spPr>
      </p:pic>
      <p:sp>
        <p:nvSpPr>
          <p:cNvPr id="774" name="文本框 1"/>
          <p:cNvSpPr/>
          <p:nvPr/>
        </p:nvSpPr>
        <p:spPr>
          <a:xfrm>
            <a:off x="388080" y="1644840"/>
            <a:ext cx="83667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端午节不光插艾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还要吃粽子。妈妈从街上把粽叶买回来，用水泡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备用。而粽子的馅一般都是糯米，配上蜜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妈妈和奶奶一阵忙碌之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一个个三角形的粽子就包好了。蒸好的粽子如果再撒上白糖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味道可好吃了，香香甜甜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还散发着粽叶的清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文本框 2"/>
          <p:cNvSpPr/>
          <p:nvPr/>
        </p:nvSpPr>
        <p:spPr>
          <a:xfrm>
            <a:off x="897120" y="177120"/>
            <a:ext cx="18547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习作例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Box 4"/>
          <p:cNvSpPr/>
          <p:nvPr/>
        </p:nvSpPr>
        <p:spPr>
          <a:xfrm>
            <a:off x="5701680" y="568800"/>
            <a:ext cx="2335320" cy="2811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家乡的端午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图片 7" descr=""/>
          <p:cNvPicPr/>
          <p:nvPr/>
        </p:nvPicPr>
        <p:blipFill>
          <a:blip r:embed="rId2"/>
          <a:stretch/>
        </p:blipFill>
        <p:spPr>
          <a:xfrm>
            <a:off x="7807680" y="177120"/>
            <a:ext cx="11883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图片 8" descr="3cb31196ed4f36860b82dd6120d1a638"/>
          <p:cNvPicPr/>
          <p:nvPr/>
        </p:nvPicPr>
        <p:blipFill>
          <a:blip r:embed="rId1"/>
          <a:stretch/>
        </p:blipFill>
        <p:spPr>
          <a:xfrm>
            <a:off x="117720" y="-12240"/>
            <a:ext cx="1762200" cy="1187280"/>
          </a:xfrm>
          <a:prstGeom prst="rect">
            <a:avLst/>
          </a:prstGeom>
          <a:ln w="0">
            <a:noFill/>
          </a:ln>
        </p:spPr>
      </p:pic>
      <p:sp>
        <p:nvSpPr>
          <p:cNvPr id="779" name="文本框 3"/>
          <p:cNvSpPr/>
          <p:nvPr/>
        </p:nvSpPr>
        <p:spPr>
          <a:xfrm>
            <a:off x="897120" y="177120"/>
            <a:ext cx="18547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习作例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1"/>
          <p:cNvSpPr/>
          <p:nvPr/>
        </p:nvSpPr>
        <p:spPr>
          <a:xfrm>
            <a:off x="504360" y="1412640"/>
            <a:ext cx="836676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我看了书才知道，原来吃粽子的习俗和伟大的爱国诗人屈原有关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!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据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屈原不忍心看着自己的国家灭亡，就抱着石头投入了汨罗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人们为了不让水里的鱼虾吃屈原的尸体，就包粽子投入江里。后来为了纪念这位伟大的爱国诗人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人们就流传下包粽子、赛龙舟等端午节习俗。我们村里每年都举办热闹无比的赛龙舟活动。端午节这天早上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人们早早地围在岸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锣鼓震天，鞭炮齐鸣。水上数支龙舟队伍整装待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选手们跃跃欲试。随着一声锣鸣，各支队伍你追我赶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岸上的呐喊声、炮声震耳欲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..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那情景真是热闹非凡。家乡的端午节真有趣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4"/>
          <p:cNvSpPr/>
          <p:nvPr/>
        </p:nvSpPr>
        <p:spPr>
          <a:xfrm>
            <a:off x="5701680" y="568800"/>
            <a:ext cx="2335320" cy="2811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家乡的端午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图片 7" descr=""/>
          <p:cNvPicPr/>
          <p:nvPr/>
        </p:nvPicPr>
        <p:blipFill>
          <a:blip r:embed="rId2"/>
          <a:stretch/>
        </p:blipFill>
        <p:spPr>
          <a:xfrm>
            <a:off x="7807680" y="177120"/>
            <a:ext cx="11883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图片 8" descr="3cb31196ed4f36860b82dd6120d1a638"/>
          <p:cNvPicPr/>
          <p:nvPr/>
        </p:nvPicPr>
        <p:blipFill>
          <a:blip r:embed="rId1"/>
          <a:stretch/>
        </p:blipFill>
        <p:spPr>
          <a:xfrm>
            <a:off x="117720" y="-12240"/>
            <a:ext cx="1762200" cy="1187280"/>
          </a:xfrm>
          <a:prstGeom prst="rect">
            <a:avLst/>
          </a:prstGeom>
          <a:ln w="0">
            <a:noFill/>
          </a:ln>
        </p:spPr>
      </p:pic>
      <p:sp>
        <p:nvSpPr>
          <p:cNvPr id="784" name="文本框 3"/>
          <p:cNvSpPr/>
          <p:nvPr/>
        </p:nvSpPr>
        <p:spPr>
          <a:xfrm>
            <a:off x="897120" y="177120"/>
            <a:ext cx="18547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习作例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1"/>
          <p:cNvSpPr/>
          <p:nvPr/>
        </p:nvSpPr>
        <p:spPr>
          <a:xfrm>
            <a:off x="399600" y="1399680"/>
            <a:ext cx="834444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我爱我家乡丽江的各种节日，可我最爱家乡的火把节。家乡的火把节为什么会让我这么喜爱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?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现在就跟随我一起去了解一下我家乡的火把节吧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!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咚、咚、咚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....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又是爷爷和爸爸在做火把了。“这个不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这根太粗了，不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!”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爷爷在对爸爸唠叨着。爷爷有意让爸爸把火把的头做得尖一些，这样的话，火把就容易点燃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4"/>
          <p:cNvSpPr/>
          <p:nvPr/>
        </p:nvSpPr>
        <p:spPr>
          <a:xfrm>
            <a:off x="5690880" y="481320"/>
            <a:ext cx="2335320" cy="28116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有趣的火把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图片 2" descr=""/>
          <p:cNvPicPr/>
          <p:nvPr/>
        </p:nvPicPr>
        <p:blipFill>
          <a:blip r:embed="rId2"/>
          <a:stretch/>
        </p:blipFill>
        <p:spPr>
          <a:xfrm>
            <a:off x="7915320" y="177120"/>
            <a:ext cx="698400" cy="74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图片 8" descr="3cb31196ed4f36860b82dd6120d1a638"/>
          <p:cNvPicPr/>
          <p:nvPr/>
        </p:nvPicPr>
        <p:blipFill>
          <a:blip r:embed="rId1"/>
          <a:stretch/>
        </p:blipFill>
        <p:spPr>
          <a:xfrm>
            <a:off x="117720" y="-12240"/>
            <a:ext cx="1762200" cy="1187280"/>
          </a:xfrm>
          <a:prstGeom prst="rect">
            <a:avLst/>
          </a:prstGeom>
          <a:ln w="0">
            <a:noFill/>
          </a:ln>
        </p:spPr>
      </p:pic>
      <p:sp>
        <p:nvSpPr>
          <p:cNvPr id="789" name="文本框 3"/>
          <p:cNvSpPr/>
          <p:nvPr/>
        </p:nvSpPr>
        <p:spPr>
          <a:xfrm>
            <a:off x="897120" y="177120"/>
            <a:ext cx="18547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习作例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1"/>
          <p:cNvSpPr/>
          <p:nvPr/>
        </p:nvSpPr>
        <p:spPr>
          <a:xfrm>
            <a:off x="613800" y="1082880"/>
            <a:ext cx="806976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小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快帮爷爷拿几根铁丝来。”我听见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赶紧从房间里拿来几根铁丝递给爷爷，爷爷熟练地把铁丝拴在了火把上，火把就做好了。我兴高采烈地叫上妈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和我一起装饰火把。我对妈妈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:“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妈妈，我们俩去后院采花去吧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!”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。“好啊。”妈妈回答说。我们一起来到爷爷家后院，许许多多的花展现在我们的眼前，红的、白的、紫的、黄的、蓝的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....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五颜六色的百合花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真是美丽极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!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不一会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我们的手中就拿满了野花，我和妈妈把这些野花分了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白的一类，蓝的一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..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我们把分类后的花插在了火把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4"/>
          <p:cNvSpPr/>
          <p:nvPr/>
        </p:nvSpPr>
        <p:spPr>
          <a:xfrm>
            <a:off x="5921640" y="480960"/>
            <a:ext cx="2335320" cy="28116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有趣的火把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图片 2" descr=""/>
          <p:cNvPicPr/>
          <p:nvPr/>
        </p:nvPicPr>
        <p:blipFill>
          <a:blip r:embed="rId2"/>
          <a:stretch/>
        </p:blipFill>
        <p:spPr>
          <a:xfrm>
            <a:off x="8069040" y="177120"/>
            <a:ext cx="698400" cy="74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图片 8" descr="3cb31196ed4f36860b82dd6120d1a638"/>
          <p:cNvPicPr/>
          <p:nvPr/>
        </p:nvPicPr>
        <p:blipFill>
          <a:blip r:embed="rId1"/>
          <a:stretch/>
        </p:blipFill>
        <p:spPr>
          <a:xfrm>
            <a:off x="117720" y="-12240"/>
            <a:ext cx="1762200" cy="1187280"/>
          </a:xfrm>
          <a:prstGeom prst="rect">
            <a:avLst/>
          </a:prstGeom>
          <a:ln w="0">
            <a:noFill/>
          </a:ln>
        </p:spPr>
      </p:pic>
      <p:sp>
        <p:nvSpPr>
          <p:cNvPr id="794" name="文本框 3"/>
          <p:cNvSpPr/>
          <p:nvPr/>
        </p:nvSpPr>
        <p:spPr>
          <a:xfrm>
            <a:off x="897120" y="177120"/>
            <a:ext cx="18547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习作例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4"/>
          <p:cNvSpPr/>
          <p:nvPr/>
        </p:nvSpPr>
        <p:spPr>
          <a:xfrm>
            <a:off x="5899680" y="691560"/>
            <a:ext cx="2335320" cy="28116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有趣的火把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文本框 2"/>
          <p:cNvSpPr/>
          <p:nvPr/>
        </p:nvSpPr>
        <p:spPr>
          <a:xfrm>
            <a:off x="383760" y="1706760"/>
            <a:ext cx="82339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妈妈还告诉我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:“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火把上必须要插上百合花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这预示着我们一家人的生活会和和美美。”不一会儿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一个美丽的火把就出现在我的面前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我高兴地举起来，恨不得立刻点燃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图片 5" descr=""/>
          <p:cNvPicPr/>
          <p:nvPr/>
        </p:nvPicPr>
        <p:blipFill>
          <a:blip r:embed="rId2"/>
          <a:stretch/>
        </p:blipFill>
        <p:spPr>
          <a:xfrm>
            <a:off x="8058240" y="430920"/>
            <a:ext cx="698400" cy="74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图片 8" descr="3cb31196ed4f36860b82dd6120d1a638"/>
          <p:cNvPicPr/>
          <p:nvPr/>
        </p:nvPicPr>
        <p:blipFill>
          <a:blip r:embed="rId1"/>
          <a:stretch/>
        </p:blipFill>
        <p:spPr>
          <a:xfrm>
            <a:off x="117720" y="-12240"/>
            <a:ext cx="1762200" cy="1187280"/>
          </a:xfrm>
          <a:prstGeom prst="rect">
            <a:avLst/>
          </a:prstGeom>
          <a:ln w="0">
            <a:noFill/>
          </a:ln>
        </p:spPr>
      </p:pic>
      <p:sp>
        <p:nvSpPr>
          <p:cNvPr id="799" name="文本框 3"/>
          <p:cNvSpPr/>
          <p:nvPr/>
        </p:nvSpPr>
        <p:spPr>
          <a:xfrm>
            <a:off x="897120" y="177120"/>
            <a:ext cx="18547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习作例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1"/>
          <p:cNvSpPr/>
          <p:nvPr/>
        </p:nvSpPr>
        <p:spPr>
          <a:xfrm>
            <a:off x="438120" y="1325520"/>
            <a:ext cx="826776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等啊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天终于黑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爸爸把火把放在了院子中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我们全家围着火把跳起舞来。我突然问奶奶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:“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奶奶，为什么火把节要点火把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?”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奶奶回答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:“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燃烧火把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高举着火把走进田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走进万家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会给人们带来幸福，让农田五谷丰登。”我听到后跳得更欢了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希望奶奶家的农田到了秋天的时候也能像奶奶说的那样五谷丰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4"/>
          <p:cNvSpPr/>
          <p:nvPr/>
        </p:nvSpPr>
        <p:spPr>
          <a:xfrm>
            <a:off x="5921640" y="480960"/>
            <a:ext cx="2335320" cy="281160"/>
          </a:xfrm>
          <a:prstGeom prst="rect">
            <a:avLst/>
          </a:prstGeom>
          <a:solidFill>
            <a:schemeClr val="accent1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有趣的火把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图片 2" descr=""/>
          <p:cNvPicPr/>
          <p:nvPr/>
        </p:nvPicPr>
        <p:blipFill>
          <a:blip r:embed="rId2"/>
          <a:stretch/>
        </p:blipFill>
        <p:spPr>
          <a:xfrm>
            <a:off x="8084520" y="209160"/>
            <a:ext cx="698400" cy="74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6</TotalTime>
  <Application>LibreOffice/7.4.7.2$Linux_X86_64 LibreOffice_project/40$Build-2</Application>
  <AppVersion>15.0000</AppVersion>
  <Words>1736</Words>
  <Paragraphs>7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2T07:05:00Z</dcterms:created>
  <dc:creator>第一PPT模板网-WWW.1PPT.COM</dc:creator>
  <dc:description/>
  <dc:language>en-US</dc:language>
  <cp:lastModifiedBy>123</cp:lastModifiedBy>
  <dcterms:modified xsi:type="dcterms:W3CDTF">2021-04-08T05:26:20Z</dcterms:modified>
  <cp:revision>7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  <property fmtid="{D5CDD505-2E9C-101B-9397-08002B2CF9AE}" pid="3" name="Notes">
    <vt:r8>4</vt:r8>
  </property>
  <property fmtid="{D5CDD505-2E9C-101B-9397-08002B2CF9AE}" pid="4" name="PresentationFormat">
    <vt:lpwstr>全屏显示(16:9)</vt:lpwstr>
  </property>
  <property fmtid="{D5CDD505-2E9C-101B-9397-08002B2CF9AE}" pid="5" name="Slides">
    <vt:r8>19</vt:r8>
  </property>
</Properties>
</file>