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gif" ContentType="image/gif"/>
  <Override PartName="/ppt/media/image8.jpeg" ContentType="image/jpeg"/>
  <Override PartName="/ppt/media/image13.jpeg" ContentType="image/jpeg"/>
  <Override PartName="/ppt/media/image11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705215-9CB9-4125-B528-F4D72F4CF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A06912-208C-4B4D-A249-8B99E47079A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5CA292-3930-47A7-95E8-8FB086B8D68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D6B645-E335-4331-8BE8-FD378C0372F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5A84A2-3977-4CD6-99D7-0409D3FD292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DF30C8-B826-4FF2-9B03-B574E73295F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1CD10B-AE38-47A7-961B-24A65C2231C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138466-9FCE-42F5-B15B-8C442472A4B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EFD580-4B2B-4207-B669-47BEB1D9DC2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8D3D80-2BD6-4A10-95C8-6569DB9FBD0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ttp://pic.58pic.com/58pic/15/49/54/43e58PICiz7_1024.jpg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0" y="4001040"/>
            <a:ext cx="9144000" cy="285768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1"/>
          <p:cNvGrpSpPr/>
          <p:nvPr/>
        </p:nvGrpSpPr>
        <p:grpSpPr>
          <a:xfrm>
            <a:off x="0" y="123840"/>
            <a:ext cx="2771280" cy="328320"/>
            <a:chOff x="0" y="123840"/>
            <a:chExt cx="2771280" cy="328320"/>
          </a:xfrm>
        </p:grpSpPr>
        <p:sp>
          <p:nvSpPr>
            <p:cNvPr id="2" name="矩形 4"/>
            <p:cNvSpPr/>
            <p:nvPr/>
          </p:nvSpPr>
          <p:spPr>
            <a:xfrm flipH="1">
              <a:off x="0" y="164520"/>
              <a:ext cx="2771280" cy="287640"/>
            </a:xfrm>
            <a:prstGeom prst="rect">
              <a:avLst/>
            </a:prstGeom>
            <a:gradFill rotWithShape="0">
              <a:gsLst>
                <a:gs pos="40000">
                  <a:srgbClr val="63d6ff"/>
                </a:gs>
                <a:gs pos="100000">
                  <a:srgbClr val="97e4ff">
                    <a:alpha val="76078"/>
                  </a:srgbClr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  <p:sp>
          <p:nvSpPr>
            <p:cNvPr id="3" name="文本框 10"/>
            <p:cNvSpPr/>
            <p:nvPr/>
          </p:nvSpPr>
          <p:spPr>
            <a:xfrm>
              <a:off x="734400" y="123840"/>
              <a:ext cx="3333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习作：记一次游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pic.58pic.com/58pic/15/49/54/43e58PICiz7_1024.jpg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0" y="4001040"/>
            <a:ext cx="9144000" cy="2857680"/>
          </a:xfrm>
          <a:prstGeom prst="rect">
            <a:avLst/>
          </a:prstGeom>
          <a:ln w="0">
            <a:noFill/>
          </a:ln>
        </p:spPr>
      </p:pic>
      <p:grpSp>
        <p:nvGrpSpPr>
          <p:cNvPr id="43" name="组合 1"/>
          <p:cNvGrpSpPr/>
          <p:nvPr/>
        </p:nvGrpSpPr>
        <p:grpSpPr>
          <a:xfrm>
            <a:off x="0" y="123840"/>
            <a:ext cx="2771280" cy="328320"/>
            <a:chOff x="0" y="123840"/>
            <a:chExt cx="2771280" cy="328320"/>
          </a:xfrm>
        </p:grpSpPr>
        <p:sp>
          <p:nvSpPr>
            <p:cNvPr id="44" name="矩形 4"/>
            <p:cNvSpPr/>
            <p:nvPr/>
          </p:nvSpPr>
          <p:spPr>
            <a:xfrm flipH="1">
              <a:off x="0" y="164520"/>
              <a:ext cx="2771280" cy="287640"/>
            </a:xfrm>
            <a:prstGeom prst="rect">
              <a:avLst/>
            </a:prstGeom>
            <a:gradFill rotWithShape="0">
              <a:gsLst>
                <a:gs pos="40000">
                  <a:srgbClr val="63d6ff"/>
                </a:gs>
                <a:gs pos="100000">
                  <a:srgbClr val="97e4ff">
                    <a:alpha val="76078"/>
                  </a:srgbClr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  <p:sp>
          <p:nvSpPr>
            <p:cNvPr id="45" name="文本框 10"/>
            <p:cNvSpPr/>
            <p:nvPr/>
          </p:nvSpPr>
          <p:spPr>
            <a:xfrm>
              <a:off x="734400" y="123840"/>
              <a:ext cx="3333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习作：记一次游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pic.58pic.com/58pic/15/49/54/43e58PICiz7_1024.jpg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0" y="4001040"/>
            <a:ext cx="9144000" cy="2857680"/>
          </a:xfrm>
          <a:prstGeom prst="rect">
            <a:avLst/>
          </a:prstGeom>
          <a:ln w="0">
            <a:noFill/>
          </a:ln>
        </p:spPr>
      </p:pic>
      <p:grpSp>
        <p:nvGrpSpPr>
          <p:cNvPr id="85" name="组合 1"/>
          <p:cNvGrpSpPr/>
          <p:nvPr/>
        </p:nvGrpSpPr>
        <p:grpSpPr>
          <a:xfrm>
            <a:off x="0" y="123840"/>
            <a:ext cx="2771280" cy="328320"/>
            <a:chOff x="0" y="123840"/>
            <a:chExt cx="2771280" cy="328320"/>
          </a:xfrm>
        </p:grpSpPr>
        <p:sp>
          <p:nvSpPr>
            <p:cNvPr id="86" name="矩形 4"/>
            <p:cNvSpPr/>
            <p:nvPr/>
          </p:nvSpPr>
          <p:spPr>
            <a:xfrm flipH="1">
              <a:off x="0" y="164520"/>
              <a:ext cx="2771280" cy="287640"/>
            </a:xfrm>
            <a:prstGeom prst="rect">
              <a:avLst/>
            </a:prstGeom>
            <a:gradFill rotWithShape="0">
              <a:gsLst>
                <a:gs pos="40000">
                  <a:srgbClr val="63d6ff"/>
                </a:gs>
                <a:gs pos="100000">
                  <a:srgbClr val="97e4ff">
                    <a:alpha val="76078"/>
                  </a:srgbClr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  <p:sp>
          <p:nvSpPr>
            <p:cNvPr id="87" name="文本框 10"/>
            <p:cNvSpPr/>
            <p:nvPr/>
          </p:nvSpPr>
          <p:spPr>
            <a:xfrm>
              <a:off x="734400" y="123840"/>
              <a:ext cx="3333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习作：记一次游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pic.58pic.com/58pic/15/49/54/43e58PICiz7_1024.jpg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0" y="4001040"/>
            <a:ext cx="9144000" cy="285768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合 1"/>
          <p:cNvGrpSpPr/>
          <p:nvPr/>
        </p:nvGrpSpPr>
        <p:grpSpPr>
          <a:xfrm>
            <a:off x="0" y="123840"/>
            <a:ext cx="2771280" cy="328320"/>
            <a:chOff x="0" y="123840"/>
            <a:chExt cx="2771280" cy="328320"/>
          </a:xfrm>
        </p:grpSpPr>
        <p:sp>
          <p:nvSpPr>
            <p:cNvPr id="128" name="矩形 4"/>
            <p:cNvSpPr/>
            <p:nvPr/>
          </p:nvSpPr>
          <p:spPr>
            <a:xfrm flipH="1">
              <a:off x="0" y="164520"/>
              <a:ext cx="2771280" cy="287640"/>
            </a:xfrm>
            <a:prstGeom prst="rect">
              <a:avLst/>
            </a:prstGeom>
            <a:gradFill rotWithShape="0">
              <a:gsLst>
                <a:gs pos="40000">
                  <a:srgbClr val="63d6ff"/>
                </a:gs>
                <a:gs pos="100000">
                  <a:srgbClr val="97e4ff">
                    <a:alpha val="76078"/>
                  </a:srgbClr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  <p:sp>
          <p:nvSpPr>
            <p:cNvPr id="129" name="文本框 10"/>
            <p:cNvSpPr/>
            <p:nvPr/>
          </p:nvSpPr>
          <p:spPr>
            <a:xfrm>
              <a:off x="734400" y="123840"/>
              <a:ext cx="3333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习作：记一次游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48"/>
          <p:cNvSpPr/>
          <p:nvPr/>
        </p:nvSpPr>
        <p:spPr>
          <a:xfrm>
            <a:off x="4510800" y="1612800"/>
            <a:ext cx="409680" cy="363960"/>
          </a:xfrm>
          <a:prstGeom prst="rect">
            <a:avLst/>
          </a:prstGeom>
          <a:noFill/>
          <a:ln w="0">
            <a:noFill/>
          </a:ln>
          <a:effectLst>
            <a:softEdge rad="31680"/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记一次游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6"/>
          <p:cNvGrpSpPr/>
          <p:nvPr/>
        </p:nvGrpSpPr>
        <p:grpSpPr>
          <a:xfrm>
            <a:off x="163800" y="645120"/>
            <a:ext cx="1467000" cy="731880"/>
            <a:chOff x="163800" y="645120"/>
            <a:chExt cx="1467000" cy="731880"/>
          </a:xfrm>
        </p:grpSpPr>
        <p:sp>
          <p:nvSpPr>
            <p:cNvPr id="176" name="圆角矩形 10"/>
            <p:cNvSpPr/>
            <p:nvPr/>
          </p:nvSpPr>
          <p:spPr>
            <a:xfrm>
              <a:off x="163800" y="645120"/>
              <a:ext cx="1467000" cy="731880"/>
            </a:xfrm>
            <a:prstGeom prst="roundRect">
              <a:avLst>
                <a:gd name="adj" fmla="val 16667"/>
              </a:avLst>
            </a:prstGeom>
            <a:solidFill>
              <a:srgbClr val="00b9fa"/>
            </a:solidFill>
            <a:ln>
              <a:solidFill>
                <a:srgbClr val="0088b8"/>
              </a:solidFill>
              <a:round/>
            </a:ln>
          </p:spPr>
          <p:style>
            <a:lnRef idx="2">
              <a:schemeClr val="accent5">
                <a:shade val="50000"/>
              </a:schemeClr>
            </a:lnRef>
            <a:fillRef idx="1">
              <a:schemeClr val="accent5"/>
            </a:fillRef>
            <a:effectRef idx="0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177" name="TextBox 9"/>
            <p:cNvSpPr/>
            <p:nvPr/>
          </p:nvSpPr>
          <p:spPr>
            <a:xfrm>
              <a:off x="614520" y="719640"/>
              <a:ext cx="5043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习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13"/>
          <p:cNvGrpSpPr/>
          <p:nvPr/>
        </p:nvGrpSpPr>
        <p:grpSpPr>
          <a:xfrm>
            <a:off x="3960" y="133920"/>
            <a:ext cx="4169520" cy="374040"/>
            <a:chOff x="3960" y="133920"/>
            <a:chExt cx="4169520" cy="374040"/>
          </a:xfrm>
        </p:grpSpPr>
        <p:sp>
          <p:nvSpPr>
            <p:cNvPr id="179" name="矩形 14"/>
            <p:cNvSpPr/>
            <p:nvPr/>
          </p:nvSpPr>
          <p:spPr>
            <a:xfrm flipH="1">
              <a:off x="3960" y="172080"/>
              <a:ext cx="4169520" cy="335880"/>
            </a:xfrm>
            <a:prstGeom prst="rect">
              <a:avLst/>
            </a:prstGeom>
            <a:gradFill rotWithShape="0">
              <a:gsLst>
                <a:gs pos="4000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180" name="文本框 1"/>
            <p:cNvSpPr/>
            <p:nvPr/>
          </p:nvSpPr>
          <p:spPr>
            <a:xfrm>
              <a:off x="627840" y="133920"/>
              <a:ext cx="13330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部编版  语文  四年级  上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图片 9" descr=""/>
          <p:cNvPicPr/>
          <p:nvPr/>
        </p:nvPicPr>
        <p:blipFill>
          <a:blip r:embed="rId1"/>
          <a:stretch/>
        </p:blipFill>
        <p:spPr>
          <a:xfrm>
            <a:off x="3269880" y="3141000"/>
            <a:ext cx="2880000" cy="2399760"/>
          </a:xfrm>
          <a:prstGeom prst="rect">
            <a:avLst/>
          </a:prstGeom>
          <a:ln w="0">
            <a:noFill/>
          </a:ln>
        </p:spPr>
      </p:pic>
      <p:sp>
        <p:nvSpPr>
          <p:cNvPr id="182" name="矩形 11"/>
          <p:cNvSpPr/>
          <p:nvPr/>
        </p:nvSpPr>
        <p:spPr>
          <a:xfrm>
            <a:off x="-10800" y="5661360"/>
            <a:ext cx="9154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0" p14:dur="1500"/>
    </mc:Choice>
    <mc:Fallback>
      <p:transition spd="slow" advTm="0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"/>
          <p:cNvSpPr/>
          <p:nvPr/>
        </p:nvSpPr>
        <p:spPr>
          <a:xfrm>
            <a:off x="499320" y="3588120"/>
            <a:ext cx="8145000" cy="479160"/>
          </a:xfrm>
          <a:prstGeom prst="rect">
            <a:avLst/>
          </a:prstGeom>
          <a:noFill/>
          <a:ln w="9525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大声读一读自己的习作，自主评价，看自己的习作是否写清楚了游戏的过程，是否表达出了当时的心情，标点符号使用是否正确。通过自评进行自主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7"/>
          <p:cNvSpPr/>
          <p:nvPr/>
        </p:nvSpPr>
        <p:spPr>
          <a:xfrm>
            <a:off x="3573720" y="1116360"/>
            <a:ext cx="1827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评改习作，分享游戏的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6,116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39,-127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6,116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39,-127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500040" y="1780920"/>
            <a:ext cx="8145000" cy="342000"/>
          </a:xfrm>
          <a:prstGeom prst="rect">
            <a:avLst/>
          </a:prstGeom>
          <a:noFill/>
          <a:ln w="9525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把修改后的习作读给同学们听，跟同学分享当时的心情，并邀请其他同学听后表达感受，最后根据其他同学的反馈再次修改自己的习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"/>
          <p:cNvSpPr/>
          <p:nvPr/>
        </p:nvSpPr>
        <p:spPr>
          <a:xfrm>
            <a:off x="500040" y="3590280"/>
            <a:ext cx="8145000" cy="342000"/>
          </a:xfrm>
          <a:prstGeom prst="rect">
            <a:avLst/>
          </a:prstGeom>
          <a:noFill/>
          <a:ln w="9525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结合两次修改过程，学会评改的方法，养成修改习作的习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"/>
          <p:cNvSpPr/>
          <p:nvPr/>
        </p:nvSpPr>
        <p:spPr>
          <a:xfrm>
            <a:off x="467640" y="5229360"/>
            <a:ext cx="8145000" cy="342000"/>
          </a:xfrm>
          <a:prstGeom prst="rect">
            <a:avLst/>
          </a:prstGeom>
          <a:noFill/>
          <a:ln w="9525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每人试着评改一篇同学的习作，在全班展示点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文本框 14"/>
          <p:cNvSpPr/>
          <p:nvPr/>
        </p:nvSpPr>
        <p:spPr>
          <a:xfrm>
            <a:off x="807120" y="416880"/>
            <a:ext cx="226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习作范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KSO_Shape"/>
          <p:cNvSpPr/>
          <p:nvPr/>
        </p:nvSpPr>
        <p:spPr>
          <a:xfrm>
            <a:off x="446400" y="604440"/>
            <a:ext cx="344160" cy="448200"/>
          </a:xfrm>
          <a:custGeom>
            <a:avLst/>
            <a:gdLst>
              <a:gd name="textAreaLeft" fmla="*/ 0 w 344160"/>
              <a:gd name="textAreaRight" fmla="*/ 344520 w 344160"/>
              <a:gd name="textAreaTop" fmla="*/ 0 h 448200"/>
              <a:gd name="textAreaBottom" fmla="*/ 448560 h 448200"/>
            </a:gdLst>
            <a:ahLst/>
            <a:rect l="textAreaLeft" t="textAreaTop" r="textAreaRight" b="textAreaBottom"/>
            <a:pathLst>
              <a:path w="900473" h="900473">
                <a:moveTo>
                  <a:pt x="347074" y="203047"/>
                </a:moveTo>
                <a:lnTo>
                  <a:pt x="692767" y="451973"/>
                </a:lnTo>
                <a:lnTo>
                  <a:pt x="347074" y="700898"/>
                </a:lnTo>
                <a:close/>
                <a:moveTo>
                  <a:pt x="450237" y="63807"/>
                </a:moveTo>
                <a:cubicBezTo>
                  <a:pt x="236817" y="63807"/>
                  <a:pt x="63807" y="236817"/>
                  <a:pt x="63807" y="450237"/>
                </a:cubicBezTo>
                <a:cubicBezTo>
                  <a:pt x="63807" y="663656"/>
                  <a:pt x="236817" y="836666"/>
                  <a:pt x="450237" y="836666"/>
                </a:cubicBezTo>
                <a:cubicBezTo>
                  <a:pt x="663656" y="836666"/>
                  <a:pt x="836666" y="663656"/>
                  <a:pt x="836666" y="450237"/>
                </a:cubicBezTo>
                <a:cubicBezTo>
                  <a:pt x="836666" y="236817"/>
                  <a:pt x="663656" y="63807"/>
                  <a:pt x="450237" y="63807"/>
                </a:cubicBezTo>
                <a:close/>
                <a:moveTo>
                  <a:pt x="450237" y="0"/>
                </a:moveTo>
                <a:cubicBezTo>
                  <a:pt x="698895" y="0"/>
                  <a:pt x="900473" y="201578"/>
                  <a:pt x="900473" y="450237"/>
                </a:cubicBezTo>
                <a:cubicBezTo>
                  <a:pt x="900473" y="698895"/>
                  <a:pt x="698895" y="900473"/>
                  <a:pt x="450237" y="900473"/>
                </a:cubicBezTo>
                <a:cubicBezTo>
                  <a:pt x="201578" y="900473"/>
                  <a:pt x="0" y="698895"/>
                  <a:pt x="0" y="450237"/>
                </a:cubicBezTo>
                <a:cubicBezTo>
                  <a:pt x="0" y="201578"/>
                  <a:pt x="201578" y="0"/>
                  <a:pt x="450237" y="0"/>
                </a:cubicBezTo>
                <a:close/>
              </a:path>
            </a:pathLst>
          </a:custGeom>
          <a:solidFill>
            <a:schemeClr val="accent2">
              <a:lumMod val="75000"/>
            </a:schemeClr>
          </a:solidFill>
          <a:ln w="1270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214" name="矩形 5"/>
          <p:cNvSpPr/>
          <p:nvPr/>
        </p:nvSpPr>
        <p:spPr>
          <a:xfrm>
            <a:off x="552960" y="1213920"/>
            <a:ext cx="8267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今天上体育课的时候，老师让我们自由活动。我赶紧拉帮结伙地把我的“铁哥们”都叫到一起，商量玩什么游戏？号称“智多星”的张明提议我们玩老鹰捉小鸡，我们纷纷表示赞同。大家经过选举，我当鸡妈妈，陈志和朱一航当老鹰。我心中暗暗下定决心，不管是“上刀山还是下火海，”我心不改，一定要保护好小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游戏开始了，“小鸡们”排成一排躲在我身后，各个惶惶不安，一副惊恐万状的样子。我张开双臂，眼睛死死地盯住老鹰。“陈老鹰”猛冲过来了，他左突右冲，我也不甘示弱，跟着他的步伐一会儿左挡，一会儿右拦，没有给他任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3060000" y="452520"/>
            <a:ext cx="34560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记一次游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5"/>
          <p:cNvSpPr/>
          <p:nvPr/>
        </p:nvSpPr>
        <p:spPr>
          <a:xfrm>
            <a:off x="545760" y="904680"/>
            <a:ext cx="8051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叼走“小鸡”的机会。正当我稍稍松了口气时，突然，朱一航老鹰也冲了过来，这样对我形成了夹击之势。我临危不乱，识破了他们的诡计，给他们来了个以退为进，一边盯着他们的动向，一边慢慢往后退。两只老鹰大步流星地冲了过来，两眼冒着凶光，我急忙挥舞双臂，甚至用头撞用脚挡，以阻止他们进攻。接着他们分头绕着跑，我早料到他们会声东击西，赶紧命令小鸡们：“注意！听指挥啦！“此时的老鹰一个从我的左边包抄，另一个从我的右边偷袭，想让我顾左不能及右。我口中念道：“没门！大家散开！”一声令下，小鸡们立刻撒腿就跑，哗！一下子散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5"/>
          <p:cNvSpPr/>
          <p:nvPr/>
        </p:nvSpPr>
        <p:spPr>
          <a:xfrm>
            <a:off x="552960" y="871560"/>
            <a:ext cx="8037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了，我则缠住老鹰们不放，时间一长，老鹰们吃不消了，攻势明显减退，我又赶紧召唤：“快回来！快！”小鸡们迅速又排到我的身后。一个个脸上毫无畏惧。老鹰们真是不到黄河心不死，他俩又开始交头接耳地密谋起来，我们也是严正以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正在这时，老师叫我们去跑步了，游戏结束了，老鹰们两手空空，一无所获，我们胜利了！我们笑得合不拢嘴。张烨棋更是妙，顺口来了一句：“老鹰飞飞，抓不到鸡，只好吃垃圾！”话音刚落，我们笑得更厉害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7"/>
          <p:cNvSpPr/>
          <p:nvPr/>
        </p:nvSpPr>
        <p:spPr>
          <a:xfrm>
            <a:off x="498960" y="5562360"/>
            <a:ext cx="8144640" cy="363960"/>
          </a:xfrm>
          <a:prstGeom prst="rect">
            <a:avLst/>
          </a:prstGeom>
          <a:solidFill>
            <a:schemeClr val="accent3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点评：小作者注重语言和动作描写，把游戏的过程刻画得细致入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文本框 14"/>
          <p:cNvSpPr/>
          <p:nvPr/>
        </p:nvSpPr>
        <p:spPr>
          <a:xfrm>
            <a:off x="807120" y="608400"/>
            <a:ext cx="1820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习作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KSO_Shape"/>
          <p:cNvSpPr/>
          <p:nvPr/>
        </p:nvSpPr>
        <p:spPr>
          <a:xfrm>
            <a:off x="446400" y="740160"/>
            <a:ext cx="344160" cy="448200"/>
          </a:xfrm>
          <a:custGeom>
            <a:avLst/>
            <a:gdLst>
              <a:gd name="textAreaLeft" fmla="*/ 0 w 344160"/>
              <a:gd name="textAreaRight" fmla="*/ 344520 w 344160"/>
              <a:gd name="textAreaTop" fmla="*/ 0 h 448200"/>
              <a:gd name="textAreaBottom" fmla="*/ 448560 h 448200"/>
            </a:gdLst>
            <a:ahLst/>
            <a:rect l="textAreaLeft" t="textAreaTop" r="textAreaRight" b="textAreaBottom"/>
            <a:pathLst>
              <a:path w="900473" h="900473">
                <a:moveTo>
                  <a:pt x="347074" y="203047"/>
                </a:moveTo>
                <a:lnTo>
                  <a:pt x="692767" y="451973"/>
                </a:lnTo>
                <a:lnTo>
                  <a:pt x="347074" y="700898"/>
                </a:lnTo>
                <a:close/>
                <a:moveTo>
                  <a:pt x="450237" y="63807"/>
                </a:moveTo>
                <a:cubicBezTo>
                  <a:pt x="236817" y="63807"/>
                  <a:pt x="63807" y="236817"/>
                  <a:pt x="63807" y="450237"/>
                </a:cubicBezTo>
                <a:cubicBezTo>
                  <a:pt x="63807" y="663656"/>
                  <a:pt x="236817" y="836666"/>
                  <a:pt x="450237" y="836666"/>
                </a:cubicBezTo>
                <a:cubicBezTo>
                  <a:pt x="663656" y="836666"/>
                  <a:pt x="836666" y="663656"/>
                  <a:pt x="836666" y="450237"/>
                </a:cubicBezTo>
                <a:cubicBezTo>
                  <a:pt x="836666" y="236817"/>
                  <a:pt x="663656" y="63807"/>
                  <a:pt x="450237" y="63807"/>
                </a:cubicBezTo>
                <a:close/>
                <a:moveTo>
                  <a:pt x="450237" y="0"/>
                </a:moveTo>
                <a:cubicBezTo>
                  <a:pt x="698895" y="0"/>
                  <a:pt x="900473" y="201578"/>
                  <a:pt x="900473" y="450237"/>
                </a:cubicBezTo>
                <a:cubicBezTo>
                  <a:pt x="900473" y="698895"/>
                  <a:pt x="698895" y="900473"/>
                  <a:pt x="450237" y="900473"/>
                </a:cubicBezTo>
                <a:cubicBezTo>
                  <a:pt x="201578" y="900473"/>
                  <a:pt x="0" y="698895"/>
                  <a:pt x="0" y="450237"/>
                </a:cubicBezTo>
                <a:cubicBezTo>
                  <a:pt x="0" y="201578"/>
                  <a:pt x="201578" y="0"/>
                  <a:pt x="450237" y="0"/>
                </a:cubicBezTo>
                <a:close/>
              </a:path>
            </a:pathLst>
          </a:custGeom>
          <a:solidFill>
            <a:schemeClr val="accent1"/>
          </a:solidFill>
          <a:ln w="1270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185" name="Rectangle 1"/>
          <p:cNvSpPr/>
          <p:nvPr/>
        </p:nvSpPr>
        <p:spPr>
          <a:xfrm>
            <a:off x="977760" y="2795040"/>
            <a:ext cx="7086240" cy="479160"/>
          </a:xfrm>
          <a:prstGeom prst="rect">
            <a:avLst/>
          </a:prstGeom>
          <a:noFill/>
          <a:ln w="9525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游戏可以锻炼我们各方面的能力，可以让我们进入自由自在的快乐天地。今天就让我们来做一做，写一写有趣的游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图片 7"/>
          <p:cNvSpPr/>
          <p:nvPr/>
        </p:nvSpPr>
        <p:spPr>
          <a:xfrm>
            <a:off x="1907640" y="4485240"/>
            <a:ext cx="2664000" cy="18237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ctr" blurRad="50760" dir="5400000" dist="50760" rotWithShape="0">
              <a:schemeClr val="bg2">
                <a:lumMod val="9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图片 8"/>
          <p:cNvSpPr/>
          <p:nvPr/>
        </p:nvSpPr>
        <p:spPr>
          <a:xfrm>
            <a:off x="5292000" y="4485240"/>
            <a:ext cx="2448000" cy="1787400"/>
          </a:xfrm>
          <a:prstGeom prst="flowChartAlternateProcess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文本框 14"/>
          <p:cNvSpPr/>
          <p:nvPr/>
        </p:nvSpPr>
        <p:spPr>
          <a:xfrm>
            <a:off x="807120" y="512640"/>
            <a:ext cx="1820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习作指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KSO_Shape"/>
          <p:cNvSpPr/>
          <p:nvPr/>
        </p:nvSpPr>
        <p:spPr>
          <a:xfrm>
            <a:off x="446400" y="644400"/>
            <a:ext cx="344160" cy="448200"/>
          </a:xfrm>
          <a:custGeom>
            <a:avLst/>
            <a:gdLst>
              <a:gd name="textAreaLeft" fmla="*/ 0 w 344160"/>
              <a:gd name="textAreaRight" fmla="*/ 344520 w 344160"/>
              <a:gd name="textAreaTop" fmla="*/ 0 h 448200"/>
              <a:gd name="textAreaBottom" fmla="*/ 448560 h 448200"/>
            </a:gdLst>
            <a:ahLst/>
            <a:rect l="textAreaLeft" t="textAreaTop" r="textAreaRight" b="textAreaBottom"/>
            <a:pathLst>
              <a:path w="900473" h="900473">
                <a:moveTo>
                  <a:pt x="347074" y="203047"/>
                </a:moveTo>
                <a:lnTo>
                  <a:pt x="692767" y="451973"/>
                </a:lnTo>
                <a:lnTo>
                  <a:pt x="347074" y="700898"/>
                </a:lnTo>
                <a:close/>
                <a:moveTo>
                  <a:pt x="450237" y="63807"/>
                </a:moveTo>
                <a:cubicBezTo>
                  <a:pt x="236817" y="63807"/>
                  <a:pt x="63807" y="236817"/>
                  <a:pt x="63807" y="450237"/>
                </a:cubicBezTo>
                <a:cubicBezTo>
                  <a:pt x="63807" y="663656"/>
                  <a:pt x="236817" y="836666"/>
                  <a:pt x="450237" y="836666"/>
                </a:cubicBezTo>
                <a:cubicBezTo>
                  <a:pt x="663656" y="836666"/>
                  <a:pt x="836666" y="663656"/>
                  <a:pt x="836666" y="450237"/>
                </a:cubicBezTo>
                <a:cubicBezTo>
                  <a:pt x="836666" y="236817"/>
                  <a:pt x="663656" y="63807"/>
                  <a:pt x="450237" y="63807"/>
                </a:cubicBezTo>
                <a:close/>
                <a:moveTo>
                  <a:pt x="450237" y="0"/>
                </a:moveTo>
                <a:cubicBezTo>
                  <a:pt x="698895" y="0"/>
                  <a:pt x="900473" y="201578"/>
                  <a:pt x="900473" y="450237"/>
                </a:cubicBezTo>
                <a:cubicBezTo>
                  <a:pt x="900473" y="698895"/>
                  <a:pt x="698895" y="900473"/>
                  <a:pt x="450237" y="900473"/>
                </a:cubicBezTo>
                <a:cubicBezTo>
                  <a:pt x="201578" y="900473"/>
                  <a:pt x="0" y="698895"/>
                  <a:pt x="0" y="450237"/>
                </a:cubicBezTo>
                <a:cubicBezTo>
                  <a:pt x="0" y="201578"/>
                  <a:pt x="201578" y="0"/>
                  <a:pt x="450237" y="0"/>
                </a:cubicBezTo>
                <a:close/>
              </a:path>
            </a:pathLst>
          </a:custGeom>
          <a:solidFill>
            <a:schemeClr val="accent1"/>
          </a:solidFill>
          <a:ln w="1270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Times New Roman"/>
              <a:ea typeface="微软雅黑"/>
            </a:endParaRPr>
          </a:p>
        </p:txBody>
      </p:sp>
      <p:sp>
        <p:nvSpPr>
          <p:cNvPr id="190" name="Rectangle 1"/>
          <p:cNvSpPr/>
          <p:nvPr/>
        </p:nvSpPr>
        <p:spPr>
          <a:xfrm>
            <a:off x="499320" y="4203000"/>
            <a:ext cx="4144320" cy="479160"/>
          </a:xfrm>
          <a:prstGeom prst="rect">
            <a:avLst/>
          </a:prstGeom>
          <a:noFill/>
          <a:ln w="9525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观察右边的插图，说说图中的小朋友在干什么，感受游戏的过程，并了解本次习作的话题是“记一次游戏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7"/>
          <p:cNvSpPr/>
          <p:nvPr/>
        </p:nvSpPr>
        <p:spPr>
          <a:xfrm>
            <a:off x="3535920" y="1352520"/>
            <a:ext cx="1827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借助插图，开拓选材的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图片 10" descr=""/>
          <p:cNvPicPr/>
          <p:nvPr/>
        </p:nvPicPr>
        <p:blipFill>
          <a:blip r:embed="rId1"/>
          <a:stretch/>
        </p:blipFill>
        <p:spPr>
          <a:xfrm>
            <a:off x="4716000" y="2468880"/>
            <a:ext cx="1872000" cy="1728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https://timgsa.baidu.com/timg?image&amp;quality=80&amp;size=b9999_10000&amp;sec=1554282730846&amp;di=f3f6f545823e33c609b572b3c7c87012&amp;imgtype=0&amp;src=http%3A%2F%2Fimg.mp.itc.cn%2Fupload%2F20170728%2F1d42f26a0c47495791741767ed223763_th.jpg"/>
          <p:cNvPicPr/>
          <p:nvPr/>
        </p:nvPicPr>
        <p:blipFill>
          <a:blip r:embed="rId2"/>
          <a:stretch/>
        </p:blipFill>
        <p:spPr>
          <a:xfrm>
            <a:off x="6804360" y="2468880"/>
            <a:ext cx="2016000" cy="172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https://timgsa.baidu.com/timg?image&amp;quality=80&amp;size=b9999_10000&amp;sec=1554282927746&amp;di=31c1d533c3eccac45b5018cc4465735f&amp;imgtype=0&amp;src=http%3A%2F%2Fimg.mp.itc.cn%2Fupload%2F20170610%2Fc0fbbb927fc94ac3b448c73fa9dd1617_th.jpg"/>
          <p:cNvPicPr/>
          <p:nvPr/>
        </p:nvPicPr>
        <p:blipFill>
          <a:blip r:embed="rId3"/>
          <a:stretch/>
        </p:blipFill>
        <p:spPr>
          <a:xfrm>
            <a:off x="4788000" y="4389120"/>
            <a:ext cx="1728000" cy="1823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https://timgsa.baidu.com/timg?image&amp;quality=80&amp;size=b9999_10000&amp;sec=1539331947456&amp;di=66ad207b6440144832f6dcdb7cb80b46&amp;imgtype=0&amp;src=http%3A%2F%2Fku.90sjimg.com%2Felement_origin_min_pic%2F17%2F03%2F19%2F0c1d6b0a449799c9bdf8d4a0b3947d13.jpg"/>
          <p:cNvPicPr/>
          <p:nvPr/>
        </p:nvPicPr>
        <p:blipFill>
          <a:blip r:embed="rId4"/>
          <a:stretch/>
        </p:blipFill>
        <p:spPr>
          <a:xfrm>
            <a:off x="6804360" y="4389120"/>
            <a:ext cx="2052360" cy="183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6,116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39,-127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6,116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39,-127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683640" y="3084840"/>
            <a:ext cx="8145000" cy="479160"/>
          </a:xfrm>
          <a:prstGeom prst="rect">
            <a:avLst/>
          </a:prstGeom>
          <a:noFill/>
          <a:ln w="9525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小组内互相交流，回忆游戏的过程，说一说：你当时的心情是怎样的呢？哪一次的游戏令你印象特别深刻？注意选择令你印象深刻的游戏说出来，两人或者几个人一起做过的游戏都可以，地点室内室外都可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ttps://photo.16pic.com/00/12/00/16pic_1200383_b.jpg"/>
          <p:cNvPicPr/>
          <p:nvPr/>
        </p:nvPicPr>
        <p:blipFill>
          <a:blip r:embed="rId1"/>
          <a:stretch/>
        </p:blipFill>
        <p:spPr>
          <a:xfrm>
            <a:off x="971640" y="644760"/>
            <a:ext cx="3419640" cy="2687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98" name="Picture 4"/>
          <p:cNvSpPr/>
          <p:nvPr/>
        </p:nvSpPr>
        <p:spPr>
          <a:xfrm>
            <a:off x="1187640" y="3525120"/>
            <a:ext cx="3168000" cy="2495880"/>
          </a:xfrm>
          <a:prstGeom prst="snip2DiagRect">
            <a:avLst>
              <a:gd name="adj1" fmla="val 0"/>
              <a:gd name="adj2" fmla="val 16667"/>
            </a:avLst>
          </a:prstGeom>
          <a:blipFill rotWithShape="0">
            <a:blip r:embed="rId2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88920" rotWithShape="0">
              <a:srgbClr val="000000">
                <a:alpha val="45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https://timgsa.baidu.com/timg?image&amp;quality=80&amp;size=b9999_10000&amp;sec=1554881818&amp;di=2f29121511f61d9de4a7220eeff7af64&amp;imgtype=jpg&amp;er=1&amp;src=http%3A%2F%2Fimg2.ph.126.net%2FkALs1A5eQVh3T_LRrpSaww%3D%3D%2F1105070758583788496.jpg"/>
          <p:cNvPicPr/>
          <p:nvPr/>
        </p:nvPicPr>
        <p:blipFill>
          <a:blip r:embed="rId3"/>
          <a:stretch/>
        </p:blipFill>
        <p:spPr>
          <a:xfrm>
            <a:off x="4787640" y="740520"/>
            <a:ext cx="3024000" cy="22078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200" name="Picture 8" descr="https://timgsa.baidu.com/timg?image&amp;quality=80&amp;size=b9999_10000&amp;sec=1554287471728&amp;di=7b323b0308baa264a93f1c8500dc8fc8&amp;imgtype=0&amp;src=http%3A%2F%2F7xod2q.com2.z0.glb.qiniucdn.com%2F20151118144350_7_60cc84b31a60552b5e8e3fbeda48732d.jpg"/>
          <p:cNvPicPr/>
          <p:nvPr/>
        </p:nvPicPr>
        <p:blipFill>
          <a:blip r:embed="rId4"/>
          <a:stretch/>
        </p:blipFill>
        <p:spPr>
          <a:xfrm>
            <a:off x="5436000" y="3332880"/>
            <a:ext cx="2160000" cy="25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467640" y="3455280"/>
            <a:ext cx="8145000" cy="890640"/>
          </a:xfrm>
          <a:prstGeom prst="rect">
            <a:avLst/>
          </a:prstGeom>
          <a:noFill/>
          <a:ln w="9525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个人首先在脑海里会想自己想写的游戏是什么，注意不但要想“是什么时候的事”“在哪儿经历的”“和谁经历的”“过程是什么”这些基本信息，还要回想过程的细节，什么地方让自己觉得印象最深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7"/>
          <p:cNvSpPr/>
          <p:nvPr/>
        </p:nvSpPr>
        <p:spPr>
          <a:xfrm>
            <a:off x="3658320" y="626040"/>
            <a:ext cx="1827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回忆游戏的过程，尝试习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6,116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39,-127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6,116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39,-127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"/>
          <p:cNvSpPr/>
          <p:nvPr/>
        </p:nvSpPr>
        <p:spPr>
          <a:xfrm>
            <a:off x="499320" y="2903040"/>
            <a:ext cx="8145000" cy="479160"/>
          </a:xfrm>
          <a:prstGeom prst="rect">
            <a:avLst/>
          </a:prstGeom>
          <a:noFill/>
          <a:ln w="9525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小组内讲述、交流自己游戏的过程。交流时注意把游戏前，你做过哪些准备？游戏中，你做了些什么？印象比较深的是什么？游戏结束后，你有什么想法和感受？这几个方面说清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499320" y="2799000"/>
            <a:ext cx="8145000" cy="890640"/>
          </a:xfrm>
          <a:prstGeom prst="rect">
            <a:avLst/>
          </a:prstGeom>
          <a:noFill/>
          <a:ln w="9525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在说的基础上，把游戏的过程写下来。注意写清楚“游戏前”“游戏中”“游戏后”这些基本信息；可以按时间顺序介绍游戏的过程，可以用上“先”“接着”“然后”这些连接语，自己觉得印象最深刻的部分，可以多写几句话，要注意正确使用标点符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"/>
          <p:cNvSpPr/>
          <p:nvPr/>
        </p:nvSpPr>
        <p:spPr>
          <a:xfrm>
            <a:off x="611640" y="2883240"/>
            <a:ext cx="3384000" cy="479160"/>
          </a:xfrm>
          <a:prstGeom prst="rect">
            <a:avLst/>
          </a:prstGeom>
          <a:noFill/>
          <a:ln w="9525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写好后，给习作拟一个题目，最好能反映自己的感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http://mmbiz.qpic.cn/mmbiz_jpg/dPSL4Gx7ukkIakByFX8B34k2UGHCffKJmOicO0QbTIARLNNRSTwdsJJO9cH6mvodTdAOPSmicOVOUV11oqobTRFw/640?wx_fmt=jpeg"/>
          <p:cNvPicPr/>
          <p:nvPr/>
        </p:nvPicPr>
        <p:blipFill>
          <a:blip r:embed="rId1"/>
          <a:stretch/>
        </p:blipFill>
        <p:spPr>
          <a:xfrm>
            <a:off x="4662720" y="1502640"/>
            <a:ext cx="3971880" cy="46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​">
  <a:themeElements>
    <a:clrScheme name="自定义 159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02b3c5"/>
      </a:accent1>
      <a:accent2>
        <a:srgbClr val="f07474"/>
      </a:accent2>
      <a:accent3>
        <a:srgbClr val="ffbf53"/>
      </a:accent3>
      <a:accent4>
        <a:srgbClr val="673b77"/>
      </a:accent4>
      <a:accent5>
        <a:srgbClr val="00b9fa"/>
      </a:accent5>
      <a:accent6>
        <a:srgbClr val="bece37"/>
      </a:accent6>
      <a:hlink>
        <a:srgbClr val="b381d9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​">
  <a:themeElements>
    <a:clrScheme name="自定义 159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02b3c5"/>
      </a:accent1>
      <a:accent2>
        <a:srgbClr val="f07474"/>
      </a:accent2>
      <a:accent3>
        <a:srgbClr val="ffbf53"/>
      </a:accent3>
      <a:accent4>
        <a:srgbClr val="673b77"/>
      </a:accent4>
      <a:accent5>
        <a:srgbClr val="00b9fa"/>
      </a:accent5>
      <a:accent6>
        <a:srgbClr val="bece37"/>
      </a:accent6>
      <a:hlink>
        <a:srgbClr val="b381d9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​">
  <a:themeElements>
    <a:clrScheme name="自定义 159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02b3c5"/>
      </a:accent1>
      <a:accent2>
        <a:srgbClr val="f07474"/>
      </a:accent2>
      <a:accent3>
        <a:srgbClr val="ffbf53"/>
      </a:accent3>
      <a:accent4>
        <a:srgbClr val="673b77"/>
      </a:accent4>
      <a:accent5>
        <a:srgbClr val="00b9fa"/>
      </a:accent5>
      <a:accent6>
        <a:srgbClr val="bece37"/>
      </a:accent6>
      <a:hlink>
        <a:srgbClr val="b381d9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第一PPT模板网-WWW.1PPT.COM​">
  <a:themeElements>
    <a:clrScheme name="自定义 159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02b3c5"/>
      </a:accent1>
      <a:accent2>
        <a:srgbClr val="f07474"/>
      </a:accent2>
      <a:accent3>
        <a:srgbClr val="ffbf53"/>
      </a:accent3>
      <a:accent4>
        <a:srgbClr val="673b77"/>
      </a:accent4>
      <a:accent5>
        <a:srgbClr val="00b9fa"/>
      </a:accent5>
      <a:accent6>
        <a:srgbClr val="bece37"/>
      </a:accent6>
      <a:hlink>
        <a:srgbClr val="b381d9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02b3c5"/>
      </a:accent1>
      <a:accent2>
        <a:srgbClr val="f07474"/>
      </a:accent2>
      <a:accent3>
        <a:srgbClr val="ffbf53"/>
      </a:accent3>
      <a:accent4>
        <a:srgbClr val="673b77"/>
      </a:accent4>
      <a:accent5>
        <a:srgbClr val="00b9fa"/>
      </a:accent5>
      <a:accent6>
        <a:srgbClr val="bece37"/>
      </a:accent6>
      <a:hlink>
        <a:srgbClr val="b381d9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000120150324A09KPBG</Template>
  <TotalTime>0</TotalTime>
  <Application>LibreOffice/7.4.7.2$Linux_X86_64 LibreOffice_project/40$Build-2</Application>
  <AppVersion>15.0000</AppVersion>
  <Words>1264</Words>
  <Paragraphs>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2:28:00Z</dcterms:created>
  <dc:creator/>
  <dc:description/>
  <cp:keywords>第一PPT模板网-WWW.1PPT.COM</cp:keywords>
  <dc:language>en-US</dc:language>
  <cp:lastModifiedBy/>
  <dcterms:modified xsi:type="dcterms:W3CDTF">2019-08-11T00:33:46Z</dcterms:modified>
  <cp:revision>2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61</vt:lpwstr>
  </property>
  <property fmtid="{D5CDD505-2E9C-101B-9397-08002B2CF9AE}" pid="3" name="Notes">
    <vt:r8>13</vt:r8>
  </property>
  <property fmtid="{D5CDD505-2E9C-101B-9397-08002B2CF9AE}" pid="4" name="PresentationFormat">
    <vt:lpwstr>全屏显示(4:3)</vt:lpwstr>
  </property>
  <property fmtid="{D5CDD505-2E9C-101B-9397-08002B2CF9AE}" pid="5" name="Slides">
    <vt:r8>15</vt:r8>
  </property>
</Properties>
</file>