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37F2-A3F4-46FC-A5AE-E87515F7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42092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69360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B93F-CA59-4B21-B1C3-987DF638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42092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42092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69360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69360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28E4-AEDA-4A13-98DF-CFAD44DF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42092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080" y="142092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42092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69360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080" y="369360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369360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D9A9-CE3D-442F-8F03-C5D7C1B3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6D05-52FC-480A-83BA-E4CF3014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42092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8683-448E-4468-864B-81402145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42092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4C7D-0ED0-490F-BD5E-EAF8283F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42092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42092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F7D7-23E3-4AE5-8C52-10BF36CE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C30E-E020-4C13-923A-3387F5BE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2E69-00C9-4541-BA7C-AD2A0A5B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42092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42092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69360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8655-1D75-4CA0-B568-F0156674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42092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C2E7-EF1E-4FE1-8096-22E5134B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42092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42092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69360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09AD-7D93-4F62-839C-FDD51EB5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42092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42092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69360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D289-3883-4377-BF42-47CC7F25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42092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69360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51D3-74AF-4452-BB87-1269B50B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42092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42092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69360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69360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523F-6EA3-45E7-8E4E-ADD0DB6E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42092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080" y="142092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1240" y="142092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69360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080" y="369360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1240" y="369360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6678-945A-4A08-A066-7DD455474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42092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6878-41C7-498D-972B-38700E52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42092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42092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2F67-9548-4E95-B04A-75C8AA32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E13E-BB65-48BE-875A-6E79C81E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C618-9794-466B-B93E-DE1F3D02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42092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42092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69360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08D0-26B9-4310-9AF8-2BFE02BA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42092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42092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69360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355-67C7-431C-B49E-05E780AD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42092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42092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69360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733C-2DCF-4EB5-8296-B8554200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2C62A0-1FC2-4342-B787-C61A7E7ED95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42092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D6D0B6-5C6C-4A7A-B19F-40592F2B521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QQ图片20020101011045.png"/>
          <p:cNvPicPr/>
          <p:nvPr/>
        </p:nvPicPr>
        <p:blipFill>
          <a:blip r:embed="rId1"/>
          <a:stretch/>
        </p:blipFill>
        <p:spPr>
          <a:xfrm>
            <a:off x="1409760" y="2460600"/>
            <a:ext cx="6324120" cy="326808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1"/>
          <p:cNvSpPr/>
          <p:nvPr/>
        </p:nvSpPr>
        <p:spPr>
          <a:xfrm>
            <a:off x="0" y="109548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看图画，写作文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2892960" y="5955480"/>
            <a:ext cx="33573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7200" y="1676520"/>
            <a:ext cx="588600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谢谢观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82600" y="2073240"/>
            <a:ext cx="8229240" cy="2784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ts val="4000"/>
              </a:lnSpc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仔细观察图画，介绍清楚图画表现的内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ts val="4000"/>
              </a:lnSpc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学习运用多种写作手法丰富习作的内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ts val="4000"/>
              </a:lnSpc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培养观察能力和想象能力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圆角矩形 3"/>
          <p:cNvSpPr/>
          <p:nvPr/>
        </p:nvSpPr>
        <p:spPr>
          <a:xfrm>
            <a:off x="446040" y="1006560"/>
            <a:ext cx="2679480" cy="655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3175">
            <a:solidFill>
              <a:srgbClr val="92d050"/>
            </a:solidFill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7" name="文本框 9"/>
          <p:cNvSpPr/>
          <p:nvPr/>
        </p:nvSpPr>
        <p:spPr>
          <a:xfrm>
            <a:off x="1101600" y="1041480"/>
            <a:ext cx="1920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写作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0" descr="目标"/>
          <p:cNvPicPr/>
          <p:nvPr/>
        </p:nvPicPr>
        <p:blipFill>
          <a:blip r:embed="rId1"/>
          <a:stretch/>
        </p:blipFill>
        <p:spPr>
          <a:xfrm>
            <a:off x="446040" y="1006560"/>
            <a:ext cx="655200" cy="655200"/>
          </a:xfrm>
          <a:prstGeom prst="rect">
            <a:avLst/>
          </a:prstGeom>
          <a:ln w="0">
            <a:noFill/>
          </a:ln>
        </p:spPr>
      </p:pic>
      <p:pic>
        <p:nvPicPr>
          <p:cNvPr id="89" name="图片 5" descr="0022005543971992_b.jpg"/>
          <p:cNvPicPr/>
          <p:nvPr/>
        </p:nvPicPr>
        <p:blipFill>
          <a:blip r:embed="rId2"/>
          <a:stretch/>
        </p:blipFill>
        <p:spPr>
          <a:xfrm>
            <a:off x="4173480" y="3921120"/>
            <a:ext cx="2674440" cy="205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36600" y="1862280"/>
            <a:ext cx="8229240" cy="4470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ts val="4000"/>
              </a:lnSpc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仔细观察图画，想一想：图画上有哪些人？他们在干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ts val="4000"/>
              </a:lnSpc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了解图画的大致内容后，再进行观察。注意图画上的人物的动作是怎样的？他们可能说了哪些话？发挥自己的想象，与同学交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ts val="4000"/>
              </a:lnSpc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按照交流的情况，写一段话介绍这幅图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4000"/>
              </a:lnSpc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圆角矩形 7"/>
          <p:cNvSpPr/>
          <p:nvPr/>
        </p:nvSpPr>
        <p:spPr>
          <a:xfrm>
            <a:off x="446040" y="933480"/>
            <a:ext cx="2679480" cy="655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3175">
            <a:solidFill>
              <a:srgbClr val="92d050"/>
            </a:solidFill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2" name="文本框 9"/>
          <p:cNvSpPr/>
          <p:nvPr/>
        </p:nvSpPr>
        <p:spPr>
          <a:xfrm>
            <a:off x="1133640" y="941400"/>
            <a:ext cx="1920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写作指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内容占位符 5" descr="作业指导书"/>
          <p:cNvPicPr/>
          <p:nvPr/>
        </p:nvPicPr>
        <p:blipFill>
          <a:blip r:embed="rId1"/>
          <a:stretch/>
        </p:blipFill>
        <p:spPr>
          <a:xfrm>
            <a:off x="446040" y="905040"/>
            <a:ext cx="67752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57120" y="1733400"/>
            <a:ext cx="8429400" cy="471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ts val="4000"/>
              </a:lnSpc>
              <a:spcAft>
                <a:spcPts val="1199"/>
              </a:spcAft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放风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ts val="4000"/>
              </a:lnSpc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在一个阳光灿烂的星期天，小丽、明明和小华一起到公园去放风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ts val="4000"/>
              </a:lnSpc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公园里景色迷人：蔚蓝的天空中飘着几朵棉花糖一样的白云，绿油油的草坪一望无际。小丽带来了她心爱的蝴蝶风筝，色彩斑斓，好看极了。明明和小华则捧来了他们一起做的燕子风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ts val="4000"/>
              </a:lnSpc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圆角矩形 7"/>
          <p:cNvSpPr/>
          <p:nvPr/>
        </p:nvSpPr>
        <p:spPr>
          <a:xfrm>
            <a:off x="446040" y="1006560"/>
            <a:ext cx="2679480" cy="655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3175">
            <a:solidFill>
              <a:srgbClr val="92d050"/>
            </a:solidFill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6" name="文本框 9"/>
          <p:cNvSpPr/>
          <p:nvPr/>
        </p:nvSpPr>
        <p:spPr>
          <a:xfrm>
            <a:off x="1133640" y="1041480"/>
            <a:ext cx="1920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范文评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内容占位符 4" descr="名师辅导"/>
          <p:cNvPicPr/>
          <p:nvPr/>
        </p:nvPicPr>
        <p:blipFill>
          <a:blip r:embed="rId1"/>
          <a:stretch/>
        </p:blipFill>
        <p:spPr>
          <a:xfrm>
            <a:off x="430200" y="988920"/>
            <a:ext cx="817200" cy="74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071720"/>
            <a:ext cx="8229240" cy="424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ts val="4000"/>
              </a:lnSpc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公园里放风筝的人还真不少！远处有一个小朋友，只见他牵着风筝的绳子，迎着微风一路小跑，风筝就在空中慢悠悠地跳起舞来。小朋友的爸爸妈妈看着小朋友兴奋的样子，也露出了笑容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ts val="4000"/>
              </a:lnSpc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天上还有一只红彤彤的金鱼风筝，微风吹来，“金鱼”仿佛在水里游动。忽然又飞过一只“雄鹰”，哎呀！还有一只威武的“巨龙”呢！真神气！看着看着，明明和小华的手也痒痒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25680"/>
            <a:ext cx="8229240" cy="3647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ts val="4000"/>
              </a:lnSpc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小华把燕子风筝举过头顶，明明扯着风筝线，说：“待会儿我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，你就松手。”小华点点头。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！”燕子风筝挥着翅膀升上了天空，它忽上忽下，像和小鸟在一起嬉戏、玩耍，像和白云一起捉迷藏。他们玩得真开心啊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28760" y="1214280"/>
            <a:ext cx="7854480" cy="471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ts val="4000"/>
              </a:lnSpc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点评：本文是一篇看图作文，图画的内容是一群小朋友在放风筝。本文除了描绘图画上的内容，还结合了作者自己的想象，比如风筝飞上天的姿态、小朋友的反应等。文章还运用了许多修辞手法，形象生动，想象丰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图片 2" descr="26910212_090023782000_2.jpg"/>
          <p:cNvPicPr/>
          <p:nvPr/>
        </p:nvPicPr>
        <p:blipFill>
          <a:blip r:embed="rId1"/>
          <a:stretch/>
        </p:blipFill>
        <p:spPr>
          <a:xfrm>
            <a:off x="6404040" y="4089240"/>
            <a:ext cx="1964880" cy="18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46040" y="2030400"/>
            <a:ext cx="8030880" cy="369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ts val="3801"/>
              </a:lnSpc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到了公园，我看见天上飞着好多风筝，有红的、黄的、绿的、白的，五颜六色，飞得可高了。不知道我的是否也能像他们飞得一样高，哦，不只是一样高，还要比他们的更高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ts val="3801"/>
              </a:lnSpc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天空中飘荡着各式各样的风筝，它们颤颤悠悠，互比高低，都在向着蓝天，向着白云，向着未来展翅飞翔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圆角矩形 7"/>
          <p:cNvSpPr/>
          <p:nvPr/>
        </p:nvSpPr>
        <p:spPr>
          <a:xfrm>
            <a:off x="446040" y="1006560"/>
            <a:ext cx="2679480" cy="655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3175">
            <a:solidFill>
              <a:srgbClr val="92d050"/>
            </a:solidFill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4" name="文本框 9"/>
          <p:cNvSpPr/>
          <p:nvPr/>
        </p:nvSpPr>
        <p:spPr>
          <a:xfrm>
            <a:off x="1174680" y="1033560"/>
            <a:ext cx="1920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素材积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内容占位符 5" descr="素材库"/>
          <p:cNvPicPr/>
          <p:nvPr/>
        </p:nvPicPr>
        <p:blipFill>
          <a:blip r:embed="rId1"/>
          <a:stretch/>
        </p:blipFill>
        <p:spPr>
          <a:xfrm>
            <a:off x="446040" y="961920"/>
            <a:ext cx="728280" cy="72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3680" y="1650960"/>
            <a:ext cx="8079840" cy="2136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ts val="3801"/>
              </a:lnSpc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远处，三三两两的小朋友正兴致勃勃、全神贯注地放着自己喜爱的风筝，他们拉着风筝线，风筝一会儿高，一会儿低，像是在翩翩起舞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  <Words>1093</Words>
  <Paragraphs>3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9T05:09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8-12-20T08:34:51Z</dcterms:modified>
  <cp:revision>52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68</vt:lpwstr>
  </property>
  <property fmtid="{D5CDD505-2E9C-101B-9397-08002B2CF9AE}" pid="3" name="Notes">
    <vt:r8>1</vt:r8>
  </property>
  <property fmtid="{D5CDD505-2E9C-101B-9397-08002B2CF9AE}" pid="4" name="PresentationFormat">
    <vt:lpwstr>全屏显示(4:3)</vt:lpwstr>
  </property>
  <property fmtid="{D5CDD505-2E9C-101B-9397-08002B2CF9AE}" pid="5" name="Slides">
    <vt:r8>11</vt:r8>
  </property>
</Properties>
</file>