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E08A4C-C331-454C-A9DD-B3D86E110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8BFB2E-0766-40AE-A48D-3F3EC76A877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7282A8-98EE-4101-B8DD-AB2A13CB593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ED5-E32F-47E0-BAD9-2A085F9B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80B-EFAD-4611-982B-79BC5230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0DE3-B199-482B-A995-2F5B9C41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BEFD-3086-4CE8-8448-795C7D7B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2813-398D-41A1-9378-4558BD61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FECE-A415-404F-9463-7417B8CF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B4901-446E-407C-ABE6-FE5E90AF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A26C-9542-4B5A-AE28-E67516CF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39C3-F59D-4B69-A08F-5CD799C1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EB32-72CB-46BE-BAEA-20387466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E71F-D2E7-453C-8DD7-B523334D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293F-3516-40FF-89EA-3E9A8179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2729-37CE-406E-B589-7B454D04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A3F9-08F6-4355-A2EB-7D50DDBD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1458-DCB6-4B6E-A628-8126803C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AADD-5478-435E-A6BE-65AE58DA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DB4F-C4BF-497A-8BCE-F1E3C7994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6209D-175A-48A3-97B1-11F799FB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E8599-4334-4FFC-BEAE-338ACF5D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64CA2-E8FB-41F6-B574-59D0405D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62953-4623-483F-8EB4-E3D9C218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1F474-65F3-4B6E-849B-01997F07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92A-AD7F-4C51-A2D2-AF1FC7A7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59E3-7217-4942-A0E6-8C21675E3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6046C-D64A-4D9E-8EA4-2AF971EC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26784-D846-4038-9DE0-61BE5BB1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4DB4F-7F67-4EBB-B92B-D4D051ED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0583D-817E-403F-A898-99B49D39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D9686-25D3-48AA-8263-53D538633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5ECE8-9BD3-4EEC-98F3-7C07B016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B5660-B55F-459F-94DA-D1C373C9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13EAF-1612-48D3-9014-EC369220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BAA04-778F-4498-AA92-B1CD32B9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D280-90E3-4252-801E-3F3216DD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A549E-E5E8-4416-AA81-B1313A84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BA009-C5C2-4A0D-AA0B-BA1C7C7D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37FB4-CFAA-487A-ACB9-B0A22275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DDC64-B951-4802-A115-6988DE2F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3C5C0-1E69-42B8-A428-48C1AC02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91AC2-2773-44CF-B4F0-AFF914A4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C161A-AEEF-4CB5-8872-FEB7788D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9877F-AC4E-4F59-9288-11FA7822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773CA-8648-4682-90A7-A6711142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E92AE-017E-4504-AB3E-7B048694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095D-737F-42E9-94E3-128B458D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3B5A3-CD73-4BDE-8E7A-9BF518B8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AF7F9-F8B2-42F9-8C92-02FB5F64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162BE-5288-43FC-B9DF-018B2578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E88C7-133A-436D-BFEB-E56EBFF6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309E7-5344-4977-995A-67D1B237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C21B4-7029-4E8A-88D3-64CD5292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B9D49-DA3F-4F58-8381-94B890A2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2A030-47AD-4432-A237-EB50D7F9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B6EC8-06CE-48CA-9724-924B4118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E52D7-0A4D-4ECA-91DB-654988F19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C214-4D3C-4364-90D1-938CB88A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4C932-822D-412D-88D0-27638C30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8BA5-6DEF-480D-83BB-775746B4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002-FCA0-43B4-AD57-B2F6CA00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D24-E9C1-4581-A7B0-E5F9454F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92888A-FE4D-4B91-A4F0-0F6A1F7DE4E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52DA52-1505-49B2-A4EC-0DAF37DD5E3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0529B4-4BA7-44E3-8879-032A9779B3D6}" type="slidenum">
              <a:rPr b="0" lang="en-US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8C4292-5B60-4CDB-A673-C0388D9488F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CC9B917-1762-43BA-B077-59415B9C48B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文本框 13"/>
          <p:cNvSpPr/>
          <p:nvPr/>
        </p:nvSpPr>
        <p:spPr>
          <a:xfrm>
            <a:off x="10761840" y="2340000"/>
            <a:ext cx="1839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2" name="文本框 14"/>
          <p:cNvSpPr/>
          <p:nvPr/>
        </p:nvSpPr>
        <p:spPr>
          <a:xfrm>
            <a:off x="10561680" y="4170240"/>
            <a:ext cx="1839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cxnSp>
        <p:nvCxnSpPr>
          <p:cNvPr id="213" name="直接连接符 19"/>
          <p:cNvCxnSpPr/>
          <p:nvPr/>
        </p:nvCxnSpPr>
        <p:spPr>
          <a:xfrm>
            <a:off x="819000" y="6303960"/>
            <a:ext cx="7506000" cy="360"/>
          </a:xfrm>
          <a:prstGeom prst="straightConnector1">
            <a:avLst/>
          </a:prstGeom>
          <a:ln w="12700">
            <a:solidFill>
              <a:srgbClr val="008000"/>
            </a:solidFill>
            <a:round/>
          </a:ln>
        </p:spPr>
      </p:cxnSp>
      <p:sp>
        <p:nvSpPr>
          <p:cNvPr id="214" name="矩形 13"/>
          <p:cNvSpPr/>
          <p:nvPr/>
        </p:nvSpPr>
        <p:spPr>
          <a:xfrm>
            <a:off x="2259000" y="2340000"/>
            <a:ext cx="4851000" cy="363960"/>
          </a:xfrm>
          <a:prstGeom prst="rect">
            <a:avLst/>
          </a:prstGeom>
          <a:noFill/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dk1"/>
          </a:lnRef>
          <a:fillRef idx="3">
            <a:schemeClr val="dk1"/>
          </a:fillRef>
          <a:effectRef idx="2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讲 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3"/>
          <p:cNvSpPr/>
          <p:nvPr/>
        </p:nvSpPr>
        <p:spPr>
          <a:xfrm>
            <a:off x="0" y="789120"/>
            <a:ext cx="9143640" cy="363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第一单元 口语交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7"/>
          <p:cNvSpPr/>
          <p:nvPr/>
        </p:nvSpPr>
        <p:spPr>
          <a:xfrm>
            <a:off x="3005640" y="5182920"/>
            <a:ext cx="3357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14"/>
          <p:cNvSpPr/>
          <p:nvPr/>
        </p:nvSpPr>
        <p:spPr>
          <a:xfrm>
            <a:off x="10561680" y="4170240"/>
            <a:ext cx="1839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3413160" y="247680"/>
            <a:ext cx="467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示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"/>
          <p:cNvSpPr/>
          <p:nvPr/>
        </p:nvSpPr>
        <p:spPr>
          <a:xfrm>
            <a:off x="243000" y="247680"/>
            <a:ext cx="8900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一）我经历过的一件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童年的闸子中，有许许多多和事情呈现在我眼前，有些事已变模糊；有些却已在我脑海里留下了深刻的印象。现在我就挑一件事来告诉大家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记得那是一个严寒的冬天，北风凛冽。我和我的好朋友许家铃在我奶奶家讨论一道奥数题。我们争一身是胆面红耳赤，却没有吵出结果来。我倔强地说：“本来就是这样做的嘛！”她的犟脾气上来了：“不对不对！”然后，我们越吵越凶，就谁也不理谁了。晚上，我睡在床上辗转反侧，心里懊恼，后悔地想：我真是太不应该了，应该听听她的解题思路再做打算，唉！失去了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本框 14"/>
          <p:cNvSpPr/>
          <p:nvPr/>
        </p:nvSpPr>
        <p:spPr>
          <a:xfrm>
            <a:off x="10561680" y="4170240"/>
            <a:ext cx="1839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3" name="TextBox 13"/>
          <p:cNvSpPr/>
          <p:nvPr/>
        </p:nvSpPr>
        <p:spPr>
          <a:xfrm>
            <a:off x="3413160" y="247680"/>
            <a:ext cx="467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示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"/>
          <p:cNvSpPr/>
          <p:nvPr/>
        </p:nvSpPr>
        <p:spPr>
          <a:xfrm>
            <a:off x="0" y="15840"/>
            <a:ext cx="914364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个朝夕相处的好朋友，如果我向她道歉的话，她肯定瞧不起我，但是，我不和她道歉的话，心里就会难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想着想着，就迷迷糊糊地睡着了第二天，我做出决定：向她道歉。我走在路上，恰好遇见她了，我们两个竟然不约而同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说：“对不起。”我不好意思地说：“对不起，昨天是我错了，我应该听听你的解题思路，原谅我好吗？我们和好吧，好朋友是不应该为一点细小的事而争吵。”只见她脸红地说：“对不起，我应该让你原谅我。我们和好好吗？”我兴奋得一蹦三尺高：“好！我们和好吧！”说完，我们互相南了一下掌，还异口同声地说：“耶！”我们和好以后，又在讨论那道让我们绝交的题了。这时，我们互相听互相的解题思路，再也不吵了。最后，那道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文本框 14"/>
          <p:cNvSpPr/>
          <p:nvPr/>
        </p:nvSpPr>
        <p:spPr>
          <a:xfrm>
            <a:off x="10561680" y="4170240"/>
            <a:ext cx="1839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6" name="TextBox 13"/>
          <p:cNvSpPr/>
          <p:nvPr/>
        </p:nvSpPr>
        <p:spPr>
          <a:xfrm>
            <a:off x="3413160" y="247680"/>
            <a:ext cx="467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示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"/>
          <p:cNvSpPr/>
          <p:nvPr/>
        </p:nvSpPr>
        <p:spPr>
          <a:xfrm>
            <a:off x="200160" y="237960"/>
            <a:ext cx="75052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终于在我们齐心协力下被攻克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就是这们一件小事让我难以忘记。从这件事当中，我懂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了：真正的好朋友不会因为一点小事而绝交，做任何事，都要有头脑，冷静一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460760" y="2814480"/>
            <a:ext cx="3630240" cy="3379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文本框 13"/>
          <p:cNvSpPr/>
          <p:nvPr/>
        </p:nvSpPr>
        <p:spPr>
          <a:xfrm>
            <a:off x="10761840" y="2340000"/>
            <a:ext cx="1839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0" name="文本框 14"/>
          <p:cNvSpPr/>
          <p:nvPr/>
        </p:nvSpPr>
        <p:spPr>
          <a:xfrm>
            <a:off x="10561680" y="4170240"/>
            <a:ext cx="1839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3413160" y="247680"/>
            <a:ext cx="467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示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"/>
          <p:cNvSpPr/>
          <p:nvPr/>
        </p:nvSpPr>
        <p:spPr>
          <a:xfrm>
            <a:off x="0" y="130320"/>
            <a:ext cx="9143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二）我印象最深的一次出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给我印象最深的一次旅游是二年级时去的青岛。虽然已经去过很多次的，但算得上是半个青岛人了，但那一次玩的是最尽兴的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二年级暑假，我和妈妈来到了青岛，我就像回到了故乡一般，在那里大呼小叫的，让人们都像看怪物一似的看我。我那样的开心是因为我们要在这里住两个星期，以前，在这里待也就是待一两天，所以，当我听到这个消息后，在车上就不安分起来。第一天的行程是先到宾馆安排好住处，再去海里游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安排好后，在下午两点多时，我和妈妈带好东西，就跟着旅行团出发了。到了海边，我在换衣间里熟练地换上泳装，又去浴室被凉水冲透，之后和妈妈一起向大海奔去。由于我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文本框 13"/>
          <p:cNvSpPr/>
          <p:nvPr/>
        </p:nvSpPr>
        <p:spPr>
          <a:xfrm>
            <a:off x="10761840" y="2340000"/>
            <a:ext cx="1839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4" name="文本框 14"/>
          <p:cNvSpPr/>
          <p:nvPr/>
        </p:nvSpPr>
        <p:spPr>
          <a:xfrm>
            <a:off x="10561680" y="4170240"/>
            <a:ext cx="1839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3413160" y="247680"/>
            <a:ext cx="467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示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"/>
          <p:cNvSpPr/>
          <p:nvPr/>
        </p:nvSpPr>
        <p:spPr>
          <a:xfrm>
            <a:off x="228600" y="130320"/>
            <a:ext cx="874692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妈妈的功夫不深，只能在离沙滩和近的地方游。在这水天一色的地方望着天空中零零散散的几朵白云，真是一种享受。这片海我每次去都有不同的感觉，这次，我觉得更美了。万里波涛浩浩荡荡，白色的海鸥在湛蓝的海面上盘旋。那几片棉花似的云朵，白得发亮，白得透明。从地平线滚滚而来的浪，像个顽皮的孩子，刚一触摸到岸边的礁石、沙滩，又害羞似的退了回去，然后又扑上来。那飞花碎玉般溅起的浪花，多像一朵朵白花撒在蓝色的锦缎上。我在这美丽的海上自由地游，把一切的一切都忘记，在那里只有开心。被烈日晒的温和的海洋把我刚刚冲凉的身体包围，使我温暖一些，这感觉就像冬天喝的一杯热茶，一股温流涌上心头。在这无边无际的大海中游了三个半小时后，我们依依不舍地离开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87520" y="23860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文本框 1"/>
          <p:cNvSpPr/>
          <p:nvPr/>
        </p:nvSpPr>
        <p:spPr>
          <a:xfrm>
            <a:off x="468360" y="476280"/>
            <a:ext cx="8175240" cy="363960"/>
          </a:xfrm>
          <a:prstGeom prst="rect">
            <a:avLst/>
          </a:prstGeom>
          <a:noFill/>
          <a:ln w="28575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同学们，记得春晚中曾经有一句话流行了很久：一句话可以成事，一句话也可以败事。这足以说明语言在人与人交往中的重要作用，它能够传递信息，沟通感情。而讲述就是其中关键的一环，它能够帮助人们互相了解，真心以对。今天，我们就来学习在口语交际中如何讲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7596360" y="4437000"/>
            <a:ext cx="1201320" cy="20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同侧圆角矩形 4"/>
          <p:cNvSpPr/>
          <p:nvPr/>
        </p:nvSpPr>
        <p:spPr>
          <a:xfrm>
            <a:off x="484200" y="757080"/>
            <a:ext cx="1999800" cy="515520"/>
          </a:xfrm>
          <a:custGeom>
            <a:avLst/>
            <a:gdLst>
              <a:gd name="textAreaLeft" fmla="*/ 0 w 1999800"/>
              <a:gd name="textAreaRight" fmla="*/ 2000160 w 1999800"/>
              <a:gd name="textAreaTop" fmla="*/ 0 h 515520"/>
              <a:gd name="textAreaBottom" fmla="*/ 515880 h 515520"/>
            </a:gdLst>
            <a:ahLst/>
            <a:rect l="textAreaLeft" t="textAreaTop" r="textAreaRight" b="textAreaBottom"/>
            <a:pathLst>
              <a:path w="2000609" h="516419">
                <a:moveTo>
                  <a:pt x="86072" y="0"/>
                </a:moveTo>
                <a:lnTo>
                  <a:pt x="1914537" y="0"/>
                </a:lnTo>
                <a:cubicBezTo>
                  <a:pt x="1962073" y="0"/>
                  <a:pt x="2000609" y="38536"/>
                  <a:pt x="2000609" y="86072"/>
                </a:cubicBezTo>
                <a:lnTo>
                  <a:pt x="2000609" y="516419"/>
                </a:lnTo>
                <a:lnTo>
                  <a:pt x="0" y="516419"/>
                </a:lnTo>
                <a:lnTo>
                  <a:pt x="0" y="86072"/>
                </a:lnTo>
                <a:cubicBezTo>
                  <a:pt x="0" y="38536"/>
                  <a:pt x="38536" y="0"/>
                  <a:pt x="86072" y="0"/>
                </a:cubicBezTo>
                <a:close/>
              </a:path>
            </a:pathLst>
          </a:custGeom>
          <a:gradFill rotWithShape="0">
            <a:gsLst>
              <a:gs pos="0">
                <a:srgbClr val="dae7ff"/>
              </a:gs>
              <a:gs pos="100000">
                <a:srgbClr val="f0f5ff"/>
              </a:gs>
            </a:gsLst>
            <a:lin ang="5400000"/>
          </a:gradFill>
          <a:ln w="0">
            <a:noFill/>
          </a:ln>
          <a:effectLst>
            <a:outerShdw algn="ctr" dir="5400000" dist="2016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交际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"/>
          <p:cNvSpPr/>
          <p:nvPr/>
        </p:nvSpPr>
        <p:spPr>
          <a:xfrm>
            <a:off x="395280" y="1628640"/>
            <a:ext cx="8248320" cy="1324080"/>
          </a:xfrm>
          <a:prstGeom prst="rect">
            <a:avLst/>
          </a:prstGeom>
          <a:noFill/>
          <a:ln w="28575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了解什么叫讲述，了解讲述在口语交际中的重要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学习在口语交际中讲述的基本方法，掌握口语表达的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进行口语实践，在实践中加深对讲述的体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线连接符 21"/>
          <p:cNvSpPr/>
          <p:nvPr/>
        </p:nvSpPr>
        <p:spPr>
          <a:xfrm flipV="1">
            <a:off x="482400" y="1341360"/>
            <a:ext cx="2073240" cy="6120"/>
          </a:xfrm>
          <a:prstGeom prst="line">
            <a:avLst/>
          </a:prstGeom>
          <a:ln w="38100">
            <a:solidFill>
              <a:srgbClr val="93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9"/>
          <p:cNvSpPr/>
          <p:nvPr/>
        </p:nvSpPr>
        <p:spPr>
          <a:xfrm>
            <a:off x="2301840" y="219960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素材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背景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图表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论坛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语文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数学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英语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美术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科学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物理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化学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生物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地理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历史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lishi/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"/>
          <p:cNvSpPr/>
          <p:nvPr/>
        </p:nvSpPr>
        <p:spPr>
          <a:xfrm>
            <a:off x="0" y="620640"/>
            <a:ext cx="8140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讲述就是把经历过的事情讲给别人听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0" y="0"/>
            <a:ext cx="8029080" cy="363960"/>
          </a:xfrm>
          <a:prstGeom prst="rect">
            <a:avLst/>
          </a:prstGeom>
          <a:noFill/>
          <a:ln w="28575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、什么是讲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0" y="1268280"/>
            <a:ext cx="298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二、如何讲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395280" y="1916280"/>
            <a:ext cx="705960" cy="3095280"/>
          </a:xfrm>
          <a:prstGeom prst="leftBrace">
            <a:avLst>
              <a:gd name="adj1" fmla="val 36497"/>
              <a:gd name="adj2" fmla="val 50000"/>
            </a:avLst>
          </a:prstGeom>
          <a:noFill/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042920" y="2060640"/>
            <a:ext cx="552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注意讲述的对象和环境、氛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042920" y="3182760"/>
            <a:ext cx="545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讲述时做到重点突出、条理清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2027160" y="4365720"/>
            <a:ext cx="1415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注意口语表达的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179280" y="333360"/>
            <a:ext cx="8116560" cy="363960"/>
          </a:xfrm>
          <a:prstGeom prst="rect">
            <a:avLst/>
          </a:prstGeom>
          <a:noFill/>
          <a:ln w="28575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注意讲述的对象和环境、氛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0920" y="981000"/>
            <a:ext cx="806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注意对象，有听众意识：听者不同，讲述的内容和方式各不相同，讲述时要有针对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WordArt 10"/>
          <p:cNvSpPr txBox="1"/>
          <p:nvPr/>
        </p:nvSpPr>
        <p:spPr>
          <a:xfrm>
            <a:off x="2124000" y="1916280"/>
            <a:ext cx="3384360" cy="12949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Calibri"/>
                <a:ea typeface="宋体"/>
              </a:rPr>
              <a:t>前车之鉴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"/>
          <p:cNvSpPr/>
          <p:nvPr/>
        </p:nvSpPr>
        <p:spPr>
          <a:xfrm>
            <a:off x="395280" y="3500280"/>
            <a:ext cx="8191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讲述的内容要适应所处的环境（自然环境、社会环境），也可以利用音乐、课件等营造氛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250920" y="4581360"/>
            <a:ext cx="8892720" cy="912600"/>
          </a:xfrm>
          <a:prstGeom prst="rect">
            <a:avLst/>
          </a:prstGeom>
          <a:noFill/>
          <a:ln w="28575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某人请客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见有些人没来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就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该来的没来。”已经来了的一些人自感不受欢迎，拂袖而去。请客者又说：“不该走的走了。”于是，其他人也都走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思考：主人如何说才不得罪人，才得体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文本框 1"/>
          <p:cNvSpPr/>
          <p:nvPr/>
        </p:nvSpPr>
        <p:spPr>
          <a:xfrm>
            <a:off x="439560" y="2513160"/>
            <a:ext cx="811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0" y="0"/>
            <a:ext cx="9143640" cy="1186920"/>
          </a:xfrm>
          <a:prstGeom prst="rect">
            <a:avLst/>
          </a:prstGeom>
          <a:noFill/>
          <a:ln w="28575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朱元璋做了皇帝。有一天，他从前的一个苦朋友从乡下赶来找他，对他说：“我主万岁！当年微臣随驾扫荡庐州府，打破罐州城，汤元帅在逃，拿住豆将军，红孩儿当关，多亏菜将军。”朱元璋听他说得好听，就封他做了大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个消息让另一个苦朋友听见了。他心想：“同是那时一块儿玩的人，他去了有官做，我去了也不会倒霉吧。”他也就去了。和朱元璋一见面，他就直通通地说：“我主万岁！还记得吗？从前，你我都替人家看牛，有一天，我们在芦花荡里，把偷来的豆子在瓦罐里煮着。还没等煮熟，大家就抢着吃，把罐子打破了，撒了一地的豆子，汤都泼在泥地里。你只顾从地下满把地抓豆子吃，却不小心把红草叶子也送进嘴里。叶子梗在喉咙口，最后吞了片青菜叶子才把红草带下肚里去了…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朱元璋没等他听完就连声大叫：“推出去斩了！推出去斩了！”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你能说说为什么会有这两种不同的结局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1"/>
          <p:cNvSpPr/>
          <p:nvPr/>
        </p:nvSpPr>
        <p:spPr>
          <a:xfrm>
            <a:off x="179280" y="476280"/>
            <a:ext cx="8964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提前确定中心话题，做好准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从前有个村子里有三个能说会道的人。一个是厨师，一个是裁缝，一个是车把式。谁家有什么事都请他们去帮忙。有一次，村上一哥俩分家，请这三人去“说和”。这三人先在厨师家碰头。厨师说：“去了，要快刀斩乱麻，别锅啦碗啦分不清。”赶车的接过话茬：“咱们也不是没管过这号事，前有车后有辙的，别太出格就行。”裁缝说：“我们办事不能太偏了，要针过得去，线过得去才行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0" y="0"/>
            <a:ext cx="8029080" cy="363960"/>
          </a:xfrm>
          <a:prstGeom prst="rect">
            <a:avLst/>
          </a:prstGeom>
          <a:noFill/>
          <a:ln w="28575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讲述时要重点突出、条理清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0" y="3573360"/>
            <a:ext cx="9143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注意内容不能繁复，时间不宜太长，要清楚听者的注意力是有限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次，美国著名作家马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吐温听了一位演说家的募捐演讲，前十分钟，马克吐温被演说家的话语感动的热泪盈眶，他把自己身上所有的钱捐了出来。可一小时过去后，演说家还在重复着同样的话，马克吐温把钱拿回了一半。两个小时过去了，依然如故，最终马克吐温拿回了所有的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你知道为什么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1"/>
          <p:cNvSpPr/>
          <p:nvPr/>
        </p:nvSpPr>
        <p:spPr>
          <a:xfrm>
            <a:off x="0" y="981000"/>
            <a:ext cx="914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多用短句，少用长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多用单句，少用复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避免使用生僻词语和专业术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）还可以借助语速、语调、动作、表情等增加感染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3"/>
          <p:cNvSpPr/>
          <p:nvPr/>
        </p:nvSpPr>
        <p:spPr>
          <a:xfrm>
            <a:off x="250920" y="333360"/>
            <a:ext cx="8029080" cy="363960"/>
          </a:xfrm>
          <a:prstGeom prst="rect">
            <a:avLst/>
          </a:prstGeom>
          <a:noFill/>
          <a:ln w="28575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注意口语表达的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11" descr="山底5.png"/>
          <p:cNvPicPr/>
          <p:nvPr/>
        </p:nvPicPr>
        <p:blipFill>
          <a:blip r:embed="rId1"/>
          <a:stretch/>
        </p:blipFill>
        <p:spPr>
          <a:xfrm>
            <a:off x="0" y="4751280"/>
            <a:ext cx="9143640" cy="2106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1" descr=""/>
          <p:cNvPicPr/>
          <p:nvPr/>
        </p:nvPicPr>
        <p:blipFill>
          <a:blip r:embed="rId2"/>
          <a:stretch/>
        </p:blipFill>
        <p:spPr>
          <a:xfrm>
            <a:off x="7932600" y="6194520"/>
            <a:ext cx="1218960" cy="67284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13"/>
          <p:cNvSpPr/>
          <p:nvPr/>
        </p:nvSpPr>
        <p:spPr>
          <a:xfrm>
            <a:off x="10761840" y="2340000"/>
            <a:ext cx="18396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5" name="文本框 14"/>
          <p:cNvSpPr/>
          <p:nvPr/>
        </p:nvSpPr>
        <p:spPr>
          <a:xfrm>
            <a:off x="10561680" y="4170240"/>
            <a:ext cx="1839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TextBox 13"/>
          <p:cNvSpPr/>
          <p:nvPr/>
        </p:nvSpPr>
        <p:spPr>
          <a:xfrm>
            <a:off x="3413160" y="247680"/>
            <a:ext cx="4677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"/>
          <p:cNvSpPr/>
          <p:nvPr/>
        </p:nvSpPr>
        <p:spPr>
          <a:xfrm>
            <a:off x="780480" y="247680"/>
            <a:ext cx="92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要求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169920" y="766800"/>
            <a:ext cx="897372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提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讲述故事，要交代清楚故事的来龙去脉、前因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果，还要把故事中的人物、时间、地点等表述清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讲述故事的中人物，可以选一些方面，如肖像、神态、行动、语言、心理等，要突出人物的某种性格特征或精神品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根据讲述对象、环境的不同，选择不同的讲述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式。可以适当营造有利于讲述的氛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theme/theme1.xml><?xml version="1.0" encoding="utf-8"?>
<a:theme xmlns:a="http://schemas.openxmlformats.org/drawingml/2006/main" name="第一PPT模板网-WWW.1PPT.COM">
  <a:themeElements>
    <a:clrScheme name="办公室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办公室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自定义设计方案">
  <a:themeElements>
    <a:clrScheme name="1_自定义设计方案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Office 主题">
  <a:themeElements>
    <a:clrScheme name="1_Office 主题 1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ffffff"/>
      </a:accent3>
      <a:accent4>
        <a:srgbClr val="000000"/>
      </a:accent4>
      <a:accent5>
        <a:srgbClr val="b2c1db"/>
      </a:accent5>
      <a:accent6>
        <a:srgbClr val="ae4845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第一PPT模板网-WWW.1PPT.COM">
  <a:themeElements>
    <a:clrScheme name="办公室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  <Words>3170</Words>
  <Paragraphs>10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9T07:23:26Z</dcterms:created>
  <dc:creator>第一PPT模板网-WWW.1PPT.COM</dc:creator>
  <dc:description/>
  <cp:keywords>第一PPT模板网-WWW.1PPT.COM</cp:keywords>
  <dc:language>en-US</dc:language>
  <cp:lastModifiedBy/>
  <dcterms:modified xsi:type="dcterms:W3CDTF">2018-10-10T07:16:55Z</dcterms:modified>
  <cp:revision>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89</vt:lpwstr>
  </property>
  <property fmtid="{D5CDD505-2E9C-101B-9397-08002B2CF9AE}" pid="3" name="Notes">
    <vt:r8>3</vt:r8>
  </property>
  <property fmtid="{D5CDD505-2E9C-101B-9397-08002B2CF9AE}" pid="4" name="PresentationFormat">
    <vt:lpwstr>全屏显示(4:3)</vt:lpwstr>
  </property>
  <property fmtid="{D5CDD505-2E9C-101B-9397-08002B2CF9AE}" pid="5" name="Slides">
    <vt:r8>16</vt:r8>
  </property>
</Properties>
</file>