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35D28-C045-480E-9680-61D97EC7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BD1B11-33AC-432C-BDF4-D4B32C7EF3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FE6DA4-0006-47CB-A23C-A4EB3C8D98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83F-1C79-420B-9EE2-4DB66DA3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854-658B-40FB-9C91-07BB055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F9F-A7C3-4D16-89E1-36A3BDD6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C9B-92C7-44D3-BEB2-C4F4DCF6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72FD-2212-449D-8CA8-284E7DC1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F6C2-0370-4623-A929-A3CA97E1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24B9-567A-45C4-A1CB-98A8CF46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F50-97DC-4A6C-8DE4-5421178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ED81-5C6A-4D76-97CC-6874003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17E0-93C6-445C-B92C-D607742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319C-719F-4150-9361-2087E1E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58C-848D-415A-B5A5-E262F24A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D157-91A9-49B2-A53E-01AE58C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42A6-3C7B-4E76-8B25-2F0F268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CFCF-9303-4E5C-AE54-C893A3EF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DD75-DC4F-44F2-A8BF-9CAD6057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4607-F555-4B26-9776-9D8979A1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698E-8B82-4D4B-B6E3-A061D867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11F4-EB18-4D08-82EE-3A02571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D87C-E6C3-4D5D-8C94-CD95C8F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F440-97BE-4EA1-AE60-61C50F0A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70E1-6ABA-4928-A190-672784BC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931-6BAB-4B0B-873A-45B7380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1001-3D76-4DCB-AE25-F1B77449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11C4-1314-4EE8-84FB-7DD2D1B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14AB-006D-4FB6-A94E-B1B2A20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EFED-1827-4764-AA4A-A744C4DF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C845-5465-48AE-BFE5-7205F6C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FCB5-8974-4CE0-B7DF-F3B7FEA7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BF73-AB1F-41FA-8784-5868F3D0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C9C-28C7-4CC0-87D9-7354C7E2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483-81F7-4B0B-B6DE-1C38E01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287-68B1-45B3-B7EA-73BA0F8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441-195A-4EFE-A23A-CE58D07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F43-6EB1-4304-9A01-63AD8AF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799-D207-488E-9E4F-294949B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1256C7-464A-4C5B-BDD9-E340059B0BC6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3"/>
          <a:stretch/>
        </p:blipFill>
        <p:spPr>
          <a:xfrm>
            <a:off x="324000" y="111240"/>
            <a:ext cx="718920" cy="68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28760" y="6675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43160" y="66754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72160" y="6675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664841-014A-40C4-BEF9-C4CEE5DD719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F6DDFA-84C3-4102-A65D-6B5EFFA1B21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hyperlink" Target="http://www.kjzhan.com/mp3/3s/" TargetMode="External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7"/>
          <p:cNvSpPr/>
          <p:nvPr/>
        </p:nvSpPr>
        <p:spPr>
          <a:xfrm>
            <a:off x="5040" y="16156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语交际：名字里的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9" descr=""/>
          <p:cNvPicPr/>
          <p:nvPr/>
        </p:nvPicPr>
        <p:blipFill>
          <a:blip r:embed="rId1"/>
          <a:stretch/>
        </p:blipFill>
        <p:spPr>
          <a:xfrm>
            <a:off x="5011560" y="5199120"/>
            <a:ext cx="4132080" cy="1658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" descr=""/>
          <p:cNvPicPr/>
          <p:nvPr/>
        </p:nvPicPr>
        <p:blipFill>
          <a:blip r:embed="rId2"/>
          <a:stretch/>
        </p:blipFill>
        <p:spPr>
          <a:xfrm>
            <a:off x="2754360" y="2733840"/>
            <a:ext cx="4196880" cy="6235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4" descr=""/>
          <p:cNvPicPr/>
          <p:nvPr/>
        </p:nvPicPr>
        <p:blipFill>
          <a:blip r:embed="rId3"/>
          <a:stretch/>
        </p:blipFill>
        <p:spPr>
          <a:xfrm>
            <a:off x="0" y="5337000"/>
            <a:ext cx="3850920" cy="1545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2637000" y="3341160"/>
            <a:ext cx="3879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教版三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2754720" y="5607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7" descr=""/>
          <p:cNvPicPr/>
          <p:nvPr/>
        </p:nvPicPr>
        <p:blipFill>
          <a:blip r:embed="rId3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8" descr=""/>
          <p:cNvPicPr/>
          <p:nvPr/>
        </p:nvPicPr>
        <p:blipFill>
          <a:blip r:embed="rId7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2" descr=""/>
          <p:cNvPicPr/>
          <p:nvPr/>
        </p:nvPicPr>
        <p:blipFill>
          <a:blip r:embed="rId8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7" descr=""/>
          <p:cNvPicPr/>
          <p:nvPr/>
        </p:nvPicPr>
        <p:blipFill>
          <a:blip r:embed="rId9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8" descr=""/>
          <p:cNvPicPr/>
          <p:nvPr/>
        </p:nvPicPr>
        <p:blipFill>
          <a:blip r:embed="rId10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229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交际指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611280" y="981000"/>
            <a:ext cx="47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1280" y="2133720"/>
            <a:ext cx="8133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了这么多名字有关的故事，你有怎样的想法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9" descr=""/>
          <p:cNvPicPr/>
          <p:nvPr/>
        </p:nvPicPr>
        <p:blipFill>
          <a:blip r:embed="rId1"/>
          <a:stretch/>
        </p:blipFill>
        <p:spPr>
          <a:xfrm>
            <a:off x="5292720" y="6095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" descr=""/>
          <p:cNvPicPr/>
          <p:nvPr/>
        </p:nvPicPr>
        <p:blipFill>
          <a:blip r:embed="rId2"/>
          <a:stretch/>
        </p:blipFill>
        <p:spPr>
          <a:xfrm>
            <a:off x="896760" y="60958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3"/>
          <a:stretch/>
        </p:blipFill>
        <p:spPr>
          <a:xfrm>
            <a:off x="563400" y="609588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8" descr=""/>
          <p:cNvPicPr/>
          <p:nvPr/>
        </p:nvPicPr>
        <p:blipFill>
          <a:blip r:embed="rId4"/>
          <a:stretch/>
        </p:blipFill>
        <p:spPr>
          <a:xfrm>
            <a:off x="6831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236" name="矩形 355"/>
          <p:cNvSpPr/>
          <p:nvPr/>
        </p:nvSpPr>
        <p:spPr>
          <a:xfrm>
            <a:off x="1528920" y="2005200"/>
            <a:ext cx="5388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谢谢您的观看和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356" descr=""/>
          <p:cNvPicPr/>
          <p:nvPr/>
        </p:nvPicPr>
        <p:blipFill>
          <a:blip r:embed="rId5"/>
          <a:stretch/>
        </p:blipFill>
        <p:spPr>
          <a:xfrm>
            <a:off x="2448000" y="2909880"/>
            <a:ext cx="4195440" cy="6235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10"/>
          <p:cNvGrpSpPr/>
          <p:nvPr/>
        </p:nvGrpSpPr>
        <p:grpSpPr>
          <a:xfrm>
            <a:off x="7601040" y="5024520"/>
            <a:ext cx="1112400" cy="1818720"/>
            <a:chOff x="7601040" y="5024520"/>
            <a:chExt cx="1112400" cy="1818720"/>
          </a:xfrm>
        </p:grpSpPr>
        <p:pic>
          <p:nvPicPr>
            <p:cNvPr id="239" name="图片 5" descr=""/>
            <p:cNvPicPr/>
            <p:nvPr/>
          </p:nvPicPr>
          <p:blipFill>
            <a:blip r:embed="rId6"/>
            <a:srcRect l="35493" t="0" r="32253" b="80047"/>
            <a:stretch/>
          </p:blipFill>
          <p:spPr>
            <a:xfrm>
              <a:off x="7601040" y="5024520"/>
              <a:ext cx="35928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" descr=""/>
            <p:cNvPicPr/>
            <p:nvPr/>
          </p:nvPicPr>
          <p:blipFill>
            <a:blip r:embed="rId7"/>
            <a:stretch/>
          </p:blipFill>
          <p:spPr>
            <a:xfrm>
              <a:off x="7668000" y="5278320"/>
              <a:ext cx="1045440" cy="15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3" descr=""/>
          <p:cNvPicPr/>
          <p:nvPr/>
        </p:nvPicPr>
        <p:blipFill>
          <a:blip r:embed="rId8"/>
          <a:stretch/>
        </p:blipFill>
        <p:spPr>
          <a:xfrm>
            <a:off x="1765440" y="5278320"/>
            <a:ext cx="1364760" cy="152676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5" descr="2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9280" y="357336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5"/>
          <p:cNvSpPr/>
          <p:nvPr/>
        </p:nvSpPr>
        <p:spPr>
          <a:xfrm>
            <a:off x="698400" y="981000"/>
            <a:ext cx="811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的名人，你知道他们的名字吗？你知道他们的名字有怎样的故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42" name="对角圆角矩形 1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明确话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5"/>
          <a:stretch/>
        </p:blipFill>
        <p:spPr>
          <a:xfrm>
            <a:off x="868320" y="2185200"/>
            <a:ext cx="2898000" cy="39225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44" name="矩形 10"/>
          <p:cNvSpPr/>
          <p:nvPr/>
        </p:nvSpPr>
        <p:spPr>
          <a:xfrm>
            <a:off x="4140360" y="2251080"/>
            <a:ext cx="36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乐家聂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原名聂守信。他幼年就能够把听到的歌曲很快地唱出来，别人因他耳朵好使，而他的姓又是三个“耳”字组成，便叫他“耳朵”。他后来专业搞作曲，就索性改名“聂耳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49" name="对角圆角矩形 1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明确话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矩形 10"/>
          <p:cNvSpPr/>
          <p:nvPr/>
        </p:nvSpPr>
        <p:spPr>
          <a:xfrm>
            <a:off x="6156360" y="1341360"/>
            <a:ext cx="26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宋名将岳飞：字鹏举。据记载，岳飞出生时正好有一只大鸟在屋顶飞鸣，于是就起名“飞”，并取字“鹏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icture 3"/>
          <p:cNvSpPr/>
          <p:nvPr/>
        </p:nvSpPr>
        <p:spPr>
          <a:xfrm>
            <a:off x="458280" y="1333080"/>
            <a:ext cx="5430960" cy="44593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5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56" name="对角圆角矩形 1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明确话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865080" y="1052640"/>
            <a:ext cx="732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自己的名字有什么含义吗？你知道其他人的名字有怎样的故事吗？请你围绕“名字里的故事”和大家一起交流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5"/>
          <a:stretch/>
        </p:blipFill>
        <p:spPr>
          <a:xfrm>
            <a:off x="2592360" y="2820960"/>
            <a:ext cx="3990600" cy="322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0"/>
          <p:cNvSpPr/>
          <p:nvPr/>
        </p:nvSpPr>
        <p:spPr>
          <a:xfrm>
            <a:off x="2620080" y="24210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64" name="对角圆角矩形 1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交际指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826920" y="2060640"/>
            <a:ext cx="800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名字有怎样的含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了解到的其他人的名字有怎样的含义或故事？如某些名人的名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11280" y="1125360"/>
            <a:ext cx="47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71" name="对角圆角矩形 1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交际指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826920" y="1733400"/>
            <a:ext cx="763236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讲述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出完整的姓名：姓什么，叫什么，说清楚具体是哪个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详细说说为什么叫这个名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内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人讲述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遇到自己感兴趣或不理解的内容，要有礼貌地向讲的同学提出来，进一步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11280" y="1077840"/>
            <a:ext cx="47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讲一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icture 2"/>
          <p:cNvSpPr/>
          <p:nvPr/>
        </p:nvSpPr>
        <p:spPr>
          <a:xfrm>
            <a:off x="251640" y="933480"/>
            <a:ext cx="2923920" cy="49906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5"/>
          <p:cNvSpPr/>
          <p:nvPr/>
        </p:nvSpPr>
        <p:spPr>
          <a:xfrm>
            <a:off x="3503520" y="1268280"/>
            <a:ext cx="4536720" cy="4463640"/>
          </a:xfrm>
          <a:prstGeom prst="wedgeRoundRectCallout">
            <a:avLst>
              <a:gd name="adj1" fmla="val -64193"/>
              <a:gd name="adj2" fmla="val -13949"/>
              <a:gd name="adj3" fmla="val 16667"/>
            </a:avLst>
          </a:prstGeom>
          <a:solidFill>
            <a:srgbClr val="ccec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76" name="图片 9" descr=""/>
          <p:cNvPicPr/>
          <p:nvPr/>
        </p:nvPicPr>
        <p:blipFill>
          <a:blip r:embed="rId2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2" descr=""/>
          <p:cNvPicPr/>
          <p:nvPr/>
        </p:nvPicPr>
        <p:blipFill>
          <a:blip r:embed="rId3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7" descr=""/>
          <p:cNvPicPr/>
          <p:nvPr/>
        </p:nvPicPr>
        <p:blipFill>
          <a:blip r:embed="rId4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84" descr=""/>
          <p:cNvPicPr/>
          <p:nvPr/>
        </p:nvPicPr>
        <p:blipFill>
          <a:blip r:embed="rId5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2" descr=""/>
          <p:cNvPicPr/>
          <p:nvPr/>
        </p:nvPicPr>
        <p:blipFill>
          <a:blip r:embed="rId6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" descr=""/>
          <p:cNvPicPr/>
          <p:nvPr/>
        </p:nvPicPr>
        <p:blipFill>
          <a:blip r:embed="rId7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" descr=""/>
          <p:cNvPicPr/>
          <p:nvPr/>
        </p:nvPicPr>
        <p:blipFill>
          <a:blip r:embed="rId8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2" descr=""/>
          <p:cNvPicPr/>
          <p:nvPr/>
        </p:nvPicPr>
        <p:blipFill>
          <a:blip r:embed="rId9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10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" descr=""/>
          <p:cNvPicPr/>
          <p:nvPr/>
        </p:nvPicPr>
        <p:blipFill>
          <a:blip r:embed="rId11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86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欣赏范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800520" y="1484280"/>
            <a:ext cx="401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的名字叫王乐安。“乐”是“快乐”的“乐”，“安”是“平安”的“安”。我的名字是爸爸妈妈给我取的。他们希望我能快快乐乐、平平安安地长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icture 2"/>
          <p:cNvSpPr/>
          <p:nvPr/>
        </p:nvSpPr>
        <p:spPr>
          <a:xfrm>
            <a:off x="158760" y="961920"/>
            <a:ext cx="3018960" cy="49147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标注 5"/>
          <p:cNvSpPr/>
          <p:nvPr/>
        </p:nvSpPr>
        <p:spPr>
          <a:xfrm>
            <a:off x="3276720" y="988920"/>
            <a:ext cx="5256000" cy="5013000"/>
          </a:xfrm>
          <a:prstGeom prst="wedgeRoundRectCallout">
            <a:avLst>
              <a:gd name="adj1" fmla="val -68238"/>
              <a:gd name="adj2" fmla="val -10562"/>
              <a:gd name="adj3" fmla="val 16667"/>
            </a:avLst>
          </a:prstGeom>
          <a:solidFill>
            <a:srgbClr val="ccec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90" name="图片 9" descr=""/>
          <p:cNvPicPr/>
          <p:nvPr/>
        </p:nvPicPr>
        <p:blipFill>
          <a:blip r:embed="rId2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" descr=""/>
          <p:cNvPicPr/>
          <p:nvPr/>
        </p:nvPicPr>
        <p:blipFill>
          <a:blip r:embed="rId3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7" descr=""/>
          <p:cNvPicPr/>
          <p:nvPr/>
        </p:nvPicPr>
        <p:blipFill>
          <a:blip r:embed="rId4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84" descr=""/>
          <p:cNvPicPr/>
          <p:nvPr/>
        </p:nvPicPr>
        <p:blipFill>
          <a:blip r:embed="rId5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" descr=""/>
          <p:cNvPicPr/>
          <p:nvPr/>
        </p:nvPicPr>
        <p:blipFill>
          <a:blip r:embed="rId6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7" descr=""/>
          <p:cNvPicPr/>
          <p:nvPr/>
        </p:nvPicPr>
        <p:blipFill>
          <a:blip r:embed="rId7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8" descr=""/>
          <p:cNvPicPr/>
          <p:nvPr/>
        </p:nvPicPr>
        <p:blipFill>
          <a:blip r:embed="rId8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2" descr=""/>
          <p:cNvPicPr/>
          <p:nvPr/>
        </p:nvPicPr>
        <p:blipFill>
          <a:blip r:embed="rId9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7" descr=""/>
          <p:cNvPicPr/>
          <p:nvPr/>
        </p:nvPicPr>
        <p:blipFill>
          <a:blip r:embed="rId10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8" descr=""/>
          <p:cNvPicPr/>
          <p:nvPr/>
        </p:nvPicPr>
        <p:blipFill>
          <a:blip r:embed="rId11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200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欣赏范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24"/>
          <p:cNvSpPr/>
          <p:nvPr/>
        </p:nvSpPr>
        <p:spPr>
          <a:xfrm>
            <a:off x="3419640" y="1332000"/>
            <a:ext cx="489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的名字叫江云帆。“江”是“长江”的“江”。“云”是“白云”的“云”，“帆”是“风帆”的“帆”。我的名字是爷爷从李白的《行路难》中“长风破浪会有时，直挂云帆济沧海。”一句选取的。爷爷希望我在人生道路上，不管遇到什么困难都能挂起云帆，乘风破浪，勇往直前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圆角矩形标注 5"/>
          <p:cNvSpPr/>
          <p:nvPr/>
        </p:nvSpPr>
        <p:spPr>
          <a:xfrm>
            <a:off x="663480" y="1052640"/>
            <a:ext cx="5636880" cy="5168520"/>
          </a:xfrm>
          <a:prstGeom prst="wedgeRoundRectCallout">
            <a:avLst>
              <a:gd name="adj1" fmla="val 73470"/>
              <a:gd name="adj2" fmla="val 31867"/>
              <a:gd name="adj3" fmla="val 16667"/>
            </a:avLst>
          </a:prstGeom>
          <a:solidFill>
            <a:srgbClr val="ccec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pic>
        <p:nvPicPr>
          <p:cNvPr id="203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7" descr=""/>
          <p:cNvPicPr/>
          <p:nvPr/>
        </p:nvPicPr>
        <p:blipFill>
          <a:blip r:embed="rId3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" descr=""/>
          <p:cNvPicPr/>
          <p:nvPr/>
        </p:nvPicPr>
        <p:blipFill>
          <a:blip r:embed="rId7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2" descr=""/>
          <p:cNvPicPr/>
          <p:nvPr/>
        </p:nvPicPr>
        <p:blipFill>
          <a:blip r:embed="rId8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7" descr=""/>
          <p:cNvPicPr/>
          <p:nvPr/>
        </p:nvPicPr>
        <p:blipFill>
          <a:blip r:embed="rId9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8" descr=""/>
          <p:cNvPicPr/>
          <p:nvPr/>
        </p:nvPicPr>
        <p:blipFill>
          <a:blip r:embed="rId10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213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欣赏范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16"/>
          <p:cNvGrpSpPr/>
          <p:nvPr/>
        </p:nvGrpSpPr>
        <p:grpSpPr>
          <a:xfrm>
            <a:off x="7440480" y="4564080"/>
            <a:ext cx="1112760" cy="1818720"/>
            <a:chOff x="7440480" y="4564080"/>
            <a:chExt cx="1112760" cy="1818720"/>
          </a:xfrm>
        </p:grpSpPr>
        <p:pic>
          <p:nvPicPr>
            <p:cNvPr id="215" name="图片 5" descr=""/>
            <p:cNvPicPr/>
            <p:nvPr/>
          </p:nvPicPr>
          <p:blipFill>
            <a:blip r:embed="rId11"/>
            <a:srcRect l="35493" t="0" r="32253" b="80047"/>
            <a:stretch/>
          </p:blipFill>
          <p:spPr>
            <a:xfrm>
              <a:off x="7440480" y="4564080"/>
              <a:ext cx="35928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" descr=""/>
            <p:cNvPicPr/>
            <p:nvPr/>
          </p:nvPicPr>
          <p:blipFill>
            <a:blip r:embed="rId12"/>
            <a:stretch/>
          </p:blipFill>
          <p:spPr>
            <a:xfrm>
              <a:off x="7507800" y="4817880"/>
              <a:ext cx="1045440" cy="15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矩形 20"/>
          <p:cNvSpPr/>
          <p:nvPr/>
        </p:nvSpPr>
        <p:spPr>
          <a:xfrm>
            <a:off x="900000" y="1125360"/>
            <a:ext cx="5400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来给大家讲一讲地质学家李四光名字的来历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李四光，原名李仲葵。他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时便以优异的成绩获准公费留学日本，可是他在填写登记表时误将年龄“十四”填入了姓名栏内。由于表格不好换，他急中生智，将“十”字加上几笔改成了“李”字，“四”字却无法再改。但是叫“李四”这名字不好听又没有意义。怎么办？他一抬头，看到中堂大匾上有“光被四表”四个大字，这四个大字是形容盛德善行远播四方，于是他便灵机一动，在“李四”后面加上一个“光”字，后来便叫李四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3"/>
          <a:stretch/>
        </p:blipFill>
        <p:spPr>
          <a:xfrm>
            <a:off x="6502320" y="1341360"/>
            <a:ext cx="1885680" cy="282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370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10:13:00Z</dcterms:created>
  <dc:creator>第一PPT模板网-WWW.1PPT.COM</dc:creator>
  <dc:description/>
  <cp:keywords>第一PPT模板网-WWW.1PPT.COM</cp:keywords>
  <dc:language>en-US</dc:language>
  <cp:lastModifiedBy/>
  <dcterms:modified xsi:type="dcterms:W3CDTF">2018-09-29T01:12:49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12</vt:r8>
  </property>
</Properties>
</file>