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8625D3-CF3E-4264-87D0-69044704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400" y="746280"/>
            <a:ext cx="6624360" cy="37270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Num" idx="10"/>
          </p:nvPr>
        </p:nvSpPr>
        <p:spPr>
          <a:xfrm>
            <a:off x="3828960" y="9443880"/>
            <a:ext cx="2930040" cy="4964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B6A44B-D9EE-4671-9B23-2F6E498D8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49E-1368-4560-BAB2-83342311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D97-BE56-494B-AC38-EF288752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D47-7CCF-419E-8248-CA3AC2F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0CC-D9F2-4BC3-B09E-8490D38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492-DAD6-43E7-8E06-E7DBA17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CD2-F0D2-4C22-84A2-6B948B3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246-D628-4F37-8964-45E4BC5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E2E-87C0-42BE-8573-86EB752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387-7768-4372-8A6E-980BB07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F0C-5FDF-45DC-9BFC-4760965E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CD1-C041-4E15-B9F9-E84D25B8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FDF-71EF-4CF9-90A1-A8CAFA55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99FF-30EA-462E-BE8F-89A87F37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006-FF09-436A-8619-E6E60291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35C-6B10-4187-B04A-A1DF937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E75D-A984-46B1-8C7A-403C7CED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067-D9FB-4E42-97F4-62A3BDD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2718-1688-463F-B87F-03C4E63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28E6-CBA8-40BB-825C-5F5592E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2819-CE41-4362-9F08-7A1ECEB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1670-C1D2-4571-9AB9-9E374F8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270-9DBD-411F-AC40-7B6FCEA2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EF4-0676-4DB3-BC09-F90D5D46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C5D-DD3C-4FC3-9CD5-0848C1EF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5982CB-A87C-4D89-9E71-27F08CF9BE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6BD9AC7-1B7A-4BAD-8752-83FB913E52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img.mp.itc.cn/upload/20161027/785fedb30fcb43ca936f42583f9f626e_th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1"/>
          <p:cNvGrpSpPr/>
          <p:nvPr/>
        </p:nvGrpSpPr>
        <p:grpSpPr>
          <a:xfrm>
            <a:off x="58680" y="627480"/>
            <a:ext cx="1920600" cy="363960"/>
            <a:chOff x="58680" y="627480"/>
            <a:chExt cx="1920600" cy="363960"/>
          </a:xfrm>
        </p:grpSpPr>
        <p:sp>
          <p:nvSpPr>
            <p:cNvPr id="166" name="圆角矩形 11"/>
            <p:cNvSpPr/>
            <p:nvPr/>
          </p:nvSpPr>
          <p:spPr>
            <a:xfrm>
              <a:off x="58680" y="716760"/>
              <a:ext cx="1920600" cy="234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chemeClr val="dk1"/>
                </a:solidFill>
                <a:latin typeface="宋体"/>
                <a:ea typeface="宋体"/>
              </a:endParaRPr>
            </a:p>
          </p:txBody>
        </p:sp>
        <p:sp>
          <p:nvSpPr>
            <p:cNvPr id="167" name="文本框 1"/>
            <p:cNvSpPr/>
            <p:nvPr/>
          </p:nvSpPr>
          <p:spPr>
            <a:xfrm>
              <a:off x="452520" y="627480"/>
              <a:ext cx="114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八年级语文下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48"/>
          <p:cNvSpPr/>
          <p:nvPr/>
        </p:nvSpPr>
        <p:spPr>
          <a:xfrm>
            <a:off x="0" y="1815840"/>
            <a:ext cx="9143640" cy="342360"/>
          </a:xfrm>
          <a:prstGeom prst="rect">
            <a:avLst/>
          </a:prstGeom>
          <a:solidFill>
            <a:srgbClr val="ffffff">
              <a:alpha val="70000"/>
            </a:srgbClr>
          </a:solidFill>
          <a:ln w="1905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3*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   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0" y="44442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3"/>
          <p:cNvSpPr/>
          <p:nvPr/>
        </p:nvSpPr>
        <p:spPr>
          <a:xfrm>
            <a:off x="325800" y="1514880"/>
            <a:ext cx="8485920" cy="91260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：世间有了伯乐，然后（才会）有千里马。千里马是经常有的，可是伯乐却不经常有。因此即使是很名贵的马，也只能辱没在仆役的手里，（跟普通的马）一起死在马槽之间，不以千里马而著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252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54" name="菱形 9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"/>
          <p:cNvSpPr/>
          <p:nvPr/>
        </p:nvSpPr>
        <p:spPr>
          <a:xfrm>
            <a:off x="685800" y="1154880"/>
            <a:ext cx="7772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章开头，作者是如何阐述“伯乐”和“千里马”之间的关系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"/>
          <p:cNvSpPr/>
          <p:nvPr/>
        </p:nvSpPr>
        <p:spPr>
          <a:xfrm>
            <a:off x="501480" y="2343240"/>
            <a:ext cx="8170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世有伯乐，然后有千里马。千里马常有，而伯乐不常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258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60" name="菱形 12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99"/>
          <p:cNvSpPr/>
          <p:nvPr/>
        </p:nvSpPr>
        <p:spPr>
          <a:xfrm>
            <a:off x="463320" y="1005480"/>
            <a:ext cx="701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没有遇见伯乐，千里马的命运会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539640" y="1470240"/>
            <a:ext cx="820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奴隶人之手，骈死于槽枥之间，不以千里称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1764360" y="3846600"/>
            <a:ext cx="5705640" cy="363960"/>
          </a:xfrm>
          <a:prstGeom prst="rect">
            <a:avLst/>
          </a:prstGeom>
          <a:gradFill rotWithShape="0">
            <a:gsLst>
              <a:gs pos="0">
                <a:srgbClr val="e1f0f1"/>
              </a:gs>
              <a:gs pos="100000">
                <a:srgbClr val="d7edee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第一段：阐述了伯乐对千里马的重要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"/>
          <p:cNvSpPr/>
          <p:nvPr/>
        </p:nvSpPr>
        <p:spPr>
          <a:xfrm>
            <a:off x="1913760" y="3360600"/>
            <a:ext cx="86688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提出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右箭头 4"/>
          <p:cNvSpPr/>
          <p:nvPr/>
        </p:nvSpPr>
        <p:spPr>
          <a:xfrm>
            <a:off x="3195000" y="3443400"/>
            <a:ext cx="504000" cy="1785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e321d5"/>
              </a:gs>
            </a:gsLst>
            <a:lin ang="162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6" name="文本框 5"/>
          <p:cNvSpPr/>
          <p:nvPr/>
        </p:nvSpPr>
        <p:spPr>
          <a:xfrm>
            <a:off x="4734000" y="3360600"/>
            <a:ext cx="182700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世有伯乐，然后有千里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6"/>
          <p:cNvSpPr/>
          <p:nvPr/>
        </p:nvSpPr>
        <p:spPr>
          <a:xfrm>
            <a:off x="467640" y="1877760"/>
            <a:ext cx="813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”“骈死于” 等词语暗含了作者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7"/>
          <p:cNvSpPr/>
          <p:nvPr/>
        </p:nvSpPr>
        <p:spPr>
          <a:xfrm>
            <a:off x="469440" y="2581920"/>
            <a:ext cx="794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出了千里马在没有被伯乐发现的遭遇，暗含了作者的无限痛惜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270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72" name="菱形 18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4"/>
          <p:cNvSpPr/>
          <p:nvPr/>
        </p:nvSpPr>
        <p:spPr>
          <a:xfrm>
            <a:off x="375120" y="951480"/>
            <a:ext cx="8460360" cy="77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5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之千里者，一食或尽粟一石。食马者不知其能千里而食也。是马也，虽有千里之能，食不饱，力不足，才美不外见，且欲与常马等不可得，安求其能千里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"/>
          <p:cNvSpPr/>
          <p:nvPr/>
        </p:nvSpPr>
        <p:spPr>
          <a:xfrm>
            <a:off x="3132000" y="1052640"/>
            <a:ext cx="10170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吃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4851360" y="1678320"/>
            <a:ext cx="271692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容量单位，十斗为一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6"/>
          <p:cNvSpPr/>
          <p:nvPr/>
        </p:nvSpPr>
        <p:spPr>
          <a:xfrm>
            <a:off x="3881880" y="1671120"/>
            <a:ext cx="8182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7"/>
          <p:cNvSpPr/>
          <p:nvPr/>
        </p:nvSpPr>
        <p:spPr>
          <a:xfrm>
            <a:off x="5580000" y="1052640"/>
            <a:ext cx="15724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“饲”，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9"/>
          <p:cNvSpPr/>
          <p:nvPr/>
        </p:nvSpPr>
        <p:spPr>
          <a:xfrm>
            <a:off x="611640" y="1653480"/>
            <a:ext cx="16149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词，表承接，可译为“来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0"/>
          <p:cNvSpPr/>
          <p:nvPr/>
        </p:nvSpPr>
        <p:spPr>
          <a:xfrm>
            <a:off x="1347120" y="2482200"/>
            <a:ext cx="1352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肯定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1"/>
          <p:cNvSpPr/>
          <p:nvPr/>
        </p:nvSpPr>
        <p:spPr>
          <a:xfrm>
            <a:off x="2381400" y="1654920"/>
            <a:ext cx="121824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指示代词，这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3"/>
          <p:cNvSpPr/>
          <p:nvPr/>
        </p:nvSpPr>
        <p:spPr>
          <a:xfrm>
            <a:off x="5292000" y="2481120"/>
            <a:ext cx="13752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才能，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6"/>
          <p:cNvSpPr/>
          <p:nvPr/>
        </p:nvSpPr>
        <p:spPr>
          <a:xfrm>
            <a:off x="361080" y="3278160"/>
            <a:ext cx="14022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才能和优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7"/>
          <p:cNvSpPr/>
          <p:nvPr/>
        </p:nvSpPr>
        <p:spPr>
          <a:xfrm>
            <a:off x="1901880" y="3248280"/>
            <a:ext cx="12297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“现”，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8"/>
          <p:cNvSpPr/>
          <p:nvPr/>
        </p:nvSpPr>
        <p:spPr>
          <a:xfrm>
            <a:off x="3256200" y="3267000"/>
            <a:ext cx="109944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犹，尚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0"/>
          <p:cNvSpPr/>
          <p:nvPr/>
        </p:nvSpPr>
        <p:spPr>
          <a:xfrm>
            <a:off x="4710960" y="3252600"/>
            <a:ext cx="15166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同，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1"/>
          <p:cNvSpPr/>
          <p:nvPr/>
        </p:nvSpPr>
        <p:spPr>
          <a:xfrm>
            <a:off x="6791040" y="2647080"/>
            <a:ext cx="19569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疑问代词，怎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4"/>
          <p:cNvSpPr/>
          <p:nvPr/>
        </p:nvSpPr>
        <p:spPr>
          <a:xfrm>
            <a:off x="2776680" y="2445480"/>
            <a:ext cx="173664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助词，表停顿，强调“是马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2"/>
          <p:cNvSpPr/>
          <p:nvPr/>
        </p:nvSpPr>
        <p:spPr>
          <a:xfrm>
            <a:off x="1485360" y="3785400"/>
            <a:ext cx="4475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气助词，用于疑问句末尾，与疑问代词“安”相配合，表示反问，可译为“呢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290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92" name="菱形 34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3"/>
          <p:cNvSpPr/>
          <p:nvPr/>
        </p:nvSpPr>
        <p:spPr>
          <a:xfrm>
            <a:off x="368640" y="1059480"/>
            <a:ext cx="8406360" cy="13240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：日行千里的马，一次有时能吃一石粮食。喂千里马的人不懂得（要根据）它能（日行）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的本领）来喂养（它）。所以这样的马，即使有日行千里的才能，却吃不饱，力气不足，（它的）才能和美好的素质也就不能表现在外面，想要跟普通的马一样尚且办不到，（又）怎么能要求它日行千里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295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97" name="菱形 9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文本框 1"/>
          <p:cNvSpPr/>
          <p:nvPr/>
        </p:nvSpPr>
        <p:spPr>
          <a:xfrm>
            <a:off x="453960" y="1229760"/>
            <a:ext cx="829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马”与“常马”有什么区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"/>
          <p:cNvSpPr/>
          <p:nvPr/>
        </p:nvSpPr>
        <p:spPr>
          <a:xfrm>
            <a:off x="453960" y="2237400"/>
            <a:ext cx="82087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8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马被埋没的直接原因是什么？根本原因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6"/>
          <p:cNvSpPr/>
          <p:nvPr/>
        </p:nvSpPr>
        <p:spPr>
          <a:xfrm>
            <a:off x="971640" y="1815120"/>
            <a:ext cx="295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9"/>
          <p:cNvSpPr/>
          <p:nvPr/>
        </p:nvSpPr>
        <p:spPr>
          <a:xfrm>
            <a:off x="971640" y="2930760"/>
            <a:ext cx="679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直接原因：食不饱，力不足，才美不外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0"/>
          <p:cNvSpPr/>
          <p:nvPr/>
        </p:nvSpPr>
        <p:spPr>
          <a:xfrm>
            <a:off x="971640" y="3498480"/>
            <a:ext cx="679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本原因：食马者不知其能千里而食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04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5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06" name="菱形 14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4"/>
          <p:cNvSpPr/>
          <p:nvPr/>
        </p:nvSpPr>
        <p:spPr>
          <a:xfrm>
            <a:off x="565560" y="1152360"/>
            <a:ext cx="8155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且欲与常马等不可得，安求其能千里也”表达了作者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1"/>
          <p:cNvSpPr/>
          <p:nvPr/>
        </p:nvSpPr>
        <p:spPr>
          <a:xfrm>
            <a:off x="709560" y="2070720"/>
            <a:ext cx="818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问句，表达了对统治者埋没人才的不平之意、愤懑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"/>
          <p:cNvSpPr/>
          <p:nvPr/>
        </p:nvSpPr>
        <p:spPr>
          <a:xfrm>
            <a:off x="1475640" y="2799360"/>
            <a:ext cx="86688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分析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右箭头 5"/>
          <p:cNvSpPr/>
          <p:nvPr/>
        </p:nvSpPr>
        <p:spPr>
          <a:xfrm>
            <a:off x="2756880" y="2882520"/>
            <a:ext cx="504000" cy="1785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e321d5"/>
              </a:gs>
            </a:gsLst>
            <a:lin ang="162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11" name="文本框 7"/>
          <p:cNvSpPr/>
          <p:nvPr/>
        </p:nvSpPr>
        <p:spPr>
          <a:xfrm>
            <a:off x="5471640" y="2799360"/>
            <a:ext cx="40356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千里马被埋没是因为食马者不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"/>
          <p:cNvSpPr/>
          <p:nvPr/>
        </p:nvSpPr>
        <p:spPr>
          <a:xfrm>
            <a:off x="1919880" y="3360600"/>
            <a:ext cx="5399640" cy="363960"/>
          </a:xfrm>
          <a:prstGeom prst="rect">
            <a:avLst/>
          </a:prstGeom>
          <a:gradFill rotWithShape="0">
            <a:gsLst>
              <a:gs pos="0">
                <a:srgbClr val="e1f0f1"/>
              </a:gs>
              <a:gs pos="100000">
                <a:srgbClr val="d7edee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第二段：揭示了千里马被埋没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14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16" name="菱形 17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4"/>
          <p:cNvSpPr/>
          <p:nvPr/>
        </p:nvSpPr>
        <p:spPr>
          <a:xfrm>
            <a:off x="533160" y="998280"/>
            <a:ext cx="8077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3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策之不以其道，食之不能尽其材，鸣之而不能通其意，执策而临之，曰：“天下无马！”呜呼！其真无马邪？其真不知马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8"/>
          <p:cNvSpPr/>
          <p:nvPr/>
        </p:nvSpPr>
        <p:spPr>
          <a:xfrm>
            <a:off x="467640" y="1020600"/>
            <a:ext cx="276192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马鞭赶它。策，马鞭，这里是动词，用马鞭驱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9"/>
          <p:cNvSpPr/>
          <p:nvPr/>
        </p:nvSpPr>
        <p:spPr>
          <a:xfrm>
            <a:off x="1835640" y="1870920"/>
            <a:ext cx="20790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指不按照（驱使千里马的）正确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0"/>
          <p:cNvSpPr/>
          <p:nvPr/>
        </p:nvSpPr>
        <p:spPr>
          <a:xfrm>
            <a:off x="3780000" y="1005480"/>
            <a:ext cx="2626920" cy="6382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喂它，却不能让它竭尽才能。材，才能、才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1"/>
          <p:cNvSpPr/>
          <p:nvPr/>
        </p:nvSpPr>
        <p:spPr>
          <a:xfrm>
            <a:off x="6228360" y="1865520"/>
            <a:ext cx="21225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助词，用在动词后。凑足音节，无实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2"/>
          <p:cNvSpPr/>
          <p:nvPr/>
        </p:nvSpPr>
        <p:spPr>
          <a:xfrm>
            <a:off x="605880" y="1977840"/>
            <a:ext cx="10134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晓它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3"/>
          <p:cNvSpPr/>
          <p:nvPr/>
        </p:nvSpPr>
        <p:spPr>
          <a:xfrm>
            <a:off x="2988000" y="2780640"/>
            <a:ext cx="7038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面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4"/>
          <p:cNvSpPr/>
          <p:nvPr/>
        </p:nvSpPr>
        <p:spPr>
          <a:xfrm>
            <a:off x="6228360" y="2809080"/>
            <a:ext cx="26589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惊叹，相当于唉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5"/>
          <p:cNvSpPr/>
          <p:nvPr/>
        </p:nvSpPr>
        <p:spPr>
          <a:xfrm>
            <a:off x="323640" y="3111840"/>
            <a:ext cx="21693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加强诘问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6"/>
          <p:cNvSpPr/>
          <p:nvPr/>
        </p:nvSpPr>
        <p:spPr>
          <a:xfrm>
            <a:off x="1259640" y="3745440"/>
            <a:ext cx="208800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“耶”，表示疑问，相当于“吗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7"/>
          <p:cNvSpPr/>
          <p:nvPr/>
        </p:nvSpPr>
        <p:spPr>
          <a:xfrm>
            <a:off x="3607200" y="3116160"/>
            <a:ext cx="198504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气词，表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329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31" name="菱形 28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"/>
          <p:cNvSpPr/>
          <p:nvPr/>
        </p:nvSpPr>
        <p:spPr>
          <a:xfrm>
            <a:off x="311760" y="1213560"/>
            <a:ext cx="8520120" cy="91260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：用马鞭赶它，不按照（驱使千里马的）正确方法，喂养它，却不能让它竭尽才能，听它鸣叫，却不能通晓它的意思，（反而）拿着马鞭面对它，说：“天下没有千里马！”唉！难道真的没有千里马吗？恐怕（是他们）真不识得千里马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334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36" name="菱形 9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0"/>
          <p:cNvSpPr/>
          <p:nvPr/>
        </p:nvSpPr>
        <p:spPr>
          <a:xfrm>
            <a:off x="467640" y="991440"/>
            <a:ext cx="82314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中哪些语言体现出食马者不知马？刻画了食马者怎样的形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"/>
          <p:cNvSpPr/>
          <p:nvPr/>
        </p:nvSpPr>
        <p:spPr>
          <a:xfrm>
            <a:off x="539640" y="1945800"/>
            <a:ext cx="837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，食之不能尽其材，鸣之而不能通其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4"/>
          <p:cNvSpPr/>
          <p:nvPr/>
        </p:nvSpPr>
        <p:spPr>
          <a:xfrm>
            <a:off x="326880" y="2280240"/>
            <a:ext cx="83714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排比的修辞手法，将“食马者”的平庸浅薄刻画得淋漓尽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5"/>
          <p:cNvSpPr/>
          <p:nvPr/>
        </p:nvSpPr>
        <p:spPr>
          <a:xfrm>
            <a:off x="827640" y="3336480"/>
            <a:ext cx="155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6"/>
          <p:cNvSpPr/>
          <p:nvPr/>
        </p:nvSpPr>
        <p:spPr>
          <a:xfrm>
            <a:off x="2267640" y="3336480"/>
            <a:ext cx="1968120" cy="363960"/>
          </a:xfrm>
          <a:prstGeom prst="rect">
            <a:avLst/>
          </a:prstGeom>
          <a:gradFill rotWithShape="0">
            <a:gsLst>
              <a:gs pos="0">
                <a:srgbClr val="e5f3f5"/>
              </a:gs>
              <a:gs pos="100000">
                <a:srgbClr val="d9edef"/>
              </a:gs>
            </a:gsLst>
            <a:lin ang="5400000"/>
          </a:gradFill>
          <a:ln>
            <a:solidFill>
              <a:srgbClr val="bbe0e3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不识千里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"/>
          <p:cNvSpPr/>
          <p:nvPr/>
        </p:nvSpPr>
        <p:spPr>
          <a:xfrm>
            <a:off x="4380480" y="3336480"/>
            <a:ext cx="1770480" cy="363960"/>
          </a:xfrm>
          <a:prstGeom prst="rect">
            <a:avLst/>
          </a:prstGeom>
          <a:gradFill rotWithShape="0">
            <a:gsLst>
              <a:gs pos="0">
                <a:srgbClr val="e5f3f5"/>
              </a:gs>
              <a:gs pos="100000">
                <a:srgbClr val="d9edef"/>
              </a:gs>
            </a:gsLst>
            <a:lin ang="5400000"/>
          </a:gradFill>
          <a:ln>
            <a:solidFill>
              <a:srgbClr val="bbe0e3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平庸浅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6305040" y="3336480"/>
            <a:ext cx="1650960" cy="363960"/>
          </a:xfrm>
          <a:prstGeom prst="rect">
            <a:avLst/>
          </a:prstGeom>
          <a:gradFill rotWithShape="0">
            <a:gsLst>
              <a:gs pos="0">
                <a:srgbClr val="e5f3f5"/>
              </a:gs>
              <a:gs pos="100000">
                <a:srgbClr val="d9edef"/>
              </a:gs>
            </a:gsLst>
            <a:lin ang="5400000"/>
          </a:gradFill>
          <a:ln>
            <a:solidFill>
              <a:srgbClr val="bbe0e3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愚妄无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45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47" name="菱形 17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3"/>
          <p:cNvSpPr/>
          <p:nvPr/>
        </p:nvSpPr>
        <p:spPr>
          <a:xfrm>
            <a:off x="539640" y="699480"/>
            <a:ext cx="82069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相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次，伯乐受楚王的委托，购买能日行千里的骏马。伯乐在路上看到一匹马拉着盐车，很吃力地在陡坡上行进。马见伯乐走近，突然昂起头来，瞪大眼睛，大声嘶鸣。伯乐立即从声音中判断出，这是一匹难得的骏马。伯乐向驾车的人说要买马。驾车人毫不犹豫地同意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牵走千里马，直奔楚国。楚王听到伯乐对马的介绍后，命马夫尽心尽力把马喂好。半个月后，楚王跨马扬鞭，但觉两耳生风，喘息的功夫，已跑出百里之外。后来，千里马为楚王驰骋沙场，立下不少功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文本框 2"/>
          <p:cNvSpPr/>
          <p:nvPr/>
        </p:nvSpPr>
        <p:spPr>
          <a:xfrm>
            <a:off x="3320280" y="1221480"/>
            <a:ext cx="65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一段中哪句话揭示了全文的中心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"/>
          <p:cNvSpPr/>
          <p:nvPr/>
        </p:nvSpPr>
        <p:spPr>
          <a:xfrm>
            <a:off x="2301120" y="1716480"/>
            <a:ext cx="26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真不知马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3"/>
          <p:cNvSpPr/>
          <p:nvPr/>
        </p:nvSpPr>
        <p:spPr>
          <a:xfrm>
            <a:off x="611640" y="3197520"/>
            <a:ext cx="7566480" cy="363960"/>
          </a:xfrm>
          <a:prstGeom prst="rect">
            <a:avLst/>
          </a:prstGeom>
          <a:gradFill rotWithShape="0">
            <a:gsLst>
              <a:gs pos="0">
                <a:srgbClr val="e1f0f1"/>
              </a:gs>
              <a:gs pos="100000">
                <a:srgbClr val="d7edee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第三段：辛辣地讽刺了食马者的浅薄无知，点明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4"/>
          <p:cNvSpPr/>
          <p:nvPr/>
        </p:nvSpPr>
        <p:spPr>
          <a:xfrm>
            <a:off x="1799280" y="2593080"/>
            <a:ext cx="86688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解决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右箭头 5"/>
          <p:cNvSpPr/>
          <p:nvPr/>
        </p:nvSpPr>
        <p:spPr>
          <a:xfrm>
            <a:off x="3080520" y="2676600"/>
            <a:ext cx="504000" cy="1785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e321d5"/>
              </a:gs>
            </a:gsLst>
            <a:lin ang="162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3" name="文本框 7"/>
          <p:cNvSpPr/>
          <p:nvPr/>
        </p:nvSpPr>
        <p:spPr>
          <a:xfrm>
            <a:off x="4777560" y="2593080"/>
            <a:ext cx="1820880" cy="36396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点明主旨——其真不知马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15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55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57" name="菱形 16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717840" y="1500120"/>
            <a:ext cx="77076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”和“千里马”有什么深层含义吗？作者究竟想借“千里马”表达什么呢？让我们继续学习课文，寻找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"/>
          <p:cNvGrpSpPr/>
          <p:nvPr/>
        </p:nvGrpSpPr>
        <p:grpSpPr>
          <a:xfrm>
            <a:off x="179280" y="735840"/>
            <a:ext cx="1630080" cy="394560"/>
            <a:chOff x="179280" y="735840"/>
            <a:chExt cx="1630080" cy="394560"/>
          </a:xfrm>
        </p:grpSpPr>
        <p:pic>
          <p:nvPicPr>
            <p:cNvPr id="360" name="图片 2" descr=""/>
            <p:cNvPicPr/>
            <p:nvPr/>
          </p:nvPicPr>
          <p:blipFill>
            <a:blip r:embed="rId1"/>
            <a:stretch/>
          </p:blipFill>
          <p:spPr>
            <a:xfrm>
              <a:off x="179280" y="744120"/>
              <a:ext cx="16300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文本框 11"/>
            <p:cNvSpPr/>
            <p:nvPr/>
          </p:nvSpPr>
          <p:spPr>
            <a:xfrm>
              <a:off x="191520" y="735840"/>
              <a:ext cx="1231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2892960" y="1944000"/>
            <a:ext cx="835200" cy="36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人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3"/>
          <p:cNvSpPr/>
          <p:nvPr/>
        </p:nvSpPr>
        <p:spPr>
          <a:xfrm>
            <a:off x="2792880" y="1062720"/>
            <a:ext cx="2971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”“千里马”“食马者”分别比喻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"/>
          <p:cNvSpPr/>
          <p:nvPr/>
        </p:nvSpPr>
        <p:spPr>
          <a:xfrm>
            <a:off x="1385640" y="1545480"/>
            <a:ext cx="574200" cy="363960"/>
          </a:xfrm>
          <a:prstGeom prst="rect">
            <a:avLst/>
          </a:prstGeom>
          <a:gradFill rotWithShape="0">
            <a:gsLst>
              <a:gs pos="0">
                <a:srgbClr val="fafcfc"/>
              </a:gs>
              <a:gs pos="100000">
                <a:srgbClr val="eff7f7"/>
              </a:gs>
            </a:gsLst>
            <a:lin ang="5400000"/>
          </a:gradFill>
          <a:ln>
            <a:solidFill>
              <a:srgbClr val="d9edee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伯  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3411000" y="1541520"/>
            <a:ext cx="1004040" cy="36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赏识人才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8"/>
          <p:cNvSpPr/>
          <p:nvPr/>
        </p:nvSpPr>
        <p:spPr>
          <a:xfrm>
            <a:off x="1375560" y="2338920"/>
            <a:ext cx="592560" cy="363960"/>
          </a:xfrm>
          <a:prstGeom prst="rect">
            <a:avLst/>
          </a:prstGeom>
          <a:gradFill rotWithShape="0">
            <a:gsLst>
              <a:gs pos="0">
                <a:srgbClr val="fafcfc"/>
              </a:gs>
              <a:gs pos="100000">
                <a:srgbClr val="eff7f7"/>
              </a:gs>
            </a:gsLst>
            <a:lin ang="5400000"/>
          </a:gradFill>
          <a:ln>
            <a:solidFill>
              <a:srgbClr val="d9edee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食马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9"/>
          <p:cNvSpPr/>
          <p:nvPr/>
        </p:nvSpPr>
        <p:spPr>
          <a:xfrm>
            <a:off x="5780880" y="2334600"/>
            <a:ext cx="286200" cy="36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昏庸的统治者（摧残人才、埋没人才的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0"/>
          <p:cNvSpPr/>
          <p:nvPr/>
        </p:nvSpPr>
        <p:spPr>
          <a:xfrm>
            <a:off x="1375560" y="1947960"/>
            <a:ext cx="592560" cy="363960"/>
          </a:xfrm>
          <a:prstGeom prst="rect">
            <a:avLst/>
          </a:prstGeom>
          <a:gradFill rotWithShape="0">
            <a:gsLst>
              <a:gs pos="0">
                <a:srgbClr val="fafcfc"/>
              </a:gs>
              <a:gs pos="100000">
                <a:srgbClr val="eff7f7"/>
              </a:gs>
            </a:gsLst>
            <a:lin ang="5400000"/>
          </a:gradFill>
          <a:ln>
            <a:solidFill>
              <a:srgbClr val="d9edee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千里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右箭头 11"/>
          <p:cNvSpPr/>
          <p:nvPr/>
        </p:nvSpPr>
        <p:spPr>
          <a:xfrm>
            <a:off x="2320560" y="1653480"/>
            <a:ext cx="504000" cy="1288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0" name="右箭头 12"/>
          <p:cNvSpPr/>
          <p:nvPr/>
        </p:nvSpPr>
        <p:spPr>
          <a:xfrm>
            <a:off x="2320560" y="2062800"/>
            <a:ext cx="504000" cy="1288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1" name="右箭头 13"/>
          <p:cNvSpPr/>
          <p:nvPr/>
        </p:nvSpPr>
        <p:spPr>
          <a:xfrm>
            <a:off x="2320560" y="2453760"/>
            <a:ext cx="504000" cy="1288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2" name="文本框 14"/>
          <p:cNvSpPr/>
          <p:nvPr/>
        </p:nvSpPr>
        <p:spPr>
          <a:xfrm>
            <a:off x="500400" y="2744640"/>
            <a:ext cx="8247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借“千里马”不遇“伯乐”的遭遇，寄托了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5"/>
          <p:cNvSpPr/>
          <p:nvPr/>
        </p:nvSpPr>
        <p:spPr>
          <a:xfrm>
            <a:off x="582120" y="3780360"/>
            <a:ext cx="8084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借古代伯乐和千里马的故事，比喻封建统治者不识人才，甚至摧残、压抑人才，表达了作者的愤慨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75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77" name="菱形 2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2"/>
          <p:cNvSpPr/>
          <p:nvPr/>
        </p:nvSpPr>
        <p:spPr>
          <a:xfrm>
            <a:off x="724320" y="1618200"/>
            <a:ext cx="7695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托物寓意是一种文学作品的写作手法，它借客观事物或景物来抒发主观的情思，蕴含文题的主旨，把一个深刻的道理通过对某一物的记叙、描写、议论等表达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80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2" name="菱形 11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83" name="矩形 4"/>
          <p:cNvSpPr/>
          <p:nvPr/>
        </p:nvSpPr>
        <p:spPr>
          <a:xfrm>
            <a:off x="4206960" y="1135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托物寓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1"/>
          <p:cNvSpPr/>
          <p:nvPr/>
        </p:nvSpPr>
        <p:spPr>
          <a:xfrm>
            <a:off x="551880" y="1032480"/>
            <a:ext cx="803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短文仅一百余字，多次提到“千里马”，却不显得啰唆。作者提到“千里马”的方式有哪几种？各具有怎样的效果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2"/>
          <p:cNvSpPr/>
          <p:nvPr/>
        </p:nvSpPr>
        <p:spPr>
          <a:xfrm>
            <a:off x="551880" y="2672640"/>
            <a:ext cx="8136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直称，如“千里马”。正面提及，表述严正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暗称，如“名马”“马之千里者”。表述委婉，虽不直呼其名，而意在其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代称，如“是马也”。表意简洁含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87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9" name="菱形 11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1"/>
          <p:cNvSpPr/>
          <p:nvPr/>
        </p:nvSpPr>
        <p:spPr>
          <a:xfrm>
            <a:off x="463680" y="1059480"/>
            <a:ext cx="8212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认为“世有伯乐，然后有千里马”。如果你是千里马，你是否一定要等到伯乐的赏识才能实现自己的价值呢？请谈谈你的看法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"/>
          <p:cNvSpPr/>
          <p:nvPr/>
        </p:nvSpPr>
        <p:spPr>
          <a:xfrm>
            <a:off x="467640" y="2592360"/>
            <a:ext cx="8183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示例：杜牧虽然怀才不遇，却成就了万世诗名；刘禹锡虽然身居陋室，安贫乐道的美德却流芳百世；东坡居士虽然常遭贬谪，却修炼出了空前绝后的乐观豁达；韩愈虽然没有遇到伯乐，但是他用他的诗歌、他的文章、他一生的言行，告诉我们，如果有一天我们怀才不遇，那么就做自己的伯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93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95" name="菱形 18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本框 1"/>
          <p:cNvSpPr/>
          <p:nvPr/>
        </p:nvSpPr>
        <p:spPr>
          <a:xfrm>
            <a:off x="520560" y="1038240"/>
            <a:ext cx="67669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注意把握下面句子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98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00" name="菱形 11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01" name="TextBox 3"/>
          <p:cNvSpPr/>
          <p:nvPr/>
        </p:nvSpPr>
        <p:spPr>
          <a:xfrm>
            <a:off x="683640" y="1554480"/>
            <a:ext cx="7704360" cy="3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马之千里者，一食或尽粟一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且欲与常马等不可得，安求其能千里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鸣之而不能通其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呜呼！其真无马邪？其真不知马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1547640" y="1869840"/>
            <a:ext cx="17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1547640" y="2523600"/>
            <a:ext cx="17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问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547640" y="3165840"/>
            <a:ext cx="17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折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1547640" y="381384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诘问、感叹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539640" y="1524240"/>
            <a:ext cx="7633800" cy="14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不知其能千里而食也（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才美不外见（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327280" y="1909440"/>
            <a:ext cx="239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“饲”，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701800" y="2786040"/>
            <a:ext cx="3901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“现”，显现、表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10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1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12" name="菱形 18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3" name="组合 68"/>
          <p:cNvGrpSpPr/>
          <p:nvPr/>
        </p:nvGrpSpPr>
        <p:grpSpPr>
          <a:xfrm>
            <a:off x="539640" y="1066680"/>
            <a:ext cx="1496520" cy="635760"/>
            <a:chOff x="539640" y="1066680"/>
            <a:chExt cx="1496520" cy="635760"/>
          </a:xfrm>
        </p:grpSpPr>
        <p:sp>
          <p:nvSpPr>
            <p:cNvPr id="414" name="圆角矩形 20"/>
            <p:cNvSpPr/>
            <p:nvPr/>
          </p:nvSpPr>
          <p:spPr>
            <a:xfrm rot="20326200">
              <a:off x="1533240" y="115704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 w="25400"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15" name="圆角矩形 21"/>
            <p:cNvSpPr/>
            <p:nvPr/>
          </p:nvSpPr>
          <p:spPr>
            <a:xfrm rot="319200">
              <a:off x="1045800" y="11592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25400"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圆角矩形 22"/>
            <p:cNvSpPr/>
            <p:nvPr/>
          </p:nvSpPr>
          <p:spPr>
            <a:xfrm rot="21148200">
              <a:off x="574560" y="116532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 w="25400"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矩形 1"/>
            <p:cNvSpPr/>
            <p:nvPr/>
          </p:nvSpPr>
          <p:spPr>
            <a:xfrm>
              <a:off x="539640" y="1066680"/>
              <a:ext cx="149652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通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"/>
          <p:cNvSpPr/>
          <p:nvPr/>
        </p:nvSpPr>
        <p:spPr>
          <a:xfrm>
            <a:off x="1467720" y="1998360"/>
            <a:ext cx="63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"/>
          <p:cNvSpPr/>
          <p:nvPr/>
        </p:nvSpPr>
        <p:spPr>
          <a:xfrm>
            <a:off x="3163320" y="1952640"/>
            <a:ext cx="4898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义：有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义：或许，或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7"/>
          <p:cNvSpPr/>
          <p:nvPr/>
        </p:nvSpPr>
        <p:spPr>
          <a:xfrm>
            <a:off x="1315440" y="147024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奴隶人之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"/>
          <p:cNvSpPr/>
          <p:nvPr/>
        </p:nvSpPr>
        <p:spPr>
          <a:xfrm>
            <a:off x="3191760" y="1362960"/>
            <a:ext cx="6136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义：仆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义：为奴隶主劳动而没有人身自由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9"/>
          <p:cNvSpPr/>
          <p:nvPr/>
        </p:nvSpPr>
        <p:spPr>
          <a:xfrm>
            <a:off x="820800" y="25264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马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0"/>
          <p:cNvSpPr/>
          <p:nvPr/>
        </p:nvSpPr>
        <p:spPr>
          <a:xfrm>
            <a:off x="1644120" y="2532960"/>
            <a:ext cx="573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义：这样。    今义：判断动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1"/>
          <p:cNvSpPr/>
          <p:nvPr/>
        </p:nvSpPr>
        <p:spPr>
          <a:xfrm>
            <a:off x="1216440" y="305460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求其能千里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2"/>
          <p:cNvSpPr/>
          <p:nvPr/>
        </p:nvSpPr>
        <p:spPr>
          <a:xfrm>
            <a:off x="3002040" y="2918160"/>
            <a:ext cx="516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义：怎么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义：安全，平安，安定，安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3"/>
          <p:cNvSpPr/>
          <p:nvPr/>
        </p:nvSpPr>
        <p:spPr>
          <a:xfrm>
            <a:off x="1414440" y="358272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且欲与常马等不可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4"/>
          <p:cNvSpPr/>
          <p:nvPr/>
        </p:nvSpPr>
        <p:spPr>
          <a:xfrm>
            <a:off x="3677760" y="3506040"/>
            <a:ext cx="546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义：同样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义：等候；用在人称代词、名词后，表示复数或列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29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0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31" name="菱形 24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2" name="组合 8"/>
          <p:cNvGrpSpPr/>
          <p:nvPr/>
        </p:nvGrpSpPr>
        <p:grpSpPr>
          <a:xfrm>
            <a:off x="534960" y="1068120"/>
            <a:ext cx="1742760" cy="635760"/>
            <a:chOff x="534960" y="1068120"/>
            <a:chExt cx="1742760" cy="635760"/>
          </a:xfrm>
        </p:grpSpPr>
        <p:sp>
          <p:nvSpPr>
            <p:cNvPr id="433" name="圆角矩形 26"/>
            <p:cNvSpPr/>
            <p:nvPr/>
          </p:nvSpPr>
          <p:spPr>
            <a:xfrm rot="555600">
              <a:off x="1803240" y="1155960"/>
              <a:ext cx="442440" cy="312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圆角矩形 27"/>
            <p:cNvSpPr/>
            <p:nvPr/>
          </p:nvSpPr>
          <p:spPr>
            <a:xfrm rot="20470800">
              <a:off x="1398240" y="116064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5" name="圆角矩形 28"/>
            <p:cNvSpPr/>
            <p:nvPr/>
          </p:nvSpPr>
          <p:spPr>
            <a:xfrm rot="319200">
              <a:off x="979200" y="116064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6" name="圆角矩形 29"/>
            <p:cNvSpPr/>
            <p:nvPr/>
          </p:nvSpPr>
          <p:spPr>
            <a:xfrm rot="21148200">
              <a:off x="569520" y="116640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矩形 1"/>
            <p:cNvSpPr/>
            <p:nvPr/>
          </p:nvSpPr>
          <p:spPr>
            <a:xfrm>
              <a:off x="534960" y="106812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古今异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36878"/>
          <p:cNvSpPr/>
          <p:nvPr/>
        </p:nvSpPr>
        <p:spPr>
          <a:xfrm>
            <a:off x="1348200" y="2894040"/>
            <a:ext cx="6757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求其能千里也（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6865"/>
          <p:cNvSpPr/>
          <p:nvPr/>
        </p:nvSpPr>
        <p:spPr>
          <a:xfrm>
            <a:off x="611640" y="1931040"/>
            <a:ext cx="56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左大括号 36866"/>
          <p:cNvSpPr/>
          <p:nvPr/>
        </p:nvSpPr>
        <p:spPr>
          <a:xfrm>
            <a:off x="1122840" y="1621800"/>
            <a:ext cx="256320" cy="994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41" name="文本框 36867"/>
          <p:cNvSpPr/>
          <p:nvPr/>
        </p:nvSpPr>
        <p:spPr>
          <a:xfrm>
            <a:off x="1348200" y="1429200"/>
            <a:ext cx="6607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（                  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6868"/>
          <p:cNvSpPr/>
          <p:nvPr/>
        </p:nvSpPr>
        <p:spPr>
          <a:xfrm>
            <a:off x="1348200" y="1782720"/>
            <a:ext cx="6757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奴隶人之手（                     ）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6869"/>
          <p:cNvSpPr/>
          <p:nvPr/>
        </p:nvSpPr>
        <p:spPr>
          <a:xfrm>
            <a:off x="1348200" y="2136240"/>
            <a:ext cx="6757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之千里者（   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6870"/>
          <p:cNvSpPr/>
          <p:nvPr/>
        </p:nvSpPr>
        <p:spPr>
          <a:xfrm>
            <a:off x="1348200" y="2489760"/>
            <a:ext cx="6607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鸣之而不能通其意（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6871"/>
          <p:cNvSpPr/>
          <p:nvPr/>
        </p:nvSpPr>
        <p:spPr>
          <a:xfrm>
            <a:off x="4696560" y="1426320"/>
            <a:ext cx="15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代词，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6872"/>
          <p:cNvSpPr/>
          <p:nvPr/>
        </p:nvSpPr>
        <p:spPr>
          <a:xfrm>
            <a:off x="4683600" y="1783080"/>
            <a:ext cx="1542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助词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6873"/>
          <p:cNvSpPr/>
          <p:nvPr/>
        </p:nvSpPr>
        <p:spPr>
          <a:xfrm>
            <a:off x="4399560" y="2125440"/>
            <a:ext cx="2110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定语后置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36874"/>
          <p:cNvSpPr/>
          <p:nvPr/>
        </p:nvSpPr>
        <p:spPr>
          <a:xfrm>
            <a:off x="4294800" y="2489760"/>
            <a:ext cx="2319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助词，不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6875"/>
          <p:cNvSpPr/>
          <p:nvPr/>
        </p:nvSpPr>
        <p:spPr>
          <a:xfrm>
            <a:off x="611640" y="3409560"/>
            <a:ext cx="621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6877"/>
          <p:cNvSpPr/>
          <p:nvPr/>
        </p:nvSpPr>
        <p:spPr>
          <a:xfrm>
            <a:off x="1348200" y="4014000"/>
            <a:ext cx="716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真不知马也（                         ）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6879"/>
          <p:cNvSpPr/>
          <p:nvPr/>
        </p:nvSpPr>
        <p:spPr>
          <a:xfrm>
            <a:off x="1348200" y="3267360"/>
            <a:ext cx="710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真无马邪（                    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6880"/>
          <p:cNvSpPr/>
          <p:nvPr/>
        </p:nvSpPr>
        <p:spPr>
          <a:xfrm>
            <a:off x="1348200" y="3640680"/>
            <a:ext cx="700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（ 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6881"/>
          <p:cNvSpPr/>
          <p:nvPr/>
        </p:nvSpPr>
        <p:spPr>
          <a:xfrm>
            <a:off x="5089680" y="28562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代词，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6882"/>
          <p:cNvSpPr/>
          <p:nvPr/>
        </p:nvSpPr>
        <p:spPr>
          <a:xfrm>
            <a:off x="3510720" y="3260880"/>
            <a:ext cx="3887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词，表示加强诘问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36883"/>
          <p:cNvSpPr/>
          <p:nvPr/>
        </p:nvSpPr>
        <p:spPr>
          <a:xfrm>
            <a:off x="5020920" y="361296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代词，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36883"/>
          <p:cNvSpPr/>
          <p:nvPr/>
        </p:nvSpPr>
        <p:spPr>
          <a:xfrm>
            <a:off x="4541040" y="4013640"/>
            <a:ext cx="182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词，表示推测语气，恐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58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60" name="菱形 34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61" name="组合 8"/>
          <p:cNvGrpSpPr/>
          <p:nvPr/>
        </p:nvGrpSpPr>
        <p:grpSpPr>
          <a:xfrm>
            <a:off x="534960" y="996480"/>
            <a:ext cx="1742760" cy="635760"/>
            <a:chOff x="534960" y="996480"/>
            <a:chExt cx="1742760" cy="635760"/>
          </a:xfrm>
        </p:grpSpPr>
        <p:sp>
          <p:nvSpPr>
            <p:cNvPr id="462" name="圆角矩形 36"/>
            <p:cNvSpPr/>
            <p:nvPr/>
          </p:nvSpPr>
          <p:spPr>
            <a:xfrm rot="555600">
              <a:off x="1803240" y="1084680"/>
              <a:ext cx="442440" cy="312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63" name="圆角矩形 37"/>
            <p:cNvSpPr/>
            <p:nvPr/>
          </p:nvSpPr>
          <p:spPr>
            <a:xfrm rot="20470800">
              <a:off x="1398240" y="108936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64" name="圆角矩形 38"/>
            <p:cNvSpPr/>
            <p:nvPr/>
          </p:nvSpPr>
          <p:spPr>
            <a:xfrm rot="319200">
              <a:off x="979200" y="108900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65" name="圆角矩形 39"/>
            <p:cNvSpPr/>
            <p:nvPr/>
          </p:nvSpPr>
          <p:spPr>
            <a:xfrm rot="21148200">
              <a:off x="569520" y="109512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66" name="矩形 1"/>
            <p:cNvSpPr/>
            <p:nvPr/>
          </p:nvSpPr>
          <p:spPr>
            <a:xfrm>
              <a:off x="534960" y="9964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一词多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左大括号 36866"/>
          <p:cNvSpPr/>
          <p:nvPr/>
        </p:nvSpPr>
        <p:spPr>
          <a:xfrm>
            <a:off x="1122840" y="3048480"/>
            <a:ext cx="256320" cy="119700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334800" y="1545480"/>
            <a:ext cx="8473680" cy="10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解本文作者及文体特征，积累文言字词，在疏通文意的基础上背诵全文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解托物寓意的写法，把握文章的寓意，理解作者的思想感情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认识千里马与伯乐之间的关系，认识当今时代的优越条件，努力学习，做有用之才。（素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5"/>
          <p:cNvGrpSpPr/>
          <p:nvPr/>
        </p:nvGrpSpPr>
        <p:grpSpPr>
          <a:xfrm>
            <a:off x="179280" y="735840"/>
            <a:ext cx="1630080" cy="394560"/>
            <a:chOff x="179280" y="735840"/>
            <a:chExt cx="1630080" cy="394560"/>
          </a:xfrm>
        </p:grpSpPr>
        <p:pic>
          <p:nvPicPr>
            <p:cNvPr id="173" name="图片 9" descr=""/>
            <p:cNvPicPr/>
            <p:nvPr/>
          </p:nvPicPr>
          <p:blipFill>
            <a:blip r:embed="rId1"/>
            <a:stretch/>
          </p:blipFill>
          <p:spPr>
            <a:xfrm>
              <a:off x="179280" y="744120"/>
              <a:ext cx="16300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11"/>
            <p:cNvSpPr/>
            <p:nvPr/>
          </p:nvSpPr>
          <p:spPr>
            <a:xfrm>
              <a:off x="191520" y="735840"/>
              <a:ext cx="1231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-4680" y="1059480"/>
            <a:ext cx="2006280" cy="516240"/>
            <a:chOff x="-4680" y="1059480"/>
            <a:chExt cx="2006280" cy="516240"/>
          </a:xfrm>
        </p:grpSpPr>
        <p:sp>
          <p:nvSpPr>
            <p:cNvPr id="176" name="文本框 6"/>
            <p:cNvSpPr/>
            <p:nvPr/>
          </p:nvSpPr>
          <p:spPr>
            <a:xfrm>
              <a:off x="673920" y="1059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直线连接符 9"/>
            <p:cNvCxnSpPr/>
            <p:nvPr/>
          </p:nvCxnSpPr>
          <p:spPr>
            <a:xfrm>
              <a:off x="-4680" y="142380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78" name="菱形 18"/>
            <p:cNvSpPr/>
            <p:nvPr/>
          </p:nvSpPr>
          <p:spPr>
            <a:xfrm>
              <a:off x="30240" y="1160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37892"/>
          <p:cNvSpPr/>
          <p:nvPr/>
        </p:nvSpPr>
        <p:spPr>
          <a:xfrm>
            <a:off x="467640" y="146952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7894"/>
          <p:cNvSpPr/>
          <p:nvPr/>
        </p:nvSpPr>
        <p:spPr>
          <a:xfrm>
            <a:off x="1197720" y="1135080"/>
            <a:ext cx="6347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以千里称也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7895"/>
          <p:cNvSpPr/>
          <p:nvPr/>
        </p:nvSpPr>
        <p:spPr>
          <a:xfrm>
            <a:off x="1197720" y="1838520"/>
            <a:ext cx="621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7896"/>
          <p:cNvSpPr/>
          <p:nvPr/>
        </p:nvSpPr>
        <p:spPr>
          <a:xfrm>
            <a:off x="467640" y="248796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7898"/>
          <p:cNvSpPr/>
          <p:nvPr/>
        </p:nvSpPr>
        <p:spPr>
          <a:xfrm>
            <a:off x="1197720" y="2818800"/>
            <a:ext cx="683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知其能千里而食也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37899"/>
          <p:cNvSpPr/>
          <p:nvPr/>
        </p:nvSpPr>
        <p:spPr>
          <a:xfrm>
            <a:off x="1197720" y="2228760"/>
            <a:ext cx="7165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伯乐不常有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7900"/>
          <p:cNvSpPr/>
          <p:nvPr/>
        </p:nvSpPr>
        <p:spPr>
          <a:xfrm>
            <a:off x="3973680" y="1113480"/>
            <a:ext cx="2248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介词，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37901"/>
          <p:cNvSpPr/>
          <p:nvPr/>
        </p:nvSpPr>
        <p:spPr>
          <a:xfrm>
            <a:off x="3927240" y="1816920"/>
            <a:ext cx="2295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介词，按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7902"/>
          <p:cNvSpPr/>
          <p:nvPr/>
        </p:nvSpPr>
        <p:spPr>
          <a:xfrm>
            <a:off x="3831480" y="2207160"/>
            <a:ext cx="2391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转折，但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37903"/>
          <p:cNvSpPr/>
          <p:nvPr/>
        </p:nvSpPr>
        <p:spPr>
          <a:xfrm>
            <a:off x="4505040" y="2797560"/>
            <a:ext cx="2241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顺承，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79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81" name="菱形 28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82" name="文本框 38923"/>
          <p:cNvSpPr/>
          <p:nvPr/>
        </p:nvSpPr>
        <p:spPr>
          <a:xfrm>
            <a:off x="467640" y="350568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8924"/>
          <p:cNvSpPr/>
          <p:nvPr/>
        </p:nvSpPr>
        <p:spPr>
          <a:xfrm>
            <a:off x="1197720" y="3241440"/>
            <a:ext cx="6610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执策而临之（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8925"/>
          <p:cNvSpPr/>
          <p:nvPr/>
        </p:nvSpPr>
        <p:spPr>
          <a:xfrm>
            <a:off x="1197720" y="3780000"/>
            <a:ext cx="6096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8926"/>
          <p:cNvSpPr/>
          <p:nvPr/>
        </p:nvSpPr>
        <p:spPr>
          <a:xfrm>
            <a:off x="4413960" y="3219840"/>
            <a:ext cx="1614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鞭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8927"/>
          <p:cNvSpPr/>
          <p:nvPr/>
        </p:nvSpPr>
        <p:spPr>
          <a:xfrm>
            <a:off x="4409640" y="3758760"/>
            <a:ext cx="201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鞭子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左大括号 36866"/>
          <p:cNvSpPr/>
          <p:nvPr/>
        </p:nvSpPr>
        <p:spPr>
          <a:xfrm>
            <a:off x="993600" y="125280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88" name="左大括号 36866"/>
          <p:cNvSpPr/>
          <p:nvPr/>
        </p:nvSpPr>
        <p:spPr>
          <a:xfrm>
            <a:off x="993600" y="229104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89" name="左大括号 36866"/>
          <p:cNvSpPr/>
          <p:nvPr/>
        </p:nvSpPr>
        <p:spPr>
          <a:xfrm>
            <a:off x="993600" y="327204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38917"/>
          <p:cNvSpPr/>
          <p:nvPr/>
        </p:nvSpPr>
        <p:spPr>
          <a:xfrm>
            <a:off x="538560" y="248940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8918"/>
          <p:cNvSpPr/>
          <p:nvPr/>
        </p:nvSpPr>
        <p:spPr>
          <a:xfrm>
            <a:off x="1275480" y="2144160"/>
            <a:ext cx="4859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虽有千里之能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8919"/>
          <p:cNvSpPr/>
          <p:nvPr/>
        </p:nvSpPr>
        <p:spPr>
          <a:xfrm>
            <a:off x="1275480" y="2834640"/>
            <a:ext cx="5065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求其能千里也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38920"/>
          <p:cNvSpPr/>
          <p:nvPr/>
        </p:nvSpPr>
        <p:spPr>
          <a:xfrm>
            <a:off x="3852000" y="2143800"/>
            <a:ext cx="934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8921"/>
          <p:cNvSpPr/>
          <p:nvPr/>
        </p:nvSpPr>
        <p:spPr>
          <a:xfrm>
            <a:off x="4273920" y="2834640"/>
            <a:ext cx="94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38928"/>
          <p:cNvSpPr/>
          <p:nvPr/>
        </p:nvSpPr>
        <p:spPr>
          <a:xfrm>
            <a:off x="538560" y="144432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38930"/>
          <p:cNvSpPr/>
          <p:nvPr/>
        </p:nvSpPr>
        <p:spPr>
          <a:xfrm>
            <a:off x="1275480" y="1123920"/>
            <a:ext cx="3790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38931"/>
          <p:cNvSpPr/>
          <p:nvPr/>
        </p:nvSpPr>
        <p:spPr>
          <a:xfrm>
            <a:off x="1275480" y="1761840"/>
            <a:ext cx="6703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不知其能千里而食也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8932"/>
          <p:cNvSpPr/>
          <p:nvPr/>
        </p:nvSpPr>
        <p:spPr>
          <a:xfrm>
            <a:off x="4002480" y="1113480"/>
            <a:ext cx="64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8933"/>
          <p:cNvSpPr/>
          <p:nvPr/>
        </p:nvSpPr>
        <p:spPr>
          <a:xfrm>
            <a:off x="5364000" y="1761480"/>
            <a:ext cx="2279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“饲”，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501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03" name="菱形 32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04" name="文本框 37896"/>
          <p:cNvSpPr/>
          <p:nvPr/>
        </p:nvSpPr>
        <p:spPr>
          <a:xfrm>
            <a:off x="538560" y="3501360"/>
            <a:ext cx="826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7898"/>
          <p:cNvSpPr/>
          <p:nvPr/>
        </p:nvSpPr>
        <p:spPr>
          <a:xfrm>
            <a:off x="1275480" y="3846600"/>
            <a:ext cx="4859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之不能尽其材（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37899"/>
          <p:cNvSpPr/>
          <p:nvPr/>
        </p:nvSpPr>
        <p:spPr>
          <a:xfrm>
            <a:off x="1275480" y="3188880"/>
            <a:ext cx="4952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（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7902"/>
          <p:cNvSpPr/>
          <p:nvPr/>
        </p:nvSpPr>
        <p:spPr>
          <a:xfrm>
            <a:off x="3760920" y="3188880"/>
            <a:ext cx="1812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词，吃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37903"/>
          <p:cNvSpPr/>
          <p:nvPr/>
        </p:nvSpPr>
        <p:spPr>
          <a:xfrm>
            <a:off x="3846240" y="3846600"/>
            <a:ext cx="345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词，竭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左大括号 36866"/>
          <p:cNvSpPr/>
          <p:nvPr/>
        </p:nvSpPr>
        <p:spPr>
          <a:xfrm>
            <a:off x="1027440" y="122436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0" name="左大括号 36866"/>
          <p:cNvSpPr/>
          <p:nvPr/>
        </p:nvSpPr>
        <p:spPr>
          <a:xfrm>
            <a:off x="1027440" y="228456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左大括号 36866"/>
          <p:cNvSpPr/>
          <p:nvPr/>
        </p:nvSpPr>
        <p:spPr>
          <a:xfrm>
            <a:off x="1027440" y="3316680"/>
            <a:ext cx="256320" cy="832680"/>
          </a:xfrm>
          <a:prstGeom prst="leftBrace">
            <a:avLst>
              <a:gd name="adj1" fmla="val 40851"/>
              <a:gd name="adj2" fmla="val 50000"/>
            </a:avLst>
          </a:prstGeom>
          <a:noFill/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3"/>
          <p:cNvSpPr/>
          <p:nvPr/>
        </p:nvSpPr>
        <p:spPr>
          <a:xfrm>
            <a:off x="466200" y="1477440"/>
            <a:ext cx="8857800" cy="24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奴隶人之手（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（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（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不知其能千里而食也（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之不能尽其材（       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3660480" y="1559520"/>
            <a:ext cx="4098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词作动词，受屈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3276720" y="2106000"/>
            <a:ext cx="3281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词作动词，吃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2857320" y="2605320"/>
            <a:ext cx="3874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词作动词，用马鞭驱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4850640" y="3109680"/>
            <a:ext cx="3609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量词作动词，行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3084840" y="3600360"/>
            <a:ext cx="553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词的使动用法，使……尽，竭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519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21" name="菱形 26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522" name="组合 8"/>
          <p:cNvGrpSpPr/>
          <p:nvPr/>
        </p:nvGrpSpPr>
        <p:grpSpPr>
          <a:xfrm>
            <a:off x="534960" y="1068120"/>
            <a:ext cx="1742760" cy="635760"/>
            <a:chOff x="534960" y="1068120"/>
            <a:chExt cx="1742760" cy="635760"/>
          </a:xfrm>
        </p:grpSpPr>
        <p:sp>
          <p:nvSpPr>
            <p:cNvPr id="523" name="圆角矩形 25"/>
            <p:cNvSpPr/>
            <p:nvPr/>
          </p:nvSpPr>
          <p:spPr>
            <a:xfrm rot="555600">
              <a:off x="1803240" y="1155960"/>
              <a:ext cx="442440" cy="312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24" name="圆角矩形 27"/>
            <p:cNvSpPr/>
            <p:nvPr/>
          </p:nvSpPr>
          <p:spPr>
            <a:xfrm rot="20470800">
              <a:off x="1398240" y="116064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25" name="圆角矩形 28"/>
            <p:cNvSpPr/>
            <p:nvPr/>
          </p:nvSpPr>
          <p:spPr>
            <a:xfrm rot="319200">
              <a:off x="979200" y="116064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26" name="圆角矩形 29"/>
            <p:cNvSpPr/>
            <p:nvPr/>
          </p:nvSpPr>
          <p:spPr>
            <a:xfrm rot="21148200">
              <a:off x="569520" y="116640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27" name="矩形 1"/>
            <p:cNvSpPr/>
            <p:nvPr/>
          </p:nvSpPr>
          <p:spPr>
            <a:xfrm>
              <a:off x="534960" y="106812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词类活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"/>
          <p:cNvSpPr/>
          <p:nvPr/>
        </p:nvSpPr>
        <p:spPr>
          <a:xfrm>
            <a:off x="459720" y="1519920"/>
            <a:ext cx="331128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倒装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之千里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奴隶人之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2"/>
          <p:cNvSpPr/>
          <p:nvPr/>
        </p:nvSpPr>
        <p:spPr>
          <a:xfrm>
            <a:off x="3338280" y="2255040"/>
            <a:ext cx="127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定语后置，正常语序应为“千里之马者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459720" y="2963520"/>
            <a:ext cx="81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状语后置，正常语序应为“祗于奴隶人之手辱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532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34" name="菱形 17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535" name="组合 8"/>
          <p:cNvGrpSpPr/>
          <p:nvPr/>
        </p:nvGrpSpPr>
        <p:grpSpPr>
          <a:xfrm>
            <a:off x="534960" y="1068120"/>
            <a:ext cx="1742760" cy="635760"/>
            <a:chOff x="534960" y="1068120"/>
            <a:chExt cx="1742760" cy="635760"/>
          </a:xfrm>
        </p:grpSpPr>
        <p:sp>
          <p:nvSpPr>
            <p:cNvPr id="536" name="圆角矩形 19"/>
            <p:cNvSpPr/>
            <p:nvPr/>
          </p:nvSpPr>
          <p:spPr>
            <a:xfrm rot="555600">
              <a:off x="1803240" y="1155960"/>
              <a:ext cx="442440" cy="312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37" name="圆角矩形 20"/>
            <p:cNvSpPr/>
            <p:nvPr/>
          </p:nvSpPr>
          <p:spPr>
            <a:xfrm rot="20470800">
              <a:off x="1398240" y="116064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38" name="圆角矩形 21"/>
            <p:cNvSpPr/>
            <p:nvPr/>
          </p:nvSpPr>
          <p:spPr>
            <a:xfrm rot="319200">
              <a:off x="979200" y="116064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39" name="圆角矩形 22"/>
            <p:cNvSpPr/>
            <p:nvPr/>
          </p:nvSpPr>
          <p:spPr>
            <a:xfrm rot="21148200">
              <a:off x="569520" y="1166400"/>
              <a:ext cx="441000" cy="31392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40" name="矩形 1"/>
            <p:cNvSpPr/>
            <p:nvPr/>
          </p:nvSpPr>
          <p:spPr>
            <a:xfrm>
              <a:off x="534960" y="106812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文言句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2"/>
          <p:cNvSpPr/>
          <p:nvPr/>
        </p:nvSpPr>
        <p:spPr>
          <a:xfrm>
            <a:off x="500400" y="1082520"/>
            <a:ext cx="82717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省略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不知其能千里而食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"/>
          <p:cNvSpPr/>
          <p:nvPr/>
        </p:nvSpPr>
        <p:spPr>
          <a:xfrm>
            <a:off x="500400" y="2029680"/>
            <a:ext cx="8271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”前面省略宾语“它”，可补充为“食马者不知其能千里而食（它）也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5"/>
          <p:cNvSpPr/>
          <p:nvPr/>
        </p:nvSpPr>
        <p:spPr>
          <a:xfrm>
            <a:off x="500400" y="3453840"/>
            <a:ext cx="809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省略主语“食马者”，可补充为“（食马者）策之不以其道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545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47" name="菱形 9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1"/>
          <p:cNvSpPr/>
          <p:nvPr/>
        </p:nvSpPr>
        <p:spPr>
          <a:xfrm>
            <a:off x="522720" y="1556640"/>
            <a:ext cx="80985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是一篇寓言性杂文，借伯乐相马的故事提出了“千里马常有，而伯乐不常有”的见解，托物寓意，讽刺和控诉了封建统治者不识人才、不重视人才、摧残人才的愚昧和昏庸，表达了作者怀才不遇的强烈愤慨，流露出强烈的呼唤识才的统治者，呼唤要重视人才的选拔和培养，对人才要给予优厚的待遇的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3"/>
          <p:cNvGrpSpPr/>
          <p:nvPr/>
        </p:nvGrpSpPr>
        <p:grpSpPr>
          <a:xfrm>
            <a:off x="28440" y="627480"/>
            <a:ext cx="2006640" cy="516240"/>
            <a:chOff x="28440" y="627480"/>
            <a:chExt cx="2006640" cy="516240"/>
          </a:xfrm>
        </p:grpSpPr>
        <p:sp>
          <p:nvSpPr>
            <p:cNvPr id="550" name="文本框 6"/>
            <p:cNvSpPr/>
            <p:nvPr/>
          </p:nvSpPr>
          <p:spPr>
            <a:xfrm>
              <a:off x="70776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直线连接符 9"/>
            <p:cNvCxnSpPr/>
            <p:nvPr/>
          </p:nvCxnSpPr>
          <p:spPr>
            <a:xfrm>
              <a:off x="28440" y="99036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52" name="菱形 26"/>
            <p:cNvSpPr/>
            <p:nvPr/>
          </p:nvSpPr>
          <p:spPr>
            <a:xfrm>
              <a:off x="63360" y="72756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553" name="组合 1"/>
          <p:cNvGrpSpPr/>
          <p:nvPr/>
        </p:nvGrpSpPr>
        <p:grpSpPr>
          <a:xfrm>
            <a:off x="3700440" y="1091880"/>
            <a:ext cx="1742760" cy="635760"/>
            <a:chOff x="3700440" y="1091880"/>
            <a:chExt cx="1742760" cy="635760"/>
          </a:xfrm>
        </p:grpSpPr>
        <p:sp>
          <p:nvSpPr>
            <p:cNvPr id="554" name="圆角矩形 15"/>
            <p:cNvSpPr/>
            <p:nvPr/>
          </p:nvSpPr>
          <p:spPr>
            <a:xfrm rot="555600">
              <a:off x="4968720" y="11797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55" name="圆角矩形 19"/>
            <p:cNvSpPr/>
            <p:nvPr/>
          </p:nvSpPr>
          <p:spPr>
            <a:xfrm rot="20470800">
              <a:off x="4563720" y="11847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56" name="圆角矩形 20"/>
            <p:cNvSpPr/>
            <p:nvPr/>
          </p:nvSpPr>
          <p:spPr>
            <a:xfrm rot="319200">
              <a:off x="4144680" y="11844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57" name="圆角矩形 21"/>
            <p:cNvSpPr/>
            <p:nvPr/>
          </p:nvSpPr>
          <p:spPr>
            <a:xfrm rot="21148200">
              <a:off x="3735360" y="11901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58" name="矩形 1"/>
            <p:cNvSpPr/>
            <p:nvPr/>
          </p:nvSpPr>
          <p:spPr>
            <a:xfrm>
              <a:off x="3700440" y="1091880"/>
              <a:ext cx="1742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概括主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"/>
          <p:cNvSpPr/>
          <p:nvPr/>
        </p:nvSpPr>
        <p:spPr>
          <a:xfrm>
            <a:off x="482760" y="1545480"/>
            <a:ext cx="8178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悟一：《马说》讽刺了压制、埋没人才的统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者，那是在古代社会。而在今天如此激烈的社会竞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，我们怎样才能立于不败之地呢？除了必备的才能，我们还要积极进取，善于抓住机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"/>
          <p:cNvSpPr/>
          <p:nvPr/>
        </p:nvSpPr>
        <p:spPr>
          <a:xfrm>
            <a:off x="444240" y="3558240"/>
            <a:ext cx="8161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悟二：“伯乐”对“千里马”有着非常重要的作用。当今社会是竞争的社会，给“人才”创设宽松的工作环境，使其能发挥出自己的才能，是当务之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1"/>
          <p:cNvGrpSpPr/>
          <p:nvPr/>
        </p:nvGrpSpPr>
        <p:grpSpPr>
          <a:xfrm>
            <a:off x="3700440" y="1091880"/>
            <a:ext cx="1742760" cy="635760"/>
            <a:chOff x="3700440" y="1091880"/>
            <a:chExt cx="1742760" cy="635760"/>
          </a:xfrm>
        </p:grpSpPr>
        <p:sp>
          <p:nvSpPr>
            <p:cNvPr id="562" name="圆角矩形 13"/>
            <p:cNvSpPr/>
            <p:nvPr/>
          </p:nvSpPr>
          <p:spPr>
            <a:xfrm rot="555600">
              <a:off x="4968720" y="11797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63" name="圆角矩形 14"/>
            <p:cNvSpPr/>
            <p:nvPr/>
          </p:nvSpPr>
          <p:spPr>
            <a:xfrm rot="20470800">
              <a:off x="4563720" y="11847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64" name="圆角矩形 15"/>
            <p:cNvSpPr/>
            <p:nvPr/>
          </p:nvSpPr>
          <p:spPr>
            <a:xfrm rot="319200">
              <a:off x="4144680" y="11844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65" name="圆角矩形 18"/>
            <p:cNvSpPr/>
            <p:nvPr/>
          </p:nvSpPr>
          <p:spPr>
            <a:xfrm rot="21148200">
              <a:off x="3735360" y="11901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66" name="矩形 1"/>
            <p:cNvSpPr/>
            <p:nvPr/>
          </p:nvSpPr>
          <p:spPr>
            <a:xfrm>
              <a:off x="3700440" y="1091880"/>
              <a:ext cx="1742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学后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13"/>
          <p:cNvGrpSpPr/>
          <p:nvPr/>
        </p:nvGrpSpPr>
        <p:grpSpPr>
          <a:xfrm>
            <a:off x="28440" y="627480"/>
            <a:ext cx="2006640" cy="516240"/>
            <a:chOff x="28440" y="627480"/>
            <a:chExt cx="2006640" cy="516240"/>
          </a:xfrm>
        </p:grpSpPr>
        <p:sp>
          <p:nvSpPr>
            <p:cNvPr id="568" name="文本框 6"/>
            <p:cNvSpPr/>
            <p:nvPr/>
          </p:nvSpPr>
          <p:spPr>
            <a:xfrm>
              <a:off x="70776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直线连接符 9"/>
            <p:cNvCxnSpPr/>
            <p:nvPr/>
          </p:nvCxnSpPr>
          <p:spPr>
            <a:xfrm>
              <a:off x="28440" y="99036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70" name="菱形 27"/>
            <p:cNvSpPr/>
            <p:nvPr/>
          </p:nvSpPr>
          <p:spPr>
            <a:xfrm>
              <a:off x="63360" y="72756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2"/>
          <p:cNvSpPr/>
          <p:nvPr/>
        </p:nvSpPr>
        <p:spPr>
          <a:xfrm>
            <a:off x="1069920" y="1011960"/>
            <a:ext cx="112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托物寓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396720" y="1566720"/>
            <a:ext cx="8351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"/>
          <p:cNvSpPr/>
          <p:nvPr/>
        </p:nvSpPr>
        <p:spPr>
          <a:xfrm>
            <a:off x="480240" y="1387440"/>
            <a:ext cx="8183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章通篇采用托物寓意的写法，借助伯乐对千里马的重要作用，将发现人才的人比作“伯乐”，将愚昧浅薄的统治者比作“食马者”，将人才比作“千里马”，阐述了封建社会中人才被埋没的原因，对统治者摧残和埋没人才的现象进行了猛烈的抨击。例如，用“祗辱于奴隶人之手，骈死于槽枥之间”来指出千里马的遭遇，用“食不饱，力不足，才美不外见”来揭示它的才能被埋没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75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作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6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77" name="菱形 13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2"/>
          <p:cNvSpPr/>
          <p:nvPr/>
        </p:nvSpPr>
        <p:spPr>
          <a:xfrm>
            <a:off x="1305720" y="1005480"/>
            <a:ext cx="662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心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473760" y="1409400"/>
            <a:ext cx="8195760" cy="10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文围绕着“世有伯乐，然后有千里马”这个中心逐层展开论述。文章开篇说伯乐知马而“伯乐不常有”，故千里马“不以千里称”是具有必然性的；中间从“食马者不知其能千里而食”说到千里马“食不饱，力不足，才美不外见，且欲与常马等不可得”，深刻地揭示了千里马被埋没的原因——食马者不识千里马。最后，痛斥食马者的愚昧浅薄，由此引出全文的结句“其真不知马也”的现状总结，流露出强烈的呼唤识才的统治者，呼唤统治者重视人才的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81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作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2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83" name="菱形 12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742680" y="1401480"/>
            <a:ext cx="251280" cy="2435760"/>
          </a:xfrm>
          <a:prstGeom prst="leftBrace">
            <a:avLst>
              <a:gd name="adj1" fmla="val 112727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199800" y="1504440"/>
            <a:ext cx="615240" cy="220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   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078200" y="1279080"/>
            <a:ext cx="863280" cy="36396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860040" y="2464560"/>
            <a:ext cx="110916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千里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890280" y="3738960"/>
            <a:ext cx="110592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食马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7"/>
          <p:cNvSpPr/>
          <p:nvPr/>
        </p:nvSpPr>
        <p:spPr>
          <a:xfrm flipH="1">
            <a:off x="1414080" y="1590840"/>
            <a:ext cx="1080" cy="888120"/>
          </a:xfrm>
          <a:prstGeom prst="line">
            <a:avLst/>
          </a:prstGeom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1414080" y="2791800"/>
            <a:ext cx="360" cy="927000"/>
          </a:xfrm>
          <a:prstGeom prst="line">
            <a:avLst/>
          </a:prstGeom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2030760" y="1811880"/>
            <a:ext cx="500400" cy="1186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千里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遭 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"/>
          <p:cNvSpPr/>
          <p:nvPr/>
        </p:nvSpPr>
        <p:spPr>
          <a:xfrm>
            <a:off x="1857960" y="2638080"/>
            <a:ext cx="173880" cy="6120"/>
          </a:xfrm>
          <a:prstGeom prst="line">
            <a:avLst/>
          </a:prstGeom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-38880" bIns="-388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3" name="AutoShape 11"/>
          <p:cNvSpPr/>
          <p:nvPr/>
        </p:nvSpPr>
        <p:spPr>
          <a:xfrm>
            <a:off x="2531520" y="1718640"/>
            <a:ext cx="281520" cy="1845000"/>
          </a:xfrm>
          <a:prstGeom prst="leftBrace">
            <a:avLst>
              <a:gd name="adj1" fmla="val 54969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2670480" y="2507400"/>
            <a:ext cx="245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……外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670480" y="1560240"/>
            <a:ext cx="2480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辱于……称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2670480" y="3269880"/>
            <a:ext cx="251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……无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8"/>
          <p:cNvSpPr/>
          <p:nvPr/>
        </p:nvSpPr>
        <p:spPr>
          <a:xfrm rot="10800000">
            <a:off x="5580360" y="1741320"/>
            <a:ext cx="191520" cy="1776600"/>
          </a:xfrm>
          <a:prstGeom prst="leftBrace">
            <a:avLst>
              <a:gd name="adj1" fmla="val 54969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4961160" y="2101680"/>
            <a:ext cx="1661760" cy="1059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以马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托物寓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0"/>
          <p:cNvSpPr/>
          <p:nvPr/>
        </p:nvSpPr>
        <p:spPr>
          <a:xfrm>
            <a:off x="6573600" y="1598400"/>
            <a:ext cx="231480" cy="1874160"/>
          </a:xfrm>
          <a:prstGeom prst="leftBrace">
            <a:avLst>
              <a:gd name="adj1" fmla="val 54969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6870960" y="1275480"/>
            <a:ext cx="2093400" cy="91260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意图：揭露统治者不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才、埋没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才、摧残人才的愚昧与昏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6870960" y="2848680"/>
            <a:ext cx="2093400" cy="36396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情感：抒发作者怀才不遇、壮志难酬的愤懑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894920" y="1551960"/>
            <a:ext cx="100692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痛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5"/>
          <p:cNvSpPr/>
          <p:nvPr/>
        </p:nvSpPr>
        <p:spPr>
          <a:xfrm>
            <a:off x="4893120" y="3299400"/>
            <a:ext cx="10108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嘲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7"/>
          <p:cNvSpPr/>
          <p:nvPr/>
        </p:nvSpPr>
        <p:spPr>
          <a:xfrm flipH="1">
            <a:off x="5323680" y="1914120"/>
            <a:ext cx="1080" cy="529560"/>
          </a:xfrm>
          <a:prstGeom prst="line">
            <a:avLst/>
          </a:prstGeom>
          <a:ln>
            <a:solidFill>
              <a:srgbClr val="000000"/>
            </a:solidFill>
            <a:tailEnd len="med" type="triangle" w="med"/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5" name="Line 28"/>
          <p:cNvSpPr/>
          <p:nvPr/>
        </p:nvSpPr>
        <p:spPr>
          <a:xfrm flipH="1">
            <a:off x="5322960" y="2835720"/>
            <a:ext cx="720" cy="482400"/>
          </a:xfrm>
          <a:prstGeom prst="line">
            <a:avLst/>
          </a:prstGeom>
          <a:ln>
            <a:solidFill>
              <a:srgbClr val="000000"/>
            </a:solidFill>
            <a:tailEnd len="med" type="triangle" w="med"/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4939920" y="2430000"/>
            <a:ext cx="91692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愤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35"/>
          <p:cNvGrpSpPr/>
          <p:nvPr/>
        </p:nvGrpSpPr>
        <p:grpSpPr>
          <a:xfrm>
            <a:off x="44280" y="627480"/>
            <a:ext cx="2006640" cy="516240"/>
            <a:chOff x="44280" y="627480"/>
            <a:chExt cx="2006640" cy="516240"/>
          </a:xfrm>
        </p:grpSpPr>
        <p:sp>
          <p:nvSpPr>
            <p:cNvPr id="608" name="文本框 6"/>
            <p:cNvSpPr/>
            <p:nvPr/>
          </p:nvSpPr>
          <p:spPr>
            <a:xfrm>
              <a:off x="72324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9" name="直线连接符 9"/>
            <p:cNvCxnSpPr/>
            <p:nvPr/>
          </p:nvCxnSpPr>
          <p:spPr>
            <a:xfrm>
              <a:off x="44280" y="99144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10" name="菱形 31"/>
            <p:cNvSpPr/>
            <p:nvPr/>
          </p:nvSpPr>
          <p:spPr>
            <a:xfrm>
              <a:off x="7920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415440" y="1491480"/>
            <a:ext cx="6604560" cy="214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韩愈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68—8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唐代文学家、思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、教育家。字退之，河阳（今河南孟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。自谓郡望昌黎，世称“韩昌黎”。与柳宗元同为古文运动的倡导者，并称“韩柳”。诗与孟郊齐名，并称“韩孟”。为“唐宋八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”之一。有《昌黎先生集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8"/>
          <p:cNvGrpSpPr/>
          <p:nvPr/>
        </p:nvGrpSpPr>
        <p:grpSpPr>
          <a:xfrm>
            <a:off x="1440" y="666720"/>
            <a:ext cx="2006640" cy="516240"/>
            <a:chOff x="1440" y="666720"/>
            <a:chExt cx="2006640" cy="516240"/>
          </a:xfrm>
        </p:grpSpPr>
        <p:sp>
          <p:nvSpPr>
            <p:cNvPr id="181" name="文本框 6"/>
            <p:cNvSpPr/>
            <p:nvPr/>
          </p:nvSpPr>
          <p:spPr>
            <a:xfrm>
              <a:off x="680400" y="6667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直线连接符 9"/>
            <p:cNvCxnSpPr/>
            <p:nvPr/>
          </p:nvCxnSpPr>
          <p:spPr>
            <a:xfrm>
              <a:off x="1440" y="103104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83" name="菱形 21"/>
            <p:cNvSpPr/>
            <p:nvPr/>
          </p:nvSpPr>
          <p:spPr>
            <a:xfrm>
              <a:off x="3636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84" name="组合 1"/>
          <p:cNvGrpSpPr/>
          <p:nvPr/>
        </p:nvGrpSpPr>
        <p:grpSpPr>
          <a:xfrm>
            <a:off x="3700440" y="958320"/>
            <a:ext cx="1742760" cy="635760"/>
            <a:chOff x="3700440" y="958320"/>
            <a:chExt cx="1742760" cy="635760"/>
          </a:xfrm>
        </p:grpSpPr>
        <p:sp>
          <p:nvSpPr>
            <p:cNvPr id="185" name="圆角矩形 23"/>
            <p:cNvSpPr/>
            <p:nvPr/>
          </p:nvSpPr>
          <p:spPr>
            <a:xfrm rot="555600">
              <a:off x="4968720" y="1046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圆角矩形 24"/>
            <p:cNvSpPr/>
            <p:nvPr/>
          </p:nvSpPr>
          <p:spPr>
            <a:xfrm rot="20470800">
              <a:off x="4563720" y="105120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7" name="圆角矩形 25"/>
            <p:cNvSpPr/>
            <p:nvPr/>
          </p:nvSpPr>
          <p:spPr>
            <a:xfrm rot="319200">
              <a:off x="4144680" y="105084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8" name="圆角矩形 26"/>
            <p:cNvSpPr/>
            <p:nvPr/>
          </p:nvSpPr>
          <p:spPr>
            <a:xfrm rot="21148200">
              <a:off x="3735360" y="1056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矩形 1"/>
            <p:cNvSpPr/>
            <p:nvPr/>
          </p:nvSpPr>
          <p:spPr>
            <a:xfrm>
              <a:off x="3700440" y="958320"/>
              <a:ext cx="1742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作者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http://www.hnssfjxh.com/hnssfjxh/ueditor/asp/upload1/20170109/14839324584500349.jpg"/>
          <p:cNvPicPr/>
          <p:nvPr/>
        </p:nvPicPr>
        <p:blipFill>
          <a:blip r:embed="rId1"/>
          <a:stretch/>
        </p:blipFill>
        <p:spPr>
          <a:xfrm>
            <a:off x="7076520" y="1761840"/>
            <a:ext cx="1751400" cy="18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467640" y="1113480"/>
            <a:ext cx="8229240" cy="29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选出注音有误的一项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骈死于槽枥之间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ì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才美不外见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ià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知其能千里而食也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真无马邪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食”意义不同于其他三项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食或尽粟一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能千里而食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食之不能尽其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谨食之，时而献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4212720" y="1080000"/>
            <a:ext cx="5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5784120" y="2574000"/>
            <a:ext cx="649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15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17" name="菱形 11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文本框 99"/>
          <p:cNvSpPr/>
          <p:nvPr/>
        </p:nvSpPr>
        <p:spPr>
          <a:xfrm>
            <a:off x="521640" y="1095120"/>
            <a:ext cx="4108680" cy="329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点词语解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祇辱于奴隶人之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骈死于槽枥之间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一食或尽粟一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才美不外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且欲与常马等不可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安求其能千里也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策之不以其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其真不知马也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"/>
          <p:cNvSpPr/>
          <p:nvPr/>
        </p:nvSpPr>
        <p:spPr>
          <a:xfrm>
            <a:off x="4606560" y="1397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2"/>
          <p:cNvSpPr/>
          <p:nvPr/>
        </p:nvSpPr>
        <p:spPr>
          <a:xfrm>
            <a:off x="4778640" y="17485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马并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4606560" y="2100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"/>
          <p:cNvSpPr/>
          <p:nvPr/>
        </p:nvSpPr>
        <p:spPr>
          <a:xfrm>
            <a:off x="5123160" y="245196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才能，美好的素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5"/>
          <p:cNvSpPr/>
          <p:nvPr/>
        </p:nvSpPr>
        <p:spPr>
          <a:xfrm>
            <a:off x="5093280" y="280332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同，一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6"/>
          <p:cNvSpPr/>
          <p:nvPr/>
        </p:nvSpPr>
        <p:spPr>
          <a:xfrm>
            <a:off x="4864680" y="31550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，怎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7"/>
          <p:cNvSpPr/>
          <p:nvPr/>
        </p:nvSpPr>
        <p:spPr>
          <a:xfrm>
            <a:off x="4864680" y="3506760"/>
            <a:ext cx="866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0"/>
          <p:cNvSpPr/>
          <p:nvPr/>
        </p:nvSpPr>
        <p:spPr>
          <a:xfrm>
            <a:off x="4864680" y="38901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识别，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28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30" name="菱形 17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5"/>
          <p:cNvSpPr/>
          <p:nvPr/>
        </p:nvSpPr>
        <p:spPr>
          <a:xfrm>
            <a:off x="520920" y="3533760"/>
            <a:ext cx="768456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千里马被埋没的根本原因是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20920" y="1384920"/>
            <a:ext cx="791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写千里马终身不幸遭遇的是哪一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520920" y="2034720"/>
            <a:ext cx="813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千里马被埋没的直接原因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"/>
          <p:cNvSpPr/>
          <p:nvPr/>
        </p:nvSpPr>
        <p:spPr>
          <a:xfrm>
            <a:off x="2864520" y="1706400"/>
            <a:ext cx="257220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祇辱于奴隶人之手，骈死于槽枥之间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1351080" y="2342160"/>
            <a:ext cx="460152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不饱，力不足，才美不外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520920" y="2639520"/>
            <a:ext cx="813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食马者的愚蠢无知表现在哪些方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1"/>
          <p:cNvSpPr/>
          <p:nvPr/>
        </p:nvSpPr>
        <p:spPr>
          <a:xfrm>
            <a:off x="1351080" y="3092760"/>
            <a:ext cx="70898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，食之不能尽其材，鸣之而不能通其意，执策而临之，曰：“天下无马！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2"/>
          <p:cNvSpPr/>
          <p:nvPr/>
        </p:nvSpPr>
        <p:spPr>
          <a:xfrm>
            <a:off x="1351080" y="3878640"/>
            <a:ext cx="604800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不知其能千里而食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"/>
          <p:cNvSpPr/>
          <p:nvPr/>
        </p:nvSpPr>
        <p:spPr>
          <a:xfrm>
            <a:off x="520920" y="1011240"/>
            <a:ext cx="65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课文内容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41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43" name="菱形 17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8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"/>
          <p:cNvSpPr/>
          <p:nvPr/>
        </p:nvSpPr>
        <p:spPr>
          <a:xfrm>
            <a:off x="332280" y="1284840"/>
            <a:ext cx="847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诗文阅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甲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世有伯乐，然后有千里马。千里马常有，而伯乐不常有。故虽有名马，祗辱于奴隶人之手，骈死于槽枥之间，不以千里称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之千里者，一食或尽粟一石。食马者不知其能千里而食也。是马也，虽有千里之能，食不饱，力不足，才美不外见，且欲与常马等不可得，安求其能千里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策之不以其道，食之不能尽其材，鸣之而不能通其意，执策而临之，曰：“天下无马！”呜呼！其真无马邪？其真不知马也！                               ——韩愈《马说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13"/>
          <p:cNvGrpSpPr/>
          <p:nvPr/>
        </p:nvGrpSpPr>
        <p:grpSpPr>
          <a:xfrm>
            <a:off x="3700440" y="991440"/>
            <a:ext cx="1742760" cy="635760"/>
            <a:chOff x="3700440" y="991440"/>
            <a:chExt cx="1742760" cy="635760"/>
          </a:xfrm>
        </p:grpSpPr>
        <p:sp>
          <p:nvSpPr>
            <p:cNvPr id="646" name="圆角矩形 23"/>
            <p:cNvSpPr/>
            <p:nvPr/>
          </p:nvSpPr>
          <p:spPr>
            <a:xfrm rot="555600">
              <a:off x="4968720" y="107928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647" name="圆角矩形 24"/>
            <p:cNvSpPr/>
            <p:nvPr/>
          </p:nvSpPr>
          <p:spPr>
            <a:xfrm rot="20470800">
              <a:off x="4563720" y="10839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648" name="圆角矩形 25"/>
            <p:cNvSpPr/>
            <p:nvPr/>
          </p:nvSpPr>
          <p:spPr>
            <a:xfrm rot="319200">
              <a:off x="4144680" y="1083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649" name="圆角矩形 26"/>
            <p:cNvSpPr/>
            <p:nvPr/>
          </p:nvSpPr>
          <p:spPr>
            <a:xfrm rot="21148200">
              <a:off x="3735360" y="108972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650" name="矩形 1"/>
            <p:cNvSpPr/>
            <p:nvPr/>
          </p:nvSpPr>
          <p:spPr>
            <a:xfrm>
              <a:off x="3700440" y="99144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拓展阅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5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54" name="菱形 31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55" name="矩形 2"/>
          <p:cNvSpPr/>
          <p:nvPr/>
        </p:nvSpPr>
        <p:spPr>
          <a:xfrm>
            <a:off x="5851800" y="1139040"/>
            <a:ext cx="21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9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南邵阳中考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57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59" name="菱形 4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60" name="矩形 5"/>
          <p:cNvSpPr/>
          <p:nvPr/>
        </p:nvSpPr>
        <p:spPr>
          <a:xfrm>
            <a:off x="575640" y="1077120"/>
            <a:ext cx="799236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乙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闾祠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查慎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远江山极目回，古祠漠漠②背城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嫌举世无知己，未有庸人不忌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放逐肯消亡国恨？岁时③犹动楚人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湘兰沅芷年年绿，想见吟魂自往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释：①三闾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于湖南汩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漠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里形容荒凉寂寞。    ③岁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6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64" name="菱形 4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65" name="矩形 5"/>
          <p:cNvSpPr/>
          <p:nvPr/>
        </p:nvSpPr>
        <p:spPr>
          <a:xfrm>
            <a:off x="491760" y="964800"/>
            <a:ext cx="753624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释下列画线词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骈死于糟枥之间（       ）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是马也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鸣之而不能通其意（      ）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湘兰沅芷年年绿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且欲与常马等不可得，安求其能千里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放逐肯消亡国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时犹动楚人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划分朗读节奏（各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食 马 者 不 知 其 能 千 里 而 食 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平 江 远 山 极 目 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67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69" name="菱形 4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70" name="矩形 5"/>
          <p:cNvSpPr/>
          <p:nvPr/>
        </p:nvSpPr>
        <p:spPr>
          <a:xfrm>
            <a:off x="479880" y="1000440"/>
            <a:ext cx="818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列各句中，与例句句式相同的一项是（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例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之千里者，一食或尽粟一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所从来，具答之。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城北徐公，齐国之美丽者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吾长见笑于大方之家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孔子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何陋之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嫌举世无知己，未有庸人不忌オ”这两句是化用屈原《离骚》中的“国无人莫我知兮，又何怀乎故都”，请结合【乙】文，赏析这两句诗的表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甲】【乙】两文都在谈人才问题，【甲】文指出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现实，造成了千里马“祗辱于奴隶人之手，骈死于槽枥之间”的遭遇，终被埋没、推残；【乙】文中，作者认为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致了屈原终被放逐的命运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用文章原话回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7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74" name="菱形 4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75" name="TextBox 5"/>
          <p:cNvSpPr/>
          <p:nvPr/>
        </p:nvSpPr>
        <p:spPr>
          <a:xfrm>
            <a:off x="467640" y="10206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考答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6"/>
          <p:cNvSpPr/>
          <p:nvPr/>
        </p:nvSpPr>
        <p:spPr>
          <a:xfrm>
            <a:off x="467640" y="1329480"/>
            <a:ext cx="8280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骈，两马并驾，一同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这样，指示代词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通晓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意指成长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想要和普通的马一样尚且做不到，怎么能够要求它（日行）千里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屈原被放逐也不能消除他亡国的愤恨，每年到这时，他的死都会引起楚人的伤心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食 马 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 知 其 能 千 里 而 食 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平 江 远 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极 目 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B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诗化用典故，一方面回忆了当年屈原不被人理解的苦闷，也以屈子自喻，暗指自己当世的遭遇，言犹尽，而意无穷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食马者不知其能千里而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未有庸人不忌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文本框 1"/>
          <p:cNvSpPr/>
          <p:nvPr/>
        </p:nvSpPr>
        <p:spPr>
          <a:xfrm>
            <a:off x="448560" y="1347480"/>
            <a:ext cx="820872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诵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下面的短文，结合课文，写一段文字，谈谈你对人才问题的看法，不少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令封德彝举贤，久无所举。上诘之，对曰：“非不尽心，但于今未有奇才耳！”上曰：“君子用人如器，各取所长。古之致治者，岂借才于异代乎？正患己不能知，安可诬一世之人！”德彝惭而退。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资治通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纪八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679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下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681" name="菱形 10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2"/>
          <p:cNvSpPr/>
          <p:nvPr/>
        </p:nvSpPr>
        <p:spPr>
          <a:xfrm>
            <a:off x="539640" y="1995840"/>
            <a:ext cx="8331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选自《韩昌黎文集校注》卷一（上海古籍出版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版）。《马说》大约作于贞元十一年至十六年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95—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）间。其时，韩愈初登仕途，很不得志。曾三次上书宰相请求擢用，“而志不得通”“足三及门，而阍人（守门人）辞焉”。尽管如此，他仍然声明自己“有忧天下之心”，不会遁迹山林。后相继依附于宜武节度使董晋、武宁节度使张建封幕下，郁郁不乐，所以有“伯乐不常有”之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8"/>
          <p:cNvGrpSpPr/>
          <p:nvPr/>
        </p:nvGrpSpPr>
        <p:grpSpPr>
          <a:xfrm>
            <a:off x="1440" y="666720"/>
            <a:ext cx="2006640" cy="516240"/>
            <a:chOff x="1440" y="666720"/>
            <a:chExt cx="2006640" cy="516240"/>
          </a:xfrm>
        </p:grpSpPr>
        <p:sp>
          <p:nvSpPr>
            <p:cNvPr id="193" name="文本框 6"/>
            <p:cNvSpPr/>
            <p:nvPr/>
          </p:nvSpPr>
          <p:spPr>
            <a:xfrm>
              <a:off x="680400" y="6667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直线连接符 9"/>
            <p:cNvCxnSpPr/>
            <p:nvPr/>
          </p:nvCxnSpPr>
          <p:spPr>
            <a:xfrm>
              <a:off x="1440" y="103104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95" name="菱形 19"/>
            <p:cNvSpPr/>
            <p:nvPr/>
          </p:nvSpPr>
          <p:spPr>
            <a:xfrm>
              <a:off x="3636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96" name="组合 1"/>
          <p:cNvGrpSpPr/>
          <p:nvPr/>
        </p:nvGrpSpPr>
        <p:grpSpPr>
          <a:xfrm>
            <a:off x="3700440" y="958320"/>
            <a:ext cx="1742760" cy="635760"/>
            <a:chOff x="3700440" y="958320"/>
            <a:chExt cx="1742760" cy="635760"/>
          </a:xfrm>
        </p:grpSpPr>
        <p:sp>
          <p:nvSpPr>
            <p:cNvPr id="197" name="圆角矩形 21"/>
            <p:cNvSpPr/>
            <p:nvPr/>
          </p:nvSpPr>
          <p:spPr>
            <a:xfrm rot="555600">
              <a:off x="4968720" y="1046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圆角矩形 22"/>
            <p:cNvSpPr/>
            <p:nvPr/>
          </p:nvSpPr>
          <p:spPr>
            <a:xfrm rot="20470800">
              <a:off x="4563720" y="105120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圆角矩形 23"/>
            <p:cNvSpPr/>
            <p:nvPr/>
          </p:nvSpPr>
          <p:spPr>
            <a:xfrm rot="319200">
              <a:off x="4144680" y="105084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圆角矩形 24"/>
            <p:cNvSpPr/>
            <p:nvPr/>
          </p:nvSpPr>
          <p:spPr>
            <a:xfrm rot="21148200">
              <a:off x="3735360" y="1056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矩形 1"/>
            <p:cNvSpPr/>
            <p:nvPr/>
          </p:nvSpPr>
          <p:spPr>
            <a:xfrm>
              <a:off x="3700440" y="958320"/>
              <a:ext cx="1742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背景资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2"/>
          <p:cNvSpPr/>
          <p:nvPr/>
        </p:nvSpPr>
        <p:spPr>
          <a:xfrm>
            <a:off x="538920" y="1547280"/>
            <a:ext cx="8065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马说》是通篇借物比喻的杂文，属论说文体。“马说”这个标题，是后人加的。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”是古代的一种文体，可以发表议论，也可以记事，都是为了说明一个道理。当它发表议论时，非常重视文辞的力量，常逞其千回百折之力，极尽嬉笑怒骂之能事，跟现代的“杂文”大体相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8"/>
          <p:cNvGrpSpPr/>
          <p:nvPr/>
        </p:nvGrpSpPr>
        <p:grpSpPr>
          <a:xfrm>
            <a:off x="1440" y="666720"/>
            <a:ext cx="2006640" cy="516240"/>
            <a:chOff x="1440" y="666720"/>
            <a:chExt cx="2006640" cy="516240"/>
          </a:xfrm>
        </p:grpSpPr>
        <p:sp>
          <p:nvSpPr>
            <p:cNvPr id="204" name="文本框 6"/>
            <p:cNvSpPr/>
            <p:nvPr/>
          </p:nvSpPr>
          <p:spPr>
            <a:xfrm>
              <a:off x="680400" y="6667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直线连接符 9"/>
            <p:cNvCxnSpPr/>
            <p:nvPr/>
          </p:nvCxnSpPr>
          <p:spPr>
            <a:xfrm>
              <a:off x="1440" y="103104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06" name="菱形 19"/>
            <p:cNvSpPr/>
            <p:nvPr/>
          </p:nvSpPr>
          <p:spPr>
            <a:xfrm>
              <a:off x="3636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07" name="组合 1"/>
          <p:cNvGrpSpPr/>
          <p:nvPr/>
        </p:nvGrpSpPr>
        <p:grpSpPr>
          <a:xfrm>
            <a:off x="3700440" y="958320"/>
            <a:ext cx="1742760" cy="635760"/>
            <a:chOff x="3700440" y="958320"/>
            <a:chExt cx="1742760" cy="635760"/>
          </a:xfrm>
        </p:grpSpPr>
        <p:sp>
          <p:nvSpPr>
            <p:cNvPr id="208" name="圆角矩形 21"/>
            <p:cNvSpPr/>
            <p:nvPr/>
          </p:nvSpPr>
          <p:spPr>
            <a:xfrm rot="555600">
              <a:off x="4968720" y="1046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圆角矩形 22"/>
            <p:cNvSpPr/>
            <p:nvPr/>
          </p:nvSpPr>
          <p:spPr>
            <a:xfrm rot="20470800">
              <a:off x="4563720" y="105120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圆角矩形 23"/>
            <p:cNvSpPr/>
            <p:nvPr/>
          </p:nvSpPr>
          <p:spPr>
            <a:xfrm rot="319200">
              <a:off x="4144680" y="105084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圆角矩形 24"/>
            <p:cNvSpPr/>
            <p:nvPr/>
          </p:nvSpPr>
          <p:spPr>
            <a:xfrm rot="21148200">
              <a:off x="3735360" y="1056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矩形 1"/>
            <p:cNvSpPr/>
            <p:nvPr/>
          </p:nvSpPr>
          <p:spPr>
            <a:xfrm>
              <a:off x="3700440" y="958320"/>
              <a:ext cx="1742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文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910800" y="1598400"/>
            <a:ext cx="7621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祗    骈      槽 枥     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奴隶    食马者  执策    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55640" y="1758600"/>
            <a:ext cx="96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180520" y="1758600"/>
            <a:ext cx="120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149000" y="1794240"/>
            <a:ext cx="181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áo  l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948360" y="1758600"/>
            <a:ext cx="72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401480" y="2881440"/>
            <a:ext cx="72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913480" y="2881440"/>
            <a:ext cx="72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258160" y="2881440"/>
            <a:ext cx="106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950160" y="2881440"/>
            <a:ext cx="72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2"/>
          <p:cNvGrpSpPr/>
          <p:nvPr/>
        </p:nvGrpSpPr>
        <p:grpSpPr>
          <a:xfrm>
            <a:off x="515880" y="1059480"/>
            <a:ext cx="1496520" cy="635760"/>
            <a:chOff x="515880" y="1059480"/>
            <a:chExt cx="1496520" cy="635760"/>
          </a:xfrm>
        </p:grpSpPr>
        <p:sp>
          <p:nvSpPr>
            <p:cNvPr id="223" name="圆角矩形 20"/>
            <p:cNvSpPr/>
            <p:nvPr/>
          </p:nvSpPr>
          <p:spPr>
            <a:xfrm rot="20326200">
              <a:off x="1509480" y="114984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圆角矩形 21"/>
            <p:cNvSpPr/>
            <p:nvPr/>
          </p:nvSpPr>
          <p:spPr>
            <a:xfrm rot="319200">
              <a:off x="1022040" y="11523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圆角矩形 22"/>
            <p:cNvSpPr/>
            <p:nvPr/>
          </p:nvSpPr>
          <p:spPr>
            <a:xfrm rot="21148200">
              <a:off x="550800" y="115812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矩形 1"/>
            <p:cNvSpPr/>
            <p:nvPr/>
          </p:nvSpPr>
          <p:spPr>
            <a:xfrm>
              <a:off x="515880" y="1059480"/>
              <a:ext cx="14965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55"/>
          <p:cNvGrpSpPr/>
          <p:nvPr/>
        </p:nvGrpSpPr>
        <p:grpSpPr>
          <a:xfrm>
            <a:off x="-2880" y="627480"/>
            <a:ext cx="2006280" cy="516240"/>
            <a:chOff x="-2880" y="627480"/>
            <a:chExt cx="2006280" cy="516240"/>
          </a:xfrm>
        </p:grpSpPr>
        <p:sp>
          <p:nvSpPr>
            <p:cNvPr id="228" name="文本框 6"/>
            <p:cNvSpPr/>
            <p:nvPr/>
          </p:nvSpPr>
          <p:spPr>
            <a:xfrm>
              <a:off x="67536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直线连接符 9"/>
            <p:cNvCxnSpPr/>
            <p:nvPr/>
          </p:nvCxnSpPr>
          <p:spPr>
            <a:xfrm>
              <a:off x="-288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30" name="菱形 27"/>
            <p:cNvSpPr/>
            <p:nvPr/>
          </p:nvSpPr>
          <p:spPr>
            <a:xfrm>
              <a:off x="3168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24577"/>
          <p:cNvSpPr/>
          <p:nvPr/>
        </p:nvSpPr>
        <p:spPr>
          <a:xfrm>
            <a:off x="431640" y="1491480"/>
            <a:ext cx="8280720" cy="164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世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，然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千里马。千里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常有，而伯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常有。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虽有名马，祗辱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奴隶人之手，骈死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槽枥之间，不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称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马之千里者，一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粟一石，食马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知其能千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食也。是马也，虽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之能，食不饱，力不足，才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外见，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欲与常马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可得，安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策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以其道，食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能尽其材，鸣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不能通其意，执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临之，曰：“天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马！”呜呼！其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马邪？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不知马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233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35" name="菱形 19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36" name="TextBox 4"/>
          <p:cNvSpPr/>
          <p:nvPr/>
        </p:nvSpPr>
        <p:spPr>
          <a:xfrm>
            <a:off x="395280" y="1059480"/>
            <a:ext cx="626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感情地朗读课文，注意节奏和停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376560" y="465480"/>
            <a:ext cx="83905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  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世有伯乐，然后有千里马。千里马常有，而伯乐不常有。故虽有名马，祗辱于奴隶人之手，骈死于槽枥之间，不以千里称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1"/>
          <p:cNvSpPr/>
          <p:nvPr/>
        </p:nvSpPr>
        <p:spPr>
          <a:xfrm>
            <a:off x="790560" y="1492920"/>
            <a:ext cx="25570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名孙阳，字伯乐，春秋时秦国人，擅长相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2445840" y="2498760"/>
            <a:ext cx="8103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即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6"/>
          <p:cNvSpPr/>
          <p:nvPr/>
        </p:nvSpPr>
        <p:spPr>
          <a:xfrm>
            <a:off x="4068000" y="2513880"/>
            <a:ext cx="1091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，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7"/>
          <p:cNvSpPr/>
          <p:nvPr/>
        </p:nvSpPr>
        <p:spPr>
          <a:xfrm>
            <a:off x="5652000" y="2510640"/>
            <a:ext cx="7102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奴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8"/>
          <p:cNvSpPr/>
          <p:nvPr/>
        </p:nvSpPr>
        <p:spPr>
          <a:xfrm>
            <a:off x="6574320" y="3115800"/>
            <a:ext cx="231228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和普通马）一同死。骈，本义为两马并驾，引申为并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9"/>
          <p:cNvSpPr/>
          <p:nvPr/>
        </p:nvSpPr>
        <p:spPr>
          <a:xfrm>
            <a:off x="762840" y="3314880"/>
            <a:ext cx="81324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2"/>
          <p:cNvSpPr/>
          <p:nvPr/>
        </p:nvSpPr>
        <p:spPr>
          <a:xfrm>
            <a:off x="2403360" y="3111840"/>
            <a:ext cx="2168280" cy="6382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以千里马而著称，指人们并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5"/>
          <p:cNvSpPr/>
          <p:nvPr/>
        </p:nvSpPr>
        <p:spPr>
          <a:xfrm>
            <a:off x="6540480" y="1518480"/>
            <a:ext cx="235152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词，此处表转折关系，译为“可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247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49" name="菱形 19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6180</Words>
  <Paragraphs>4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2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1-02T06:16:28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75</vt:lpwstr>
  </property>
  <property fmtid="{D5CDD505-2E9C-101B-9397-08002B2CF9AE}" pid="3" name="Notes">
    <vt:r8>2</vt:r8>
  </property>
  <property fmtid="{D5CDD505-2E9C-101B-9397-08002B2CF9AE}" pid="4" name="PresentationFormat">
    <vt:lpwstr>全屏显示(16:9)</vt:lpwstr>
  </property>
  <property fmtid="{D5CDD505-2E9C-101B-9397-08002B2CF9AE}" pid="5" name="Slides">
    <vt:r8>49</vt:r8>
  </property>
</Properties>
</file>