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audio3.wav" ContentType="audio/x-wav"/>
  <Override PartName="/ppt/media/image11.jpeg" ContentType="image/jpeg"/>
  <Override PartName="/ppt/media/image8.png" ContentType="image/png"/>
  <Override PartName="/ppt/media/image10.png" ContentType="image/png"/>
  <Override PartName="/ppt/media/audio1.wav" ContentType="audio/x-wav"/>
  <Override PartName="/ppt/media/image3.png" ContentType="image/png"/>
  <Override PartName="/ppt/media/audio2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dt" idx="3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D6596B-B8F8-4A8C-8F5F-7D49F7D32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B96EE9BC-3289-41FE-B6A0-C605508074D0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43D31D83-6BB9-484A-A4DB-89ABA7AD8725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DED890AA-0E62-46B6-BAC5-16629EAE8351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00484242-F6CB-4E7A-B654-5F348310732C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53CA34B-8D4D-4C0D-8E9C-21DD812FF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708F248-78D4-4E11-AD8C-5B3CB7F9B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629D6A5-C9B7-4520-BD0A-A3A5B68DA0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374BD18-0DDF-4FD3-9876-CEDB011374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6C69D66-B8BD-4963-9400-74387BA84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A7A9A61-6B33-4A99-B7BB-01A4A6B05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DC98D52A-895C-40A3-907E-A3CACFE949FF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D2F074B6-665E-43DF-ACC6-46CBCBC90E44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5A133A09-A9B7-48A0-8DE8-A4CEB383397D}" type="slidenum"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B23-905E-458F-A16B-47F18942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EBE-F485-48A8-8553-B983B3A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8046D-D4D7-4B93-AFF4-03D76C40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3CFC0-1676-432F-A24F-2E39B143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CAB36-A72E-4053-B08E-6B30573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80AC4-D53D-4BDD-BBC5-380184E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24174-F8B1-4E14-BE4C-187E109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A0B50-32AA-4E79-9843-EC71F581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720A0-7F08-46C2-9B7B-0BABE3D4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E009E-2133-4DA0-BA95-A8584F71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B2F2D-917A-45C1-B984-F3CE8772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0ED54-7F57-4CB3-B9E0-519B2416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3FE-A40B-4EBF-9C6E-4C3B2D5B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C0DD0-45C7-4536-A8F7-641328DE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97A5-1318-466D-9383-C4F69D1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DFEF1-9026-45F4-A635-336F3AC2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0E54F-1729-4806-BF4E-CC34C53A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2C135-00BE-4DAE-A275-255506F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57138-8C60-4551-95DF-B188D0E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DB753-77BA-4306-8464-D41FBF2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E54FA-B003-43FF-9788-E86871E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41EAC-6005-4003-9C7A-20B3CD3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234FD-A113-4B84-8A0A-F15917A2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93F-D599-404F-A383-4B96A99E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43C96-6D6D-40BD-BF6A-1557EEBF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E2D2C-A0C4-44D4-A4C9-FFE3CA3D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46FAB-8F44-46FA-8793-9C9C4642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36FB1-4A0D-40C1-8DAE-93BCEFDA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8E450-B4EA-49BC-954A-F99A25D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DB186-2217-477B-B116-E394FFB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BB35D-B697-426D-8646-C458B54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65DD1-898B-47A7-9F42-05C82C2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7E27-779B-4935-9FCE-28FF4B0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04FC-C685-488C-962E-BF68D61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DB37-39BB-4CEA-BCEF-AE50B6A5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9007B-13FA-4C8A-8AAD-8E51C92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2BF9-9E9B-43E3-8EF6-D002A849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0CCCA-2EF0-4980-AEDD-543CEF52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576-AFBA-463B-8FED-F0B50F6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2E0A-E93A-4D91-96B8-7ECC433C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76E7-B0AC-4C9B-B787-12C98A1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47B-250E-46AB-8BEF-80BE8BC9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A0A6-ED2D-42FD-8C56-A520899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3DE1-A042-46F5-B09B-3BE4EA0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349-2C7A-4F97-B60C-CCA2B4AC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24EE-E37C-448A-8853-38C9D55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0F9-A0C9-455D-808B-8299FD5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61B1-F924-4A0F-806E-6F42552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D3B3-E7F9-4FB7-BACE-C8908EB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7431-2212-41B4-8FF1-27E144C3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2BB0-223B-40D5-BC5B-7138F2BC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0EBA-A83E-4899-BB5E-1B3C2DF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04B7-629B-4BFD-A488-0936F0F3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B37E-2316-419E-8547-ADACE0D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FD873-1A37-4CF1-924C-4AD59A8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85D-5ECC-460E-8FEB-DAC0412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4B3F-9622-428B-8F76-99AB626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F6D8-1FB5-4520-B591-9DC74A6E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9338-29A5-4F68-BCE9-2CF1CC3D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C8AD-720B-4616-B12F-6B734F4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125A-1E23-424F-B1BF-EBAC0F85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0957-6C0C-4142-BEFE-996D2813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56E9-C5CF-4958-9875-680085DD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2A1E-FB23-41C7-B456-01B8A081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35520-A036-4F34-954D-95FD53B2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49D7-6266-4CE5-A162-AD4D4839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2F0-1FBF-4F8B-A1B2-0D1EB94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3846-244B-4A5B-B450-1E67F9DC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97AC-5920-4994-BD2C-718FE0AA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FFCF3-B1D4-4224-AA9F-CC7A0186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9CED-89F9-4F07-874A-8ED2591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4536-B91A-49B0-9A2A-CD0AEE27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8F19-A572-4632-84B5-EC8C8C2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D3DD-7E40-4E30-B963-D7CAE3C9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557B-4CF9-41E0-991C-663797EE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B22A-A312-4196-B9CA-4979E42E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0D05B-E953-4328-8E14-EB0E65EA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16B-C00B-4489-81B8-9EB67141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15D3-4DC1-4EA7-861D-57A5C29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E284C-C03C-4214-9768-3F225F4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6D88-805C-435A-9C7B-B94066B8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9854-B1E2-40EA-9D8B-DD7C84CB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DA80A-C075-40E6-AB08-E6ACBDD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BB13-2D64-4448-BD32-EA83573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B3ED-35E1-4009-AC1D-0B1411E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FE46-361F-4B89-B4C8-F472210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6008-9510-4672-A7B4-937E1B10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45750-4683-466E-8E4B-BB016872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6DE-B57E-46D4-89BC-2EC67345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4E1F2-BEFE-4B9D-8B26-57C1CD2F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D0F9-04A8-40D1-87EF-35C9010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A8C4C-C38A-4C59-A165-811D31A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3A51-0776-4D4F-8488-79D711A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F36F5-0EF1-4D76-8B78-C10062B3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AEBC-E2BC-4D2A-834A-044C738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4002-154C-42D8-ACDD-4C02876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12DB-F646-4A8F-807B-29E88779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A36B1-283B-404A-855D-68C083E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A4EC-51C4-4448-AF70-6E432ADB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352-4DED-49DC-8319-770FA1AB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5A419-40C5-467B-9BBC-FE12EC5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EA8B8-D611-41B7-934B-316A9739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6D4CF-461B-46A6-82F5-3182C978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452C2-62E3-4E36-9DE0-E4DFE9B1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90D79-9FF9-4835-BEB0-878AF33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6A12-EE48-4AF0-9DF0-3E7E6CD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D7DC4-D86D-4520-B097-845BC268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53A80-3102-4B9F-93FB-218F3149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6556-FF86-4368-A150-16E617C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0879C-C809-4009-921E-68747AE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BB3-8441-4872-8C5F-6C01471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2DFF-9B83-4BDD-9649-3EDAB9D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BD97-8D3B-41AA-BA01-040DD69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524CC-96DA-460C-8E0D-B14D8BD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24DD-5CC1-44C0-B5B2-F6AC2F82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AB8E-7125-4DB3-9227-A7059B4E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FF5A-6C50-4390-8842-D05EB3DA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B610C-44F5-481E-BDBD-5EA4BA6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4F8B6-DE41-46CB-A4DA-0C64F85D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6BFC-A115-49E0-8DFC-6B2901B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289D-C33F-4105-B956-48C4097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F64-4402-4D84-9E5D-A3B2091F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9E295-6558-4BAC-B1E2-DC294C93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B411-1938-4B84-A10A-C90CD48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A5E0D-D08B-46A2-A22B-991F1F2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0B5D-78A0-4E67-BB3A-4EC98D9B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464E6-B754-4F80-BF01-BDA0726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72015-907D-4A1D-B911-C3C3C750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370A-01C5-48A2-A991-3EA6F297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A445C-717A-45AE-8AE4-C6B930F0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04B9A-DA82-404B-814A-0CCE8BBE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080"/>
              </a:tabLst>
            </a:pP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B14AF-544D-4E81-A266-998B48D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C4C3581-BC08-430C-84DD-80B9A8F9D92F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15EA378-1FEF-4F46-B4D7-51E49784BB27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31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32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3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AEDFCD-2D0D-4E87-B95E-29BA5EA56BE6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280" y="685800"/>
            <a:ext cx="7349040" cy="19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5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标题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0DC12D2-CBD8-4665-BA77-DCC55317FC5D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480" y="1117800"/>
            <a:ext cx="8226720" cy="35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●"/>
              <a:tabLst>
                <a:tab algn="l" pos="1207080"/>
              </a:tabLst>
            </a:pPr>
            <a:r>
              <a:rPr b="0" lang="zh-CN" sz="1350" spc="148" strike="noStrike">
                <a:solidFill>
                  <a:srgbClr val="595959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2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●"/>
              <a:tabLst>
                <a:tab algn="l" pos="1207080"/>
              </a:tabLst>
            </a:pPr>
            <a:r>
              <a:rPr b="0" lang="zh-CN" sz="1200" spc="148" strike="noStrike">
                <a:solidFill>
                  <a:srgbClr val="595959"/>
                </a:solidFill>
                <a:latin typeface="Arial"/>
                <a:ea typeface="微软雅黑"/>
              </a:rPr>
              <a:t>第二级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2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●"/>
              <a:tabLst>
                <a:tab algn="l" pos="1207080"/>
              </a:tabLst>
            </a:pPr>
            <a:r>
              <a:rPr b="0" lang="zh-CN" sz="1200" spc="148" strike="noStrike">
                <a:solidFill>
                  <a:srgbClr val="595959"/>
                </a:solidFill>
                <a:latin typeface="Arial"/>
                <a:ea typeface="微软雅黑"/>
              </a:rPr>
              <a:t>第三级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20000"/>
              </a:lnSpc>
              <a:spcAft>
                <a:spcPts val="300"/>
              </a:spcAft>
              <a:buClr>
                <a:srgbClr val="595959"/>
              </a:buClr>
              <a:buFont typeface="Wingdings" charset="2"/>
              <a:buChar char=""/>
              <a:tabLst>
                <a:tab algn="l" pos="1207080"/>
              </a:tabLst>
            </a:pPr>
            <a:r>
              <a:rPr b="0" lang="zh-CN" sz="1050" spc="148" strike="noStrike">
                <a:solidFill>
                  <a:srgbClr val="595959"/>
                </a:solidFill>
                <a:latin typeface="Arial"/>
                <a:ea typeface="微软雅黑"/>
              </a:rPr>
              <a:t>第四级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20000"/>
              </a:lnSpc>
              <a:spcAft>
                <a:spcPts val="300"/>
              </a:spcAft>
              <a:buClr>
                <a:srgbClr val="595959"/>
              </a:buClr>
              <a:buFont typeface="Arial"/>
              <a:buChar char="•"/>
              <a:tabLst>
                <a:tab algn="l" pos="1207080"/>
              </a:tabLst>
            </a:pPr>
            <a:r>
              <a:rPr b="0" lang="zh-CN" sz="1050" spc="148" strike="noStrike">
                <a:solidFill>
                  <a:srgbClr val="595959"/>
                </a:solidFill>
                <a:latin typeface="Arial"/>
                <a:ea typeface="微软雅黑"/>
              </a:rPr>
              <a:t>第五级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4A68867-1E22-41E0-873C-1C4694CB4FAB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1132AB-0F57-4181-B729-AA2DA4551040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57C2DDA-F9A6-442E-A247-8F497784E588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2793B97-1522-4193-8299-3A63822B7E64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12E6A7-2EA8-41B0-B50C-98A53DE55F09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BDC04FD-4222-4549-9556-C7E5EB6E8DE2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480" y="456480"/>
            <a:ext cx="8226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7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5"/>
          </p:nvPr>
        </p:nvSpPr>
        <p:spPr>
          <a:xfrm>
            <a:off x="4590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6"/>
          </p:nvPr>
        </p:nvSpPr>
        <p:spPr>
          <a:xfrm>
            <a:off x="3087000" y="473580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7"/>
          </p:nvPr>
        </p:nvSpPr>
        <p:spPr>
          <a:xfrm>
            <a:off x="6658200" y="473580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75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C7BEBDB-7DAC-4AAC-AC7C-F091A03A39B4}" type="slidenum">
              <a:rPr b="0" lang="en-US" sz="75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7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35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35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2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080"/>
              </a:tabLst>
            </a:pPr>
            <a:r>
              <a:rPr b="0" lang="en-US" sz="105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05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08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audio2.wav"/><Relationship Id="rId3" Type="http://schemas.openxmlformats.org/officeDocument/2006/relationships/audio" Target="../media/audio2.wav"/><Relationship Id="rId4" Type="http://schemas.openxmlformats.org/officeDocument/2006/relationships/audio" Target="../media/audio2.wav"/><Relationship Id="rId5" Type="http://schemas.openxmlformats.org/officeDocument/2006/relationships/audio" Target="../media/audio2.wav"/><Relationship Id="rId6" Type="http://schemas.openxmlformats.org/officeDocument/2006/relationships/audio" Target="../media/audio2.wav"/><Relationship Id="rId7" Type="http://schemas.openxmlformats.org/officeDocument/2006/relationships/audio" Target="../media/audio2.wav"/><Relationship Id="rId8" Type="http://schemas.openxmlformats.org/officeDocument/2006/relationships/audio" Target="../media/audio2.wav"/><Relationship Id="rId9" Type="http://schemas.openxmlformats.org/officeDocument/2006/relationships/audio" Target="../media/audio2.wav"/><Relationship Id="rId10" Type="http://schemas.openxmlformats.org/officeDocument/2006/relationships/audio" Target="../media/audio2.wav"/><Relationship Id="rId1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16.xml"/><Relationship Id="rId5" Type="http://schemas.openxmlformats.org/officeDocument/2006/relationships/slide" Target="slide5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5.xml"/><Relationship Id="rId12" Type="http://schemas.openxmlformats.org/officeDocument/2006/relationships/slide" Target="slide4.xml"/><Relationship Id="rId13" Type="http://schemas.openxmlformats.org/officeDocument/2006/relationships/slide" Target="slide26.xml"/><Relationship Id="rId14" Type="http://schemas.openxmlformats.org/officeDocument/2006/relationships/audio" Target="../media/audio3.wav"/><Relationship Id="rId1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24.xml"/><Relationship Id="rId4" Type="http://schemas.openxmlformats.org/officeDocument/2006/relationships/slide" Target="slide16.xml"/><Relationship Id="rId5" Type="http://schemas.openxmlformats.org/officeDocument/2006/relationships/slide" Target="slide5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1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5.xml"/><Relationship Id="rId12" Type="http://schemas.openxmlformats.org/officeDocument/2006/relationships/slide" Target="slide4.xml"/><Relationship Id="rId13" Type="http://schemas.openxmlformats.org/officeDocument/2006/relationships/slide" Target="slide26.xml"/><Relationship Id="rId14" Type="http://schemas.openxmlformats.org/officeDocument/2006/relationships/audio" Target="../media/audio3.wav"/><Relationship Id="rId15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_14"/>
          <p:cNvSpPr/>
          <p:nvPr/>
        </p:nvSpPr>
        <p:spPr>
          <a:xfrm>
            <a:off x="3965760" y="1154160"/>
            <a:ext cx="8823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_14"/>
          <p:cNvSpPr/>
          <p:nvPr/>
        </p:nvSpPr>
        <p:spPr>
          <a:xfrm>
            <a:off x="4473720" y="1990440"/>
            <a:ext cx="10299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chemeClr val="accent2"/>
                </a:solidFill>
                <a:latin typeface="Arial"/>
                <a:ea typeface="微软雅黑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"/>
          <p:cNvSpPr/>
          <p:nvPr/>
        </p:nvSpPr>
        <p:spPr>
          <a:xfrm>
            <a:off x="3965760" y="2145960"/>
            <a:ext cx="441720" cy="785520"/>
          </a:xfrm>
          <a:prstGeom prst="rect">
            <a:avLst/>
          </a:prstGeom>
          <a:solidFill>
            <a:srgbClr val="e32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韩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23640" y="248040"/>
            <a:ext cx="4371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部编版八年级语文 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6"/>
          <p:cNvSpPr/>
          <p:nvPr/>
        </p:nvSpPr>
        <p:spPr>
          <a:xfrm>
            <a:off x="-3600" y="4227840"/>
            <a:ext cx="9147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特软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DUOT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文本框 24577"/>
          <p:cNvSpPr/>
          <p:nvPr/>
        </p:nvSpPr>
        <p:spPr>
          <a:xfrm>
            <a:off x="431640" y="1518480"/>
            <a:ext cx="8280720" cy="301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世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伯乐，然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千里马。千里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有，而伯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常有。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虽有名马，祗辱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奴隶人之手，骈死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槽枥之间，不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称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839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马之千里者，一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尽粟一石，食马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知其能千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食也。是马也，虽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之能，食不饱，力不足，才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外见，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欲与常马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可得，安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策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以其道，食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能尽其材，鸣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不能通其意，执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而临之，曰：“天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马！”呜呼！其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马邪？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真不知马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1017720" y="966600"/>
            <a:ext cx="6264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情地朗读课文，注意节奏和停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30725"/>
          <p:cNvSpPr/>
          <p:nvPr/>
        </p:nvSpPr>
        <p:spPr>
          <a:xfrm>
            <a:off x="466920" y="2043720"/>
            <a:ext cx="8352720" cy="212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上有了伯乐，然后才会有千里马。千里马是经常有的，可是伯乐却不经常有。因此，即使是很名贵的马也只能在仆役的手下受到屈辱，跟普通的马一起死在马厩里，不能获得千里马的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行千里的马，一顿有时能吃下一石粮食。喂马的人不懂得要根据它日行千里的本领来喂养它。（所以）这样的马，虽有日行千里的能耐，却吃不饱，力气不足，它的才能和美好的素质也就表现不出来，想要跟普通的马相等尚且办不到，又怎么能要求它日行千里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5361"/>
          <p:cNvSpPr/>
          <p:nvPr/>
        </p:nvSpPr>
        <p:spPr>
          <a:xfrm>
            <a:off x="3348000" y="603720"/>
            <a:ext cx="1942920" cy="507600"/>
          </a:xfrm>
          <a:prstGeom prst="rect">
            <a:avLst/>
          </a:prstGeom>
          <a:gradFill rotWithShape="0">
            <a:gsLst>
              <a:gs pos="0">
                <a:srgbClr val="b0d9f2"/>
              </a:gs>
              <a:gs pos="100000">
                <a:srgbClr val="a2d1ef"/>
              </a:gs>
            </a:gsLst>
            <a:lin ang="5400000"/>
          </a:gradFill>
          <a:ln>
            <a:solidFill>
              <a:srgbClr val="58b6e5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译 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矩形 31746"/>
          <p:cNvSpPr/>
          <p:nvPr/>
        </p:nvSpPr>
        <p:spPr>
          <a:xfrm>
            <a:off x="358560" y="861840"/>
            <a:ext cx="8137080" cy="19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鞭策它，不按正确的方法，喂养又不足以使它充分发挥自己的才能，它鸣叫却不能通晓它的意思，（反而）拿着鞭子站在它跟前说：“天下没有千里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!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真的没有千里马吗？其实是他们真不识得千里马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图片 31748" descr=""/>
          <p:cNvPicPr/>
          <p:nvPr/>
        </p:nvPicPr>
        <p:blipFill>
          <a:blip r:embed="rId1"/>
          <a:stretch/>
        </p:blipFill>
        <p:spPr>
          <a:xfrm>
            <a:off x="2503800" y="3169800"/>
            <a:ext cx="4144320" cy="1923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90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538920" y="995400"/>
            <a:ext cx="8064720" cy="63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共三小节，每一小节分别阐述了什么观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259920" y="2449800"/>
            <a:ext cx="903240" cy="80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81720" bIns="8172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马 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169280" y="1963800"/>
            <a:ext cx="304560" cy="1758240"/>
          </a:xfrm>
          <a:prstGeom prst="leftBrace">
            <a:avLst>
              <a:gd name="adj1" fmla="val 58636"/>
              <a:gd name="adj2" fmla="val 50000"/>
            </a:avLst>
          </a:prstGeom>
          <a:noFill/>
          <a:ln w="28575">
            <a:solidFill>
              <a:srgbClr val="56ca95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3921120" y="2350800"/>
            <a:ext cx="608040" cy="282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8575">
            <a:solidFill>
              <a:srgbClr val="56ca95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0680" rIns="40680" tIns="81720" bIns="81720" anchor="ctr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368000" y="2718720"/>
            <a:ext cx="571536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揭示千里马被埋没的根本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3921120" y="3104280"/>
            <a:ext cx="608040" cy="282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8575">
            <a:solidFill>
              <a:srgbClr val="56ca95">
                <a:lumMod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0680" rIns="40680" tIns="81720" bIns="81720" anchor="ctr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1368000" y="1974600"/>
            <a:ext cx="585576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伯乐对千里马命运的决定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1368000" y="3382200"/>
            <a:ext cx="6647760" cy="50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执策者的“不知马”进行辛辣的讽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4"/>
          <p:cNvSpPr/>
          <p:nvPr/>
        </p:nvSpPr>
        <p:spPr>
          <a:xfrm>
            <a:off x="7272360" y="2369520"/>
            <a:ext cx="533880" cy="129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0680" rIns="40680" tIns="81720" bIns="8172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层层递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"/>
          <p:cNvSpPr/>
          <p:nvPr/>
        </p:nvSpPr>
        <p:spPr>
          <a:xfrm flipH="1">
            <a:off x="6840000" y="2004120"/>
            <a:ext cx="302040" cy="1758240"/>
          </a:xfrm>
          <a:prstGeom prst="leftBrace">
            <a:avLst>
              <a:gd name="adj1" fmla="val 58636"/>
              <a:gd name="adj2" fmla="val 50000"/>
            </a:avLst>
          </a:prstGeom>
          <a:noFill/>
          <a:ln w="28575">
            <a:solidFill>
              <a:srgbClr val="56ca95">
                <a:lumMod val="7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1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读细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1654200" y="833400"/>
            <a:ext cx="6178680" cy="49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被埋没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2627640" y="1659240"/>
            <a:ext cx="1699560" cy="34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食不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82560" y="2342880"/>
            <a:ext cx="6541920" cy="49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从侧面讽刺了喂马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2628000" y="3203280"/>
            <a:ext cx="4231800" cy="49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能、无知、目光短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5" descr="铅笔小人"/>
          <p:cNvPicPr/>
          <p:nvPr/>
        </p:nvPicPr>
        <p:blipFill>
          <a:blip r:embed="rId1"/>
          <a:stretch/>
        </p:blipFill>
        <p:spPr>
          <a:xfrm>
            <a:off x="6516720" y="2301480"/>
            <a:ext cx="2626920" cy="2714400"/>
          </a:xfrm>
          <a:prstGeom prst="rect">
            <a:avLst/>
          </a:prstGeom>
          <a:ln w="9525">
            <a:noFill/>
          </a:ln>
        </p:spPr>
      </p:pic>
      <p:sp>
        <p:nvSpPr>
          <p:cNvPr id="507" name="矩形 3"/>
          <p:cNvSpPr/>
          <p:nvPr/>
        </p:nvSpPr>
        <p:spPr>
          <a:xfrm>
            <a:off x="1909440" y="8013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120650" prstMaterial="matte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导学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1"/>
          <p:cNvSpPr/>
          <p:nvPr/>
        </p:nvSpPr>
        <p:spPr>
          <a:xfrm>
            <a:off x="1405080" y="1992600"/>
            <a:ext cx="556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读课文  探究细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88160" y="669960"/>
            <a:ext cx="6367320" cy="49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哪些语言能体现食马者的无知和浅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1545840" y="2094840"/>
            <a:ext cx="5491440" cy="89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策之不以其道，食之不能尽其材，鸣之而 不能通其意，执策而临之，曰：“天下无马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1"/>
          <p:cNvSpPr/>
          <p:nvPr/>
        </p:nvSpPr>
        <p:spPr>
          <a:xfrm>
            <a:off x="685800" y="858240"/>
            <a:ext cx="77720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开头，作者是如何阐述“伯乐”和“千里马”之间的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"/>
          <p:cNvSpPr/>
          <p:nvPr/>
        </p:nvSpPr>
        <p:spPr>
          <a:xfrm>
            <a:off x="501480" y="2400120"/>
            <a:ext cx="81702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有伯乐，然后有千里马。千里马常有，而伯乐不常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99"/>
          <p:cNvSpPr/>
          <p:nvPr/>
        </p:nvSpPr>
        <p:spPr>
          <a:xfrm>
            <a:off x="824040" y="599400"/>
            <a:ext cx="7015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没有遇见伯乐，千里马的命运会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1"/>
          <p:cNvSpPr/>
          <p:nvPr/>
        </p:nvSpPr>
        <p:spPr>
          <a:xfrm>
            <a:off x="513360" y="1154160"/>
            <a:ext cx="820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祗辱于奴隶人之手，骈死于槽枥之间，不以千里称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2"/>
          <p:cNvSpPr/>
          <p:nvPr/>
        </p:nvSpPr>
        <p:spPr>
          <a:xfrm>
            <a:off x="1764360" y="3528000"/>
            <a:ext cx="5705640" cy="516240"/>
          </a:xfrm>
          <a:prstGeom prst="rect">
            <a:avLst/>
          </a:prstGeom>
          <a:gradFill rotWithShape="0">
            <a:gsLst>
              <a:gs pos="0">
                <a:srgbClr val="f39683"/>
              </a:gs>
              <a:gs pos="100000">
                <a:srgbClr val="f68369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第一段：阐述了伯乐对千里马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3"/>
          <p:cNvSpPr/>
          <p:nvPr/>
        </p:nvSpPr>
        <p:spPr>
          <a:xfrm>
            <a:off x="1723320" y="3163320"/>
            <a:ext cx="1247760" cy="516240"/>
          </a:xfrm>
          <a:prstGeom prst="rect">
            <a:avLst/>
          </a:prstGeom>
          <a:gradFill rotWithShape="0">
            <a:gsLst>
              <a:gs pos="0">
                <a:srgbClr val="6dd0a0"/>
              </a:gs>
              <a:gs pos="100000">
                <a:srgbClr val="4fcf95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右箭头 4"/>
          <p:cNvSpPr/>
          <p:nvPr/>
        </p:nvSpPr>
        <p:spPr>
          <a:xfrm>
            <a:off x="3195000" y="3225600"/>
            <a:ext cx="504000" cy="133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21d5"/>
              </a:gs>
              <a:gs pos="100000">
                <a:srgbClr val="ffb64a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8" name="文本框 5"/>
          <p:cNvSpPr/>
          <p:nvPr/>
        </p:nvSpPr>
        <p:spPr>
          <a:xfrm>
            <a:off x="4276800" y="3163320"/>
            <a:ext cx="2741400" cy="516240"/>
          </a:xfrm>
          <a:prstGeom prst="rect">
            <a:avLst/>
          </a:prstGeom>
          <a:gradFill rotWithShape="0">
            <a:gsLst>
              <a:gs pos="0">
                <a:srgbClr val="6dd0a0"/>
              </a:gs>
              <a:gs pos="100000">
                <a:srgbClr val="4fcf95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世有伯乐，然后有千里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"/>
          <p:cNvSpPr/>
          <p:nvPr/>
        </p:nvSpPr>
        <p:spPr>
          <a:xfrm>
            <a:off x="372240" y="1762200"/>
            <a:ext cx="813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祗辱于”“骈死于” 等词语暗含了作者怎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7"/>
          <p:cNvSpPr/>
          <p:nvPr/>
        </p:nvSpPr>
        <p:spPr>
          <a:xfrm>
            <a:off x="469440" y="2579400"/>
            <a:ext cx="7941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了千里马在没有被伯乐发现的遭遇，暗含了作者的无限痛惜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"/>
          <p:cNvSpPr/>
          <p:nvPr/>
        </p:nvSpPr>
        <p:spPr>
          <a:xfrm>
            <a:off x="720720" y="792000"/>
            <a:ext cx="6471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”与“常马”有什么区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3"/>
          <p:cNvSpPr/>
          <p:nvPr/>
        </p:nvSpPr>
        <p:spPr>
          <a:xfrm>
            <a:off x="561240" y="1975680"/>
            <a:ext cx="8208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8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被埋没的直接原因是什么？根本原因是什么？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6"/>
          <p:cNvSpPr/>
          <p:nvPr/>
        </p:nvSpPr>
        <p:spPr>
          <a:xfrm>
            <a:off x="1861200" y="1350360"/>
            <a:ext cx="295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食或尽粟一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9"/>
          <p:cNvSpPr/>
          <p:nvPr/>
        </p:nvSpPr>
        <p:spPr>
          <a:xfrm>
            <a:off x="971640" y="2841120"/>
            <a:ext cx="6797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原因：食不饱，力不足，才美不外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10"/>
          <p:cNvSpPr/>
          <p:nvPr/>
        </p:nvSpPr>
        <p:spPr>
          <a:xfrm>
            <a:off x="971640" y="3267000"/>
            <a:ext cx="6797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本原因：食马者不知其能千里而食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http://pic.qbaobei.com/Uploads/Picture/2016-07-16/578992b73c25f.jpg"/>
          <p:cNvPicPr/>
          <p:nvPr/>
        </p:nvPicPr>
        <p:blipFill>
          <a:blip r:embed="rId1"/>
          <a:stretch/>
        </p:blipFill>
        <p:spPr>
          <a:xfrm>
            <a:off x="6459480" y="3551760"/>
            <a:ext cx="2772720" cy="1591200"/>
          </a:xfrm>
          <a:prstGeom prst="rect">
            <a:avLst/>
          </a:prstGeom>
          <a:ln w="9525">
            <a:noFill/>
          </a:ln>
        </p:spPr>
      </p:pic>
      <p:sp>
        <p:nvSpPr>
          <p:cNvPr id="463" name="Rectangle 1"/>
          <p:cNvSpPr/>
          <p:nvPr/>
        </p:nvSpPr>
        <p:spPr>
          <a:xfrm>
            <a:off x="521640" y="2151360"/>
            <a:ext cx="79930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传伯乐是春秋时代的人，姓孙名阳。据说，有一匹千里马拉着沉重的盐车翻越太行山。在羊肠小道上，马蹄用力挣扎，膝盖跪屈；尾巴下垂着，皮肤也受了伤；汗水淋漓，在山坡上艰难吃力地爬行还是拉不上去。伯乐遇见了，就下了自己的车，挽住千里马而对它淌眼泪，并脱下自己的麻布衣服覆盖在千里马身上。千里马于是低下头吐气，抬起头来长鸣，嘶叫声直达云霄。这是它感激伯乐了解并且体贴它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0"/>
          <p:cNvSpPr/>
          <p:nvPr/>
        </p:nvSpPr>
        <p:spPr>
          <a:xfrm>
            <a:off x="540000" y="601920"/>
            <a:ext cx="8231400" cy="72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中哪些语言体现出食马者不知马？刻画了食马者怎样的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"/>
          <p:cNvSpPr/>
          <p:nvPr/>
        </p:nvSpPr>
        <p:spPr>
          <a:xfrm>
            <a:off x="539640" y="1735560"/>
            <a:ext cx="8375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策之不以其道，食之不能尽其材，鸣之而不能通其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385920" y="2253240"/>
            <a:ext cx="8371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排比的修辞手法，将“食马者”的平庸浅薄刻画得淋漓尽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5"/>
          <p:cNvSpPr/>
          <p:nvPr/>
        </p:nvSpPr>
        <p:spPr>
          <a:xfrm>
            <a:off x="827640" y="3145320"/>
            <a:ext cx="1553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食马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6"/>
          <p:cNvSpPr/>
          <p:nvPr/>
        </p:nvSpPr>
        <p:spPr>
          <a:xfrm>
            <a:off x="2267640" y="3145320"/>
            <a:ext cx="1968120" cy="516240"/>
          </a:xfrm>
          <a:prstGeom prst="rect">
            <a:avLst/>
          </a:prstGeom>
          <a:gradFill rotWithShape="0">
            <a:gsLst>
              <a:gs pos="0">
                <a:srgbClr val="b4caf3"/>
              </a:gs>
              <a:gs pos="100000">
                <a:srgbClr val="a5bfef"/>
              </a:gs>
            </a:gsLst>
            <a:lin ang="5400000"/>
          </a:gradFill>
          <a:ln>
            <a:solidFill>
              <a:srgbClr val="6096e6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不识千里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7"/>
          <p:cNvSpPr/>
          <p:nvPr/>
        </p:nvSpPr>
        <p:spPr>
          <a:xfrm>
            <a:off x="4380480" y="3145320"/>
            <a:ext cx="1770480" cy="516240"/>
          </a:xfrm>
          <a:prstGeom prst="rect">
            <a:avLst/>
          </a:prstGeom>
          <a:gradFill rotWithShape="0">
            <a:gsLst>
              <a:gs pos="0">
                <a:srgbClr val="b4caf3"/>
              </a:gs>
              <a:gs pos="100000">
                <a:srgbClr val="a5bfef"/>
              </a:gs>
            </a:gsLst>
            <a:lin ang="5400000"/>
          </a:gradFill>
          <a:ln>
            <a:solidFill>
              <a:srgbClr val="6096e6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平庸浅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8"/>
          <p:cNvSpPr/>
          <p:nvPr/>
        </p:nvSpPr>
        <p:spPr>
          <a:xfrm>
            <a:off x="6305040" y="3145320"/>
            <a:ext cx="1650960" cy="516240"/>
          </a:xfrm>
          <a:prstGeom prst="rect">
            <a:avLst/>
          </a:prstGeom>
          <a:gradFill rotWithShape="0">
            <a:gsLst>
              <a:gs pos="0">
                <a:srgbClr val="b4caf3"/>
              </a:gs>
              <a:gs pos="100000">
                <a:srgbClr val="a5bfef"/>
              </a:gs>
            </a:gsLst>
            <a:lin ang="5400000"/>
          </a:gradFill>
          <a:ln>
            <a:solidFill>
              <a:srgbClr val="6096e6"/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愚妄无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2"/>
          <p:cNvSpPr/>
          <p:nvPr/>
        </p:nvSpPr>
        <p:spPr>
          <a:xfrm>
            <a:off x="3764160" y="825840"/>
            <a:ext cx="888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一段中哪句话揭示了全文的中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"/>
          <p:cNvSpPr/>
          <p:nvPr/>
        </p:nvSpPr>
        <p:spPr>
          <a:xfrm>
            <a:off x="2247120" y="1463040"/>
            <a:ext cx="269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真不知马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3"/>
          <p:cNvSpPr/>
          <p:nvPr/>
        </p:nvSpPr>
        <p:spPr>
          <a:xfrm>
            <a:off x="611640" y="3041280"/>
            <a:ext cx="7566480" cy="516240"/>
          </a:xfrm>
          <a:prstGeom prst="rect">
            <a:avLst/>
          </a:prstGeom>
          <a:gradFill rotWithShape="0">
            <a:gsLst>
              <a:gs pos="0">
                <a:srgbClr val="f39683"/>
              </a:gs>
              <a:gs pos="100000">
                <a:srgbClr val="f68369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第三段：辛辣地讽刺了食马者的浅薄无知，点明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4"/>
          <p:cNvSpPr/>
          <p:nvPr/>
        </p:nvSpPr>
        <p:spPr>
          <a:xfrm>
            <a:off x="1608840" y="2588040"/>
            <a:ext cx="1247760" cy="516240"/>
          </a:xfrm>
          <a:prstGeom prst="rect">
            <a:avLst/>
          </a:prstGeom>
          <a:gradFill rotWithShape="0">
            <a:gsLst>
              <a:gs pos="0">
                <a:srgbClr val="6dd0a0"/>
              </a:gs>
              <a:gs pos="100000">
                <a:srgbClr val="4fcf95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解决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右箭头 5"/>
          <p:cNvSpPr/>
          <p:nvPr/>
        </p:nvSpPr>
        <p:spPr>
          <a:xfrm>
            <a:off x="3080520" y="2650320"/>
            <a:ext cx="504000" cy="1339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321d5"/>
              </a:gs>
              <a:gs pos="100000">
                <a:srgbClr val="ffb64a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38" name="文本框 7"/>
          <p:cNvSpPr/>
          <p:nvPr/>
        </p:nvSpPr>
        <p:spPr>
          <a:xfrm>
            <a:off x="4408560" y="2588040"/>
            <a:ext cx="2558520" cy="516240"/>
          </a:xfrm>
          <a:prstGeom prst="rect">
            <a:avLst/>
          </a:prstGeom>
          <a:gradFill rotWithShape="0">
            <a:gsLst>
              <a:gs pos="0">
                <a:srgbClr val="6dd0a0"/>
              </a:gs>
              <a:gs pos="100000">
                <a:srgbClr val="4fcf95"/>
              </a:gs>
            </a:gsLst>
            <a:lin ang="5400000"/>
          </a:gra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点明主旨——其真不知马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4"/>
          <p:cNvSpPr/>
          <p:nvPr/>
        </p:nvSpPr>
        <p:spPr>
          <a:xfrm>
            <a:off x="2985840" y="780840"/>
            <a:ext cx="36903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被埋没的直接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1978560" y="1662480"/>
            <a:ext cx="51742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食不饱，力不足，才美不外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2824560" y="2585880"/>
            <a:ext cx="36903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被埋没的根本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2195640" y="3424320"/>
            <a:ext cx="383184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食马者“不知马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文本框 2"/>
          <p:cNvSpPr/>
          <p:nvPr/>
        </p:nvSpPr>
        <p:spPr>
          <a:xfrm>
            <a:off x="2892960" y="2100960"/>
            <a:ext cx="835200" cy="516240"/>
          </a:xfrm>
          <a:prstGeom prst="rect">
            <a:avLst/>
          </a:prstGeom>
          <a:gradFill rotWithShape="0">
            <a:gsLst>
              <a:gs pos="0">
                <a:srgbClr val="aee2c7"/>
              </a:gs>
              <a:gs pos="100000">
                <a:srgbClr val="a0ddbd"/>
              </a:gs>
            </a:gsLst>
            <a:lin ang="5400000"/>
          </a:gradFill>
          <a:ln>
            <a:solidFill>
              <a:srgbClr val="56ca95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人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"/>
          <p:cNvSpPr/>
          <p:nvPr/>
        </p:nvSpPr>
        <p:spPr>
          <a:xfrm>
            <a:off x="2339640" y="699480"/>
            <a:ext cx="4530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.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伯乐”“千里马”“食马者”分别比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1275840" y="1802160"/>
            <a:ext cx="793800" cy="516240"/>
          </a:xfrm>
          <a:prstGeom prst="rect">
            <a:avLst/>
          </a:prstGeom>
          <a:gradFill rotWithShape="0">
            <a:gsLst>
              <a:gs pos="0">
                <a:srgbClr val="f9c6bd"/>
              </a:gs>
              <a:gs pos="100000">
                <a:srgbClr val="f7b9ad"/>
              </a:gs>
            </a:gsLst>
            <a:lin ang="5400000"/>
          </a:gradFill>
          <a:ln>
            <a:solidFill>
              <a:srgbClr val="f18870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伯  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7"/>
          <p:cNvSpPr/>
          <p:nvPr/>
        </p:nvSpPr>
        <p:spPr>
          <a:xfrm>
            <a:off x="3182400" y="1799280"/>
            <a:ext cx="1461240" cy="516240"/>
          </a:xfrm>
          <a:prstGeom prst="rect">
            <a:avLst/>
          </a:prstGeom>
          <a:gradFill rotWithShape="0">
            <a:gsLst>
              <a:gs pos="0">
                <a:srgbClr val="aee2c7"/>
              </a:gs>
              <a:gs pos="100000">
                <a:srgbClr val="a0ddbd"/>
              </a:gs>
            </a:gsLst>
            <a:lin ang="5400000"/>
          </a:gradFill>
          <a:ln>
            <a:solidFill>
              <a:srgbClr val="56ca95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赏识人才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8"/>
          <p:cNvSpPr/>
          <p:nvPr/>
        </p:nvSpPr>
        <p:spPr>
          <a:xfrm>
            <a:off x="1261080" y="2397240"/>
            <a:ext cx="821160" cy="516240"/>
          </a:xfrm>
          <a:prstGeom prst="rect">
            <a:avLst/>
          </a:prstGeom>
          <a:gradFill rotWithShape="0">
            <a:gsLst>
              <a:gs pos="0">
                <a:srgbClr val="f9c6bd"/>
              </a:gs>
              <a:gs pos="100000">
                <a:srgbClr val="f7b9ad"/>
              </a:gs>
            </a:gsLst>
            <a:lin ang="5400000"/>
          </a:gradFill>
          <a:ln>
            <a:solidFill>
              <a:srgbClr val="f18870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食马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9"/>
          <p:cNvSpPr/>
          <p:nvPr/>
        </p:nvSpPr>
        <p:spPr>
          <a:xfrm>
            <a:off x="5719680" y="2482920"/>
            <a:ext cx="344160" cy="516240"/>
          </a:xfrm>
          <a:prstGeom prst="rect">
            <a:avLst/>
          </a:prstGeom>
          <a:gradFill rotWithShape="0">
            <a:gsLst>
              <a:gs pos="0">
                <a:srgbClr val="aee2c7"/>
              </a:gs>
              <a:gs pos="100000">
                <a:srgbClr val="a0ddbd"/>
              </a:gs>
            </a:gsLst>
            <a:lin ang="5400000"/>
          </a:gradFill>
          <a:ln>
            <a:solidFill>
              <a:srgbClr val="56ca95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昏庸的统治者（摧残人才、埋没人才的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0"/>
          <p:cNvSpPr/>
          <p:nvPr/>
        </p:nvSpPr>
        <p:spPr>
          <a:xfrm>
            <a:off x="1261080" y="2103840"/>
            <a:ext cx="821160" cy="516240"/>
          </a:xfrm>
          <a:prstGeom prst="rect">
            <a:avLst/>
          </a:prstGeom>
          <a:gradFill rotWithShape="0">
            <a:gsLst>
              <a:gs pos="0">
                <a:srgbClr val="f9c6bd"/>
              </a:gs>
              <a:gs pos="100000">
                <a:srgbClr val="f7b9ad"/>
              </a:gs>
            </a:gsLst>
            <a:lin ang="5400000"/>
          </a:gradFill>
          <a:ln>
            <a:solidFill>
              <a:srgbClr val="f18870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dk1"/>
                </a:solidFill>
                <a:latin typeface="Arial"/>
                <a:ea typeface="微软雅黑"/>
              </a:rPr>
              <a:t>千里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右箭头 11"/>
          <p:cNvSpPr/>
          <p:nvPr/>
        </p:nvSpPr>
        <p:spPr>
          <a:xfrm>
            <a:off x="2320560" y="1883160"/>
            <a:ext cx="504000" cy="964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3240" bIns="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1" name="右箭头 12"/>
          <p:cNvSpPr/>
          <p:nvPr/>
        </p:nvSpPr>
        <p:spPr>
          <a:xfrm>
            <a:off x="2320560" y="2189880"/>
            <a:ext cx="504000" cy="964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3240" bIns="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2" name="右箭头 13"/>
          <p:cNvSpPr/>
          <p:nvPr/>
        </p:nvSpPr>
        <p:spPr>
          <a:xfrm>
            <a:off x="2320560" y="2483280"/>
            <a:ext cx="504000" cy="96480"/>
          </a:xfrm>
          <a:prstGeom prst="rightArrow">
            <a:avLst>
              <a:gd name="adj1" fmla="val 50000"/>
              <a:gd name="adj2" fmla="val 83025"/>
            </a:avLst>
          </a:prstGeom>
          <a:gradFill rotWithShape="0">
            <a:gsLst>
              <a:gs pos="0">
                <a:srgbClr val="7b32b2"/>
              </a:gs>
              <a:gs pos="100000">
                <a:srgbClr val="401a5d"/>
              </a:gs>
            </a:gsLst>
            <a:lin ang="16200000"/>
          </a:gradFill>
          <a:ln>
            <a:noFill/>
          </a:ln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3240" bIns="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9473"/>
          <p:cNvSpPr/>
          <p:nvPr/>
        </p:nvSpPr>
        <p:spPr>
          <a:xfrm>
            <a:off x="448920" y="805680"/>
            <a:ext cx="869472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通过描写千里马的遭遇，表达了韩愈怎样的思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19474"/>
          <p:cNvSpPr/>
          <p:nvPr/>
        </p:nvSpPr>
        <p:spPr>
          <a:xfrm>
            <a:off x="3781800" y="2238840"/>
            <a:ext cx="3124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达了作者怀才不遇，有志难酬的愤懑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19475" descr="马"/>
          <p:cNvPicPr/>
          <p:nvPr/>
        </p:nvPicPr>
        <p:blipFill>
          <a:blip r:embed="rId1"/>
          <a:stretch/>
        </p:blipFill>
        <p:spPr>
          <a:xfrm>
            <a:off x="6975720" y="3308400"/>
            <a:ext cx="1915200" cy="9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7,-74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7,-74,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铅笔小人"/>
          <p:cNvPicPr/>
          <p:nvPr/>
        </p:nvPicPr>
        <p:blipFill>
          <a:blip r:embed="rId1"/>
          <a:stretch/>
        </p:blipFill>
        <p:spPr>
          <a:xfrm>
            <a:off x="6516720" y="2301480"/>
            <a:ext cx="2626920" cy="2714400"/>
          </a:xfrm>
          <a:prstGeom prst="rect">
            <a:avLst/>
          </a:prstGeom>
          <a:ln w="9525">
            <a:noFill/>
          </a:ln>
        </p:spPr>
      </p:pic>
      <p:sp>
        <p:nvSpPr>
          <p:cNvPr id="557" name="矩形 3"/>
          <p:cNvSpPr/>
          <p:nvPr/>
        </p:nvSpPr>
        <p:spPr>
          <a:xfrm>
            <a:off x="1909440" y="8013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120650" prstMaterial="matte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导学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"/>
          <p:cNvSpPr/>
          <p:nvPr/>
        </p:nvSpPr>
        <p:spPr>
          <a:xfrm>
            <a:off x="1405080" y="1992600"/>
            <a:ext cx="556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手法  品味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"/>
          <p:cNvSpPr/>
          <p:nvPr/>
        </p:nvSpPr>
        <p:spPr>
          <a:xfrm>
            <a:off x="447480" y="619920"/>
            <a:ext cx="8247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读并背诵课文，说说作者借千里马表达了什么观点，寄寓了怎样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6"/>
          <p:cNvSpPr/>
          <p:nvPr/>
        </p:nvSpPr>
        <p:spPr>
          <a:xfrm>
            <a:off x="447840" y="1920960"/>
            <a:ext cx="796104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借千里马表达了“有了伯乐，才能发现人才”的观点，并指出“千里马常有，而伯乐不常有”，亦即人才常有，而善于发现和选用人才的伯乐却不常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寄寓了作者对人才遭屈辱、被埋没的感慨、悲愤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文本框 1"/>
          <p:cNvSpPr/>
          <p:nvPr/>
        </p:nvSpPr>
        <p:spPr>
          <a:xfrm>
            <a:off x="885960" y="2595600"/>
            <a:ext cx="740484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里马”喻人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乐”喻善于识别人才、赏识人才的封建统治者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食马者”喻愚妄浅薄的统治者，也就是摧残人才、埋没人才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513720" y="2595600"/>
            <a:ext cx="8149680" cy="157176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sp>
        <p:nvSpPr>
          <p:cNvPr id="563" name="文本框 7"/>
          <p:cNvSpPr/>
          <p:nvPr/>
        </p:nvSpPr>
        <p:spPr>
          <a:xfrm>
            <a:off x="600840" y="633960"/>
            <a:ext cx="821052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马说》表面上是写马，可是读着读着，就感觉作者有点醉翁之意不在酒，似乎言在此而意在彼。那作者的言外之意到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弄清三个形象的比喻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文本框 1"/>
          <p:cNvSpPr/>
          <p:nvPr/>
        </p:nvSpPr>
        <p:spPr>
          <a:xfrm>
            <a:off x="910800" y="2102400"/>
            <a:ext cx="59457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韩愈看来：封建统治者应当善于识别人才，对有才能的人应该：尊之以高爵，养之以厚禄，任之以重权，使之充分施展才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>
            <a:off x="582840" y="2062080"/>
            <a:ext cx="7194960" cy="195552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sp>
        <p:nvSpPr>
          <p:cNvPr id="566" name="文本框 7"/>
          <p:cNvSpPr/>
          <p:nvPr/>
        </p:nvSpPr>
        <p:spPr>
          <a:xfrm>
            <a:off x="1188000" y="700560"/>
            <a:ext cx="6260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托“马”这个物，寓什么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2" descr=""/>
          <p:cNvPicPr/>
          <p:nvPr/>
        </p:nvPicPr>
        <p:blipFill>
          <a:blip r:embed="rId1"/>
          <a:stretch/>
        </p:blipFill>
        <p:spPr>
          <a:xfrm>
            <a:off x="6694560" y="2212920"/>
            <a:ext cx="19998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1"/>
          <p:cNvSpPr/>
          <p:nvPr/>
        </p:nvSpPr>
        <p:spPr>
          <a:xfrm>
            <a:off x="731520" y="1383480"/>
            <a:ext cx="729648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十九岁，怀着经世之志进京参加进士考试，名噪京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，韩愈任监察御史不过二个月，上书《论天旱人饥状》痛陈百姓苦难，请求朝廷缓征赋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曾不顾个人安危，上书《论佛骨表》，痛斥佛之不可信，要求将佛骨 “投诸水火，永绝根本，断天下之疑，绝后代之惑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协助宰相裴度平定淮西之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曾单身匹马，冒着风险赴镇州，不费一兵一卒，平息镇州之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韩愈被贬为潮州刺史时，驱鳄鱼、为民除害；请教师，办乡村学校；释放奴隶；率领百姓，兴修水利，排涝灌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韩愈为京兆尹时，京兆之地社会安定，盗贼止，米价不敢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倡导古文革新运动，成为古文革新运动的领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582840" y="1347480"/>
            <a:ext cx="7638840" cy="352800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sp>
        <p:nvSpPr>
          <p:cNvPr id="570" name="文本框 7"/>
          <p:cNvSpPr/>
          <p:nvPr/>
        </p:nvSpPr>
        <p:spPr>
          <a:xfrm>
            <a:off x="731520" y="594720"/>
            <a:ext cx="2890800" cy="494280"/>
          </a:xfrm>
          <a:prstGeom prst="rect">
            <a:avLst/>
          </a:prstGeom>
          <a:solidFill>
            <a:srgbClr val="203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韩愈生平链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图片 2" descr=""/>
          <p:cNvPicPr/>
          <p:nvPr/>
        </p:nvPicPr>
        <p:blipFill>
          <a:blip r:embed="rId1"/>
          <a:stretch/>
        </p:blipFill>
        <p:spPr>
          <a:xfrm>
            <a:off x="7143840" y="3111840"/>
            <a:ext cx="19998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矩形 210946"/>
          <p:cNvSpPr txBox="1"/>
          <p:nvPr/>
        </p:nvSpPr>
        <p:spPr>
          <a:xfrm>
            <a:off x="2846520" y="1252440"/>
            <a:ext cx="3190680" cy="86400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10"/>
              </a:avLst>
            </a:prstTxWarp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目标导航</a:t>
            </a:r>
            <a:endParaRPr b="0" lang="en-US" sz="2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10947"/>
          <p:cNvSpPr/>
          <p:nvPr/>
        </p:nvSpPr>
        <p:spPr>
          <a:xfrm>
            <a:off x="744480" y="1995840"/>
            <a:ext cx="7688880" cy="162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本文作者及文体特征，积累文言字词，在疏通文意的基础上背诵全文。（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托物寓意的写法，把握文章的寓意，理解作者的思想感情。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认识千里马与伯乐之间的关系，认识当今时代的优越条件，努力学习，做有用之才。（素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611640" y="1398600"/>
            <a:ext cx="628632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51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”是把一个深刻的道理通过对某一物的记叙、描写、议论等表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2"/>
          <p:cNvSpPr/>
          <p:nvPr/>
        </p:nvSpPr>
        <p:spPr>
          <a:xfrm>
            <a:off x="3557160" y="316080"/>
            <a:ext cx="1034640" cy="516240"/>
          </a:xfrm>
          <a:prstGeom prst="rect">
            <a:avLst/>
          </a:prstGeom>
          <a:noFill/>
          <a:ln w="1587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1" descr=""/>
          <p:cNvPicPr/>
          <p:nvPr/>
        </p:nvPicPr>
        <p:blipFill>
          <a:blip r:embed="rId1"/>
          <a:stretch/>
        </p:blipFill>
        <p:spPr>
          <a:xfrm flipH="1">
            <a:off x="7092720" y="2692440"/>
            <a:ext cx="1511640" cy="1081800"/>
          </a:xfrm>
          <a:prstGeom prst="rect">
            <a:avLst/>
          </a:prstGeom>
          <a:ln w="0">
            <a:noFill/>
          </a:ln>
        </p:spPr>
      </p:pic>
      <p:sp>
        <p:nvSpPr>
          <p:cNvPr id="575" name="矩形 14"/>
          <p:cNvSpPr/>
          <p:nvPr/>
        </p:nvSpPr>
        <p:spPr>
          <a:xfrm>
            <a:off x="611640" y="954720"/>
            <a:ext cx="4857480" cy="729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托物寓意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611640" y="2487960"/>
            <a:ext cx="4320720" cy="729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托物寓意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709560" y="3074040"/>
            <a:ext cx="671472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的写法有一个显著的特点，就是寓深刻的思想于具体形象之中，言在此而意在彼，有咫尺论万里之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8"/>
          <p:cNvSpPr/>
          <p:nvPr/>
        </p:nvSpPr>
        <p:spPr>
          <a:xfrm>
            <a:off x="909720" y="193320"/>
            <a:ext cx="6286320" cy="729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“托物言志” 和“托物寓意” 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9"/>
          <p:cNvSpPr/>
          <p:nvPr/>
        </p:nvSpPr>
        <p:spPr>
          <a:xfrm>
            <a:off x="487800" y="790560"/>
            <a:ext cx="840132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言志”是把自己的志趣、志向寄托在对某种物的记叙、描写之中。比如“爱莲说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”是把一个深刻的道理通过对某一物的记叙、描写、议论等表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者都是托物，不同在于“寓意”和“言志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”包括了“托物言志”。也就是说，“托物言志”可以说成是“托物寓意”，而“托物寓意”却不可以说成是“托物言志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诗文中所托之物表达作者某种情怀、某种志向时，用“托物言志”是恰当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所托之物表达的是其他意思，如赞美、批判之类，而没有涉及作者的志向时，用“托物寓意”好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文本框 1"/>
          <p:cNvSpPr/>
          <p:nvPr/>
        </p:nvSpPr>
        <p:spPr>
          <a:xfrm>
            <a:off x="731520" y="2154600"/>
            <a:ext cx="68958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马说》大约作于贞元十一年至十六年间。这时，韩愈初登仕途，很不得志。他曾三次上书宰相求擢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u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用。很可惜有“忧天下之心”的他，终未被采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来又相继依附于一些节度使幕下，郁郁不得志，再加上当时奸佞当权，政治黑暗，有才能之士不受重视，所以他有“伯乐不常有”之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582840" y="2154600"/>
            <a:ext cx="7638840" cy="167688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sp>
        <p:nvSpPr>
          <p:cNvPr id="582" name="文本框 7"/>
          <p:cNvSpPr/>
          <p:nvPr/>
        </p:nvSpPr>
        <p:spPr>
          <a:xfrm>
            <a:off x="645120" y="654840"/>
            <a:ext cx="7638840" cy="494280"/>
          </a:xfrm>
          <a:prstGeom prst="rect">
            <a:avLst/>
          </a:prstGeom>
          <a:solidFill>
            <a:srgbClr val="203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像韩愈这样，有治世之才，忧民之心的人才，又处于怎样的境遇呢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7028640" y="2289960"/>
            <a:ext cx="19998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3"/>
          <p:cNvSpPr/>
          <p:nvPr/>
        </p:nvSpPr>
        <p:spPr>
          <a:xfrm>
            <a:off x="660240" y="1401480"/>
            <a:ext cx="800064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称。如“然后有千里马” “千里马常有”，正面提及，表述严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暗称。如“故虽有名马”“不以千里称也” “马之千里者”，表述委婉，虽不直呼其名，而意在其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称。如“不知其能千里而食也”“是马也”“安求其能千里也”“策之不以其道，食之不能尽其材，鸣之而不能通其意，执策而临之”。这些句子中的“其”“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之”等代词，都是指称千里马的，表意简洁含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4"/>
          <p:cNvSpPr/>
          <p:nvPr/>
        </p:nvSpPr>
        <p:spPr>
          <a:xfrm>
            <a:off x="660240" y="272880"/>
            <a:ext cx="8000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篇短文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余字，多次提到“千里马”，却不显得啰唆。作者提到“千里马”的方式有哪几种？各具有怎样的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26639"/>
          <p:cNvSpPr/>
          <p:nvPr/>
        </p:nvSpPr>
        <p:spPr>
          <a:xfrm>
            <a:off x="922680" y="550800"/>
            <a:ext cx="7511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如何层层深入论证论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6640"/>
          <p:cNvSpPr/>
          <p:nvPr/>
        </p:nvSpPr>
        <p:spPr>
          <a:xfrm>
            <a:off x="634320" y="1859760"/>
            <a:ext cx="8088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首先提出全文论点，接着从正反两方面对论点作概括论述，第二段进一步从反面展开论述，说明伯乐对千里马的重要性。第三段对“食马者”进行辛辣的嘲讽，结尾再次强调造成不合理现象的原因，是“其真不知马也”，点明主旨，并与开头的论点照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9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文本框 27649"/>
          <p:cNvSpPr/>
          <p:nvPr/>
        </p:nvSpPr>
        <p:spPr>
          <a:xfrm>
            <a:off x="4522680" y="2948760"/>
            <a:ext cx="2898360" cy="94284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千里马被埋没的原因食马者不知其能 千里而食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7650"/>
          <p:cNvGrpSpPr/>
          <p:nvPr/>
        </p:nvGrpSpPr>
        <p:grpSpPr>
          <a:xfrm>
            <a:off x="772200" y="1899720"/>
            <a:ext cx="7318080" cy="2502720"/>
            <a:chOff x="772200" y="1899720"/>
            <a:chExt cx="7318080" cy="2502720"/>
          </a:xfrm>
        </p:grpSpPr>
        <p:pic>
          <p:nvPicPr>
            <p:cNvPr id="590" name="图片 27651" descr="123"/>
            <p:cNvPicPr/>
            <p:nvPr/>
          </p:nvPicPr>
          <p:blipFill>
            <a:blip r:embed="rId1"/>
            <a:stretch/>
          </p:blipFill>
          <p:spPr>
            <a:xfrm>
              <a:off x="7139160" y="3895560"/>
              <a:ext cx="951120" cy="5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文本框 27663"/>
            <p:cNvSpPr/>
            <p:nvPr/>
          </p:nvSpPr>
          <p:spPr>
            <a:xfrm>
              <a:off x="772200" y="1899720"/>
              <a:ext cx="5175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endPara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endParaRPr>
            </a:p>
          </p:txBody>
        </p:sp>
      </p:grpSp>
      <p:sp>
        <p:nvSpPr>
          <p:cNvPr id="592" name="文本框 27664"/>
          <p:cNvSpPr/>
          <p:nvPr/>
        </p:nvSpPr>
        <p:spPr>
          <a:xfrm>
            <a:off x="1401840" y="1787760"/>
            <a:ext cx="18432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93" name="文本框 27665"/>
          <p:cNvSpPr/>
          <p:nvPr/>
        </p:nvSpPr>
        <p:spPr>
          <a:xfrm>
            <a:off x="738360" y="1747440"/>
            <a:ext cx="55368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7666"/>
          <p:cNvSpPr/>
          <p:nvPr/>
        </p:nvSpPr>
        <p:spPr>
          <a:xfrm>
            <a:off x="1528920" y="1632240"/>
            <a:ext cx="1744200" cy="162540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提出论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世有伯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有千里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右箭头 27667"/>
          <p:cNvSpPr/>
          <p:nvPr/>
        </p:nvSpPr>
        <p:spPr>
          <a:xfrm>
            <a:off x="3386160" y="1944000"/>
            <a:ext cx="975960" cy="272880"/>
          </a:xfrm>
          <a:prstGeom prst="rightArrow">
            <a:avLst>
              <a:gd name="adj1" fmla="val 43139"/>
              <a:gd name="adj2" fmla="val 7378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96" name="文本框 27668"/>
          <p:cNvSpPr/>
          <p:nvPr/>
        </p:nvSpPr>
        <p:spPr>
          <a:xfrm>
            <a:off x="4392720" y="1649160"/>
            <a:ext cx="1452240" cy="209448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面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常有，而伯乐不常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箭头 27669"/>
          <p:cNvSpPr/>
          <p:nvPr/>
        </p:nvSpPr>
        <p:spPr>
          <a:xfrm>
            <a:off x="5945040" y="1944000"/>
            <a:ext cx="975960" cy="272880"/>
          </a:xfrm>
          <a:prstGeom prst="rightArrow">
            <a:avLst>
              <a:gd name="adj1" fmla="val 43139"/>
              <a:gd name="adj2" fmla="val 7378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98" name="文本框 27670"/>
          <p:cNvSpPr/>
          <p:nvPr/>
        </p:nvSpPr>
        <p:spPr>
          <a:xfrm>
            <a:off x="7023240" y="1635840"/>
            <a:ext cx="1479240" cy="179604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面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故虽有名马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以千里称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7671"/>
          <p:cNvSpPr/>
          <p:nvPr/>
        </p:nvSpPr>
        <p:spPr>
          <a:xfrm>
            <a:off x="738360" y="2793240"/>
            <a:ext cx="732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27672"/>
          <p:cNvSpPr/>
          <p:nvPr/>
        </p:nvSpPr>
        <p:spPr>
          <a:xfrm>
            <a:off x="1700280" y="2994840"/>
            <a:ext cx="1220400" cy="94284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一步从反面论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右箭头 27674"/>
          <p:cNvSpPr/>
          <p:nvPr/>
        </p:nvSpPr>
        <p:spPr>
          <a:xfrm>
            <a:off x="3025800" y="3195000"/>
            <a:ext cx="1336320" cy="272880"/>
          </a:xfrm>
          <a:prstGeom prst="rightArrow">
            <a:avLst>
              <a:gd name="adj1" fmla="val 43139"/>
              <a:gd name="adj2" fmla="val 7379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02" name="右箭头 27675"/>
          <p:cNvSpPr/>
          <p:nvPr/>
        </p:nvSpPr>
        <p:spPr>
          <a:xfrm>
            <a:off x="1557360" y="4012200"/>
            <a:ext cx="975960" cy="272880"/>
          </a:xfrm>
          <a:prstGeom prst="rightArrow">
            <a:avLst>
              <a:gd name="adj1" fmla="val 43139"/>
              <a:gd name="adj2" fmla="val 73786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03" name="文本框 27676"/>
          <p:cNvSpPr/>
          <p:nvPr/>
        </p:nvSpPr>
        <p:spPr>
          <a:xfrm>
            <a:off x="2521080" y="385056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04" name="文本框 27677"/>
          <p:cNvSpPr/>
          <p:nvPr/>
        </p:nvSpPr>
        <p:spPr>
          <a:xfrm>
            <a:off x="2533680" y="3942360"/>
            <a:ext cx="4057200" cy="58428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7678"/>
          <p:cNvSpPr/>
          <p:nvPr/>
        </p:nvSpPr>
        <p:spPr>
          <a:xfrm>
            <a:off x="2664000" y="3894120"/>
            <a:ext cx="381456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反面论证，得出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真不知马也（主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7679"/>
          <p:cNvSpPr/>
          <p:nvPr/>
        </p:nvSpPr>
        <p:spPr>
          <a:xfrm>
            <a:off x="738360" y="3827160"/>
            <a:ext cx="553680" cy="9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圆角矩形 2"/>
          <p:cNvSpPr/>
          <p:nvPr/>
        </p:nvSpPr>
        <p:spPr>
          <a:xfrm>
            <a:off x="852120" y="586440"/>
            <a:ext cx="1810800" cy="285480"/>
          </a:xfrm>
          <a:prstGeom prst="roundRect">
            <a:avLst>
              <a:gd name="adj" fmla="val 16667"/>
            </a:avLst>
          </a:prstGeom>
          <a:solidFill>
            <a:srgbClr val="ff6700"/>
          </a:solidFill>
          <a:ln>
            <a:solidFill>
              <a:srgbClr val="d4f787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chemeClr val="lt1"/>
                </a:solidFill>
                <a:latin typeface="Arial"/>
                <a:ea typeface="微软雅黑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0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1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2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3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6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3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7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4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8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4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9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5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0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2"/>
          <p:cNvSpPr/>
          <p:nvPr/>
        </p:nvSpPr>
        <p:spPr>
          <a:xfrm>
            <a:off x="1814040" y="1028520"/>
            <a:ext cx="758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托物寓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5"/>
          <p:cNvSpPr/>
          <p:nvPr/>
        </p:nvSpPr>
        <p:spPr>
          <a:xfrm>
            <a:off x="396720" y="1818000"/>
            <a:ext cx="8351640" cy="72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"/>
          <p:cNvSpPr/>
          <p:nvPr/>
        </p:nvSpPr>
        <p:spPr>
          <a:xfrm>
            <a:off x="480240" y="1683360"/>
            <a:ext cx="818316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通篇采用托物寓意的写法，借助伯乐对千里马的重要作用，将发现人才的人比作“伯乐”，将愚昧浅薄的统治者比作“食马者”，将人才比作“千里马”，阐述了封建社会中人才被埋没的原因，对统治者摧残和埋没人才的现象进行了猛烈的抨击。例如，用“祗辱于奴隶人之手，骈死于槽枥之间”来指出千里马的遭遇，用“食不饱，力不足，才美不外见”来揭示它的才能被埋没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8"/>
          <p:cNvSpPr/>
          <p:nvPr/>
        </p:nvSpPr>
        <p:spPr>
          <a:xfrm>
            <a:off x="584640" y="24012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2"/>
          <p:cNvSpPr/>
          <p:nvPr/>
        </p:nvSpPr>
        <p:spPr>
          <a:xfrm>
            <a:off x="1818000" y="987480"/>
            <a:ext cx="758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心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6"/>
          <p:cNvSpPr/>
          <p:nvPr/>
        </p:nvSpPr>
        <p:spPr>
          <a:xfrm>
            <a:off x="473760" y="1510920"/>
            <a:ext cx="8195760" cy="213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围绕着“世有伯乐，然后有千里马”这个中心逐层展开论述。文章开篇说伯乐知马而“伯乐不常有”，故千里马“不以千里称”是具有必然性的；中间从“食马者不知其能千里而食”说到千里马“食不饱，力不足，才美不外见，且欲与常马等不可得”，深刻地揭示了千里马被埋没的原因——食马者不识千里马。最后，痛斥食马者的愚昧浅薄，由此引出全文的结句“其真不知马也”的现状总结，流露出强烈的呼唤识才的统治者，呼唤统治者重视人才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"/>
          <p:cNvSpPr/>
          <p:nvPr/>
        </p:nvSpPr>
        <p:spPr>
          <a:xfrm>
            <a:off x="584640" y="24012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文本框 1"/>
          <p:cNvSpPr/>
          <p:nvPr/>
        </p:nvSpPr>
        <p:spPr>
          <a:xfrm>
            <a:off x="522720" y="1396800"/>
            <a:ext cx="80985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是一篇寓言性杂文，借伯乐相马的故事提出了“千里马常有，而伯乐不常有”的见解，托物寓意，讽刺和控诉了封建统治者不识人才、不重视人才、摧残人才的愚昧和昏庸，表达了作者怀才不遇的强烈愤慨，流露出强烈的呼唤识才的统治者，呼唤要重视人才的选拔和培养，对人才要给予优厚的待遇的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旨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文本框 23557"/>
          <p:cNvSpPr/>
          <p:nvPr/>
        </p:nvSpPr>
        <p:spPr>
          <a:xfrm>
            <a:off x="703440" y="2234520"/>
            <a:ext cx="8769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68760" bIns="68760" anchor="t" vert="vert" rot="5400000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马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左大括号 23558"/>
          <p:cNvSpPr/>
          <p:nvPr/>
        </p:nvSpPr>
        <p:spPr>
          <a:xfrm>
            <a:off x="1823760" y="1545840"/>
            <a:ext cx="287640" cy="1782000"/>
          </a:xfrm>
          <a:prstGeom prst="leftBrace">
            <a:avLst>
              <a:gd name="adj1" fmla="val 91338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19" name="矩形 23559"/>
          <p:cNvSpPr/>
          <p:nvPr/>
        </p:nvSpPr>
        <p:spPr>
          <a:xfrm>
            <a:off x="2320560" y="1387080"/>
            <a:ext cx="20588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与伯乐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3560"/>
          <p:cNvSpPr/>
          <p:nvPr/>
        </p:nvSpPr>
        <p:spPr>
          <a:xfrm>
            <a:off x="2393280" y="2155680"/>
            <a:ext cx="20588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马被埋没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3561"/>
          <p:cNvSpPr/>
          <p:nvPr/>
        </p:nvSpPr>
        <p:spPr>
          <a:xfrm>
            <a:off x="2535120" y="3047040"/>
            <a:ext cx="269892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是无千里马，而是不知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23562"/>
          <p:cNvSpPr/>
          <p:nvPr/>
        </p:nvSpPr>
        <p:spPr>
          <a:xfrm>
            <a:off x="5290920" y="1639440"/>
            <a:ext cx="1368000" cy="360"/>
          </a:xfrm>
          <a:prstGeom prst="line">
            <a:avLst/>
          </a:prstGeom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23" name="直接连接符 23563"/>
          <p:cNvSpPr/>
          <p:nvPr/>
        </p:nvSpPr>
        <p:spPr>
          <a:xfrm>
            <a:off x="5434920" y="2408040"/>
            <a:ext cx="1369440" cy="360"/>
          </a:xfrm>
          <a:prstGeom prst="line">
            <a:avLst/>
          </a:prstGeom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24" name="直接连接符 23564"/>
          <p:cNvSpPr/>
          <p:nvPr/>
        </p:nvSpPr>
        <p:spPr>
          <a:xfrm>
            <a:off x="6228000" y="3259080"/>
            <a:ext cx="576360" cy="360"/>
          </a:xfrm>
          <a:prstGeom prst="line">
            <a:avLst/>
          </a:prstGeom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25" name="矩形 23565"/>
          <p:cNvSpPr/>
          <p:nvPr/>
        </p:nvSpPr>
        <p:spPr>
          <a:xfrm>
            <a:off x="6587640" y="1399320"/>
            <a:ext cx="18939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限惋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23566"/>
          <p:cNvSpPr/>
          <p:nvPr/>
        </p:nvSpPr>
        <p:spPr>
          <a:xfrm>
            <a:off x="6849720" y="2127960"/>
            <a:ext cx="9921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限愤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23567"/>
          <p:cNvSpPr/>
          <p:nvPr/>
        </p:nvSpPr>
        <p:spPr>
          <a:xfrm>
            <a:off x="6921360" y="3018960"/>
            <a:ext cx="99216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限嘲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直接连接符 23568"/>
          <p:cNvSpPr/>
          <p:nvPr/>
        </p:nvSpPr>
        <p:spPr>
          <a:xfrm>
            <a:off x="7306560" y="1801080"/>
            <a:ext cx="360" cy="405360"/>
          </a:xfrm>
          <a:prstGeom prst="line">
            <a:avLst/>
          </a:prstGeom>
          <a:ln w="317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629" name="直接连接符 23569"/>
          <p:cNvSpPr/>
          <p:nvPr/>
        </p:nvSpPr>
        <p:spPr>
          <a:xfrm>
            <a:off x="7306560" y="2570760"/>
            <a:ext cx="360" cy="405360"/>
          </a:xfrm>
          <a:prstGeom prst="line">
            <a:avLst/>
          </a:prstGeom>
          <a:ln w="317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630" name="图片 23571" descr="马"/>
          <p:cNvPicPr/>
          <p:nvPr/>
        </p:nvPicPr>
        <p:blipFill>
          <a:blip r:embed="rId1"/>
          <a:stretch/>
        </p:blipFill>
        <p:spPr>
          <a:xfrm>
            <a:off x="6805440" y="3358440"/>
            <a:ext cx="1896480" cy="97848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5" descr="铅笔小人"/>
          <p:cNvPicPr/>
          <p:nvPr/>
        </p:nvPicPr>
        <p:blipFill>
          <a:blip r:embed="rId1"/>
          <a:stretch/>
        </p:blipFill>
        <p:spPr>
          <a:xfrm>
            <a:off x="6516720" y="2301480"/>
            <a:ext cx="2626920" cy="2714400"/>
          </a:xfrm>
          <a:prstGeom prst="rect">
            <a:avLst/>
          </a:prstGeom>
          <a:ln w="9525">
            <a:noFill/>
          </a:ln>
        </p:spPr>
      </p:pic>
      <p:sp>
        <p:nvSpPr>
          <p:cNvPr id="468" name="矩形 3"/>
          <p:cNvSpPr/>
          <p:nvPr/>
        </p:nvSpPr>
        <p:spPr>
          <a:xfrm>
            <a:off x="2265120" y="801360"/>
            <a:ext cx="53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120650" prstMaterial="matte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导学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"/>
          <p:cNvSpPr/>
          <p:nvPr/>
        </p:nvSpPr>
        <p:spPr>
          <a:xfrm>
            <a:off x="1405080" y="1992600"/>
            <a:ext cx="556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预习检测   夯实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1"/>
          <p:cNvSpPr/>
          <p:nvPr/>
        </p:nvSpPr>
        <p:spPr>
          <a:xfrm>
            <a:off x="696600" y="2372760"/>
            <a:ext cx="68698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该具有“先天下之忧而忧，后天下之乐而乐”的政治抱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不以物喜，不以己悲”的博大胸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三人行，必有我师”的虚怀若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482040" y="2248920"/>
            <a:ext cx="8179560" cy="197856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pic>
        <p:nvPicPr>
          <p:cNvPr id="634" name="图片 5" descr=""/>
          <p:cNvPicPr/>
          <p:nvPr/>
        </p:nvPicPr>
        <p:blipFill>
          <a:blip r:embed="rId1"/>
          <a:stretch/>
        </p:blipFill>
        <p:spPr>
          <a:xfrm>
            <a:off x="7028640" y="2289960"/>
            <a:ext cx="1999800" cy="2014200"/>
          </a:xfrm>
          <a:prstGeom prst="rect">
            <a:avLst/>
          </a:prstGeom>
          <a:ln w="0">
            <a:noFill/>
          </a:ln>
        </p:spPr>
      </p:pic>
      <p:sp>
        <p:nvSpPr>
          <p:cNvPr id="635" name="文本框 1"/>
          <p:cNvSpPr/>
          <p:nvPr/>
        </p:nvSpPr>
        <p:spPr>
          <a:xfrm>
            <a:off x="482040" y="1023120"/>
            <a:ext cx="8044560" cy="342360"/>
          </a:xfrm>
          <a:prstGeom prst="rect">
            <a:avLst/>
          </a:prstGeom>
          <a:solidFill>
            <a:srgbClr val="203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”“千里马”是一个永恒的主题，这也是《马说》之所以千古流传的主要原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文本框 8"/>
          <p:cNvSpPr/>
          <p:nvPr/>
        </p:nvSpPr>
        <p:spPr>
          <a:xfrm>
            <a:off x="291240" y="26028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1"/>
          <p:cNvSpPr/>
          <p:nvPr/>
        </p:nvSpPr>
        <p:spPr>
          <a:xfrm>
            <a:off x="696600" y="1841760"/>
            <a:ext cx="68698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欲穷千里目，更上一层楼”的宽广眼界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会当凌绝顶，一览众山小”的雄大气魄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问渠那得清如许，为有源头活水来”的吐故纳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应具有“富贵不能淫，贫贱不能移，威武不能屈”的大丈夫德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4"/>
          <p:cNvSpPr/>
          <p:nvPr/>
        </p:nvSpPr>
        <p:spPr>
          <a:xfrm>
            <a:off x="482040" y="1841760"/>
            <a:ext cx="8179560" cy="2462400"/>
          </a:xfrm>
          <a:prstGeom prst="roundRect">
            <a:avLst>
              <a:gd name="adj" fmla="val 4690"/>
            </a:avLst>
          </a:prstGeom>
          <a:noFill/>
          <a:ln w="3175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  <a:ea typeface="思源黑体 CN Regular"/>
            </a:endParaRPr>
          </a:p>
        </p:txBody>
      </p:sp>
      <p:pic>
        <p:nvPicPr>
          <p:cNvPr id="639" name="图片 5" descr=""/>
          <p:cNvPicPr/>
          <p:nvPr/>
        </p:nvPicPr>
        <p:blipFill>
          <a:blip r:embed="rId1"/>
          <a:stretch/>
        </p:blipFill>
        <p:spPr>
          <a:xfrm>
            <a:off x="7028640" y="2289960"/>
            <a:ext cx="1999800" cy="20142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8"/>
          <p:cNvSpPr/>
          <p:nvPr/>
        </p:nvSpPr>
        <p:spPr>
          <a:xfrm>
            <a:off x="291240" y="26028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"/>
          <p:cNvSpPr/>
          <p:nvPr/>
        </p:nvSpPr>
        <p:spPr>
          <a:xfrm>
            <a:off x="482040" y="889920"/>
            <a:ext cx="8044560" cy="342360"/>
          </a:xfrm>
          <a:prstGeom prst="rect">
            <a:avLst/>
          </a:prstGeom>
          <a:solidFill>
            <a:srgbClr val="2036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才”“千里马”是一个永恒的主题，这也是《马说》之所以千古流传的主要原因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advTm="2000" p14:dur="1500">
        <p:split dir="out" orient="vert"/>
      </p:transition>
    </mc:Choice>
    <mc:Fallback>
      <p:transition spd="slow" advTm="2000">
        <p:split dir="out" orient="vert"/>
      </p:transition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53"/>
          <p:cNvSpPr/>
          <p:nvPr/>
        </p:nvSpPr>
        <p:spPr>
          <a:xfrm>
            <a:off x="374760" y="1221480"/>
            <a:ext cx="8351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推翻隋朝的统治后，唐王朝的帝王承袭了隋朝传下来的人才选拔制度，并做了进一步的完善。由此，科举制度逐渐完备起来。在唐代，考试的科目分常科和制科两类。每年分期举行的称常科，由皇帝下诏临时举行的考试称制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科的科目有秀才、明经、进士、俊士、明法、明字、明算等五十多种。其中明法、明算、明字等科，不为人重视。俊士等科不经常举行，秀才一科，在唐初要求很高，后来渐废。所以，明经、进士两科便成为唐代常科的主要科目。唐高宗以后进士科尤为时人所重。唐朝许多宰相大多是进士出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9">
            <a:hlinkClick r:id="" action="ppaction://hlinkshowjump?jump=nextslide"/>
          </p:cNvPr>
          <p:cNvSpPr/>
          <p:nvPr/>
        </p:nvSpPr>
        <p:spPr>
          <a:xfrm>
            <a:off x="7689960" y="4855320"/>
            <a:ext cx="7916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4" name="Rectangle 100">
            <a:hlinkClick r:id="" action="ppaction://hlinkshowjump?jump=previousslide"/>
          </p:cNvPr>
          <p:cNvSpPr/>
          <p:nvPr/>
        </p:nvSpPr>
        <p:spPr>
          <a:xfrm>
            <a:off x="6804000" y="4855320"/>
            <a:ext cx="86472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5" name="Text Box 101"/>
          <p:cNvSpPr/>
          <p:nvPr/>
        </p:nvSpPr>
        <p:spPr>
          <a:xfrm>
            <a:off x="2809800" y="545040"/>
            <a:ext cx="269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唐朝科举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9">
            <a:hlinkClick r:id="rId1" action="ppaction://hlinksldjump"/>
          </p:cNvPr>
          <p:cNvSpPr/>
          <p:nvPr/>
        </p:nvSpPr>
        <p:spPr>
          <a:xfrm>
            <a:off x="6923160" y="1033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7" name="Rectangle 121">
            <a:hlinkClick r:id="rId2" action="ppaction://hlinksldjump"/>
          </p:cNvPr>
          <p:cNvSpPr/>
          <p:nvPr/>
        </p:nvSpPr>
        <p:spPr>
          <a:xfrm>
            <a:off x="6923160" y="1303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8" name="Rectangle 122">
            <a:hlinkClick r:id="rId3" action="ppaction://hlinksldjump"/>
          </p:cNvPr>
          <p:cNvSpPr/>
          <p:nvPr/>
        </p:nvSpPr>
        <p:spPr>
          <a:xfrm>
            <a:off x="6923160" y="3301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49" name="Rectangle 123">
            <a:hlinkClick r:id="rId4" action="ppaction://hlinksldjump"/>
          </p:cNvPr>
          <p:cNvSpPr/>
          <p:nvPr/>
        </p:nvSpPr>
        <p:spPr>
          <a:xfrm>
            <a:off x="6923160" y="2329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0" name="Rectangle 124">
            <a:hlinkClick r:id="rId5" action="ppaction://hlinksldjump"/>
          </p:cNvPr>
          <p:cNvSpPr/>
          <p:nvPr/>
        </p:nvSpPr>
        <p:spPr>
          <a:xfrm>
            <a:off x="6923160" y="179064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1" name="Rectangle 125">
            <a:hlinkClick r:id="rId6" action="ppaction://hlinksldjump"/>
          </p:cNvPr>
          <p:cNvSpPr/>
          <p:nvPr/>
        </p:nvSpPr>
        <p:spPr>
          <a:xfrm>
            <a:off x="6923160" y="2059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2" name="Rectangle 126">
            <a:hlinkClick r:id="rId7" action="ppaction://hlinksldjump"/>
          </p:cNvPr>
          <p:cNvSpPr/>
          <p:nvPr/>
        </p:nvSpPr>
        <p:spPr>
          <a:xfrm>
            <a:off x="6923160" y="254664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3" name="Rectangle 127">
            <a:hlinkClick r:id="rId8" action="ppaction://hlinksldjump"/>
          </p:cNvPr>
          <p:cNvSpPr/>
          <p:nvPr/>
        </p:nvSpPr>
        <p:spPr>
          <a:xfrm>
            <a:off x="6923160" y="28170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4" name="Rectangle 128">
            <a:hlinkClick r:id="rId9" action="ppaction://hlinksldjump"/>
          </p:cNvPr>
          <p:cNvSpPr/>
          <p:nvPr/>
        </p:nvSpPr>
        <p:spPr>
          <a:xfrm>
            <a:off x="6923160" y="2815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5" name="Rectangle 129">
            <a:hlinkClick r:id="rId10" action="ppaction://hlinksldjump"/>
          </p:cNvPr>
          <p:cNvSpPr/>
          <p:nvPr/>
        </p:nvSpPr>
        <p:spPr>
          <a:xfrm>
            <a:off x="6923160" y="30312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6" name="Rectangle 130">
            <a:hlinkClick r:id="rId11" action="ppaction://hlinksldjump"/>
          </p:cNvPr>
          <p:cNvSpPr/>
          <p:nvPr/>
        </p:nvSpPr>
        <p:spPr>
          <a:xfrm>
            <a:off x="6923160" y="3571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7" name="Rectangle 131">
            <a:hlinkClick r:id="rId12" action="ppaction://hlinksldjump"/>
          </p:cNvPr>
          <p:cNvSpPr/>
          <p:nvPr/>
        </p:nvSpPr>
        <p:spPr>
          <a:xfrm>
            <a:off x="6923160" y="1573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8" name="Rectangle 132">
            <a:hlinkClick r:id="rId13" action="ppaction://hlinksldjump"/>
          </p:cNvPr>
          <p:cNvSpPr/>
          <p:nvPr/>
        </p:nvSpPr>
        <p:spPr>
          <a:xfrm>
            <a:off x="6923160" y="37872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6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7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8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8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8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9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9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9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3"/>
          <p:cNvSpPr/>
          <p:nvPr/>
        </p:nvSpPr>
        <p:spPr>
          <a:xfrm>
            <a:off x="714240" y="1253880"/>
            <a:ext cx="7818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士及第称“登龙门”，第一名曰状元或状头。同榜人要凑钱举行庆贺活动，以同榜少年二人在名园探采名花，称探花使。要集体到杏园参加宴会，叫探花宴。宴会以后，同到慈恩寺的雁塔下题名以显其荣耀，所以把又把中进士称为“雁塔题名”。常科登第后，还要经吏部考试，叫选试。合格者，才能授予官职。唐代大家柳宗元进士及第后，以博学宏词，被即刻授予“集贤殿正字”。如果吏部考试落选，只能到节度使那儿去当幕僚，再争取得到国家正式委任的官职。韩愈在考中进士后，三次选试都未通过，不得不去担任节度使的幕僚，才踏进官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>
            <a:hlinkClick r:id="" action="ppaction://hlinkshowjump?jump=nextslide"/>
          </p:cNvPr>
          <p:cNvSpPr/>
          <p:nvPr/>
        </p:nvSpPr>
        <p:spPr>
          <a:xfrm>
            <a:off x="7740720" y="4860000"/>
            <a:ext cx="79164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1" name="Rectangle 14">
            <a:hlinkClick r:id="" action="ppaction://hlinkshowjump?jump=previousslide"/>
          </p:cNvPr>
          <p:cNvSpPr/>
          <p:nvPr/>
        </p:nvSpPr>
        <p:spPr>
          <a:xfrm>
            <a:off x="7655040" y="4850640"/>
            <a:ext cx="864720" cy="2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2" name="Rectangle 47">
            <a:hlinkClick r:id="rId1" action="ppaction://hlinksldjump"/>
          </p:cNvPr>
          <p:cNvSpPr/>
          <p:nvPr/>
        </p:nvSpPr>
        <p:spPr>
          <a:xfrm>
            <a:off x="6923160" y="1033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3" name="Rectangle 49">
            <a:hlinkClick r:id="rId2" action="ppaction://hlinksldjump"/>
          </p:cNvPr>
          <p:cNvSpPr/>
          <p:nvPr/>
        </p:nvSpPr>
        <p:spPr>
          <a:xfrm>
            <a:off x="6923160" y="1303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4" name="Rectangle 50">
            <a:hlinkClick r:id="rId3" action="ppaction://hlinksldjump"/>
          </p:cNvPr>
          <p:cNvSpPr/>
          <p:nvPr/>
        </p:nvSpPr>
        <p:spPr>
          <a:xfrm>
            <a:off x="6923160" y="330156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5" name="Rectangle 51">
            <a:hlinkClick r:id="rId4" action="ppaction://hlinksldjump"/>
          </p:cNvPr>
          <p:cNvSpPr/>
          <p:nvPr/>
        </p:nvSpPr>
        <p:spPr>
          <a:xfrm>
            <a:off x="6923160" y="2329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6" name="Rectangle 52">
            <a:hlinkClick r:id="rId5" action="ppaction://hlinksldjump"/>
          </p:cNvPr>
          <p:cNvSpPr/>
          <p:nvPr/>
        </p:nvSpPr>
        <p:spPr>
          <a:xfrm>
            <a:off x="6923160" y="179064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7" name="Rectangle 53">
            <a:hlinkClick r:id="rId6" action="ppaction://hlinksldjump"/>
          </p:cNvPr>
          <p:cNvSpPr/>
          <p:nvPr/>
        </p:nvSpPr>
        <p:spPr>
          <a:xfrm>
            <a:off x="6923160" y="2059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8" name="Rectangle 54">
            <a:hlinkClick r:id="rId7" action="ppaction://hlinksldjump"/>
          </p:cNvPr>
          <p:cNvSpPr/>
          <p:nvPr/>
        </p:nvSpPr>
        <p:spPr>
          <a:xfrm>
            <a:off x="6923160" y="254664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69" name="Rectangle 55">
            <a:hlinkClick r:id="rId8" action="ppaction://hlinksldjump"/>
          </p:cNvPr>
          <p:cNvSpPr/>
          <p:nvPr/>
        </p:nvSpPr>
        <p:spPr>
          <a:xfrm>
            <a:off x="6923160" y="28170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0" name="Rectangle 56">
            <a:hlinkClick r:id="rId9" action="ppaction://hlinksldjump"/>
          </p:cNvPr>
          <p:cNvSpPr/>
          <p:nvPr/>
        </p:nvSpPr>
        <p:spPr>
          <a:xfrm>
            <a:off x="6923160" y="2815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1" name="Rectangle 57">
            <a:hlinkClick r:id="rId10" action="ppaction://hlinksldjump"/>
          </p:cNvPr>
          <p:cNvSpPr/>
          <p:nvPr/>
        </p:nvSpPr>
        <p:spPr>
          <a:xfrm>
            <a:off x="6923160" y="30312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2" name="Rectangle 58">
            <a:hlinkClick r:id="rId11" action="ppaction://hlinksldjump"/>
          </p:cNvPr>
          <p:cNvSpPr/>
          <p:nvPr/>
        </p:nvSpPr>
        <p:spPr>
          <a:xfrm>
            <a:off x="6923160" y="3571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3" name="Rectangle 59">
            <a:hlinkClick r:id="rId12" action="ppaction://hlinksldjump"/>
          </p:cNvPr>
          <p:cNvSpPr/>
          <p:nvPr/>
        </p:nvSpPr>
        <p:spPr>
          <a:xfrm>
            <a:off x="6923160" y="157392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4" name="Rectangle 60">
            <a:hlinkClick r:id="rId13" action="ppaction://hlinksldjump"/>
          </p:cNvPr>
          <p:cNvSpPr/>
          <p:nvPr/>
        </p:nvSpPr>
        <p:spPr>
          <a:xfrm>
            <a:off x="6923160" y="3787200"/>
            <a:ext cx="18000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75" name="Text Box 101"/>
          <p:cNvSpPr/>
          <p:nvPr/>
        </p:nvSpPr>
        <p:spPr>
          <a:xfrm>
            <a:off x="2809800" y="545040"/>
            <a:ext cx="2698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唐朝科举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0"/>
                      </p:stCondLst>
                      <p:childTnLst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5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6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6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6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7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7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8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8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88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0" y="642960"/>
            <a:ext cx="9143640" cy="3857400"/>
          </a:xfrm>
          <a:prstGeom prst="rect">
            <a:avLst/>
          </a:prstGeom>
          <a:ln w="0">
            <a:noFill/>
          </a:ln>
        </p:spPr>
      </p:pic>
      <p:sp>
        <p:nvSpPr>
          <p:cNvPr id="677" name="矩形 8"/>
          <p:cNvSpPr/>
          <p:nvPr/>
        </p:nvSpPr>
        <p:spPr>
          <a:xfrm>
            <a:off x="3942360" y="642960"/>
            <a:ext cx="5201280" cy="3857400"/>
          </a:xfrm>
          <a:prstGeom prst="rect">
            <a:avLst/>
          </a:prstGeom>
          <a:solidFill>
            <a:schemeClr val="bg1">
              <a:alpha val="6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350" spc="-1" strike="noStrike">
              <a:solidFill>
                <a:schemeClr val="lt1"/>
              </a:solidFill>
              <a:latin typeface="华文楷体"/>
              <a:ea typeface="华文楷体"/>
            </a:endParaRPr>
          </a:p>
        </p:txBody>
      </p:sp>
      <p:sp>
        <p:nvSpPr>
          <p:cNvPr id="678" name="文本框 4"/>
          <p:cNvSpPr/>
          <p:nvPr/>
        </p:nvSpPr>
        <p:spPr>
          <a:xfrm>
            <a:off x="2211120" y="1783080"/>
            <a:ext cx="143064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课堂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直接连接符 5"/>
          <p:cNvCxnSpPr/>
          <p:nvPr/>
        </p:nvCxnSpPr>
        <p:spPr>
          <a:xfrm flipH="1">
            <a:off x="3672720" y="1493640"/>
            <a:ext cx="9720" cy="2683800"/>
          </a:xfrm>
          <a:prstGeom prst="straightConnector1">
            <a:avLst/>
          </a:prstGeom>
          <a:ln w="25400">
            <a:solidFill>
              <a:srgbClr val="c00000"/>
            </a:solidFill>
          </a:ln>
        </p:spPr>
      </p:cxnSp>
      <p:sp>
        <p:nvSpPr>
          <p:cNvPr id="680" name="TextBox 6"/>
          <p:cNvSpPr/>
          <p:nvPr/>
        </p:nvSpPr>
        <p:spPr>
          <a:xfrm>
            <a:off x="4249080" y="1013400"/>
            <a:ext cx="44636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，本节课你收获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图片 4" descr=""/>
          <p:cNvPicPr/>
          <p:nvPr/>
        </p:nvPicPr>
        <p:blipFill>
          <a:blip r:embed="rId1"/>
          <a:stretch/>
        </p:blipFill>
        <p:spPr>
          <a:xfrm>
            <a:off x="6366960" y="1425600"/>
            <a:ext cx="2286360" cy="243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71" name="文本框 5"/>
          <p:cNvSpPr/>
          <p:nvPr/>
        </p:nvSpPr>
        <p:spPr>
          <a:xfrm>
            <a:off x="1476720" y="1051920"/>
            <a:ext cx="2010960" cy="494640"/>
          </a:xfrm>
          <a:prstGeom prst="rect">
            <a:avLst/>
          </a:prstGeom>
          <a:solidFill>
            <a:srgbClr val="8f5b33"/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1009800" y="2231280"/>
            <a:ext cx="46065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韩愈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68——8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字退之，河阳（现在河南孟州）人，唐代文学家， “唐宋八大家”之一。有“文起八代之衰”的美誉。曾与柳宗元倡导“古文运动“主张文道合一，反对骈体文，提倡散文，作品都收在《昌黎先生集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4"/>
          <p:cNvSpPr/>
          <p:nvPr/>
        </p:nvSpPr>
        <p:spPr>
          <a:xfrm>
            <a:off x="1067040" y="1828080"/>
            <a:ext cx="685620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韩愈 早先，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中进士后，长期得不到任用，他曾三次上书宰相，被辞。后依附节度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仕途坎坷。加上当时奸佞当权，政治黑暗，有才之士不受重用。这些都让他感到明主难遇，在这种悲愤心情下，写下寓意深刻的《马说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5"/>
          <p:cNvSpPr/>
          <p:nvPr/>
        </p:nvSpPr>
        <p:spPr>
          <a:xfrm>
            <a:off x="1476720" y="1051920"/>
            <a:ext cx="2010960" cy="494640"/>
          </a:xfrm>
          <a:prstGeom prst="rect">
            <a:avLst/>
          </a:prstGeom>
          <a:solidFill>
            <a:srgbClr val="8f5b33"/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文本框 2"/>
          <p:cNvSpPr/>
          <p:nvPr/>
        </p:nvSpPr>
        <p:spPr>
          <a:xfrm>
            <a:off x="406080" y="1425960"/>
            <a:ext cx="83311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选自《韩昌黎文集校注》卷一（上海古籍出版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版）。《马说》大约作于贞元十一年至十六年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95—8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）间。其时，韩愈初登仕途，很不得志。曾三次上书宰相请求擢用，“而志不得通”“足三及门，而阍人（守门人）辞焉”。尽管如此，他仍然声明自己“有忧天下之心”，不会遁迹山林。后相继依附于宜武节度使董晋、武宁节度使张建封幕下，郁郁不乐，所以有“伯乐不常有”之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8"/>
          <p:cNvSpPr/>
          <p:nvPr/>
        </p:nvSpPr>
        <p:spPr>
          <a:xfrm>
            <a:off x="291240" y="253440"/>
            <a:ext cx="193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文本框 3"/>
          <p:cNvSpPr/>
          <p:nvPr/>
        </p:nvSpPr>
        <p:spPr>
          <a:xfrm>
            <a:off x="3043440" y="438120"/>
            <a:ext cx="2787840" cy="494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428760" indent="-428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”字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"/>
          <p:cNvSpPr/>
          <p:nvPr/>
        </p:nvSpPr>
        <p:spPr>
          <a:xfrm>
            <a:off x="899640" y="1078560"/>
            <a:ext cx="756036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”： 古代的一种议论体裁，用以陈述作者对社会上某些问题的看法；写法十分灵活，可以叙事，可以议论，都是为了说明一个道理；讲究文采，和现在的杂文大致相近。“马说”即谈马、论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>
              <a:lnSpc>
                <a:spcPct val="150000"/>
              </a:lnSpc>
              <a:buClr>
                <a:srgbClr val="0000ff"/>
              </a:buClr>
              <a:buFont typeface="Wingdings" charset="2"/>
              <a:buChar char="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莲说》：莲——人，托物言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马说》   ：马——人，托物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5" descr="铅笔小人"/>
          <p:cNvPicPr/>
          <p:nvPr/>
        </p:nvPicPr>
        <p:blipFill>
          <a:blip r:embed="rId1"/>
          <a:stretch/>
        </p:blipFill>
        <p:spPr>
          <a:xfrm>
            <a:off x="6516720" y="2301480"/>
            <a:ext cx="2626920" cy="2714400"/>
          </a:xfrm>
          <a:prstGeom prst="rect">
            <a:avLst/>
          </a:prstGeom>
          <a:ln w="9525">
            <a:noFill/>
          </a:ln>
        </p:spPr>
      </p:pic>
      <p:sp>
        <p:nvSpPr>
          <p:cNvPr id="480" name="矩形 3"/>
          <p:cNvSpPr/>
          <p:nvPr/>
        </p:nvSpPr>
        <p:spPr>
          <a:xfrm>
            <a:off x="1909440" y="80136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threePt"/>
            </a:scene3d>
            <a:sp3d extrusionH="120650" prstMaterial="matte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目标导学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405080" y="1992600"/>
            <a:ext cx="556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读课文  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4977</Words>
  <Paragraphs>213</Paragraphs>
  <Company>第一PPT模板网-WWW.1PPT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8T17:47:26Z</dcterms:created>
  <dc:creator>第一PPT模板网-WWW.1PPT.COM</dc:creator>
  <dc:description/>
  <dc:language>en-US</dc:language>
  <cp:lastModifiedBy>123</cp:lastModifiedBy>
  <cp:lastPrinted>2021-02-18T17:47:26Z</cp:lastPrinted>
  <dcterms:modified xsi:type="dcterms:W3CDTF">2021-04-19T08:49:2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16:9)</vt:lpwstr>
  </property>
  <property fmtid="{D5CDD505-2E9C-101B-9397-08002B2CF9AE}" pid="4" name="Slides">
    <vt:r8>45</vt:r8>
  </property>
  <property fmtid="{D5CDD505-2E9C-101B-9397-08002B2CF9AE}" pid="5" name="album">
    <vt:lpwstr>rbm.xkw.com</vt:lpwstr>
  </property>
  <property fmtid="{D5CDD505-2E9C-101B-9397-08002B2CF9AE}" pid="6" name="author">
    <vt:lpwstr>rbm.xkw.com</vt:lpwstr>
  </property>
  <property fmtid="{D5CDD505-2E9C-101B-9397-08002B2CF9AE}" pid="7" name="company">
    <vt:lpwstr>学科网</vt:lpwstr>
  </property>
  <property fmtid="{D5CDD505-2E9C-101B-9397-08002B2CF9AE}" pid="8" name="copyright">
    <vt:lpwstr>学科网版权所有</vt:lpwstr>
  </property>
</Properties>
</file>