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" ContentType="application/msword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AF9E4A-AC00-4E2F-9CCA-38CDBDAF2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word/" TargetMode="External"/><Relationship Id="rId8" Type="http://schemas.openxmlformats.org/officeDocument/2006/relationships/hyperlink" Target="http://www.1ppt.com/excel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om/jianli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word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Excel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excel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个人简历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om/jian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70A0C5-5C9D-4D9D-867B-F290294E00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doc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3640" y="1459080"/>
            <a:ext cx="7772040" cy="12330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7840" rIns="87840" tIns="43920" bIns="4392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二十二　茅屋为秋风所破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0" y="407700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技法点拨.jpg" descr=""/>
          <p:cNvPicPr/>
          <p:nvPr/>
        </p:nvPicPr>
        <p:blipFill>
          <a:blip r:embed="rId1"/>
          <a:stretch/>
        </p:blipFill>
        <p:spPr>
          <a:xfrm>
            <a:off x="612720" y="1087920"/>
            <a:ext cx="1296720" cy="395280"/>
          </a:xfrm>
          <a:prstGeom prst="rect">
            <a:avLst/>
          </a:prstGeom>
          <a:ln w="0">
            <a:noFill/>
          </a:ln>
        </p:spPr>
      </p:pic>
      <p:sp>
        <p:nvSpPr>
          <p:cNvPr id="131" name="矩形 12290"/>
          <p:cNvSpPr/>
          <p:nvPr/>
        </p:nvSpPr>
        <p:spPr>
          <a:xfrm>
            <a:off x="396720" y="914400"/>
            <a:ext cx="820692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spAutoFit/>
          </a:bodyPr>
          <a:p>
            <a:pPr algn="ctr">
              <a:lnSpc>
                <a:spcPct val="130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品味炼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古人作诗讲究炼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种题型是要求品味这些经锤炼的字的妙处。分析题目时不能把该字孤立起来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须放在句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并结合全诗的意境情感来分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答题步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释该字在句中的含义或解释该句的含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展开联想把该字放入原句中描述景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或导析该句中各词创造的形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3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出该字或该句烘托了怎样的意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或表达了怎样的感情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本框 6146"/>
          <p:cNvSpPr/>
          <p:nvPr/>
        </p:nvSpPr>
        <p:spPr>
          <a:xfrm>
            <a:off x="734040" y="2978280"/>
            <a:ext cx="759888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spAutoFit/>
          </a:bodyPr>
          <a:p>
            <a:pPr>
              <a:lnSpc>
                <a:spcPct val="130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感情地朗读并背诵诗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合背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理解诗的内容和情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受诗歌的节奏和韵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品味诗歌语言形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会文章中作者复杂的情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把握他推己及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忧国忧民的博大胸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目标导航.jpg" descr=""/>
          <p:cNvPicPr/>
          <p:nvPr/>
        </p:nvPicPr>
        <p:blipFill>
          <a:blip r:embed="rId1"/>
          <a:stretch/>
        </p:blipFill>
        <p:spPr>
          <a:xfrm>
            <a:off x="806400" y="2152800"/>
            <a:ext cx="1800000" cy="4125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作者简介.jpg" descr=""/>
          <p:cNvPicPr/>
          <p:nvPr/>
        </p:nvPicPr>
        <p:blipFill>
          <a:blip r:embed="rId1"/>
          <a:stretch/>
        </p:blipFill>
        <p:spPr>
          <a:xfrm>
            <a:off x="539640" y="1354680"/>
            <a:ext cx="1657080" cy="54576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7170"/>
          <p:cNvSpPr/>
          <p:nvPr/>
        </p:nvSpPr>
        <p:spPr>
          <a:xfrm>
            <a:off x="757080" y="2122920"/>
            <a:ext cx="7702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杜甫是我国唐代伟大的现实主义诗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被世人尊为“诗圣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诗被称为“诗史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主要作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《兵车行》《自京赴奉先县咏怀五百字》《春望》《羌村》《北征》“三吏”“三别”《秋兴》等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《杜工部集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预习案_1.jpg" descr=""/>
          <p:cNvPicPr/>
          <p:nvPr/>
        </p:nvPicPr>
        <p:blipFill>
          <a:blip r:embed="rId2"/>
          <a:stretch/>
        </p:blipFill>
        <p:spPr>
          <a:xfrm>
            <a:off x="396720" y="662400"/>
            <a:ext cx="8133840" cy="5752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8193"/>
          <p:cNvSpPr/>
          <p:nvPr/>
        </p:nvSpPr>
        <p:spPr>
          <a:xfrm>
            <a:off x="396720" y="1437120"/>
            <a:ext cx="834984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spAutoFit/>
          </a:bodyPr>
          <a:p>
            <a:pPr algn="just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安史之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杜甫流离成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公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经亲友帮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在成都浣花溪边盖起了一座茅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总算有了一个栖身之所。不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二年八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风破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雨又接踵而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诗人长夜难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慨万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下了这篇脍炙人口的不朽诗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背景解读.jpg" descr=""/>
          <p:cNvPicPr/>
          <p:nvPr/>
        </p:nvPicPr>
        <p:blipFill>
          <a:blip r:embed="rId1"/>
          <a:stretch/>
        </p:blipFill>
        <p:spPr>
          <a:xfrm>
            <a:off x="539640" y="730080"/>
            <a:ext cx="1872720" cy="623880"/>
          </a:xfrm>
          <a:prstGeom prst="rect">
            <a:avLst/>
          </a:prstGeom>
          <a:ln w="0">
            <a:noFill/>
          </a:ln>
        </p:spPr>
      </p:pic>
      <p:pic>
        <p:nvPicPr>
          <p:cNvPr id="91" name="背景解读_1.jpg" descr=""/>
          <p:cNvPicPr/>
          <p:nvPr/>
        </p:nvPicPr>
        <p:blipFill>
          <a:blip r:embed="rId2"/>
          <a:stretch/>
        </p:blipFill>
        <p:spPr>
          <a:xfrm>
            <a:off x="396720" y="3342240"/>
            <a:ext cx="1728360" cy="575280"/>
          </a:xfrm>
          <a:prstGeom prst="rect">
            <a:avLst/>
          </a:prstGeom>
          <a:ln w="0">
            <a:noFill/>
          </a:ln>
        </p:spPr>
      </p:pic>
      <p:sp>
        <p:nvSpPr>
          <p:cNvPr id="92" name="文本框 8196"/>
          <p:cNvSpPr/>
          <p:nvPr/>
        </p:nvSpPr>
        <p:spPr>
          <a:xfrm>
            <a:off x="396720" y="3860640"/>
            <a:ext cx="8349840" cy="11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本是古代歌曲的一种形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后成为古诗的一种体裁。其音节、格律一般比较自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形式多为五言、七言、杂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富于变化。它的特点是不讲究格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任由诗人创作。抒发感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句数多少不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以说是句式整齐的“自由体”诗。但极富韵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朗朗上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略求押韵而不无顿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古代诗文中极有特色的一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对象 9217"/>
          <p:cNvGraphicFramePr/>
          <p:nvPr/>
        </p:nvGraphicFramePr>
        <p:xfrm>
          <a:off x="609480" y="2013120"/>
          <a:ext cx="6770160" cy="1608480"/>
        </p:xfrm>
        <a:graphic>
          <a:graphicData uri="http://schemas.openxmlformats.org/presentationml/2006/ole">
            <p:oleObj progId="Word.Document.8" r:id="rId1" spid="">
              <p:embed/>
              <p:pic>
                <p:nvPicPr>
                  <p:cNvPr id="94" name="对象 92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13120"/>
                    <a:ext cx="6770160" cy="16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文本框 9218"/>
          <p:cNvSpPr/>
          <p:nvPr/>
        </p:nvSpPr>
        <p:spPr>
          <a:xfrm>
            <a:off x="396720" y="1333440"/>
            <a:ext cx="820692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准字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预习自测.jpg" descr=""/>
          <p:cNvPicPr/>
          <p:nvPr/>
        </p:nvPicPr>
        <p:blipFill>
          <a:blip r:embed="rId3"/>
          <a:stretch/>
        </p:blipFill>
        <p:spPr>
          <a:xfrm>
            <a:off x="396720" y="605520"/>
            <a:ext cx="1726920" cy="575280"/>
          </a:xfrm>
          <a:prstGeom prst="rect">
            <a:avLst/>
          </a:prstGeom>
          <a:ln w="0">
            <a:noFill/>
          </a:ln>
        </p:spPr>
      </p:pic>
      <p:sp>
        <p:nvSpPr>
          <p:cNvPr id="97" name="矩形 9220"/>
          <p:cNvSpPr/>
          <p:nvPr/>
        </p:nvSpPr>
        <p:spPr>
          <a:xfrm>
            <a:off x="1260360" y="1920960"/>
            <a:ext cx="79164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ctr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á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9221"/>
          <p:cNvSpPr/>
          <p:nvPr/>
        </p:nvSpPr>
        <p:spPr>
          <a:xfrm>
            <a:off x="3205080" y="1742760"/>
            <a:ext cx="7916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ctr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ó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9222"/>
          <p:cNvSpPr/>
          <p:nvPr/>
        </p:nvSpPr>
        <p:spPr>
          <a:xfrm>
            <a:off x="5075280" y="1920960"/>
            <a:ext cx="79164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ctr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u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9223"/>
          <p:cNvSpPr/>
          <p:nvPr/>
        </p:nvSpPr>
        <p:spPr>
          <a:xfrm>
            <a:off x="1260360" y="2418480"/>
            <a:ext cx="79164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ctr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9224"/>
          <p:cNvSpPr/>
          <p:nvPr/>
        </p:nvSpPr>
        <p:spPr>
          <a:xfrm>
            <a:off x="2700360" y="2439720"/>
            <a:ext cx="79164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ctr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ǐ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9225"/>
          <p:cNvSpPr/>
          <p:nvPr/>
        </p:nvSpPr>
        <p:spPr>
          <a:xfrm>
            <a:off x="4429080" y="2439720"/>
            <a:ext cx="79020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ctr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ī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9226"/>
          <p:cNvSpPr/>
          <p:nvPr/>
        </p:nvSpPr>
        <p:spPr>
          <a:xfrm>
            <a:off x="1332000" y="2957400"/>
            <a:ext cx="79164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ctr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9227"/>
          <p:cNvSpPr/>
          <p:nvPr/>
        </p:nvSpPr>
        <p:spPr>
          <a:xfrm>
            <a:off x="2989440" y="2938320"/>
            <a:ext cx="79164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ctr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ā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9228"/>
          <p:cNvSpPr/>
          <p:nvPr/>
        </p:nvSpPr>
        <p:spPr>
          <a:xfrm>
            <a:off x="4500720" y="2957400"/>
            <a:ext cx="79020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ctr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10241"/>
          <p:cNvSpPr/>
          <p:nvPr/>
        </p:nvSpPr>
        <p:spPr>
          <a:xfrm>
            <a:off x="396720" y="577800"/>
            <a:ext cx="842292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补全诗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0242"/>
          <p:cNvSpPr/>
          <p:nvPr/>
        </p:nvSpPr>
        <p:spPr>
          <a:xfrm>
            <a:off x="2700360" y="1143360"/>
            <a:ext cx="208728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ctr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下者飘转沉塘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0243"/>
          <p:cNvSpPr/>
          <p:nvPr/>
        </p:nvSpPr>
        <p:spPr>
          <a:xfrm>
            <a:off x="396720" y="1176840"/>
            <a:ext cx="842292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高者挂罥长林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唇焦口燥呼不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3)________________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秋天漠漠向昏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4)________________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娇儿恶卧踏里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5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经丧乱少睡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____________________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6)____________________,______________________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雨不动安如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0244"/>
          <p:cNvSpPr/>
          <p:nvPr/>
        </p:nvSpPr>
        <p:spPr>
          <a:xfrm>
            <a:off x="2773440" y="1576080"/>
            <a:ext cx="208728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ctr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归来倚杖自叹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0245"/>
          <p:cNvSpPr/>
          <p:nvPr/>
        </p:nvSpPr>
        <p:spPr>
          <a:xfrm>
            <a:off x="828720" y="2005920"/>
            <a:ext cx="208872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ctr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俄顷风定云墨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0246"/>
          <p:cNvSpPr/>
          <p:nvPr/>
        </p:nvSpPr>
        <p:spPr>
          <a:xfrm>
            <a:off x="828720" y="2505240"/>
            <a:ext cx="208872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ctr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布衾多年冷似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0247"/>
          <p:cNvSpPr/>
          <p:nvPr/>
        </p:nvSpPr>
        <p:spPr>
          <a:xfrm>
            <a:off x="2773440" y="2871360"/>
            <a:ext cx="208728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ctr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长夜沾湿何由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0248"/>
          <p:cNvSpPr/>
          <p:nvPr/>
        </p:nvSpPr>
        <p:spPr>
          <a:xfrm>
            <a:off x="973080" y="3304440"/>
            <a:ext cx="208872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ctr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安得广厦千万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0249"/>
          <p:cNvSpPr/>
          <p:nvPr/>
        </p:nvSpPr>
        <p:spPr>
          <a:xfrm>
            <a:off x="3348000" y="3304440"/>
            <a:ext cx="2374560" cy="4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ctr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庇天下寒士俱欢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11265"/>
          <p:cNvSpPr/>
          <p:nvPr/>
        </p:nvSpPr>
        <p:spPr>
          <a:xfrm>
            <a:off x="396720" y="1506960"/>
            <a:ext cx="842292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诗的第一节是怎样描绘秋风肆虐的情景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探究案.jpg" descr=""/>
          <p:cNvPicPr/>
          <p:nvPr/>
        </p:nvPicPr>
        <p:blipFill>
          <a:blip r:embed="rId1"/>
          <a:stretch/>
        </p:blipFill>
        <p:spPr>
          <a:xfrm>
            <a:off x="396720" y="749160"/>
            <a:ext cx="8062560" cy="569160"/>
          </a:xfrm>
          <a:prstGeom prst="rect">
            <a:avLst/>
          </a:prstGeom>
          <a:ln w="0">
            <a:noFill/>
          </a:ln>
        </p:spPr>
      </p:pic>
      <p:sp>
        <p:nvSpPr>
          <p:cNvPr id="117" name="矩形 1126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8" name="矩形 11268"/>
          <p:cNvSpPr/>
          <p:nvPr/>
        </p:nvSpPr>
        <p:spPr>
          <a:xfrm>
            <a:off x="0" y="319392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396720" y="2305080"/>
            <a:ext cx="8415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900" spc="-1" strike="noStrike">
              <a:solidFill>
                <a:srgbClr val="0099ff"/>
              </a:solidFill>
              <a:latin typeface="Calibri"/>
              <a:ea typeface="宋体"/>
            </a:endParaRPr>
          </a:p>
        </p:txBody>
      </p:sp>
      <p:sp>
        <p:nvSpPr>
          <p:cNvPr id="120" name="文本框 11270"/>
          <p:cNvSpPr/>
          <p:nvPr/>
        </p:nvSpPr>
        <p:spPr>
          <a:xfrm>
            <a:off x="541440" y="2468160"/>
            <a:ext cx="79182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spAutoFit/>
          </a:bodyPr>
          <a:p>
            <a:pPr algn="just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答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怒”把秋风拟人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从而使下一句不仅富有动作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而且富有浓烈的感情色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号”从听觉上写音响宏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突出秋风之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卷”从视觉上形象地写出秋风的肆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飞”“渡”“挂”“飘转”等词语刻画了茅草飞扬的动感画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从侧面形象地写秋风之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13313"/>
          <p:cNvSpPr/>
          <p:nvPr/>
        </p:nvSpPr>
        <p:spPr>
          <a:xfrm>
            <a:off x="0" y="319392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2" name="矩形 13314"/>
          <p:cNvSpPr/>
          <p:nvPr/>
        </p:nvSpPr>
        <p:spPr>
          <a:xfrm>
            <a:off x="0" y="319392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3" name="矩形 13315"/>
          <p:cNvSpPr/>
          <p:nvPr/>
        </p:nvSpPr>
        <p:spPr>
          <a:xfrm>
            <a:off x="0" y="2969640"/>
            <a:ext cx="9143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4" name="矩形 13316"/>
          <p:cNvSpPr/>
          <p:nvPr/>
        </p:nvSpPr>
        <p:spPr>
          <a:xfrm>
            <a:off x="2633040" y="901800"/>
            <a:ext cx="185688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了这首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看到了一个怎样的诗人形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结合诗句说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96720" y="1699560"/>
            <a:ext cx="8415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900" spc="-1" strike="noStrike">
              <a:solidFill>
                <a:srgbClr val="0099ff"/>
              </a:solidFill>
              <a:latin typeface="Calibri"/>
              <a:ea typeface="宋体"/>
            </a:endParaRPr>
          </a:p>
        </p:txBody>
      </p:sp>
      <p:sp>
        <p:nvSpPr>
          <p:cNvPr id="126" name="文本框 13318"/>
          <p:cNvSpPr/>
          <p:nvPr/>
        </p:nvSpPr>
        <p:spPr>
          <a:xfrm>
            <a:off x="541440" y="1862640"/>
            <a:ext cx="791820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spAutoFit/>
          </a:bodyPr>
          <a:p>
            <a:pPr algn="just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答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(1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老体弱——唇焦口燥呼不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归来倚杖自叹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生活贫困——布衾多年冷似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3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忧心国事——自经丧乱少睡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4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关心天下“寒士”——安得广厦千万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庇天下寒士俱欢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5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舍己为人——吾庐独破受冻死亦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14337"/>
          <p:cNvSpPr/>
          <p:nvPr/>
        </p:nvSpPr>
        <p:spPr>
          <a:xfrm>
            <a:off x="468360" y="835920"/>
            <a:ext cx="842292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是怎样理解“安得广厦千万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庇天下寒士俱欢颜”这句话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396720" y="1528200"/>
            <a:ext cx="8415000" cy="29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ctr">
            <a:noAutofit/>
          </a:bodyPr>
          <a:p>
            <a:pPr algn="ctr">
              <a:lnSpc>
                <a:spcPct val="100000"/>
              </a:lnSpc>
            </a:pPr>
            <a:endParaRPr b="0" lang="en-US" sz="1900" spc="-1" strike="noStrike">
              <a:solidFill>
                <a:srgbClr val="0099ff"/>
              </a:solidFill>
              <a:latin typeface="Calibri"/>
              <a:ea typeface="宋体"/>
            </a:endParaRPr>
          </a:p>
        </p:txBody>
      </p:sp>
      <p:sp>
        <p:nvSpPr>
          <p:cNvPr id="129" name="文本框 14339"/>
          <p:cNvSpPr/>
          <p:nvPr/>
        </p:nvSpPr>
        <p:spPr>
          <a:xfrm>
            <a:off x="396720" y="1695600"/>
            <a:ext cx="83116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spAutoFit/>
          </a:bodyPr>
          <a:p>
            <a:pPr algn="just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答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两句诗展现了诗人爱及天下的博大襟怀。一场暴风雨袭击了他的茅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也触动了作者一贯的忧国忧民情怀。秋风、秋雨的威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贫困、流离失所的生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都没能击垮作者。面对这样的现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诗人从个人“长夜沾湿何由彻”的痛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跃联想到风雨中千千万万衣食无着落的穷苦百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从沉思中振作起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发出“安得广厦千万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庇天下寒士俱欢颜”的呼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现了诗人推己及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关心人民疾苦的博大胸怀和崇高理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主题46</Template>
  <TotalTime>0</TotalTime>
  <Application>LibreOffice/7.4.7.2$Linux_X86_64 LibreOffice_project/40$Build-2</Application>
  <AppVersion>15.0000</AppVersion>
  <Words>1568</Words>
  <Paragraphs>7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05:44:34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7-22T03:29:34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412</vt:lpwstr>
  </property>
  <property fmtid="{D5CDD505-2E9C-101B-9397-08002B2CF9AE}" pid="3" name="Notes">
    <vt:r8>2</vt:r8>
  </property>
  <property fmtid="{D5CDD505-2E9C-101B-9397-08002B2CF9AE}" pid="4" name="PresentationFormat">
    <vt:lpwstr>全屏显示(4:3)</vt:lpwstr>
  </property>
  <property fmtid="{D5CDD505-2E9C-101B-9397-08002B2CF9AE}" pid="5" name="Slides">
    <vt:r8>11</vt:r8>
  </property>
</Properties>
</file>