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29.png" ContentType="image/png"/>
  <Override PartName="/ppt/media/image36.png" ContentType="image/png"/>
  <Override PartName="/ppt/media/image6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0.jpeg" ContentType="image/jpeg"/>
  <Override PartName="/ppt/media/image43.png" ContentType="image/png"/>
  <Override PartName="/ppt/media/image35.jpeg" ContentType="image/jpeg"/>
  <Override PartName="/ppt/media/image10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813DFE-E1BF-4B8F-91F5-B4184C2EE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ED15D3-5A7B-4999-A354-C84702EC6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C54C69-CF26-43B3-85CD-31653B677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739186-FB63-467C-AB62-60EF2DCB1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375848-D0BE-412C-889D-F8DB1A2C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43640" cy="417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" name="Picture 39" descr="구름"/>
          <p:cNvPicPr/>
          <p:nvPr/>
        </p:nvPicPr>
        <p:blipFill>
          <a:blip r:embed="rId2"/>
          <a:stretch/>
        </p:blipFill>
        <p:spPr>
          <a:xfrm>
            <a:off x="4795920" y="180000"/>
            <a:ext cx="682200" cy="363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0" descr="구름"/>
          <p:cNvPicPr/>
          <p:nvPr/>
        </p:nvPicPr>
        <p:blipFill>
          <a:blip r:embed="rId3"/>
          <a:stretch/>
        </p:blipFill>
        <p:spPr>
          <a:xfrm>
            <a:off x="7236000" y="503640"/>
            <a:ext cx="1042560" cy="55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0" y="0"/>
            <a:ext cx="9143640" cy="717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80" name="图片 5" descr=""/>
          <p:cNvPicPr/>
          <p:nvPr/>
        </p:nvPicPr>
        <p:blipFill>
          <a:blip r:embed="rId2"/>
          <a:stretch/>
        </p:blipFill>
        <p:spPr>
          <a:xfrm>
            <a:off x="0" y="4497840"/>
            <a:ext cx="914364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구름"/>
          <p:cNvPicPr/>
          <p:nvPr/>
        </p:nvPicPr>
        <p:blipFill>
          <a:blip r:embed="rId3"/>
          <a:stretch/>
        </p:blipFill>
        <p:spPr>
          <a:xfrm>
            <a:off x="4795920" y="239040"/>
            <a:ext cx="682200" cy="484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구름"/>
          <p:cNvPicPr/>
          <p:nvPr/>
        </p:nvPicPr>
        <p:blipFill>
          <a:blip r:embed="rId4"/>
          <a:stretch/>
        </p:blipFill>
        <p:spPr>
          <a:xfrm>
            <a:off x="7236000" y="671040"/>
            <a:ext cx="1042560" cy="74052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5"/>
          <p:cNvGrpSpPr/>
          <p:nvPr/>
        </p:nvGrpSpPr>
        <p:grpSpPr>
          <a:xfrm>
            <a:off x="2371680" y="2749680"/>
            <a:ext cx="4398480" cy="4025520"/>
            <a:chOff x="2371680" y="2749680"/>
            <a:chExt cx="4398480" cy="4025520"/>
          </a:xfrm>
        </p:grpSpPr>
        <p:sp>
          <p:nvSpPr>
            <p:cNvPr id="84" name="Oval 17"/>
            <p:cNvSpPr/>
            <p:nvPr/>
          </p:nvSpPr>
          <p:spPr>
            <a:xfrm>
              <a:off x="2371680" y="5785560"/>
              <a:ext cx="4398480" cy="989640"/>
            </a:xfrm>
            <a:prstGeom prst="ellipse">
              <a:avLst/>
            </a:prstGeom>
            <a:gradFill rotWithShape="0">
              <a:gsLst>
                <a:gs pos="0">
                  <a:srgbClr val="0e320d"/>
                </a:gs>
                <a:gs pos="100000">
                  <a:srgbClr val="1f6b1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pic>
          <p:nvPicPr>
            <p:cNvPr id="85" name="Picture 16" descr="꽃"/>
            <p:cNvPicPr/>
            <p:nvPr/>
          </p:nvPicPr>
          <p:blipFill>
            <a:blip r:embed="rId5"/>
            <a:stretch/>
          </p:blipFill>
          <p:spPr>
            <a:xfrm>
              <a:off x="3332520" y="2749680"/>
              <a:ext cx="2845440" cy="36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矩形 3"/>
          <p:cNvSpPr/>
          <p:nvPr/>
        </p:nvSpPr>
        <p:spPr>
          <a:xfrm>
            <a:off x="5581440" y="6773400"/>
            <a:ext cx="213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087640" y="1342080"/>
            <a:ext cx="4968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4079"/>
                </a:solidFill>
                <a:latin typeface="Calibri"/>
                <a:ea typeface="微软雅黑"/>
              </a:rPr>
              <a:t>感受美好自然，培养语文素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833480" y="1962000"/>
            <a:ext cx="5398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14079"/>
                </a:solidFill>
                <a:latin typeface="Calibri"/>
                <a:ea typeface="宋体"/>
              </a:rPr>
              <a:t>GAN SHOU MEI HAO ZI RAN</a:t>
            </a:r>
            <a:r>
              <a:rPr b="0" lang="en-US" sz="1600" spc="-1" strike="noStrike">
                <a:solidFill>
                  <a:srgbClr val="014079"/>
                </a:solidFill>
                <a:latin typeface="Calibri"/>
                <a:ea typeface="宋体"/>
              </a:rPr>
              <a:t>    PEI YANG YU WEN SU Y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2.xm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66"/>
          <p:cNvSpPr/>
          <p:nvPr/>
        </p:nvSpPr>
        <p:spPr>
          <a:xfrm>
            <a:off x="958680" y="2771280"/>
            <a:ext cx="722592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>
            <a:solidFill>
              <a:srgbClr val="539f36"/>
            </a:solidFill>
            <a:round/>
          </a:ln>
          <a:effectLst>
            <a:outerShdw blurRad="39960" dir="5400000" dist="2304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34" name="组合 13338"/>
          <p:cNvGrpSpPr/>
          <p:nvPr/>
        </p:nvGrpSpPr>
        <p:grpSpPr>
          <a:xfrm>
            <a:off x="2301840" y="1482120"/>
            <a:ext cx="4663440" cy="1426320"/>
            <a:chOff x="2301840" y="1482120"/>
            <a:chExt cx="4663440" cy="1426320"/>
          </a:xfrm>
        </p:grpSpPr>
        <p:sp>
          <p:nvSpPr>
            <p:cNvPr id="135" name="Text Box 2"/>
            <p:cNvSpPr/>
            <p:nvPr/>
          </p:nvSpPr>
          <p:spPr>
            <a:xfrm>
              <a:off x="3605040" y="1609200"/>
              <a:ext cx="33602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女娲补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组合 13337"/>
            <p:cNvGrpSpPr/>
            <p:nvPr/>
          </p:nvGrpSpPr>
          <p:grpSpPr>
            <a:xfrm>
              <a:off x="2301840" y="1482120"/>
              <a:ext cx="1180800" cy="1426320"/>
              <a:chOff x="2301840" y="1482120"/>
              <a:chExt cx="1180800" cy="1426320"/>
            </a:xfrm>
          </p:grpSpPr>
          <p:sp>
            <p:nvSpPr>
              <p:cNvPr id="137" name="AutoShape 11"/>
              <p:cNvSpPr/>
              <p:nvPr/>
            </p:nvSpPr>
            <p:spPr>
              <a:xfrm>
                <a:off x="2301840" y="1482120"/>
                <a:ext cx="1180800" cy="1426320"/>
              </a:xfrm>
              <a:prstGeom prst="diamond">
                <a:avLst/>
              </a:prstGeom>
              <a:solidFill>
                <a:srgbClr val="236b2a"/>
              </a:solidFill>
              <a:ln w="38100">
                <a:solidFill>
                  <a:srgbClr val="ffffff"/>
                </a:solidFill>
                <a:miter/>
              </a:ln>
              <a:effectLst>
                <a:outerShdw rotWithShape="0" sy="5000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ffffff"/>
                  </a:solidFill>
                  <a:latin typeface="Calibri"/>
                  <a:ea typeface="Gulim"/>
                </a:endParaRPr>
              </a:p>
            </p:txBody>
          </p:sp>
          <p:sp>
            <p:nvSpPr>
              <p:cNvPr id="138" name="文本框 13"/>
              <p:cNvSpPr/>
              <p:nvPr/>
            </p:nvSpPr>
            <p:spPr>
              <a:xfrm>
                <a:off x="2367000" y="1701720"/>
                <a:ext cx="10040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5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组合 16"/>
          <p:cNvGrpSpPr/>
          <p:nvPr/>
        </p:nvGrpSpPr>
        <p:grpSpPr>
          <a:xfrm>
            <a:off x="142920" y="4832640"/>
            <a:ext cx="8911800" cy="742680"/>
            <a:chOff x="142920" y="4832640"/>
            <a:chExt cx="8911800" cy="742680"/>
          </a:xfrm>
        </p:grpSpPr>
        <p:grpSp>
          <p:nvGrpSpPr>
            <p:cNvPr id="140" name="组合 17"/>
            <p:cNvGrpSpPr/>
            <p:nvPr/>
          </p:nvGrpSpPr>
          <p:grpSpPr>
            <a:xfrm>
              <a:off x="1914480" y="4832640"/>
              <a:ext cx="1778400" cy="742680"/>
              <a:chOff x="1914480" y="4832640"/>
              <a:chExt cx="1778400" cy="742680"/>
            </a:xfrm>
          </p:grpSpPr>
          <p:sp>
            <p:nvSpPr>
              <p:cNvPr id="141" name="任意多边形 36"/>
              <p:cNvSpPr/>
              <p:nvPr/>
            </p:nvSpPr>
            <p:spPr>
              <a:xfrm>
                <a:off x="2226600" y="4832640"/>
                <a:ext cx="1466280" cy="742680"/>
              </a:xfrm>
              <a:custGeom>
                <a:avLst/>
                <a:gdLst>
                  <a:gd name="textAreaLeft" fmla="*/ 0 w 1466280"/>
                  <a:gd name="textAreaRight" fmla="*/ 1466640 w 146628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736380" h="1041828">
                    <a:moveTo>
                      <a:pt x="0" y="104183"/>
                    </a:moveTo>
                    <a:cubicBezTo>
                      <a:pt x="0" y="46644"/>
                      <a:pt x="46644" y="0"/>
                      <a:pt x="104183" y="0"/>
                    </a:cubicBezTo>
                    <a:lnTo>
                      <a:pt x="1632197" y="0"/>
                    </a:lnTo>
                    <a:cubicBezTo>
                      <a:pt x="1689736" y="0"/>
                      <a:pt x="1736380" y="46644"/>
                      <a:pt x="1736380" y="104183"/>
                    </a:cubicBezTo>
                    <a:lnTo>
                      <a:pt x="1736380" y="937645"/>
                    </a:lnTo>
                    <a:cubicBezTo>
                      <a:pt x="1736380" y="995184"/>
                      <a:pt x="1689736" y="1041828"/>
                      <a:pt x="1632197" y="1041828"/>
                    </a:cubicBezTo>
                    <a:lnTo>
                      <a:pt x="104183" y="1041828"/>
                    </a:lnTo>
                    <a:cubicBezTo>
                      <a:pt x="46644" y="1041828"/>
                      <a:pt x="0" y="995184"/>
                      <a:pt x="0" y="937645"/>
                    </a:cubicBezTo>
                    <a:lnTo>
                      <a:pt x="0" y="104183"/>
                    </a:lnTo>
                    <a:close/>
                  </a:path>
                </a:pathLst>
              </a:custGeom>
              <a:noFill/>
              <a:ln>
                <a:noFill/>
              </a:ln>
              <a:effectLst>
                <a:glow rad="101520">
                  <a:srgbClr val="77933c">
                    <a:alpha val="60000"/>
                  </a:srgbClr>
                </a:glow>
              </a:effectLst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0"/>
              <a:effectRef idx="0">
                <a:schemeClr val="accent3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137160" rIns="137160" tIns="137160" bIns="1371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71"/>
                  </a:spcAf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初读感知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" name="图片 4" descr="小花2.png"/>
              <p:cNvPicPr/>
              <p:nvPr/>
            </p:nvPicPr>
            <p:blipFill>
              <a:blip r:embed="rId1"/>
              <a:stretch/>
            </p:blipFill>
            <p:spPr>
              <a:xfrm>
                <a:off x="1914480" y="4902120"/>
                <a:ext cx="523080" cy="60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组合 18"/>
            <p:cNvGrpSpPr/>
            <p:nvPr/>
          </p:nvGrpSpPr>
          <p:grpSpPr>
            <a:xfrm>
              <a:off x="3686400" y="4832640"/>
              <a:ext cx="1747800" cy="742680"/>
              <a:chOff x="3686400" y="4832640"/>
              <a:chExt cx="1747800" cy="742680"/>
            </a:xfrm>
          </p:grpSpPr>
          <p:pic>
            <p:nvPicPr>
              <p:cNvPr id="144" name="图片 4" descr="小花2.png"/>
              <p:cNvPicPr/>
              <p:nvPr/>
            </p:nvPicPr>
            <p:blipFill>
              <a:blip r:embed="rId2"/>
              <a:stretch/>
            </p:blipFill>
            <p:spPr>
              <a:xfrm>
                <a:off x="3686400" y="4902120"/>
                <a:ext cx="52308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任意多边形 35"/>
              <p:cNvSpPr/>
              <p:nvPr/>
            </p:nvSpPr>
            <p:spPr>
              <a:xfrm>
                <a:off x="3998520" y="4832640"/>
                <a:ext cx="1435680" cy="742680"/>
              </a:xfrm>
              <a:custGeom>
                <a:avLst/>
                <a:gdLst>
                  <a:gd name="textAreaLeft" fmla="*/ 0 w 1435680"/>
                  <a:gd name="textAreaRight" fmla="*/ 1436040 w 143568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736380" h="1041828">
                    <a:moveTo>
                      <a:pt x="0" y="104183"/>
                    </a:moveTo>
                    <a:cubicBezTo>
                      <a:pt x="0" y="46644"/>
                      <a:pt x="46644" y="0"/>
                      <a:pt x="104183" y="0"/>
                    </a:cubicBezTo>
                    <a:lnTo>
                      <a:pt x="1632197" y="0"/>
                    </a:lnTo>
                    <a:cubicBezTo>
                      <a:pt x="1689736" y="0"/>
                      <a:pt x="1736380" y="46644"/>
                      <a:pt x="1736380" y="104183"/>
                    </a:cubicBezTo>
                    <a:lnTo>
                      <a:pt x="1736380" y="937645"/>
                    </a:lnTo>
                    <a:cubicBezTo>
                      <a:pt x="1736380" y="995184"/>
                      <a:pt x="1689736" y="1041828"/>
                      <a:pt x="1632197" y="1041828"/>
                    </a:cubicBezTo>
                    <a:lnTo>
                      <a:pt x="104183" y="1041828"/>
                    </a:lnTo>
                    <a:cubicBezTo>
                      <a:pt x="46644" y="1041828"/>
                      <a:pt x="0" y="995184"/>
                      <a:pt x="0" y="937645"/>
                    </a:cubicBezTo>
                    <a:lnTo>
                      <a:pt x="0" y="104183"/>
                    </a:lnTo>
                    <a:close/>
                  </a:path>
                </a:pathLst>
              </a:custGeom>
              <a:noFill/>
              <a:ln>
                <a:noFill/>
              </a:ln>
              <a:effectLst>
                <a:glow rad="101520">
                  <a:srgbClr val="77933c">
                    <a:alpha val="60000"/>
                  </a:srgbClr>
                </a:glow>
              </a:effectLst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0"/>
              <a:effectRef idx="0">
                <a:schemeClr val="accent3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137160" rIns="137160" tIns="137160" bIns="1371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71"/>
                  </a:spcAf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品读释疑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组合 19"/>
            <p:cNvGrpSpPr/>
            <p:nvPr/>
          </p:nvGrpSpPr>
          <p:grpSpPr>
            <a:xfrm>
              <a:off x="5427360" y="4832640"/>
              <a:ext cx="1816920" cy="742680"/>
              <a:chOff x="5427360" y="4832640"/>
              <a:chExt cx="1816920" cy="742680"/>
            </a:xfrm>
          </p:grpSpPr>
          <p:pic>
            <p:nvPicPr>
              <p:cNvPr id="147" name="图片 4" descr="小花2.png"/>
              <p:cNvPicPr/>
              <p:nvPr/>
            </p:nvPicPr>
            <p:blipFill>
              <a:blip r:embed="rId3"/>
              <a:stretch/>
            </p:blipFill>
            <p:spPr>
              <a:xfrm>
                <a:off x="5427360" y="4902120"/>
                <a:ext cx="52308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任意多边形 33"/>
              <p:cNvSpPr/>
              <p:nvPr/>
            </p:nvSpPr>
            <p:spPr>
              <a:xfrm>
                <a:off x="5739480" y="4832640"/>
                <a:ext cx="1504800" cy="74268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736380" h="1041828">
                    <a:moveTo>
                      <a:pt x="0" y="104183"/>
                    </a:moveTo>
                    <a:cubicBezTo>
                      <a:pt x="0" y="46644"/>
                      <a:pt x="46644" y="0"/>
                      <a:pt x="104183" y="0"/>
                    </a:cubicBezTo>
                    <a:lnTo>
                      <a:pt x="1632197" y="0"/>
                    </a:lnTo>
                    <a:cubicBezTo>
                      <a:pt x="1689736" y="0"/>
                      <a:pt x="1736380" y="46644"/>
                      <a:pt x="1736380" y="104183"/>
                    </a:cubicBezTo>
                    <a:lnTo>
                      <a:pt x="1736380" y="937645"/>
                    </a:lnTo>
                    <a:cubicBezTo>
                      <a:pt x="1736380" y="995184"/>
                      <a:pt x="1689736" y="1041828"/>
                      <a:pt x="1632197" y="1041828"/>
                    </a:cubicBezTo>
                    <a:lnTo>
                      <a:pt x="104183" y="1041828"/>
                    </a:lnTo>
                    <a:cubicBezTo>
                      <a:pt x="46644" y="1041828"/>
                      <a:pt x="0" y="995184"/>
                      <a:pt x="0" y="937645"/>
                    </a:cubicBezTo>
                    <a:lnTo>
                      <a:pt x="0" y="104183"/>
                    </a:lnTo>
                    <a:close/>
                  </a:path>
                </a:pathLst>
              </a:custGeom>
              <a:noFill/>
              <a:ln>
                <a:noFill/>
              </a:ln>
              <a:effectLst>
                <a:glow rad="101520">
                  <a:srgbClr val="77933c">
                    <a:alpha val="60000"/>
                  </a:srgbClr>
                </a:glow>
              </a:effectLst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4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4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137160" rIns="137160" tIns="137160" bIns="1371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71"/>
                  </a:spcAf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结构主旨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20"/>
            <p:cNvGrpSpPr/>
            <p:nvPr/>
          </p:nvGrpSpPr>
          <p:grpSpPr>
            <a:xfrm>
              <a:off x="7237800" y="4832640"/>
              <a:ext cx="1816920" cy="742680"/>
              <a:chOff x="7237800" y="4832640"/>
              <a:chExt cx="1816920" cy="742680"/>
            </a:xfrm>
          </p:grpSpPr>
          <p:pic>
            <p:nvPicPr>
              <p:cNvPr id="150" name="图片 4" descr="小花2.png"/>
              <p:cNvPicPr/>
              <p:nvPr/>
            </p:nvPicPr>
            <p:blipFill>
              <a:blip r:embed="rId4"/>
              <a:stretch/>
            </p:blipFill>
            <p:spPr>
              <a:xfrm>
                <a:off x="7237800" y="4902120"/>
                <a:ext cx="52308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任意多边形 31"/>
              <p:cNvSpPr/>
              <p:nvPr/>
            </p:nvSpPr>
            <p:spPr>
              <a:xfrm>
                <a:off x="7549920" y="4832640"/>
                <a:ext cx="1504800" cy="74268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736380" h="1041828">
                    <a:moveTo>
                      <a:pt x="0" y="104183"/>
                    </a:moveTo>
                    <a:cubicBezTo>
                      <a:pt x="0" y="46644"/>
                      <a:pt x="46644" y="0"/>
                      <a:pt x="104183" y="0"/>
                    </a:cubicBezTo>
                    <a:lnTo>
                      <a:pt x="1632197" y="0"/>
                    </a:lnTo>
                    <a:cubicBezTo>
                      <a:pt x="1689736" y="0"/>
                      <a:pt x="1736380" y="46644"/>
                      <a:pt x="1736380" y="104183"/>
                    </a:cubicBezTo>
                    <a:lnTo>
                      <a:pt x="1736380" y="937645"/>
                    </a:lnTo>
                    <a:cubicBezTo>
                      <a:pt x="1736380" y="995184"/>
                      <a:pt x="1689736" y="1041828"/>
                      <a:pt x="1632197" y="1041828"/>
                    </a:cubicBezTo>
                    <a:lnTo>
                      <a:pt x="104183" y="1041828"/>
                    </a:lnTo>
                    <a:cubicBezTo>
                      <a:pt x="46644" y="1041828"/>
                      <a:pt x="0" y="995184"/>
                      <a:pt x="0" y="937645"/>
                    </a:cubicBezTo>
                    <a:lnTo>
                      <a:pt x="0" y="104183"/>
                    </a:lnTo>
                    <a:close/>
                  </a:path>
                </a:pathLst>
              </a:custGeom>
              <a:noFill/>
              <a:ln>
                <a:noFill/>
              </a:ln>
              <a:effectLst>
                <a:glow rad="101520">
                  <a:srgbClr val="77933c">
                    <a:alpha val="60000"/>
                  </a:srgbClr>
                </a:glow>
              </a:effectLst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4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4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137160" rIns="137160" tIns="137160" bIns="1371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71"/>
                  </a:spcAf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课堂拓展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组合 25"/>
            <p:cNvGrpSpPr/>
            <p:nvPr/>
          </p:nvGrpSpPr>
          <p:grpSpPr>
            <a:xfrm>
              <a:off x="142920" y="4832640"/>
              <a:ext cx="1778400" cy="742680"/>
              <a:chOff x="142920" y="4832640"/>
              <a:chExt cx="1778400" cy="742680"/>
            </a:xfrm>
          </p:grpSpPr>
          <p:sp>
            <p:nvSpPr>
              <p:cNvPr id="153" name="任意多边形 26"/>
              <p:cNvSpPr/>
              <p:nvPr/>
            </p:nvSpPr>
            <p:spPr>
              <a:xfrm>
                <a:off x="455040" y="4832640"/>
                <a:ext cx="1466280" cy="742680"/>
              </a:xfrm>
              <a:custGeom>
                <a:avLst/>
                <a:gdLst>
                  <a:gd name="textAreaLeft" fmla="*/ 0 w 1466280"/>
                  <a:gd name="textAreaRight" fmla="*/ 1466640 w 146628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736380" h="1041828">
                    <a:moveTo>
                      <a:pt x="0" y="104183"/>
                    </a:moveTo>
                    <a:cubicBezTo>
                      <a:pt x="0" y="46644"/>
                      <a:pt x="46644" y="0"/>
                      <a:pt x="104183" y="0"/>
                    </a:cubicBezTo>
                    <a:lnTo>
                      <a:pt x="1632197" y="0"/>
                    </a:lnTo>
                    <a:cubicBezTo>
                      <a:pt x="1689736" y="0"/>
                      <a:pt x="1736380" y="46644"/>
                      <a:pt x="1736380" y="104183"/>
                    </a:cubicBezTo>
                    <a:lnTo>
                      <a:pt x="1736380" y="937645"/>
                    </a:lnTo>
                    <a:cubicBezTo>
                      <a:pt x="1736380" y="995184"/>
                      <a:pt x="1689736" y="1041828"/>
                      <a:pt x="1632197" y="1041828"/>
                    </a:cubicBezTo>
                    <a:lnTo>
                      <a:pt x="104183" y="1041828"/>
                    </a:lnTo>
                    <a:cubicBezTo>
                      <a:pt x="46644" y="1041828"/>
                      <a:pt x="0" y="995184"/>
                      <a:pt x="0" y="937645"/>
                    </a:cubicBezTo>
                    <a:lnTo>
                      <a:pt x="0" y="104183"/>
                    </a:lnTo>
                    <a:close/>
                  </a:path>
                </a:pathLst>
              </a:custGeom>
              <a:noFill/>
              <a:ln>
                <a:noFill/>
              </a:ln>
              <a:effectLst>
                <a:glow rad="101520">
                  <a:srgbClr val="77933c">
                    <a:alpha val="60000"/>
                  </a:srgbClr>
                </a:glow>
              </a:effectLst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0"/>
              <a:effectRef idx="0">
                <a:schemeClr val="accent3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137160" rIns="137160" tIns="137160" bIns="1371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71"/>
                  </a:spcAf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助读资料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" name="图片 4" descr="小花2.png"/>
              <p:cNvPicPr/>
              <p:nvPr/>
            </p:nvPicPr>
            <p:blipFill>
              <a:blip r:embed="rId5"/>
              <a:stretch/>
            </p:blipFill>
            <p:spPr>
              <a:xfrm>
                <a:off x="142920" y="4902120"/>
                <a:ext cx="523080" cy="60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5" name="矩形 27"/>
          <p:cNvSpPr/>
          <p:nvPr/>
        </p:nvSpPr>
        <p:spPr>
          <a:xfrm>
            <a:off x="7560" y="5968440"/>
            <a:ext cx="91360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38"/>
          <p:cNvSpPr/>
          <p:nvPr/>
        </p:nvSpPr>
        <p:spPr>
          <a:xfrm>
            <a:off x="2733840" y="3909600"/>
            <a:ext cx="143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娲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0"/>
          <p:cNvSpPr/>
          <p:nvPr/>
        </p:nvSpPr>
        <p:spPr>
          <a:xfrm>
            <a:off x="2212920" y="4781520"/>
            <a:ext cx="266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补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1205640" y="3022560"/>
            <a:ext cx="45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904680" y="4142160"/>
            <a:ext cx="1150920" cy="1549440"/>
            <a:chOff x="904680" y="4142160"/>
            <a:chExt cx="1150920" cy="1549440"/>
          </a:xfrm>
        </p:grpSpPr>
        <p:sp>
          <p:nvSpPr>
            <p:cNvPr id="196" name="Rectangle 4"/>
            <p:cNvSpPr/>
            <p:nvPr/>
          </p:nvSpPr>
          <p:spPr>
            <a:xfrm>
              <a:off x="905040" y="414216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H="1">
              <a:off x="904680" y="491688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1481040" y="418068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199" name="矩形 3"/>
          <p:cNvSpPr/>
          <p:nvPr/>
        </p:nvSpPr>
        <p:spPr>
          <a:xfrm>
            <a:off x="905040" y="410220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44280" y="-19260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1" name="TextBox 44"/>
          <p:cNvSpPr/>
          <p:nvPr/>
        </p:nvSpPr>
        <p:spPr>
          <a:xfrm>
            <a:off x="1355760" y="1354680"/>
            <a:ext cx="330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5160960" y="4125240"/>
            <a:ext cx="1150920" cy="1549440"/>
            <a:chOff x="5160960" y="4125240"/>
            <a:chExt cx="1150920" cy="1549440"/>
          </a:xfrm>
        </p:grpSpPr>
        <p:sp>
          <p:nvSpPr>
            <p:cNvPr id="203" name="Rectangle 4"/>
            <p:cNvSpPr/>
            <p:nvPr/>
          </p:nvSpPr>
          <p:spPr>
            <a:xfrm>
              <a:off x="5160960" y="412524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04" name="Line 5"/>
            <p:cNvSpPr/>
            <p:nvPr/>
          </p:nvSpPr>
          <p:spPr>
            <a:xfrm flipH="1">
              <a:off x="5160960" y="489996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05" name="Line 6"/>
            <p:cNvSpPr/>
            <p:nvPr/>
          </p:nvSpPr>
          <p:spPr>
            <a:xfrm>
              <a:off x="5737320" y="416376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206" name="TextBox 23"/>
          <p:cNvSpPr/>
          <p:nvPr/>
        </p:nvSpPr>
        <p:spPr>
          <a:xfrm>
            <a:off x="6738840" y="3824640"/>
            <a:ext cx="21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隆隆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4"/>
          <p:cNvSpPr/>
          <p:nvPr/>
        </p:nvSpPr>
        <p:spPr>
          <a:xfrm>
            <a:off x="6485040" y="4781520"/>
            <a:ext cx="265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黑咕隆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5"/>
          <p:cNvSpPr/>
          <p:nvPr/>
        </p:nvSpPr>
        <p:spPr>
          <a:xfrm>
            <a:off x="5433120" y="3039480"/>
            <a:ext cx="58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ō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6"/>
          <p:cNvSpPr/>
          <p:nvPr/>
        </p:nvSpPr>
        <p:spPr>
          <a:xfrm>
            <a:off x="5167440" y="410220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4"/>
          <p:cNvSpPr/>
          <p:nvPr/>
        </p:nvSpPr>
        <p:spPr>
          <a:xfrm>
            <a:off x="5761080" y="1314360"/>
            <a:ext cx="236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轰隆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29520" y="975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3"/>
          <p:cNvGrpSpPr/>
          <p:nvPr/>
        </p:nvGrpSpPr>
        <p:grpSpPr>
          <a:xfrm>
            <a:off x="904680" y="4142160"/>
            <a:ext cx="1150920" cy="1549440"/>
            <a:chOff x="904680" y="4142160"/>
            <a:chExt cx="1150920" cy="1549440"/>
          </a:xfrm>
        </p:grpSpPr>
        <p:sp>
          <p:nvSpPr>
            <p:cNvPr id="213" name="Rectangle 4"/>
            <p:cNvSpPr/>
            <p:nvPr/>
          </p:nvSpPr>
          <p:spPr>
            <a:xfrm>
              <a:off x="905040" y="414216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14" name="Line 5"/>
            <p:cNvSpPr/>
            <p:nvPr/>
          </p:nvSpPr>
          <p:spPr>
            <a:xfrm flipH="1">
              <a:off x="904680" y="491688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481040" y="418068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216" name="AutoShape 3"/>
          <p:cNvSpPr/>
          <p:nvPr/>
        </p:nvSpPr>
        <p:spPr>
          <a:xfrm>
            <a:off x="44280" y="-19260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2813040" y="3867120"/>
            <a:ext cx="143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倒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2279520" y="4764600"/>
            <a:ext cx="254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死心塌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6"/>
          <p:cNvSpPr/>
          <p:nvPr/>
        </p:nvSpPr>
        <p:spPr>
          <a:xfrm>
            <a:off x="1256760" y="2982240"/>
            <a:ext cx="36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5160960" y="4125240"/>
            <a:ext cx="1150920" cy="1549440"/>
            <a:chOff x="5160960" y="4125240"/>
            <a:chExt cx="1150920" cy="1549440"/>
          </a:xfrm>
        </p:grpSpPr>
        <p:sp>
          <p:nvSpPr>
            <p:cNvPr id="221" name="Rectangle 4"/>
            <p:cNvSpPr/>
            <p:nvPr/>
          </p:nvSpPr>
          <p:spPr>
            <a:xfrm>
              <a:off x="5160960" y="412524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 flipH="1">
              <a:off x="5160960" y="489996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>
              <a:off x="5737320" y="416376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224" name="矩形 22"/>
          <p:cNvSpPr/>
          <p:nvPr/>
        </p:nvSpPr>
        <p:spPr>
          <a:xfrm>
            <a:off x="920880" y="410220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4"/>
          <p:cNvSpPr/>
          <p:nvPr/>
        </p:nvSpPr>
        <p:spPr>
          <a:xfrm>
            <a:off x="1670040" y="1411920"/>
            <a:ext cx="209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塌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4"/>
          <p:cNvSpPr/>
          <p:nvPr/>
        </p:nvSpPr>
        <p:spPr>
          <a:xfrm>
            <a:off x="6483240" y="4743360"/>
            <a:ext cx="276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垂死挣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5"/>
          <p:cNvSpPr/>
          <p:nvPr/>
        </p:nvSpPr>
        <p:spPr>
          <a:xfrm>
            <a:off x="5427000" y="2940120"/>
            <a:ext cx="501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6"/>
          <p:cNvSpPr/>
          <p:nvPr/>
        </p:nvSpPr>
        <p:spPr>
          <a:xfrm>
            <a:off x="5192640" y="410004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4"/>
          <p:cNvSpPr/>
          <p:nvPr/>
        </p:nvSpPr>
        <p:spPr>
          <a:xfrm>
            <a:off x="5932440" y="1519920"/>
            <a:ext cx="174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挣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29520" y="975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231" name="TextBox 23"/>
          <p:cNvSpPr/>
          <p:nvPr/>
        </p:nvSpPr>
        <p:spPr>
          <a:xfrm>
            <a:off x="6819840" y="3892680"/>
            <a:ext cx="1719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马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38"/>
          <p:cNvSpPr/>
          <p:nvPr/>
        </p:nvSpPr>
        <p:spPr>
          <a:xfrm>
            <a:off x="2809800" y="3848040"/>
            <a:ext cx="143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熄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0"/>
          <p:cNvSpPr/>
          <p:nvPr/>
        </p:nvSpPr>
        <p:spPr>
          <a:xfrm>
            <a:off x="2247840" y="4773240"/>
            <a:ext cx="276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生生不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9"/>
          <p:cNvSpPr/>
          <p:nvPr/>
        </p:nvSpPr>
        <p:spPr>
          <a:xfrm>
            <a:off x="1241640" y="2954880"/>
            <a:ext cx="3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4106160"/>
            <a:ext cx="1150920" cy="1549440"/>
            <a:chOff x="914400" y="4106160"/>
            <a:chExt cx="1150920" cy="1549440"/>
          </a:xfrm>
        </p:grpSpPr>
        <p:sp>
          <p:nvSpPr>
            <p:cNvPr id="236" name="Rectangle 4"/>
            <p:cNvSpPr/>
            <p:nvPr/>
          </p:nvSpPr>
          <p:spPr>
            <a:xfrm>
              <a:off x="914400" y="410616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H="1">
              <a:off x="914400" y="488088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1490760" y="414468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239" name="矩形 3"/>
          <p:cNvSpPr/>
          <p:nvPr/>
        </p:nvSpPr>
        <p:spPr>
          <a:xfrm>
            <a:off x="912960" y="407448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44280" y="-19260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TextBox 44"/>
          <p:cNvSpPr/>
          <p:nvPr/>
        </p:nvSpPr>
        <p:spPr>
          <a:xfrm>
            <a:off x="1770120" y="1458360"/>
            <a:ext cx="228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熄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6948360" y="3890520"/>
            <a:ext cx="143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冶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462720" y="4741200"/>
            <a:ext cx="264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袭冶承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6"/>
          <p:cNvSpPr/>
          <p:nvPr/>
        </p:nvSpPr>
        <p:spPr>
          <a:xfrm>
            <a:off x="5493960" y="2961360"/>
            <a:ext cx="39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5173560" y="4110480"/>
            <a:ext cx="1150920" cy="1549440"/>
            <a:chOff x="5173560" y="4110480"/>
            <a:chExt cx="1150920" cy="1549440"/>
          </a:xfrm>
        </p:grpSpPr>
        <p:sp>
          <p:nvSpPr>
            <p:cNvPr id="246" name="Rectangle 4"/>
            <p:cNvSpPr/>
            <p:nvPr/>
          </p:nvSpPr>
          <p:spPr>
            <a:xfrm>
              <a:off x="5173560" y="411048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H="1">
              <a:off x="5173560" y="488520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248" name="Line 6"/>
            <p:cNvSpPr/>
            <p:nvPr/>
          </p:nvSpPr>
          <p:spPr>
            <a:xfrm>
              <a:off x="5749920" y="414900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249" name="矩形 22"/>
          <p:cNvSpPr/>
          <p:nvPr/>
        </p:nvSpPr>
        <p:spPr>
          <a:xfrm>
            <a:off x="5173560" y="407664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4"/>
          <p:cNvSpPr/>
          <p:nvPr/>
        </p:nvSpPr>
        <p:spPr>
          <a:xfrm>
            <a:off x="5864400" y="1451880"/>
            <a:ext cx="16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冶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29520" y="975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3"/>
          <p:cNvSpPr/>
          <p:nvPr/>
        </p:nvSpPr>
        <p:spPr>
          <a:xfrm>
            <a:off x="2563920" y="3803760"/>
            <a:ext cx="5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5"/>
          <p:cNvGrpSpPr/>
          <p:nvPr/>
        </p:nvGrpSpPr>
        <p:grpSpPr>
          <a:xfrm>
            <a:off x="3060720" y="3255480"/>
            <a:ext cx="3320640" cy="1542600"/>
            <a:chOff x="3060720" y="3255480"/>
            <a:chExt cx="3320640" cy="1542600"/>
          </a:xfrm>
        </p:grpSpPr>
        <p:sp>
          <p:nvSpPr>
            <p:cNvPr id="254" name="左大括号 14"/>
            <p:cNvSpPr/>
            <p:nvPr/>
          </p:nvSpPr>
          <p:spPr>
            <a:xfrm>
              <a:off x="3060720" y="3634200"/>
              <a:ext cx="199800" cy="1163880"/>
            </a:xfrm>
            <a:prstGeom prst="leftBrace">
              <a:avLst>
                <a:gd name="adj1" fmla="val 8333"/>
                <a:gd name="adj2" fmla="val 50000"/>
              </a:avLst>
            </a:prstGeom>
            <a:noFill/>
            <a:ln>
              <a:solidFill>
                <a:srgbClr val="ff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55" name="TextBox 15"/>
            <p:cNvSpPr/>
            <p:nvPr/>
          </p:nvSpPr>
          <p:spPr>
            <a:xfrm>
              <a:off x="3235320" y="3255480"/>
              <a:ext cx="314604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ōng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黑咕隆咚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óng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隆冬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6"/>
          <p:cNvSpPr/>
          <p:nvPr/>
        </p:nvSpPr>
        <p:spPr>
          <a:xfrm>
            <a:off x="638280" y="1678680"/>
            <a:ext cx="7429320" cy="933120"/>
          </a:xfrm>
          <a:prstGeom prst="rect">
            <a:avLst/>
          </a:prstGeom>
          <a:solidFill>
            <a:srgbClr val="ffffff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一读下面的句子，看看你有什么发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天夜里，女娲突然被一阵轰隆隆的巨大响声震醒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4849920" y="2673360"/>
            <a:ext cx="55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0"/>
          <p:cNvGrpSpPr/>
          <p:nvPr/>
        </p:nvGrpSpPr>
        <p:grpSpPr>
          <a:xfrm>
            <a:off x="652320" y="5067360"/>
            <a:ext cx="8083080" cy="701640"/>
            <a:chOff x="652320" y="5067360"/>
            <a:chExt cx="8083080" cy="701640"/>
          </a:xfrm>
        </p:grpSpPr>
        <p:sp>
          <p:nvSpPr>
            <p:cNvPr id="259" name="矩形 17"/>
            <p:cNvSpPr/>
            <p:nvPr/>
          </p:nvSpPr>
          <p:spPr>
            <a:xfrm>
              <a:off x="652320" y="5067360"/>
              <a:ext cx="80830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076400" indent="-1076400">
                <a:lnSpc>
                  <a:spcPct val="150000"/>
                </a:lnSpc>
                <a:tabLst>
                  <a:tab algn="l" pos="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：隆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lóng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)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冬时节，我独自一人回家，突然一只小狗从黑咕隆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lōng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)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咚的小巷窜出来，吓了我一跳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6"/>
            <p:cNvSpPr/>
            <p:nvPr/>
          </p:nvSpPr>
          <p:spPr>
            <a:xfrm>
              <a:off x="1823040" y="5252760"/>
              <a:ext cx="556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7"/>
            <p:cNvSpPr/>
            <p:nvPr/>
          </p:nvSpPr>
          <p:spPr>
            <a:xfrm>
              <a:off x="8104680" y="5234760"/>
              <a:ext cx="555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20"/>
          <p:cNvGrpSpPr/>
          <p:nvPr/>
        </p:nvGrpSpPr>
        <p:grpSpPr>
          <a:xfrm>
            <a:off x="569160" y="969840"/>
            <a:ext cx="1464480" cy="672480"/>
            <a:chOff x="569160" y="969840"/>
            <a:chExt cx="1464480" cy="672480"/>
          </a:xfrm>
        </p:grpSpPr>
        <p:sp>
          <p:nvSpPr>
            <p:cNvPr id="263" name="圆角矩形 21"/>
            <p:cNvSpPr/>
            <p:nvPr/>
          </p:nvSpPr>
          <p:spPr>
            <a:xfrm>
              <a:off x="851040" y="96984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多音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线连接符 21"/>
            <p:cNvSpPr/>
            <p:nvPr/>
          </p:nvSpPr>
          <p:spPr>
            <a:xfrm>
              <a:off x="569160" y="1641960"/>
              <a:ext cx="14644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65" name="组合 23"/>
          <p:cNvGrpSpPr/>
          <p:nvPr/>
        </p:nvGrpSpPr>
        <p:grpSpPr>
          <a:xfrm>
            <a:off x="6502320" y="3435480"/>
            <a:ext cx="1793520" cy="1813680"/>
            <a:chOff x="6502320" y="3435480"/>
            <a:chExt cx="1793520" cy="1813680"/>
          </a:xfrm>
        </p:grpSpPr>
        <p:pic>
          <p:nvPicPr>
            <p:cNvPr id="266" name="Picture 14" descr=""/>
            <p:cNvPicPr/>
            <p:nvPr/>
          </p:nvPicPr>
          <p:blipFill>
            <a:blip r:embed="rId1"/>
            <a:stretch/>
          </p:blipFill>
          <p:spPr>
            <a:xfrm>
              <a:off x="6502320" y="3435480"/>
              <a:ext cx="1793520" cy="18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矩形 72"/>
            <p:cNvSpPr/>
            <p:nvPr/>
          </p:nvSpPr>
          <p:spPr>
            <a:xfrm>
              <a:off x="6732720" y="3880080"/>
              <a:ext cx="1488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注意加点字的读音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6"/>
          <p:cNvGrpSpPr/>
          <p:nvPr/>
        </p:nvGrpSpPr>
        <p:grpSpPr>
          <a:xfrm>
            <a:off x="6299640" y="1053720"/>
            <a:ext cx="2653920" cy="1397880"/>
            <a:chOff x="6299640" y="1053720"/>
            <a:chExt cx="2653920" cy="1397880"/>
          </a:xfrm>
        </p:grpSpPr>
        <p:pic>
          <p:nvPicPr>
            <p:cNvPr id="269" name="Picture 15" descr="C:\Users\Administrator\Desktop\1.png"/>
            <p:cNvPicPr/>
            <p:nvPr/>
          </p:nvPicPr>
          <p:blipFill>
            <a:blip r:embed="rId2"/>
            <a:stretch/>
          </p:blipFill>
          <p:spPr>
            <a:xfrm>
              <a:off x="6299640" y="1053720"/>
              <a:ext cx="2653920" cy="13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矩形 28"/>
            <p:cNvSpPr/>
            <p:nvPr/>
          </p:nvSpPr>
          <p:spPr>
            <a:xfrm>
              <a:off x="6609960" y="1198800"/>
              <a:ext cx="158868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加点的字是多音字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5"/>
          <p:cNvSpPr/>
          <p:nvPr/>
        </p:nvSpPr>
        <p:spPr>
          <a:xfrm>
            <a:off x="3114720" y="2580120"/>
            <a:ext cx="521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指可能酿成灾害的大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4"/>
          <p:cNvSpPr/>
          <p:nvPr/>
        </p:nvSpPr>
        <p:spPr>
          <a:xfrm>
            <a:off x="581040" y="1475280"/>
            <a:ext cx="19238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窟窿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塌下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洪水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山冈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冶炼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熄灭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直接连接符 4"/>
          <p:cNvCxnSpPr/>
          <p:nvPr/>
        </p:nvCxnSpPr>
        <p:spPr>
          <a:xfrm>
            <a:off x="1628640" y="2127240"/>
            <a:ext cx="1519560" cy="141624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274" name="矩形 5"/>
          <p:cNvSpPr/>
          <p:nvPr/>
        </p:nvSpPr>
        <p:spPr>
          <a:xfrm>
            <a:off x="4498920" y="1075320"/>
            <a:ext cx="522720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endParaRPr b="1" lang="en-US" sz="26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5" name="矩形 5"/>
          <p:cNvSpPr/>
          <p:nvPr/>
        </p:nvSpPr>
        <p:spPr>
          <a:xfrm>
            <a:off x="3114720" y="4112640"/>
            <a:ext cx="5414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地面形成高低不平的山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"/>
          <p:cNvSpPr/>
          <p:nvPr/>
        </p:nvSpPr>
        <p:spPr>
          <a:xfrm>
            <a:off x="3114720" y="1786320"/>
            <a:ext cx="521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倒，下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9"/>
          <p:cNvSpPr/>
          <p:nvPr/>
        </p:nvSpPr>
        <p:spPr>
          <a:xfrm>
            <a:off x="3114720" y="4868280"/>
            <a:ext cx="54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停止燃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直接连接符 35"/>
          <p:cNvCxnSpPr/>
          <p:nvPr/>
        </p:nvCxnSpPr>
        <p:spPr>
          <a:xfrm>
            <a:off x="1687320" y="4431960"/>
            <a:ext cx="1438560" cy="252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79" name="直接连接符 39"/>
          <p:cNvCxnSpPr/>
          <p:nvPr/>
        </p:nvCxnSpPr>
        <p:spPr>
          <a:xfrm flipV="1">
            <a:off x="1628640" y="2063520"/>
            <a:ext cx="1519560" cy="7815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grpSp>
        <p:nvGrpSpPr>
          <p:cNvPr id="280" name="组合 20"/>
          <p:cNvGrpSpPr/>
          <p:nvPr/>
        </p:nvGrpSpPr>
        <p:grpSpPr>
          <a:xfrm>
            <a:off x="608400" y="969840"/>
            <a:ext cx="1772280" cy="672480"/>
            <a:chOff x="608400" y="969840"/>
            <a:chExt cx="1772280" cy="672480"/>
          </a:xfrm>
        </p:grpSpPr>
        <p:sp>
          <p:nvSpPr>
            <p:cNvPr id="281" name="圆角矩形 21"/>
            <p:cNvSpPr/>
            <p:nvPr/>
          </p:nvSpPr>
          <p:spPr>
            <a:xfrm>
              <a:off x="953640" y="96984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解词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线连接符 21"/>
            <p:cNvSpPr/>
            <p:nvPr/>
          </p:nvSpPr>
          <p:spPr>
            <a:xfrm>
              <a:off x="608400" y="1641960"/>
              <a:ext cx="17722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83" name="组合 25"/>
          <p:cNvGrpSpPr/>
          <p:nvPr/>
        </p:nvGrpSpPr>
        <p:grpSpPr>
          <a:xfrm>
            <a:off x="3105000" y="999000"/>
            <a:ext cx="3885480" cy="723600"/>
            <a:chOff x="3105000" y="999000"/>
            <a:chExt cx="3885480" cy="723600"/>
          </a:xfrm>
        </p:grpSpPr>
        <p:pic>
          <p:nvPicPr>
            <p:cNvPr id="284" name="Picture 16" descr="C:\Users\Administrator\Desktop\对话框.png"/>
            <p:cNvPicPr/>
            <p:nvPr/>
          </p:nvPicPr>
          <p:blipFill>
            <a:blip r:embed="rId1"/>
            <a:stretch/>
          </p:blipFill>
          <p:spPr>
            <a:xfrm>
              <a:off x="3105000" y="999000"/>
              <a:ext cx="388548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12"/>
            <p:cNvSpPr/>
            <p:nvPr/>
          </p:nvSpPr>
          <p:spPr>
            <a:xfrm>
              <a:off x="3963960" y="1028880"/>
              <a:ext cx="2375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试着把词语和意思连起来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6" name="直接连接符 28"/>
          <p:cNvCxnSpPr/>
          <p:nvPr/>
        </p:nvCxnSpPr>
        <p:spPr>
          <a:xfrm flipV="1">
            <a:off x="1628640" y="2813040"/>
            <a:ext cx="1519560" cy="88488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287" name="矩形 5"/>
          <p:cNvSpPr/>
          <p:nvPr/>
        </p:nvSpPr>
        <p:spPr>
          <a:xfrm>
            <a:off x="3114720" y="3318840"/>
            <a:ext cx="521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洞，小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3114720" y="5501160"/>
            <a:ext cx="502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用高温熔炼或电解等方法将矿石中的有用成分提取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直接连接符 26"/>
          <p:cNvCxnSpPr/>
          <p:nvPr/>
        </p:nvCxnSpPr>
        <p:spPr>
          <a:xfrm>
            <a:off x="1650960" y="5253480"/>
            <a:ext cx="1498680" cy="8532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90" name="直接连接符 29"/>
          <p:cNvCxnSpPr/>
          <p:nvPr/>
        </p:nvCxnSpPr>
        <p:spPr>
          <a:xfrm flipV="1">
            <a:off x="1650960" y="5253480"/>
            <a:ext cx="1498680" cy="8532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任意多边形 32"/>
          <p:cNvSpPr/>
          <p:nvPr/>
        </p:nvSpPr>
        <p:spPr>
          <a:xfrm>
            <a:off x="1004760" y="3024720"/>
            <a:ext cx="7338600" cy="1151280"/>
          </a:xfrm>
          <a:custGeom>
            <a:avLst/>
            <a:gdLst>
              <a:gd name="textAreaLeft" fmla="*/ 0 w 7338600"/>
              <a:gd name="textAreaRight" fmla="*/ 7338960 w 7338600"/>
              <a:gd name="textAreaTop" fmla="*/ 0 h 1151280"/>
              <a:gd name="textAreaBottom" fmla="*/ 1151640 h 1151280"/>
            </a:gdLst>
            <a:ahLst/>
            <a:rect l="textAreaLeft" t="textAreaTop" r="textAreaRight" b="textAreaBottom"/>
            <a:pathLst>
              <a:path w="6799134" h="976260">
                <a:moveTo>
                  <a:pt x="0" y="0"/>
                </a:moveTo>
                <a:lnTo>
                  <a:pt x="6799134" y="0"/>
                </a:lnTo>
                <a:lnTo>
                  <a:pt x="6799134" y="976260"/>
                </a:lnTo>
                <a:lnTo>
                  <a:pt x="0" y="9762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37160" rIns="137160" tIns="137160" bIns="137160" anchor="ctr">
            <a:noAutofit/>
          </a:bodyPr>
          <a:p>
            <a:pPr>
              <a:lnSpc>
                <a:spcPct val="150000"/>
              </a:lnSpc>
              <a:spcAft>
                <a:spcPts val="42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指名读课文，同学互评：字音是否正确，句子是否通顺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1"/>
          <p:cNvGrpSpPr/>
          <p:nvPr/>
        </p:nvGrpSpPr>
        <p:grpSpPr>
          <a:xfrm>
            <a:off x="541440" y="1392840"/>
            <a:ext cx="2824920" cy="924480"/>
            <a:chOff x="541440" y="1392840"/>
            <a:chExt cx="2824920" cy="924480"/>
          </a:xfrm>
        </p:grpSpPr>
        <p:pic>
          <p:nvPicPr>
            <p:cNvPr id="293" name="Picture 8" descr=""/>
            <p:cNvPicPr/>
            <p:nvPr/>
          </p:nvPicPr>
          <p:blipFill>
            <a:blip r:embed="rId1"/>
            <a:stretch/>
          </p:blipFill>
          <p:spPr>
            <a:xfrm>
              <a:off x="541440" y="1392840"/>
              <a:ext cx="511560" cy="91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组合 10"/>
            <p:cNvGrpSpPr/>
            <p:nvPr/>
          </p:nvGrpSpPr>
          <p:grpSpPr>
            <a:xfrm>
              <a:off x="1078920" y="1408320"/>
              <a:ext cx="2287440" cy="909000"/>
              <a:chOff x="1078920" y="1408320"/>
              <a:chExt cx="2287440" cy="909000"/>
            </a:xfrm>
          </p:grpSpPr>
          <p:pic>
            <p:nvPicPr>
              <p:cNvPr id="295" name="Picture 10" descr="C:\Users\Administrator\Desktop\绿.png"/>
              <p:cNvPicPr/>
              <p:nvPr/>
            </p:nvPicPr>
            <p:blipFill>
              <a:blip r:embed="rId2"/>
              <a:stretch/>
            </p:blipFill>
            <p:spPr>
              <a:xfrm>
                <a:off x="1078920" y="1978560"/>
                <a:ext cx="2287440" cy="33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圆角矩形 12"/>
              <p:cNvSpPr/>
              <p:nvPr/>
            </p:nvSpPr>
            <p:spPr>
              <a:xfrm>
                <a:off x="1441080" y="1408320"/>
                <a:ext cx="1506960" cy="524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softEdge rad="3168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981"/>
                  </a:spcAf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检查自读情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701640" y="1418040"/>
            <a:ext cx="685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再读课文，想一想课文写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2"/>
          <p:cNvSpPr/>
          <p:nvPr/>
        </p:nvSpPr>
        <p:spPr>
          <a:xfrm>
            <a:off x="774720" y="2243520"/>
            <a:ext cx="7454520" cy="5011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这篇课文讲的是古时候女娲为了拯救处于水深火热中的人们，冒着生命危险补天的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1"/>
          <p:cNvSpPr/>
          <p:nvPr/>
        </p:nvSpPr>
        <p:spPr>
          <a:xfrm>
            <a:off x="968400" y="1058400"/>
            <a:ext cx="7811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想一想：哪些段分别写补天的起因，经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214280" y="3073320"/>
            <a:ext cx="6573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为什么补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怎么补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补好天后，会是什么样的情形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"/>
          <p:cNvSpPr/>
          <p:nvPr/>
        </p:nvSpPr>
        <p:spPr>
          <a:xfrm>
            <a:off x="472320" y="113652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510000" y="82440"/>
            <a:ext cx="2123640" cy="791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303" name="矩形 1"/>
          <p:cNvSpPr/>
          <p:nvPr/>
        </p:nvSpPr>
        <p:spPr>
          <a:xfrm>
            <a:off x="958680" y="2116800"/>
            <a:ext cx="4701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讨论以下三个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7"/>
          <p:cNvSpPr/>
          <p:nvPr/>
        </p:nvSpPr>
        <p:spPr>
          <a:xfrm>
            <a:off x="472320" y="225000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icture 1"/>
          <p:cNvSpPr/>
          <p:nvPr/>
        </p:nvSpPr>
        <p:spPr>
          <a:xfrm>
            <a:off x="5799960" y="1142640"/>
            <a:ext cx="3343680" cy="4289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6"/>
          <p:cNvSpPr txBox="1"/>
          <p:nvPr/>
        </p:nvSpPr>
        <p:spPr>
          <a:xfrm>
            <a:off x="819000" y="1578960"/>
            <a:ext cx="5052600" cy="1102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ObliqueRight"/>
              <a:lightRig dir="r" rig="legacyFlat3"/>
            </a:scene3d>
            <a:sp3d extrusionH="100000" prstMaterial="legacyMatte">
              <a:extrusionClr>
                <a:srgbClr val="6633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  <a:ea typeface="宋体"/>
              </a:rPr>
              <a:t>轰隆隆！”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73800" y="375696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天哪，太可怕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6"/>
          <p:cNvGrpSpPr/>
          <p:nvPr/>
        </p:nvGrpSpPr>
        <p:grpSpPr>
          <a:xfrm>
            <a:off x="460440" y="939960"/>
            <a:ext cx="1304640" cy="680400"/>
            <a:chOff x="460440" y="939960"/>
            <a:chExt cx="1304640" cy="680400"/>
          </a:xfrm>
        </p:grpSpPr>
        <p:pic>
          <p:nvPicPr>
            <p:cNvPr id="309" name="Picture 2" descr="C:\Users\Administrator\Desktop\资源 3@3x.png"/>
            <p:cNvPicPr/>
            <p:nvPr/>
          </p:nvPicPr>
          <p:blipFill>
            <a:blip r:embed="rId1"/>
            <a:stretch/>
          </p:blipFill>
          <p:spPr>
            <a:xfrm>
              <a:off x="460440" y="939960"/>
              <a:ext cx="1304640" cy="68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矩形 8"/>
            <p:cNvSpPr/>
            <p:nvPr/>
          </p:nvSpPr>
          <p:spPr>
            <a:xfrm>
              <a:off x="740160" y="942840"/>
              <a:ext cx="700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起 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"/>
          <p:cNvSpPr/>
          <p:nvPr/>
        </p:nvSpPr>
        <p:spPr>
          <a:xfrm>
            <a:off x="784080" y="4724280"/>
            <a:ext cx="7543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们生活在水深火热之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581040" y="1703880"/>
            <a:ext cx="7894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远远的天空塌下一大块，露出一个黑黑的大窟窿。地被震裂了，出现了一道道深沟。山冈上燃烧着熊熊大火，田野里到处是洪水。许多人被火围困在山顶上，还有许多人在水里挣扎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6" descr="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55840" y="1291320"/>
            <a:ext cx="4476240" cy="4787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57" name="Picture 10"/>
          <p:cNvSpPr/>
          <p:nvPr/>
        </p:nvSpPr>
        <p:spPr>
          <a:xfrm>
            <a:off x="3047400" y="887400"/>
            <a:ext cx="3114360" cy="554292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6901920" y="2194560"/>
            <a:ext cx="318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64662E-006 L 6.66667E-006 0.43293 E">
                                      <p:cBhvr>
                                        <p:cTn id="1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icture 6"/>
          <p:cNvSpPr/>
          <p:nvPr/>
        </p:nvSpPr>
        <p:spPr>
          <a:xfrm>
            <a:off x="4374000" y="1690920"/>
            <a:ext cx="4488480" cy="3989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323640" y="1866960"/>
            <a:ext cx="4258080" cy="351684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7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3"/>
          <p:cNvSpPr/>
          <p:nvPr/>
        </p:nvSpPr>
        <p:spPr>
          <a:xfrm>
            <a:off x="3229200" y="1805400"/>
            <a:ext cx="23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到人们受难女娲的心情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4080600" y="340344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难过极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1"/>
          <p:cNvSpPr/>
          <p:nvPr/>
        </p:nvSpPr>
        <p:spPr>
          <a:xfrm>
            <a:off x="750960" y="1816200"/>
            <a:ext cx="7492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难过极了。她立刻去找雨神，求他下一场雨，把天火熄灭。又造了船，好救出挣扎在洪水中的人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"/>
          <p:cNvGrpSpPr/>
          <p:nvPr/>
        </p:nvGrpSpPr>
        <p:grpSpPr>
          <a:xfrm>
            <a:off x="415800" y="999000"/>
            <a:ext cx="1304640" cy="678600"/>
            <a:chOff x="415800" y="999000"/>
            <a:chExt cx="1304640" cy="678600"/>
          </a:xfrm>
        </p:grpSpPr>
        <p:pic>
          <p:nvPicPr>
            <p:cNvPr id="319" name="Picture 2" descr="C:\Users\Administrator\Desktop\资源 3@3x.png"/>
            <p:cNvPicPr/>
            <p:nvPr/>
          </p:nvPicPr>
          <p:blipFill>
            <a:blip r:embed="rId1"/>
            <a:stretch/>
          </p:blipFill>
          <p:spPr>
            <a:xfrm>
              <a:off x="415800" y="999000"/>
              <a:ext cx="1304640" cy="6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矩形 8"/>
            <p:cNvSpPr/>
            <p:nvPr/>
          </p:nvSpPr>
          <p:spPr>
            <a:xfrm>
              <a:off x="709920" y="1001880"/>
              <a:ext cx="700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 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5"/>
          <p:cNvSpPr/>
          <p:nvPr/>
        </p:nvSpPr>
        <p:spPr>
          <a:xfrm>
            <a:off x="2378160" y="4684320"/>
            <a:ext cx="4209840" cy="1064160"/>
          </a:xfrm>
          <a:prstGeom prst="callout2">
            <a:avLst>
              <a:gd name="adj1" fmla="val 41886"/>
              <a:gd name="adj2" fmla="val 100039"/>
              <a:gd name="adj3" fmla="val -3588"/>
              <a:gd name="adj4" fmla="val 106190"/>
              <a:gd name="adj5" fmla="val -72112"/>
              <a:gd name="adj6" fmla="val 99385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f79646">
                <a:lumMod val="60000"/>
                <a:lumOff val="40000"/>
              </a:srgbClr>
            </a:solidFill>
            <a:prstDash val="sysDot"/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“立刻，求”等词中进一步体会女娲焦急、难过的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6"/>
          <p:cNvSpPr/>
          <p:nvPr/>
        </p:nvSpPr>
        <p:spPr>
          <a:xfrm>
            <a:off x="1270080" y="3143160"/>
            <a:ext cx="6514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求雨灭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船救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炼五色石补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最详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"/>
          <p:cNvSpPr/>
          <p:nvPr/>
        </p:nvSpPr>
        <p:spPr>
          <a:xfrm>
            <a:off x="574560" y="1121760"/>
            <a:ext cx="7965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为受难的人们做了哪几件事？其中哪件事写得最详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3"/>
          <p:cNvSpPr txBox="1"/>
          <p:nvPr/>
        </p:nvSpPr>
        <p:spPr>
          <a:xfrm rot="685800">
            <a:off x="7048440" y="4317840"/>
            <a:ext cx="1109160" cy="1566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1"/>
          <p:cNvSpPr/>
          <p:nvPr/>
        </p:nvSpPr>
        <p:spPr>
          <a:xfrm>
            <a:off x="671400" y="1517760"/>
            <a:ext cx="780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她跑到山上，去寻找补天用的五彩石，她原以为这种石头很多，用不着费多大力气。结果到山上一看，全是一些零零星星的碎块。她忙了几天几夜，找到了红、黄、蓝、白四种颜色的石头，还缺少一种纯青石。于是，她又找哇找哇，终于在一眼清清的泉水中找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5"/>
          <p:cNvGrpSpPr/>
          <p:nvPr/>
        </p:nvGrpSpPr>
        <p:grpSpPr>
          <a:xfrm>
            <a:off x="517680" y="1323000"/>
            <a:ext cx="7773480" cy="2717640"/>
            <a:chOff x="517680" y="1323000"/>
            <a:chExt cx="7773480" cy="2717640"/>
          </a:xfrm>
        </p:grpSpPr>
        <p:grpSp>
          <p:nvGrpSpPr>
            <p:cNvPr id="327" name="组合 4"/>
            <p:cNvGrpSpPr/>
            <p:nvPr/>
          </p:nvGrpSpPr>
          <p:grpSpPr>
            <a:xfrm>
              <a:off x="874800" y="1323000"/>
              <a:ext cx="7416360" cy="2717640"/>
              <a:chOff x="874800" y="1323000"/>
              <a:chExt cx="7416360" cy="2717640"/>
            </a:xfrm>
          </p:grpSpPr>
          <p:sp>
            <p:nvSpPr>
              <p:cNvPr id="328" name="矩形 2"/>
              <p:cNvSpPr/>
              <p:nvPr/>
            </p:nvSpPr>
            <p:spPr>
              <a:xfrm>
                <a:off x="1389960" y="1323000"/>
                <a:ext cx="62928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36a436"/>
                    </a:solidFill>
                    <a:latin typeface="微软雅黑"/>
                    <a:ea typeface="微软雅黑"/>
                  </a:rPr>
                  <a:t>想一想：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矩形 11"/>
              <p:cNvSpPr/>
              <p:nvPr/>
            </p:nvSpPr>
            <p:spPr>
              <a:xfrm>
                <a:off x="874800" y="2122920"/>
                <a:ext cx="7416360" cy="19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50000"/>
                  </a:lnSpc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女娲都到哪里去找了五彩石了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女娲为了找五彩石，她也许到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________________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，也许到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_______________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，再也许到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_______________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0" name="图片 24" descr="花盆.png"/>
            <p:cNvPicPr/>
            <p:nvPr/>
          </p:nvPicPr>
          <p:blipFill>
            <a:blip r:embed="rId1"/>
            <a:stretch/>
          </p:blipFill>
          <p:spPr>
            <a:xfrm>
              <a:off x="517680" y="1323720"/>
              <a:ext cx="389520" cy="59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4"/>
          <p:cNvSpPr/>
          <p:nvPr/>
        </p:nvSpPr>
        <p:spPr>
          <a:xfrm>
            <a:off x="6498000" y="32130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高高的山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5"/>
          <p:cNvSpPr/>
          <p:nvPr/>
        </p:nvSpPr>
        <p:spPr>
          <a:xfrm>
            <a:off x="2668680" y="398556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陡峭的悬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6"/>
          <p:cNvSpPr/>
          <p:nvPr/>
        </p:nvSpPr>
        <p:spPr>
          <a:xfrm>
            <a:off x="6499440" y="399852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深地山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380880" y="1244520"/>
            <a:ext cx="4997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五彩石找齐了，女娲在地上挖个圆坑，把五彩石放在里面，用神火进行冶炼。炼了五天五夜，五彩石化成了很稠的液体。女娲把它装在一个大盆里，端到天边，对准那个大黑窟窿，往上一泼，只见金光四射，大窟窿立刻被补好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13"/>
          <p:cNvSpPr/>
          <p:nvPr/>
        </p:nvSpPr>
        <p:spPr>
          <a:xfrm>
            <a:off x="1724040" y="1420200"/>
            <a:ext cx="342720" cy="448200"/>
          </a:xfrm>
          <a:prstGeom prst="ellipse">
            <a:avLst/>
          </a:prstGeom>
          <a:noFill/>
          <a:ln w="38100">
            <a:solidFill>
              <a:srgbClr val="ff66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6" name="椭圆 14"/>
          <p:cNvSpPr/>
          <p:nvPr/>
        </p:nvSpPr>
        <p:spPr>
          <a:xfrm>
            <a:off x="4257720" y="1420200"/>
            <a:ext cx="342720" cy="448200"/>
          </a:xfrm>
          <a:prstGeom prst="ellipse">
            <a:avLst/>
          </a:prstGeom>
          <a:noFill/>
          <a:ln w="38100">
            <a:solidFill>
              <a:srgbClr val="ff66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7" name="椭圆 15"/>
          <p:cNvSpPr/>
          <p:nvPr/>
        </p:nvSpPr>
        <p:spPr>
          <a:xfrm>
            <a:off x="4937040" y="3445920"/>
            <a:ext cx="342720" cy="448200"/>
          </a:xfrm>
          <a:prstGeom prst="ellipse">
            <a:avLst/>
          </a:prstGeom>
          <a:noFill/>
          <a:ln w="38100">
            <a:solidFill>
              <a:srgbClr val="ff66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8" name="椭圆 16"/>
          <p:cNvSpPr/>
          <p:nvPr/>
        </p:nvSpPr>
        <p:spPr>
          <a:xfrm>
            <a:off x="2133720" y="2097720"/>
            <a:ext cx="342720" cy="448200"/>
          </a:xfrm>
          <a:prstGeom prst="ellipse">
            <a:avLst/>
          </a:prstGeom>
          <a:noFill/>
          <a:ln w="38100">
            <a:solidFill>
              <a:srgbClr val="ff66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9" name="椭圆 17"/>
          <p:cNvSpPr/>
          <p:nvPr/>
        </p:nvSpPr>
        <p:spPr>
          <a:xfrm>
            <a:off x="4092480" y="4791960"/>
            <a:ext cx="342720" cy="448200"/>
          </a:xfrm>
          <a:prstGeom prst="ellipse">
            <a:avLst/>
          </a:prstGeom>
          <a:noFill/>
          <a:ln w="38100">
            <a:solidFill>
              <a:srgbClr val="ff66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0" name="椭圆 18"/>
          <p:cNvSpPr/>
          <p:nvPr/>
        </p:nvSpPr>
        <p:spPr>
          <a:xfrm>
            <a:off x="1006560" y="2757960"/>
            <a:ext cx="342720" cy="448200"/>
          </a:xfrm>
          <a:prstGeom prst="ellipse">
            <a:avLst/>
          </a:prstGeom>
          <a:noFill/>
          <a:ln w="38100">
            <a:solidFill>
              <a:srgbClr val="ff66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1" name="椭圆 19"/>
          <p:cNvSpPr/>
          <p:nvPr/>
        </p:nvSpPr>
        <p:spPr>
          <a:xfrm>
            <a:off x="4943520" y="4138200"/>
            <a:ext cx="342720" cy="448200"/>
          </a:xfrm>
          <a:prstGeom prst="ellipse">
            <a:avLst/>
          </a:prstGeom>
          <a:noFill/>
          <a:ln w="38100">
            <a:solidFill>
              <a:srgbClr val="ff66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2" name="椭圆 20"/>
          <p:cNvSpPr/>
          <p:nvPr/>
        </p:nvSpPr>
        <p:spPr>
          <a:xfrm>
            <a:off x="2697120" y="3448080"/>
            <a:ext cx="342720" cy="448200"/>
          </a:xfrm>
          <a:prstGeom prst="ellipse">
            <a:avLst/>
          </a:prstGeom>
          <a:noFill/>
          <a:ln w="38100">
            <a:solidFill>
              <a:srgbClr val="ff66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343" name="Picture 13" descr=""/>
          <p:cNvPicPr/>
          <p:nvPr/>
        </p:nvPicPr>
        <p:blipFill>
          <a:blip r:embed="rId1"/>
          <a:stretch/>
        </p:blipFill>
        <p:spPr>
          <a:xfrm>
            <a:off x="5437080" y="1722960"/>
            <a:ext cx="3404880" cy="31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3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6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9" dur="7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2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5" dur="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8" dur="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1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7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Group 11"/>
          <p:cNvGraphicFramePr/>
          <p:nvPr/>
        </p:nvGraphicFramePr>
        <p:xfrm>
          <a:off x="3105000" y="2548440"/>
          <a:ext cx="828360" cy="853920"/>
        </p:xfrm>
        <a:graphic>
          <a:graphicData uri="http://schemas.openxmlformats.org/drawingml/2006/table">
            <a:tbl>
              <a:tblPr/>
              <a:tblGrid>
                <a:gridCol w="82836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9"/>
                        </a:spcBef>
                        <a:tabLst>
                          <a:tab algn="l" pos="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4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挖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17"/>
          <p:cNvSpPr/>
          <p:nvPr/>
        </p:nvSpPr>
        <p:spPr>
          <a:xfrm>
            <a:off x="898560" y="306900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aphicFrame>
        <p:nvGraphicFramePr>
          <p:cNvPr id="346" name="Group 18"/>
          <p:cNvGraphicFramePr/>
          <p:nvPr/>
        </p:nvGraphicFramePr>
        <p:xfrm>
          <a:off x="3090960" y="3960360"/>
          <a:ext cx="856800" cy="85392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9"/>
                        </a:spcBef>
                        <a:tabLst>
                          <a:tab algn="l" pos="0"/>
                        </a:tabLst>
                      </a:pPr>
                      <a:r>
                        <a:rPr b="1" lang="en-US" sz="4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4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ext Box 24"/>
          <p:cNvSpPr/>
          <p:nvPr/>
        </p:nvSpPr>
        <p:spPr>
          <a:xfrm>
            <a:off x="1279440" y="276444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aphicFrame>
        <p:nvGraphicFramePr>
          <p:cNvPr id="348" name="Group 25"/>
          <p:cNvGraphicFramePr/>
          <p:nvPr/>
        </p:nvGraphicFramePr>
        <p:xfrm>
          <a:off x="4657680" y="3960360"/>
          <a:ext cx="847440" cy="853920"/>
        </p:xfrm>
        <a:graphic>
          <a:graphicData uri="http://schemas.openxmlformats.org/drawingml/2006/table">
            <a:tbl>
              <a:tblPr/>
              <a:tblGrid>
                <a:gridCol w="84744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9"/>
                        </a:spcBef>
                        <a:tabLst>
                          <a:tab algn="l" pos="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4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ext Box 31"/>
          <p:cNvSpPr/>
          <p:nvPr/>
        </p:nvSpPr>
        <p:spPr>
          <a:xfrm>
            <a:off x="974880" y="268812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aphicFrame>
        <p:nvGraphicFramePr>
          <p:cNvPr id="350" name="Group 32"/>
          <p:cNvGraphicFramePr/>
          <p:nvPr/>
        </p:nvGraphicFramePr>
        <p:xfrm>
          <a:off x="6172200" y="3960360"/>
          <a:ext cx="818640" cy="853920"/>
        </p:xfrm>
        <a:graphic>
          <a:graphicData uri="http://schemas.openxmlformats.org/drawingml/2006/table">
            <a:tbl>
              <a:tblPr/>
              <a:tblGrid>
                <a:gridCol w="81900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9"/>
                        </a:spcBef>
                        <a:tabLst>
                          <a:tab algn="l" pos="0"/>
                        </a:tabLst>
                      </a:pPr>
                      <a:r>
                        <a:rPr b="1" lang="zh-CN" sz="4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Text Box 38"/>
          <p:cNvSpPr/>
          <p:nvPr/>
        </p:nvSpPr>
        <p:spPr>
          <a:xfrm>
            <a:off x="1127160" y="322164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aphicFrame>
        <p:nvGraphicFramePr>
          <p:cNvPr id="352" name="Group 39"/>
          <p:cNvGraphicFramePr/>
          <p:nvPr/>
        </p:nvGraphicFramePr>
        <p:xfrm>
          <a:off x="7640640" y="3960360"/>
          <a:ext cx="877680" cy="853920"/>
        </p:xfrm>
        <a:graphic>
          <a:graphicData uri="http://schemas.openxmlformats.org/drawingml/2006/table">
            <a:tbl>
              <a:tblPr/>
              <a:tblGrid>
                <a:gridCol w="87768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9"/>
                        </a:spcBef>
                        <a:tabLst>
                          <a:tab algn="l" pos="0"/>
                        </a:tabLst>
                      </a:pPr>
                      <a:r>
                        <a:rPr b="1" lang="zh-CN" sz="4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端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 Box 45"/>
          <p:cNvSpPr/>
          <p:nvPr/>
        </p:nvSpPr>
        <p:spPr>
          <a:xfrm>
            <a:off x="974880" y="398340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aphicFrame>
        <p:nvGraphicFramePr>
          <p:cNvPr id="354" name="Group 46"/>
          <p:cNvGraphicFramePr/>
          <p:nvPr/>
        </p:nvGraphicFramePr>
        <p:xfrm>
          <a:off x="7524720" y="5410080"/>
          <a:ext cx="1104480" cy="853920"/>
        </p:xfrm>
        <a:graphic>
          <a:graphicData uri="http://schemas.openxmlformats.org/drawingml/2006/table">
            <a:tbl>
              <a:tblPr/>
              <a:tblGrid>
                <a:gridCol w="1104840"/>
              </a:tblGrid>
              <a:tr h="79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9"/>
                        </a:spcBef>
                        <a:tabLst>
                          <a:tab algn="l" pos="0"/>
                        </a:tabLst>
                      </a:pPr>
                      <a:r>
                        <a:rPr b="1" lang="zh-CN" sz="4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对准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 Box 52"/>
          <p:cNvSpPr/>
          <p:nvPr/>
        </p:nvSpPr>
        <p:spPr>
          <a:xfrm>
            <a:off x="1279440" y="367884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aphicFrame>
        <p:nvGraphicFramePr>
          <p:cNvPr id="356" name="Group 53"/>
          <p:cNvGraphicFramePr/>
          <p:nvPr/>
        </p:nvGraphicFramePr>
        <p:xfrm>
          <a:off x="5753160" y="5429160"/>
          <a:ext cx="856800" cy="85392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9"/>
                        </a:spcBef>
                        <a:tabLst>
                          <a:tab algn="l" pos="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4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Group 60"/>
          <p:cNvGraphicFramePr/>
          <p:nvPr/>
        </p:nvGraphicFramePr>
        <p:xfrm>
          <a:off x="3100320" y="1071000"/>
          <a:ext cx="837720" cy="16844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4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66"/>
          <p:cNvSpPr/>
          <p:nvPr/>
        </p:nvSpPr>
        <p:spPr>
          <a:xfrm>
            <a:off x="2866680" y="539748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窟窿被补好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8"/>
          <p:cNvSpPr/>
          <p:nvPr/>
        </p:nvSpPr>
        <p:spPr>
          <a:xfrm>
            <a:off x="3394080" y="3405600"/>
            <a:ext cx="215640" cy="533160"/>
          </a:xfrm>
          <a:prstGeom prst="downArrow">
            <a:avLst>
              <a:gd name="adj1" fmla="val 50000"/>
              <a:gd name="adj2" fmla="val 35009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0" name="AutoShape 69"/>
          <p:cNvSpPr/>
          <p:nvPr/>
        </p:nvSpPr>
        <p:spPr>
          <a:xfrm>
            <a:off x="7954920" y="4768920"/>
            <a:ext cx="215640" cy="609120"/>
          </a:xfrm>
          <a:prstGeom prst="downArrow">
            <a:avLst>
              <a:gd name="adj1" fmla="val 50000"/>
              <a:gd name="adj2" fmla="val 40010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1" name="AutoShape 72"/>
          <p:cNvSpPr/>
          <p:nvPr/>
        </p:nvSpPr>
        <p:spPr>
          <a:xfrm>
            <a:off x="7086600" y="4254480"/>
            <a:ext cx="498240" cy="238680"/>
          </a:xfrm>
          <a:prstGeom prst="rightArrow">
            <a:avLst>
              <a:gd name="adj1" fmla="val 50000"/>
              <a:gd name="adj2" fmla="val 57492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AutoShape 73"/>
          <p:cNvSpPr/>
          <p:nvPr/>
        </p:nvSpPr>
        <p:spPr>
          <a:xfrm>
            <a:off x="6724800" y="5674680"/>
            <a:ext cx="685440" cy="240840"/>
          </a:xfrm>
          <a:prstGeom prst="leftArrow">
            <a:avLst>
              <a:gd name="adj1" fmla="val 50000"/>
              <a:gd name="adj2" fmla="val 50965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3" name="AutoShape 74"/>
          <p:cNvSpPr/>
          <p:nvPr/>
        </p:nvSpPr>
        <p:spPr>
          <a:xfrm>
            <a:off x="4933800" y="5674680"/>
            <a:ext cx="685440" cy="240840"/>
          </a:xfrm>
          <a:prstGeom prst="leftArrow">
            <a:avLst>
              <a:gd name="adj1" fmla="val 50000"/>
              <a:gd name="adj2" fmla="val 50965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4" name="AutoShape 68"/>
          <p:cNvSpPr/>
          <p:nvPr/>
        </p:nvSpPr>
        <p:spPr>
          <a:xfrm>
            <a:off x="3375000" y="1977120"/>
            <a:ext cx="215640" cy="533160"/>
          </a:xfrm>
          <a:prstGeom prst="downArrow">
            <a:avLst>
              <a:gd name="adj1" fmla="val 50000"/>
              <a:gd name="adj2" fmla="val 35009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图片 1"/>
          <p:cNvSpPr/>
          <p:nvPr/>
        </p:nvSpPr>
        <p:spPr>
          <a:xfrm>
            <a:off x="6739920" y="1223280"/>
            <a:ext cx="1707480" cy="2488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2"/>
          <a:stretch/>
        </p:blipFill>
        <p:spPr>
          <a:xfrm>
            <a:off x="136080" y="1090440"/>
            <a:ext cx="2826000" cy="428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367" name="AutoShape 72"/>
          <p:cNvSpPr/>
          <p:nvPr/>
        </p:nvSpPr>
        <p:spPr>
          <a:xfrm>
            <a:off x="5600880" y="4239720"/>
            <a:ext cx="498240" cy="238680"/>
          </a:xfrm>
          <a:prstGeom prst="rightArrow">
            <a:avLst>
              <a:gd name="adj1" fmla="val 50000"/>
              <a:gd name="adj2" fmla="val 57492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AutoShape 72"/>
          <p:cNvSpPr/>
          <p:nvPr/>
        </p:nvSpPr>
        <p:spPr>
          <a:xfrm>
            <a:off x="4073400" y="4263120"/>
            <a:ext cx="498240" cy="238680"/>
          </a:xfrm>
          <a:prstGeom prst="rightArrow">
            <a:avLst>
              <a:gd name="adj1" fmla="val 50000"/>
              <a:gd name="adj2" fmla="val 57132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369" name="组合 43"/>
          <p:cNvGrpSpPr/>
          <p:nvPr/>
        </p:nvGrpSpPr>
        <p:grpSpPr>
          <a:xfrm>
            <a:off x="4584600" y="963000"/>
            <a:ext cx="2022120" cy="998640"/>
            <a:chOff x="4584600" y="963000"/>
            <a:chExt cx="2022120" cy="998640"/>
          </a:xfrm>
        </p:grpSpPr>
        <p:sp>
          <p:nvSpPr>
            <p:cNvPr id="370" name="AutoShape 76"/>
            <p:cNvSpPr/>
            <p:nvPr/>
          </p:nvSpPr>
          <p:spPr>
            <a:xfrm>
              <a:off x="4584600" y="963000"/>
              <a:ext cx="2022120" cy="998640"/>
            </a:xfrm>
            <a:prstGeom prst="cloudCallout">
              <a:avLst>
                <a:gd name="adj1" fmla="val 51792"/>
                <a:gd name="adj2" fmla="val 97921"/>
              </a:avLst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371" name="Text Box 77"/>
            <p:cNvSpPr/>
            <p:nvPr/>
          </p:nvSpPr>
          <p:spPr>
            <a:xfrm>
              <a:off x="4723920" y="1118520"/>
              <a:ext cx="1882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女娲真了不起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icture 2"/>
          <p:cNvSpPr/>
          <p:nvPr/>
        </p:nvSpPr>
        <p:spPr>
          <a:xfrm>
            <a:off x="4229280" y="1758240"/>
            <a:ext cx="4474800" cy="4225320"/>
          </a:xfrm>
          <a:prstGeom prst="roundRect">
            <a:avLst>
              <a:gd name="adj" fmla="val 603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6"/>
          <p:cNvSpPr/>
          <p:nvPr/>
        </p:nvSpPr>
        <p:spPr>
          <a:xfrm>
            <a:off x="539640" y="1964160"/>
            <a:ext cx="3466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现在，人们常常看见天边五彩的云霞，传说那就是女娲补天的地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6"/>
          <p:cNvGrpSpPr/>
          <p:nvPr/>
        </p:nvGrpSpPr>
        <p:grpSpPr>
          <a:xfrm>
            <a:off x="316080" y="1028880"/>
            <a:ext cx="1304640" cy="680400"/>
            <a:chOff x="316080" y="1028880"/>
            <a:chExt cx="1304640" cy="680400"/>
          </a:xfrm>
        </p:grpSpPr>
        <p:pic>
          <p:nvPicPr>
            <p:cNvPr id="375" name="Picture 2" descr="C:\Users\Administrator\Desktop\资源 3@3x.png"/>
            <p:cNvPicPr/>
            <p:nvPr/>
          </p:nvPicPr>
          <p:blipFill>
            <a:blip r:embed="rId2"/>
            <a:stretch/>
          </p:blipFill>
          <p:spPr>
            <a:xfrm>
              <a:off x="316080" y="1028880"/>
              <a:ext cx="1304640" cy="68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矩形 8"/>
            <p:cNvSpPr/>
            <p:nvPr/>
          </p:nvSpPr>
          <p:spPr>
            <a:xfrm>
              <a:off x="617400" y="1038240"/>
              <a:ext cx="700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 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2" descr=""/>
          <p:cNvPicPr/>
          <p:nvPr/>
        </p:nvPicPr>
        <p:blipFill>
          <a:blip r:embed="rId1"/>
          <a:stretch/>
        </p:blipFill>
        <p:spPr>
          <a:xfrm>
            <a:off x="6375240" y="6350040"/>
            <a:ext cx="2717280" cy="592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C:\Users\Administrator\AppData\Roaming\Tencent\Users\541737432\QQ\WinTemp\RichOle\G}005ZZKL3Z$%(~QY]~MQO9.png"/>
          <p:cNvPicPr/>
          <p:nvPr/>
        </p:nvPicPr>
        <p:blipFill>
          <a:blip r:embed="rId2"/>
          <a:stretch/>
        </p:blipFill>
        <p:spPr>
          <a:xfrm>
            <a:off x="-36360" y="0"/>
            <a:ext cx="9266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743040" y="5511960"/>
            <a:ext cx="784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为什么要补天呢？让我们走进课文去看看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C:\Users\Administrator\AppData\Roaming\Tencent\Users\541737432\QQ\WinTemp\RichOle\577ST2FO2YA$0%(F27WB_~H.png"/>
          <p:cNvPicPr/>
          <p:nvPr/>
        </p:nvPicPr>
        <p:blipFill>
          <a:blip r:embed="rId1"/>
          <a:stretch/>
        </p:blipFill>
        <p:spPr>
          <a:xfrm>
            <a:off x="2058840" y="1115640"/>
            <a:ext cx="5028840" cy="413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1"/>
          <p:cNvSpPr/>
          <p:nvPr/>
        </p:nvSpPr>
        <p:spPr>
          <a:xfrm>
            <a:off x="985680" y="3616920"/>
            <a:ext cx="7122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决定冒着生命危险去补天，她先寻找五彩石，接着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然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再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装在一个大盆里，端到天边，对准那个大黑窟窿往上一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"/>
          <p:cNvSpPr/>
          <p:nvPr/>
        </p:nvSpPr>
        <p:spPr>
          <a:xfrm>
            <a:off x="2017800" y="4085280"/>
            <a:ext cx="193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在地上挖个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4695840" y="4093560"/>
            <a:ext cx="253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把五彩石放在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"/>
          <p:cNvSpPr/>
          <p:nvPr/>
        </p:nvSpPr>
        <p:spPr>
          <a:xfrm>
            <a:off x="1262160" y="4762440"/>
            <a:ext cx="142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神火冶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614520" y="1087920"/>
            <a:ext cx="7749720" cy="1315800"/>
            <a:chOff x="614520" y="1087920"/>
            <a:chExt cx="7749720" cy="1315800"/>
          </a:xfrm>
        </p:grpSpPr>
        <p:grpSp>
          <p:nvGrpSpPr>
            <p:cNvPr id="384" name="组合 4"/>
            <p:cNvGrpSpPr/>
            <p:nvPr/>
          </p:nvGrpSpPr>
          <p:grpSpPr>
            <a:xfrm>
              <a:off x="947880" y="1087920"/>
              <a:ext cx="7416360" cy="1315800"/>
              <a:chOff x="947880" y="1087920"/>
              <a:chExt cx="7416360" cy="1315800"/>
            </a:xfrm>
          </p:grpSpPr>
          <p:sp>
            <p:nvSpPr>
              <p:cNvPr id="385" name="矩形 2"/>
              <p:cNvSpPr/>
              <p:nvPr/>
            </p:nvSpPr>
            <p:spPr>
              <a:xfrm>
                <a:off x="1311480" y="1087920"/>
                <a:ext cx="13410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36a436"/>
                    </a:solidFill>
                    <a:latin typeface="微软雅黑"/>
                    <a:ea typeface="微软雅黑"/>
                  </a:rPr>
                  <a:t>拓展练习：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矩形 13"/>
              <p:cNvSpPr/>
              <p:nvPr/>
            </p:nvSpPr>
            <p:spPr>
              <a:xfrm>
                <a:off x="947880" y="1765440"/>
                <a:ext cx="74163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女娲是如何补天的，读课文的第四自然段，完成以下练习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7" name="图片 24" descr="花盆.png"/>
            <p:cNvPicPr/>
            <p:nvPr/>
          </p:nvPicPr>
          <p:blipFill>
            <a:blip r:embed="rId1"/>
            <a:stretch/>
          </p:blipFill>
          <p:spPr>
            <a:xfrm>
              <a:off x="614520" y="1089000"/>
              <a:ext cx="389520" cy="59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1"/>
          <p:cNvSpPr/>
          <p:nvPr/>
        </p:nvSpPr>
        <p:spPr>
          <a:xfrm>
            <a:off x="879480" y="1610640"/>
            <a:ext cx="6089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补天后人们的生活怎样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7"/>
          <p:cNvSpPr/>
          <p:nvPr/>
        </p:nvSpPr>
        <p:spPr>
          <a:xfrm>
            <a:off x="4323600" y="31939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们又过上了安居乐业的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6"/>
          <p:cNvSpPr/>
          <p:nvPr/>
        </p:nvSpPr>
        <p:spPr>
          <a:xfrm>
            <a:off x="811080" y="3251160"/>
            <a:ext cx="72608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怕危险、不怕困难、勇敢善良、无私奉献的女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icture 2"/>
          <p:cNvSpPr/>
          <p:nvPr/>
        </p:nvSpPr>
        <p:spPr>
          <a:xfrm>
            <a:off x="6547320" y="1014120"/>
            <a:ext cx="2378160" cy="2253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5"/>
          <p:cNvGrpSpPr/>
          <p:nvPr/>
        </p:nvGrpSpPr>
        <p:grpSpPr>
          <a:xfrm>
            <a:off x="566640" y="1375920"/>
            <a:ext cx="5954400" cy="1438200"/>
            <a:chOff x="566640" y="1375920"/>
            <a:chExt cx="5954400" cy="1438200"/>
          </a:xfrm>
        </p:grpSpPr>
        <p:grpSp>
          <p:nvGrpSpPr>
            <p:cNvPr id="393" name="组合 4"/>
            <p:cNvGrpSpPr/>
            <p:nvPr/>
          </p:nvGrpSpPr>
          <p:grpSpPr>
            <a:xfrm>
              <a:off x="1033560" y="1375920"/>
              <a:ext cx="5487480" cy="1438200"/>
              <a:chOff x="1033560" y="1375920"/>
              <a:chExt cx="5487480" cy="1438200"/>
            </a:xfrm>
          </p:grpSpPr>
          <p:sp>
            <p:nvSpPr>
              <p:cNvPr id="394" name="矩形 2"/>
              <p:cNvSpPr/>
              <p:nvPr/>
            </p:nvSpPr>
            <p:spPr>
              <a:xfrm>
                <a:off x="1262160" y="1375920"/>
                <a:ext cx="12477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36a436"/>
                    </a:solidFill>
                    <a:latin typeface="微软雅黑"/>
                    <a:ea typeface="微软雅黑"/>
                  </a:rPr>
                  <a:t>讨论交流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矩形 12"/>
              <p:cNvSpPr/>
              <p:nvPr/>
            </p:nvSpPr>
            <p:spPr>
              <a:xfrm>
                <a:off x="1033560" y="2084760"/>
                <a:ext cx="5487480" cy="72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你能说出女娲是怎样的人吗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图片 24" descr="花盆.png"/>
            <p:cNvPicPr/>
            <p:nvPr/>
          </p:nvPicPr>
          <p:blipFill>
            <a:blip r:embed="rId2"/>
            <a:stretch/>
          </p:blipFill>
          <p:spPr>
            <a:xfrm>
              <a:off x="566640" y="1424880"/>
              <a:ext cx="389520" cy="59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小孩子"/>
          <p:cNvPicPr/>
          <p:nvPr/>
        </p:nvPicPr>
        <p:blipFill>
          <a:blip r:embed="rId1"/>
          <a:stretch/>
        </p:blipFill>
        <p:spPr>
          <a:xfrm>
            <a:off x="7243920" y="2626920"/>
            <a:ext cx="1304640" cy="2829600"/>
          </a:xfrm>
          <a:prstGeom prst="rect">
            <a:avLst/>
          </a:prstGeom>
          <a:ln w="0">
            <a:noFill/>
          </a:ln>
        </p:spPr>
      </p:pic>
      <p:sp>
        <p:nvSpPr>
          <p:cNvPr id="398" name="WordArt 6"/>
          <p:cNvSpPr/>
          <p:nvPr/>
        </p:nvSpPr>
        <p:spPr>
          <a:xfrm>
            <a:off x="1342800" y="95436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想对女娲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4068720" y="2241720"/>
            <a:ext cx="20998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你真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7"/>
          <p:cNvGrpSpPr/>
          <p:nvPr/>
        </p:nvGrpSpPr>
        <p:grpSpPr>
          <a:xfrm>
            <a:off x="5102280" y="1032840"/>
            <a:ext cx="2479320" cy="1041120"/>
            <a:chOff x="5102280" y="1032840"/>
            <a:chExt cx="2479320" cy="1041120"/>
          </a:xfrm>
        </p:grpSpPr>
        <p:sp>
          <p:nvSpPr>
            <p:cNvPr id="401" name="AutoShape 76"/>
            <p:cNvSpPr/>
            <p:nvPr/>
          </p:nvSpPr>
          <p:spPr>
            <a:xfrm>
              <a:off x="5102280" y="1032840"/>
              <a:ext cx="2479320" cy="1041120"/>
            </a:xfrm>
            <a:prstGeom prst="cloudCallout">
              <a:avLst>
                <a:gd name="adj1" fmla="val 44907"/>
                <a:gd name="adj2" fmla="val 92801"/>
              </a:avLst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402" name="Text Box 77"/>
            <p:cNvSpPr/>
            <p:nvPr/>
          </p:nvSpPr>
          <p:spPr>
            <a:xfrm>
              <a:off x="5248800" y="1211040"/>
              <a:ext cx="2308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女娲真了不起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矩形 10"/>
          <p:cNvSpPr/>
          <p:nvPr/>
        </p:nvSpPr>
        <p:spPr>
          <a:xfrm>
            <a:off x="4852440" y="32151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勇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2"/>
          <p:cNvSpPr/>
          <p:nvPr/>
        </p:nvSpPr>
        <p:spPr>
          <a:xfrm>
            <a:off x="4852440" y="40788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善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3"/>
          <p:cNvSpPr/>
          <p:nvPr/>
        </p:nvSpPr>
        <p:spPr>
          <a:xfrm>
            <a:off x="4712760" y="49849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甘于奉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tretch/>
        </p:blipFill>
        <p:spPr>
          <a:xfrm>
            <a:off x="635040" y="1839240"/>
            <a:ext cx="284436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478320" y="76320"/>
            <a:ext cx="2187360" cy="77436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408" name="组合 13"/>
          <p:cNvGrpSpPr/>
          <p:nvPr/>
        </p:nvGrpSpPr>
        <p:grpSpPr>
          <a:xfrm>
            <a:off x="392400" y="1133280"/>
            <a:ext cx="1772280" cy="672480"/>
            <a:chOff x="392400" y="1133280"/>
            <a:chExt cx="1772280" cy="672480"/>
          </a:xfrm>
        </p:grpSpPr>
        <p:sp>
          <p:nvSpPr>
            <p:cNvPr id="409" name="圆角矩形 15"/>
            <p:cNvSpPr/>
            <p:nvPr/>
          </p:nvSpPr>
          <p:spPr>
            <a:xfrm>
              <a:off x="737640" y="113328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文结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线连接符 21"/>
            <p:cNvSpPr/>
            <p:nvPr/>
          </p:nvSpPr>
          <p:spPr>
            <a:xfrm>
              <a:off x="392400" y="1805400"/>
              <a:ext cx="17722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11" name="组合 16"/>
          <p:cNvGrpSpPr/>
          <p:nvPr/>
        </p:nvGrpSpPr>
        <p:grpSpPr>
          <a:xfrm>
            <a:off x="3137040" y="1657440"/>
            <a:ext cx="3015720" cy="691560"/>
            <a:chOff x="3137040" y="1657440"/>
            <a:chExt cx="3015720" cy="691560"/>
          </a:xfrm>
        </p:grpSpPr>
        <p:sp>
          <p:nvSpPr>
            <p:cNvPr id="412" name="圆角矩形 18"/>
            <p:cNvSpPr/>
            <p:nvPr/>
          </p:nvSpPr>
          <p:spPr>
            <a:xfrm>
              <a:off x="3137040" y="1672200"/>
              <a:ext cx="3015720" cy="6768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13" name="矩形 1"/>
            <p:cNvSpPr/>
            <p:nvPr/>
          </p:nvSpPr>
          <p:spPr>
            <a:xfrm>
              <a:off x="3460680" y="1657440"/>
              <a:ext cx="25214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5 .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女娲补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矩形 1"/>
          <p:cNvSpPr/>
          <p:nvPr/>
        </p:nvSpPr>
        <p:spPr>
          <a:xfrm>
            <a:off x="579600" y="2662920"/>
            <a:ext cx="8348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起因                经过              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天塌地陷             求雨灭火        人民又安居乐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烧起大火 发洪水   造船救人 炼石补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爱心　吃苦　勇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内容占位符 2"/>
          <p:cNvSpPr/>
          <p:nvPr/>
        </p:nvSpPr>
        <p:spPr>
          <a:xfrm>
            <a:off x="817560" y="1991880"/>
            <a:ext cx="73753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讲的是古时候女娲为了拯救处于水深火热中的人们，冒着生命危险补天的故事。赞扬了女娲的勇敢、善良的品质；不怕危险、甘于奉献的精神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13"/>
          <p:cNvGrpSpPr/>
          <p:nvPr/>
        </p:nvGrpSpPr>
        <p:grpSpPr>
          <a:xfrm>
            <a:off x="392400" y="1133280"/>
            <a:ext cx="1772280" cy="672480"/>
            <a:chOff x="392400" y="1133280"/>
            <a:chExt cx="1772280" cy="672480"/>
          </a:xfrm>
        </p:grpSpPr>
        <p:sp>
          <p:nvSpPr>
            <p:cNvPr id="417" name="圆角矩形 7"/>
            <p:cNvSpPr/>
            <p:nvPr/>
          </p:nvSpPr>
          <p:spPr>
            <a:xfrm>
              <a:off x="737640" y="113328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文主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线连接符 21"/>
            <p:cNvSpPr/>
            <p:nvPr/>
          </p:nvSpPr>
          <p:spPr>
            <a:xfrm>
              <a:off x="392400" y="1805400"/>
              <a:ext cx="17722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1"/>
          <p:cNvSpPr/>
          <p:nvPr/>
        </p:nvSpPr>
        <p:spPr>
          <a:xfrm>
            <a:off x="866880" y="2178000"/>
            <a:ext cx="7362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古人想象出女娲补天这样的神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明古人希望有一天人能有战胜自然灾害的力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还希望人们都能像女娲这样心地善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关心别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3"/>
          <p:cNvGrpSpPr/>
          <p:nvPr/>
        </p:nvGrpSpPr>
        <p:grpSpPr>
          <a:xfrm>
            <a:off x="463680" y="1352520"/>
            <a:ext cx="1832400" cy="633600"/>
            <a:chOff x="463680" y="1352520"/>
            <a:chExt cx="1832400" cy="633600"/>
          </a:xfrm>
        </p:grpSpPr>
        <p:sp>
          <p:nvSpPr>
            <p:cNvPr id="421" name="矩形 2"/>
            <p:cNvSpPr/>
            <p:nvPr/>
          </p:nvSpPr>
          <p:spPr>
            <a:xfrm>
              <a:off x="1261440" y="1352520"/>
              <a:ext cx="103464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圆角矩形 4"/>
            <p:cNvSpPr/>
            <p:nvPr/>
          </p:nvSpPr>
          <p:spPr>
            <a:xfrm>
              <a:off x="463680" y="1387800"/>
              <a:ext cx="590040" cy="598320"/>
            </a:xfrm>
            <a:prstGeom prst="roundRect">
              <a:avLst>
                <a:gd name="adj" fmla="val 10000"/>
              </a:avLst>
            </a:prstGeom>
            <a:blipFill rotWithShape="0">
              <a:blip r:embed="rId1"/>
              <a:srcRect/>
              <a:stretch/>
            </a:blip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5" descr=""/>
          <p:cNvPicPr/>
          <p:nvPr/>
        </p:nvPicPr>
        <p:blipFill>
          <a:blip r:embed="rId1"/>
          <a:stretch/>
        </p:blipFill>
        <p:spPr>
          <a:xfrm>
            <a:off x="3926160" y="3913920"/>
            <a:ext cx="1999800" cy="1879200"/>
          </a:xfrm>
          <a:prstGeom prst="rect">
            <a:avLst/>
          </a:prstGeom>
          <a:ln cap="sq" w="28575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424" name="Picture 1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1920" y="3863160"/>
            <a:ext cx="2135160" cy="220716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sp>
        <p:nvSpPr>
          <p:cNvPr id="425" name="Picture 27"/>
          <p:cNvSpPr/>
          <p:nvPr/>
        </p:nvSpPr>
        <p:spPr>
          <a:xfrm>
            <a:off x="6725160" y="3655440"/>
            <a:ext cx="1351080" cy="25502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3"/>
          <p:cNvSpPr/>
          <p:nvPr/>
        </p:nvSpPr>
        <p:spPr>
          <a:xfrm>
            <a:off x="592200" y="1509120"/>
            <a:ext cx="7967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女娲补天》《共工触山》《后羿射日》《嫦娥奔月》被称为中国古代四大神话。阅读其它三篇神话，和同学交流，共工、后羿、嫦娥分别是什么样的人，作者是怎样塑造人物形象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4"/>
          <p:cNvSpPr/>
          <p:nvPr/>
        </p:nvSpPr>
        <p:spPr>
          <a:xfrm>
            <a:off x="4193640" y="8402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主题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矩形 1"/>
          <p:cNvSpPr/>
          <p:nvPr/>
        </p:nvSpPr>
        <p:spPr>
          <a:xfrm>
            <a:off x="3610080" y="1037160"/>
            <a:ext cx="2053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创造人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组合 11"/>
          <p:cNvGrpSpPr/>
          <p:nvPr/>
        </p:nvGrpSpPr>
        <p:grpSpPr>
          <a:xfrm>
            <a:off x="444600" y="1095120"/>
            <a:ext cx="1772280" cy="672480"/>
            <a:chOff x="444600" y="1095120"/>
            <a:chExt cx="1772280" cy="672480"/>
          </a:xfrm>
        </p:grpSpPr>
        <p:sp>
          <p:nvSpPr>
            <p:cNvPr id="430" name="圆角矩形 11"/>
            <p:cNvSpPr/>
            <p:nvPr/>
          </p:nvSpPr>
          <p:spPr>
            <a:xfrm>
              <a:off x="789840" y="109512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推荐阅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直线连接符 21"/>
            <p:cNvSpPr/>
            <p:nvPr/>
          </p:nvSpPr>
          <p:spPr>
            <a:xfrm>
              <a:off x="444600" y="1767240"/>
              <a:ext cx="17722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432" name="图片 16" descr=""/>
          <p:cNvPicPr/>
          <p:nvPr/>
        </p:nvPicPr>
        <p:blipFill>
          <a:blip r:embed="rId1"/>
          <a:stretch/>
        </p:blipFill>
        <p:spPr>
          <a:xfrm>
            <a:off x="3435480" y="194760"/>
            <a:ext cx="2273040" cy="60084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433" name="矩形 2"/>
          <p:cNvSpPr/>
          <p:nvPr/>
        </p:nvSpPr>
        <p:spPr>
          <a:xfrm>
            <a:off x="507960" y="1864800"/>
            <a:ext cx="8186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盘古开天辟地以后，天上有了太阳、月亮和星星，地上有了山川草木，也有了鸟兽虫鱼，可是单单没有人类。这世间，无论怎样说，总不免显得有些荒凉寂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知道什么时候，出现了一个神通广大的女神，叫做“女娲”。据说，女娲一天当中能够变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次。有一天，女娲行走在这片莽莽榛榛的原野上，看看周围的景象，感到非常孤独。她觉得在这天地之间，应该添一点什么东西进去，使它生气蓬勃起来。添一点什么东西进去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2"/>
          <p:cNvSpPr/>
          <p:nvPr/>
        </p:nvSpPr>
        <p:spPr>
          <a:xfrm>
            <a:off x="493560" y="916560"/>
            <a:ext cx="8184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走啊走，她走得有些疲倦了，便在一个池子旁边蹲下来。澄澈的池水照见了她的面容和身影。她笑，池水里的影子也向着她笑；她假装生气，池水里的影子也向着她生气。她忽然灵机一动：世间各种各样的生物都有了，单单没有像自己一样的生物，那为什么不创造一种像自己一样的生物加入到世间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想着，想着，她就顺手从池边掘起一团黄泥，掺了水，在手里揉团着，揉团着，揉团成了第一个娃娃模样的小东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她把这个小东西放到地面上。说也奇怪，这个泥捏的小家伙，刚一接触到地面，就活了起来，并且开口就喊：“妈妈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2"/>
          <p:cNvGrpSpPr/>
          <p:nvPr/>
        </p:nvGrpSpPr>
        <p:grpSpPr>
          <a:xfrm>
            <a:off x="469800" y="838080"/>
            <a:ext cx="8238600" cy="3864960"/>
            <a:chOff x="469800" y="838080"/>
            <a:chExt cx="8238600" cy="3864960"/>
          </a:xfrm>
        </p:grpSpPr>
        <p:pic>
          <p:nvPicPr>
            <p:cNvPr id="162" name="图片 1" descr=""/>
            <p:cNvPicPr/>
            <p:nvPr/>
          </p:nvPicPr>
          <p:blipFill>
            <a:blip r:embed="rId1"/>
            <a:stretch/>
          </p:blipFill>
          <p:spPr>
            <a:xfrm>
              <a:off x="7199640" y="838080"/>
              <a:ext cx="1283040" cy="1869480"/>
            </a:xfrm>
            <a:prstGeom prst="rect">
              <a:avLst/>
            </a:prstGeom>
            <a:ln w="0">
              <a:noFill/>
            </a:ln>
            <a:effectLst>
              <a:softEdge rad="112680"/>
            </a:effectLst>
          </p:spPr>
        </p:pic>
        <p:sp>
          <p:nvSpPr>
            <p:cNvPr id="163" name="Rectangle 1"/>
            <p:cNvSpPr/>
            <p:nvPr/>
          </p:nvSpPr>
          <p:spPr>
            <a:xfrm>
              <a:off x="469800" y="2631960"/>
              <a:ext cx="8238600" cy="20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30000"/>
                </a:lnSpc>
              </a:pPr>
              <a:r>
                <a:rPr b="1" lang="en-US" sz="20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女娲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中国上古神话中的创世女神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又称娲皇、女阴，史记女娲氏，是华夏民族人文先始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福佑社稷之正神。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相传女娲造人，一日中七十化变，以黄泥仿照自己抟土造人，创造人类社会并建立婚姻制度；因世间天塌地陷，于是熔彩石以补苍天，斩鳖足以立四极，留下了女娲补天的神话传说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女娲不但是补天救世的英雌和抟土造人的女神，还是一个创造万物的自然之神，神通广大化生万物，每天至少能创造出七十样东西。她开世造物，因此被称为大地之母，是被民间广泛而又长久崇拜的创世神和始母神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2" descr="C:\Users\Administrator\Desktop\3333\助读资料.png"/>
          <p:cNvPicPr/>
          <p:nvPr/>
        </p:nvPicPr>
        <p:blipFill>
          <a:blip r:embed="rId2"/>
          <a:stretch/>
        </p:blipFill>
        <p:spPr>
          <a:xfrm>
            <a:off x="3486240" y="91080"/>
            <a:ext cx="2171520" cy="7596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2"/>
          <p:cNvSpPr/>
          <p:nvPr/>
        </p:nvSpPr>
        <p:spPr>
          <a:xfrm>
            <a:off x="347760" y="1051920"/>
            <a:ext cx="8389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看着她亲手创造的这个聪明美丽的生物，又听见“妈妈”的喊声，不由得满心欢喜，眉开眼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她给她心爱的孩子取了一个名字，叫做“人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的身体虽然小，但据说因为是神创造的，相貌和举动也有些像神，和飞的鸟、爬的兽都不相同。这样，看起来更有一种管理宇宙的非凡气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娲对她的作品，感到很满意。于是，她又继续动手做她的工作，她用黄泥做了许多能说会走的可爱的小人儿。这些小人儿在她的周围跳跃欢呼，使她精神上有说不出的高兴和安慰。她再也不感到孤独和寂寞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矩形 2"/>
          <p:cNvSpPr/>
          <p:nvPr/>
        </p:nvSpPr>
        <p:spPr>
          <a:xfrm>
            <a:off x="347760" y="897480"/>
            <a:ext cx="8389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她工作着，工作着，一直工作到晚霞布满天空，星星和月亮射出幽光。夜深了，她只把头枕在山崖上，略睡一睡，第二天，天刚微明，她又赶紧起来继续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她一心想让这些灵敏的小生物布满大地。但是，大地毕竟太大了，她工作了许久，还没有达到她的意愿，而她本人已经疲倦不堪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最后，她想出了一个绝妙的创造人类的方法。她从崖壁上拉下一根枯藤，伸入一个泥潭里，搅成了浑黄的泥浆，向地面这么一挥洒，泥点溅落的地方，就出现了许多小小的叫着跳着的人儿，和先前用黄泥捏成的小人儿，模样一般无二。“妈妈，妈妈”的叫声，在周围震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2"/>
          <p:cNvSpPr/>
          <p:nvPr/>
        </p:nvSpPr>
        <p:spPr>
          <a:xfrm>
            <a:off x="347760" y="857160"/>
            <a:ext cx="8389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用这种方法来进行工作，果然简单省事。藤条一挥，就有好些活人出现，不久，大地上就布满了人类的踪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地上虽然有了人类，女娲的工作却并没有终止。她又考虑着：人是要死亡的，死亡了一批再创造一批吗？这未免太麻烦了。怎样才能使他们继续生存下去呢？这可是一个难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后来，她终于想出了一个办法，就是把那些小人儿分为男女，让男人和女人配合起来，叫他们自己去创造后代。这样，人类就世世代代绵延下来，并且一天比一天多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"/>
          <p:cNvSpPr/>
          <p:nvPr/>
        </p:nvSpPr>
        <p:spPr>
          <a:xfrm>
            <a:off x="2131920" y="5867280"/>
            <a:ext cx="325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女娲为什么要创造人类？她是怎么创造的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1"/>
          <p:cNvSpPr/>
          <p:nvPr/>
        </p:nvSpPr>
        <p:spPr>
          <a:xfrm>
            <a:off x="3610080" y="709200"/>
            <a:ext cx="2053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哪吒闹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2"/>
          <p:cNvSpPr/>
          <p:nvPr/>
        </p:nvSpPr>
        <p:spPr>
          <a:xfrm>
            <a:off x="477720" y="1458360"/>
            <a:ext cx="8186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前，有一位大将军叫李靖，皇帝派他镇守东海边的陈塘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李靖有个儿子叫哪吒。哪吒生下来之前，在他母亲的肚子里整整呆了三年。刚生下来的时候，他包在一个肉球里头，圆溜溜的，在地上滚来滚去。李靖说：“这一定是个妖怪。”他拔出宝剑，向肉球劈去。肉球裂开了，从里面蹦出一个小男孩儿，白白胖胖的，见了李靖就叫“爹”，见了李夫人就叫“娘”，还真惹人喜欢。这时，天上下来一位神仙，对李靖说：“恭喜你添了一个男娃娃。这个娃娃很了不起，让我收他当徒弟吧。”神仙边说边拿出一个镯子，一块手帕，交给李靖，说：“这是我给徒弟的礼物，这镯子叫乾坤圈，这手帕叫混天绫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矩形 2"/>
          <p:cNvSpPr/>
          <p:nvPr/>
        </p:nvSpPr>
        <p:spPr>
          <a:xfrm>
            <a:off x="477720" y="857160"/>
            <a:ext cx="81864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哪吒七岁那年夏天的一个中午，天气十分炎热。哪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来到东海边洗澡。他拿出混天绫在水中一浸，海面晃了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；又用混天绫在水中一搅，海上掀起了大浪，把东海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王的水晶宫震得东摇西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龙王正在龙宫里睡午觉，突然感到天摇地动，连忙叫他的儿子敖丙带上夜叉出去看看，到底是怎么回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敖丙他们钻出水面一看，原来是个娃娃在洗澡，用手中的红手帕搅起了一个又一个大浪。敖丙又气又急，对手下人嚷道：“快去，把那个小孩儿给我杀了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1" descr=""/>
          <p:cNvPicPr/>
          <p:nvPr/>
        </p:nvPicPr>
        <p:blipFill>
          <a:blip r:embed="rId1"/>
          <a:stretch/>
        </p:blipFill>
        <p:spPr>
          <a:xfrm>
            <a:off x="7041600" y="1156680"/>
            <a:ext cx="1607760" cy="153648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2"/>
          <p:cNvSpPr/>
          <p:nvPr/>
        </p:nvSpPr>
        <p:spPr>
          <a:xfrm>
            <a:off x="477720" y="838080"/>
            <a:ext cx="8186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夜叉举起斧头朝哪吒奔去，对着哪吒就劈。哪吒连忙一闪，取下乾坤圈，向夜叉扔去，正好打中夜叉的脑袋。别看这小小的乾坤圈，却比一座大山还重，一下子就把夜叉打死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敖丙一见，大叫一声，举起手中的枪，用力一挥，海水便卷起了巨浪，向哪吒扑去。哪吒轻轻一跃，跳到了半空。海浪从他脚下汹涌而过，扑上了海岸，漫过了海堤，顿时淹没了海边一个渔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哪吒叫道：“你是什么人，敢这样胡作非为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敖丙傲慢地说：“我是东海龙王的太子，你搅翻了我们龙宫，又打死了我家夜叉，我现在就要你的命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2"/>
          <p:cNvSpPr/>
          <p:nvPr/>
        </p:nvSpPr>
        <p:spPr>
          <a:xfrm>
            <a:off x="477720" y="878400"/>
            <a:ext cx="8186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敖丙说完，举枪就剌。哪吒让了他好几次，敖丙就是不放过，卷起一阵又一阵的巨浪扑向哪吒。巨浪把海边的许多村庄都淹没了，冲垮了房子，冲走了牛羊，冲毁了庄嫁，村里人纷纷四散逃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哪吒十分着急，就把混天绫朝敖丙一扔。混天绫化成一团团火焰，把敖丙紧紧围住，让他怎么也逃不掉。哪吒随后又抛出了乾坤圈，一下子就把敖丙打死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"/>
          <p:cNvSpPr/>
          <p:nvPr/>
        </p:nvSpPr>
        <p:spPr>
          <a:xfrm>
            <a:off x="1959840" y="4880880"/>
            <a:ext cx="257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你觉得哪吒是个什么样的孩子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icture 7"/>
          <p:cNvSpPr/>
          <p:nvPr/>
        </p:nvSpPr>
        <p:spPr>
          <a:xfrm>
            <a:off x="6211800" y="3926160"/>
            <a:ext cx="2179440" cy="2440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496800" y="3054240"/>
            <a:ext cx="816264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五彩石：是伏羲殿下平台上一块五彩斑斓的巨石，它也和一段美丽的传说联系在一起。女娲造人后，人类慢慢地繁衍开来，他们采摘野果，追猎猛兽，过着无忧无虑的生活。忽然有一天，一道晴天霹雳闪过，接着一声惊天动地的巨响，天空突然裂开一道大口子，大雨倾盆而下，淹没了田野和村庄，转眼间地上变成了一片汪洋。女娲看到人们哭喊着四处逃命，就决心要把天空的裂缝补起来。女娲背着砍山斧，从东山采来红砂石，从西山采来白玉石，又从南山、北山、中山采来其他三种颜色的石头，把他们一起放进熔炉里。过了九九八十一天，终于练成了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icture 3"/>
          <p:cNvSpPr/>
          <p:nvPr/>
        </p:nvSpPr>
        <p:spPr>
          <a:xfrm>
            <a:off x="3701160" y="4606200"/>
            <a:ext cx="1801440" cy="180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490680" y="2453400"/>
            <a:ext cx="81626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天空颜色一模一样的五彩石，女娲就用这些五彩石补住了天空的裂缝。大雨停歇，洪水消退，人们又过上了自在的生活。相传这块色彩奇异的巨石就是当年女娲补天后剩下的一块五彩石。我们用水洇湿石块后，可以看到上面分布着许多抽象的纹理和图形，有人说中部是中国疆域轮廓图，四周是龙凤呈祥图；有人则说石面上是许多原始人类的影像。总而言之，这块石头是这座山上独一无二的奇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6"/>
          <p:cNvSpPr/>
          <p:nvPr/>
        </p:nvSpPr>
        <p:spPr>
          <a:xfrm>
            <a:off x="503280" y="1653120"/>
            <a:ext cx="7970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8560" indent="-26856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认本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生字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认识多音字“隆、扎”，理解生字组成的词语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重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正确流利地朗读课文，能根据起因、经过、结果的顺序讲述“补天”的过程，感受神话故事的人物形象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重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抓住人物描写，边读边在头脑中想象画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体会女娲急他人之所急、救民于水火的精神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难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18"/>
          <p:cNvSpPr/>
          <p:nvPr/>
        </p:nvSpPr>
        <p:spPr>
          <a:xfrm>
            <a:off x="1458000" y="1026720"/>
            <a:ext cx="729720" cy="363960"/>
          </a:xfrm>
          <a:custGeom>
            <a:avLst/>
            <a:gdLst>
              <a:gd name="textAreaLeft" fmla="*/ 0 w 729720"/>
              <a:gd name="textAreaRight" fmla="*/ 730080 w 729720"/>
              <a:gd name="textAreaTop" fmla="*/ 0 h 363960"/>
              <a:gd name="textAreaBottom" fmla="*/ 364320 h 363960"/>
            </a:gdLst>
            <a:ahLst/>
            <a:rect l="textAreaLeft" t="textAreaTop" r="textAreaRight" b="textAreaBottom"/>
            <a:pathLst>
              <a:path w="258980" h="54733">
                <a:moveTo>
                  <a:pt x="0" y="0"/>
                </a:moveTo>
                <a:lnTo>
                  <a:pt x="258980" y="0"/>
                </a:lnTo>
                <a:lnTo>
                  <a:pt x="258980" y="54733"/>
                </a:lnTo>
                <a:lnTo>
                  <a:pt x="0" y="5473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7"/>
          <p:cNvSpPr/>
          <p:nvPr/>
        </p:nvSpPr>
        <p:spPr>
          <a:xfrm>
            <a:off x="516600" y="1132200"/>
            <a:ext cx="443160" cy="49500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任意多边形 6"/>
          <p:cNvSpPr/>
          <p:nvPr/>
        </p:nvSpPr>
        <p:spPr>
          <a:xfrm>
            <a:off x="963720" y="1663560"/>
            <a:ext cx="7149600" cy="4518720"/>
          </a:xfrm>
          <a:custGeom>
            <a:avLst/>
            <a:gdLst>
              <a:gd name="textAreaLeft" fmla="*/ 0 w 7149600"/>
              <a:gd name="textAreaRight" fmla="*/ 7149960 w 7149600"/>
              <a:gd name="textAreaTop" fmla="*/ 0 h 4518720"/>
              <a:gd name="textAreaBottom" fmla="*/ 4519080 h 4518720"/>
            </a:gdLst>
            <a:ahLst/>
            <a:rect l="textAreaLeft" t="textAreaTop" r="textAreaRight" b="textAreaBottom"/>
            <a:pathLst>
              <a:path w="7150138" h="4519594">
                <a:moveTo>
                  <a:pt x="0" y="451959"/>
                </a:moveTo>
                <a:cubicBezTo>
                  <a:pt x="0" y="202349"/>
                  <a:pt x="202349" y="0"/>
                  <a:pt x="451959" y="0"/>
                </a:cubicBezTo>
                <a:lnTo>
                  <a:pt x="6698179" y="0"/>
                </a:lnTo>
                <a:cubicBezTo>
                  <a:pt x="6947789" y="0"/>
                  <a:pt x="7150138" y="202349"/>
                  <a:pt x="7150138" y="451959"/>
                </a:cubicBezTo>
                <a:lnTo>
                  <a:pt x="7150138" y="4067635"/>
                </a:lnTo>
                <a:cubicBezTo>
                  <a:pt x="7150138" y="4317245"/>
                  <a:pt x="6947789" y="4519594"/>
                  <a:pt x="6698179" y="4519594"/>
                </a:cubicBezTo>
                <a:lnTo>
                  <a:pt x="451959" y="4519594"/>
                </a:lnTo>
                <a:cubicBezTo>
                  <a:pt x="202349" y="4519594"/>
                  <a:pt x="0" y="4317245"/>
                  <a:pt x="0" y="4067635"/>
                </a:cubicBezTo>
                <a:lnTo>
                  <a:pt x="0" y="451959"/>
                </a:lnTo>
                <a:close/>
              </a:path>
            </a:pathLst>
          </a:custGeom>
          <a:noFill/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>
              <a:hueOff val="0"/>
              <a:satOff val="0"/>
              <a:lumOff val="0"/>
              <a:alphaOff val="0"/>
            </a:schemeClr>
          </a:lnRef>
          <a:fillRef idx="1">
            <a:schemeClr val="accent2">
              <a:tint val="40000"/>
              <a:hueOff val="0"/>
              <a:satOff val="0"/>
              <a:lumOff val="0"/>
              <a:alphaOff val="0"/>
            </a:schemeClr>
          </a:fillRef>
          <a:effectRef idx="2">
            <a:schemeClr val="accent2"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55960" rIns="255960" tIns="255960" bIns="3419640" anchor="ctr">
            <a:noAutofit/>
            <a:scene3d>
              <a:camera prst="isometricOffAxis1Right"/>
              <a:lightRig dir="t" rig="threePt"/>
            </a:scene3d>
          </a:bodyPr>
          <a:p>
            <a:pPr>
              <a:lnSpc>
                <a:spcPct val="90000"/>
              </a:lnSpc>
              <a:spcAft>
                <a:spcPts val="1261"/>
              </a:spcAft>
            </a:pPr>
            <a:endParaRPr b="1" lang="en-US" sz="36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172" name="任意多边形 7"/>
          <p:cNvSpPr/>
          <p:nvPr/>
        </p:nvSpPr>
        <p:spPr>
          <a:xfrm>
            <a:off x="1125360" y="2779200"/>
            <a:ext cx="6825960" cy="2980080"/>
          </a:xfrm>
          <a:custGeom>
            <a:avLst/>
            <a:gdLst>
              <a:gd name="textAreaLeft" fmla="*/ 0 w 6825960"/>
              <a:gd name="textAreaRight" fmla="*/ 6826320 w 6825960"/>
              <a:gd name="textAreaTop" fmla="*/ 0 h 2980080"/>
              <a:gd name="textAreaBottom" fmla="*/ 2980440 h 2980080"/>
            </a:gdLst>
            <a:ahLst/>
            <a:rect l="textAreaLeft" t="textAreaTop" r="textAreaRight" b="textAreaBottom"/>
            <a:pathLst>
              <a:path w="6826475" h="2979224">
                <a:moveTo>
                  <a:pt x="0" y="297922"/>
                </a:moveTo>
                <a:cubicBezTo>
                  <a:pt x="0" y="133384"/>
                  <a:pt x="133384" y="0"/>
                  <a:pt x="297922" y="0"/>
                </a:cubicBezTo>
                <a:lnTo>
                  <a:pt x="6528553" y="0"/>
                </a:lnTo>
                <a:cubicBezTo>
                  <a:pt x="6693091" y="0"/>
                  <a:pt x="6826475" y="133384"/>
                  <a:pt x="6826475" y="297922"/>
                </a:cubicBezTo>
                <a:lnTo>
                  <a:pt x="6826475" y="2681302"/>
                </a:lnTo>
                <a:cubicBezTo>
                  <a:pt x="6826475" y="2845840"/>
                  <a:pt x="6693091" y="2979224"/>
                  <a:pt x="6528553" y="2979224"/>
                </a:cubicBezTo>
                <a:lnTo>
                  <a:pt x="297922" y="2979224"/>
                </a:lnTo>
                <a:cubicBezTo>
                  <a:pt x="133384" y="2979224"/>
                  <a:pt x="0" y="2845840"/>
                  <a:pt x="0" y="2681302"/>
                </a:cubicBezTo>
                <a:lnTo>
                  <a:pt x="0" y="297922"/>
                </a:lnTo>
                <a:close/>
              </a:path>
            </a:pathLst>
          </a:custGeom>
          <a:noFill/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>
              <a:shade val="80000"/>
              <a:hueOff val="0"/>
              <a:satOff val="0"/>
              <a:lumOff val="0"/>
              <a:alphaOff val="0"/>
            </a:schemeClr>
          </a:lnRef>
          <a:fillRef idx="3">
            <a:schemeClr val="lt1">
              <a:hueOff val="0"/>
              <a:satOff val="0"/>
              <a:lumOff val="0"/>
              <a:alphaOff val="0"/>
            </a:schemeClr>
          </a:fillRef>
          <a:effectRef idx="2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05120" rIns="105120" tIns="105120" bIns="105120" anchor="ctr">
            <a:noAutofit/>
          </a:bodyPr>
          <a:p>
            <a:pPr>
              <a:lnSpc>
                <a:spcPct val="150000"/>
              </a:lnSpc>
              <a:spcAft>
                <a:spcPts val="981"/>
              </a:spcAft>
              <a:tabLst>
                <a:tab algn="l" pos="0"/>
              </a:tabLst>
            </a:pPr>
            <a:endParaRPr b="1" lang="en-US" sz="2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992160" y="2652120"/>
            <a:ext cx="7218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Aft>
                <a:spcPts val="42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同学们自由朗读课文，注意读准字音，读通句子，难读的地方多读几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5"/>
          <p:cNvGrpSpPr/>
          <p:nvPr/>
        </p:nvGrpSpPr>
        <p:grpSpPr>
          <a:xfrm>
            <a:off x="923760" y="1261440"/>
            <a:ext cx="2287080" cy="1109160"/>
            <a:chOff x="923760" y="1261440"/>
            <a:chExt cx="2287080" cy="1109160"/>
          </a:xfrm>
        </p:grpSpPr>
        <p:grpSp>
          <p:nvGrpSpPr>
            <p:cNvPr id="175" name="组合 4"/>
            <p:cNvGrpSpPr/>
            <p:nvPr/>
          </p:nvGrpSpPr>
          <p:grpSpPr>
            <a:xfrm>
              <a:off x="923760" y="1261440"/>
              <a:ext cx="2287080" cy="1109160"/>
              <a:chOff x="923760" y="1261440"/>
              <a:chExt cx="2287080" cy="1109160"/>
            </a:xfrm>
          </p:grpSpPr>
          <p:pic>
            <p:nvPicPr>
              <p:cNvPr id="176" name="Picture 10" descr="C:\Users\Administrator\Desktop\绿.png"/>
              <p:cNvPicPr/>
              <p:nvPr/>
            </p:nvPicPr>
            <p:blipFill>
              <a:blip r:embed="rId1"/>
              <a:stretch/>
            </p:blipFill>
            <p:spPr>
              <a:xfrm>
                <a:off x="923760" y="2032200"/>
                <a:ext cx="2287080" cy="33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923760" y="1261440"/>
                <a:ext cx="618840" cy="104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圆角矩形 16"/>
            <p:cNvSpPr/>
            <p:nvPr/>
          </p:nvSpPr>
          <p:spPr>
            <a:xfrm>
              <a:off x="1779480" y="1474920"/>
              <a:ext cx="1080360" cy="524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读提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6"/>
          <p:cNvSpPr/>
          <p:nvPr/>
        </p:nvSpPr>
        <p:spPr>
          <a:xfrm>
            <a:off x="3520800" y="2453040"/>
            <a:ext cx="161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女     轰  隆      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"/>
          <p:cNvSpPr/>
          <p:nvPr/>
        </p:nvSpPr>
        <p:spPr>
          <a:xfrm>
            <a:off x="1432080" y="4417560"/>
            <a:ext cx="672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挣        灭       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>
            <a:hlinkClick r:id="rId1" action="ppaction://hlinksldjump"/>
          </p:cNvPr>
          <p:cNvSpPr/>
          <p:nvPr/>
        </p:nvSpPr>
        <p:spPr>
          <a:xfrm>
            <a:off x="1998000" y="4458240"/>
            <a:ext cx="84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183" name="圆角矩形 5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5" name="矩形 7">
            <a:hlinkClick r:id="rId2" action="ppaction://hlinksldjump"/>
          </p:cNvPr>
          <p:cNvSpPr/>
          <p:nvPr/>
        </p:nvSpPr>
        <p:spPr>
          <a:xfrm>
            <a:off x="1950480" y="2401560"/>
            <a:ext cx="84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1976400" y="1915560"/>
            <a:ext cx="497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ā                   lōng                        t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0">
            <a:hlinkClick r:id="rId3" action="ppaction://hlinksldjump"/>
          </p:cNvPr>
          <p:cNvSpPr/>
          <p:nvPr/>
        </p:nvSpPr>
        <p:spPr>
          <a:xfrm>
            <a:off x="3611880" y="4432680"/>
            <a:ext cx="84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9">
            <a:hlinkClick r:id="rId4" action="ppaction://hlinksldjump"/>
          </p:cNvPr>
          <p:cNvSpPr/>
          <p:nvPr/>
        </p:nvSpPr>
        <p:spPr>
          <a:xfrm>
            <a:off x="6127200" y="4432680"/>
            <a:ext cx="84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1263600" y="3943440"/>
            <a:ext cx="774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á                 xī                             y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5">
            <a:hlinkClick r:id="rId5" action="ppaction://hlinksldjump"/>
          </p:cNvPr>
          <p:cNvSpPr/>
          <p:nvPr/>
        </p:nvSpPr>
        <p:spPr>
          <a:xfrm>
            <a:off x="3920760" y="2376000"/>
            <a:ext cx="84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">
            <a:hlinkClick r:id="rId6" action="ppaction://hlinksldjump"/>
          </p:cNvPr>
          <p:cNvSpPr/>
          <p:nvPr/>
        </p:nvSpPr>
        <p:spPr>
          <a:xfrm>
            <a:off x="6107400" y="2426760"/>
            <a:ext cx="84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Pages>0</Pages>
  <Words>4624</Words>
  <Characters>0</Characters>
  <CharactersWithSpaces>0</CharactersWithSpaces>
  <Paragraphs>2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10T03:20:25Z</dcterms:modified>
  <cp:revision>69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3</vt:r8>
  </property>
  <property fmtid="{D5CDD505-2E9C-101B-9397-08002B2CF9AE}" pid="3" name="KSOProductBuildVer">
    <vt:lpwstr>2052-11.1.0.8888</vt:lpwstr>
  </property>
  <property fmtid="{D5CDD505-2E9C-101B-9397-08002B2CF9AE}" pid="4" name="Notes">
    <vt:r8>5</vt:r8>
  </property>
  <property fmtid="{D5CDD505-2E9C-101B-9397-08002B2CF9AE}" pid="5" name="PresentationFormat">
    <vt:lpwstr>全屏显示(4:3)</vt:lpwstr>
  </property>
  <property fmtid="{D5CDD505-2E9C-101B-9397-08002B2CF9AE}" pid="6" name="Slides">
    <vt:r8>48</vt:r8>
  </property>
</Properties>
</file>