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11.gif" ContentType="image/gif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#1">
  <dgm:title val=""/>
  <dgm:desc val=""/>
  <dgm:catLst>
    <dgm:cat type="accent1" pri="11200"/>
  </dgm:catLst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7AE8266-AA6A-4C10-9349-91C9A0B4BB5C}" type="doc">
      <dgm:prSet loTypeId="urn:microsoft.com/office/officeart/2005/8/layout/vList2#1" loCatId="list" qsTypeId="urn:microsoft.com/office/officeart/2005/8/quickstyle/simple1#1" qsCatId="simple" csTypeId="urn:microsoft.com/office/officeart/2005/8/colors/accent1_2#1" csCatId="accent1"/>
      <dgm:spPr/>
      <dgm:t>
        <a:bodyPr/>
        <a:lstStyle/>
        <a:p>
          <a:endParaRPr lang="zh-CN" altLang="en-US"/>
        </a:p>
      </dgm:t>
    </dgm:pt>
    <dgm:pt modelId="{95E84EC6-2C95-4A29-8512-2F458F6CCE59}">
      <dgm:prSet custT="1"/>
      <dgm:spPr/>
      <dgm:t>
        <a:bodyPr/>
        <a:lstStyle/>
        <a:p>
          <a:pPr rtl="0"/>
          <a:r>
            <a:rPr lang="zh-CN" sz="3200" dirty="0" smtClean="0"/>
            <a:t>（</a:t>
          </a:r>
          <a:r>
            <a:rPr lang="en-US" sz="3200" dirty="0" smtClean="0"/>
            <a:t>1</a:t>
          </a:r>
          <a:r>
            <a:rPr lang="zh-CN" sz="3200" dirty="0" smtClean="0"/>
            <a:t>）盘古为什么要开天辟地呢？</a:t>
          </a:r>
          <a:endParaRPr lang="zh-CN" sz="3200" dirty="0"/>
        </a:p>
      </dgm:t>
    </dgm:pt>
    <dgm:pt modelId="{5CAB8E0B-F6E8-47EB-9D3D-FB50DF08213B}" type="parTrans" cxnId="{539F00D9-58EE-461D-B708-CED69FD9E9D7}">
      <dgm:prSet/>
      <dgm:spPr/>
      <dgm:t>
        <a:bodyPr/>
        <a:lstStyle/>
        <a:p>
          <a:endParaRPr lang="zh-CN" altLang="en-US"/>
        </a:p>
      </dgm:t>
    </dgm:pt>
    <dgm:pt modelId="{67F278E6-188A-4268-A1C0-BC9FAE317BAF}" type="sibTrans" cxnId="{539F00D9-58EE-461D-B708-CED69FD9E9D7}">
      <dgm:prSet/>
      <dgm:spPr/>
      <dgm:t>
        <a:bodyPr/>
        <a:lstStyle/>
        <a:p>
          <a:endParaRPr lang="zh-CN" altLang="en-US"/>
        </a:p>
      </dgm:t>
    </dgm:pt>
    <dgm:pt modelId="{DB72E15F-FCBB-4BD2-92BA-ED72CA65B913}">
      <dgm:prSet custT="1"/>
      <dgm:spPr/>
      <dgm:t>
        <a:bodyPr/>
        <a:lstStyle/>
        <a:p>
          <a:pPr rtl="0"/>
          <a:r>
            <a:rPr lang="zh-CN" sz="3200" dirty="0" smtClean="0"/>
            <a:t>（</a:t>
          </a:r>
          <a:r>
            <a:rPr lang="en-US" sz="3200" dirty="0" smtClean="0"/>
            <a:t>2</a:t>
          </a:r>
          <a:r>
            <a:rPr lang="zh-CN" sz="3200" dirty="0" smtClean="0"/>
            <a:t>）联系上下文理解“混沌”的意思。</a:t>
          </a:r>
          <a:endParaRPr lang="zh-CN" sz="3200" dirty="0"/>
        </a:p>
      </dgm:t>
    </dgm:pt>
    <dgm:pt modelId="{20FAD39A-D73C-4671-96E3-9B3C9576F8E3}" type="parTrans" cxnId="{05E58762-9708-4ABB-8540-CF7BE882414C}">
      <dgm:prSet/>
      <dgm:spPr/>
      <dgm:t>
        <a:bodyPr/>
        <a:lstStyle/>
        <a:p>
          <a:endParaRPr lang="zh-CN" altLang="en-US"/>
        </a:p>
      </dgm:t>
    </dgm:pt>
    <dgm:pt modelId="{33AE41B3-EFE0-4D9A-A2AD-AB9B6498924B}" type="sibTrans" cxnId="{05E58762-9708-4ABB-8540-CF7BE882414C}">
      <dgm:prSet/>
      <dgm:spPr/>
      <dgm:t>
        <a:bodyPr/>
        <a:lstStyle/>
        <a:p>
          <a:endParaRPr lang="zh-CN" altLang="en-US"/>
        </a:p>
      </dgm:t>
    </dgm:pt>
    <dgm:pt modelId="{AA8F3D6E-AD98-4899-A54E-EEA75F930E23}" type="pres">
      <dgm:prSet presAssocID="{97AE8266-AA6A-4C10-9349-91C9A0B4BB5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9E2FF767-C002-41EB-B755-9E4202165890}" type="pres">
      <dgm:prSet presAssocID="{95E84EC6-2C95-4A29-8512-2F458F6CCE5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FB5EC93-94F3-400B-885F-B15BB718210D}" type="pres">
      <dgm:prSet presAssocID="{67F278E6-188A-4268-A1C0-BC9FAE317BAF}" presName="spacer" presStyleCnt="0"/>
      <dgm:spPr/>
    </dgm:pt>
    <dgm:pt modelId="{098C9994-165A-4DB3-A553-A1E8D31E4D41}" type="pres">
      <dgm:prSet presAssocID="{DB72E15F-FCBB-4BD2-92BA-ED72CA65B913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1EDB5B33-AEE4-42F9-A7A1-723A30D0CA45}" type="presOf" srcId="{DB72E15F-FCBB-4BD2-92BA-ED72CA65B913}" destId="{098C9994-165A-4DB3-A553-A1E8D31E4D41}" srcOrd="0" destOrd="0" presId="urn:microsoft.com/office/officeart/2005/8/layout/vList2#1"/>
    <dgm:cxn modelId="{539F00D9-58EE-461D-B708-CED69FD9E9D7}" srcId="{97AE8266-AA6A-4C10-9349-91C9A0B4BB5C}" destId="{95E84EC6-2C95-4A29-8512-2F458F6CCE59}" srcOrd="0" destOrd="0" parTransId="{5CAB8E0B-F6E8-47EB-9D3D-FB50DF08213B}" sibTransId="{67F278E6-188A-4268-A1C0-BC9FAE317BAF}"/>
    <dgm:cxn modelId="{05E58762-9708-4ABB-8540-CF7BE882414C}" srcId="{97AE8266-AA6A-4C10-9349-91C9A0B4BB5C}" destId="{DB72E15F-FCBB-4BD2-92BA-ED72CA65B913}" srcOrd="1" destOrd="0" parTransId="{20FAD39A-D73C-4671-96E3-9B3C9576F8E3}" sibTransId="{33AE41B3-EFE0-4D9A-A2AD-AB9B6498924B}"/>
    <dgm:cxn modelId="{20659421-4F20-4A4D-B1DE-C5C623CF6FFF}" type="presOf" srcId="{95E84EC6-2C95-4A29-8512-2F458F6CCE59}" destId="{9E2FF767-C002-41EB-B755-9E4202165890}" srcOrd="0" destOrd="0" presId="urn:microsoft.com/office/officeart/2005/8/layout/vList2#1"/>
    <dgm:cxn modelId="{96137AA9-3340-4F36-8960-043CAB0E07CC}" type="presOf" srcId="{97AE8266-AA6A-4C10-9349-91C9A0B4BB5C}" destId="{AA8F3D6E-AD98-4899-A54E-EEA75F930E23}" srcOrd="0" destOrd="0" presId="urn:microsoft.com/office/officeart/2005/8/layout/vList2#1"/>
    <dgm:cxn modelId="{DB685D8B-DA23-40C2-A9E8-CD8F5C057549}" type="presParOf" srcId="{AA8F3D6E-AD98-4899-A54E-EEA75F930E23}" destId="{9E2FF767-C002-41EB-B755-9E4202165890}" srcOrd="0" destOrd="0" presId="urn:microsoft.com/office/officeart/2005/8/layout/vList2#1"/>
    <dgm:cxn modelId="{1A07E6EA-2EB3-4281-B3A5-4A034DFBAA1B}" type="presParOf" srcId="{AA8F3D6E-AD98-4899-A54E-EEA75F930E23}" destId="{CFB5EC93-94F3-400B-885F-B15BB718210D}" srcOrd="1" destOrd="0" presId="urn:microsoft.com/office/officeart/2005/8/layout/vList2#1"/>
    <dgm:cxn modelId="{74C903AE-736C-47BE-99F2-B675023FD190}" type="presParOf" srcId="{AA8F3D6E-AD98-4899-A54E-EEA75F930E23}" destId="{098C9994-165A-4DB3-A553-A1E8D31E4D41}" srcOrd="2" destOrd="0" presId="urn:microsoft.com/office/officeart/2005/8/layout/vList2#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E2FF767-C002-41EB-B755-9E4202165890}">
      <dsp:nvSpPr>
        <dsp:cNvPr id="0" name=""/>
        <dsp:cNvSpPr/>
      </dsp:nvSpPr>
      <dsp:spPr>
        <a:xfrm>
          <a:off x="0" y="405"/>
          <a:ext cx="6320436" cy="662188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l" defTabSz="14224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sz="3200" kern="1200" dirty="0" smtClean="0"/>
            <a:t>（</a:t>
          </a:r>
          <a:r>
            <a:rPr lang="en-US" sz="3200" kern="1200" dirty="0" smtClean="0"/>
            <a:t>1</a:t>
          </a:r>
          <a:r>
            <a:rPr lang="zh-CN" sz="3200" kern="1200" dirty="0" smtClean="0"/>
            <a:t>）盘古为什么要开天辟地呢？</a:t>
          </a:r>
          <a:endParaRPr lang="zh-CN" sz="3200" kern="1200" dirty="0"/>
        </a:p>
      </dsp:txBody>
      <dsp:txXfrm>
        <a:off x="32325" y="32730"/>
        <a:ext cx="6255786" cy="597538"/>
      </dsp:txXfrm>
    </dsp:sp>
    <dsp:sp modelId="{098C9994-165A-4DB3-A553-A1E8D31E4D41}">
      <dsp:nvSpPr>
        <dsp:cNvPr id="0" name=""/>
        <dsp:cNvSpPr/>
      </dsp:nvSpPr>
      <dsp:spPr>
        <a:xfrm>
          <a:off x="0" y="669758"/>
          <a:ext cx="6320436" cy="662188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l" defTabSz="14224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sz="3200" kern="1200" dirty="0" smtClean="0"/>
            <a:t>（</a:t>
          </a:r>
          <a:r>
            <a:rPr lang="en-US" sz="3200" kern="1200" dirty="0" smtClean="0"/>
            <a:t>2</a:t>
          </a:r>
          <a:r>
            <a:rPr lang="zh-CN" sz="3200" kern="1200" dirty="0" smtClean="0"/>
            <a:t>）联系上下文理解“混沌”的意思。</a:t>
          </a:r>
          <a:endParaRPr lang="zh-CN" sz="3200" kern="1200" dirty="0"/>
        </a:p>
      </dsp:txBody>
      <dsp:txXfrm>
        <a:off x="32325" y="702083"/>
        <a:ext cx="6255786" cy="5975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#1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lnSpAfChP" val="20"/>
              <dgm:param type="stBulletLvl" val="1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#1">
  <dgm:title val=""/>
  <dgm:desc val=""/>
  <dgm:catLst>
    <dgm:cat type="simple" pri="10100"/>
  </dgm:catLst>
  <dgm:scene3d>
    <a:camera prst="orthographicFront"/>
    <a:lightRig rig="threePt" dir="t"/>
  </dgm:scene3d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EAD6E7-A144-4735-A25B-15DD1406A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81291D-7752-4E71-B865-880EAEB063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ED965F-7D18-4A44-B631-FB4921B9A3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E6322C-2D60-4C2A-97B0-80DC467856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7A8004-CE22-4C52-A5F2-924540774B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97FC52-7895-44EE-B2A8-6D2712A575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C07ED8-8444-4095-82FE-48B1D2D0DA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614D2F-A497-4594-8F4E-8CEA0A5B70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076181-A820-48D9-A4B1-597D9727E0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445FEB-A75E-4A40-8E3D-D8BFC818B0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8A3892-5B0A-45FD-B4E6-46950813B4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037-0F61-48BB-AECB-EBE46D12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F00-D233-4466-9A0B-B9D11B33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E12-16B6-416F-B734-BF1CA917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5E1-FCFB-44EB-B446-1E61655C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8F97-AEF4-4DB6-BCE8-5E9E1A7C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F222-C904-45D6-93E7-DC5D249D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D7FC-F437-423B-A9CC-5F29D270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3002-E2C9-4B50-8F59-366812DF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2C05-8379-4B57-88F6-FC28CE7D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66204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D377-D039-4416-95FA-74671F91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0A12-B137-4FEB-B9B3-33AE920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DC2-F4BE-4801-88B8-815E643F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C50F-0D06-449A-BA4D-310ADFC0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6835-0C65-413D-AC33-1BF81D1E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AFEB-A4A0-49F7-9BD1-6EC08737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D6A6-03AB-4A46-B5A0-E471E66B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B2C5-14B4-4359-8BB9-2EF38539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6E8-D67C-4526-99B6-11870B1A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5E6-312E-47D7-80FB-EE10DABB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22D-09E7-499A-B793-D9B4F810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662040"/>
            <a:ext cx="7886520" cy="32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1D7-8F30-421C-A295-05ED63FD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818-6304-42DB-8C92-C21187E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788-B6A2-4D0C-A56F-8AEDA66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415-857C-4BE5-ABAC-1BC077A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257040" indent="-257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0000"/>
              </a:lnSpc>
              <a:spcBef>
                <a:spcPts val="4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4ED633-3C8E-4F8B-A7D5-B350C81DB588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662040"/>
            <a:ext cx="7886520" cy="697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0FDA2C-062C-4361-9EFA-AA485BC7139B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473544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"/>
          <p:cNvSpPr/>
          <p:nvPr/>
        </p:nvSpPr>
        <p:spPr>
          <a:xfrm>
            <a:off x="0" y="771840"/>
            <a:ext cx="9143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盘古开天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0" y="4532400"/>
            <a:ext cx="914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2" descr=""/>
          <p:cNvPicPr/>
          <p:nvPr/>
        </p:nvPicPr>
        <p:blipFill>
          <a:blip r:embed="rId1"/>
          <a:stretch/>
        </p:blipFill>
        <p:spPr>
          <a:xfrm>
            <a:off x="0" y="-3960"/>
            <a:ext cx="863640" cy="9640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"/>
          <p:cNvSpPr/>
          <p:nvPr/>
        </p:nvSpPr>
        <p:spPr>
          <a:xfrm>
            <a:off x="864000" y="283680"/>
            <a:ext cx="5185440" cy="281160"/>
          </a:xfrm>
          <a:prstGeom prst="rect">
            <a:avLst/>
          </a:prstGeom>
          <a:solidFill>
            <a:srgbClr val="e54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思考：盘古究竟是怎样创造宇宙的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845280" y="1082880"/>
            <a:ext cx="7804080" cy="3877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有一天，盘古醒来了，睁眼一看，周围黑乎乎一片，什么也看不见。他一使劲翻身坐了起来，只听咔嚓一声，“大鸡蛋”裂开了一条缝，一丝微光透了进来。巨人见身边有一把斧头，就拿起斧头，对着眼前的黑暗劈过去，只听见一声巨响，“大鸡蛋”碎了。轻而清的东西，缓缓上升，变成了天；重而浊的东西，慢慢下降，变成了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圆角矩形标注 6"/>
          <p:cNvSpPr/>
          <p:nvPr/>
        </p:nvSpPr>
        <p:spPr>
          <a:xfrm>
            <a:off x="567720" y="2049120"/>
            <a:ext cx="8004600" cy="1640520"/>
          </a:xfrm>
          <a:prstGeom prst="wedgeRoundRectCallout">
            <a:avLst>
              <a:gd name="adj1" fmla="val 33995"/>
              <a:gd name="adj2" fmla="val 69963"/>
              <a:gd name="adj3" fmla="val 16667"/>
            </a:avLst>
          </a:prstGeom>
          <a:solidFill>
            <a:srgbClr val="c0e39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chemeClr val="lt1"/>
                </a:solidFill>
                <a:latin typeface="Calibri"/>
              </a:rPr>
              <a:t>赏析：“轻”和“清”两个字写出了上升东西的特点，因“轻”而升，因“清”而使这个世界变得纯净；“重”和“浊”写出了下降东西的特点，因“重”而降，因“浊”的东西下降沉淀后，才变成地。这段话运用形象的对比，动态地描写出了天地形成时的情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034640" cy="7750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2"/>
          <p:cNvSpPr/>
          <p:nvPr/>
        </p:nvSpPr>
        <p:spPr>
          <a:xfrm>
            <a:off x="922680" y="277560"/>
            <a:ext cx="1428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句段精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517680" y="716040"/>
            <a:ext cx="8128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轻而清的东西，缓缓上升，变成了天；重而浊的东西，慢慢下降，变成了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7266240" y="3798720"/>
            <a:ext cx="1306080" cy="13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034640" cy="77508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2"/>
          <p:cNvSpPr/>
          <p:nvPr/>
        </p:nvSpPr>
        <p:spPr>
          <a:xfrm>
            <a:off x="922680" y="277560"/>
            <a:ext cx="1428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句段精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515880" y="2125800"/>
            <a:ext cx="8128080" cy="70740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赏析：“怕”写出了盘古头顶天，脚踏地的原因。“顶”和“踏”形象地写出了盘古支撑着天地时的动作，准确地刻画出了盘古雄伟、高大的形象。从这句话中，我们可以感受到盘古为了开天辟地，勇于献出自己生命的决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457200" y="716040"/>
            <a:ext cx="8368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天和地分开后，盘古怕它们还会合在一起，就头顶天，脚踏地，站在天地当中，随着它们的变化而变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"/>
          <p:cNvSpPr/>
          <p:nvPr/>
        </p:nvSpPr>
        <p:spPr>
          <a:xfrm>
            <a:off x="480240" y="963720"/>
            <a:ext cx="8128080" cy="281160"/>
          </a:xfrm>
          <a:prstGeom prst="rect">
            <a:avLst/>
          </a:prstGeom>
          <a:solidFill>
            <a:srgbClr val="97e3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天每天升高一丈，地每天加厚一丈，盘古的身体也跟着长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480240" y="2179440"/>
            <a:ext cx="7151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丈：市制长度单位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丈等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尺；古时对老年男子的尊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3" descr=""/>
          <p:cNvPicPr/>
          <p:nvPr/>
        </p:nvPicPr>
        <p:blipFill>
          <a:blip r:embed="rId1"/>
          <a:stretch/>
        </p:blipFill>
        <p:spPr>
          <a:xfrm>
            <a:off x="6924240" y="1838520"/>
            <a:ext cx="2098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"/>
          <p:cNvSpPr/>
          <p:nvPr/>
        </p:nvSpPr>
        <p:spPr>
          <a:xfrm>
            <a:off x="521640" y="392040"/>
            <a:ext cx="81280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这样过了一万八千年，天升得高极了，地变得厚极了。盘古这个巍峨的巨人就像一根柱子，撑在天和地之间，不让它们重新合拢。又不知过了多少年，天和地终于成形了，盘古也精疲力竭，累的倒下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521640" y="437760"/>
            <a:ext cx="8128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天和地形成了，可是我们的大英雄盘古却支撑不住倒下了，你想对盘古说些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" descr=""/>
          <p:cNvPicPr/>
          <p:nvPr/>
        </p:nvPicPr>
        <p:blipFill>
          <a:blip r:embed="rId1"/>
          <a:stretch/>
        </p:blipFill>
        <p:spPr>
          <a:xfrm>
            <a:off x="390960" y="1966680"/>
            <a:ext cx="8361720" cy="26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05040" cy="80424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2"/>
          <p:cNvSpPr/>
          <p:nvPr/>
        </p:nvSpPr>
        <p:spPr>
          <a:xfrm>
            <a:off x="1019520" y="240840"/>
            <a:ext cx="5487120" cy="281160"/>
          </a:xfrm>
          <a:prstGeom prst="rect">
            <a:avLst/>
          </a:prstGeom>
          <a:solidFill>
            <a:srgbClr val="f8b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读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自然段，找出描写盘古身体变化的句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019520" y="633240"/>
            <a:ext cx="5911560" cy="26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呼出的气息，变成了四季的风和飘动的云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发出的声音化作了隆隆的雷声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的左眼变成了太阳，照耀大地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的右眼变成了月亮，给夜晚带来光明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的四肢和躯干变成了大地的四极和五方的名山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的血液变成了奔流不息的江河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的汗毛变成了茂盛的花草树木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他的汗水变成了滋润万物的雨露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" descr=""/>
          <p:cNvPicPr/>
          <p:nvPr/>
        </p:nvPicPr>
        <p:blipFill>
          <a:blip r:embed="rId2"/>
          <a:stretch/>
        </p:blipFill>
        <p:spPr>
          <a:xfrm>
            <a:off x="6172200" y="1811160"/>
            <a:ext cx="297144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457200" y="816840"/>
            <a:ext cx="43347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盘古用他的身体创造了美丽的宇宙，可是他却没有来得及看一眼这缤纷的世界，学习了这篇课文，你觉得盘古是一个怎样的人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图片 2"/>
          <p:cNvSpPr/>
          <p:nvPr/>
        </p:nvSpPr>
        <p:spPr>
          <a:xfrm flipH="1" rot="300600">
            <a:off x="4800240" y="989280"/>
            <a:ext cx="4070520" cy="2770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2"/>
          <p:cNvSpPr/>
          <p:nvPr/>
        </p:nvSpPr>
        <p:spPr>
          <a:xfrm>
            <a:off x="521640" y="331200"/>
            <a:ext cx="8128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通过盘古的创造，宇宙从混沌变得美丽，从此有了蓝天白云、青山碧水、绿树红花，可是你们觉不觉得还缺点什么呢？人类是怎样出现的？请同学们在神话故事中去找找答案吧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6519240" y="2756520"/>
            <a:ext cx="213012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5" descr=""/>
          <p:cNvPicPr/>
          <p:nvPr/>
        </p:nvPicPr>
        <p:blipFill>
          <a:blip r:embed="rId1"/>
          <a:stretch/>
        </p:blipFill>
        <p:spPr>
          <a:xfrm>
            <a:off x="204120" y="2783880"/>
            <a:ext cx="1989360" cy="1989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65240" cy="522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1"/>
          <p:cNvSpPr/>
          <p:nvPr/>
        </p:nvSpPr>
        <p:spPr>
          <a:xfrm>
            <a:off x="2012400" y="564480"/>
            <a:ext cx="511848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盘古开天　　女娲造人　　女娲补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大禹治水　　后羿射日　　愚公移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精卫填海　　夸父追日　　浑沌凿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共工触山　　燧人取火　　嫘祖养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刑天断首　　仓颉造字　　嫦娥奔月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949680" y="42120"/>
            <a:ext cx="992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中国经典神话故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4" descr=""/>
          <p:cNvPicPr/>
          <p:nvPr/>
        </p:nvPicPr>
        <p:blipFill>
          <a:blip r:embed="rId3"/>
          <a:stretch/>
        </p:blipFill>
        <p:spPr>
          <a:xfrm>
            <a:off x="7099200" y="0"/>
            <a:ext cx="204444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752400" y="921240"/>
            <a:ext cx="763848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认识本课生字，正确、美观地书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能正确、流利地朗读课文，理解课文的主要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通过对重点词句的品味，感受盘古的神力及巍峨的形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凭借具体的语言材料，了解神话故事想象丰富的特点，感受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古伟大的献身精神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322280" cy="98676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5"/>
          <p:cNvSpPr/>
          <p:nvPr/>
        </p:nvSpPr>
        <p:spPr>
          <a:xfrm>
            <a:off x="1130760" y="493560"/>
            <a:ext cx="1424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学习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1"/>
          <p:cNvGrpSpPr/>
          <p:nvPr/>
        </p:nvGrpSpPr>
        <p:grpSpPr>
          <a:xfrm>
            <a:off x="2756520" y="1433880"/>
            <a:ext cx="4772520" cy="1942200"/>
            <a:chOff x="2756520" y="1433880"/>
            <a:chExt cx="4772520" cy="1942200"/>
          </a:xfrm>
        </p:grpSpPr>
        <p:pic>
          <p:nvPicPr>
            <p:cNvPr id="171" name="图片 4" descr=""/>
            <p:cNvPicPr/>
            <p:nvPr/>
          </p:nvPicPr>
          <p:blipFill>
            <a:blip r:embed="rId1"/>
            <a:stretch/>
          </p:blipFill>
          <p:spPr>
            <a:xfrm>
              <a:off x="2756520" y="1433880"/>
              <a:ext cx="2930400" cy="19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图片 5" descr=""/>
            <p:cNvPicPr/>
            <p:nvPr/>
          </p:nvPicPr>
          <p:blipFill>
            <a:blip r:embed="rId2"/>
            <a:stretch/>
          </p:blipFill>
          <p:spPr>
            <a:xfrm>
              <a:off x="4598640" y="1446840"/>
              <a:ext cx="2930400" cy="192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2" descr=""/>
          <p:cNvPicPr/>
          <p:nvPr/>
        </p:nvPicPr>
        <p:blipFill>
          <a:blip r:embed="rId1"/>
          <a:stretch/>
        </p:blipFill>
        <p:spPr>
          <a:xfrm>
            <a:off x="0" y="0"/>
            <a:ext cx="2349720" cy="5461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6"/>
          <p:cNvSpPr/>
          <p:nvPr/>
        </p:nvSpPr>
        <p:spPr>
          <a:xfrm>
            <a:off x="743040" y="925920"/>
            <a:ext cx="1567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"/>
          <p:cNvSpPr/>
          <p:nvPr/>
        </p:nvSpPr>
        <p:spPr>
          <a:xfrm>
            <a:off x="2728800" y="961920"/>
            <a:ext cx="1567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zhu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"/>
          <p:cNvSpPr/>
          <p:nvPr/>
        </p:nvSpPr>
        <p:spPr>
          <a:xfrm>
            <a:off x="4713120" y="952560"/>
            <a:ext cx="1567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zhà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"/>
          <p:cNvSpPr/>
          <p:nvPr/>
        </p:nvSpPr>
        <p:spPr>
          <a:xfrm>
            <a:off x="6988680" y="952560"/>
            <a:ext cx="1567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ó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9"/>
          <p:cNvSpPr/>
          <p:nvPr/>
        </p:nvSpPr>
        <p:spPr>
          <a:xfrm>
            <a:off x="743040" y="2369880"/>
            <a:ext cx="1567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zh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"/>
          <p:cNvSpPr/>
          <p:nvPr/>
        </p:nvSpPr>
        <p:spPr>
          <a:xfrm>
            <a:off x="2728800" y="2405880"/>
            <a:ext cx="1567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"/>
          <p:cNvSpPr/>
          <p:nvPr/>
        </p:nvSpPr>
        <p:spPr>
          <a:xfrm>
            <a:off x="4714920" y="2396520"/>
            <a:ext cx="1567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3"/>
          <p:cNvSpPr/>
          <p:nvPr/>
        </p:nvSpPr>
        <p:spPr>
          <a:xfrm>
            <a:off x="291960" y="54000"/>
            <a:ext cx="1297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我会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2"/>
          <a:stretch/>
        </p:blipFill>
        <p:spPr>
          <a:xfrm>
            <a:off x="6555240" y="2914560"/>
            <a:ext cx="179676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12"/>
          <p:cNvSpPr/>
          <p:nvPr/>
        </p:nvSpPr>
        <p:spPr>
          <a:xfrm>
            <a:off x="1412280" y="661320"/>
            <a:ext cx="6286320" cy="374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6ff"/>
              </a:gs>
              <a:gs pos="100000">
                <a:srgbClr val="5be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2384640" cy="57924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6"/>
          <p:cNvSpPr/>
          <p:nvPr/>
        </p:nvSpPr>
        <p:spPr>
          <a:xfrm>
            <a:off x="291960" y="54000"/>
            <a:ext cx="1297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我会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1640160" y="685800"/>
            <a:ext cx="58636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黑乎乎   上升   下降   精疲力竭  倒下   血液   奔流不息   汗毛  茂盛   雨露   祖宗   混沌   巍峨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3"/>
          <p:cNvSpPr/>
          <p:nvPr/>
        </p:nvSpPr>
        <p:spPr>
          <a:xfrm>
            <a:off x="717120" y="299880"/>
            <a:ext cx="1103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我会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1116360" y="103824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" descr=""/>
          <p:cNvPicPr/>
          <p:nvPr/>
        </p:nvPicPr>
        <p:blipFill>
          <a:blip r:embed="rId2"/>
          <a:stretch/>
        </p:blipFill>
        <p:spPr>
          <a:xfrm>
            <a:off x="3897000" y="103824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"/>
          <p:cNvPicPr/>
          <p:nvPr/>
        </p:nvPicPr>
        <p:blipFill>
          <a:blip r:embed="rId3"/>
          <a:stretch/>
        </p:blipFill>
        <p:spPr>
          <a:xfrm>
            <a:off x="45720" y="0"/>
            <a:ext cx="726480" cy="8089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" descr=""/>
          <p:cNvPicPr/>
          <p:nvPr/>
        </p:nvPicPr>
        <p:blipFill>
          <a:blip r:embed="rId4"/>
          <a:stretch/>
        </p:blipFill>
        <p:spPr>
          <a:xfrm>
            <a:off x="6807240" y="103824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8" descr=""/>
          <p:cNvPicPr/>
          <p:nvPr/>
        </p:nvPicPr>
        <p:blipFill>
          <a:blip r:embed="rId5"/>
          <a:stretch/>
        </p:blipFill>
        <p:spPr>
          <a:xfrm>
            <a:off x="3897000" y="284436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9" descr=""/>
          <p:cNvPicPr/>
          <p:nvPr/>
        </p:nvPicPr>
        <p:blipFill>
          <a:blip r:embed="rId6"/>
          <a:stretch/>
        </p:blipFill>
        <p:spPr>
          <a:xfrm>
            <a:off x="1116360" y="284436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0" descr=""/>
          <p:cNvPicPr/>
          <p:nvPr/>
        </p:nvPicPr>
        <p:blipFill>
          <a:blip r:embed="rId7"/>
          <a:stretch/>
        </p:blipFill>
        <p:spPr>
          <a:xfrm>
            <a:off x="6807240" y="284436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" descr=""/>
          <p:cNvPicPr/>
          <p:nvPr/>
        </p:nvPicPr>
        <p:blipFill>
          <a:blip r:embed="rId8"/>
          <a:stretch/>
        </p:blipFill>
        <p:spPr>
          <a:xfrm flipH="1">
            <a:off x="7584840" y="186840"/>
            <a:ext cx="15591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3"/>
          <p:cNvSpPr/>
          <p:nvPr/>
        </p:nvSpPr>
        <p:spPr>
          <a:xfrm>
            <a:off x="717120" y="299880"/>
            <a:ext cx="1103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我会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2" descr=""/>
          <p:cNvPicPr/>
          <p:nvPr/>
        </p:nvPicPr>
        <p:blipFill>
          <a:blip r:embed="rId1"/>
          <a:stretch/>
        </p:blipFill>
        <p:spPr>
          <a:xfrm>
            <a:off x="1145880" y="103824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5" descr=""/>
          <p:cNvPicPr/>
          <p:nvPr/>
        </p:nvPicPr>
        <p:blipFill>
          <a:blip r:embed="rId2"/>
          <a:stretch/>
        </p:blipFill>
        <p:spPr>
          <a:xfrm>
            <a:off x="3897000" y="51912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6" descr=""/>
          <p:cNvPicPr/>
          <p:nvPr/>
        </p:nvPicPr>
        <p:blipFill>
          <a:blip r:embed="rId3"/>
          <a:stretch/>
        </p:blipFill>
        <p:spPr>
          <a:xfrm>
            <a:off x="45720" y="0"/>
            <a:ext cx="726480" cy="80892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7" descr=""/>
          <p:cNvPicPr/>
          <p:nvPr/>
        </p:nvPicPr>
        <p:blipFill>
          <a:blip r:embed="rId4"/>
          <a:stretch/>
        </p:blipFill>
        <p:spPr>
          <a:xfrm>
            <a:off x="6648120" y="103824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8" descr=""/>
          <p:cNvPicPr/>
          <p:nvPr/>
        </p:nvPicPr>
        <p:blipFill>
          <a:blip r:embed="rId5"/>
          <a:stretch/>
        </p:blipFill>
        <p:spPr>
          <a:xfrm>
            <a:off x="2813040" y="284436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9" descr=""/>
          <p:cNvPicPr/>
          <p:nvPr/>
        </p:nvPicPr>
        <p:blipFill>
          <a:blip r:embed="rId6"/>
          <a:stretch/>
        </p:blipFill>
        <p:spPr>
          <a:xfrm>
            <a:off x="521640" y="284436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0" descr=""/>
          <p:cNvPicPr/>
          <p:nvPr/>
        </p:nvPicPr>
        <p:blipFill>
          <a:blip r:embed="rId7"/>
          <a:stretch/>
        </p:blipFill>
        <p:spPr>
          <a:xfrm>
            <a:off x="4967640" y="2787840"/>
            <a:ext cx="1349640" cy="1349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1" descr=""/>
          <p:cNvPicPr/>
          <p:nvPr/>
        </p:nvPicPr>
        <p:blipFill>
          <a:blip r:embed="rId8"/>
          <a:stretch/>
        </p:blipFill>
        <p:spPr>
          <a:xfrm>
            <a:off x="2809080" y="809280"/>
            <a:ext cx="742680" cy="5792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3" descr=""/>
          <p:cNvPicPr/>
          <p:nvPr/>
        </p:nvPicPr>
        <p:blipFill>
          <a:blip r:embed="rId9"/>
          <a:stretch/>
        </p:blipFill>
        <p:spPr>
          <a:xfrm>
            <a:off x="6648120" y="352440"/>
            <a:ext cx="791640" cy="685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4" descr="t010d56e069239dccf5.png"/>
          <p:cNvPicPr/>
          <p:nvPr/>
        </p:nvPicPr>
        <p:blipFill>
          <a:blip r:embed="rId10"/>
          <a:stretch/>
        </p:blipFill>
        <p:spPr>
          <a:xfrm>
            <a:off x="6978240" y="273528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" descr=""/>
          <p:cNvPicPr/>
          <p:nvPr/>
        </p:nvPicPr>
        <p:blipFill>
          <a:blip r:embed="rId1"/>
          <a:stretch/>
        </p:blipFill>
        <p:spPr>
          <a:xfrm>
            <a:off x="0" y="-3960"/>
            <a:ext cx="863640" cy="9640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4"/>
          <p:cNvSpPr/>
          <p:nvPr/>
        </p:nvSpPr>
        <p:spPr>
          <a:xfrm>
            <a:off x="864000" y="283680"/>
            <a:ext cx="6132240" cy="281160"/>
          </a:xfrm>
          <a:prstGeom prst="rect">
            <a:avLst/>
          </a:prstGeom>
          <a:solidFill>
            <a:srgbClr val="e54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思考：能不能用书上的语句来概括课文内容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014840" y="1418760"/>
            <a:ext cx="6728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人类的老祖宗盘古，用他的整个身体创造了美丽的宇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88280" y="2055960"/>
            <a:ext cx="442224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像这样能够概括文章主要内容的句子，我们把它叫做文章的中心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5" descr=""/>
          <p:cNvPicPr/>
          <p:nvPr/>
        </p:nvPicPr>
        <p:blipFill>
          <a:blip r:embed="rId2"/>
          <a:stretch/>
        </p:blipFill>
        <p:spPr>
          <a:xfrm>
            <a:off x="6172200" y="1811160"/>
            <a:ext cx="297144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24505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"/>
          <p:cNvSpPr/>
          <p:nvPr/>
        </p:nvSpPr>
        <p:spPr>
          <a:xfrm>
            <a:off x="906120" y="130680"/>
            <a:ext cx="1428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段落大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521640" y="699840"/>
            <a:ext cx="812808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一部分（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自然段）：讲天和地没有分开时候的样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二部分（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自然段）：讲盘古醒来后用自己的神力和身躯开辟了天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第三部分（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自然段）：讲盘古倒下后用自己的身躯化出世间万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05040" cy="80424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2"/>
          <p:cNvSpPr/>
          <p:nvPr/>
        </p:nvSpPr>
        <p:spPr>
          <a:xfrm>
            <a:off x="1019520" y="240840"/>
            <a:ext cx="4499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读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自然段，思考下列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224874144"/>
              </p:ext>
            </p:extLst>
          </p:nvPr>
        </p:nvGraphicFramePr>
        <p:xfrm>
          <a:off x="1104480" y="1419120"/>
          <a:ext cx="6320160" cy="1332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pic>
        <p:nvPicPr>
          <p:cNvPr id="138" name="图片 5" descr=""/>
          <p:cNvPicPr/>
          <p:nvPr/>
        </p:nvPicPr>
        <p:blipFill>
          <a:blip r:embed="rId7"/>
          <a:stretch/>
        </p:blipFill>
        <p:spPr>
          <a:xfrm>
            <a:off x="6924240" y="1838520"/>
            <a:ext cx="2098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1053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7:05:00Z</dcterms:created>
  <dc:creator>第一PPT模板网-WWW.1PPT.COM</dc:creator>
  <dc:description/>
  <cp:keywords>第一PPT模板网-WWW.1PPT.COM</cp:keywords>
  <dc:language>en-US</dc:language>
  <cp:lastModifiedBy>amt</cp:lastModifiedBy>
  <dcterms:modified xsi:type="dcterms:W3CDTF">2020-03-30T10:16:22Z</dcterms:modified>
  <cp:revision>149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76</vt:lpwstr>
  </property>
  <property fmtid="{D5CDD505-2E9C-101B-9397-08002B2CF9AE}" pid="3" name="Notes">
    <vt:r8>10</vt:r8>
  </property>
  <property fmtid="{D5CDD505-2E9C-101B-9397-08002B2CF9AE}" pid="4" name="PresentationFormat">
    <vt:lpwstr>全屏显示(16:9)</vt:lpwstr>
  </property>
  <property fmtid="{D5CDD505-2E9C-101B-9397-08002B2CF9AE}" pid="5" name="Slides">
    <vt:r8>21</vt:r8>
  </property>
</Properties>
</file>