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A7EEA5-DB89-4322-BC33-3CA93E2E6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0AAAA-0980-4A4A-972E-2DF2CF3AE6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196-0520-4FEB-B663-AAA08AEC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ADC-C34E-405F-9F77-6066FCB7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B5C-8309-40E3-870B-5106E597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5AB-698A-4B88-88E8-DDBA749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448-AA4F-4AA5-B57F-0BB5783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D5B-2A09-4040-8099-69285F66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C4E-6EEB-496F-8D0A-8319C9F5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61D-707E-44C1-A16B-4306599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809-D59E-46F2-B4EF-7DAFC9D5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FB2-87DF-485D-BFBC-FB53B25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5EF-3231-4342-9935-8BD15DF6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BC7-FF02-4845-BD88-878E05A5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5EFFDAC-C1E8-4372-B9D7-F156B39478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"/>
          <p:cNvSpPr/>
          <p:nvPr/>
        </p:nvSpPr>
        <p:spPr>
          <a:xfrm>
            <a:off x="4210560" y="2395080"/>
            <a:ext cx="4492800" cy="363960"/>
          </a:xfrm>
          <a:prstGeom prst="rect">
            <a:avLst/>
          </a:prstGeom>
          <a:solidFill>
            <a:schemeClr val="accent6">
              <a:lumMod val="20000"/>
              <a:lumOff val="80000"/>
              <a:alpha val="54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6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308200" y="3403080"/>
            <a:ext cx="2445840" cy="363960"/>
          </a:xfrm>
          <a:prstGeom prst="rect">
            <a:avLst/>
          </a:prstGeom>
          <a:solidFill>
            <a:schemeClr val="accent6">
              <a:lumMod val="20000"/>
              <a:lumOff val="80000"/>
              <a:alpha val="36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RJ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六年级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10"/>
          <p:cNvCxnSpPr/>
          <p:nvPr/>
        </p:nvCxnSpPr>
        <p:spPr>
          <a:xfrm flipV="1">
            <a:off x="4210560" y="3285720"/>
            <a:ext cx="4572360" cy="46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pic>
        <p:nvPicPr>
          <p:cNvPr id="127" name="图片 2" descr="16盼3"/>
          <p:cNvPicPr/>
          <p:nvPr/>
        </p:nvPicPr>
        <p:blipFill>
          <a:blip r:embed="rId1"/>
          <a:stretch/>
        </p:blipFill>
        <p:spPr>
          <a:xfrm>
            <a:off x="378720" y="699480"/>
            <a:ext cx="3599280" cy="359928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0" y="45878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"/>
          <p:cNvSpPr/>
          <p:nvPr/>
        </p:nvSpPr>
        <p:spPr>
          <a:xfrm>
            <a:off x="1397160" y="1887840"/>
            <a:ext cx="5979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加快——            兴奋——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凉爽——            全神贯注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小心翼翼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1397160" y="1286640"/>
            <a:ext cx="4853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打开——            喧闹——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5"/>
          <p:cNvSpPr/>
          <p:nvPr/>
        </p:nvSpPr>
        <p:spPr>
          <a:xfrm>
            <a:off x="2766240" y="1427400"/>
            <a:ext cx="98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关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5871240" y="1427400"/>
            <a:ext cx="98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安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"/>
          <p:cNvSpPr/>
          <p:nvPr/>
        </p:nvSpPr>
        <p:spPr>
          <a:xfrm>
            <a:off x="6476400" y="2937600"/>
            <a:ext cx="157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屈词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4" descr="反义词"/>
          <p:cNvPicPr/>
          <p:nvPr/>
        </p:nvPicPr>
        <p:blipFill>
          <a:blip r:embed="rId1"/>
          <a:stretch/>
        </p:blipFill>
        <p:spPr>
          <a:xfrm>
            <a:off x="265320" y="689760"/>
            <a:ext cx="1924200" cy="48672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3"/>
          <p:cNvSpPr/>
          <p:nvPr/>
        </p:nvSpPr>
        <p:spPr>
          <a:xfrm>
            <a:off x="2766240" y="2202840"/>
            <a:ext cx="98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放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5871240" y="2202840"/>
            <a:ext cx="98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失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9"/>
          <p:cNvSpPr/>
          <p:nvPr/>
        </p:nvSpPr>
        <p:spPr>
          <a:xfrm>
            <a:off x="2766240" y="2937600"/>
            <a:ext cx="157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闷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1"/>
          <p:cNvSpPr/>
          <p:nvPr/>
        </p:nvSpPr>
        <p:spPr>
          <a:xfrm>
            <a:off x="3376440" y="3654360"/>
            <a:ext cx="157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毛手毛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近义词"/>
          <p:cNvPicPr/>
          <p:nvPr/>
        </p:nvPicPr>
        <p:blipFill>
          <a:blip r:embed="rId1"/>
          <a:stretch/>
        </p:blipFill>
        <p:spPr>
          <a:xfrm>
            <a:off x="158760" y="681480"/>
            <a:ext cx="2588040" cy="630360"/>
          </a:xfrm>
          <a:prstGeom prst="rect">
            <a:avLst/>
          </a:prstGeom>
          <a:ln w="0">
            <a:noFill/>
          </a:ln>
        </p:spPr>
      </p:pic>
      <p:sp>
        <p:nvSpPr>
          <p:cNvPr id="197" name="矩形 10"/>
          <p:cNvSpPr/>
          <p:nvPr/>
        </p:nvSpPr>
        <p:spPr>
          <a:xfrm>
            <a:off x="1198800" y="1433160"/>
            <a:ext cx="5628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喧闹——            周围——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兴奋——            担心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小心翼翼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2747160" y="1793880"/>
            <a:ext cx="113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热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"/>
          <p:cNvSpPr/>
          <p:nvPr/>
        </p:nvSpPr>
        <p:spPr>
          <a:xfrm>
            <a:off x="6322680" y="1793880"/>
            <a:ext cx="102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四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"/>
          <p:cNvSpPr/>
          <p:nvPr/>
        </p:nvSpPr>
        <p:spPr>
          <a:xfrm>
            <a:off x="2747160" y="2658240"/>
            <a:ext cx="103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激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5"/>
          <p:cNvSpPr/>
          <p:nvPr/>
        </p:nvSpPr>
        <p:spPr>
          <a:xfrm>
            <a:off x="6362640" y="2658240"/>
            <a:ext cx="94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担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1"/>
          <p:cNvSpPr/>
          <p:nvPr/>
        </p:nvSpPr>
        <p:spPr>
          <a:xfrm>
            <a:off x="3452400" y="3543480"/>
            <a:ext cx="185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谨小慎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4"/>
          <p:cNvSpPr/>
          <p:nvPr/>
        </p:nvSpPr>
        <p:spPr>
          <a:xfrm>
            <a:off x="2074680" y="1611720"/>
            <a:ext cx="6516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同学们边朗读课文边思考下面的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7" descr="通用的"/>
          <p:cNvPicPr/>
          <p:nvPr/>
        </p:nvPicPr>
        <p:blipFill>
          <a:blip r:embed="rId1"/>
          <a:stretch/>
        </p:blipFill>
        <p:spPr>
          <a:xfrm>
            <a:off x="222120" y="749160"/>
            <a:ext cx="2056320" cy="57564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8"/>
          <p:cNvSpPr/>
          <p:nvPr/>
        </p:nvSpPr>
        <p:spPr>
          <a:xfrm>
            <a:off x="648360" y="807120"/>
            <a:ext cx="14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9"/>
          <p:cNvSpPr/>
          <p:nvPr/>
        </p:nvSpPr>
        <p:spPr>
          <a:xfrm>
            <a:off x="3061800" y="2488680"/>
            <a:ext cx="50655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篇文章总共分成了几部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每一部分的主要内容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0" descr="2-笛_看图王"/>
          <p:cNvPicPr/>
          <p:nvPr/>
        </p:nvPicPr>
        <p:blipFill>
          <a:blip r:embed="rId2"/>
          <a:stretch/>
        </p:blipFill>
        <p:spPr>
          <a:xfrm>
            <a:off x="648360" y="1753920"/>
            <a:ext cx="1590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"/>
          <p:cNvSpPr/>
          <p:nvPr/>
        </p:nvSpPr>
        <p:spPr>
          <a:xfrm>
            <a:off x="630000" y="1273680"/>
            <a:ext cx="299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627720" y="972720"/>
            <a:ext cx="4555800" cy="446040"/>
          </a:xfrm>
          <a:prstGeom prst="rect">
            <a:avLst/>
          </a:prstGeom>
          <a:gradFill rotWithShape="0">
            <a:gsLst>
              <a:gs pos="0">
                <a:srgbClr val="e1ffbc"/>
              </a:gs>
              <a:gs pos="100000">
                <a:srgbClr val="f2ffe5"/>
              </a:gs>
            </a:gsLst>
            <a:lin ang="16200000"/>
          </a:gradFill>
          <a:ln>
            <a:solidFill>
              <a:srgbClr val="90c1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</a:rPr>
              <a:t>写妈妈给“我”买了一件新雨衣，“我”爱不释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5"/>
          <p:cNvSpPr/>
          <p:nvPr/>
        </p:nvSpPr>
        <p:spPr>
          <a:xfrm>
            <a:off x="630000" y="2976840"/>
            <a:ext cx="299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7"/>
          <p:cNvSpPr/>
          <p:nvPr/>
        </p:nvSpPr>
        <p:spPr>
          <a:xfrm>
            <a:off x="3627000" y="2753280"/>
            <a:ext cx="4556520" cy="446040"/>
          </a:xfrm>
          <a:prstGeom prst="rect">
            <a:avLst/>
          </a:prstGeom>
          <a:gradFill rotWithShape="0">
            <a:gsLst>
              <a:gs pos="0">
                <a:srgbClr val="e1ffbc"/>
              </a:gs>
              <a:gs pos="100000">
                <a:srgbClr val="f2ffe5"/>
              </a:gs>
            </a:gsLst>
            <a:lin ang="16200000"/>
          </a:gradFill>
          <a:ln>
            <a:solidFill>
              <a:srgbClr val="90c1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</a:rPr>
              <a:t>写“我”开始盼着下雨，可一连几天都是晴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9"/>
          <p:cNvSpPr/>
          <p:nvPr/>
        </p:nvSpPr>
        <p:spPr>
          <a:xfrm>
            <a:off x="470520" y="1382400"/>
            <a:ext cx="356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-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395640" y="3011040"/>
            <a:ext cx="374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-2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2"/>
          <p:cNvSpPr/>
          <p:nvPr/>
        </p:nvSpPr>
        <p:spPr>
          <a:xfrm>
            <a:off x="3898440" y="878760"/>
            <a:ext cx="4645800" cy="446040"/>
          </a:xfrm>
          <a:prstGeom prst="rect">
            <a:avLst/>
          </a:prstGeom>
          <a:gradFill rotWithShape="0">
            <a:gsLst>
              <a:gs pos="0">
                <a:srgbClr val="e1ffbc"/>
              </a:gs>
              <a:gs pos="100000">
                <a:srgbClr val="f2ffe5"/>
              </a:gs>
            </a:gsLst>
            <a:lin ang="16200000"/>
          </a:gradFill>
          <a:ln>
            <a:solidFill>
              <a:srgbClr val="90c1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</a:rPr>
              <a:t>写一天放学后，天空下起了雨点儿，“我”找了好多借口穿雨衣出去玩，可是都没有实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3"/>
          <p:cNvSpPr/>
          <p:nvPr/>
        </p:nvSpPr>
        <p:spPr>
          <a:xfrm>
            <a:off x="3898440" y="2747160"/>
            <a:ext cx="4645800" cy="446040"/>
          </a:xfrm>
          <a:prstGeom prst="rect">
            <a:avLst/>
          </a:prstGeom>
          <a:gradFill rotWithShape="0">
            <a:gsLst>
              <a:gs pos="0">
                <a:srgbClr val="e1ffbc"/>
              </a:gs>
              <a:gs pos="100000">
                <a:srgbClr val="f2ffe5"/>
              </a:gs>
            </a:gsLst>
            <a:lin ang="16200000"/>
          </a:gradFill>
          <a:ln>
            <a:solidFill>
              <a:srgbClr val="90c1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</a:rPr>
              <a:t>写第二天早晨天又下起了雨，“我”穿上新雨衣兴奋不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1214280" y="1418760"/>
            <a:ext cx="6440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仔细读课文，边读边想，课文主要记叙了什么事情？有不懂的问题及时记录下来，与老师和同学们讨论解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通用的"/>
          <p:cNvPicPr/>
          <p:nvPr/>
        </p:nvPicPr>
        <p:blipFill>
          <a:blip r:embed="rId1"/>
          <a:stretch/>
        </p:blipFill>
        <p:spPr>
          <a:xfrm>
            <a:off x="366480" y="1044000"/>
            <a:ext cx="2056320" cy="5756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"/>
          <p:cNvSpPr/>
          <p:nvPr/>
        </p:nvSpPr>
        <p:spPr>
          <a:xfrm>
            <a:off x="819000" y="1101600"/>
            <a:ext cx="160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课文解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1"/>
          <p:cNvSpPr/>
          <p:nvPr/>
        </p:nvSpPr>
        <p:spPr>
          <a:xfrm>
            <a:off x="758880" y="1141560"/>
            <a:ext cx="633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默读课文，想想“我”盼的是什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2"/>
          <p:cNvSpPr/>
          <p:nvPr/>
        </p:nvSpPr>
        <p:spPr>
          <a:xfrm>
            <a:off x="758880" y="2093760"/>
            <a:ext cx="4499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”盼着下雨，盼着穿上新买的雨衣，盼着体验雨点打在雨衣上的感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16盼3"/>
          <p:cNvPicPr/>
          <p:nvPr/>
        </p:nvPicPr>
        <p:blipFill>
          <a:blip r:embed="rId1"/>
          <a:stretch/>
        </p:blipFill>
        <p:spPr>
          <a:xfrm>
            <a:off x="5479560" y="1760400"/>
            <a:ext cx="2617920" cy="25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1"/>
          <p:cNvSpPr/>
          <p:nvPr/>
        </p:nvSpPr>
        <p:spPr>
          <a:xfrm>
            <a:off x="819720" y="855360"/>
            <a:ext cx="633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课文是通过哪些事例来写“盼”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819720" y="1556280"/>
            <a:ext cx="750420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走在放学路上盼着变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放学回家时天上下了几个雨点儿，盼着出去买酱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继续寻找借口出门，盼着雨别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吃过晚饭，没有机会出门，怕雨下完了明天就没有雨下了，又盼着雨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"/>
          <p:cNvSpPr/>
          <p:nvPr/>
        </p:nvSpPr>
        <p:spPr>
          <a:xfrm>
            <a:off x="593640" y="876240"/>
            <a:ext cx="7151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读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然段，思考：从哪里可以看出“我”对新雨衣的喜爱？写这些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"/>
          <p:cNvSpPr/>
          <p:nvPr/>
        </p:nvSpPr>
        <p:spPr>
          <a:xfrm>
            <a:off x="664920" y="1999080"/>
            <a:ext cx="71517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：我”对新雨衣的喜爱表现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一打开雨衣，立刻就往身上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穿上雨衣在屋里走来走去，戴上雨帽、抖抖袖子，把雨衣弄得窸窸窣窣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1"/>
          <p:cNvSpPr/>
          <p:nvPr/>
        </p:nvSpPr>
        <p:spPr>
          <a:xfrm>
            <a:off x="906840" y="1139760"/>
            <a:ext cx="6883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直到妈妈喊，才把雨衣脱下来，发觉后背衬衫已被汗水浸湿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这些表现了“我”对新雨衣的喜爱，为下文写“我”对雨天的渴盼做铺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971640" y="1517040"/>
            <a:ext cx="7576920" cy="473400"/>
          </a:xfrm>
          <a:prstGeom prst="rect">
            <a:avLst/>
          </a:prstGeom>
          <a:solidFill>
            <a:srgbClr val="ffffff"/>
          </a:solidFill>
          <a:ln w="28575">
            <a:solidFill>
              <a:srgbClr val="fea022"/>
            </a:solidFill>
            <a:prstDash val="dash"/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</a:rPr>
              <a:t>对于我们每一个人来说，童年都是纯真、美好与快乐的。童年时，我们的心底总藏着那么一点点期盼，我们期盼漂亮的新衣服，我们期盼好玩的玩具，我们期盼去游乐园玩……本文的题目是一个“盼”字，主人公期盼什么呢？让我们走进课文，去了解一下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" descr="通用的"/>
          <p:cNvPicPr/>
          <p:nvPr/>
        </p:nvPicPr>
        <p:blipFill>
          <a:blip r:embed="rId1"/>
          <a:stretch/>
        </p:blipFill>
        <p:spPr>
          <a:xfrm>
            <a:off x="127800" y="557640"/>
            <a:ext cx="2022120" cy="65952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3"/>
          <p:cNvSpPr/>
          <p:nvPr/>
        </p:nvSpPr>
        <p:spPr>
          <a:xfrm>
            <a:off x="428760" y="628560"/>
            <a:ext cx="172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"/>
          <p:cNvSpPr/>
          <p:nvPr/>
        </p:nvSpPr>
        <p:spPr>
          <a:xfrm>
            <a:off x="647640" y="706680"/>
            <a:ext cx="73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读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-17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然段，找出课文具体描写“盼”这一心理活动的语句，说说这样写的好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"/>
          <p:cNvSpPr/>
          <p:nvPr/>
        </p:nvSpPr>
        <p:spPr>
          <a:xfrm>
            <a:off x="816480" y="1609560"/>
            <a:ext cx="7159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①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太阳把天烤得这样干，还能长云彩吗？为什么我一有了雨衣，天气预报总是“晴”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781200" y="2512800"/>
            <a:ext cx="7115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体会：“我”因盼望下雨，所以埋怨老天，仿佛老天也跟“我”过不去。真是度日如年，望穿秋水呀！这两句话生动形象地写出了“我”盼望下雨，渴望尽快穿雨衣的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2"/>
          <p:cNvSpPr/>
          <p:nvPr/>
        </p:nvSpPr>
        <p:spPr>
          <a:xfrm>
            <a:off x="566280" y="1089720"/>
            <a:ext cx="73465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②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雨点儿打在头上，才是世界上最美的事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"/>
          <p:cNvSpPr/>
          <p:nvPr/>
        </p:nvSpPr>
        <p:spPr>
          <a:xfrm>
            <a:off x="897840" y="1869480"/>
            <a:ext cx="7347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体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句话看似不合常理，恰恰反映了“我”的急切心情。因为雨点儿打在头上，“我”就可以穿雨衣了，所以是世界上最美的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2"/>
          <p:cNvSpPr/>
          <p:nvPr/>
        </p:nvSpPr>
        <p:spPr>
          <a:xfrm>
            <a:off x="967680" y="689040"/>
            <a:ext cx="6902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③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要是今天雨都下完了，那明天还有雨可下吗？ 最好还是留到明天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"/>
          <p:cNvSpPr/>
          <p:nvPr/>
        </p:nvSpPr>
        <p:spPr>
          <a:xfrm>
            <a:off x="967680" y="1502280"/>
            <a:ext cx="7347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体会：对“我”的心理描写，烘托出“我”对下雨的渴望，对穿新雨衣的渴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967680" y="2531880"/>
            <a:ext cx="6902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④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可雨点要是淋在淡绿色的雨衣上呢，那一定比珍珠玛瑙还好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"/>
          <p:cNvSpPr/>
          <p:nvPr/>
        </p:nvSpPr>
        <p:spPr>
          <a:xfrm>
            <a:off x="967680" y="3372480"/>
            <a:ext cx="7596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体会：对“我”的心理描写，写出了“我”对雨点儿打在雨衣上的憧憬，表现了“我”对雨天穿雨衣的渴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1"/>
          <p:cNvSpPr/>
          <p:nvPr/>
        </p:nvSpPr>
        <p:spPr>
          <a:xfrm>
            <a:off x="907920" y="759960"/>
            <a:ext cx="64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处雨景的描写表现了“我”怎样的心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"/>
          <p:cNvSpPr/>
          <p:nvPr/>
        </p:nvSpPr>
        <p:spPr>
          <a:xfrm>
            <a:off x="907920" y="1308600"/>
            <a:ext cx="668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①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快到家时，路边的小杨树忽然沙啦啦地喧闹起来，就像在嘻嘻地笑。（雨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"/>
          <p:cNvSpPr/>
          <p:nvPr/>
        </p:nvSpPr>
        <p:spPr>
          <a:xfrm>
            <a:off x="907920" y="2138760"/>
            <a:ext cx="6686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：这是环境描写，运用拟人的修辞手法，烘托出“我”喜悦的心情。小杨树沙啦啦地喧闹起来，说明刮风了，刮风意味着天气变化。“我”看到刮风就联想到下雨天穿雨衣，所以觉得小杨树在嘻嘻地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2"/>
          <p:cNvSpPr/>
          <p:nvPr/>
        </p:nvSpPr>
        <p:spPr>
          <a:xfrm>
            <a:off x="863640" y="843840"/>
            <a:ext cx="6686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②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吃过晚饭，雨还在不停地下着，嗒嗒嗒地打着玻璃窗，好像是敲着鼓点逗引我出去。（雨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"/>
          <p:cNvSpPr/>
          <p:nvPr/>
        </p:nvSpPr>
        <p:spPr>
          <a:xfrm>
            <a:off x="1121400" y="1953360"/>
            <a:ext cx="6499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：这是环境描写，“好像是敲着鼓点逗引我出去”是“我”看到雨嗒嗒嗒地打着玻璃窗后产生的想象，表现了“我”想穿新雨衣出去的急切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2"/>
          <p:cNvSpPr/>
          <p:nvPr/>
        </p:nvSpPr>
        <p:spPr>
          <a:xfrm>
            <a:off x="813600" y="637560"/>
            <a:ext cx="724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③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路灯照着大雨冲刷过的马路，马路上像铺了一层明晃晃的玻璃；路灯照着路旁的小杨树，小杨树上像挂满了珍珠玛瑙。（雨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4"/>
          <p:cNvSpPr/>
          <p:nvPr/>
        </p:nvSpPr>
        <p:spPr>
          <a:xfrm>
            <a:off x="813960" y="1765440"/>
            <a:ext cx="7436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：这句话运用比喻的修辞手法，把马路上的雨水比作明晃晃的玻璃，把小杨树上的水珠比作珍珠玛瑙，生动形象地表现了“我”对雨天的喜爱和心情的愉快。“我”盼望体验雨点打在雨衣上的感觉，所以雨在“我”眼中变得如此可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836280" y="698040"/>
            <a:ext cx="707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读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-21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然段，找出描写“我”的心理活动的句子，说说这样写的好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"/>
          <p:cNvSpPr/>
          <p:nvPr/>
        </p:nvSpPr>
        <p:spPr>
          <a:xfrm>
            <a:off x="836280" y="1654920"/>
            <a:ext cx="70704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①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还以为是树上掉下来的，直到我仰着头躲开树，甜丝丝的雨点儿又滴到我嘴唇上时，我的心才像要从嗓子里蹦出来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"/>
          <p:cNvSpPr/>
          <p:nvPr/>
        </p:nvSpPr>
        <p:spPr>
          <a:xfrm>
            <a:off x="836280" y="3024000"/>
            <a:ext cx="6499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体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运用夸张的修辞手法，写出了“我”兴奋激动的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3"/>
          <p:cNvSpPr/>
          <p:nvPr/>
        </p:nvSpPr>
        <p:spPr>
          <a:xfrm>
            <a:off x="1274400" y="975240"/>
            <a:ext cx="6427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②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走在街上，甩着两只透明的绿袖子，觉得好像雨点儿都特别爱往我的雨衣上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5"/>
          <p:cNvSpPr/>
          <p:nvPr/>
        </p:nvSpPr>
        <p:spPr>
          <a:xfrm>
            <a:off x="1274400" y="2174400"/>
            <a:ext cx="649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体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出了“我”对雨点儿打在雨衣上的惊喜，和“我”如愿以偿的喜悦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1"/>
          <p:cNvSpPr/>
          <p:nvPr/>
        </p:nvSpPr>
        <p:spPr>
          <a:xfrm>
            <a:off x="1053000" y="885960"/>
            <a:ext cx="6712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结尾处提到雨点儿在“我”的头顶和肩膀上起劲儿地跳跃，发出滴答声。这样写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"/>
          <p:cNvSpPr/>
          <p:nvPr/>
        </p:nvSpPr>
        <p:spPr>
          <a:xfrm>
            <a:off x="1053000" y="2267640"/>
            <a:ext cx="6711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：这样写既突出了“我”穿上新雨衣在雨中行走的快乐，又营造了美好的意境，引发读者无尽的想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2"/>
          <p:cNvSpPr/>
          <p:nvPr/>
        </p:nvSpPr>
        <p:spPr>
          <a:xfrm>
            <a:off x="980280" y="1432440"/>
            <a:ext cx="7183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篇课文主要写妈妈送“我”一件雨衣，然后“我”开始盼望下雨穿雨衣，最终在雨天穿上雨衣的故事。课文围绕一个“盼”字刻画了一个天真、可爱的儿童形象，表现出孩子们对美好事物的憧憬和盼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通用的"/>
          <p:cNvPicPr/>
          <p:nvPr/>
        </p:nvPicPr>
        <p:blipFill>
          <a:blip r:embed="rId1"/>
          <a:stretch/>
        </p:blipFill>
        <p:spPr>
          <a:xfrm>
            <a:off x="283680" y="705600"/>
            <a:ext cx="2056320" cy="5756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4"/>
          <p:cNvSpPr/>
          <p:nvPr/>
        </p:nvSpPr>
        <p:spPr>
          <a:xfrm>
            <a:off x="732240" y="763200"/>
            <a:ext cx="174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主题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4" descr="通用的"/>
          <p:cNvPicPr/>
          <p:nvPr/>
        </p:nvPicPr>
        <p:blipFill>
          <a:blip r:embed="rId1"/>
          <a:stretch/>
        </p:blipFill>
        <p:spPr>
          <a:xfrm>
            <a:off x="177840" y="601200"/>
            <a:ext cx="2184120" cy="6537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"/>
          <p:cNvSpPr/>
          <p:nvPr/>
        </p:nvSpPr>
        <p:spPr>
          <a:xfrm>
            <a:off x="640080" y="673200"/>
            <a:ext cx="204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1257840" y="1400040"/>
            <a:ext cx="6627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会写“袖、筒”等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个字，会写“雨衣、袖筒”等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个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默读课文，知道课文是通过哪些事例来写“盼”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住重点词句，感受“我”因雨衣而产生的渴盼、急迫、无奈、快乐的心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12" descr="通用的"/>
          <p:cNvPicPr/>
          <p:nvPr/>
        </p:nvPicPr>
        <p:blipFill>
          <a:blip r:embed="rId1"/>
          <a:stretch/>
        </p:blipFill>
        <p:spPr>
          <a:xfrm>
            <a:off x="230040" y="609480"/>
            <a:ext cx="1869120" cy="57564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2"/>
          <p:cNvSpPr/>
          <p:nvPr/>
        </p:nvSpPr>
        <p:spPr>
          <a:xfrm>
            <a:off x="600840" y="667440"/>
            <a:ext cx="174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维导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" descr=""/>
          <p:cNvPicPr/>
          <p:nvPr/>
        </p:nvPicPr>
        <p:blipFill>
          <a:blip r:embed="rId2"/>
          <a:stretch/>
        </p:blipFill>
        <p:spPr>
          <a:xfrm>
            <a:off x="230040" y="1127880"/>
            <a:ext cx="8829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1"/>
          <p:cNvSpPr/>
          <p:nvPr/>
        </p:nvSpPr>
        <p:spPr>
          <a:xfrm>
            <a:off x="2072520" y="954360"/>
            <a:ext cx="532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写作方法——围绕中心选择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2" descr="通用的"/>
          <p:cNvPicPr/>
          <p:nvPr/>
        </p:nvPicPr>
        <p:blipFill>
          <a:blip r:embed="rId1"/>
          <a:stretch/>
        </p:blipFill>
        <p:spPr>
          <a:xfrm>
            <a:off x="281160" y="595800"/>
            <a:ext cx="1791000" cy="57564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3"/>
          <p:cNvSpPr/>
          <p:nvPr/>
        </p:nvSpPr>
        <p:spPr>
          <a:xfrm>
            <a:off x="557640" y="653400"/>
            <a:ext cx="1761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方法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4"/>
          <p:cNvSpPr/>
          <p:nvPr/>
        </p:nvSpPr>
        <p:spPr>
          <a:xfrm>
            <a:off x="793080" y="1703880"/>
            <a:ext cx="767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所谓“材料”，就是为了某一写作目的从生活中搜集、摄取并写入文章中的一系列事实或论据。如果说中心思想是文章的灵魂，那么材料就是文章的血肉。我们要根据中心思想的需要，有目的地选择恰当的材料来表现主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2"/>
          <p:cNvSpPr/>
          <p:nvPr/>
        </p:nvSpPr>
        <p:spPr>
          <a:xfrm>
            <a:off x="888480" y="686520"/>
            <a:ext cx="498960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材料从何而来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从生活中寻找，亲身经历、亲眼所见、亲耳所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从阅读材料中挖掘，历史、文学作品、报刊杂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怎样围绕中心选择材料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写有用的，不写没用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写典型的，不写一般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写新颖生动的，不写陈腐呆板的。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写具体的，不写空洞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8" descr=""/>
          <p:cNvPicPr/>
          <p:nvPr/>
        </p:nvPicPr>
        <p:blipFill>
          <a:blip r:embed="rId1"/>
          <a:stretch/>
        </p:blipFill>
        <p:spPr>
          <a:xfrm>
            <a:off x="5315040" y="1152000"/>
            <a:ext cx="3585960" cy="32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1"/>
          <p:cNvSpPr/>
          <p:nvPr/>
        </p:nvSpPr>
        <p:spPr>
          <a:xfrm>
            <a:off x="961920" y="1406520"/>
            <a:ext cx="715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课文，想想课文是通过哪些事例来写“盼”的。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2" descr="图标"/>
          <p:cNvPicPr/>
          <p:nvPr/>
        </p:nvPicPr>
        <p:blipFill>
          <a:blip r:embed="rId1"/>
          <a:stretch/>
        </p:blipFill>
        <p:spPr>
          <a:xfrm>
            <a:off x="669960" y="1477800"/>
            <a:ext cx="291600" cy="3063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0" descr="通用的"/>
          <p:cNvPicPr/>
          <p:nvPr/>
        </p:nvPicPr>
        <p:blipFill>
          <a:blip r:embed="rId2"/>
          <a:stretch/>
        </p:blipFill>
        <p:spPr>
          <a:xfrm>
            <a:off x="305280" y="585000"/>
            <a:ext cx="1770120" cy="57564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4"/>
          <p:cNvSpPr/>
          <p:nvPr/>
        </p:nvSpPr>
        <p:spPr>
          <a:xfrm>
            <a:off x="593640" y="642600"/>
            <a:ext cx="161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材习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"/>
          <p:cNvSpPr/>
          <p:nvPr/>
        </p:nvSpPr>
        <p:spPr>
          <a:xfrm>
            <a:off x="961920" y="1927800"/>
            <a:ext cx="7255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案参见“课文解读”中的第 ２ 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"/>
          <p:cNvSpPr/>
          <p:nvPr/>
        </p:nvSpPr>
        <p:spPr>
          <a:xfrm>
            <a:off x="961920" y="2677680"/>
            <a:ext cx="7152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哪些地方具体描写了“盼”这一心理活动？选出你认为最生动的两处，说说这样写的好处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961920" y="3583440"/>
            <a:ext cx="7255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答案参见“课文解读”中的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题和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6" descr="图标"/>
          <p:cNvPicPr/>
          <p:nvPr/>
        </p:nvPicPr>
        <p:blipFill>
          <a:blip r:embed="rId3"/>
          <a:stretch/>
        </p:blipFill>
        <p:spPr>
          <a:xfrm>
            <a:off x="669960" y="2739960"/>
            <a:ext cx="2916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0" descr="通用的"/>
          <p:cNvPicPr/>
          <p:nvPr/>
        </p:nvPicPr>
        <p:blipFill>
          <a:blip r:embed="rId1"/>
          <a:stretch/>
        </p:blipFill>
        <p:spPr>
          <a:xfrm>
            <a:off x="269280" y="576000"/>
            <a:ext cx="2055960" cy="57564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4"/>
          <p:cNvSpPr/>
          <p:nvPr/>
        </p:nvSpPr>
        <p:spPr>
          <a:xfrm>
            <a:off x="700920" y="633600"/>
            <a:ext cx="148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拓展空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"/>
          <p:cNvSpPr/>
          <p:nvPr/>
        </p:nvSpPr>
        <p:spPr>
          <a:xfrm>
            <a:off x="3547800" y="864720"/>
            <a:ext cx="204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关于写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"/>
          <p:cNvSpPr/>
          <p:nvPr/>
        </p:nvSpPr>
        <p:spPr>
          <a:xfrm>
            <a:off x="867240" y="1440360"/>
            <a:ext cx="7274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古代有个读书人，走了三百里路，去向大师请教作文的诀窍。这位大师看了他的文章，把他带到树林边，指着一个蜘蛛网说：“你不要拜我为师，你拜它为师吧。”那个书生对着蜘蛛网呆看了三整天，忽然悟出了其中的道理，从此作文大有长进，并且考场得意，中举成名。事后有人问他原因。他说：“大师在告诉我：天下找不到一个没有中心的蜘蛛网；蜘蛛织网是先织网的中心，再一圈一圈地围绕中心编织。”同样，一篇锦绣文章也是围绕一个中心编织而成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4" descr="通用的"/>
          <p:cNvPicPr/>
          <p:nvPr/>
        </p:nvPicPr>
        <p:blipFill>
          <a:blip r:embed="rId1"/>
          <a:stretch/>
        </p:blipFill>
        <p:spPr>
          <a:xfrm>
            <a:off x="177840" y="529560"/>
            <a:ext cx="2164320" cy="6512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"/>
          <p:cNvSpPr/>
          <p:nvPr/>
        </p:nvSpPr>
        <p:spPr>
          <a:xfrm>
            <a:off x="585000" y="594360"/>
            <a:ext cx="204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作者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7"/>
          <p:cNvSpPr/>
          <p:nvPr/>
        </p:nvSpPr>
        <p:spPr>
          <a:xfrm>
            <a:off x="3628440" y="1236240"/>
            <a:ext cx="4817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铁凝  当代著名作家。主要作品有短篇小说《哦，香雪》，中篇小说《没有纽扣的红衬衫》《对面》，长篇小说《无雨之城》，散文集《草戒指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u=3995000797,262333354&amp;fm=26&amp;gp=0[1]"/>
          <p:cNvPicPr/>
          <p:nvPr/>
        </p:nvPicPr>
        <p:blipFill>
          <a:blip r:embed="rId2"/>
          <a:stretch/>
        </p:blipFill>
        <p:spPr>
          <a:xfrm>
            <a:off x="640080" y="1236240"/>
            <a:ext cx="25416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4" descr="通用的"/>
          <p:cNvPicPr/>
          <p:nvPr/>
        </p:nvPicPr>
        <p:blipFill>
          <a:blip r:embed="rId1"/>
          <a:stretch/>
        </p:blipFill>
        <p:spPr>
          <a:xfrm>
            <a:off x="155520" y="699120"/>
            <a:ext cx="2056320" cy="57564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5"/>
          <p:cNvSpPr/>
          <p:nvPr/>
        </p:nvSpPr>
        <p:spPr>
          <a:xfrm>
            <a:off x="567000" y="757080"/>
            <a:ext cx="157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字词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2"/>
          <p:cNvSpPr/>
          <p:nvPr/>
        </p:nvSpPr>
        <p:spPr>
          <a:xfrm>
            <a:off x="936720" y="1391400"/>
            <a:ext cx="76489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衣袖    笔筒    斗篷    缩小    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疯癫    砖瓦    甩手    嚷叫    铁锅   酱油    嘴唇    蹦跳    笑嘻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3"/>
          <p:cNvSpPr/>
          <p:nvPr/>
        </p:nvSpPr>
        <p:spPr>
          <a:xfrm>
            <a:off x="1398960" y="148068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"/>
          <p:cNvSpPr/>
          <p:nvPr/>
        </p:nvSpPr>
        <p:spPr>
          <a:xfrm>
            <a:off x="2927520" y="1480680"/>
            <a:ext cx="88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ǒ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7"/>
          <p:cNvSpPr/>
          <p:nvPr/>
        </p:nvSpPr>
        <p:spPr>
          <a:xfrm>
            <a:off x="4555440" y="1480680"/>
            <a:ext cx="84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8"/>
          <p:cNvSpPr/>
          <p:nvPr/>
        </p:nvSpPr>
        <p:spPr>
          <a:xfrm>
            <a:off x="5862960" y="1480680"/>
            <a:ext cx="73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9"/>
          <p:cNvSpPr/>
          <p:nvPr/>
        </p:nvSpPr>
        <p:spPr>
          <a:xfrm>
            <a:off x="7734240" y="1480680"/>
            <a:ext cx="101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0"/>
          <p:cNvSpPr/>
          <p:nvPr/>
        </p:nvSpPr>
        <p:spPr>
          <a:xfrm>
            <a:off x="936720" y="2493000"/>
            <a:ext cx="73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859680" y="33858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"/>
          <p:cNvSpPr/>
          <p:nvPr/>
        </p:nvSpPr>
        <p:spPr>
          <a:xfrm>
            <a:off x="7858800" y="24930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"/>
          <p:cNvSpPr/>
          <p:nvPr/>
        </p:nvSpPr>
        <p:spPr>
          <a:xfrm>
            <a:off x="5786280" y="24930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1"/>
          <p:cNvSpPr/>
          <p:nvPr/>
        </p:nvSpPr>
        <p:spPr>
          <a:xfrm>
            <a:off x="4116240" y="24930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uǎ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6330240" y="3385800"/>
            <a:ext cx="78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3006000" y="24930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2917800" y="33858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5"/>
          <p:cNvSpPr/>
          <p:nvPr/>
        </p:nvSpPr>
        <p:spPr>
          <a:xfrm>
            <a:off x="4116240" y="3385800"/>
            <a:ext cx="89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è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9" descr="多音字"/>
          <p:cNvPicPr/>
          <p:nvPr/>
        </p:nvPicPr>
        <p:blipFill>
          <a:blip r:embed="rId1"/>
          <a:stretch/>
        </p:blipFill>
        <p:spPr>
          <a:xfrm>
            <a:off x="138960" y="421560"/>
            <a:ext cx="2184840" cy="82332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0"/>
          <p:cNvSpPr/>
          <p:nvPr/>
        </p:nvSpPr>
        <p:spPr>
          <a:xfrm>
            <a:off x="523080" y="3663360"/>
            <a:ext cx="80971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别嚷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ā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嚷了，这里是图书馆，不允许大嚷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ǎ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大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1"/>
          <p:cNvSpPr/>
          <p:nvPr/>
        </p:nvSpPr>
        <p:spPr>
          <a:xfrm>
            <a:off x="774000" y="170928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左大括号 12"/>
          <p:cNvSpPr/>
          <p:nvPr/>
        </p:nvSpPr>
        <p:spPr>
          <a:xfrm>
            <a:off x="1434600" y="1511280"/>
            <a:ext cx="268200" cy="979560"/>
          </a:xfrm>
          <a:prstGeom prst="leftBrace">
            <a:avLst>
              <a:gd name="adj1" fmla="val 8333"/>
              <a:gd name="adj2" fmla="val 50000"/>
            </a:avLst>
          </a:prstGeom>
          <a:noFill/>
          <a:ln w="31750">
            <a:solidFill>
              <a:srgbClr val="00b05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13"/>
          <p:cNvSpPr/>
          <p:nvPr/>
        </p:nvSpPr>
        <p:spPr>
          <a:xfrm>
            <a:off x="3026880" y="1316880"/>
            <a:ext cx="137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兴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6"/>
          <p:cNvSpPr/>
          <p:nvPr/>
        </p:nvSpPr>
        <p:spPr>
          <a:xfrm>
            <a:off x="3026880" y="2001600"/>
            <a:ext cx="144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7"/>
          <p:cNvSpPr/>
          <p:nvPr/>
        </p:nvSpPr>
        <p:spPr>
          <a:xfrm>
            <a:off x="1843920" y="1316880"/>
            <a:ext cx="14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ī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1843920" y="2001600"/>
            <a:ext cx="120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ì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1"/>
          <p:cNvSpPr/>
          <p:nvPr/>
        </p:nvSpPr>
        <p:spPr>
          <a:xfrm>
            <a:off x="4788360" y="170928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左大括号 22"/>
          <p:cNvSpPr/>
          <p:nvPr/>
        </p:nvSpPr>
        <p:spPr>
          <a:xfrm>
            <a:off x="5478840" y="1511280"/>
            <a:ext cx="268200" cy="979560"/>
          </a:xfrm>
          <a:prstGeom prst="leftBrace">
            <a:avLst>
              <a:gd name="adj1" fmla="val 8333"/>
              <a:gd name="adj2" fmla="val 50000"/>
            </a:avLst>
          </a:prstGeom>
          <a:noFill/>
          <a:ln w="31750">
            <a:solidFill>
              <a:srgbClr val="00b05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23"/>
          <p:cNvSpPr/>
          <p:nvPr/>
        </p:nvSpPr>
        <p:spPr>
          <a:xfrm>
            <a:off x="6881400" y="1316880"/>
            <a:ext cx="190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叫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4"/>
          <p:cNvSpPr/>
          <p:nvPr/>
        </p:nvSpPr>
        <p:spPr>
          <a:xfrm>
            <a:off x="6946920" y="2001600"/>
            <a:ext cx="144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嚷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5"/>
          <p:cNvSpPr/>
          <p:nvPr/>
        </p:nvSpPr>
        <p:spPr>
          <a:xfrm>
            <a:off x="5866200" y="1316880"/>
            <a:ext cx="140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6"/>
          <p:cNvSpPr/>
          <p:nvPr/>
        </p:nvSpPr>
        <p:spPr>
          <a:xfrm>
            <a:off x="5866200" y="2001600"/>
            <a:ext cx="113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7"/>
          <p:cNvSpPr/>
          <p:nvPr/>
        </p:nvSpPr>
        <p:spPr>
          <a:xfrm>
            <a:off x="549360" y="2760480"/>
            <a:ext cx="80712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兴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ī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办学校是一件值得高兴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ì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的事，我们应该大力支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9" descr="图片1 (1)"/>
          <p:cNvPicPr/>
          <p:nvPr/>
        </p:nvPicPr>
        <p:blipFill>
          <a:blip r:embed="rId1"/>
          <a:stretch/>
        </p:blipFill>
        <p:spPr>
          <a:xfrm>
            <a:off x="124920" y="751680"/>
            <a:ext cx="2773440" cy="939960"/>
          </a:xfrm>
          <a:prstGeom prst="rect">
            <a:avLst/>
          </a:prstGeom>
          <a:ln w="0">
            <a:noFill/>
          </a:ln>
        </p:spPr>
      </p:pic>
      <p:sp>
        <p:nvSpPr>
          <p:cNvPr id="172" name="左大括号 41"/>
          <p:cNvSpPr/>
          <p:nvPr/>
        </p:nvSpPr>
        <p:spPr>
          <a:xfrm>
            <a:off x="955800" y="2178720"/>
            <a:ext cx="295560" cy="10180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b0f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42"/>
          <p:cNvSpPr/>
          <p:nvPr/>
        </p:nvSpPr>
        <p:spPr>
          <a:xfrm>
            <a:off x="1319400" y="2089080"/>
            <a:ext cx="196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袖（衣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3"/>
          <p:cNvSpPr/>
          <p:nvPr/>
        </p:nvSpPr>
        <p:spPr>
          <a:xfrm>
            <a:off x="1319400" y="2851920"/>
            <a:ext cx="197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抽（抽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左大括号 47"/>
          <p:cNvSpPr/>
          <p:nvPr/>
        </p:nvSpPr>
        <p:spPr>
          <a:xfrm>
            <a:off x="5848920" y="2178720"/>
            <a:ext cx="295560" cy="10180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b0f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48"/>
          <p:cNvSpPr/>
          <p:nvPr/>
        </p:nvSpPr>
        <p:spPr>
          <a:xfrm>
            <a:off x="6212880" y="2017440"/>
            <a:ext cx="250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嘻（笑嘻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49"/>
          <p:cNvSpPr/>
          <p:nvPr/>
        </p:nvSpPr>
        <p:spPr>
          <a:xfrm>
            <a:off x="6212880" y="2851920"/>
            <a:ext cx="209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嬉（嬉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左大括号 50"/>
          <p:cNvSpPr/>
          <p:nvPr/>
        </p:nvSpPr>
        <p:spPr>
          <a:xfrm>
            <a:off x="3357360" y="2178720"/>
            <a:ext cx="295560" cy="10180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b0f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51"/>
          <p:cNvSpPr/>
          <p:nvPr/>
        </p:nvSpPr>
        <p:spPr>
          <a:xfrm>
            <a:off x="3720960" y="2089080"/>
            <a:ext cx="206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篷（帐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2"/>
          <p:cNvSpPr/>
          <p:nvPr/>
        </p:nvSpPr>
        <p:spPr>
          <a:xfrm>
            <a:off x="3720960" y="2851920"/>
            <a:ext cx="196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蓬（蓬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22" descr="词语释义"/>
          <p:cNvPicPr/>
          <p:nvPr/>
        </p:nvPicPr>
        <p:blipFill>
          <a:blip r:embed="rId1"/>
          <a:stretch/>
        </p:blipFill>
        <p:spPr>
          <a:xfrm>
            <a:off x="217800" y="557640"/>
            <a:ext cx="2132640" cy="50436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24"/>
          <p:cNvSpPr/>
          <p:nvPr/>
        </p:nvSpPr>
        <p:spPr>
          <a:xfrm>
            <a:off x="1024920" y="1062360"/>
            <a:ext cx="71910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斗篷】 披在肩上的没有袖子的外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窸窸窣窣】 形容细小的摩擦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预报】 预先的报告（多用于天文、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象等方面）。造句：气象台每天都及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发布天气预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嘟囔】 连续不断地自言自语。造句：你在嘟囔什么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满满当当】 形容很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1" descr="斗篷"/>
          <p:cNvPicPr/>
          <p:nvPr/>
        </p:nvPicPr>
        <p:blipFill>
          <a:blip r:embed="rId2"/>
          <a:stretch/>
        </p:blipFill>
        <p:spPr>
          <a:xfrm>
            <a:off x="5842800" y="717480"/>
            <a:ext cx="17071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1"/>
          <p:cNvSpPr/>
          <p:nvPr/>
        </p:nvSpPr>
        <p:spPr>
          <a:xfrm>
            <a:off x="506160" y="965880"/>
            <a:ext cx="63972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逗引】 用言语、行动逗弄对方借以取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理直气壮】 理由充分，因而说话做事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气势或心里无愧，无所畏惧。造句：工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们理直气壮地维护着自己的合法权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【小心翼翼】 原形容严肃虔敬的样子，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用来形容举动十分谨慎，丝毫不敢疏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句：我小心翼翼的走进屋里，结果还是被妈妈发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1"/>
          <a:stretch/>
        </p:blipFill>
        <p:spPr>
          <a:xfrm>
            <a:off x="5408280" y="1281600"/>
            <a:ext cx="3234960" cy="25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Austin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Austin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Austin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3194</Words>
  <Paragraphs>182</Paragraphs>
  <Company>微软公司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1:2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08T02:48:14Z</dcterms:modified>
  <cp:revision>5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76</vt:lpwstr>
  </property>
  <property fmtid="{D5CDD505-2E9C-101B-9397-08002B2CF9AE}" pid="3" name="Notes">
    <vt:r8>4</vt:r8>
  </property>
  <property fmtid="{D5CDD505-2E9C-101B-9397-08002B2CF9AE}" pid="4" name="PresentationFormat">
    <vt:lpwstr>全屏显示(16:9)</vt:lpwstr>
  </property>
  <property fmtid="{D5CDD505-2E9C-101B-9397-08002B2CF9AE}" pid="5" name="Slides">
    <vt:r8>35</vt:r8>
  </property>
</Properties>
</file>