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audio1.wav" ContentType="audio/x-wav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A22329-CA9E-4B3A-BD23-5030B2671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531DB5-F875-49BD-9724-4A7EEDFF9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F22-27AF-44B7-85E3-1B06ADC3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96D-88C7-47F3-AE72-2D77282F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7134-C152-4897-AAA2-6D52BD30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FF0B-68E9-44BD-BC98-D53266A85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AE4B-7B1E-4AC3-BA01-771889D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0E2E6-9B48-44CF-AB85-1E1A7C69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0303-32E5-4D35-8EA4-A288810E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B289-5FBD-4506-825F-78AA4075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A0A2-1798-44E2-A642-8CAA3562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B50E-FC2D-4915-A5B1-9CE7F6AC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36F2-2BC1-43EB-A0F8-75204380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F983-2E3C-4C22-A22A-6B890EE4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D769-8E05-43A2-A9AB-C130E6F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30C1-9F34-46F1-B12A-9AD3E17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D53-0D75-4754-9949-4B9E3C6C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57B3-0091-4258-83A9-23BC4C51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8795-1418-4B75-8CEA-2C4B9609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2E111-8EA4-40D5-B1C1-12269299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539C9-B66C-4A34-AF97-A364C5ED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372A-7471-451A-85D1-A8D1F41D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F47B0-EBEF-4340-85A1-5AC3C43B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ED09-637F-4DBB-8010-D507079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ADBD-4134-455F-9C31-D07118658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5EC5-F37B-4654-836C-87F0DBA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D948-66D2-462A-869C-92D797D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E61A-30B6-4521-8C38-59D22EDA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624E-EE94-4055-99DC-9ED12C4A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E022D-2608-4E4E-A86F-85EAC139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71829-238D-4E95-B9D6-2B9B5413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53AC0-D080-4AE8-BA6E-AD1D2ED0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B9E0-C83D-41B2-8DEF-3F56E576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B4E3D-3B6C-4B00-821E-6FAEC611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A84EC-A753-45D6-B355-07412BE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CD9-4B92-496E-B66F-B3366B3C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A4CFC-3770-47BA-BCCC-018B837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376FD-6B11-49E9-A819-CBFD624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F7EC7-97D7-4ABB-B3BE-A74305B9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14293-6C2F-45EA-9058-7F233AF7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263E5-7C5D-4C0C-A6C4-9618075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84787-0D46-439A-B7A1-BCAFBE1E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63596-9130-4148-B1E0-7BF78631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E39D-4503-47C7-ADB4-263D8A9A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660F-9017-4059-B345-68E6C2DE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B8C-C961-4627-9D7F-617A64E9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509-036B-4A2B-ADFC-03170CA4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387-58AB-40F5-B494-52473D6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A70A-3FD6-4C5E-98E5-A17D4524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282-C607-4A67-B621-C5ECBCA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982D68-7A53-40CF-95E2-22150958769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9070A1-CDAE-4377-A176-6FD7B2C527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38F13E-EA39-430E-A9BB-8170AF2564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12621-87EC-4BEE-A00E-5F40D27153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2080" y="1268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普通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153600"/>
            <a:ext cx="6400440" cy="550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梁晓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6"/>
          <p:cNvSpPr/>
          <p:nvPr/>
        </p:nvSpPr>
        <p:spPr>
          <a:xfrm>
            <a:off x="2822400" y="524520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父亲两夜心系剧组，对我的善意欺骗，“父亲火了，并怒赳赳地走出去了”（两夜心系剧组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父亲被选中做群众演员，朝鲜导演都把父亲当成了朝鲜老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误为朝鲜老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写父亲认真地在家里背一句台词，去世后还有导演邀请他去做群众演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勤背一句台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120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这几件事可以变动一下吗？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6419520" cy="2980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不可以，因为 “父亲”当群众演员由“认真”深入到“忘我”的 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找出能表现父亲鲜明性格的语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父亲从来不做自己胜任不了之事。他一生不喜欢那种滥竽充数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父亲坐得很特别，那是一种正襟危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唉，我为我们导演发愁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父亲他怒冲冲地就走出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要当群众演员，咱们就认认真真地当群众演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父亲又以教训的口吻说：“要是都像你这种态度，那电影，能拍好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老百姓当然不愿意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作者在叙事中大量运用了反衬和侧写的手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侧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便常有人对我说：“哎呀晓声，你父亲真好。演戏认真极了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②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去世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对不起……”对方的失望大大多于歉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写旁人对父亲的评价，使父亲的性格更加真实可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文中我与父亲不同的认识和做法。如：父亲雨夜不寐，担心剧组拍不了戏，我认为这是荒唐的，不必操心；我骗父亲给剧组打过电话，不用拍戏，父亲却揭穿我的谎言，冒雨赶往片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有些群众演员，钱一到手，人也便脚底板抹油，溜了。父亲尽职尽责做好群众演员的工作。（找出一例即可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通过写我和他人的错误认识或做法，使父亲的性格更加鲜明突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028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如何理解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就现实中人而言，恰恰相反，我崇敬每一个“本色”的人，而十分警惕“性格演员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些群众演员的行为，代表了社会上那些唯利是图、过河拆桥、丑陋的中国人的行为。“这一点”，指自己的目的达到后，就不再履行应尽的义务的行为。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崇敬现实生活中表里如一的“本色的人”，时时提防圆滑虚伪、表里不一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86440" cy="777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群众演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76" name="Picture 5" descr="U9804P28T3D4003977F326DT20130907082205"/>
          <p:cNvPicPr/>
          <p:nvPr/>
        </p:nvPicPr>
        <p:blipFill>
          <a:blip r:embed="rId1"/>
          <a:stretch/>
        </p:blipFill>
        <p:spPr>
          <a:xfrm>
            <a:off x="684360" y="1131840"/>
            <a:ext cx="7272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5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  <p:cond delay="0" evt="begin">
                                      <p:tn val="10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indefinite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U3088P28T3D3103062F346DT20100930231358"/>
          <p:cNvPicPr/>
          <p:nvPr/>
        </p:nvPicPr>
        <p:blipFill>
          <a:blip r:embed="rId1"/>
          <a:stretch/>
        </p:blipFill>
        <p:spPr>
          <a:xfrm>
            <a:off x="2268360" y="887400"/>
            <a:ext cx="3504960" cy="52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sndAc>
          <p:stSnd>
            <p:snd r:embed="rId2" name="audio1.wav"/>
          </p:stSnd>
        </p:sndAc>
      </p:transition>
    </mc:Choice>
    <mc:Fallback>
      <p:transition spd="slow">
        <p:sndAc>
          <p:stSnd>
            <p:snd r:embed="rId2" name="audio1.wav"/>
          </p:stSnd>
        </p:sndAc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梁晓声，原名梁绍生。当代著名作家。祖籍山东荣成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日出生于哈尔滨市，祖籍山东荣成市泊于镇温泉寨。现居北京，任教于北京语言大学人文学院汉语言文学专业。曾任北京电影制片厂编辑、编剧，中国儿童电影制厂艺术委员会副主任，中国电影审查委员会委员及中国电影进口审查委员会委员。中国作家协会会员。曾创作出版过大量有影响的小说、散文、随笔及影视作品。中国现当代以青春文学成名的代表作家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文导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本文明明写的是“我的父亲”？为什么不用“我的父亲”为题？作者把文章标题写成“普通人”有什么特殊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实际写的是我的父亲的演员生涯，要突出的是他的普通身份、普通人生，但在普通之中却有着一般人难有的认真和执着性格。作者用“普通人”一词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表现父亲身份的普通平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赞颂了他作为普通人的认真，执着的优秀品格，同时也是对像父亲一样的所有的普通人的赞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12"/>
          <p:cNvSpPr txBox="1"/>
          <p:nvPr/>
        </p:nvSpPr>
        <p:spPr>
          <a:xfrm rot="5400000">
            <a:off x="3713040" y="3422520"/>
            <a:ext cx="5486040" cy="456840"/>
          </a:xfrm>
          <a:prstGeom prst="rect">
            <a:avLst/>
          </a:prstGeom>
        </p:spPr>
        <p:txBody>
          <a:bodyPr wrap="none" lIns="90000" rIns="90000" tIns="45000" bIns="45000" anchor="t" anchorCtr="1" vert="vert" rot="5400000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宋体"/>
              </a:rPr>
              <a:t>说说你父亲是个怎样的人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46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讨论：课文写对父亲的怀念，主要写了哪几件事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1640" y="1772640"/>
            <a:ext cx="8532000" cy="320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父亲在《泥人常传奇》剧组第一次党群众演员，他把当群众演员的事当做大事和“我”商量，表明父亲做事的认真态度。（诚商“从演”大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用导演已忘记还有有个老群众演员，父亲却忘我地坚持导演的命令这个细节，对比写父亲的其他群众演员，表明父亲的认真执着。（憨等导演安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1" name="audio1.wav"/>
          </p:stSnd>
        </p:sndAc>
      </p:transition>
    </mc:Choice>
    <mc:Fallback>
      <p:transition spd="slow">
        <p:sndAc>
          <p:stSnd>
            <p:snd r:embed="rId1" name="audio1.wav"/>
          </p:stSnd>
        </p:sndAc>
      </p:transition>
    </mc:Fallback>
  </mc:AlternateContent>
</p:sld>
</file>

<file path=ppt/theme/theme1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  <Pages>0</Pages>
  <Words>1350</Words>
  <Characters>0</Characters>
  <CharactersWithSpaces>0</CharactersWithSpace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1-22T01:19:13Z</dcterms:modified>
  <cp:revision>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15</vt:r8>
  </property>
</Properties>
</file>