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audio1.wav" ContentType="audio/x-wav"/>
  <Override PartName="/ppt/media/image13.jpeg" ContentType="image/jpeg"/>
  <Override PartName="/ppt/media/image8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9.jpeg" ContentType="image/jpeg"/>
  <Override PartName="/ppt/media/image1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170EE3-EF72-410F-9AB1-FFA5A0E91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word/" TargetMode="External"/><Relationship Id="rId8" Type="http://schemas.openxmlformats.org/officeDocument/2006/relationships/hyperlink" Target="http://www.1ppt.com/excel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om/jianli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word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Excel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excel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个人简历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om/jian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E9EA0D-C4F1-4FC6-8868-2613B4DD08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581F39-C72D-4338-B1C8-BE4F04FC0B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318-DA61-43B9-81C8-7CF7830A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C5D-5863-4991-93B6-E5FF95AE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95A-3AB8-41A9-9A6D-6377D010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1990-A72E-43FA-8075-D559743D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29F8-734E-4444-BDCA-C0C21E2C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1359-A2E6-4592-A5A2-D2CB81AB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6AE1-22A8-4067-8452-3D07A773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1E04-4FCB-448E-A59C-1D0E737A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23BB-002B-4CEB-970C-34B516CB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485C-CE1C-4E7A-9599-13454F64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74D6-D9CE-4570-B7EC-08F36C9C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24E-CB71-44F2-95E1-7C16FD5D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E161-8529-497A-AADC-9E4AF8A5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5E63-F60E-4240-B04E-0D2FEA20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A001-ACB2-4DA0-ADEE-3B4C8DA3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9247-5FA2-4AF6-A0CE-457114BC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A1B6-29CA-4251-B528-7CAF319E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3B5CC-0C4A-40AE-82DB-2DED227E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D69FB-0B75-492C-A280-30366530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EE7B5-08B9-47F7-B216-20C871E6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39C6F-39CD-46C7-988B-09E2AF97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2C7F8-E247-4298-B40B-12346BE5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57B4-C932-4BAD-A18C-5B9FCFB8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1D521-E397-4279-BC4F-78CB0B64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5BA74-90E8-425F-AA66-E1720C5E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5375C-3BF6-4B9E-A1B0-F52BA7C3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FACD8-3532-4049-8E99-41DA5959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84529-D860-4003-B711-0731A56F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3E7C9-DA33-4CC4-B3D5-607B95A4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910D8-0C32-4D64-898D-CC94B717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D9CE-08AB-466D-B22D-5DF3FD2B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CF73-6674-4E53-9EA4-49928440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9B2D-AD69-4739-9479-0B188850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0AF1-448C-4B11-9B15-61D6ED06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C479-9A62-4531-A2BA-F909E878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D4A-EF92-4D7D-8445-7F7A321B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2C09BD-8EB1-40EB-BA85-B3A96FE48B29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29400" y="205920"/>
            <a:ext cx="2057040" cy="4388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45720" rIns="45720" tIns="9144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05920"/>
            <a:ext cx="6019560" cy="4388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45720" rIns="45720" tIns="91440" bIns="9144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9BBA78-6E7E-433A-B277-64C248F8F739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7FF9B7-338C-4927-903F-C81257D8AE17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350280" y="1917000"/>
            <a:ext cx="734760" cy="240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个人简历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nli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手抄报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ouchaobao/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image.baidu.com/i?ct=503316480&amp;z=0&amp;tn=baiduimagedetail&amp;word=%B1%B1%BE%A9%B1%B1%BA%A3%B9%AB&#1328;&amp;in=30221&amp;cl=2&amp;cm=1&amp;sc=0&amp;lm=-1&amp;pn=25&amp;rn=1&amp;di=303172880&amp;ln=585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in/&#32701;&#183;&#27849;%20&#28891;&#20809;&#37324;&#30340;&#22920;&#22920;%20&#28246;&#21335;&#21355;&#35270;%20(2).flv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4263480" y="249984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史铁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0" y="127548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秋天的怀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-7200" y="3939840"/>
            <a:ext cx="91508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395640" y="870120"/>
            <a:ext cx="8382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面是课文中描写母亲的动作、语言、神情、心理等的句子，表现母亲伟大。试结合上下文作具体分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95640" y="1995840"/>
            <a:ext cx="8572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母亲就悄悄地躲出去，在我看不见的地方偷偷地听着我的动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Group 20"/>
          <p:cNvGraphicFramePr/>
          <p:nvPr/>
        </p:nvGraphicFramePr>
        <p:xfrm>
          <a:off x="395280" y="3003840"/>
          <a:ext cx="8429400" cy="1028520"/>
        </p:xfrm>
        <a:graphic>
          <a:graphicData uri="http://schemas.openxmlformats.org/drawingml/2006/table">
            <a:tbl>
              <a:tblPr/>
              <a:tblGrid>
                <a:gridCol w="8429400"/>
              </a:tblGrid>
              <a:tr h="102852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动作描写。“躲”出去是不忍心看儿子受折磨；“听着我动静”是担心儿子想不开；形象地表现出母亲的慈爱、理解、忍耐和宽容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sp>
        <p:nvSpPr>
          <p:cNvPr id="181" name="TextBox 9"/>
          <p:cNvSpPr/>
          <p:nvPr/>
        </p:nvSpPr>
        <p:spPr>
          <a:xfrm>
            <a:off x="755640" y="250200"/>
            <a:ext cx="172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课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2"/>
          <p:cNvSpPr/>
          <p:nvPr/>
        </p:nvSpPr>
        <p:spPr>
          <a:xfrm>
            <a:off x="539640" y="681120"/>
            <a:ext cx="806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母亲扑过来抓住我的手，忍住哭声说：“咱娘俩儿在一块儿，好好儿活，好好儿活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684360" y="1762200"/>
            <a:ext cx="806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动作、语言描写。母亲为儿子所承受的苦难而痛心，母亲用她坚强乐观的态度鼓舞对生活充满绝望的儿子要好好活着，母亲这种伟大而无私的爱让人深深感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755640" y="195120"/>
            <a:ext cx="221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课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755640" y="3003840"/>
            <a:ext cx="638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她憔悴的脸上现出央求般的神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611280" y="3381480"/>
            <a:ext cx="774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神态描写。“央求”含有最低要求的意思。在这里充分反映出母亲既盼望儿子早日摆脱阴影，又怕自己支撑不到那一天的复杂心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0" y="735840"/>
            <a:ext cx="914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还记得那回我带你去北海吗？你偏说那杨树花式毛毛虫，跑着，一脚踩扁一个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Group 27"/>
          <p:cNvGraphicFramePr/>
          <p:nvPr/>
        </p:nvGraphicFramePr>
        <p:xfrm>
          <a:off x="0" y="1600200"/>
          <a:ext cx="9143640" cy="891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89172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动作描写。“偏说”“跑着”“踩扁”准确地写出了“我”此前身体健康的情态， 也让母亲“喜出望外”，忘乎所以，暂时忘记了眼前的烦恼，直到她突然意识到犯了“禁忌”，才从梦中惊醒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sp>
        <p:nvSpPr>
          <p:cNvPr id="189" name="Text Box 5"/>
          <p:cNvSpPr/>
          <p:nvPr/>
        </p:nvSpPr>
        <p:spPr>
          <a:xfrm>
            <a:off x="285840" y="2625480"/>
            <a:ext cx="8857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她忽然不说了。对于“跑”和“踩”一类的字眼儿，她比我还敏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表格 7"/>
          <p:cNvGraphicFramePr/>
          <p:nvPr/>
        </p:nvGraphicFramePr>
        <p:xfrm>
          <a:off x="303120" y="3438360"/>
          <a:ext cx="7527600" cy="1165680"/>
        </p:xfrm>
        <a:graphic>
          <a:graphicData uri="http://schemas.openxmlformats.org/drawingml/2006/table">
            <a:tbl>
              <a:tblPr/>
              <a:tblGrid>
                <a:gridCol w="7527600"/>
              </a:tblGrid>
              <a:tr h="116568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心理描写。母亲为自己出语不慎引起了儿子的伤心而懊恼不已，黯然神伤。她把儿子的自尊看得比什么都重，甚至在这一点上比儿子自己都敏感。细心的母亲就这样时时有意无意地呵护着儿子，关心着儿子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sp>
        <p:nvSpPr>
          <p:cNvPr id="191" name="TextBox 9"/>
          <p:cNvSpPr/>
          <p:nvPr/>
        </p:nvSpPr>
        <p:spPr>
          <a:xfrm>
            <a:off x="755640" y="195120"/>
            <a:ext cx="22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课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2" descr="花"/>
          <p:cNvPicPr/>
          <p:nvPr/>
        </p:nvPicPr>
        <p:blipFill>
          <a:blip r:embed="rId1"/>
          <a:stretch/>
        </p:blipFill>
        <p:spPr>
          <a:xfrm>
            <a:off x="380880" y="2684880"/>
            <a:ext cx="2364840" cy="16916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857160" y="1125000"/>
            <a:ext cx="7714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课文最后一段问什么详写各种颜色的菊花在“秋风中正开得烂漫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2786040" y="2035800"/>
            <a:ext cx="63576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详写在“秋风中正可得烂漫”的菊花，象征了母亲菊花一样的精神品质，也表明“我”和妹妹实现了母亲生前的遗愿，感受到生活的美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755640" y="195120"/>
            <a:ext cx="237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课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116a639df8e"/>
          <p:cNvPicPr/>
          <p:nvPr/>
        </p:nvPicPr>
        <p:blipFill>
          <a:blip r:embed="rId1"/>
          <a:stretch/>
        </p:blipFill>
        <p:spPr>
          <a:xfrm>
            <a:off x="3851280" y="1869120"/>
            <a:ext cx="4025520" cy="291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746280" y="3160080"/>
            <a:ext cx="184320" cy="522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50920" y="3003840"/>
            <a:ext cx="4876560" cy="1339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黄——淡雅  要活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平平淡淡，做一个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实在在的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107689-00836"/>
          <p:cNvPicPr/>
          <p:nvPr/>
        </p:nvPicPr>
        <p:blipFill>
          <a:blip r:embed="rId2"/>
          <a:stretch/>
        </p:blipFill>
        <p:spPr>
          <a:xfrm>
            <a:off x="357120" y="789480"/>
            <a:ext cx="2885760" cy="20523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3381480" y="1221480"/>
            <a:ext cx="5762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白——高洁     要活得高尚而纯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755640" y="195120"/>
            <a:ext cx="20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课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6800863"/>
          <p:cNvPicPr/>
          <p:nvPr/>
        </p:nvPicPr>
        <p:blipFill>
          <a:blip r:embed="rId1"/>
          <a:stretch/>
        </p:blipFill>
        <p:spPr>
          <a:xfrm>
            <a:off x="3060000" y="2427840"/>
            <a:ext cx="4762080" cy="21045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5"/>
          <p:cNvSpPr/>
          <p:nvPr/>
        </p:nvSpPr>
        <p:spPr>
          <a:xfrm>
            <a:off x="250920" y="735840"/>
            <a:ext cx="7489080" cy="79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57200" indent="-21600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紫红色——热烈而深沉    要活得有热情、有活力而不张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755640" y="195120"/>
            <a:ext cx="252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课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7"/>
          <p:cNvSpPr/>
          <p:nvPr/>
        </p:nvSpPr>
        <p:spPr>
          <a:xfrm>
            <a:off x="681120" y="1055520"/>
            <a:ext cx="7786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课文几次写到秋天，“秋天的怀念”有什么含义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表格 8"/>
          <p:cNvGraphicFramePr/>
          <p:nvPr/>
        </p:nvGraphicFramePr>
        <p:xfrm>
          <a:off x="684360" y="1924200"/>
          <a:ext cx="8245080" cy="2159640"/>
        </p:xfrm>
        <a:graphic>
          <a:graphicData uri="http://schemas.openxmlformats.org/drawingml/2006/table">
            <a:tbl>
              <a:tblPr/>
              <a:tblGrid>
                <a:gridCol w="8245440"/>
              </a:tblGrid>
              <a:tr h="2159640">
                <a:tc>
                  <a:txBody>
                    <a:bodyPr lIns="91080" rIns="9108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两次。一次在母亲即将去世前，一次在母亲去世后多年，“我”和妹妹去北海公园看花。题目为“秋天的怀念”，其主要寓意为在秋天怀念同样是在秋天去世的母亲，也表明经过了人生的“秋天”，母亲牵挂的儿女都已经长大了，懂得了怎样面对生活的困境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sp>
        <p:nvSpPr>
          <p:cNvPr id="207" name="TextBox 7"/>
          <p:cNvSpPr/>
          <p:nvPr/>
        </p:nvSpPr>
        <p:spPr>
          <a:xfrm>
            <a:off x="755640" y="195120"/>
            <a:ext cx="1655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课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7"/>
          <p:cNvSpPr/>
          <p:nvPr/>
        </p:nvSpPr>
        <p:spPr>
          <a:xfrm>
            <a:off x="971640" y="1924200"/>
            <a:ext cx="61210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重复母亲“好好活儿”的话，表明成熟的“我们”现在已经懂得生命的意义和生活的真谛，不会再徒叹命运的无情，会勇敢地面对生活的磨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755640" y="195120"/>
            <a:ext cx="1620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课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表格 10"/>
          <p:cNvGraphicFramePr/>
          <p:nvPr/>
        </p:nvGraphicFramePr>
        <p:xfrm>
          <a:off x="928800" y="1018080"/>
          <a:ext cx="6095520" cy="7272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72720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21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1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、结尾重复母亲“好好活儿”的话，有什么深意？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141840"/>
            <a:ext cx="1856880" cy="465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新课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67536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文章多次提到“北海”和“菊花”，找出来并分析这两种事物有什么深刻含义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395280" y="1653840"/>
            <a:ext cx="7380360" cy="2946600"/>
            <a:chOff x="395280" y="1653840"/>
            <a:chExt cx="7380360" cy="2946600"/>
          </a:xfrm>
        </p:grpSpPr>
        <p:grpSp>
          <p:nvGrpSpPr>
            <p:cNvPr id="214" name="Group 5"/>
            <p:cNvGrpSpPr/>
            <p:nvPr/>
          </p:nvGrpSpPr>
          <p:grpSpPr>
            <a:xfrm>
              <a:off x="395280" y="1653840"/>
              <a:ext cx="7380360" cy="2946600"/>
              <a:chOff x="395280" y="1653840"/>
              <a:chExt cx="7380360" cy="2946600"/>
            </a:xfrm>
          </p:grpSpPr>
          <p:pic>
            <p:nvPicPr>
              <p:cNvPr id="215" name="Picture 6" descr="DSCF1308"/>
              <p:cNvPicPr/>
              <p:nvPr/>
            </p:nvPicPr>
            <p:blipFill>
              <a:blip r:embed="rId1"/>
              <a:stretch/>
            </p:blipFill>
            <p:spPr>
              <a:xfrm>
                <a:off x="395280" y="3069000"/>
                <a:ext cx="3806280" cy="153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Picture 7" descr="菊花6"/>
              <p:cNvPicPr/>
              <p:nvPr/>
            </p:nvPicPr>
            <p:blipFill>
              <a:blip r:embed="rId2"/>
              <a:stretch/>
            </p:blipFill>
            <p:spPr>
              <a:xfrm flipH="1">
                <a:off x="4202280" y="1653840"/>
                <a:ext cx="3573360" cy="143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Picture 8" descr="图片3"/>
              <p:cNvPicPr/>
              <p:nvPr/>
            </p:nvPicPr>
            <p:blipFill>
              <a:blip r:embed="rId3"/>
              <a:stretch/>
            </p:blipFill>
            <p:spPr>
              <a:xfrm>
                <a:off x="4201920" y="3078720"/>
                <a:ext cx="3573360" cy="1521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8" name="Picture 9" descr="u=4217666486,388741162&amp;fm=0&amp;gp=30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395280" y="1653840"/>
              <a:ext cx="3806280" cy="143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467640" y="1203480"/>
            <a:ext cx="83149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广阔的北海象征着人的胸怀，盛开的花朵象征着生命的精彩。在母亲心目中，那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能唤起“我”希望的事物，所以她再三请求“我”去北海看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当“我”真正看到 “黄色的花淡雅、白色的花高洁、紫色的花热烈而深沉，泼泼洒洒，秋风中正开得烂漫”的情景 ，“我”也真正领悟到了生命的真谛—要好好儿活！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84360" y="195120"/>
            <a:ext cx="435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课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"/>
          <p:cNvSpPr/>
          <p:nvPr/>
        </p:nvSpPr>
        <p:spPr>
          <a:xfrm>
            <a:off x="1187280" y="1059480"/>
            <a:ext cx="676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草无法报答春光的沐浴之恩，就像小草一样，我们也无法报答母亲的养育之恩。今天我们共同学习史铁生的《秋天的怀念》正是体现了母爱的伟大和平凡、细致而深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1200960" y="1951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Group 9"/>
          <p:cNvGraphicFramePr/>
          <p:nvPr/>
        </p:nvGraphicFramePr>
        <p:xfrm>
          <a:off x="684360" y="1059480"/>
          <a:ext cx="7776720" cy="240120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240120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心思想：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秋天的怀念》是著名作家史铁生对已故母亲的怀念，讲述了母亲在病重期间细致入微地照顾双腿瘫痪的儿子，并鼓励儿子要好好儿活下去，表达了史铁生对母亲深切的思念和无尽的爱，以及对“子欲养而亲不待”的悔恨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sp>
        <p:nvSpPr>
          <p:cNvPr id="222" name="TextBox 2"/>
          <p:cNvSpPr/>
          <p:nvPr/>
        </p:nvSpPr>
        <p:spPr>
          <a:xfrm>
            <a:off x="755640" y="195120"/>
            <a:ext cx="1655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论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755640" y="195120"/>
            <a:ext cx="216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395280" y="1006200"/>
            <a:ext cx="6048000" cy="17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4"/>
          <p:cNvSpPr/>
          <p:nvPr/>
        </p:nvSpPr>
        <p:spPr>
          <a:xfrm>
            <a:off x="395280" y="1131480"/>
            <a:ext cx="8424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双腿瘫痪后，我的脾气变得暴怒无常。望着望着天上北归的雁阵，我会突然把面前的玻璃砸碎；听着听着李谷一甜美的歌声，我会猛地把手边的东西摔向四周的墙壁。这时，母亲就悄悄地躲出去，在我看不见的地方偷偷地听着我的动静。当一切恢复沉寂，她又悄悄地进来，眼边红红的，看着我。“听说北海的花儿都开了，我推着你去走走。”她总是这么说。母亲喜欢花，可自从我的腿瘫痪后，她侍弄的那些花都死了。“不，我不去！”我狠命的捶打这两条可恨的腿，喊着：“我可活什么劲！”母亲扑过来抓住我的手，忍住哭声说：“咱娘俩在一块，好好儿活，好好儿活…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684360" y="195120"/>
            <a:ext cx="1942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468360" y="735840"/>
            <a:ext cx="82800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哪句话体现“我”双腿瘫痪以后，脾气变得暴躁无常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读画线的句子，写出你对这句话的理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611280" y="1600200"/>
            <a:ext cx="777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望着望着天上北归的雁阵，我会突然把面前的玻璃砸碎；听着听着李谷一甜美的歌声，我会猛地把手边的东西摔向四周的墙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755640" y="3274200"/>
            <a:ext cx="763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是母亲的良苦用心，让“我”感受到生命的美好，鼓励“我”坚强地活下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539640" y="789480"/>
            <a:ext cx="770364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“母亲喜欢花，可自从我的腿瘫痪后，她侍弄的那些花都死了”，这说明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结合内容说说文中加粗的动词──“扑”和“抓”为什么用得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684360" y="195120"/>
            <a:ext cx="338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684360" y="1653840"/>
            <a:ext cx="647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母亲全心全意照顾“我”，几乎无暇他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611280" y="3165840"/>
            <a:ext cx="6984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通过这两个动作，突出表现“我”内心的伤痛对母亲心灵造成的莫大冲击，表现出母亲对“我”的呵护与担忧，也形象地反映了母亲在拼尽全力地爱“我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1200960" y="19512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业布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2717640" y="1486080"/>
            <a:ext cx="28206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用“夜静悄悄的，月光如水，我用手支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枕头，怎么也睡不着……”为文章的首句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一篇反映家庭亲情的文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755640" y="250200"/>
            <a:ext cx="1655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板书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6"/>
          <p:cNvSpPr/>
          <p:nvPr/>
        </p:nvSpPr>
        <p:spPr>
          <a:xfrm>
            <a:off x="1583640" y="915480"/>
            <a:ext cx="5381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秋天的怀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           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母爱中有     忍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            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尊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           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           怀念        母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681120"/>
            <a:ext cx="8568000" cy="1766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习目标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解决生字词，理解课文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学习作者刻画人物的方法，感受文中母亲形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体会文中景物描写的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学会在逆境中勇敢面对人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755640" y="195120"/>
            <a:ext cx="194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课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590400" y="1491480"/>
            <a:ext cx="82810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史铁生，当代著名作家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5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生于北京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6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毕业于清华附中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6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去延安地区插队落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7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因双腿瘫痪回到北京，在街道工厂工作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7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发表第一篇小说《法学教授及其夫人》，之后《我的遥远的清平湾》和《奶奶的星星》分别获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8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8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全国优秀短篇小说奖。除小说外，还有《我与地坛》、《秋天的怀念》等散文作品，近年又出版了《病隙碎笔》等作品，均引起了较大反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980160" y="465480"/>
            <a:ext cx="866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家简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755640" y="195120"/>
            <a:ext cx="223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科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u=2929456457,1397123954&amp;gp=-6"/>
          <p:cNvPicPr/>
          <p:nvPr/>
        </p:nvPicPr>
        <p:blipFill>
          <a:blip r:embed="rId1"/>
          <a:stretch/>
        </p:blipFill>
        <p:spPr>
          <a:xfrm>
            <a:off x="1187280" y="1006200"/>
            <a:ext cx="2144520" cy="2212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257400" y="1924200"/>
            <a:ext cx="59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史铁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276720" y="844200"/>
            <a:ext cx="5347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7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的他因病瘫痪，从此永远坐上了轮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348000" y="1977480"/>
            <a:ext cx="4916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写的《我与地坛》被公认为中国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最优秀的散文之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55640" y="3219480"/>
            <a:ext cx="446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，他获得华语文学传媒大奖年度杰出成就奖，是现在中国最令人敬佩的作家之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无标题"/>
          <p:cNvPicPr/>
          <p:nvPr/>
        </p:nvPicPr>
        <p:blipFill>
          <a:blip r:embed="rId2"/>
          <a:stretch/>
        </p:blipFill>
        <p:spPr>
          <a:xfrm>
            <a:off x="6156360" y="3219480"/>
            <a:ext cx="1531440" cy="1673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u=2911092291,4242805574&amp;gp=-2"/>
          <p:cNvPicPr/>
          <p:nvPr/>
        </p:nvPicPr>
        <p:blipFill>
          <a:blip r:embed="rId3"/>
          <a:stretch/>
        </p:blipFill>
        <p:spPr>
          <a:xfrm>
            <a:off x="5076720" y="2787120"/>
            <a:ext cx="1633320" cy="17380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8"/>
          <p:cNvSpPr/>
          <p:nvPr/>
        </p:nvSpPr>
        <p:spPr>
          <a:xfrm>
            <a:off x="826920" y="195120"/>
            <a:ext cx="194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课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93680" y="588240"/>
            <a:ext cx="412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活到最狂妄的年龄上忽的残废了双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sts1"/>
          <p:cNvPicPr/>
          <p:nvPr/>
        </p:nvPicPr>
        <p:blipFill>
          <a:blip r:embed="rId1"/>
          <a:stretch/>
        </p:blipFill>
        <p:spPr>
          <a:xfrm>
            <a:off x="5435640" y="357120"/>
            <a:ext cx="2449080" cy="1835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xin_470702040947265218126"/>
          <p:cNvPicPr/>
          <p:nvPr/>
        </p:nvPicPr>
        <p:blipFill>
          <a:blip r:embed="rId2"/>
          <a:stretch/>
        </p:blipFill>
        <p:spPr>
          <a:xfrm>
            <a:off x="971640" y="1815840"/>
            <a:ext cx="2238120" cy="253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3851280" y="2680200"/>
            <a:ext cx="5040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条腿瘫痪后的最初几年，我找不到工作，找不到出路，突然似乎什么都找不到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684360" y="195120"/>
            <a:ext cx="1871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课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395280" y="1383480"/>
            <a:ext cx="504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夯实字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042920" y="627480"/>
            <a:ext cx="7451280" cy="2818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瘫痪（            ）暴怒（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侍弄（           ） 整宿（             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憔悴（           ）絮絮叨叨（           ）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捶打（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央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    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诀别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     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烂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淡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   )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沉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深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       )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神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敏感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  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1964160" y="627480"/>
            <a:ext cx="1726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ān hu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825800" y="627480"/>
            <a:ext cx="877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ào n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925280" y="1059480"/>
            <a:ext cx="1055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ì nò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590360" y="1113120"/>
            <a:ext cx="1156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hěng xi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2036520" y="1546560"/>
            <a:ext cx="979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iáo cu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810320" y="1600200"/>
            <a:ext cx="142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ùxùdɑodɑ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921320" y="2032200"/>
            <a:ext cx="1498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uí d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079880" y="2085840"/>
            <a:ext cx="1042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āng qi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4472640" y="2518200"/>
            <a:ext cx="991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àn m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965240" y="3003840"/>
            <a:ext cx="865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àn y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4110480" y="3003840"/>
            <a:ext cx="853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én j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2211480" y="2464560"/>
            <a:ext cx="915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ué  bi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4982040" y="3489840"/>
            <a:ext cx="979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én s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045520" y="3382560"/>
            <a:ext cx="1232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ēn ch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2037600" y="3976560"/>
            <a:ext cx="991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ǐn gǎ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0"/>
          <p:cNvSpPr/>
          <p:nvPr/>
        </p:nvSpPr>
        <p:spPr>
          <a:xfrm>
            <a:off x="755640" y="195120"/>
            <a:ext cx="194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课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-179280" y="1221480"/>
            <a:ext cx="9142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大声自由朗读课文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599640" y="2682360"/>
            <a:ext cx="40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并请你在文中标明每一自然段的序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755640" y="195120"/>
            <a:ext cx="22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课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6"/>
          <p:cNvSpPr/>
          <p:nvPr/>
        </p:nvSpPr>
        <p:spPr>
          <a:xfrm>
            <a:off x="2435760" y="844200"/>
            <a:ext cx="1004040" cy="79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受母亲的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表格 3"/>
          <p:cNvGraphicFramePr/>
          <p:nvPr/>
        </p:nvGraphicFramePr>
        <p:xfrm>
          <a:off x="971640" y="1815840"/>
          <a:ext cx="7776720" cy="156564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156564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母亲：慈爱、宽容、善良、乐观、坚强、伟大、无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儿子：悲观、烦躁、倔强、暴怒无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sp>
        <p:nvSpPr>
          <p:cNvPr id="176" name="矩形 4">
            <a:hlinkClick r:id="rId1"/>
          </p:cNvPr>
          <p:cNvSpPr/>
          <p:nvPr/>
        </p:nvSpPr>
        <p:spPr>
          <a:xfrm>
            <a:off x="7286760" y="4286160"/>
            <a:ext cx="1142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684360" y="195120"/>
            <a:ext cx="237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课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  <Words>2866</Words>
  <Paragraphs>15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11:52:33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20-04-13T08:48:48Z</dcterms:modified>
  <cp:revision>5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16:9)</vt:lpwstr>
  </property>
  <property fmtid="{D5CDD505-2E9C-101B-9397-08002B2CF9AE}" pid="4" name="Slides">
    <vt:r8>27</vt:r8>
  </property>
</Properties>
</file>