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media13.mp4" ContentType="video/mp4"/>
  <Override PartName="/ppt/media/media3.mp4" ContentType="video/mp4"/>
  <Override PartName="/ppt/media/image14.png" ContentType="image/png"/>
  <Override PartName="/ppt/media/media9.mp4" ContentType="video/mp4"/>
  <Override PartName="/ppt/media/image8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4.png" ContentType="image/png"/>
  <Override PartName="/ppt/media/media15.mp4" ContentType="video/mp4"/>
  <Override PartName="/ppt/media/image16.png" ContentType="image/png"/>
  <Override PartName="/ppt/media/media5.mp4" ContentType="video/mp4"/>
  <Override PartName="/ppt/media/media11.mp4" ContentType="video/mp4"/>
  <Override PartName="/ppt/media/image12.png" ContentType="image/png"/>
  <Override PartName="/ppt/media/image6.png" ContentType="image/png"/>
  <Override PartName="/ppt/media/media17.mp4" ContentType="video/mp4"/>
  <Override PartName="/ppt/media/image18.png" ContentType="image/png"/>
  <Override PartName="/ppt/media/media7.mp4" ContentType="video/mp4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8E7A7A-01D2-4F06-B8FD-65B4D995D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E61C114-ED03-4AB2-A72A-D229743476EC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9273B38-9DCC-4A47-B4A3-32285CBAF040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1783A3E-68A2-4048-9AE5-C2D6B3D97271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1CFBD61-39F6-4789-8FA1-17D0DAF6372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0B274A4-9C01-4D49-A9DC-9BEBADBC851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D1F2234-9D0F-43EA-A251-780A63F95F5F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01DE9E6-ED64-4478-9ABF-486B6BC6D5F9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9970FCA-3435-4586-B3F7-41B3935ED992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4DA8E80-9F1D-4A3F-9113-72E27C45613D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442CF4E-D9F1-450E-9A8C-43B08B1F6FA8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DE30846-1898-44B2-B399-4075B34E7E40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E15C545-775D-4B9A-B2D5-ABB09D3DF150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024D2E4-3367-42AB-B814-3C70E1069A8D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028DAF4-898F-4710-A5E8-AE3566D5C4C2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259507B-9D42-48EC-8DC4-88298CA8B8D5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B839B43-BBE9-4F2C-B13E-5CB493D4626A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6A4942B-066F-4FF7-84C0-41736113BBD8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AED8222-60FD-484D-A22A-42E81D797789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AE4AE6F-6676-4BB5-ADED-B5E5DF93F774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2535DF2-887A-446B-BF22-DCE701518873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40A1611-AC93-42D0-9D1C-C8187BDAF80D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785A325-D464-40E0-A1FC-2269BD494AD1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D8D10AC-1F44-427B-B7F9-3B9BD8AA0169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0585E61-0E43-4D36-816D-0FC56D62E67C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C61A6A5-615C-43E6-B6CD-5AF9B05D21EC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CF1C217-5CE0-41B8-AD73-28D06827AC5A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D705314-21D9-410B-A1D0-2D72C1A0E765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1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矩形: 圆角 44"/>
          <p:cNvSpPr/>
          <p:nvPr/>
        </p:nvSpPr>
        <p:spPr>
          <a:xfrm>
            <a:off x="485640" y="952560"/>
            <a:ext cx="8172000" cy="3704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2ab48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41" name="椭圆 4"/>
          <p:cNvSpPr/>
          <p:nvPr/>
        </p:nvSpPr>
        <p:spPr>
          <a:xfrm>
            <a:off x="-490320" y="62640"/>
            <a:ext cx="750600" cy="750600"/>
          </a:xfrm>
          <a:prstGeom prst="ellipse">
            <a:avLst/>
          </a:prstGeom>
          <a:noFill/>
          <a:ln w="228600">
            <a:solidFill>
              <a:srgbClr val="00a1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Light"/>
              <a:ea typeface="思源黑体 CN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../media/media5.mp4"/><Relationship Id="rId2" Type="http://schemas.microsoft.com/office/2007/relationships/media" Target="../media/media5.mp4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../media/media7.mp4"/><Relationship Id="rId2" Type="http://schemas.microsoft.com/office/2007/relationships/media" Target="../media/media7.mp4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../media/media9.mp4"/><Relationship Id="rId2" Type="http://schemas.microsoft.com/office/2007/relationships/media" Target="../media/media9.mp4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../media/media11.mp4"/><Relationship Id="rId2" Type="http://schemas.microsoft.com/office/2007/relationships/media" Target="../media/media11.mp4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../media/media13.mp4"/><Relationship Id="rId2" Type="http://schemas.microsoft.com/office/2007/relationships/media" Target="../media/media13.mp4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video" Target="../media/media15.mp4"/><Relationship Id="rId2" Type="http://schemas.microsoft.com/office/2007/relationships/media" Target="../media/media15.mp4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video" Target="../media/media17.mp4"/><Relationship Id="rId2" Type="http://schemas.microsoft.com/office/2007/relationships/media" Target="../media/media17.mp4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../media/media3.mp4"/><Relationship Id="rId2" Type="http://schemas.microsoft.com/office/2007/relationships/media" Target="../media/media3.mp4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34"/>
          <p:cNvGrpSpPr/>
          <p:nvPr/>
        </p:nvGrpSpPr>
        <p:grpSpPr>
          <a:xfrm>
            <a:off x="0" y="1106280"/>
            <a:ext cx="9144000" cy="2987640"/>
            <a:chOff x="0" y="1106280"/>
            <a:chExt cx="9144000" cy="2987640"/>
          </a:xfrm>
        </p:grpSpPr>
        <p:sp>
          <p:nvSpPr>
            <p:cNvPr id="86" name="图片 25"/>
            <p:cNvSpPr/>
            <p:nvPr/>
          </p:nvSpPr>
          <p:spPr>
            <a:xfrm flipH="1">
              <a:off x="5651640" y="1416240"/>
              <a:ext cx="2347920" cy="2368080"/>
            </a:xfrm>
            <a:custGeom>
              <a:avLst/>
              <a:gdLst>
                <a:gd name="textAreaLeft" fmla="*/ 360 w 2347920"/>
                <a:gd name="textAreaRight" fmla="*/ 2348640 w 2347920"/>
                <a:gd name="textAreaTop" fmla="*/ 0 h 2368080"/>
                <a:gd name="textAreaBottom" fmla="*/ 2368440 h 2368080"/>
              </a:gdLst>
              <a:ahLst/>
              <a:rect l="textAreaLeft" t="textAreaTop" r="textAreaRight" b="textAreaBottom"/>
              <a:pathLst>
                <a:path w="3131267" h="3157980">
                  <a:moveTo>
                    <a:pt x="1578990" y="0"/>
                  </a:moveTo>
                  <a:cubicBezTo>
                    <a:pt x="706938" y="0"/>
                    <a:pt x="0" y="706938"/>
                    <a:pt x="0" y="1578990"/>
                  </a:cubicBezTo>
                  <a:cubicBezTo>
                    <a:pt x="0" y="2451042"/>
                    <a:pt x="706938" y="3157980"/>
                    <a:pt x="1578990" y="3157980"/>
                  </a:cubicBezTo>
                  <a:cubicBezTo>
                    <a:pt x="2342035" y="3157980"/>
                    <a:pt x="2978665" y="2616731"/>
                    <a:pt x="3125900" y="1897212"/>
                  </a:cubicBezTo>
                  <a:lnTo>
                    <a:pt x="3131267" y="1862049"/>
                  </a:lnTo>
                  <a:lnTo>
                    <a:pt x="3131267" y="1295931"/>
                  </a:lnTo>
                  <a:lnTo>
                    <a:pt x="3125900" y="1260769"/>
                  </a:lnTo>
                  <a:cubicBezTo>
                    <a:pt x="2978665" y="541250"/>
                    <a:pt x="2342035" y="0"/>
                    <a:pt x="157899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6"/>
            <p:cNvSpPr/>
            <p:nvPr/>
          </p:nvSpPr>
          <p:spPr>
            <a:xfrm>
              <a:off x="5321880" y="1106280"/>
              <a:ext cx="2987640" cy="2987640"/>
            </a:xfrm>
            <a:prstGeom prst="ellipse">
              <a:avLst/>
            </a:prstGeom>
            <a:noFill/>
            <a:ln w="228600">
              <a:solidFill>
                <a:srgbClr val="00a16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思源黑体 CN Light"/>
                <a:ea typeface="思源黑体 CN Bold"/>
              </a:endParaRPr>
            </a:p>
          </p:txBody>
        </p:sp>
        <p:cxnSp>
          <p:nvCxnSpPr>
            <p:cNvPr id="88" name="直接连接符 7"/>
            <p:cNvCxnSpPr>
              <a:stCxn id="87" idx="4"/>
            </p:cNvCxnSpPr>
            <p:nvPr/>
          </p:nvCxnSpPr>
          <p:spPr>
            <a:xfrm>
              <a:off x="6815880" y="4093920"/>
              <a:ext cx="2328480" cy="360"/>
            </a:xfrm>
            <a:prstGeom prst="straightConnector1">
              <a:avLst/>
            </a:prstGeom>
            <a:ln w="228600">
              <a:solidFill>
                <a:srgbClr val="00a166"/>
              </a:solidFill>
            </a:ln>
          </p:spPr>
        </p:cxnSp>
        <p:cxnSp>
          <p:nvCxnSpPr>
            <p:cNvPr id="89" name="直接连接符 8"/>
            <p:cNvCxnSpPr/>
            <p:nvPr/>
          </p:nvCxnSpPr>
          <p:spPr>
            <a:xfrm>
              <a:off x="0" y="1106280"/>
              <a:ext cx="6741360" cy="360"/>
            </a:xfrm>
            <a:prstGeom prst="straightConnector1">
              <a:avLst/>
            </a:prstGeom>
            <a:ln w="228600">
              <a:solidFill>
                <a:srgbClr val="00a166"/>
              </a:solidFill>
            </a:ln>
          </p:spPr>
        </p:cxnSp>
        <p:sp>
          <p:nvSpPr>
            <p:cNvPr id="90" name="文本框 16"/>
            <p:cNvSpPr/>
            <p:nvPr/>
          </p:nvSpPr>
          <p:spPr>
            <a:xfrm>
              <a:off x="825120" y="1186560"/>
              <a:ext cx="3154680" cy="501120"/>
            </a:xfrm>
            <a:prstGeom prst="rect">
              <a:avLst/>
            </a:prstGeom>
            <a:solidFill>
              <a:srgbClr val="00a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" rig="threePt"/>
              </a:scene3d>
              <a:sp3d contourW="12700"/>
            </a:bodyPr>
            <a:p>
              <a:pPr>
                <a:lnSpc>
                  <a:spcPct val="100000"/>
                </a:lnSpc>
              </a:pPr>
              <a:r>
                <a:rPr b="1" lang="zh-CN" sz="2700" spc="372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编版语文课件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" name="直接连接符 21"/>
          <p:cNvCxnSpPr/>
          <p:nvPr/>
        </p:nvCxnSpPr>
        <p:spPr>
          <a:xfrm>
            <a:off x="2402640" y="284400"/>
            <a:ext cx="6741720" cy="360"/>
          </a:xfrm>
          <a:prstGeom prst="straightConnector1">
            <a:avLst/>
          </a:prstGeom>
          <a:ln w="76200">
            <a:solidFill>
              <a:srgbClr val="d9d9d9"/>
            </a:solidFill>
          </a:ln>
        </p:spPr>
      </p:cxnSp>
      <p:cxnSp>
        <p:nvCxnSpPr>
          <p:cNvPr id="92" name="直接连接符 22"/>
          <p:cNvCxnSpPr/>
          <p:nvPr/>
        </p:nvCxnSpPr>
        <p:spPr>
          <a:xfrm>
            <a:off x="0" y="4812840"/>
            <a:ext cx="6741360" cy="360"/>
          </a:xfrm>
          <a:prstGeom prst="straightConnector1">
            <a:avLst/>
          </a:prstGeom>
          <a:ln w="76200">
            <a:solidFill>
              <a:srgbClr val="d9d9d9"/>
            </a:solidFill>
          </a:ln>
        </p:spPr>
      </p:cxnSp>
      <p:sp>
        <p:nvSpPr>
          <p:cNvPr id="93" name="文本框 3" hidden="1"/>
          <p:cNvSpPr/>
          <p:nvPr/>
        </p:nvSpPr>
        <p:spPr>
          <a:xfrm>
            <a:off x="0" y="112320"/>
            <a:ext cx="1571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Y YUS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33"/>
          <p:cNvGrpSpPr/>
          <p:nvPr/>
        </p:nvGrpSpPr>
        <p:grpSpPr>
          <a:xfrm>
            <a:off x="825120" y="1921320"/>
            <a:ext cx="3925440" cy="1548360"/>
            <a:chOff x="825120" y="1921320"/>
            <a:chExt cx="3925440" cy="1548360"/>
          </a:xfrm>
        </p:grpSpPr>
        <p:sp>
          <p:nvSpPr>
            <p:cNvPr id="95" name="矩形 259"/>
            <p:cNvSpPr/>
            <p:nvPr/>
          </p:nvSpPr>
          <p:spPr>
            <a:xfrm>
              <a:off x="825120" y="1921320"/>
              <a:ext cx="3925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zh-CN" sz="6000" spc="-1" strike="noStrike">
                  <a:solidFill>
                    <a:srgbClr val="00a166"/>
                  </a:solidFill>
                  <a:latin typeface="胡晓波男神体"/>
                  <a:ea typeface="胡晓波男神体"/>
                </a:rPr>
                <a:t>青蛙卖泥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30"/>
            <p:cNvSpPr/>
            <p:nvPr/>
          </p:nvSpPr>
          <p:spPr>
            <a:xfrm>
              <a:off x="1148400" y="2892960"/>
              <a:ext cx="12099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700" spc="-1" strike="noStrike">
                  <a:solidFill>
                    <a:srgbClr val="44546a"/>
                  </a:solidFill>
                  <a:latin typeface="胡晓波男神体"/>
                  <a:ea typeface="胡晓波男神体"/>
                </a:rPr>
                <a:t>二年级下册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直接连接符 32"/>
            <p:cNvCxnSpPr/>
            <p:nvPr/>
          </p:nvCxnSpPr>
          <p:spPr>
            <a:xfrm>
              <a:off x="886320" y="3469680"/>
              <a:ext cx="3464280" cy="360"/>
            </a:xfrm>
            <a:prstGeom prst="straightConnector1">
              <a:avLst/>
            </a:prstGeom>
            <a:ln cap="rnd" w="25400">
              <a:solidFill>
                <a:srgbClr val="00a166"/>
              </a:solidFill>
            </a:ln>
          </p:spPr>
        </p:cxnSp>
      </p:grpSp>
      <p:sp>
        <p:nvSpPr>
          <p:cNvPr id="98" name="矩形 17"/>
          <p:cNvSpPr/>
          <p:nvPr/>
        </p:nvSpPr>
        <p:spPr>
          <a:xfrm>
            <a:off x="886320" y="4234680"/>
            <a:ext cx="353448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38"/>
          <p:cNvSpPr/>
          <p:nvPr/>
        </p:nvSpPr>
        <p:spPr>
          <a:xfrm>
            <a:off x="6829920" y="1082520"/>
            <a:ext cx="1035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mà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4356360" y="1697400"/>
            <a:ext cx="4431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上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菜    卖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老奶奶靠卖菜为生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十”稍小，竖在竖中线上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横钩要宽，“头”的撇画舒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69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49760" y="1714680"/>
            <a:ext cx="2201400" cy="2160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70"/>
                </p:tgtEl>
              </p:cMediaNode>
            </p:video>
            <p:seq>
              <p:cTn id="306" restart="whenNotActive" nodeType="interactiveSeq" fill="hold">
                <p:stCondLst>
                  <p:cond delay="0" evt="onClick">
                    <p:tgtEl>
                      <p:spTgt spid="170"/>
                    </p:tgtEl>
                  </p:cond>
                </p:stCondLst>
                <p:childTnLst>
                  <p:par>
                    <p:cTn id="307" fill="hold">
                      <p:stCondLst>
                        <p:cond delay="0"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0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38"/>
          <p:cNvSpPr/>
          <p:nvPr/>
        </p:nvSpPr>
        <p:spPr>
          <a:xfrm>
            <a:off x="6908040" y="1082520"/>
            <a:ext cx="75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ā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"/>
          <p:cNvSpPr/>
          <p:nvPr/>
        </p:nvSpPr>
        <p:spPr>
          <a:xfrm>
            <a:off x="4322520" y="1714680"/>
            <a:ext cx="4431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搬家   搬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叔叔是一名搬运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舟”窄长，撇画舒展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又”的捺画 舒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76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208880" y="1714680"/>
            <a:ext cx="2158560" cy="20836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77"/>
                </p:tgtEl>
              </p:cMediaNode>
            </p:video>
            <p:seq>
              <p:cTn id="350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351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4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38"/>
          <p:cNvSpPr/>
          <p:nvPr/>
        </p:nvSpPr>
        <p:spPr>
          <a:xfrm>
            <a:off x="6861960" y="1082520"/>
            <a:ext cx="779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dà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0"/>
          <p:cNvSpPr/>
          <p:nvPr/>
        </p:nvSpPr>
        <p:spPr>
          <a:xfrm>
            <a:off x="3278160" y="169776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3"/>
          <p:cNvSpPr/>
          <p:nvPr/>
        </p:nvSpPr>
        <p:spPr>
          <a:xfrm>
            <a:off x="3958200" y="1700640"/>
            <a:ext cx="48682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倒车   倒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把他车倒进车库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窄右宽，“至”的竖在竖中线上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最后一笔是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83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26640" y="1787040"/>
            <a:ext cx="2218680" cy="20653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84"/>
                </p:tgtEl>
              </p:cMediaNode>
            </p:video>
            <p:seq>
              <p:cTn id="394" restart="whenNotActive" nodeType="interactiveSeq" fill="hold">
                <p:stCondLst>
                  <p:cond delay="0" evt="onClick">
                    <p:tgtEl>
                      <p:spTgt spid="184"/>
                    </p:tgtEl>
                  </p:cond>
                </p:stCondLst>
                <p:childTnLst>
                  <p:par>
                    <p:cTn id="395" fill="hold">
                      <p:stCondLst>
                        <p:cond delay="0"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38"/>
          <p:cNvSpPr/>
          <p:nvPr/>
        </p:nvSpPr>
        <p:spPr>
          <a:xfrm>
            <a:off x="7006680" y="1082520"/>
            <a:ext cx="983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z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3"/>
          <p:cNvSpPr/>
          <p:nvPr/>
        </p:nvSpPr>
        <p:spPr>
          <a:xfrm>
            <a:off x="4264920" y="1697400"/>
            <a:ext cx="4431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菜籽    草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他给了我一些菜籽。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同宽，“米”的捺变点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子”的横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90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234080" y="1785240"/>
            <a:ext cx="2055240" cy="19857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91"/>
                </p:tgtEl>
              </p:cMediaNode>
            </p:video>
            <p:seq>
              <p:cTn id="438" restart="whenNotActive" nodeType="interactiveSeq" fill="hold">
                <p:stCondLst>
                  <p:cond delay="0" evt="onClick">
                    <p:tgtEl>
                      <p:spTgt spid="191"/>
                    </p:tgtEl>
                  </p:cond>
                </p:stCondLst>
                <p:childTnLst>
                  <p:par>
                    <p:cTn id="439" fill="hold">
                      <p:stCondLst>
                        <p:cond delay="0"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2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38"/>
          <p:cNvSpPr/>
          <p:nvPr/>
        </p:nvSpPr>
        <p:spPr>
          <a:xfrm>
            <a:off x="6781680" y="1082520"/>
            <a:ext cx="75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qu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3"/>
          <p:cNvSpPr/>
          <p:nvPr/>
        </p:nvSpPr>
        <p:spPr>
          <a:xfrm>
            <a:off x="4553280" y="1720080"/>
            <a:ext cx="443160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上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水趵突泉   泉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里的泉水很清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白”稍宽，“水”的竖钩在竖中线上，    捺画舒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97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118880" y="1741680"/>
            <a:ext cx="2256480" cy="20887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98"/>
                </p:tgtEl>
              </p:cMediaNode>
            </p:video>
            <p:seq>
              <p:cTn id="472" restart="whenNotActive" nodeType="interactiveSeq" fill="hold">
                <p:stCondLst>
                  <p:cond delay="0" evt="onClick">
                    <p:tgtEl>
                      <p:spTgt spid="198"/>
                    </p:tgtEl>
                  </p:cond>
                </p:stCondLst>
                <p:childTnLst>
                  <p:par>
                    <p:cTn id="473" fill="hold">
                      <p:stCondLst>
                        <p:cond delay="0"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38"/>
          <p:cNvSpPr/>
          <p:nvPr/>
        </p:nvSpPr>
        <p:spPr>
          <a:xfrm>
            <a:off x="6908040" y="1044720"/>
            <a:ext cx="75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p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3"/>
          <p:cNvSpPr/>
          <p:nvPr/>
        </p:nvSpPr>
        <p:spPr>
          <a:xfrm>
            <a:off x="4322520" y="1714680"/>
            <a:ext cx="4431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破旧   破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他的衣服很破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窄右宽，顶部“石”低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底部“皮”低。“皮”的撇画舒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04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166040" y="1792440"/>
            <a:ext cx="2183760" cy="206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205"/>
                </p:tgtEl>
              </p:cMediaNode>
            </p:video>
            <p:seq>
              <p:cTn id="516" restart="whenNotActive" nodeType="interactiveSeq" fill="hold">
                <p:stCondLst>
                  <p:cond delay="0" evt="onClick">
                    <p:tgtEl>
                      <p:spTgt spid="205"/>
                    </p:tgtEl>
                  </p:cond>
                </p:stCondLst>
                <p:childTnLst>
                  <p:par>
                    <p:cTn id="517" fill="hold">
                      <p:stCondLst>
                        <p:cond delay="0"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0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38"/>
          <p:cNvSpPr/>
          <p:nvPr/>
        </p:nvSpPr>
        <p:spPr>
          <a:xfrm>
            <a:off x="6798600" y="1082520"/>
            <a:ext cx="973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ī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3"/>
          <p:cNvSpPr/>
          <p:nvPr/>
        </p:nvSpPr>
        <p:spPr>
          <a:xfrm>
            <a:off x="4356360" y="1719360"/>
            <a:ext cx="4431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半包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应该   应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件事应该不是他做的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上的“广”横稍长、撇画舒展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最后一笔横稍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11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148760" y="1772640"/>
            <a:ext cx="2073240" cy="2052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212"/>
                </p:tgtEl>
              </p:cMediaNode>
            </p:video>
            <p:seq>
              <p:cTn id="560" restart="whenNotActive" nodeType="interactiveSeq" fill="hold">
                <p:stCondLst>
                  <p:cond delay="0" evt="onClick">
                    <p:tgtEl>
                      <p:spTgt spid="212"/>
                    </p:tgtEl>
                  </p:cond>
                </p:stCondLst>
                <p:childTnLst>
                  <p:par>
                    <p:cTn id="561" fill="hold">
                      <p:stCondLst>
                        <p:cond delay="0"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4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3"/>
          <p:cNvSpPr/>
          <p:nvPr/>
        </p:nvSpPr>
        <p:spPr>
          <a:xfrm>
            <a:off x="889200" y="1125000"/>
            <a:ext cx="736524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第一部分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自然段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是事情的起因，青蛙想把烂泥塘卖掉搬到城里去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第二部分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-11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自然段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是事情的经过，感受泥塘发生的变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第三部分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第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自然段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)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是事情的结果，青蛙不再卖泥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TextBox 17"/>
          <p:cNvSpPr/>
          <p:nvPr/>
        </p:nvSpPr>
        <p:spPr>
          <a:xfrm>
            <a:off x="889200" y="3076200"/>
            <a:ext cx="7492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本文讲了一只青蛙不愿住在烂泥塘里，准备把烂泥塘卖掉。卖泥塘的过程中先后听从了老牛、野鸭、小鸟、蝴蝶、小猴、小狐狸等小动物们的建议，逐步改善了泥塘的环境，最终不再卖泥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889200" y="2541240"/>
            <a:ext cx="4362120" cy="281160"/>
          </a:xfrm>
          <a:prstGeom prst="rect">
            <a:avLst/>
          </a:prstGeom>
          <a:noFill/>
          <a:ln w="9525">
            <a:solidFill>
              <a:srgbClr val="00a1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再读课文，想一想课文写了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23"/>
          <p:cNvSpPr/>
          <p:nvPr/>
        </p:nvSpPr>
        <p:spPr>
          <a:xfrm>
            <a:off x="813960" y="1156680"/>
            <a:ext cx="7591680" cy="43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住在烂泥塘里。他觉得这儿不怎么样，想把泥塘卖掉，换几个钱搬到城里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5"/>
          <p:cNvSpPr/>
          <p:nvPr/>
        </p:nvSpPr>
        <p:spPr>
          <a:xfrm>
            <a:off x="1297080" y="2229840"/>
            <a:ext cx="5389200" cy="312120"/>
          </a:xfrm>
          <a:prstGeom prst="wedgeRoundRectCallout">
            <a:avLst>
              <a:gd name="adj1" fmla="val 11589"/>
              <a:gd name="adj2" fmla="val -100404"/>
              <a:gd name="adj3" fmla="val 16667"/>
            </a:avLst>
          </a:prstGeom>
          <a:noFill/>
          <a:ln w="38100">
            <a:solidFill>
              <a:srgbClr val="00a1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交代青蛙卖掉泥塘的原因，激发了读者的阅读兴趣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7"/>
          <p:cNvGrpSpPr/>
          <p:nvPr/>
        </p:nvGrpSpPr>
        <p:grpSpPr>
          <a:xfrm>
            <a:off x="6816600" y="2157480"/>
            <a:ext cx="1381680" cy="539640"/>
            <a:chOff x="6816600" y="2157480"/>
            <a:chExt cx="1381680" cy="539640"/>
          </a:xfrm>
        </p:grpSpPr>
        <p:sp>
          <p:nvSpPr>
            <p:cNvPr id="221" name="云形 8"/>
            <p:cNvSpPr/>
            <p:nvPr/>
          </p:nvSpPr>
          <p:spPr>
            <a:xfrm>
              <a:off x="6816600" y="2157480"/>
              <a:ext cx="1086480" cy="539640"/>
            </a:xfrm>
            <a:prstGeom prst="cloud">
              <a:avLst/>
            </a:prstGeom>
            <a:noFill/>
            <a:ln>
              <a:solidFill>
                <a:srgbClr val="00a16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222" name="文本框 22"/>
            <p:cNvSpPr/>
            <p:nvPr/>
          </p:nvSpPr>
          <p:spPr>
            <a:xfrm>
              <a:off x="6840720" y="2249640"/>
              <a:ext cx="1357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心理描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29"/>
          <p:cNvSpPr/>
          <p:nvPr/>
        </p:nvSpPr>
        <p:spPr>
          <a:xfrm>
            <a:off x="3691440" y="2882160"/>
            <a:ext cx="1045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于是青蛙在泥塘边竖起一块牌子，上面写着“卖泥塘”三个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6" name="文本框 46"/>
          <p:cNvSpPr/>
          <p:nvPr/>
        </p:nvSpPr>
        <p:spPr>
          <a:xfrm>
            <a:off x="1099800" y="1382760"/>
            <a:ext cx="6794280" cy="430200"/>
          </a:xfrm>
          <a:prstGeom prst="roundRect">
            <a:avLst>
              <a:gd name="adj" fmla="val 16667"/>
            </a:avLst>
          </a:prstGeom>
          <a:noFill/>
          <a:ln w="38100">
            <a:solidFill>
              <a:srgbClr val="00a166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泥塘喽，卖泥塘！”青蛙站在牌子边大声吆喝起来。一头老牛走过来，看了看泥塘，说：“这个水坑坑嘛，在里边打打滚倒挺舒服。不过，要是周围有些草就更好了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"/>
          <p:cNvSpPr/>
          <p:nvPr/>
        </p:nvSpPr>
        <p:spPr>
          <a:xfrm>
            <a:off x="6176880" y="2666880"/>
            <a:ext cx="996480" cy="360360"/>
          </a:xfrm>
          <a:prstGeom prst="hexagon">
            <a:avLst>
              <a:gd name="adj" fmla="val 25000"/>
              <a:gd name="vf" fmla="val 115470"/>
            </a:avLst>
          </a:prstGeom>
          <a:solidFill>
            <a:schemeClr val="bg1"/>
          </a:solidFill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缺点：没有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1"/>
          <p:cNvSpPr/>
          <p:nvPr/>
        </p:nvSpPr>
        <p:spPr>
          <a:xfrm>
            <a:off x="1213920" y="1435320"/>
            <a:ext cx="36734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看到课题，大家小脑袋里一定装着好多小问号。青蛙为什么要去卖泥塘呢？都有哪些动物来买，他的泥塘卖出去没有呢？下面我们一起走进课文去看看吧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1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导读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图片 58"/>
          <p:cNvSpPr/>
          <p:nvPr/>
        </p:nvSpPr>
        <p:spPr>
          <a:xfrm flipH="1">
            <a:off x="5488560" y="1714320"/>
            <a:ext cx="2347920" cy="2368080"/>
          </a:xfrm>
          <a:custGeom>
            <a:avLst/>
            <a:gdLst>
              <a:gd name="textAreaLeft" fmla="*/ 360 w 2347920"/>
              <a:gd name="textAreaRight" fmla="*/ 2348640 w 2347920"/>
              <a:gd name="textAreaTop" fmla="*/ 0 h 2368080"/>
              <a:gd name="textAreaBottom" fmla="*/ 2368440 h 2368080"/>
            </a:gdLst>
            <a:ahLst/>
            <a:rect l="textAreaLeft" t="textAreaTop" r="textAreaRight" b="textAreaBottom"/>
            <a:pathLst>
              <a:path w="3131267" h="3157980">
                <a:moveTo>
                  <a:pt x="1578990" y="0"/>
                </a:moveTo>
                <a:cubicBezTo>
                  <a:pt x="706938" y="0"/>
                  <a:pt x="0" y="706938"/>
                  <a:pt x="0" y="1578990"/>
                </a:cubicBezTo>
                <a:cubicBezTo>
                  <a:pt x="0" y="2451042"/>
                  <a:pt x="706938" y="3157980"/>
                  <a:pt x="1578990" y="3157980"/>
                </a:cubicBezTo>
                <a:cubicBezTo>
                  <a:pt x="2342035" y="3157980"/>
                  <a:pt x="2978665" y="2616731"/>
                  <a:pt x="3125900" y="1897212"/>
                </a:cubicBezTo>
                <a:lnTo>
                  <a:pt x="3131267" y="1862049"/>
                </a:lnTo>
                <a:lnTo>
                  <a:pt x="3131267" y="1295931"/>
                </a:lnTo>
                <a:lnTo>
                  <a:pt x="3125900" y="1260769"/>
                </a:lnTo>
                <a:cubicBezTo>
                  <a:pt x="2978665" y="541250"/>
                  <a:pt x="2342035" y="0"/>
                  <a:pt x="1578990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缺角矩形 7"/>
          <p:cNvSpPr/>
          <p:nvPr/>
        </p:nvSpPr>
        <p:spPr>
          <a:xfrm>
            <a:off x="961200" y="3687840"/>
            <a:ext cx="1396080" cy="324000"/>
          </a:xfrm>
          <a:prstGeom prst="plaque">
            <a:avLst>
              <a:gd name="adj" fmla="val 16667"/>
            </a:avLst>
          </a:prstGeom>
          <a:noFill/>
          <a:ln>
            <a:solidFill>
              <a:srgbClr val="00a1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229" name="椭圆 5"/>
          <p:cNvSpPr/>
          <p:nvPr/>
        </p:nvSpPr>
        <p:spPr>
          <a:xfrm>
            <a:off x="2408760" y="2470320"/>
            <a:ext cx="1051200" cy="327600"/>
          </a:xfrm>
          <a:prstGeom prst="ellipse">
            <a:avLst/>
          </a:prstGeom>
          <a:noFill/>
          <a:ln>
            <a:solidFill>
              <a:srgbClr val="00a1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230" name="椭圆 8"/>
          <p:cNvSpPr/>
          <p:nvPr/>
        </p:nvSpPr>
        <p:spPr>
          <a:xfrm>
            <a:off x="1235880" y="2470320"/>
            <a:ext cx="1051200" cy="327600"/>
          </a:xfrm>
          <a:prstGeom prst="ellipse">
            <a:avLst/>
          </a:prstGeom>
          <a:noFill/>
          <a:ln>
            <a:solidFill>
              <a:srgbClr val="00a1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231" name="流程图: 可选过程 9"/>
          <p:cNvSpPr/>
          <p:nvPr/>
        </p:nvSpPr>
        <p:spPr>
          <a:xfrm>
            <a:off x="799920" y="1435320"/>
            <a:ext cx="3604320" cy="2735640"/>
          </a:xfrm>
          <a:prstGeom prst="flowChartAlternateProcess">
            <a:avLst/>
          </a:prstGeom>
          <a:noFill/>
          <a:ln>
            <a:solidFill>
              <a:srgbClr val="00a166"/>
            </a:solidFill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青蛙想，要是在泥塘周围种些草，就能卖出去了。于是他就去采集草籽，播撒在泥塘周围的地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到了春天，泥塘周围长出了绿茵茵的小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0"/>
          <p:cNvSpPr/>
          <p:nvPr/>
        </p:nvSpPr>
        <p:spPr>
          <a:xfrm>
            <a:off x="4739400" y="1498680"/>
            <a:ext cx="2405160" cy="312120"/>
          </a:xfrm>
          <a:prstGeom prst="wedgeRoundRectCallout">
            <a:avLst>
              <a:gd name="adj1" fmla="val -57783"/>
              <a:gd name="adj2" fmla="val 26958"/>
              <a:gd name="adj3" fmla="val 16667"/>
            </a:avLst>
          </a:prstGeom>
          <a:noFill/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心理描写，青蛙决定接受老牛的建议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1"/>
          <p:cNvSpPr/>
          <p:nvPr/>
        </p:nvSpPr>
        <p:spPr>
          <a:xfrm>
            <a:off x="4680000" y="3826080"/>
            <a:ext cx="4310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绿茵茵”写出泥塘开始变得美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2"/>
          <p:cNvSpPr/>
          <p:nvPr/>
        </p:nvSpPr>
        <p:spPr>
          <a:xfrm>
            <a:off x="4865760" y="2805840"/>
            <a:ext cx="2278800" cy="312120"/>
          </a:xfrm>
          <a:prstGeom prst="wedgeRoundRectCallout">
            <a:avLst>
              <a:gd name="adj1" fmla="val -61951"/>
              <a:gd name="adj2" fmla="val -24766"/>
              <a:gd name="adj3" fmla="val 16667"/>
            </a:avLst>
          </a:prstGeom>
          <a:noFill/>
          <a:ln w="38100">
            <a:solidFill>
              <a:srgbClr val="00a1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动作描写，可以看出青蛙很勤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3"/>
          <p:cNvSpPr/>
          <p:nvPr/>
        </p:nvSpPr>
        <p:spPr>
          <a:xfrm>
            <a:off x="1120680" y="1372680"/>
            <a:ext cx="6902640" cy="707400"/>
          </a:xfrm>
          <a:prstGeom prst="rect">
            <a:avLst/>
          </a:prstGeom>
          <a:noFill/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又站在牌子旁边，大声吆喝起来：“卖泥塘喽，卖泥塘！”一只野鸭飞来了，看了看泥塘，说：“这地方好是好，就是塘里的水太少了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野鸭没有买泥塘，飞走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4"/>
          <p:cNvSpPr/>
          <p:nvPr/>
        </p:nvSpPr>
        <p:spPr>
          <a:xfrm>
            <a:off x="6045480" y="2864520"/>
            <a:ext cx="778680" cy="281160"/>
          </a:xfrm>
          <a:prstGeom prst="rect">
            <a:avLst/>
          </a:prstGeom>
          <a:solidFill>
            <a:schemeClr val="bg1"/>
          </a:solidFill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缺点：水太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4"/>
          <p:cNvSpPr/>
          <p:nvPr/>
        </p:nvSpPr>
        <p:spPr>
          <a:xfrm>
            <a:off x="1029960" y="1802160"/>
            <a:ext cx="3709800" cy="387720"/>
          </a:xfrm>
          <a:prstGeom prst="rect">
            <a:avLst/>
          </a:prstGeom>
          <a:noFill/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想，要是能往泥塘里引些水，就能卖出去了。于是，他跑到周围的山里找到泉水，又砍了些竹子，把竹子破开，一根一根接起来，把水引到泥塘里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4"/>
          <p:cNvSpPr/>
          <p:nvPr/>
        </p:nvSpPr>
        <p:spPr>
          <a:xfrm>
            <a:off x="6435360" y="1940400"/>
            <a:ext cx="565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动作描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7"/>
          <p:cNvSpPr/>
          <p:nvPr/>
        </p:nvSpPr>
        <p:spPr>
          <a:xfrm>
            <a:off x="6115320" y="2538360"/>
            <a:ext cx="1205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善于思考，爱劳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8"/>
          <p:cNvSpPr/>
          <p:nvPr/>
        </p:nvSpPr>
        <p:spPr>
          <a:xfrm>
            <a:off x="6115320" y="3260520"/>
            <a:ext cx="1205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努力改变着泥塘的现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下箭头 29"/>
          <p:cNvSpPr/>
          <p:nvPr/>
        </p:nvSpPr>
        <p:spPr>
          <a:xfrm>
            <a:off x="6593400" y="2279880"/>
            <a:ext cx="249480" cy="257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44" name="下箭头 30"/>
          <p:cNvSpPr/>
          <p:nvPr/>
        </p:nvSpPr>
        <p:spPr>
          <a:xfrm>
            <a:off x="6593400" y="2980080"/>
            <a:ext cx="249480" cy="257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2950920" y="1124280"/>
            <a:ext cx="3241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下泥塘卖出去了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00"/>
          <p:cNvSpPr/>
          <p:nvPr/>
        </p:nvSpPr>
        <p:spPr>
          <a:xfrm>
            <a:off x="999000" y="1642680"/>
            <a:ext cx="7200360" cy="4302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00a166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等泥塘灌足了水以后，青蛙又站在牌子下，大声吆喝起来：“卖泥塘喽，卖泥塘！”可是泥塘还是没有卖出去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9" name="文本框 46"/>
          <p:cNvSpPr/>
          <p:nvPr/>
        </p:nvSpPr>
        <p:spPr>
          <a:xfrm>
            <a:off x="941040" y="2716920"/>
            <a:ext cx="321264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鸟飞来说，这里缺点儿树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蝴蝶飞来说，这里缺点儿花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兔跑来说，这里还缺条路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猴跑来说，这儿应该盖所房子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狐狸说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7"/>
          <p:cNvSpPr/>
          <p:nvPr/>
        </p:nvSpPr>
        <p:spPr>
          <a:xfrm>
            <a:off x="3553560" y="2690280"/>
            <a:ext cx="2639160" cy="38772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每次听了小动物的话，青蛙都想：对！对！要是那样的话，泥塘准能卖出去。于是青蛙就照着他们的话去做，栽了树，种了花，修了路，还在泥塘旁边盖了房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8"/>
          <p:cNvSpPr/>
          <p:nvPr/>
        </p:nvSpPr>
        <p:spPr>
          <a:xfrm>
            <a:off x="6302880" y="2717640"/>
            <a:ext cx="1926000" cy="31212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 w="38100">
            <a:solidFill>
              <a:srgbClr val="00a1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栽、种、修、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9"/>
          <p:cNvSpPr/>
          <p:nvPr/>
        </p:nvSpPr>
        <p:spPr>
          <a:xfrm>
            <a:off x="6596640" y="3396960"/>
            <a:ext cx="1338480" cy="31212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听取建议，付出行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0"/>
          <p:cNvSpPr/>
          <p:nvPr/>
        </p:nvSpPr>
        <p:spPr>
          <a:xfrm>
            <a:off x="7094520" y="4076280"/>
            <a:ext cx="343080" cy="31212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 w="38100">
            <a:solidFill>
              <a:srgbClr val="00a1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进一步努力改建泥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下箭头 3"/>
          <p:cNvSpPr/>
          <p:nvPr/>
        </p:nvSpPr>
        <p:spPr>
          <a:xfrm>
            <a:off x="7141320" y="3081240"/>
            <a:ext cx="249480" cy="2577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a1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55" name="下箭头 22"/>
          <p:cNvSpPr/>
          <p:nvPr/>
        </p:nvSpPr>
        <p:spPr>
          <a:xfrm>
            <a:off x="7141320" y="3760560"/>
            <a:ext cx="249480" cy="2577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a1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</p:spTree>
  </p:cSld>
  <p:transition spd="slow">
    <p:fade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1"/>
          <p:cNvSpPr/>
          <p:nvPr/>
        </p:nvSpPr>
        <p:spPr>
          <a:xfrm>
            <a:off x="1236240" y="1784160"/>
            <a:ext cx="3291120" cy="834840"/>
          </a:xfrm>
          <a:prstGeom prst="rect">
            <a:avLst/>
          </a:prstGeom>
          <a:noFill/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泥塘喽，卖泥塘！”有一天，青蛙又站在牌子旁吆喝起来，“多好的地方！有树，有花，有草，有水塘。你可以看蝴蝶在花丛中飞舞，听小鸟在树上唱歌。你可以在水里尽情游泳，躺在草地上晒太阳。这儿还有道路通到城里…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"/>
          <p:cNvSpPr/>
          <p:nvPr/>
        </p:nvSpPr>
        <p:spPr>
          <a:xfrm>
            <a:off x="906480" y="1164960"/>
            <a:ext cx="3950640" cy="375480"/>
          </a:xfrm>
          <a:prstGeom prst="horizontalScroll">
            <a:avLst>
              <a:gd name="adj" fmla="val 12500"/>
            </a:avLst>
          </a:prstGeom>
          <a:solidFill>
            <a:schemeClr val="bg1"/>
          </a:solidFill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想一想：青蛙为什么又不卖泥塘啦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"/>
          <p:cNvSpPr/>
          <p:nvPr/>
        </p:nvSpPr>
        <p:spPr>
          <a:xfrm>
            <a:off x="4816080" y="2191680"/>
            <a:ext cx="3207960" cy="281160"/>
          </a:xfrm>
          <a:prstGeom prst="rect">
            <a:avLst/>
          </a:prstGeom>
          <a:noFill/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有树，有花，有草，有水塘、飞舞、唱歌、游泳、晒太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5"/>
          <p:cNvSpPr/>
          <p:nvPr/>
        </p:nvSpPr>
        <p:spPr>
          <a:xfrm>
            <a:off x="5599440" y="3157560"/>
            <a:ext cx="1640880" cy="281160"/>
          </a:xfrm>
          <a:prstGeom prst="rect">
            <a:avLst/>
          </a:prstGeom>
          <a:noFill/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改造后的泥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7"/>
          <p:cNvSpPr/>
          <p:nvPr/>
        </p:nvSpPr>
        <p:spPr>
          <a:xfrm>
            <a:off x="5376960" y="3845880"/>
            <a:ext cx="2085840" cy="281160"/>
          </a:xfrm>
          <a:prstGeom prst="rect">
            <a:avLst/>
          </a:prstGeom>
          <a:noFill/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适合居住的好地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下箭头 8"/>
          <p:cNvSpPr/>
          <p:nvPr/>
        </p:nvSpPr>
        <p:spPr>
          <a:xfrm rot="10800000">
            <a:off x="6310800" y="2867040"/>
            <a:ext cx="218880" cy="2379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a1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2" name="下箭头 9"/>
          <p:cNvSpPr/>
          <p:nvPr/>
        </p:nvSpPr>
        <p:spPr>
          <a:xfrm>
            <a:off x="6310440" y="3555360"/>
            <a:ext cx="218880" cy="2379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00a166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100"/>
          <p:cNvSpPr/>
          <p:nvPr/>
        </p:nvSpPr>
        <p:spPr>
          <a:xfrm>
            <a:off x="996120" y="1238760"/>
            <a:ext cx="6442920" cy="70740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青蛙说到这里，突然愣住了，他想：这么好的地方，自己住挺好的，为什么要卖掉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于是青蛙不再卖泥塘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标注 1"/>
          <p:cNvSpPr/>
          <p:nvPr/>
        </p:nvSpPr>
        <p:spPr>
          <a:xfrm>
            <a:off x="4816080" y="1874880"/>
            <a:ext cx="3129840" cy="312120"/>
          </a:xfrm>
          <a:prstGeom prst="wedgeRoundRectCallout">
            <a:avLst>
              <a:gd name="adj1" fmla="val -66159"/>
              <a:gd name="adj2" fmla="val -49666"/>
              <a:gd name="adj3" fmla="val 16667"/>
            </a:avLst>
          </a:prstGeom>
          <a:solidFill>
            <a:schemeClr val="bg1"/>
          </a:solidFill>
          <a:ln w="28575">
            <a:solidFill>
              <a:srgbClr val="00a166"/>
            </a:solidFill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dk1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愣住了”，说明青蛙突然醒悟，发现这么好的地方，不应该卖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线形标注 1 8"/>
          <p:cNvSpPr/>
          <p:nvPr/>
        </p:nvSpPr>
        <p:spPr>
          <a:xfrm>
            <a:off x="1412280" y="2613960"/>
            <a:ext cx="3950280" cy="604440"/>
          </a:xfrm>
          <a:prstGeom prst="borderCallout1">
            <a:avLst>
              <a:gd name="adj1" fmla="val 3149"/>
              <a:gd name="adj2" fmla="val 30247"/>
              <a:gd name="adj3" fmla="val -91382"/>
              <a:gd name="adj4" fmla="val 58742"/>
            </a:avLst>
          </a:prstGeom>
          <a:solidFill>
            <a:schemeClr val="bg1"/>
          </a:solidFill>
          <a:ln w="38100">
            <a:solidFill>
              <a:srgbClr val="00a166"/>
            </a:solidFill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这是一个反问句，答案含在问题中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直接连接符 19"/>
          <p:cNvCxnSpPr/>
          <p:nvPr/>
        </p:nvCxnSpPr>
        <p:spPr>
          <a:xfrm flipV="1">
            <a:off x="2970000" y="1675080"/>
            <a:ext cx="2008440" cy="25200"/>
          </a:xfrm>
          <a:prstGeom prst="straightConnector1">
            <a:avLst/>
          </a:prstGeom>
          <a:ln w="38100">
            <a:solidFill>
              <a:srgbClr val="c00000"/>
            </a:solidFill>
          </a:ln>
        </p:spPr>
      </p:cxn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9" name="文本框 79"/>
          <p:cNvSpPr/>
          <p:nvPr/>
        </p:nvSpPr>
        <p:spPr>
          <a:xfrm>
            <a:off x="2396520" y="3443040"/>
            <a:ext cx="19522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的烂泥塘为什么会变得这么美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80"/>
          <p:cNvSpPr/>
          <p:nvPr/>
        </p:nvSpPr>
        <p:spPr>
          <a:xfrm>
            <a:off x="663840" y="3949920"/>
            <a:ext cx="8259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因为青蛙不仅善于听取别人善意的建议，还热爱劳动，动手能力很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89"/>
          <p:cNvSpPr/>
          <p:nvPr/>
        </p:nvSpPr>
        <p:spPr>
          <a:xfrm>
            <a:off x="4228920" y="1914840"/>
            <a:ext cx="1443960" cy="26460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老牛——种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9"/>
          <p:cNvSpPr/>
          <p:nvPr/>
        </p:nvSpPr>
        <p:spPr>
          <a:xfrm>
            <a:off x="2816640" y="1626120"/>
            <a:ext cx="1831680" cy="26460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不满现状卖泥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2"/>
          <p:cNvSpPr/>
          <p:nvPr/>
        </p:nvSpPr>
        <p:spPr>
          <a:xfrm>
            <a:off x="2800800" y="2694240"/>
            <a:ext cx="1683360" cy="31932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接受建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左大括号 16"/>
          <p:cNvSpPr/>
          <p:nvPr/>
        </p:nvSpPr>
        <p:spPr>
          <a:xfrm>
            <a:off x="2695680" y="2038680"/>
            <a:ext cx="163440" cy="1766880"/>
          </a:xfrm>
          <a:prstGeom prst="leftBrace">
            <a:avLst>
              <a:gd name="adj1" fmla="val 8297"/>
              <a:gd name="adj2" fmla="val 50000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75" name="文本框 17"/>
          <p:cNvSpPr/>
          <p:nvPr/>
        </p:nvSpPr>
        <p:spPr>
          <a:xfrm>
            <a:off x="1895040" y="2242440"/>
            <a:ext cx="414360" cy="154044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卖泥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2800800" y="3848400"/>
            <a:ext cx="1341720" cy="26388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不卖泥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25"/>
          <p:cNvSpPr/>
          <p:nvPr/>
        </p:nvSpPr>
        <p:spPr>
          <a:xfrm>
            <a:off x="6506640" y="2506320"/>
            <a:ext cx="965520" cy="32508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创造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发现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 2050"/>
          <p:cNvSpPr/>
          <p:nvPr/>
        </p:nvSpPr>
        <p:spPr>
          <a:xfrm flipH="1">
            <a:off x="2457720" y="1795320"/>
            <a:ext cx="222120" cy="220428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2204280"/>
              <a:gd name="textAreaBottom" fmla="*/ 2204640 h 2204280"/>
            </a:gdLst>
            <a:ahLst/>
            <a:rect l="textAreaLeft" t="textAreaTop" r="textAreaRight" b="textAreaBottom"/>
            <a:pathLst>
              <a:path w="41" h="281">
                <a:moveTo>
                  <a:pt x="15" y="41"/>
                </a:moveTo>
                <a:cubicBezTo>
                  <a:pt x="15" y="29"/>
                  <a:pt x="13" y="19"/>
                  <a:pt x="11" y="13"/>
                </a:cubicBezTo>
                <a:cubicBezTo>
                  <a:pt x="9" y="7"/>
                  <a:pt x="5" y="2"/>
                  <a:pt x="0" y="0"/>
                </a:cubicBezTo>
                <a:cubicBezTo>
                  <a:pt x="10" y="0"/>
                  <a:pt x="17" y="3"/>
                  <a:pt x="21" y="9"/>
                </a:cubicBezTo>
                <a:cubicBezTo>
                  <a:pt x="25" y="14"/>
                  <a:pt x="27" y="27"/>
                  <a:pt x="27" y="45"/>
                </a:cubicBezTo>
                <a:cubicBezTo>
                  <a:pt x="27" y="103"/>
                  <a:pt x="27" y="103"/>
                  <a:pt x="27" y="103"/>
                </a:cubicBezTo>
                <a:cubicBezTo>
                  <a:pt x="27" y="114"/>
                  <a:pt x="28" y="122"/>
                  <a:pt x="30" y="128"/>
                </a:cubicBezTo>
                <a:cubicBezTo>
                  <a:pt x="32" y="134"/>
                  <a:pt x="35" y="138"/>
                  <a:pt x="41" y="141"/>
                </a:cubicBezTo>
                <a:cubicBezTo>
                  <a:pt x="35" y="143"/>
                  <a:pt x="31" y="147"/>
                  <a:pt x="30" y="153"/>
                </a:cubicBezTo>
                <a:cubicBezTo>
                  <a:pt x="28" y="158"/>
                  <a:pt x="27" y="167"/>
                  <a:pt x="27" y="179"/>
                </a:cubicBezTo>
                <a:cubicBezTo>
                  <a:pt x="27" y="232"/>
                  <a:pt x="27" y="232"/>
                  <a:pt x="27" y="232"/>
                </a:cubicBezTo>
                <a:cubicBezTo>
                  <a:pt x="27" y="245"/>
                  <a:pt x="26" y="255"/>
                  <a:pt x="25" y="262"/>
                </a:cubicBezTo>
                <a:cubicBezTo>
                  <a:pt x="23" y="269"/>
                  <a:pt x="20" y="274"/>
                  <a:pt x="16" y="277"/>
                </a:cubicBezTo>
                <a:cubicBezTo>
                  <a:pt x="12" y="279"/>
                  <a:pt x="7" y="281"/>
                  <a:pt x="0" y="281"/>
                </a:cubicBezTo>
                <a:cubicBezTo>
                  <a:pt x="5" y="279"/>
                  <a:pt x="9" y="274"/>
                  <a:pt x="11" y="268"/>
                </a:cubicBezTo>
                <a:cubicBezTo>
                  <a:pt x="13" y="261"/>
                  <a:pt x="15" y="252"/>
                  <a:pt x="15" y="240"/>
                </a:cubicBezTo>
                <a:cubicBezTo>
                  <a:pt x="15" y="186"/>
                  <a:pt x="15" y="186"/>
                  <a:pt x="15" y="186"/>
                </a:cubicBezTo>
                <a:cubicBezTo>
                  <a:pt x="15" y="172"/>
                  <a:pt x="15" y="162"/>
                  <a:pt x="17" y="155"/>
                </a:cubicBezTo>
                <a:cubicBezTo>
                  <a:pt x="19" y="148"/>
                  <a:pt x="23" y="144"/>
                  <a:pt x="29" y="141"/>
                </a:cubicBezTo>
                <a:cubicBezTo>
                  <a:pt x="23" y="138"/>
                  <a:pt x="19" y="133"/>
                  <a:pt x="17" y="127"/>
                </a:cubicBezTo>
                <a:cubicBezTo>
                  <a:pt x="15" y="121"/>
                  <a:pt x="15" y="111"/>
                  <a:pt x="15" y="98"/>
                </a:cubicBezTo>
                <a:lnTo>
                  <a:pt x="15" y="41"/>
                </a:lnTo>
                <a:close/>
              </a:path>
            </a:pathLst>
          </a:custGeom>
          <a:solidFill>
            <a:srgbClr val="00a166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79" name=" 2050"/>
          <p:cNvSpPr/>
          <p:nvPr/>
        </p:nvSpPr>
        <p:spPr>
          <a:xfrm flipH="1">
            <a:off x="3911400" y="2012040"/>
            <a:ext cx="231120" cy="1770840"/>
          </a:xfrm>
          <a:custGeom>
            <a:avLst/>
            <a:gdLst>
              <a:gd name="textAreaLeft" fmla="*/ 360 w 231120"/>
              <a:gd name="textAreaRight" fmla="*/ 231840 w 231120"/>
              <a:gd name="textAreaTop" fmla="*/ 0 h 1770840"/>
              <a:gd name="textAreaBottom" fmla="*/ 1771200 h 1770840"/>
            </a:gdLst>
            <a:ahLst/>
            <a:rect l="textAreaLeft" t="textAreaTop" r="textAreaRight" b="textAreaBottom"/>
            <a:pathLst>
              <a:path w="41" h="281">
                <a:moveTo>
                  <a:pt x="15" y="41"/>
                </a:moveTo>
                <a:cubicBezTo>
                  <a:pt x="15" y="29"/>
                  <a:pt x="13" y="19"/>
                  <a:pt x="11" y="13"/>
                </a:cubicBezTo>
                <a:cubicBezTo>
                  <a:pt x="9" y="7"/>
                  <a:pt x="5" y="2"/>
                  <a:pt x="0" y="0"/>
                </a:cubicBezTo>
                <a:cubicBezTo>
                  <a:pt x="10" y="0"/>
                  <a:pt x="17" y="3"/>
                  <a:pt x="21" y="9"/>
                </a:cubicBezTo>
                <a:cubicBezTo>
                  <a:pt x="25" y="14"/>
                  <a:pt x="27" y="27"/>
                  <a:pt x="27" y="45"/>
                </a:cubicBezTo>
                <a:cubicBezTo>
                  <a:pt x="27" y="103"/>
                  <a:pt x="27" y="103"/>
                  <a:pt x="27" y="103"/>
                </a:cubicBezTo>
                <a:cubicBezTo>
                  <a:pt x="27" y="114"/>
                  <a:pt x="28" y="122"/>
                  <a:pt x="30" y="128"/>
                </a:cubicBezTo>
                <a:cubicBezTo>
                  <a:pt x="32" y="134"/>
                  <a:pt x="35" y="138"/>
                  <a:pt x="41" y="141"/>
                </a:cubicBezTo>
                <a:cubicBezTo>
                  <a:pt x="35" y="143"/>
                  <a:pt x="31" y="147"/>
                  <a:pt x="30" y="153"/>
                </a:cubicBezTo>
                <a:cubicBezTo>
                  <a:pt x="28" y="158"/>
                  <a:pt x="27" y="167"/>
                  <a:pt x="27" y="179"/>
                </a:cubicBezTo>
                <a:cubicBezTo>
                  <a:pt x="27" y="232"/>
                  <a:pt x="27" y="232"/>
                  <a:pt x="27" y="232"/>
                </a:cubicBezTo>
                <a:cubicBezTo>
                  <a:pt x="27" y="245"/>
                  <a:pt x="26" y="255"/>
                  <a:pt x="25" y="262"/>
                </a:cubicBezTo>
                <a:cubicBezTo>
                  <a:pt x="23" y="269"/>
                  <a:pt x="20" y="274"/>
                  <a:pt x="16" y="277"/>
                </a:cubicBezTo>
                <a:cubicBezTo>
                  <a:pt x="12" y="279"/>
                  <a:pt x="7" y="281"/>
                  <a:pt x="0" y="281"/>
                </a:cubicBezTo>
                <a:cubicBezTo>
                  <a:pt x="5" y="279"/>
                  <a:pt x="9" y="274"/>
                  <a:pt x="11" y="268"/>
                </a:cubicBezTo>
                <a:cubicBezTo>
                  <a:pt x="13" y="261"/>
                  <a:pt x="15" y="252"/>
                  <a:pt x="15" y="240"/>
                </a:cubicBezTo>
                <a:cubicBezTo>
                  <a:pt x="15" y="186"/>
                  <a:pt x="15" y="186"/>
                  <a:pt x="15" y="186"/>
                </a:cubicBezTo>
                <a:cubicBezTo>
                  <a:pt x="15" y="172"/>
                  <a:pt x="15" y="162"/>
                  <a:pt x="17" y="155"/>
                </a:cubicBezTo>
                <a:cubicBezTo>
                  <a:pt x="19" y="148"/>
                  <a:pt x="23" y="144"/>
                  <a:pt x="29" y="141"/>
                </a:cubicBezTo>
                <a:cubicBezTo>
                  <a:pt x="23" y="138"/>
                  <a:pt x="19" y="133"/>
                  <a:pt x="17" y="127"/>
                </a:cubicBezTo>
                <a:cubicBezTo>
                  <a:pt x="15" y="121"/>
                  <a:pt x="15" y="111"/>
                  <a:pt x="15" y="98"/>
                </a:cubicBezTo>
                <a:lnTo>
                  <a:pt x="15" y="41"/>
                </a:lnTo>
                <a:close/>
              </a:path>
            </a:pathLst>
          </a:custGeom>
          <a:solidFill>
            <a:srgbClr val="00a166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80" name="文本框 89"/>
          <p:cNvSpPr/>
          <p:nvPr/>
        </p:nvSpPr>
        <p:spPr>
          <a:xfrm>
            <a:off x="4228920" y="2193120"/>
            <a:ext cx="1627920" cy="26460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野鸭——引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89"/>
          <p:cNvSpPr/>
          <p:nvPr/>
        </p:nvSpPr>
        <p:spPr>
          <a:xfrm>
            <a:off x="4228920" y="2471040"/>
            <a:ext cx="1560240" cy="26460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鸟——种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89"/>
          <p:cNvSpPr/>
          <p:nvPr/>
        </p:nvSpPr>
        <p:spPr>
          <a:xfrm>
            <a:off x="4228920" y="2749320"/>
            <a:ext cx="1431360" cy="26460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蝴蝶——种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89"/>
          <p:cNvSpPr/>
          <p:nvPr/>
        </p:nvSpPr>
        <p:spPr>
          <a:xfrm>
            <a:off x="4228920" y="3027600"/>
            <a:ext cx="1373040" cy="26424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兔——修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89"/>
          <p:cNvSpPr/>
          <p:nvPr/>
        </p:nvSpPr>
        <p:spPr>
          <a:xfrm>
            <a:off x="4228920" y="3305520"/>
            <a:ext cx="1547640" cy="26424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猴——盖房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89"/>
          <p:cNvSpPr/>
          <p:nvPr/>
        </p:nvSpPr>
        <p:spPr>
          <a:xfrm>
            <a:off x="4228920" y="3583800"/>
            <a:ext cx="1341000" cy="264240"/>
          </a:xfrm>
          <a:prstGeom prst="rect">
            <a:avLst/>
          </a:prstGeom>
          <a:solidFill>
            <a:srgbClr val="ffffff"/>
          </a:solidFill>
          <a:ln w="635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狐狸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左大括号 1073743211"/>
          <p:cNvSpPr/>
          <p:nvPr/>
        </p:nvSpPr>
        <p:spPr>
          <a:xfrm flipH="1">
            <a:off x="6009840" y="1719000"/>
            <a:ext cx="198360" cy="2280240"/>
          </a:xfrm>
          <a:prstGeom prst="leftBrace">
            <a:avLst>
              <a:gd name="adj1" fmla="val 160211"/>
              <a:gd name="adj2" fmla="val 50000"/>
            </a:avLst>
          </a:prstGeom>
          <a:noFill/>
          <a:ln w="69850">
            <a:solidFill>
              <a:srgbClr val="00a1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4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7"/>
          <p:cNvSpPr/>
          <p:nvPr/>
        </p:nvSpPr>
        <p:spPr>
          <a:xfrm>
            <a:off x="986040" y="1146960"/>
            <a:ext cx="771840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、看拼音写词语。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īng  wā         mài   le            bān   jiā            dǎo   xi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   ）   （            ）       （             ）       （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ǎo   zǐ          quán  shuǐ        pò   huài           yīng   gā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             ）    （            ）      （              ）       （              ）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9"/>
          <p:cNvSpPr/>
          <p:nvPr/>
        </p:nvSpPr>
        <p:spPr>
          <a:xfrm>
            <a:off x="1758600" y="267300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0"/>
          <p:cNvSpPr/>
          <p:nvPr/>
        </p:nvSpPr>
        <p:spPr>
          <a:xfrm>
            <a:off x="3345120" y="267300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1"/>
          <p:cNvSpPr/>
          <p:nvPr/>
        </p:nvSpPr>
        <p:spPr>
          <a:xfrm>
            <a:off x="5078160" y="267264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搬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2"/>
          <p:cNvSpPr/>
          <p:nvPr/>
        </p:nvSpPr>
        <p:spPr>
          <a:xfrm>
            <a:off x="6764400" y="267300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倒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9"/>
          <p:cNvSpPr/>
          <p:nvPr/>
        </p:nvSpPr>
        <p:spPr>
          <a:xfrm>
            <a:off x="1758600" y="391428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草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3"/>
          <p:cNvSpPr/>
          <p:nvPr/>
        </p:nvSpPr>
        <p:spPr>
          <a:xfrm>
            <a:off x="3322080" y="3913920"/>
            <a:ext cx="397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泉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4"/>
          <p:cNvSpPr/>
          <p:nvPr/>
        </p:nvSpPr>
        <p:spPr>
          <a:xfrm>
            <a:off x="5078160" y="391428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破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7"/>
          <p:cNvSpPr/>
          <p:nvPr/>
        </p:nvSpPr>
        <p:spPr>
          <a:xfrm>
            <a:off x="6741360" y="3913920"/>
            <a:ext cx="397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应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5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练习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17"/>
          <p:cNvSpPr/>
          <p:nvPr/>
        </p:nvSpPr>
        <p:spPr>
          <a:xfrm>
            <a:off x="1420200" y="1396800"/>
            <a:ext cx="6555240" cy="22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二、选词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采集      搜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它到处（        ）草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他到处（        ）证据，证明自己没有犯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"/>
          <p:cNvSpPr/>
          <p:nvPr/>
        </p:nvSpPr>
        <p:spPr>
          <a:xfrm>
            <a:off x="3369600" y="2913480"/>
            <a:ext cx="4892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采集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5"/>
          <p:cNvSpPr/>
          <p:nvPr/>
        </p:nvSpPr>
        <p:spPr>
          <a:xfrm>
            <a:off x="3346200" y="355068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搜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5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练习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34"/>
          <p:cNvGrpSpPr/>
          <p:nvPr/>
        </p:nvGrpSpPr>
        <p:grpSpPr>
          <a:xfrm>
            <a:off x="0" y="1106280"/>
            <a:ext cx="9144000" cy="2987640"/>
            <a:chOff x="0" y="1106280"/>
            <a:chExt cx="9144000" cy="2987640"/>
          </a:xfrm>
        </p:grpSpPr>
        <p:sp>
          <p:nvSpPr>
            <p:cNvPr id="303" name="图片 25"/>
            <p:cNvSpPr/>
            <p:nvPr/>
          </p:nvSpPr>
          <p:spPr>
            <a:xfrm flipH="1">
              <a:off x="5651640" y="1416240"/>
              <a:ext cx="2347920" cy="2368080"/>
            </a:xfrm>
            <a:custGeom>
              <a:avLst/>
              <a:gdLst>
                <a:gd name="textAreaLeft" fmla="*/ 360 w 2347920"/>
                <a:gd name="textAreaRight" fmla="*/ 2348640 w 2347920"/>
                <a:gd name="textAreaTop" fmla="*/ 0 h 2368080"/>
                <a:gd name="textAreaBottom" fmla="*/ 2368440 h 2368080"/>
              </a:gdLst>
              <a:ahLst/>
              <a:rect l="textAreaLeft" t="textAreaTop" r="textAreaRight" b="textAreaBottom"/>
              <a:pathLst>
                <a:path w="3131267" h="3157980">
                  <a:moveTo>
                    <a:pt x="1578990" y="0"/>
                  </a:moveTo>
                  <a:cubicBezTo>
                    <a:pt x="706938" y="0"/>
                    <a:pt x="0" y="706938"/>
                    <a:pt x="0" y="1578990"/>
                  </a:cubicBezTo>
                  <a:cubicBezTo>
                    <a:pt x="0" y="2451042"/>
                    <a:pt x="706938" y="3157980"/>
                    <a:pt x="1578990" y="3157980"/>
                  </a:cubicBezTo>
                  <a:cubicBezTo>
                    <a:pt x="2342035" y="3157980"/>
                    <a:pt x="2978665" y="2616731"/>
                    <a:pt x="3125900" y="1897212"/>
                  </a:cubicBezTo>
                  <a:lnTo>
                    <a:pt x="3131267" y="1862049"/>
                  </a:lnTo>
                  <a:lnTo>
                    <a:pt x="3131267" y="1295931"/>
                  </a:lnTo>
                  <a:lnTo>
                    <a:pt x="3125900" y="1260769"/>
                  </a:lnTo>
                  <a:cubicBezTo>
                    <a:pt x="2978665" y="541250"/>
                    <a:pt x="2342035" y="0"/>
                    <a:pt x="157899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6"/>
            <p:cNvSpPr/>
            <p:nvPr/>
          </p:nvSpPr>
          <p:spPr>
            <a:xfrm>
              <a:off x="5321880" y="1106280"/>
              <a:ext cx="2987640" cy="2987640"/>
            </a:xfrm>
            <a:prstGeom prst="ellipse">
              <a:avLst/>
            </a:prstGeom>
            <a:noFill/>
            <a:ln w="228600">
              <a:solidFill>
                <a:srgbClr val="00a16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思源黑体 CN Light"/>
                <a:ea typeface="思源黑体 CN Bold"/>
              </a:endParaRPr>
            </a:p>
          </p:txBody>
        </p:sp>
        <p:cxnSp>
          <p:nvCxnSpPr>
            <p:cNvPr id="305" name="直接连接符 7"/>
            <p:cNvCxnSpPr>
              <a:stCxn id="304" idx="4"/>
            </p:cNvCxnSpPr>
            <p:nvPr/>
          </p:nvCxnSpPr>
          <p:spPr>
            <a:xfrm>
              <a:off x="6815880" y="4093920"/>
              <a:ext cx="2328480" cy="360"/>
            </a:xfrm>
            <a:prstGeom prst="straightConnector1">
              <a:avLst/>
            </a:prstGeom>
            <a:ln w="228600">
              <a:solidFill>
                <a:srgbClr val="00a166"/>
              </a:solidFill>
            </a:ln>
          </p:spPr>
        </p:cxnSp>
        <p:cxnSp>
          <p:nvCxnSpPr>
            <p:cNvPr id="306" name="直接连接符 8"/>
            <p:cNvCxnSpPr/>
            <p:nvPr/>
          </p:nvCxnSpPr>
          <p:spPr>
            <a:xfrm>
              <a:off x="0" y="1106280"/>
              <a:ext cx="6741360" cy="360"/>
            </a:xfrm>
            <a:prstGeom prst="straightConnector1">
              <a:avLst/>
            </a:prstGeom>
            <a:ln w="228600">
              <a:solidFill>
                <a:srgbClr val="00a166"/>
              </a:solidFill>
            </a:ln>
          </p:spPr>
        </p:cxnSp>
      </p:grpSp>
      <p:cxnSp>
        <p:nvCxnSpPr>
          <p:cNvPr id="307" name="直接连接符 21"/>
          <p:cNvCxnSpPr/>
          <p:nvPr/>
        </p:nvCxnSpPr>
        <p:spPr>
          <a:xfrm>
            <a:off x="2402640" y="284400"/>
            <a:ext cx="6741720" cy="360"/>
          </a:xfrm>
          <a:prstGeom prst="straightConnector1">
            <a:avLst/>
          </a:prstGeom>
          <a:ln w="76200">
            <a:solidFill>
              <a:srgbClr val="d9d9d9"/>
            </a:solidFill>
          </a:ln>
        </p:spPr>
      </p:cxnSp>
      <p:cxnSp>
        <p:nvCxnSpPr>
          <p:cNvPr id="308" name="直接连接符 22"/>
          <p:cNvCxnSpPr/>
          <p:nvPr/>
        </p:nvCxnSpPr>
        <p:spPr>
          <a:xfrm>
            <a:off x="0" y="4812840"/>
            <a:ext cx="6741360" cy="360"/>
          </a:xfrm>
          <a:prstGeom prst="straightConnector1">
            <a:avLst/>
          </a:prstGeom>
          <a:ln w="76200">
            <a:solidFill>
              <a:srgbClr val="d9d9d9"/>
            </a:solidFill>
          </a:ln>
        </p:spPr>
      </p:cxnSp>
      <p:sp>
        <p:nvSpPr>
          <p:cNvPr id="309" name="文本框 3" hidden="1"/>
          <p:cNvSpPr/>
          <p:nvPr/>
        </p:nvSpPr>
        <p:spPr>
          <a:xfrm>
            <a:off x="0" y="112320"/>
            <a:ext cx="1571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Y YUS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33"/>
          <p:cNvGrpSpPr/>
          <p:nvPr/>
        </p:nvGrpSpPr>
        <p:grpSpPr>
          <a:xfrm>
            <a:off x="825120" y="2138760"/>
            <a:ext cx="3925440" cy="1206000"/>
            <a:chOff x="825120" y="2138760"/>
            <a:chExt cx="3925440" cy="1206000"/>
          </a:xfrm>
        </p:grpSpPr>
        <p:sp>
          <p:nvSpPr>
            <p:cNvPr id="311" name="矩形 259"/>
            <p:cNvSpPr/>
            <p:nvPr/>
          </p:nvSpPr>
          <p:spPr>
            <a:xfrm>
              <a:off x="825120" y="2138760"/>
              <a:ext cx="3925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zh-CN" sz="6000" spc="-1" strike="noStrike">
                  <a:solidFill>
                    <a:srgbClr val="00a166"/>
                  </a:solidFill>
                  <a:latin typeface="胡晓波男神体"/>
                  <a:ea typeface="胡晓波男神体"/>
                </a:rPr>
                <a:t>谢谢观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直接连接符 32"/>
            <p:cNvCxnSpPr/>
            <p:nvPr/>
          </p:nvCxnSpPr>
          <p:spPr>
            <a:xfrm>
              <a:off x="886320" y="3344760"/>
              <a:ext cx="3464280" cy="360"/>
            </a:xfrm>
            <a:prstGeom prst="straightConnector1">
              <a:avLst/>
            </a:prstGeom>
            <a:ln cap="rnd" w="25400">
              <a:solidFill>
                <a:srgbClr val="00a166"/>
              </a:solidFill>
            </a:ln>
          </p:spPr>
        </p:cxnSp>
      </p:grpSp>
    </p:spTree>
  </p:cSld>
  <p:transition spd="slow">
    <p:fad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855360" y="1420560"/>
            <a:ext cx="7820280" cy="1492920"/>
          </a:xfrm>
          <a:prstGeom prst="round2DiagRect">
            <a:avLst>
              <a:gd name="adj1" fmla="val 16667"/>
              <a:gd name="adj2" fmla="val 0"/>
            </a:avLst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季颖：从事儿童文学的研究、评论及翻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个人作品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儿童文学创作方面，发表有《丑丑的故事》《树的孩子》《青蛙卖池塘》等幼儿文学及绘本作品，其中童话《青蛙卖池塘》获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994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年度陈伯吹儿童文学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1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导读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3"/>
          <p:cNvSpPr/>
          <p:nvPr/>
        </p:nvSpPr>
        <p:spPr>
          <a:xfrm>
            <a:off x="930600" y="1759680"/>
            <a:ext cx="67320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不认识的字可以看拼音，或者请教老师和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读准每一个字的字音，圈出生字词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读通每个句子，读不通顺的多读几遍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给每个自然段写上序号。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1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课堂导读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8"/>
          <p:cNvSpPr/>
          <p:nvPr/>
        </p:nvSpPr>
        <p:spPr>
          <a:xfrm>
            <a:off x="6269400" y="626400"/>
            <a:ext cx="1818000" cy="432360"/>
          </a:xfrm>
          <a:prstGeom prst="cloudCallout">
            <a:avLst>
              <a:gd name="adj1" fmla="val 41188"/>
              <a:gd name="adj2" fmla="val 66326"/>
            </a:avLst>
          </a:prstGeom>
          <a:solidFill>
            <a:schemeClr val="bg1"/>
          </a:solidFill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会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1120320" y="1659240"/>
            <a:ext cx="6855840" cy="173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8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    烂    牌    喝    坑    挺    舒    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思源黑体 CN Bold"/>
              </a:rPr>
              <a:t>播    撒    茵     灌    缺    泳    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1253520" y="1562760"/>
            <a:ext cx="496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mà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0"/>
          <p:cNvSpPr/>
          <p:nvPr/>
        </p:nvSpPr>
        <p:spPr>
          <a:xfrm>
            <a:off x="2182680" y="1562760"/>
            <a:ext cx="486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là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1"/>
          <p:cNvSpPr/>
          <p:nvPr/>
        </p:nvSpPr>
        <p:spPr>
          <a:xfrm>
            <a:off x="3091680" y="1562760"/>
            <a:ext cx="486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pá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2"/>
          <p:cNvSpPr/>
          <p:nvPr/>
        </p:nvSpPr>
        <p:spPr>
          <a:xfrm>
            <a:off x="3904920" y="1562760"/>
            <a:ext cx="486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h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4752360" y="1562760"/>
            <a:ext cx="552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kē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4"/>
          <p:cNvSpPr/>
          <p:nvPr/>
        </p:nvSpPr>
        <p:spPr>
          <a:xfrm>
            <a:off x="5773680" y="1562760"/>
            <a:ext cx="467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ǐ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2"/>
          <p:cNvSpPr/>
          <p:nvPr/>
        </p:nvSpPr>
        <p:spPr>
          <a:xfrm>
            <a:off x="6669360" y="1562760"/>
            <a:ext cx="443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sh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7433280" y="1562760"/>
            <a:ext cx="486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j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7"/>
          <p:cNvSpPr/>
          <p:nvPr/>
        </p:nvSpPr>
        <p:spPr>
          <a:xfrm>
            <a:off x="1152360" y="3318840"/>
            <a:ext cx="567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8"/>
          <p:cNvSpPr/>
          <p:nvPr/>
        </p:nvSpPr>
        <p:spPr>
          <a:xfrm>
            <a:off x="2001960" y="3318840"/>
            <a:ext cx="825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s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4"/>
          <p:cNvSpPr/>
          <p:nvPr/>
        </p:nvSpPr>
        <p:spPr>
          <a:xfrm>
            <a:off x="3198240" y="3318480"/>
            <a:ext cx="431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ī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5"/>
          <p:cNvSpPr/>
          <p:nvPr/>
        </p:nvSpPr>
        <p:spPr>
          <a:xfrm>
            <a:off x="4125960" y="3318480"/>
            <a:ext cx="568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ɡuà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6"/>
          <p:cNvSpPr/>
          <p:nvPr/>
        </p:nvSpPr>
        <p:spPr>
          <a:xfrm>
            <a:off x="5191200" y="3318480"/>
            <a:ext cx="458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qu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7"/>
          <p:cNvSpPr/>
          <p:nvPr/>
        </p:nvSpPr>
        <p:spPr>
          <a:xfrm>
            <a:off x="6156720" y="3318480"/>
            <a:ext cx="603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ǒ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9"/>
          <p:cNvSpPr/>
          <p:nvPr/>
        </p:nvSpPr>
        <p:spPr>
          <a:xfrm>
            <a:off x="7304040" y="3318480"/>
            <a:ext cx="595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lè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6"/>
          <p:cNvSpPr/>
          <p:nvPr/>
        </p:nvSpPr>
        <p:spPr>
          <a:xfrm>
            <a:off x="785880" y="1625040"/>
            <a:ext cx="97596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1097640" y="1159560"/>
            <a:ext cx="31428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h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7665480" y="1451160"/>
            <a:ext cx="39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h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780000" y="2344680"/>
            <a:ext cx="7657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h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1956600" y="1971360"/>
            <a:ext cx="6576480" cy="263880"/>
          </a:xfrm>
          <a:prstGeom prst="rect">
            <a:avLst/>
          </a:prstGeom>
          <a:noFill/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泥塘喽，卖泥塘！”青蛙站在牌子边大声吆喝起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1"/>
          <p:cNvSpPr/>
          <p:nvPr/>
        </p:nvSpPr>
        <p:spPr>
          <a:xfrm>
            <a:off x="3321000" y="2718360"/>
            <a:ext cx="190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们每天都要喝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1" name="文本框 50"/>
          <p:cNvSpPr/>
          <p:nvPr/>
        </p:nvSpPr>
        <p:spPr>
          <a:xfrm>
            <a:off x="6269400" y="626400"/>
            <a:ext cx="1818000" cy="432360"/>
          </a:xfrm>
          <a:prstGeom prst="cloudCallout">
            <a:avLst>
              <a:gd name="adj1" fmla="val 41188"/>
              <a:gd name="adj2" fmla="val 66326"/>
            </a:avLst>
          </a:prstGeom>
          <a:solidFill>
            <a:schemeClr val="bg1"/>
          </a:solidFill>
          <a:ln w="0">
            <a:solidFill>
              <a:srgbClr val="00a166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会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51"/>
          <p:cNvSpPr/>
          <p:nvPr/>
        </p:nvSpPr>
        <p:spPr>
          <a:xfrm>
            <a:off x="1778760" y="3913920"/>
            <a:ext cx="700920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在田地里撒（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sǎ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种，小狗花花在一旁撒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sā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欢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2"/>
          <p:cNvSpPr/>
          <p:nvPr/>
        </p:nvSpPr>
        <p:spPr>
          <a:xfrm>
            <a:off x="1073520" y="3178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53"/>
          <p:cNvSpPr/>
          <p:nvPr/>
        </p:nvSpPr>
        <p:spPr>
          <a:xfrm>
            <a:off x="1073520" y="389052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3"/>
          <p:cNvSpPr/>
          <p:nvPr/>
        </p:nvSpPr>
        <p:spPr>
          <a:xfrm>
            <a:off x="4105800" y="3270960"/>
            <a:ext cx="2221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老师应（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īng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该会答应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ìng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我们去博物馆参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5"/>
          <p:cNvGrpSpPr/>
          <p:nvPr/>
        </p:nvGrpSpPr>
        <p:grpSpPr>
          <a:xfrm>
            <a:off x="1926720" y="1121040"/>
            <a:ext cx="5418360" cy="3310560"/>
            <a:chOff x="1926720" y="1121040"/>
            <a:chExt cx="5418360" cy="3310560"/>
          </a:xfrm>
        </p:grpSpPr>
        <p:pic>
          <p:nvPicPr>
            <p:cNvPr id="137" name="图片 7" descr="25"/>
            <p:cNvPicPr/>
            <p:nvPr/>
          </p:nvPicPr>
          <p:blipFill>
            <a:blip r:embed="rId1"/>
            <a:stretch/>
          </p:blipFill>
          <p:spPr>
            <a:xfrm>
              <a:off x="1926720" y="1121040"/>
              <a:ext cx="5418360" cy="331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8"/>
            <p:cNvSpPr/>
            <p:nvPr/>
          </p:nvSpPr>
          <p:spPr>
            <a:xfrm>
              <a:off x="2039400" y="2077560"/>
              <a:ext cx="4722480" cy="21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泥塘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吆喝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舒服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播撒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尽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1"/>
          <p:cNvSpPr/>
          <p:nvPr/>
        </p:nvSpPr>
        <p:spPr>
          <a:xfrm>
            <a:off x="2788200" y="2077560"/>
            <a:ext cx="44802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烂泥淤积的洼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大声喊叫或叫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身体或精神上感到轻松愉快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撒播，撒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尽量由着自己的情感，不加拘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Group 47"/>
          <p:cNvGraphicFramePr/>
          <p:nvPr/>
        </p:nvGraphicFramePr>
        <p:xfrm>
          <a:off x="2196360" y="186948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Group 47"/>
          <p:cNvGraphicFramePr/>
          <p:nvPr/>
        </p:nvGraphicFramePr>
        <p:xfrm>
          <a:off x="3584880" y="186948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Group 47"/>
          <p:cNvGraphicFramePr/>
          <p:nvPr/>
        </p:nvGraphicFramePr>
        <p:xfrm>
          <a:off x="4928040" y="188172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Group 47"/>
          <p:cNvGraphicFramePr/>
          <p:nvPr/>
        </p:nvGraphicFramePr>
        <p:xfrm>
          <a:off x="6257160" y="186948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Group 47"/>
          <p:cNvGraphicFramePr/>
          <p:nvPr/>
        </p:nvGraphicFramePr>
        <p:xfrm>
          <a:off x="2189520" y="3091320"/>
          <a:ext cx="673560" cy="675000"/>
        </p:xfrm>
        <a:graphic>
          <a:graphicData uri="http://schemas.openxmlformats.org/drawingml/2006/table">
            <a:tbl>
              <a:tblPr/>
              <a:tblGrid>
                <a:gridCol w="334080"/>
                <a:gridCol w="33948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Group 47"/>
          <p:cNvGraphicFramePr/>
          <p:nvPr/>
        </p:nvGraphicFramePr>
        <p:xfrm>
          <a:off x="3578400" y="3082680"/>
          <a:ext cx="673560" cy="675000"/>
        </p:xfrm>
        <a:graphic>
          <a:graphicData uri="http://schemas.openxmlformats.org/drawingml/2006/table">
            <a:tbl>
              <a:tblPr/>
              <a:tblGrid>
                <a:gridCol w="334080"/>
                <a:gridCol w="33948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Group 47"/>
          <p:cNvGraphicFramePr/>
          <p:nvPr/>
        </p:nvGraphicFramePr>
        <p:xfrm>
          <a:off x="4935960" y="309132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Group 47"/>
          <p:cNvGraphicFramePr/>
          <p:nvPr/>
        </p:nvGraphicFramePr>
        <p:xfrm>
          <a:off x="6257160" y="30762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49" name="矩形 44">
            <a:hlinkClick r:id="rId1" action="ppaction://hlinksldjump"/>
          </p:cNvPr>
          <p:cNvSpPr/>
          <p:nvPr/>
        </p:nvSpPr>
        <p:spPr>
          <a:xfrm>
            <a:off x="2412360" y="187452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5">
            <a:hlinkClick r:id="rId2" action="ppaction://hlinksldjump"/>
          </p:cNvPr>
          <p:cNvSpPr/>
          <p:nvPr/>
        </p:nvSpPr>
        <p:spPr>
          <a:xfrm>
            <a:off x="3794760" y="18730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6">
            <a:hlinkClick r:id="rId3" action="ppaction://hlinksldjump"/>
          </p:cNvPr>
          <p:cNvSpPr/>
          <p:nvPr/>
        </p:nvSpPr>
        <p:spPr>
          <a:xfrm>
            <a:off x="5144760" y="18856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7">
            <a:hlinkClick r:id="rId4" action="ppaction://hlinksldjump"/>
          </p:cNvPr>
          <p:cNvSpPr/>
          <p:nvPr/>
        </p:nvSpPr>
        <p:spPr>
          <a:xfrm>
            <a:off x="6466680" y="18730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0"/>
          <p:cNvSpPr/>
          <p:nvPr/>
        </p:nvSpPr>
        <p:spPr>
          <a:xfrm>
            <a:off x="2405160" y="30952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1"/>
          <p:cNvSpPr/>
          <p:nvPr/>
        </p:nvSpPr>
        <p:spPr>
          <a:xfrm>
            <a:off x="3791880" y="308124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2"/>
          <p:cNvSpPr/>
          <p:nvPr/>
        </p:nvSpPr>
        <p:spPr>
          <a:xfrm>
            <a:off x="5152680" y="309852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53"/>
          <p:cNvSpPr/>
          <p:nvPr/>
        </p:nvSpPr>
        <p:spPr>
          <a:xfrm>
            <a:off x="6473880" y="30834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delay="0" evt="onClick">
                    <p:tgtEl>
                      <p:spTgt spid="149"/>
                    </p:tgtEl>
                  </p:cond>
                </p:stCondLst>
                <p:childTnLst>
                  <p:par>
                    <p:cTn id="168" fill="hold">
                      <p:stCondLst>
                        <p:cond delay="0"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150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delay="0" evt="onClick">
                    <p:tgtEl>
                      <p:spTgt spid="151"/>
                    </p:tgtEl>
                  </p:cond>
                </p:stCondLst>
                <p:childTnLst>
                  <p:par>
                    <p:cTn id="182" fill="hold">
                      <p:stCondLst>
                        <p:cond delay="0"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delay="0" evt="onClick">
                    <p:tgtEl>
                      <p:spTgt spid="152"/>
                    </p:tgtEl>
                  </p:cond>
                </p:stCondLst>
                <p:childTnLst>
                  <p:par>
                    <p:cTn id="189" fill="hold">
                      <p:stCondLst>
                        <p:cond delay="0"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delay="0" evt="onClick">
                    <p:tgtEl>
                      <p:spTgt spid="153"/>
                    </p:tgtEl>
                  </p:cond>
                </p:stCondLst>
                <p:childTnLst>
                  <p:par>
                    <p:cTn id="196" fill="hold">
                      <p:stCondLst>
                        <p:cond delay="0"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delay="0" evt="onClick">
                    <p:tgtEl>
                      <p:spTgt spid="154"/>
                    </p:tgtEl>
                  </p:cond>
                </p:stCondLst>
                <p:childTnLst>
                  <p:par>
                    <p:cTn id="203" fill="hold">
                      <p:stCondLst>
                        <p:cond delay="0"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delay="0" evt="onClick">
                    <p:tgtEl>
                      <p:spTgt spid="155"/>
                    </p:tgtEl>
                  </p:cond>
                </p:stCondLst>
                <p:childTnLst>
                  <p:par>
                    <p:cTn id="210" fill="hold">
                      <p:stCondLst>
                        <p:cond delay="0"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delay="0" evt="onClick">
                    <p:tgtEl>
                      <p:spTgt spid="156"/>
                    </p:tgtEl>
                  </p:cond>
                </p:stCondLst>
                <p:childTnLst>
                  <p:par>
                    <p:cTn id="217" fill="hold">
                      <p:stCondLst>
                        <p:cond delay="0"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38"/>
          <p:cNvSpPr/>
          <p:nvPr/>
        </p:nvSpPr>
        <p:spPr>
          <a:xfrm>
            <a:off x="6978600" y="1044720"/>
            <a:ext cx="883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w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314172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3"/>
          <p:cNvSpPr/>
          <p:nvPr/>
        </p:nvSpPr>
        <p:spPr>
          <a:xfrm>
            <a:off x="3848040" y="1714680"/>
            <a:ext cx="518256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   牛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青蛙是庄稼的好朋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窄右宽，第五笔是提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圭”的第二、四横长，竖在一条直线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62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embed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4000" y="1731240"/>
            <a:ext cx="2286720" cy="2094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60bd9e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63"/>
                </p:tgtEl>
              </p:cMediaNode>
            </p:video>
            <p:seq>
              <p:cTn id="262" restart="whenNotActive" nodeType="interactiveSeq" fill="hold">
                <p:stCondLst>
                  <p:cond delay="0" evt="onClick">
                    <p:tgtEl>
                      <p:spTgt spid="163"/>
                    </p:tgtEl>
                  </p:cond>
                </p:stCondLst>
                <p:childTnLst>
                  <p:par>
                    <p:cTn id="263" fill="hold">
                      <p:stCondLst>
                        <p:cond delay="0"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  <Words>2584</Words>
  <Paragraphs>3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5T01:58:51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9-17T05:28:50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8</vt:r8>
  </property>
  <property fmtid="{D5CDD505-2E9C-101B-9397-08002B2CF9AE}" pid="3" name="Notes">
    <vt:r8>27</vt:r8>
  </property>
  <property fmtid="{D5CDD505-2E9C-101B-9397-08002B2CF9AE}" pid="4" name="PresentationFormat">
    <vt:lpwstr>全屏显示(16:9)</vt:lpwstr>
  </property>
  <property fmtid="{D5CDD505-2E9C-101B-9397-08002B2CF9AE}" pid="5" name="Slides">
    <vt:r8>30</vt:r8>
  </property>
</Properties>
</file>