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tif" ContentType="image/tif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DEC7C2-56EA-4F63-BB11-F370DDD07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FandolFang R"/>
                <a:ea typeface="FandolFang R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CEACD71-444D-4331-B38D-CC60D6988179}" type="slidenum">
              <a:rPr b="0" lang="en-US" sz="1200" spc="-1" strike="noStrike">
                <a:solidFill>
                  <a:srgbClr val="000000"/>
                </a:solidFill>
                <a:latin typeface="FandolFang R"/>
                <a:ea typeface="FandolFang 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FandolFang R"/>
                <a:ea typeface="FandolFang 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90EC20A1-D739-4E5B-93F1-702C25B07F12}" type="slidenum">
              <a:rPr b="0" lang="en-US" sz="1200" spc="-1" strike="noStrike">
                <a:solidFill>
                  <a:srgbClr val="000000"/>
                </a:solidFill>
                <a:latin typeface="FandolFang R"/>
                <a:ea typeface="FandolFang 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FandolFang R"/>
                <a:ea typeface="FandolFang 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85E536B9-4DAA-408A-8E70-B8812B52E6DA}" type="slidenum">
              <a:rPr b="0" lang="en-US" sz="1200" spc="-1" strike="noStrike">
                <a:solidFill>
                  <a:srgbClr val="000000"/>
                </a:solidFill>
                <a:latin typeface="FandolFang R"/>
                <a:ea typeface="FandolFang 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FandolFang R"/>
                <a:ea typeface="FandolFang 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57E7B5B2-553E-4AB9-99B1-9172264128ED}" type="slidenum">
              <a:rPr b="0" lang="en-US" sz="1200" spc="-1" strike="noStrike">
                <a:solidFill>
                  <a:srgbClr val="000000"/>
                </a:solidFill>
                <a:latin typeface="FandolFang R"/>
                <a:ea typeface="FandolFang 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FandolFang R"/>
                <a:ea typeface="FandolFang 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60202455-14AE-4645-980D-857E5FDB8C5A}" type="slidenum">
              <a:rPr b="0" lang="en-US" sz="1200" spc="-1" strike="noStrike">
                <a:solidFill>
                  <a:srgbClr val="000000"/>
                </a:solidFill>
                <a:latin typeface="FandolFang R"/>
                <a:ea typeface="FandolFang 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FandolFang R"/>
                <a:ea typeface="FandolFang 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A15B1D51-8833-403C-812A-914FBF3548CB}" type="slidenum">
              <a:rPr b="0" lang="en-US" sz="1200" spc="-1" strike="noStrike">
                <a:solidFill>
                  <a:srgbClr val="000000"/>
                </a:solidFill>
                <a:latin typeface="FandolFang R"/>
                <a:ea typeface="FandolFang 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FandolFang R"/>
                <a:ea typeface="FandolFang R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F7E131-CB71-4E0E-BC9F-940A0757A355}" type="slidenum">
              <a:rPr b="0" lang="en-US" sz="1200" spc="-1" strike="noStrike">
                <a:solidFill>
                  <a:srgbClr val="000000"/>
                </a:solidFill>
                <a:latin typeface="FandolFang R"/>
                <a:ea typeface="FandolFang 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FandolFang R"/>
                <a:ea typeface="FandolFang 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FE8A0881-9852-46B1-9546-06AF49F65D6C}" type="slidenum">
              <a:rPr b="0" lang="en-US" sz="1200" spc="-1" strike="noStrike">
                <a:solidFill>
                  <a:srgbClr val="000000"/>
                </a:solidFill>
                <a:latin typeface="FandolFang R"/>
                <a:ea typeface="FandolFang 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FandolFang R"/>
                <a:ea typeface="FandolFang 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CDD89F94-1254-443B-9D5A-088B9D881AEE}" type="slidenum">
              <a:rPr b="0" lang="en-US" sz="1200" spc="-1" strike="noStrike">
                <a:solidFill>
                  <a:srgbClr val="000000"/>
                </a:solidFill>
                <a:latin typeface="FandolFang R"/>
                <a:ea typeface="FandolFang 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FandolFang R"/>
                <a:ea typeface="FandolFang 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34E9964E-480C-4CA1-BE27-2331610FD72D}" type="slidenum">
              <a:rPr b="0" lang="en-US" sz="1200" spc="-1" strike="noStrike">
                <a:solidFill>
                  <a:srgbClr val="000000"/>
                </a:solidFill>
                <a:latin typeface="FandolFang R"/>
                <a:ea typeface="FandolFang 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FandolFang R"/>
                <a:ea typeface="FandolFang 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066D3684-6C8B-4AC2-86F1-89942B8038E6}" type="slidenum">
              <a:rPr b="0" lang="en-US" sz="1200" spc="-1" strike="noStrike">
                <a:solidFill>
                  <a:srgbClr val="000000"/>
                </a:solidFill>
                <a:latin typeface="FandolFang R"/>
                <a:ea typeface="FandolFang 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FandolFang R"/>
                <a:ea typeface="FandolFang 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8194A130-DCD0-4288-9475-ECFC7649E015}" type="slidenum">
              <a:rPr b="0" lang="en-US" sz="1200" spc="-1" strike="noStrike">
                <a:solidFill>
                  <a:srgbClr val="000000"/>
                </a:solidFill>
                <a:latin typeface="FandolFang R"/>
                <a:ea typeface="FandolFang 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FandolFang R"/>
                <a:ea typeface="FandolFang 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8E073F2E-3B56-40D4-917D-5EA4D7A93C7A}" type="slidenum">
              <a:rPr b="0" lang="en-US" sz="1200" spc="-1" strike="noStrike">
                <a:solidFill>
                  <a:srgbClr val="000000"/>
                </a:solidFill>
                <a:latin typeface="FandolFang R"/>
                <a:ea typeface="FandolFang 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FandolFang R"/>
                <a:ea typeface="FandolFang 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BEEC9CF4-86D3-4D79-B69A-58033F059C73}" type="slidenum">
              <a:rPr b="0" lang="en-US" sz="1200" spc="-1" strike="noStrike">
                <a:solidFill>
                  <a:srgbClr val="000000"/>
                </a:solidFill>
                <a:latin typeface="FandolFang R"/>
                <a:ea typeface="FandolFang 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000000"/>
                </a:solidFill>
                <a:latin typeface="FandolFang R"/>
                <a:ea typeface="FandolFang 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4523D4BE-2B40-48F3-8221-30B5EFC9B6DB}" type="slidenum">
              <a:rPr b="0" lang="en-US" sz="1200" spc="-1" strike="noStrike">
                <a:solidFill>
                  <a:srgbClr val="000000"/>
                </a:solidFill>
                <a:latin typeface="FandolFang R"/>
                <a:ea typeface="FandolFang 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5913-9CEA-4BE2-913F-667E23158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6F18-44ED-4457-ADE4-F6181C3A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ED88-845B-485F-89C9-FC713BE23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FF1A-58A1-4A91-A8C5-46EF76820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143000" y="841680"/>
            <a:ext cx="6857640" cy="82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168D-E1E3-431C-A43F-12E69A7E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AA8F-4420-4B5B-A39C-47F7EADC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75C9-92C9-4371-B28F-5EA644D3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EF36-D4CF-4E5E-AA07-E16A5FD9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841680"/>
            <a:ext cx="6857640" cy="829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C91A-C862-4D74-82C3-83A2CBAD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2605-1DC2-4153-893F-73168E5F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39A6-9170-45EA-A318-8420A29C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B214-B290-478F-A0A5-0DF4E5DA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841680"/>
            <a:ext cx="6857640" cy="1790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45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2856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微软雅黑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29040" y="4767120"/>
            <a:ext cx="308592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458040" y="4767120"/>
            <a:ext cx="2057040" cy="27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7FC148-DD43-4296-A72F-5D6B11FD1FBB}" type="slidenum">
              <a:rPr b="0" lang="en-US" sz="900" spc="-1" strike="noStrike">
                <a:solidFill>
                  <a:srgbClr val="8b8b8b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矩形 6"/>
          <p:cNvSpPr/>
          <p:nvPr/>
        </p:nvSpPr>
        <p:spPr>
          <a:xfrm>
            <a:off x="350280" y="1917000"/>
            <a:ext cx="734760" cy="2408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人简历：</a:t>
            </a:r>
            <a:r>
              <a:rPr b="0" lang="en-US" sz="1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jianli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抄报：</a:t>
            </a:r>
            <a:r>
              <a:rPr b="0" lang="en-US" sz="1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houchaobao/          PPT</a:t>
            </a:r>
            <a:r>
              <a:rPr b="0" lang="zh-CN" sz="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kejian/lish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组合 7"/>
          <p:cNvGrpSpPr/>
          <p:nvPr/>
        </p:nvGrpSpPr>
        <p:grpSpPr>
          <a:xfrm>
            <a:off x="8639640" y="4677120"/>
            <a:ext cx="504360" cy="318240"/>
            <a:chOff x="8639640" y="4677120"/>
            <a:chExt cx="504360" cy="318240"/>
          </a:xfrm>
        </p:grpSpPr>
        <p:sp>
          <p:nvSpPr>
            <p:cNvPr id="43" name="箭头: 五边形 8"/>
            <p:cNvSpPr/>
            <p:nvPr/>
          </p:nvSpPr>
          <p:spPr>
            <a:xfrm rot="10800000">
              <a:off x="8639640" y="4804200"/>
              <a:ext cx="504360" cy="191160"/>
            </a:xfrm>
            <a:prstGeom prst="homePlate">
              <a:avLst>
                <a:gd name="adj" fmla="val 50000"/>
              </a:avLst>
            </a:prstGeom>
            <a:solidFill>
              <a:srgbClr val="403836">
                <a:alpha val="56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4" name="箭头: 五边形 9"/>
            <p:cNvSpPr/>
            <p:nvPr/>
          </p:nvSpPr>
          <p:spPr>
            <a:xfrm rot="10800000">
              <a:off x="8749080" y="4677120"/>
              <a:ext cx="394920" cy="149400"/>
            </a:xfrm>
            <a:prstGeom prst="homePlate">
              <a:avLst>
                <a:gd name="adj" fmla="val 50000"/>
              </a:avLst>
            </a:prstGeom>
            <a:solidFill>
              <a:srgbClr val="40383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45" name="组合 10"/>
          <p:cNvGrpSpPr/>
          <p:nvPr/>
        </p:nvGrpSpPr>
        <p:grpSpPr>
          <a:xfrm>
            <a:off x="360" y="360"/>
            <a:ext cx="342720" cy="799200"/>
            <a:chOff x="360" y="360"/>
            <a:chExt cx="342720" cy="799200"/>
          </a:xfrm>
        </p:grpSpPr>
        <p:sp>
          <p:nvSpPr>
            <p:cNvPr id="46" name="任意多边形: 形状 11"/>
            <p:cNvSpPr/>
            <p:nvPr/>
          </p:nvSpPr>
          <p:spPr>
            <a:xfrm rot="10800000">
              <a:off x="360" y="360"/>
              <a:ext cx="342720" cy="68544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685440"/>
                <a:gd name="textAreaBottom" fmla="*/ 685800 h 685440"/>
              </a:gdLst>
              <a:ahLst/>
              <a:rect l="textAreaLeft" t="textAreaTop" r="textAreaRight" b="textAreaBottom"/>
              <a:pathLst>
                <a:path w="1524000" h="3048000">
                  <a:moveTo>
                    <a:pt x="1524000" y="0"/>
                  </a:moveTo>
                  <a:lnTo>
                    <a:pt x="1524000" y="3048000"/>
                  </a:lnTo>
                  <a:lnTo>
                    <a:pt x="0" y="1524000"/>
                  </a:lnTo>
                  <a:close/>
                </a:path>
              </a:pathLst>
            </a:custGeom>
            <a:solidFill>
              <a:srgbClr val="403836">
                <a:alpha val="55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47" name="任意多边形: 形状 12"/>
            <p:cNvSpPr/>
            <p:nvPr/>
          </p:nvSpPr>
          <p:spPr>
            <a:xfrm rot="10800000">
              <a:off x="360" y="226080"/>
              <a:ext cx="286560" cy="573480"/>
            </a:xfrm>
            <a:custGeom>
              <a:avLst/>
              <a:gdLst>
                <a:gd name="textAreaLeft" fmla="*/ 0 w 286560"/>
                <a:gd name="textAreaRight" fmla="*/ 286920 w 28656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914400" h="1828800">
                  <a:moveTo>
                    <a:pt x="914400" y="0"/>
                  </a:moveTo>
                  <a:lnTo>
                    <a:pt x="914400" y="1828800"/>
                  </a:lnTo>
                  <a:lnTo>
                    <a:pt x="0" y="914400"/>
                  </a:lnTo>
                  <a:close/>
                </a:path>
              </a:pathLst>
            </a:custGeom>
            <a:solidFill>
              <a:srgbClr val="40383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微软雅黑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t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  <p:grpSp>
        <p:nvGrpSpPr>
          <p:cNvPr id="93" name="组合 5"/>
          <p:cNvGrpSpPr/>
          <p:nvPr/>
        </p:nvGrpSpPr>
        <p:grpSpPr>
          <a:xfrm>
            <a:off x="3968640" y="1174320"/>
            <a:ext cx="4738680" cy="1467360"/>
            <a:chOff x="3968640" y="1174320"/>
            <a:chExt cx="4738680" cy="1467360"/>
          </a:xfrm>
        </p:grpSpPr>
        <p:sp>
          <p:nvSpPr>
            <p:cNvPr id="94" name="文本框 6"/>
            <p:cNvSpPr/>
            <p:nvPr/>
          </p:nvSpPr>
          <p:spPr>
            <a:xfrm>
              <a:off x="3968640" y="1174320"/>
              <a:ext cx="4738680" cy="8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5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《</a:t>
              </a:r>
              <a:r>
                <a:rPr b="1" lang="zh-CN" sz="5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青蛙写诗》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文本框 7"/>
            <p:cNvSpPr/>
            <p:nvPr/>
          </p:nvSpPr>
          <p:spPr>
            <a:xfrm>
              <a:off x="4258800" y="2128320"/>
              <a:ext cx="3989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部编版语文课件 一年级上册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: 圆角 9"/>
            <p:cNvSpPr/>
            <p:nvPr/>
          </p:nvSpPr>
          <p:spPr>
            <a:xfrm flipH="1" flipV="1" rot="10800000">
              <a:off x="4326120" y="2606400"/>
              <a:ext cx="3856320" cy="34920"/>
            </a:xfrm>
            <a:prstGeom prst="roundRect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0160" bIns="-201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97" name="矩形 13"/>
          <p:cNvSpPr/>
          <p:nvPr/>
        </p:nvSpPr>
        <p:spPr>
          <a:xfrm>
            <a:off x="4948920" y="4170240"/>
            <a:ext cx="29732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特软件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-WWW.DUO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文本框 2"/>
          <p:cNvSpPr/>
          <p:nvPr/>
        </p:nvSpPr>
        <p:spPr>
          <a:xfrm>
            <a:off x="433440" y="250200"/>
            <a:ext cx="30934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读一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椭圆形标注 4"/>
          <p:cNvSpPr/>
          <p:nvPr/>
        </p:nvSpPr>
        <p:spPr>
          <a:xfrm>
            <a:off x="1000080" y="1035720"/>
            <a:ext cx="4821840" cy="1660680"/>
          </a:xfrm>
          <a:prstGeom prst="wedgeEllipseCallout">
            <a:avLst>
              <a:gd name="adj1" fmla="val 44282"/>
              <a:gd name="adj2" fmla="val 7275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pic>
        <p:nvPicPr>
          <p:cNvPr id="154" name="Picture 4" descr="15-4"/>
          <p:cNvPicPr/>
          <p:nvPr/>
        </p:nvPicPr>
        <p:blipFill>
          <a:blip r:embed="rId1"/>
          <a:stretch/>
        </p:blipFill>
        <p:spPr>
          <a:xfrm>
            <a:off x="5686560" y="2470320"/>
            <a:ext cx="2457000" cy="24224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1107360" y="1517760"/>
            <a:ext cx="50896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呱呱呱呱呱呱呱呱呱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107360" y="1303560"/>
            <a:ext cx="19998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u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3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115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4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4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4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4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文本框 2"/>
          <p:cNvSpPr/>
          <p:nvPr/>
        </p:nvSpPr>
        <p:spPr>
          <a:xfrm>
            <a:off x="433440" y="250200"/>
            <a:ext cx="30934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读一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形标注 4"/>
          <p:cNvSpPr/>
          <p:nvPr/>
        </p:nvSpPr>
        <p:spPr>
          <a:xfrm>
            <a:off x="1000080" y="1035720"/>
            <a:ext cx="4821840" cy="1660680"/>
          </a:xfrm>
          <a:prstGeom prst="wedgeEllipseCallout">
            <a:avLst>
              <a:gd name="adj1" fmla="val 44282"/>
              <a:gd name="adj2" fmla="val 7275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793080" y="1392840"/>
            <a:ext cx="3657240" cy="14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青蛙的诗写成了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呱呱，呱呱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呱呱呱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呱呱，呱呱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呱呱呱……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171440" y="1875240"/>
            <a:ext cx="7999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u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15-4"/>
          <p:cNvPicPr/>
          <p:nvPr/>
        </p:nvPicPr>
        <p:blipFill>
          <a:blip r:embed="rId1"/>
          <a:stretch/>
        </p:blipFill>
        <p:spPr>
          <a:xfrm>
            <a:off x="5686560" y="2470320"/>
            <a:ext cx="245700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3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140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4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4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文本框 2"/>
          <p:cNvSpPr/>
          <p:nvPr/>
        </p:nvSpPr>
        <p:spPr>
          <a:xfrm>
            <a:off x="433440" y="250200"/>
            <a:ext cx="30934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读一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2290"/>
          <p:cNvSpPr/>
          <p:nvPr/>
        </p:nvSpPr>
        <p:spPr>
          <a:xfrm>
            <a:off x="2811240" y="1309680"/>
            <a:ext cx="4178880" cy="20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蝌蚪游过来说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要给你当个小逗号。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池塘里的水泡泡说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能当个小句号。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荷叶上的一串水珠说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可以当省略号。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图片 7" descr=""/>
          <p:cNvPicPr/>
          <p:nvPr/>
        </p:nvPicPr>
        <p:blipFill>
          <a:blip r:embed="rId1"/>
          <a:stretch/>
        </p:blipFill>
        <p:spPr>
          <a:xfrm>
            <a:off x="1035720" y="3125520"/>
            <a:ext cx="1310400" cy="1610640"/>
          </a:xfrm>
          <a:prstGeom prst="rect">
            <a:avLst/>
          </a:prstGeom>
          <a:ln w="0">
            <a:noFill/>
          </a:ln>
        </p:spPr>
      </p:pic>
      <p:grpSp>
        <p:nvGrpSpPr>
          <p:cNvPr id="165" name="组合 5"/>
          <p:cNvGrpSpPr/>
          <p:nvPr/>
        </p:nvGrpSpPr>
        <p:grpSpPr>
          <a:xfrm>
            <a:off x="6768720" y="1785960"/>
            <a:ext cx="803160" cy="535320"/>
            <a:chOff x="6768720" y="1785960"/>
            <a:chExt cx="803160" cy="535320"/>
          </a:xfrm>
        </p:grpSpPr>
        <p:sp>
          <p:nvSpPr>
            <p:cNvPr id="166" name="云形标注 3"/>
            <p:cNvSpPr/>
            <p:nvPr/>
          </p:nvSpPr>
          <p:spPr>
            <a:xfrm>
              <a:off x="6768720" y="1785960"/>
              <a:ext cx="803160" cy="53532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chemeClr val="accent1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67" name="矩形 4"/>
            <p:cNvSpPr/>
            <p:nvPr/>
          </p:nvSpPr>
          <p:spPr>
            <a:xfrm>
              <a:off x="6971040" y="1893240"/>
              <a:ext cx="4554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呱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563 -0.1706 C 0.21945 -0.02315 0.22934 0.18264 0.26511 0.17986 C 0.3165 0.17986 0.32049 -0.50995 0.38177 -0.51273 C 0.43716 -0.51273 0.40747 0.09097 0.46094 0.0882 C 0.51632 0.0882 0.48664 -0.34861 0.54601 -0.34861 C 0.59948 -0.34861 0.5698 -0.0537 0.61719 -0.0537 C 0.66285 -0.0537 0.63907 -0.27893 0.68056 -0.27893 C 0.70434 -0.27893 0.70625 -0.21782 0.70834 -0.1706 E">
                                      <p:cBhvr>
                                        <p:cTn id="16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文本框 2"/>
          <p:cNvSpPr/>
          <p:nvPr/>
        </p:nvSpPr>
        <p:spPr>
          <a:xfrm>
            <a:off x="433440" y="250200"/>
            <a:ext cx="30934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想一想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"/>
          <p:cNvSpPr/>
          <p:nvPr/>
        </p:nvSpPr>
        <p:spPr>
          <a:xfrm>
            <a:off x="3527280" y="1601640"/>
            <a:ext cx="5250240" cy="10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圆圆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当个小句号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串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　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当省略号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个小尾巴可以当个小逗号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片 3" descr=""/>
          <p:cNvPicPr/>
          <p:nvPr/>
        </p:nvPicPr>
        <p:blipFill>
          <a:blip r:embed="rId1"/>
          <a:stretch/>
        </p:blipFill>
        <p:spPr>
          <a:xfrm>
            <a:off x="678600" y="2115000"/>
            <a:ext cx="2271240" cy="30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文本框 2"/>
          <p:cNvSpPr/>
          <p:nvPr/>
        </p:nvSpPr>
        <p:spPr>
          <a:xfrm>
            <a:off x="433440" y="250200"/>
            <a:ext cx="30934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想一想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4339800" y="1201320"/>
            <a:ext cx="36572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呱呱，呱呱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呱呱呱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呱呱，呱呱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呱呱呱……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5" descr="56H58PIC7AJ_1024"/>
          <p:cNvPicPr/>
          <p:nvPr/>
        </p:nvPicPr>
        <p:blipFill>
          <a:blip r:embed="rId1"/>
          <a:stretch/>
        </p:blipFill>
        <p:spPr>
          <a:xfrm>
            <a:off x="1278000" y="2946960"/>
            <a:ext cx="1404720" cy="17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5143320"/>
          </a:xfrm>
          <a:prstGeom prst="rect">
            <a:avLst/>
          </a:prstGeom>
          <a:ln w="0">
            <a:noFill/>
          </a:ln>
        </p:spPr>
      </p:pic>
      <p:grpSp>
        <p:nvGrpSpPr>
          <p:cNvPr id="175" name="组合 5"/>
          <p:cNvGrpSpPr/>
          <p:nvPr/>
        </p:nvGrpSpPr>
        <p:grpSpPr>
          <a:xfrm>
            <a:off x="3968640" y="1605240"/>
            <a:ext cx="4738680" cy="1036440"/>
            <a:chOff x="3968640" y="1605240"/>
            <a:chExt cx="4738680" cy="1036440"/>
          </a:xfrm>
        </p:grpSpPr>
        <p:sp>
          <p:nvSpPr>
            <p:cNvPr id="176" name="文本框 6"/>
            <p:cNvSpPr/>
            <p:nvPr/>
          </p:nvSpPr>
          <p:spPr>
            <a:xfrm>
              <a:off x="3968640" y="1605240"/>
              <a:ext cx="4738680" cy="8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5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感谢聆听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矩形: 圆角 9"/>
            <p:cNvSpPr/>
            <p:nvPr/>
          </p:nvSpPr>
          <p:spPr>
            <a:xfrm flipH="1" flipV="1" rot="10800000">
              <a:off x="4326120" y="2606400"/>
              <a:ext cx="3856320" cy="34920"/>
            </a:xfrm>
            <a:prstGeom prst="roundRect">
              <a:avLst>
                <a:gd name="adj" fmla="val 5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20160" bIns="-2016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文本框 2"/>
          <p:cNvSpPr/>
          <p:nvPr/>
        </p:nvSpPr>
        <p:spPr>
          <a:xfrm>
            <a:off x="433440" y="250200"/>
            <a:ext cx="30934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一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4114800" y="1557360"/>
            <a:ext cx="391068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    要    写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诗    雨    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4"/>
          <p:cNvSpPr/>
          <p:nvPr/>
        </p:nvSpPr>
        <p:spPr>
          <a:xfrm>
            <a:off x="4114800" y="1420560"/>
            <a:ext cx="37501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iǎn       yào       xiě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5"/>
          <p:cNvSpPr/>
          <p:nvPr/>
        </p:nvSpPr>
        <p:spPr>
          <a:xfrm>
            <a:off x="4061160" y="2307600"/>
            <a:ext cx="45003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ī        yǔ           xi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6" descr=""/>
          <p:cNvPicPr/>
          <p:nvPr/>
        </p:nvPicPr>
        <p:blipFill>
          <a:blip r:embed="rId1"/>
          <a:stretch/>
        </p:blipFill>
        <p:spPr>
          <a:xfrm>
            <a:off x="610920" y="2135880"/>
            <a:ext cx="2271240" cy="30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2"/>
          <p:cNvSpPr/>
          <p:nvPr/>
        </p:nvSpPr>
        <p:spPr>
          <a:xfrm>
            <a:off x="433440" y="250200"/>
            <a:ext cx="30934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读一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448000" y="1164600"/>
            <a:ext cx="6629040" cy="5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蝌蚪游过来说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要给你当个小逗号。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022920" y="857160"/>
            <a:ext cx="10854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k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558600" y="857160"/>
            <a:ext cx="9140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ǒ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4026600" y="1753920"/>
            <a:ext cx="10854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ě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678360" y="1807200"/>
            <a:ext cx="9140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dò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7214040" y="1753920"/>
            <a:ext cx="9140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à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19" descr=""/>
          <p:cNvPicPr/>
          <p:nvPr/>
        </p:nvPicPr>
        <p:blipFill>
          <a:blip r:embed="rId1"/>
          <a:stretch/>
        </p:blipFill>
        <p:spPr>
          <a:xfrm>
            <a:off x="610920" y="2135880"/>
            <a:ext cx="2271240" cy="30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文本框 2"/>
          <p:cNvSpPr/>
          <p:nvPr/>
        </p:nvSpPr>
        <p:spPr>
          <a:xfrm>
            <a:off x="433440" y="250200"/>
            <a:ext cx="30934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一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4072320" y="1716480"/>
            <a:ext cx="476820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   给   当  串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们   以   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2"/>
          <p:cNvSpPr/>
          <p:nvPr/>
        </p:nvSpPr>
        <p:spPr>
          <a:xfrm>
            <a:off x="3796920" y="1520280"/>
            <a:ext cx="48218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ɡuò     ɡěi      dānɡ   chuà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4"/>
          <p:cNvSpPr/>
          <p:nvPr/>
        </p:nvSpPr>
        <p:spPr>
          <a:xfrm>
            <a:off x="3717720" y="2433600"/>
            <a:ext cx="48218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men      yǐ        ɡ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3" descr=""/>
          <p:cNvPicPr/>
          <p:nvPr/>
        </p:nvPicPr>
        <p:blipFill>
          <a:blip r:embed="rId1"/>
          <a:stretch/>
        </p:blipFill>
        <p:spPr>
          <a:xfrm>
            <a:off x="610920" y="2135880"/>
            <a:ext cx="2271240" cy="30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文本框 2"/>
          <p:cNvSpPr/>
          <p:nvPr/>
        </p:nvSpPr>
        <p:spPr>
          <a:xfrm>
            <a:off x="433440" y="250200"/>
            <a:ext cx="30934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演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6" descr=""/>
          <p:cNvPicPr/>
          <p:nvPr/>
        </p:nvPicPr>
        <p:blipFill>
          <a:blip r:embed="rId1"/>
          <a:stretch/>
        </p:blipFill>
        <p:spPr>
          <a:xfrm>
            <a:off x="843120" y="2595600"/>
            <a:ext cx="1084320" cy="101880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7" descr=""/>
          <p:cNvPicPr/>
          <p:nvPr/>
        </p:nvPicPr>
        <p:blipFill>
          <a:blip r:embed="rId2"/>
          <a:stretch/>
        </p:blipFill>
        <p:spPr>
          <a:xfrm>
            <a:off x="2627640" y="2489760"/>
            <a:ext cx="1380600" cy="124488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8" descr=""/>
          <p:cNvPicPr/>
          <p:nvPr/>
        </p:nvPicPr>
        <p:blipFill>
          <a:blip r:embed="rId3"/>
          <a:stretch/>
        </p:blipFill>
        <p:spPr>
          <a:xfrm>
            <a:off x="4708800" y="2571840"/>
            <a:ext cx="1238040" cy="1162800"/>
          </a:xfrm>
          <a:prstGeom prst="rect">
            <a:avLst/>
          </a:prstGeom>
          <a:ln w="0">
            <a:noFill/>
          </a:ln>
        </p:spPr>
      </p:pic>
      <p:sp>
        <p:nvSpPr>
          <p:cNvPr id="120" name="右箭头 4"/>
          <p:cNvSpPr/>
          <p:nvPr/>
        </p:nvSpPr>
        <p:spPr>
          <a:xfrm>
            <a:off x="4008960" y="2996640"/>
            <a:ext cx="593640" cy="215280"/>
          </a:xfrm>
          <a:prstGeom prst="rightArrow">
            <a:avLst>
              <a:gd name="adj1" fmla="val 50000"/>
              <a:gd name="adj2" fmla="val 5013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21" name="右箭头 5"/>
          <p:cNvSpPr/>
          <p:nvPr/>
        </p:nvSpPr>
        <p:spPr>
          <a:xfrm>
            <a:off x="1927800" y="2996640"/>
            <a:ext cx="593640" cy="215280"/>
          </a:xfrm>
          <a:prstGeom prst="rightArrow">
            <a:avLst>
              <a:gd name="adj1" fmla="val 50000"/>
              <a:gd name="adj2" fmla="val 5013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1" lang="en-US" sz="14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22" name="文本框 6"/>
          <p:cNvSpPr/>
          <p:nvPr/>
        </p:nvSpPr>
        <p:spPr>
          <a:xfrm>
            <a:off x="813240" y="1438200"/>
            <a:ext cx="36144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串”字的演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4" descr=""/>
          <p:cNvPicPr/>
          <p:nvPr/>
        </p:nvPicPr>
        <p:blipFill>
          <a:blip r:embed="rId4"/>
          <a:stretch/>
        </p:blipFill>
        <p:spPr>
          <a:xfrm>
            <a:off x="6330600" y="1986120"/>
            <a:ext cx="1999800" cy="26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59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69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文本框 2"/>
          <p:cNvSpPr/>
          <p:nvPr/>
        </p:nvSpPr>
        <p:spPr>
          <a:xfrm>
            <a:off x="433440" y="250200"/>
            <a:ext cx="30934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点符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99"/>
          <p:cNvSpPr/>
          <p:nvPr/>
        </p:nvSpPr>
        <p:spPr>
          <a:xfrm>
            <a:off x="741240" y="1107360"/>
            <a:ext cx="5571720" cy="26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点符号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句号（。）是个小圆点，用它表示话说完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逗号（，）小点带尾巴，句内停顿要用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冒号（：）小小两圆点，要说话儿写后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号（？）好像耳朵样，表示一句问话完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叹号（！）像个小炸弹，表示惊喜和感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引号（“”）好像小蝌蚪，内放引文或对话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省略号（……）六个点，表示意思还没完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12" descr="XS106"/>
          <p:cNvPicPr/>
          <p:nvPr/>
        </p:nvPicPr>
        <p:blipFill>
          <a:blip r:embed="rId1"/>
          <a:stretch/>
        </p:blipFill>
        <p:spPr>
          <a:xfrm>
            <a:off x="5911560" y="3663360"/>
            <a:ext cx="2455920" cy="9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文本框 2"/>
          <p:cNvSpPr/>
          <p:nvPr/>
        </p:nvSpPr>
        <p:spPr>
          <a:xfrm>
            <a:off x="433440" y="250200"/>
            <a:ext cx="30934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点符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1574640" y="1425240"/>
            <a:ext cx="2080800" cy="4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hé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片 5" descr=""/>
          <p:cNvPicPr/>
          <p:nvPr/>
        </p:nvPicPr>
        <p:blipFill>
          <a:blip r:embed="rId1"/>
          <a:stretch/>
        </p:blipFill>
        <p:spPr>
          <a:xfrm>
            <a:off x="3785040" y="1553760"/>
            <a:ext cx="2891520" cy="288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文本框 2"/>
          <p:cNvSpPr/>
          <p:nvPr/>
        </p:nvSpPr>
        <p:spPr>
          <a:xfrm>
            <a:off x="433440" y="250200"/>
            <a:ext cx="30934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写的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3"/>
          <p:cNvGrpSpPr/>
          <p:nvPr/>
        </p:nvGrpSpPr>
        <p:grpSpPr>
          <a:xfrm>
            <a:off x="2217960" y="1653840"/>
            <a:ext cx="918000" cy="917640"/>
            <a:chOff x="2217960" y="1653840"/>
            <a:chExt cx="918000" cy="917640"/>
          </a:xfrm>
        </p:grpSpPr>
        <p:sp>
          <p:nvSpPr>
            <p:cNvPr id="132" name="Rectangle 4"/>
            <p:cNvSpPr/>
            <p:nvPr/>
          </p:nvSpPr>
          <p:spPr>
            <a:xfrm>
              <a:off x="2217960" y="1653840"/>
              <a:ext cx="917640" cy="91764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33" name="Line 5"/>
            <p:cNvSpPr/>
            <p:nvPr/>
          </p:nvSpPr>
          <p:spPr>
            <a:xfrm flipH="1">
              <a:off x="2217960" y="2112480"/>
              <a:ext cx="918000" cy="360"/>
            </a:xfrm>
            <a:prstGeom prst="line">
              <a:avLst/>
            </a:prstGeom>
            <a:ln w="28575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34" name="Line 6"/>
            <p:cNvSpPr/>
            <p:nvPr/>
          </p:nvSpPr>
          <p:spPr>
            <a:xfrm>
              <a:off x="2677320" y="1676520"/>
              <a:ext cx="360" cy="894960"/>
            </a:xfrm>
            <a:prstGeom prst="line">
              <a:avLst/>
            </a:prstGeom>
            <a:ln w="28575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135" name="Group 7"/>
          <p:cNvGrpSpPr/>
          <p:nvPr/>
        </p:nvGrpSpPr>
        <p:grpSpPr>
          <a:xfrm>
            <a:off x="4789800" y="1653840"/>
            <a:ext cx="918000" cy="917640"/>
            <a:chOff x="4789800" y="1653840"/>
            <a:chExt cx="918000" cy="917640"/>
          </a:xfrm>
        </p:grpSpPr>
        <p:sp>
          <p:nvSpPr>
            <p:cNvPr id="136" name="Rectangle 8"/>
            <p:cNvSpPr/>
            <p:nvPr/>
          </p:nvSpPr>
          <p:spPr>
            <a:xfrm>
              <a:off x="4789800" y="1653840"/>
              <a:ext cx="917640" cy="91764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37" name="Line 9"/>
            <p:cNvSpPr/>
            <p:nvPr/>
          </p:nvSpPr>
          <p:spPr>
            <a:xfrm flipH="1">
              <a:off x="4789800" y="2112480"/>
              <a:ext cx="918000" cy="360"/>
            </a:xfrm>
            <a:prstGeom prst="line">
              <a:avLst/>
            </a:prstGeom>
            <a:ln w="28575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38" name="Line 10"/>
            <p:cNvSpPr/>
            <p:nvPr/>
          </p:nvSpPr>
          <p:spPr>
            <a:xfrm>
              <a:off x="5248800" y="1676520"/>
              <a:ext cx="360" cy="894960"/>
            </a:xfrm>
            <a:prstGeom prst="line">
              <a:avLst/>
            </a:prstGeom>
            <a:ln w="28575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139" name="Group 3"/>
          <p:cNvGrpSpPr/>
          <p:nvPr/>
        </p:nvGrpSpPr>
        <p:grpSpPr>
          <a:xfrm>
            <a:off x="932040" y="1653840"/>
            <a:ext cx="918000" cy="917640"/>
            <a:chOff x="932040" y="1653840"/>
            <a:chExt cx="918000" cy="917640"/>
          </a:xfrm>
        </p:grpSpPr>
        <p:sp>
          <p:nvSpPr>
            <p:cNvPr id="140" name="Rectangle 4"/>
            <p:cNvSpPr/>
            <p:nvPr/>
          </p:nvSpPr>
          <p:spPr>
            <a:xfrm>
              <a:off x="932400" y="1653840"/>
              <a:ext cx="917640" cy="91764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41" name="Line 5"/>
            <p:cNvSpPr/>
            <p:nvPr/>
          </p:nvSpPr>
          <p:spPr>
            <a:xfrm flipH="1">
              <a:off x="932040" y="2112480"/>
              <a:ext cx="918000" cy="360"/>
            </a:xfrm>
            <a:prstGeom prst="line">
              <a:avLst/>
            </a:prstGeom>
            <a:ln w="28575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42" name="Line 6"/>
            <p:cNvSpPr/>
            <p:nvPr/>
          </p:nvSpPr>
          <p:spPr>
            <a:xfrm>
              <a:off x="1391400" y="1676520"/>
              <a:ext cx="360" cy="894960"/>
            </a:xfrm>
            <a:prstGeom prst="line">
              <a:avLst/>
            </a:prstGeom>
            <a:ln w="28575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143" name="Group 3"/>
          <p:cNvGrpSpPr/>
          <p:nvPr/>
        </p:nvGrpSpPr>
        <p:grpSpPr>
          <a:xfrm>
            <a:off x="3503880" y="1653840"/>
            <a:ext cx="918000" cy="917640"/>
            <a:chOff x="3503880" y="1653840"/>
            <a:chExt cx="918000" cy="917640"/>
          </a:xfrm>
        </p:grpSpPr>
        <p:sp>
          <p:nvSpPr>
            <p:cNvPr id="144" name="Rectangle 4"/>
            <p:cNvSpPr/>
            <p:nvPr/>
          </p:nvSpPr>
          <p:spPr>
            <a:xfrm>
              <a:off x="3503880" y="1653840"/>
              <a:ext cx="917640" cy="917640"/>
            </a:xfrm>
            <a:prstGeom prst="rect">
              <a:avLst/>
            </a:prstGeom>
            <a:solidFill>
              <a:schemeClr val="bg1"/>
            </a:solidFill>
            <a:ln w="28575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45" name="Line 5"/>
            <p:cNvSpPr/>
            <p:nvPr/>
          </p:nvSpPr>
          <p:spPr>
            <a:xfrm flipH="1">
              <a:off x="3503880" y="2112480"/>
              <a:ext cx="918000" cy="360"/>
            </a:xfrm>
            <a:prstGeom prst="line">
              <a:avLst/>
            </a:prstGeom>
            <a:ln w="28575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46" name="Line 6"/>
            <p:cNvSpPr/>
            <p:nvPr/>
          </p:nvSpPr>
          <p:spPr>
            <a:xfrm>
              <a:off x="3963240" y="1676520"/>
              <a:ext cx="360" cy="894960"/>
            </a:xfrm>
            <a:prstGeom prst="line">
              <a:avLst/>
            </a:prstGeom>
            <a:ln w="28575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147" name="Text Box 19"/>
          <p:cNvSpPr/>
          <p:nvPr/>
        </p:nvSpPr>
        <p:spPr>
          <a:xfrm>
            <a:off x="885960" y="1632240"/>
            <a:ext cx="48751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 个 雨 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1" descr=""/>
          <p:cNvPicPr/>
          <p:nvPr/>
        </p:nvPicPr>
        <p:blipFill>
          <a:blip r:embed="rId1"/>
          <a:stretch/>
        </p:blipFill>
        <p:spPr>
          <a:xfrm>
            <a:off x="6330600" y="1986120"/>
            <a:ext cx="1999800" cy="26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文本框 2"/>
          <p:cNvSpPr/>
          <p:nvPr/>
        </p:nvSpPr>
        <p:spPr>
          <a:xfrm>
            <a:off x="433440" y="250200"/>
            <a:ext cx="30934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会写的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"/>
          <p:cNvSpPr/>
          <p:nvPr/>
        </p:nvSpPr>
        <p:spPr>
          <a:xfrm>
            <a:off x="1678680" y="2157120"/>
            <a:ext cx="6375600" cy="10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写诗  雨点儿  我要  过来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一串水珠  可以  给你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当心  我们  成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: 圆角 3"/>
          <p:cNvSpPr/>
          <p:nvPr/>
        </p:nvSpPr>
        <p:spPr>
          <a:xfrm>
            <a:off x="700200" y="957240"/>
            <a:ext cx="7486200" cy="3514320"/>
          </a:xfrm>
          <a:prstGeom prst="roundRect">
            <a:avLst>
              <a:gd name="adj" fmla="val 16667"/>
            </a:avLst>
          </a:prstGeom>
          <a:noFill/>
          <a:ln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  <Words>608</Words>
  <Paragraphs>10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02T17:36:00Z</dcterms:created>
  <dc:creator>123</dc:creator>
  <dc:description/>
  <dc:language>en-US</dc:language>
  <cp:lastModifiedBy>123</cp:lastModifiedBy>
  <dcterms:modified xsi:type="dcterms:W3CDTF">2020-10-23T00:21:49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99</vt:lpwstr>
  </property>
  <property fmtid="{D5CDD505-2E9C-101B-9397-08002B2CF9AE}" pid="3" name="Notes">
    <vt:r8>15</vt:r8>
  </property>
  <property fmtid="{D5CDD505-2E9C-101B-9397-08002B2CF9AE}" pid="4" name="PresentationFormat">
    <vt:lpwstr>全屏显示(16:9)</vt:lpwstr>
  </property>
  <property fmtid="{D5CDD505-2E9C-101B-9397-08002B2CF9AE}" pid="5" name="Slides">
    <vt:r8>16</vt:r8>
  </property>
</Properties>
</file>