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CADA83-740C-4A12-8A36-8BA47B9B5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9AF530-B742-4861-AC8F-6FC1473147A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F1DD5B-0E63-4CA7-9060-62BC26DAAB7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4587840"/>
            <a:ext cx="1331640" cy="144000"/>
          </a:xfrm>
          <a:prstGeom prst="rect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4803840"/>
            <a:ext cx="9143640" cy="144000"/>
          </a:xfrm>
          <a:prstGeom prst="rect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0" y="4371840"/>
            <a:ext cx="826560" cy="144000"/>
          </a:xfrm>
          <a:prstGeom prst="rect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0" y="4587840"/>
            <a:ext cx="1331640" cy="144000"/>
          </a:xfrm>
          <a:prstGeom prst="rect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0" y="4803840"/>
            <a:ext cx="9143640" cy="144000"/>
          </a:xfrm>
          <a:prstGeom prst="rect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0" y="4371840"/>
            <a:ext cx="826560" cy="144000"/>
          </a:xfrm>
          <a:prstGeom prst="rect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4587840"/>
            <a:ext cx="1331640" cy="144000"/>
          </a:xfrm>
          <a:prstGeom prst="rect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0" y="4803840"/>
            <a:ext cx="9143640" cy="144000"/>
          </a:xfrm>
          <a:prstGeom prst="rect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0" y="4371840"/>
            <a:ext cx="826560" cy="144000"/>
          </a:xfrm>
          <a:prstGeom prst="rect">
            <a:avLst/>
          </a:prstGeom>
          <a:solidFill>
            <a:srgbClr val="92d050"/>
          </a:solidFill>
          <a:ln>
            <a:solidFill>
              <a:srgbClr val="92d05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http://imgsrc.baidu.com/imgad/pic/item/d6ca7bcb0a46f21f74561ba7fc246b600d33aee0.jpg"/>
          <p:cNvPicPr/>
          <p:nvPr/>
        </p:nvPicPr>
        <p:blipFill>
          <a:blip r:embed="rId1"/>
          <a:stretch/>
        </p:blipFill>
        <p:spPr>
          <a:xfrm>
            <a:off x="1259640" y="555480"/>
            <a:ext cx="6481440" cy="3646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 flipH="1">
            <a:off x="0" y="123120"/>
            <a:ext cx="4252320" cy="263880"/>
          </a:xfrm>
          <a:prstGeom prst="rect">
            <a:avLst/>
          </a:prstGeom>
          <a:gradFill rotWithShape="0">
            <a:gsLst>
              <a:gs pos="4000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Times New Roman"/>
              <a:ea typeface="微软雅黑"/>
            </a:endParaRPr>
          </a:p>
        </p:txBody>
      </p:sp>
      <p:sp>
        <p:nvSpPr>
          <p:cNvPr id="131" name="文本框 1"/>
          <p:cNvSpPr/>
          <p:nvPr/>
        </p:nvSpPr>
        <p:spPr>
          <a:xfrm>
            <a:off x="492840" y="111240"/>
            <a:ext cx="1522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人教版  语文  六年级  上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8"/>
          <p:cNvSpPr/>
          <p:nvPr/>
        </p:nvSpPr>
        <p:spPr>
          <a:xfrm>
            <a:off x="1583640" y="2086920"/>
            <a:ext cx="5833440" cy="281160"/>
          </a:xfrm>
          <a:prstGeom prst="rect">
            <a:avLst/>
          </a:prstGeom>
          <a:solidFill>
            <a:schemeClr val="accent3">
              <a:lumMod val="40000"/>
              <a:lumOff val="60000"/>
            </a:schemeClr>
          </a:solidFill>
          <a:ln w="19050">
            <a:noFill/>
          </a:ln>
          <a:effectLst>
            <a:softEdge rad="31680"/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_____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让生活更美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826920" y="915840"/>
            <a:ext cx="1441080" cy="576000"/>
          </a:xfrm>
          <a:prstGeom prst="rect">
            <a:avLst/>
          </a:prstGeom>
          <a:solidFill>
            <a:srgbClr val="92d050">
              <a:alpha val="79000"/>
            </a:srgbClr>
          </a:solidFill>
          <a:ln>
            <a:solidFill>
              <a:srgbClr val="92d050"/>
            </a:solidFill>
            <a:round/>
          </a:ln>
          <a:effectLst>
            <a:outerShdw algn="tr" blurRad="444600" dir="8100000" dist="254049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chemeClr val="lt1"/>
                </a:solidFill>
                <a:latin typeface="Times New Roman"/>
                <a:ea typeface="微软雅黑"/>
              </a:rPr>
              <a:t>习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0" y="4371840"/>
            <a:ext cx="91436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云形标注 1"/>
          <p:cNvSpPr/>
          <p:nvPr/>
        </p:nvSpPr>
        <p:spPr>
          <a:xfrm>
            <a:off x="3708360" y="411120"/>
            <a:ext cx="4571640" cy="465480"/>
          </a:xfrm>
          <a:prstGeom prst="cloudCallout">
            <a:avLst>
              <a:gd name="adj1" fmla="val -63611"/>
              <a:gd name="adj2" fmla="val 17934"/>
            </a:avLst>
          </a:prstGeom>
          <a:solidFill>
            <a:srgbClr val="ffffff"/>
          </a:solidFill>
          <a:ln>
            <a:solidFill>
              <a:srgbClr val="bece37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我想到的是音乐。听听音乐，唱唱歌，会让我放松、开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14280" y="1347840"/>
            <a:ext cx="1677600" cy="2553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云形标注 1"/>
          <p:cNvSpPr/>
          <p:nvPr/>
        </p:nvSpPr>
        <p:spPr>
          <a:xfrm>
            <a:off x="3708360" y="771480"/>
            <a:ext cx="4571640" cy="465480"/>
          </a:xfrm>
          <a:prstGeom prst="cloudCallout">
            <a:avLst>
              <a:gd name="adj1" fmla="val -67500"/>
              <a:gd name="adj2" fmla="val -626"/>
            </a:avLst>
          </a:prstGeom>
          <a:solidFill>
            <a:srgbClr val="ffffff"/>
          </a:solidFill>
          <a:ln>
            <a:solidFill>
              <a:srgbClr val="00b9fa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我的答案是种花。把种子种下去，等它们发芽，看它们慢慢长大，真有成就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187280" y="1419120"/>
            <a:ext cx="1296720" cy="2266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云形标注 1"/>
          <p:cNvSpPr/>
          <p:nvPr/>
        </p:nvSpPr>
        <p:spPr>
          <a:xfrm>
            <a:off x="468360" y="1058760"/>
            <a:ext cx="3958920" cy="465480"/>
          </a:xfrm>
          <a:prstGeom prst="cloudCallout">
            <a:avLst>
              <a:gd name="adj1" fmla="val 88708"/>
              <a:gd name="adj2" fmla="val 26630"/>
            </a:avLst>
          </a:prstGeom>
          <a:solidFill>
            <a:srgbClr val="ffffff"/>
          </a:solidFill>
          <a:ln>
            <a:solidFill>
              <a:srgbClr val="bece37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dk1"/>
                </a:solidFill>
                <a:latin typeface="Times New Roman"/>
                <a:ea typeface="微软雅黑"/>
              </a:rPr>
              <a:t>旅行让我看到了和家乡不一样的美景，还增长了见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3" descr="小孩"/>
          <p:cNvPicPr/>
          <p:nvPr/>
        </p:nvPicPr>
        <p:blipFill>
          <a:blip r:embed="rId1"/>
          <a:stretch/>
        </p:blipFill>
        <p:spPr>
          <a:xfrm>
            <a:off x="6138720" y="2440080"/>
            <a:ext cx="1504440" cy="202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8"/>
          <p:cNvSpPr/>
          <p:nvPr/>
        </p:nvSpPr>
        <p:spPr>
          <a:xfrm>
            <a:off x="792000" y="1203480"/>
            <a:ext cx="7811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这次习作，让我们围绕上面的话题来写。写之前，可以想一想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395280" y="484200"/>
            <a:ext cx="3384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思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895320" y="2451240"/>
            <a:ext cx="7481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是什么让你的生活更美好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它是怎样影响你的生活的？可以通过写哪件事来体现这样的影响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8"/>
          <p:cNvSpPr/>
          <p:nvPr/>
        </p:nvSpPr>
        <p:spPr>
          <a:xfrm>
            <a:off x="830160" y="1779480"/>
            <a:ext cx="7918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爱，是最美的音符，谱写出华丽的乐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爱，是冬日的暖阳，温暖人间的每一方。仰望星空，星星因为有月亮的相伴，而发出璀璨的光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远眺大地，花儿因为有太阳爱的照耀而抬起美丽的脸庞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395280" y="484200"/>
            <a:ext cx="3384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优秀段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2952720" y="1130400"/>
            <a:ext cx="3673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爱，让生活更美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8"/>
          <p:cNvSpPr/>
          <p:nvPr/>
        </p:nvSpPr>
        <p:spPr>
          <a:xfrm>
            <a:off x="971640" y="1779480"/>
            <a:ext cx="7416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高大的棕榈树，碧草连天，榕树舒展着它繁茂的枝叶，桃花纷飞在梦的季节里……这是我们诗意的校园。灵动的生命之花在这里绽放，青春的节拍一刻不停地敲响，我迈着脚步怕惊扰校园的美丽，轻轻地走着，不禁回想着、思念着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2411280" y="915840"/>
            <a:ext cx="4608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美丽的校园，让生活更美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upload.17u.com/allsrc/Admin/uploads/2013/3/13/Line/201303130203587211G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l.b2b168.com/2015/07/15/09/201507150939027466504.jpg"/>
          <p:cNvPicPr/>
          <p:nvPr/>
        </p:nvPicPr>
        <p:blipFill>
          <a:blip r:embed="rId2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827640" y="627480"/>
            <a:ext cx="7848360" cy="281160"/>
          </a:xfrm>
          <a:prstGeom prst="rect">
            <a:avLst/>
          </a:prstGeom>
          <a:solidFill>
            <a:schemeClr val="bg1"/>
          </a:solidFill>
          <a:ln w="0">
            <a:noFill/>
          </a:ln>
          <a:effectLst>
            <a:softEdge rad="127080"/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美丽的风景，安静的校园，在我们的身边有许多美好的东西，也有许多东西让我们的生活变得更加美好，今天我们进入习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7"/>
          <p:cNvSpPr/>
          <p:nvPr/>
        </p:nvSpPr>
        <p:spPr>
          <a:xfrm>
            <a:off x="395280" y="484200"/>
            <a:ext cx="3384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选择写作材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3778200" y="1492200"/>
            <a:ext cx="2101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你有没有想过，什么让你的生活更美好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10" descr=""/>
          <p:cNvPicPr/>
          <p:nvPr/>
        </p:nvPicPr>
        <p:blipFill>
          <a:blip r:embed="rId1"/>
          <a:stretch/>
        </p:blipFill>
        <p:spPr>
          <a:xfrm>
            <a:off x="81000" y="1492200"/>
            <a:ext cx="1103040" cy="158076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Times New Roman"/>
              <a:ea typeface="微软雅黑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2"/>
          <a:stretch/>
        </p:blipFill>
        <p:spPr>
          <a:xfrm>
            <a:off x="2556000" y="2355840"/>
            <a:ext cx="5089320" cy="2157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http://pic37.nipic.com/20131228/6819564_123526253167_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www.qd176.net/UpLoadFiles/SYSTEM/Lines/201872710564921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http://pic109.nipic.com/file/20160912/21793483_181731937039_2.jpg"/>
          <p:cNvPicPr/>
          <p:nvPr/>
        </p:nvPicPr>
        <p:blipFill>
          <a:blip r:embed="rId1"/>
          <a:stretch/>
        </p:blipFill>
        <p:spPr>
          <a:xfrm>
            <a:off x="0" y="0"/>
            <a:ext cx="4642920" cy="5143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pic109.nipic.com/file/20160912/21793483_181731937039_2.jpg"/>
          <p:cNvPicPr/>
          <p:nvPr/>
        </p:nvPicPr>
        <p:blipFill>
          <a:blip r:embed="rId2"/>
          <a:stretch/>
        </p:blipFill>
        <p:spPr>
          <a:xfrm>
            <a:off x="4624560" y="0"/>
            <a:ext cx="4519080" cy="5143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http://file03.16sucai.com/2016/10/1100/16sucai_p20161008085_0b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http://pic12.secooimg.com/vendor_product_mall/16/1/4a6b86d8819c451183a291cceb23cd54.jpg"/>
          <p:cNvPicPr/>
          <p:nvPr/>
        </p:nvPicPr>
        <p:blipFill>
          <a:blip r:embed="rId1"/>
          <a:stretch/>
        </p:blipFill>
        <p:spPr>
          <a:xfrm>
            <a:off x="611280" y="555480"/>
            <a:ext cx="3455640" cy="3387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http://p4.so.qhmsg.com/sdr/400__/t0190f2d7585d782be9.jpg"/>
          <p:cNvPicPr/>
          <p:nvPr/>
        </p:nvPicPr>
        <p:blipFill>
          <a:blip r:embed="rId2"/>
          <a:stretch/>
        </p:blipFill>
        <p:spPr>
          <a:xfrm>
            <a:off x="4284720" y="555480"/>
            <a:ext cx="3809520" cy="3312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" descr=""/>
          <p:cNvPicPr/>
          <p:nvPr/>
        </p:nvPicPr>
        <p:blipFill>
          <a:blip r:embed="rId1"/>
          <a:stretch/>
        </p:blipFill>
        <p:spPr>
          <a:xfrm>
            <a:off x="925560" y="339480"/>
            <a:ext cx="3196800" cy="369684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2" descr=""/>
          <p:cNvPicPr/>
          <p:nvPr/>
        </p:nvPicPr>
        <p:blipFill>
          <a:blip r:embed="rId2"/>
          <a:stretch/>
        </p:blipFill>
        <p:spPr>
          <a:xfrm>
            <a:off x="4683240" y="339480"/>
            <a:ext cx="2977920" cy="3690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第一PPT模板网-WWW.1PPT.COM">
  <a:themeElements>
    <a:clrScheme name="自定义 159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02b3c5"/>
      </a:accent1>
      <a:accent2>
        <a:srgbClr val="f07474"/>
      </a:accent2>
      <a:accent3>
        <a:srgbClr val="ffbf53"/>
      </a:accent3>
      <a:accent4>
        <a:srgbClr val="673b77"/>
      </a:accent4>
      <a:accent5>
        <a:srgbClr val="00b9fa"/>
      </a:accent5>
      <a:accent6>
        <a:srgbClr val="bece37"/>
      </a:accent6>
      <a:hlink>
        <a:srgbClr val="b381d9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自定义 159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02b3c5"/>
      </a:accent1>
      <a:accent2>
        <a:srgbClr val="f07474"/>
      </a:accent2>
      <a:accent3>
        <a:srgbClr val="ffbf53"/>
      </a:accent3>
      <a:accent4>
        <a:srgbClr val="673b77"/>
      </a:accent4>
      <a:accent5>
        <a:srgbClr val="00b9fa"/>
      </a:accent5>
      <a:accent6>
        <a:srgbClr val="bece37"/>
      </a:accent6>
      <a:hlink>
        <a:srgbClr val="b381d9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自定义 159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02b3c5"/>
      </a:accent1>
      <a:accent2>
        <a:srgbClr val="f07474"/>
      </a:accent2>
      <a:accent3>
        <a:srgbClr val="ffbf53"/>
      </a:accent3>
      <a:accent4>
        <a:srgbClr val="673b77"/>
      </a:accent4>
      <a:accent5>
        <a:srgbClr val="00b9fa"/>
      </a:accent5>
      <a:accent6>
        <a:srgbClr val="bece37"/>
      </a:accent6>
      <a:hlink>
        <a:srgbClr val="b381d9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02b3c5"/>
      </a:accent1>
      <a:accent2>
        <a:srgbClr val="f07474"/>
      </a:accent2>
      <a:accent3>
        <a:srgbClr val="ffbf53"/>
      </a:accent3>
      <a:accent4>
        <a:srgbClr val="673b77"/>
      </a:accent4>
      <a:accent5>
        <a:srgbClr val="00b9fa"/>
      </a:accent5>
      <a:accent6>
        <a:srgbClr val="bece37"/>
      </a:accent6>
      <a:hlink>
        <a:srgbClr val="b381d9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660</Words>
  <Paragraphs>3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2:28:00Z</dcterms:created>
  <dc:creator>第一PPT模板网-WWW.1PPT.COM</dc:creator>
  <dc:description/>
  <dc:language>en-US</dc:language>
  <cp:lastModifiedBy/>
  <dcterms:modified xsi:type="dcterms:W3CDTF">2021-04-07T06:13:1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96</vt:lpwstr>
  </property>
  <property fmtid="{D5CDD505-2E9C-101B-9397-08002B2CF9AE}" pid="3" name="Notes">
    <vt:r8>2</vt:r8>
  </property>
  <property fmtid="{D5CDD505-2E9C-101B-9397-08002B2CF9AE}" pid="4" name="PresentationFormat">
    <vt:lpwstr>全屏显示(16:9)</vt:lpwstr>
  </property>
  <property fmtid="{D5CDD505-2E9C-101B-9397-08002B2CF9AE}" pid="5" name="Slides">
    <vt:r8>16</vt:r8>
  </property>
</Properties>
</file>