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gif" ContentType="image/gif"/>
  <Override PartName="/ppt/media/image8.jpeg" ContentType="image/jpe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045-C749-407C-B6A6-2D98270A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DAC-B64E-4415-9D8E-A1EBD037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6FF-9160-4C06-A9D1-565C55D0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FCD-6AE5-4BBF-A2F7-DFE716F0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3F3-A2D1-4B72-8848-7ED122A8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CD4-A31B-4420-8A99-606C3061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96A-D29E-4033-A11F-A4D5CD8C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038-BE45-4634-BA99-D6CA9F32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C65-3E62-4B72-A7A8-25A03509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FC8-8579-406B-9441-88ADD812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D71-CF2E-43AA-958D-D5ABA61D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3F2-8B67-49F5-A6D6-3EF46210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9F187B-F5F5-4AC9-8976-629CC7772F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3.xml"/><Relationship Id="rId3" Type="http://schemas.openxmlformats.org/officeDocument/2006/relationships/slide" Target="slide10.xml"/><Relationship Id="rId4" Type="http://schemas.openxmlformats.org/officeDocument/2006/relationships/slide" Target="slide14.xml"/><Relationship Id="rId5" Type="http://schemas.openxmlformats.org/officeDocument/2006/relationships/slide" Target="slide11.xml"/><Relationship Id="rId6" Type="http://schemas.openxmlformats.org/officeDocument/2006/relationships/slide" Target="slide8.xm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rcRect l="0" t="0" r="685" b="1306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039680" y="1066680"/>
            <a:ext cx="6800400" cy="2742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17208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生命与和平相爱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290280" y="403848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铁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645360" y="5045040"/>
            <a:ext cx="1589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749680" y="601992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1916280"/>
            <a:ext cx="9143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４、他有着爱和平爱生命的信念，他有着为和平而奋争的勇气，他有着同情人类的豁达心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6803640" cy="3639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寻读课文 了解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1424160"/>
            <a:ext cx="9143640" cy="2391480"/>
          </a:xfrm>
          <a:prstGeom prst="rect">
            <a:avLst/>
          </a:prstGeom>
          <a:solidFill>
            <a:srgbClr val="cc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以小见大：这篇散文写了一个人，一个家庭，却表现了一个伟大的民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语言凝重而又内涵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面对的是“千百年来一直被他们的敌人驱赶而流离失所”、“精神和肉体面临被灭绝的巨大威胁”的民族，所涉及的又是生命与和平这一沉重的话题，因而文中语言处处透露作者理性的思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１、运用结论性归纳的议论语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２、多用长句，特别是复句的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３、多用启迪读者思考、探究的问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presentationml/2006/ole">
            <p:oleObj progId="PowerPoint.Slide.8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3640" cy="68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0"/>
            <a:ext cx="6516360" cy="363960"/>
          </a:xfrm>
          <a:prstGeom prst="rect">
            <a:avLst/>
          </a:prstGeom>
          <a:solidFill>
            <a:srgbClr val="9ad2d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中感悟　拓展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0" y="1052640"/>
            <a:ext cx="9143640" cy="3878280"/>
            <a:chOff x="0" y="1052640"/>
            <a:chExt cx="9143640" cy="3878280"/>
          </a:xfrm>
        </p:grpSpPr>
        <p:sp>
          <p:nvSpPr>
            <p:cNvPr id="76" name="Text Box 4"/>
            <p:cNvSpPr/>
            <p:nvPr/>
          </p:nvSpPr>
          <p:spPr>
            <a:xfrm>
              <a:off x="0" y="1052640"/>
              <a:ext cx="914364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１、结合当前风云变幻的国际形势谈谈你对生命与和平的理解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>
              <a:off x="0" y="2708280"/>
              <a:ext cx="914364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２、作为新世纪的青少年，为了维护世界和平，你能做些什么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6"/>
            <p:cNvSpPr/>
            <p:nvPr/>
          </p:nvSpPr>
          <p:spPr>
            <a:xfrm>
              <a:off x="0" y="4292640"/>
              <a:ext cx="914364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３、围绕“生命与和平”这一话题，请你拟一则宣传标语。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3240"/>
          <a:ext cx="9143640" cy="6857640"/>
        </p:xfrm>
        <a:graphic>
          <a:graphicData uri="http://schemas.openxmlformats.org/presentationml/2006/ole">
            <p:oleObj progId="PowerPoint.Slide.8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3640" cy="68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2"/>
          <p:cNvGraphicFramePr/>
          <p:nvPr/>
        </p:nvGraphicFramePr>
        <p:xfrm>
          <a:off x="0" y="3240"/>
          <a:ext cx="9143640" cy="6857640"/>
        </p:xfrm>
        <a:graphic>
          <a:graphicData uri="http://schemas.openxmlformats.org/presentationml/2006/ole">
            <p:oleObj progId="PowerPoint.Slide.8"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3640" cy="68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3058920" cy="36396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1197000"/>
            <a:ext cx="9143640" cy="185724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 学习本文以小见大、逐步深入的写作方法；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 体会本文的选材角度，及运用议论反复点化突出主题的技巧；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 品味文章语言凝重的特点和丰富的内涵；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 理解犹太人的民族精神。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404640"/>
            <a:ext cx="6587640" cy="363960"/>
          </a:xfrm>
          <a:prstGeom prst="rect">
            <a:avLst/>
          </a:prstGeom>
          <a:solidFill>
            <a:srgbClr val="cc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初读课文　了解大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89000"/>
            <a:ext cx="9143640" cy="7146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篇散文写的一个人是谁，一个家庭是哪一个家庭，一个民族是哪一个民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用一两句话概括全文大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476280"/>
            <a:ext cx="7164000" cy="363960"/>
          </a:xfrm>
          <a:prstGeom prst="rect">
            <a:avLst/>
          </a:prstGeom>
          <a:solidFill>
            <a:srgbClr val="fea0f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速读课文　理清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2852640"/>
            <a:ext cx="8892720" cy="3639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找出文中能清晰地体现作者写作思路的几个关键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0"/>
            <a:ext cx="6443280" cy="363960"/>
          </a:xfrm>
          <a:prstGeom prst="rect">
            <a:avLst/>
          </a:prstGeom>
          <a:solidFill>
            <a:srgbClr val="fea0f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读课文  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>
            <a:hlinkClick r:id="rId2" action="ppaction://hlinksldjump"/>
          </p:cNvPr>
          <p:cNvSpPr/>
          <p:nvPr/>
        </p:nvSpPr>
        <p:spPr>
          <a:xfrm>
            <a:off x="0" y="1052640"/>
            <a:ext cx="914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章开头是怎样引出戴维这个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样写有什么好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>
            <a:hlinkClick r:id="rId3" action="ppaction://hlinksldjump"/>
          </p:cNvPr>
          <p:cNvSpPr/>
          <p:nvPr/>
        </p:nvSpPr>
        <p:spPr>
          <a:xfrm>
            <a:off x="0" y="2852640"/>
            <a:ext cx="914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充分展现了戴维的哪些才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>
            <a:hlinkClick r:id="rId4" action="ppaction://hlinksldjump"/>
          </p:cNvPr>
          <p:cNvSpPr/>
          <p:nvPr/>
        </p:nvSpPr>
        <p:spPr>
          <a:xfrm>
            <a:off x="0" y="5118120"/>
            <a:ext cx="914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感情地朗读最后一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说它概括了戴维什么个性特点，表达作者怎样的感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>
            <a:hlinkClick r:id="rId5" action="ppaction://hlinksldjump"/>
          </p:cNvPr>
          <p:cNvSpPr/>
          <p:nvPr/>
        </p:nvSpPr>
        <p:spPr>
          <a:xfrm>
            <a:off x="0" y="4005360"/>
            <a:ext cx="914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戴维的优秀才能形成的原因是什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>
            <a:hlinkClick r:id="rId6" action="ppaction://hlinksldjump"/>
          </p:cNvPr>
          <p:cNvSpPr/>
          <p:nvPr/>
        </p:nvSpPr>
        <p:spPr>
          <a:xfrm>
            <a:off x="8604360" y="6524640"/>
            <a:ext cx="323640" cy="333000"/>
          </a:xfrm>
          <a:prstGeom prst="actionButtonForwardNex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0" name="Picture 8" descr="0068"/>
          <p:cNvPicPr/>
          <p:nvPr/>
        </p:nvPicPr>
        <p:blipFill>
          <a:blip r:embed="rId7"/>
          <a:stretch/>
        </p:blipFill>
        <p:spPr>
          <a:xfrm>
            <a:off x="8244000" y="6467400"/>
            <a:ext cx="399600" cy="390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736560"/>
            <a:ext cx="9143640" cy="3639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１、开头从写犹太民族被杀戮的历史和民族生机勃勃的巨大创造力，来引出了戴维其人。这样为写犹太人的民族精神设置“历史背景”，为写民族精神张本。同时，把犹太民族被杀戮的历史与民族生机勃勃的创造力进行今昔比照，以引起读者对戴维和他的民族的“巨大创造力”的源泉何在的思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>
            <a:hlinkClick r:id="" action="ppaction://hlinkshowjump?jump=previousslide"/>
          </p:cNvPr>
          <p:cNvSpPr/>
          <p:nvPr/>
        </p:nvSpPr>
        <p:spPr>
          <a:xfrm>
            <a:off x="8388360" y="6237360"/>
            <a:ext cx="286920" cy="28872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189000"/>
            <a:ext cx="8819640" cy="246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２、课文充分展现了戴维的语言才能，具体概括为以下几个方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１）阅读中文长篇小说已经达到无需辅导的程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２）普通话自然、流利、准确，发音类似标准播音员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３）掌握多种语言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４）参加中文水准考试获佳绩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５）从事翻译工作深受好评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６）在《北京青年报》开设专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>
            <a:hlinkClick r:id="rId1" action="ppaction://hlinksldjump"/>
          </p:cNvPr>
          <p:cNvSpPr/>
          <p:nvPr/>
        </p:nvSpPr>
        <p:spPr>
          <a:xfrm>
            <a:off x="8244000" y="6165720"/>
            <a:ext cx="358560" cy="35856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620640"/>
            <a:ext cx="914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３、犹太民族的优秀精神，滋润、灌注出戴维优异的才能。正是良好的家庭环境和家庭教育，特别是人格力量。戴维的才能与犹太民族的智慧和本民族“文化精髓”有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1052640"/>
            <a:ext cx="91436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4149720"/>
            <a:ext cx="9143640" cy="70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endParaRPr b="1" lang="en-US" sz="4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68" name="AutoShape 5">
            <a:hlinkClick r:id="rId2" action="ppaction://hlinksldjump"/>
          </p:cNvPr>
          <p:cNvSpPr/>
          <p:nvPr/>
        </p:nvSpPr>
        <p:spPr>
          <a:xfrm>
            <a:off x="8244000" y="6237360"/>
            <a:ext cx="360000" cy="28872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4">
      <a:dk1>
        <a:srgbClr val="000000"/>
      </a:dk1>
      <a:lt1>
        <a:srgbClr val="def6f1"/>
      </a:lt1>
      <a:dk2>
        <a:srgbClr val="000000"/>
      </a:dk2>
      <a:lt2>
        <a:srgbClr val="969696"/>
      </a:lt2>
      <a:accent1>
        <a:srgbClr val="ffffff"/>
      </a:accent1>
      <a:accent2>
        <a:srgbClr val="8dc6ff"/>
      </a:accent2>
      <a:accent3>
        <a:srgbClr val="ecfaf7"/>
      </a:accent3>
      <a:accent4>
        <a:srgbClr val="000000"/>
      </a:accent4>
      <a:accent5>
        <a:srgbClr val="ffffff"/>
      </a:accent5>
      <a:accent6>
        <a:srgbClr val="7fb3e7"/>
      </a:accent6>
      <a:hlink>
        <a:srgbClr val="0066cc"/>
      </a:hlink>
      <a:folHlink>
        <a:srgbClr val="00a8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714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1601-01-01T00:00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cp:lastPrinted>1601-01-01T00:00:00Z</cp:lastPrinted>
  <dcterms:modified xsi:type="dcterms:W3CDTF">2021-07-29T13:10:32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5</vt:r8>
  </property>
  <property fmtid="{D5CDD505-2E9C-101B-9397-08002B2CF9AE}" pid="4" name="Version">
    <vt:r8>1</vt:r8>
  </property>
</Properties>
</file>