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795-1037-4DCD-9C00-8AF86731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BEA-4120-4012-AC14-A5067A44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F07-A18C-46A7-9F82-B6590F3A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E4C-9829-4034-B5DC-67678A31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042-10DA-471D-B584-7869DE93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062-0C7F-48C6-B667-12E4C080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694-994F-4E22-952B-439B3B56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D7D-CC68-4EBD-B986-CE8BB8A7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0A6-D072-4051-B698-73DDFDA0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23C-DC48-47A6-94E0-3FE24D5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0F7-287B-4BE5-AEAB-BF249C07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E67-8FBA-4DCE-8DF7-C8689C63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4CE917-DBD4-4276-80BA-499A08CA7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838080" y="692280"/>
            <a:ext cx="7189560" cy="1828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生命与和平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675320" y="2930400"/>
            <a:ext cx="3352320" cy="1599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419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相爱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37120" y="6165720"/>
            <a:ext cx="448380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特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DUOT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毕加索"/>
          <p:cNvPicPr/>
          <p:nvPr/>
        </p:nvPicPr>
        <p:blipFill>
          <a:blip r:embed="rId1"/>
          <a:stretch/>
        </p:blipFill>
        <p:spPr>
          <a:xfrm>
            <a:off x="1523880" y="1143000"/>
            <a:ext cx="2819160" cy="4114440"/>
          </a:xfrm>
          <a:prstGeom prst="rect">
            <a:avLst/>
          </a:prstGeom>
          <a:ln w="9525">
            <a:noFill/>
          </a:ln>
        </p:spPr>
      </p:pic>
      <p:sp>
        <p:nvSpPr>
          <p:cNvPr id="65" name="Text Box 3"/>
          <p:cNvSpPr/>
          <p:nvPr/>
        </p:nvSpPr>
        <p:spPr>
          <a:xfrm>
            <a:off x="5181480" y="1143000"/>
            <a:ext cx="26665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西方最有创造性和影响最深远的艺术家，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世纪最伟大的艺术天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828800" y="5334120"/>
            <a:ext cx="2742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毕加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028"/>
          <p:cNvSpPr/>
          <p:nvPr/>
        </p:nvSpPr>
        <p:spPr>
          <a:xfrm>
            <a:off x="324000" y="404640"/>
            <a:ext cx="84974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师导入：以上这些人都是在政治、经济、科学、艺术等方面为世界做出杰出贡献的人才，他们都属于一个共同民族，那就是犹太民族。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设立诺贝尔奖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8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止，这个人口不足世界四百分之一的民族，获得这项大奖的科学家竟然占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7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确实引起了世界的震惊和瞩目。命运多劫的犹太人为什么会在如此众多的领域中出类拔萃？为什么他们能在世界科学最高奖项占据如此大的优势？今天就让我们随着作家铁凝，去认识一位美籍犹太裔青年，通过它的成长历程和生活背景，也许我们能够找到一些答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971640" y="765000"/>
            <a:ext cx="770364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骤二：提取信息，点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浏览文本，捕捉信息，以小组为单位开展活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xdldmd"/>
          <p:cNvPicPr/>
          <p:nvPr/>
        </p:nvPicPr>
        <p:blipFill>
          <a:blip r:embed="rId1"/>
          <a:stretch/>
        </p:blipFill>
        <p:spPr>
          <a:xfrm>
            <a:off x="0" y="0"/>
            <a:ext cx="9372240" cy="6819480"/>
          </a:xfrm>
          <a:prstGeom prst="rect">
            <a:avLst/>
          </a:prstGeom>
          <a:ln w="9525">
            <a:noFill/>
          </a:ln>
        </p:spPr>
      </p:pic>
      <p:sp>
        <p:nvSpPr>
          <p:cNvPr id="70" name="Text Box 5"/>
          <p:cNvSpPr/>
          <p:nvPr/>
        </p:nvSpPr>
        <p:spPr>
          <a:xfrm>
            <a:off x="1295280" y="1066680"/>
            <a:ext cx="7086240" cy="146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85800" y="609480"/>
            <a:ext cx="7619760" cy="330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活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目的：提炼文章主要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：“向你介绍我的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朋友——戴维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要求：全面、简洁、有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187280" y="836640"/>
            <a:ext cx="741636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法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从其性格、成长环境、才能等方面有条理地介绍人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332000" y="692280"/>
            <a:ext cx="698472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骤三：搜集信息，深度交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人物的个性上升到对其成功原因的深层次的思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xdldmd"/>
          <p:cNvPicPr/>
          <p:nvPr/>
        </p:nvPicPr>
        <p:blipFill>
          <a:blip r:embed="rId1"/>
          <a:stretch/>
        </p:blipFill>
        <p:spPr>
          <a:xfrm>
            <a:off x="0" y="0"/>
            <a:ext cx="9372240" cy="6819480"/>
          </a:xfrm>
          <a:prstGeom prst="rect">
            <a:avLst/>
          </a:prstGeom>
          <a:ln w="9525">
            <a:noFill/>
          </a:ln>
        </p:spPr>
      </p:pic>
      <p:sp>
        <p:nvSpPr>
          <p:cNvPr id="75" name="Text Box 5"/>
          <p:cNvSpPr/>
          <p:nvPr/>
        </p:nvSpPr>
        <p:spPr>
          <a:xfrm>
            <a:off x="685800" y="1981080"/>
            <a:ext cx="8062560" cy="1644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戴维为什么会如此优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造就了优秀的戴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xdldmd"/>
          <p:cNvPicPr/>
          <p:nvPr/>
        </p:nvPicPr>
        <p:blipFill>
          <a:blip r:embed="rId1"/>
          <a:stretch/>
        </p:blipFill>
        <p:spPr>
          <a:xfrm>
            <a:off x="0" y="0"/>
            <a:ext cx="9372240" cy="6819480"/>
          </a:xfrm>
          <a:prstGeom prst="rect">
            <a:avLst/>
          </a:prstGeom>
          <a:ln w="9525">
            <a:noFill/>
          </a:ln>
        </p:spPr>
      </p:pic>
      <p:sp>
        <p:nvSpPr>
          <p:cNvPr id="77" name="Text Box 3"/>
          <p:cNvSpPr/>
          <p:nvPr/>
        </p:nvSpPr>
        <p:spPr>
          <a:xfrm>
            <a:off x="1547640" y="549360"/>
            <a:ext cx="5866920" cy="304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戴维的成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缘于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缘于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缘于 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4360" y="4653000"/>
            <a:ext cx="806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用一段排比句，整理信息。训练学生多角度思维的习惯，提高学生的语言表达能力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95280" y="620640"/>
            <a:ext cx="8569080" cy="1339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师学学生平等交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戴维的成功缘于他个人对一切新鲜事物的盎然的兴致，缘于他对于一切他正在做的事情的那一分郑重；缘于那个朴素、彼此关切、相互欣赏，交给他处事条理性、思维独立性的和谐的家庭；缘于热爱生命、执著祈祷和平，重视知识、教育、文化，内心祥和的犹太民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xdldmd"/>
          <p:cNvPicPr/>
          <p:nvPr/>
        </p:nvPicPr>
        <p:blipFill>
          <a:blip r:embed="rId1"/>
          <a:stretch/>
        </p:blipFill>
        <p:spPr>
          <a:xfrm>
            <a:off x="0" y="0"/>
            <a:ext cx="9372240" cy="6819480"/>
          </a:xfrm>
          <a:prstGeom prst="rect">
            <a:avLst/>
          </a:prstGeom>
          <a:ln w="9525">
            <a:noFill/>
          </a:ln>
        </p:spPr>
      </p:pic>
      <p:sp>
        <p:nvSpPr>
          <p:cNvPr id="81" name="Text Box 2"/>
          <p:cNvSpPr/>
          <p:nvPr/>
        </p:nvSpPr>
        <p:spPr>
          <a:xfrm>
            <a:off x="1042920" y="1989000"/>
            <a:ext cx="7695720" cy="1750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犹太民族的那些方面值得我们借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24000" y="260280"/>
            <a:ext cx="8351640" cy="301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教学目标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知识与技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培养学生在速读中迅速捕捉关键信息的能力，搜集信息深层思考的能力，感悟人生、顺畅表达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情境导入  激发兴趣——提取信息  点拨方法——搜集信息  深度交流——挖掘信息  感悟人生——整理信息  升华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情感态度价值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犹太民族珍惜生命，向往和平的感情；从一个优秀个体、一个伟大民族的成功引发思考，受到人生的启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xdldmd"/>
          <p:cNvPicPr/>
          <p:nvPr/>
        </p:nvPicPr>
        <p:blipFill>
          <a:blip r:embed="rId1"/>
          <a:stretch/>
        </p:blipFill>
        <p:spPr>
          <a:xfrm>
            <a:off x="0" y="0"/>
            <a:ext cx="9372240" cy="6819480"/>
          </a:xfrm>
          <a:prstGeom prst="rect">
            <a:avLst/>
          </a:prstGeom>
          <a:ln w="9525">
            <a:noFill/>
          </a:ln>
        </p:spPr>
      </p:pic>
      <p:sp>
        <p:nvSpPr>
          <p:cNvPr id="83" name="Text Box 3"/>
          <p:cNvSpPr/>
          <p:nvPr/>
        </p:nvSpPr>
        <p:spPr>
          <a:xfrm>
            <a:off x="228600" y="304920"/>
            <a:ext cx="8915040" cy="390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活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目的：多角度挖掘内涵，训练语言表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达的生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：用三个关键词，写一段读本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感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要求：连贯、生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042920" y="620640"/>
            <a:ext cx="734508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骤四：整理信息，升华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一连串战争毁灭家园、人类祈祷和平的视觉冲击极强的画面，和音乐《祈祷》，共同烘托气氛，将感情进一步升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620640"/>
            <a:ext cx="87134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师小结：学习了这篇文章以后，我们一定不会忘记对生命有着不衰热爱的戴维，一定不会忘记“后来一切都好”的和平寓言。是的，生命是人生最宝贵的，精彩的人生赋予生命不朽的价值；和平是每个人所期盼的，和平是世界永恒的主题，铁凝在文章结尾写道：“当人类所有的生命真的能与“和平”这个字眼相亲相爱，我们每个人灵魂深处那潜藏的创造力就会被激活，人间什么奇迹都可能发生。”让我们不再看到战场上死亡的士兵，被战争摧毁的城市，不再看到无家可归的难民，和他们惊惶失措的眼睛，不再看到野蛮与掠夺，被摧毁的人类文明，让全世界的人民团结起来，共同捍卫和平，共同歌唱和平，共同祈祷和平，让生命不衰，让和平永驻，让世界充满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028"/>
          <p:cNvSpPr/>
          <p:nvPr/>
        </p:nvSpPr>
        <p:spPr>
          <a:xfrm>
            <a:off x="826920" y="692280"/>
            <a:ext cx="777672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骤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创设情境，激发兴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走近犹太裔世界名人，引发对本文的阅读兴趣和思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7"/>
          <p:cNvSpPr/>
          <p:nvPr/>
        </p:nvSpPr>
        <p:spPr>
          <a:xfrm>
            <a:off x="1547640" y="4437000"/>
            <a:ext cx="1079280" cy="36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hangye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节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uca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图片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表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tubiao/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优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powerpoint/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excel/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资料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范文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试卷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hiti/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案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jiaoan/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马克思"/>
          <p:cNvPicPr/>
          <p:nvPr/>
        </p:nvPicPr>
        <p:blipFill>
          <a:blip r:embed="rId1"/>
          <a:stretch/>
        </p:blipFill>
        <p:spPr>
          <a:xfrm>
            <a:off x="1066680" y="685800"/>
            <a:ext cx="3733560" cy="4495320"/>
          </a:xfrm>
          <a:prstGeom prst="rect">
            <a:avLst/>
          </a:prstGeom>
          <a:ln w="9525">
            <a:noFill/>
          </a:ln>
        </p:spPr>
      </p:pic>
      <p:sp>
        <p:nvSpPr>
          <p:cNvPr id="48" name="Text Box 14"/>
          <p:cNvSpPr/>
          <p:nvPr/>
        </p:nvSpPr>
        <p:spPr>
          <a:xfrm>
            <a:off x="5562720" y="762120"/>
            <a:ext cx="28951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马克思主义的创始人，第一国际的组织者和领导者，全世界无产阶级和劳动人民的伟大导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1752480" y="5486400"/>
            <a:ext cx="30477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马克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爱因斯坦"/>
          <p:cNvPicPr/>
          <p:nvPr/>
        </p:nvPicPr>
        <p:blipFill>
          <a:blip r:embed="rId1"/>
          <a:stretch/>
        </p:blipFill>
        <p:spPr>
          <a:xfrm>
            <a:off x="1371600" y="838080"/>
            <a:ext cx="3657240" cy="4343040"/>
          </a:xfrm>
          <a:prstGeom prst="rect">
            <a:avLst/>
          </a:prstGeom>
          <a:ln w="9525">
            <a:noFill/>
          </a:ln>
        </p:spPr>
      </p:pic>
      <p:sp>
        <p:nvSpPr>
          <p:cNvPr id="51" name="Text Box 3"/>
          <p:cNvSpPr/>
          <p:nvPr/>
        </p:nvSpPr>
        <p:spPr>
          <a:xfrm>
            <a:off x="5867280" y="1447920"/>
            <a:ext cx="2133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世纪最伟大的自然科学家，物理学革命的旗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828800" y="5486400"/>
            <a:ext cx="3428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爱因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奥本海默"/>
          <p:cNvPicPr/>
          <p:nvPr/>
        </p:nvPicPr>
        <p:blipFill>
          <a:blip r:embed="rId1"/>
          <a:stretch/>
        </p:blipFill>
        <p:spPr>
          <a:xfrm>
            <a:off x="1219320" y="685800"/>
            <a:ext cx="3352320" cy="4266720"/>
          </a:xfrm>
          <a:prstGeom prst="rect">
            <a:avLst/>
          </a:prstGeom>
          <a:ln w="9525">
            <a:noFill/>
          </a:ln>
        </p:spPr>
      </p:pic>
      <p:sp>
        <p:nvSpPr>
          <p:cNvPr id="54" name="Text Box 3"/>
          <p:cNvSpPr/>
          <p:nvPr/>
        </p:nvSpPr>
        <p:spPr>
          <a:xfrm>
            <a:off x="5257800" y="838080"/>
            <a:ext cx="2895120" cy="12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美国理论物理学家和科学组织家。美国原子弹之父，“曼哈顿计划”的主要技术负责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7920" y="5257800"/>
            <a:ext cx="3200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奥本海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达尔文1"/>
          <p:cNvPicPr/>
          <p:nvPr/>
        </p:nvPicPr>
        <p:blipFill>
          <a:blip r:embed="rId1"/>
          <a:stretch/>
        </p:blipFill>
        <p:spPr>
          <a:xfrm>
            <a:off x="1371600" y="990720"/>
            <a:ext cx="3200040" cy="4038120"/>
          </a:xfrm>
          <a:prstGeom prst="rect">
            <a:avLst/>
          </a:prstGeom>
          <a:ln w="9525">
            <a:noFill/>
          </a:ln>
        </p:spPr>
      </p:pic>
      <p:sp>
        <p:nvSpPr>
          <p:cNvPr id="57" name="Text Box 6"/>
          <p:cNvSpPr/>
          <p:nvPr/>
        </p:nvSpPr>
        <p:spPr>
          <a:xfrm>
            <a:off x="5638680" y="1371600"/>
            <a:ext cx="19047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伟大的生物学家、进化论奠基人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752480" y="5181480"/>
            <a:ext cx="3809520" cy="1621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达尔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01"/>
              </a:spcBef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弗洛伊德1"/>
          <p:cNvPicPr/>
          <p:nvPr/>
        </p:nvPicPr>
        <p:blipFill>
          <a:blip r:embed="rId1"/>
          <a:stretch/>
        </p:blipFill>
        <p:spPr>
          <a:xfrm>
            <a:off x="1295280" y="762120"/>
            <a:ext cx="3123720" cy="4343040"/>
          </a:xfrm>
          <a:prstGeom prst="rect">
            <a:avLst/>
          </a:prstGeom>
          <a:ln w="9525">
            <a:noFill/>
          </a:ln>
        </p:spPr>
      </p:pic>
      <p:sp>
        <p:nvSpPr>
          <p:cNvPr id="60" name="Text Box 3"/>
          <p:cNvSpPr/>
          <p:nvPr/>
        </p:nvSpPr>
        <p:spPr>
          <a:xfrm>
            <a:off x="5638680" y="914400"/>
            <a:ext cx="19047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奥地利著明的精神和心理分析学派的创始人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6" descr="门德尔松"/>
          <p:cNvPicPr/>
          <p:nvPr/>
        </p:nvPicPr>
        <p:blipFill>
          <a:blip r:embed="rId1"/>
          <a:stretch/>
        </p:blipFill>
        <p:spPr>
          <a:xfrm>
            <a:off x="1295280" y="762120"/>
            <a:ext cx="3269880" cy="4495320"/>
          </a:xfrm>
          <a:prstGeom prst="rect">
            <a:avLst/>
          </a:prstGeom>
          <a:ln w="9525">
            <a:noFill/>
          </a:ln>
        </p:spPr>
      </p:pic>
      <p:sp>
        <p:nvSpPr>
          <p:cNvPr id="62" name="Text Box 1027"/>
          <p:cNvSpPr/>
          <p:nvPr/>
        </p:nvSpPr>
        <p:spPr>
          <a:xfrm>
            <a:off x="5562720" y="1371600"/>
            <a:ext cx="2209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被誉为浪漫派作曲家中的抒情风景画大师，德国作曲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31"/>
          <p:cNvSpPr/>
          <p:nvPr/>
        </p:nvSpPr>
        <p:spPr>
          <a:xfrm>
            <a:off x="1600200" y="4952880"/>
            <a:ext cx="3276360" cy="1621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德尔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01"/>
              </a:spcBef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  <Words>1096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cp:contentStatus>学科王</cp:contentStatus>
  <dcterms:created xsi:type="dcterms:W3CDTF">2005-03-06T12:23:22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dcterms:modified xsi:type="dcterms:W3CDTF">2021-07-29T13:10:33Z</dcterms:modified>
  <cp:revision>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3</vt:r8>
  </property>
</Properties>
</file>