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2A215-64C7-427A-A690-B7300EA0A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BEAB3F-9D6C-4BA1-B8A5-A79A8EEF598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AC6EB4-D589-4AC4-B1D1-B9CA680DAF0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B54311-9325-4213-854D-34D39F85E5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F2DEDF-023B-4769-85EF-135C9D9315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04973A-1D3C-4CE8-9107-BE79CFD7A47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C130E-514E-4EAF-9D79-2753FD1AE82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3F9772-14D7-4621-941C-E0024093466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80F9A8-54FC-4187-B3CE-A96FDC6A895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87AC9-56FE-41B8-9BC2-B2F9D9DCA05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DF8FF-B630-4E37-A66F-27082F826C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6149DE-F12C-4243-8CA4-C74F2C8E9A9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E37E99-D53D-4A9D-9EED-2B656ED8EFA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187DA-083A-47A7-A142-C7CCCC01E7E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1EBDA-D847-43A2-BF0E-CBDD6889C7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52D362-AFAB-4C0E-92C2-932B62E0DA8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0652C5-3174-46C9-BB50-7143108CEC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9728C6-B9F9-4BF2-86D7-BF171CF12E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C6B89E-FED7-4DB5-B71E-760689A5BB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6AA522-C215-4B9B-9074-361ECC39A4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F2968B-136B-4AD3-ABEB-239F5052651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6C8-F6E3-4273-A83F-4F3EF64C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C70-EEEF-4A9F-9D8F-4CA2988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05A-4F15-453C-BC7E-608F6A5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F7B-0DBE-4DB5-9FB9-5C9AB64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B70-9ECC-4FD8-A138-8EDE3E80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F40-93FC-4E71-9FDA-EFFD235D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3BE-FC71-4A80-85E0-F478D580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E56-275B-4ED0-8449-635FECA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652-D457-4970-ADCE-4AAC65E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7A0-54CC-4FB7-98FA-E1B4D62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7B1-C61B-4271-83B6-C5768A7F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BC5-7EA3-4649-8FB4-4B44A539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8DAB03-41CA-46DC-8733-24DC1129AF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9" descr=""/>
          <p:cNvPicPr/>
          <p:nvPr/>
        </p:nvPicPr>
        <p:blipFill>
          <a:blip r:embed="rId1"/>
          <a:stretch/>
        </p:blipFill>
        <p:spPr>
          <a:xfrm>
            <a:off x="0" y="1080"/>
            <a:ext cx="9143640" cy="5141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60"/>
          <p:cNvSpPr/>
          <p:nvPr/>
        </p:nvSpPr>
        <p:spPr>
          <a:xfrm>
            <a:off x="1561680" y="1163160"/>
            <a:ext cx="5578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少年中国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6368400" y="2226240"/>
            <a:ext cx="438480" cy="830520"/>
            <a:chOff x="6368400" y="2226240"/>
            <a:chExt cx="438480" cy="830520"/>
          </a:xfrm>
        </p:grpSpPr>
        <p:pic>
          <p:nvPicPr>
            <p:cNvPr id="88" name="图片 5" descr="图片22.png"/>
            <p:cNvPicPr/>
            <p:nvPr/>
          </p:nvPicPr>
          <p:blipFill>
            <a:blip r:embed="rId2"/>
            <a:stretch/>
          </p:blipFill>
          <p:spPr>
            <a:xfrm>
              <a:off x="6385320" y="2226240"/>
              <a:ext cx="421560" cy="8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6" descr="图片23.png"/>
            <p:cNvPicPr/>
            <p:nvPr/>
          </p:nvPicPr>
          <p:blipFill>
            <a:blip r:embed="rId3"/>
            <a:stretch/>
          </p:blipFill>
          <p:spPr>
            <a:xfrm>
              <a:off x="6460560" y="2297880"/>
              <a:ext cx="261720" cy="6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>
              <a:off x="6368400" y="2315520"/>
              <a:ext cx="39960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3a4b"/>
                  </a:solidFill>
                  <a:latin typeface="华文隶书"/>
                  <a:ea typeface="华文隶书"/>
                </a:rPr>
                <a:t>梁启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10"/>
          <p:cNvSpPr/>
          <p:nvPr/>
        </p:nvSpPr>
        <p:spPr>
          <a:xfrm>
            <a:off x="3170160" y="3658680"/>
            <a:ext cx="2808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2"/>
          <p:cNvGrpSpPr/>
          <p:nvPr/>
        </p:nvGrpSpPr>
        <p:grpSpPr>
          <a:xfrm>
            <a:off x="227880" y="342720"/>
            <a:ext cx="8687880" cy="704880"/>
            <a:chOff x="227880" y="342720"/>
            <a:chExt cx="8687880" cy="704880"/>
          </a:xfrm>
        </p:grpSpPr>
        <p:sp>
          <p:nvSpPr>
            <p:cNvPr id="134" name="TextBox 8"/>
            <p:cNvSpPr/>
            <p:nvPr/>
          </p:nvSpPr>
          <p:spPr>
            <a:xfrm>
              <a:off x="884160" y="342720"/>
              <a:ext cx="74440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100" spc="-1" strike="noStrike">
                  <a:solidFill>
                    <a:srgbClr val="433a4b"/>
                  </a:solidFill>
                  <a:latin typeface="华文新魏"/>
                  <a:ea typeface="华文新魏"/>
                </a:rPr>
                <a:t>有怎样的少年，就有怎样的国家</a:t>
              </a:r>
              <a:r>
                <a:rPr b="0" lang="en-US" sz="4100" spc="-1" strike="noStrike">
                  <a:solidFill>
                    <a:srgbClr val="433a4b"/>
                  </a:solidFill>
                  <a:latin typeface="华文新魏"/>
                  <a:ea typeface="华文新魏"/>
                </a:rPr>
                <a:t>!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直接连接符 5"/>
            <p:cNvCxnSpPr/>
            <p:nvPr/>
          </p:nvCxnSpPr>
          <p:spPr>
            <a:xfrm>
              <a:off x="227880" y="1047600"/>
              <a:ext cx="8688240" cy="360"/>
            </a:xfrm>
            <a:prstGeom prst="straightConnector1">
              <a:avLst/>
            </a:prstGeom>
            <a:ln>
              <a:solidFill>
                <a:srgbClr val="433a4b"/>
              </a:solidFill>
              <a:round/>
            </a:ln>
          </p:spPr>
        </p:cxnSp>
      </p:grpSp>
      <p:sp>
        <p:nvSpPr>
          <p:cNvPr id="136" name="矩形 6"/>
          <p:cNvSpPr/>
          <p:nvPr/>
        </p:nvSpPr>
        <p:spPr>
          <a:xfrm>
            <a:off x="227880" y="1469520"/>
            <a:ext cx="1557000" cy="2816280"/>
          </a:xfrm>
          <a:prstGeom prst="rect">
            <a:avLst/>
          </a:prstGeom>
          <a:blipFill rotWithShape="0">
            <a:blip r:embed="rId1">
              <a:alphaModFix amt="99000"/>
            </a:blip>
            <a:srcRect/>
            <a:stretch/>
          </a:blipFill>
          <a:ln w="12700">
            <a:noFill/>
          </a:ln>
          <a:effectLst>
            <a:outerShdw algn="ctr" blurRad="50760" dir="5400000" dist="5076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30000"/>
              </a:lnSpc>
            </a:pPr>
            <a:endParaRPr b="0" lang="en-US" sz="1100" spc="-1" strike="noStrike">
              <a:solidFill>
                <a:srgbClr val="f9f9f9"/>
              </a:solidFill>
              <a:latin typeface="微软雅黑"/>
              <a:ea typeface="微软雅黑"/>
            </a:endParaRPr>
          </a:p>
        </p:txBody>
      </p:sp>
      <p:sp>
        <p:nvSpPr>
          <p:cNvPr id="137" name="Rectangle 47"/>
          <p:cNvSpPr/>
          <p:nvPr/>
        </p:nvSpPr>
        <p:spPr>
          <a:xfrm flipH="1">
            <a:off x="1921680" y="1660680"/>
            <a:ext cx="6661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少年智则国智，少年富则国富，少年强则国强，少年独立则国独立，少年自由则国自由，少年进步则国进步，少年胜于欧洲则国胜于欧洲，少年雄于地球则国雄于地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Connector 16"/>
          <p:cNvCxnSpPr/>
          <p:nvPr/>
        </p:nvCxnSpPr>
        <p:spPr>
          <a:xfrm>
            <a:off x="1785240" y="1407960"/>
            <a:ext cx="360" cy="293940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9" name="直接连接符 27"/>
          <p:cNvCxnSpPr/>
          <p:nvPr/>
        </p:nvCxnSpPr>
        <p:spPr>
          <a:xfrm>
            <a:off x="1660680" y="952920"/>
            <a:ext cx="360" cy="2829600"/>
          </a:xfrm>
          <a:prstGeom prst="straightConnector1">
            <a:avLst/>
          </a:prstGeom>
          <a:ln w="19050">
            <a:solidFill>
              <a:srgbClr val="433a4b"/>
            </a:solidFill>
            <a:round/>
          </a:ln>
        </p:spPr>
      </p:cxnSp>
      <p:sp>
        <p:nvSpPr>
          <p:cNvPr id="140" name="矩形 11"/>
          <p:cNvSpPr/>
          <p:nvPr/>
        </p:nvSpPr>
        <p:spPr>
          <a:xfrm>
            <a:off x="1661040" y="1254960"/>
            <a:ext cx="653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为了形象地表达少年的特点，梁启超比少年比作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1"/>
          <p:cNvSpPr/>
          <p:nvPr/>
        </p:nvSpPr>
        <p:spPr>
          <a:xfrm>
            <a:off x="1661040" y="2156400"/>
            <a:ext cx="83199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用下面的句式说话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梁启超眼中，少年像              、                、              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95840" y="968760"/>
            <a:ext cx="1464480" cy="28134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808080"/>
              </a:solidFill>
              <a:latin typeface="Calibri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6"/>
          <p:cNvSpPr/>
          <p:nvPr/>
        </p:nvSpPr>
        <p:spPr>
          <a:xfrm>
            <a:off x="749520" y="1406520"/>
            <a:ext cx="76449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初升，其道大光。河出伏流，一泻汪洋。潜龙腾渊，鳞爪飞扬。乳虎啸谷，百兽震惶。鹰隼试翼，风尘翕张。奇花初胎，矞矞皇皇。干将发硎，有作其芒。天戴其苍，地履其黄。纵有千古，横有八荒。前途似海，来日方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3"/>
          <p:cNvGrpSpPr/>
          <p:nvPr/>
        </p:nvGrpSpPr>
        <p:grpSpPr>
          <a:xfrm>
            <a:off x="2250360" y="314280"/>
            <a:ext cx="4412160" cy="899280"/>
            <a:chOff x="2250360" y="314280"/>
            <a:chExt cx="4412160" cy="899280"/>
          </a:xfrm>
        </p:grpSpPr>
        <p:pic>
          <p:nvPicPr>
            <p:cNvPr id="146" name="Picture 3" descr=""/>
            <p:cNvPicPr/>
            <p:nvPr/>
          </p:nvPicPr>
          <p:blipFill>
            <a:blip r:embed="rId2"/>
            <a:stretch/>
          </p:blipFill>
          <p:spPr>
            <a:xfrm>
              <a:off x="2250360" y="314280"/>
              <a:ext cx="45216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12"/>
            <p:cNvSpPr/>
            <p:nvPr/>
          </p:nvSpPr>
          <p:spPr>
            <a:xfrm>
              <a:off x="2909520" y="362160"/>
              <a:ext cx="375300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11"/>
          <p:cNvSpPr/>
          <p:nvPr/>
        </p:nvSpPr>
        <p:spPr>
          <a:xfrm>
            <a:off x="1230120" y="2728080"/>
            <a:ext cx="83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梁启超眼中，少年像              、                、              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816480" y="1227600"/>
            <a:ext cx="6491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4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第一次鸦片战争开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国共与列强签订了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条不平等条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每一条都是我国被欺负侵略的证据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816480" y="1937880"/>
            <a:ext cx="66258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国在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4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第一次鸦片战争中战败，赔偿英国军费白银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万两，被迫开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口通商：广州、厦门、福州、宁波、上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816480" y="2901600"/>
            <a:ext cx="64911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5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第二次鸦片战争中国战败，赔偿军费白银给英法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0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万两，开放营口、天津、大连、南京、镇江、淡水、台湾、汕头、琼州等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处为通商口岸。在此期间英法联军攻占北京，掠夺并焚毁了举世闻名的皇家园林圆明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"/>
          <p:cNvGrpSpPr/>
          <p:nvPr/>
        </p:nvGrpSpPr>
        <p:grpSpPr>
          <a:xfrm>
            <a:off x="681840" y="177840"/>
            <a:ext cx="3522960" cy="1049400"/>
            <a:chOff x="681840" y="177840"/>
            <a:chExt cx="3522960" cy="104940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681840" y="177840"/>
              <a:ext cx="8748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12"/>
            <p:cNvSpPr/>
            <p:nvPr/>
          </p:nvSpPr>
          <p:spPr>
            <a:xfrm>
              <a:off x="1406520" y="506520"/>
              <a:ext cx="27982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近代中国，饱受屈辱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816480" y="1227600"/>
            <a:ext cx="6491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67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日本挑起战争侵略台湾，被台湾军民击退，就是这样，腐败无能的清政府还是赔偿了日本军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万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816480" y="1937880"/>
            <a:ext cx="66258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77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中法战争爆发，中国军队节节胜利，法国战败，而中国“不败而败”。签订中法条约，承认法国对越南的占领，允许法国将铁路修进中国内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816480" y="2944080"/>
            <a:ext cx="6491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94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中日甲午战争，中国战败。中日签订《马关条约》，日本索取军费白银两亿两，割占中国辽东半岛，澎湖列岛，台湾岛。日本商船可以进入重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9"/>
          <p:cNvGrpSpPr/>
          <p:nvPr/>
        </p:nvGrpSpPr>
        <p:grpSpPr>
          <a:xfrm>
            <a:off x="681840" y="177840"/>
            <a:ext cx="3522960" cy="1049400"/>
            <a:chOff x="681840" y="177840"/>
            <a:chExt cx="3522960" cy="1049400"/>
          </a:xfrm>
        </p:grpSpPr>
        <p:pic>
          <p:nvPicPr>
            <p:cNvPr id="159" name="Picture 3" descr=""/>
            <p:cNvPicPr/>
            <p:nvPr/>
          </p:nvPicPr>
          <p:blipFill>
            <a:blip r:embed="rId1"/>
            <a:stretch/>
          </p:blipFill>
          <p:spPr>
            <a:xfrm>
              <a:off x="681840" y="177840"/>
              <a:ext cx="8748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2"/>
            <p:cNvSpPr/>
            <p:nvPr/>
          </p:nvSpPr>
          <p:spPr>
            <a:xfrm>
              <a:off x="1406520" y="506520"/>
              <a:ext cx="27982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近代中国，饱受屈辱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816480" y="1227600"/>
            <a:ext cx="6491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0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八国联军侵华，大肆屠杀，清政府被迫签订《辛丑条约》，中国赔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国白银共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亿多两，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还清。中国政府保证严厉镇压一切反帝活动，惩办对镇压不力的官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816480" y="2323800"/>
            <a:ext cx="66258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05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日俄战争爆发，战场竟然设在中国，清政府表示中立，无数中国人在这样列强争夺中国领土的战争中丧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1005840" y="2692440"/>
            <a:ext cx="6491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9"/>
          <p:cNvGrpSpPr/>
          <p:nvPr/>
        </p:nvGrpSpPr>
        <p:grpSpPr>
          <a:xfrm>
            <a:off x="681840" y="177840"/>
            <a:ext cx="3522960" cy="1049400"/>
            <a:chOff x="681840" y="177840"/>
            <a:chExt cx="3522960" cy="1049400"/>
          </a:xfrm>
        </p:grpSpPr>
        <p:pic>
          <p:nvPicPr>
            <p:cNvPr id="165" name="Picture 3" descr=""/>
            <p:cNvPicPr/>
            <p:nvPr/>
          </p:nvPicPr>
          <p:blipFill>
            <a:blip r:embed="rId1"/>
            <a:stretch/>
          </p:blipFill>
          <p:spPr>
            <a:xfrm>
              <a:off x="681840" y="177840"/>
              <a:ext cx="8748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12"/>
            <p:cNvSpPr/>
            <p:nvPr/>
          </p:nvSpPr>
          <p:spPr>
            <a:xfrm>
              <a:off x="1406520" y="506520"/>
              <a:ext cx="27982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近代中国，饱受屈辱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9"/>
          <p:cNvSpPr/>
          <p:nvPr/>
        </p:nvSpPr>
        <p:spPr>
          <a:xfrm>
            <a:off x="1829160" y="3612960"/>
            <a:ext cx="5207400" cy="4201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梁启超为何呐喊？</a:t>
            </a:r>
            <a:br>
              <a:rPr sz="1400"/>
            </a:b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他想看到一个怎样的中国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8" descr="C_108.jpg"/>
          <p:cNvPicPr/>
          <p:nvPr/>
        </p:nvPicPr>
        <p:blipFill>
          <a:blip r:embed="rId2"/>
          <a:stretch/>
        </p:blipFill>
        <p:spPr>
          <a:xfrm>
            <a:off x="2750040" y="4380480"/>
            <a:ext cx="3584520" cy="12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23"/>
          <p:cNvGrpSpPr/>
          <p:nvPr/>
        </p:nvGrpSpPr>
        <p:grpSpPr>
          <a:xfrm>
            <a:off x="3081240" y="1005120"/>
            <a:ext cx="4592160" cy="1135080"/>
            <a:chOff x="3081240" y="1005120"/>
            <a:chExt cx="4592160" cy="1135080"/>
          </a:xfrm>
        </p:grpSpPr>
        <p:sp>
          <p:nvSpPr>
            <p:cNvPr id="171" name="_14"/>
            <p:cNvSpPr/>
            <p:nvPr/>
          </p:nvSpPr>
          <p:spPr>
            <a:xfrm>
              <a:off x="3081240" y="1005120"/>
              <a:ext cx="6480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000" spc="449" strike="noStrike">
                  <a:solidFill>
                    <a:srgbClr val="433a4b"/>
                  </a:solidFill>
                  <a:latin typeface="Don't Forget"/>
                  <a:ea typeface="微软雅黑"/>
                </a:rPr>
                <a:t>0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25"/>
            <p:cNvGrpSpPr/>
            <p:nvPr/>
          </p:nvGrpSpPr>
          <p:grpSpPr>
            <a:xfrm>
              <a:off x="3636720" y="1301040"/>
              <a:ext cx="4036680" cy="839160"/>
              <a:chOff x="3636720" y="1301040"/>
              <a:chExt cx="4036680" cy="839160"/>
            </a:xfrm>
          </p:grpSpPr>
          <p:sp>
            <p:nvSpPr>
              <p:cNvPr id="173" name="矩形 26"/>
              <p:cNvSpPr/>
              <p:nvPr/>
            </p:nvSpPr>
            <p:spPr>
              <a:xfrm>
                <a:off x="3665520" y="1301040"/>
                <a:ext cx="4007880" cy="32472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</a:pPr>
                <a:r>
                  <a:rPr b="0" lang="zh-CN" sz="3000" spc="-1" strike="noStrike">
                    <a:solidFill>
                      <a:srgbClr val="433a4b"/>
                    </a:solidFill>
                    <a:latin typeface="华文新魏"/>
                    <a:ea typeface="华文新魏"/>
                  </a:rPr>
                  <a:t>大家都知道哪些杰出人物的事迹？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" name="图片 28" descr="C_108.jpg"/>
              <p:cNvPicPr/>
              <p:nvPr/>
            </p:nvPicPr>
            <p:blipFill>
              <a:blip r:embed="rId2"/>
              <a:stretch/>
            </p:blipFill>
            <p:spPr>
              <a:xfrm>
                <a:off x="3636720" y="2019960"/>
                <a:ext cx="3584520" cy="120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5" name="组合 28"/>
          <p:cNvGrpSpPr/>
          <p:nvPr/>
        </p:nvGrpSpPr>
        <p:grpSpPr>
          <a:xfrm>
            <a:off x="3073680" y="2358360"/>
            <a:ext cx="4903560" cy="1624320"/>
            <a:chOff x="3073680" y="2358360"/>
            <a:chExt cx="4903560" cy="1624320"/>
          </a:xfrm>
        </p:grpSpPr>
        <p:sp>
          <p:nvSpPr>
            <p:cNvPr id="176" name="_14"/>
            <p:cNvSpPr/>
            <p:nvPr/>
          </p:nvSpPr>
          <p:spPr>
            <a:xfrm>
              <a:off x="3073680" y="2358360"/>
              <a:ext cx="6912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000" spc="449" strike="noStrike">
                  <a:solidFill>
                    <a:srgbClr val="433a4b"/>
                  </a:solidFill>
                  <a:latin typeface="Don't Forget"/>
                  <a:ea typeface="微软雅黑"/>
                </a:rPr>
                <a:t>0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组合 30"/>
            <p:cNvGrpSpPr/>
            <p:nvPr/>
          </p:nvGrpSpPr>
          <p:grpSpPr>
            <a:xfrm>
              <a:off x="3628440" y="2766600"/>
              <a:ext cx="4348800" cy="1216080"/>
              <a:chOff x="3628440" y="2766600"/>
              <a:chExt cx="4348800" cy="1216080"/>
            </a:xfrm>
          </p:grpSpPr>
          <p:sp>
            <p:nvSpPr>
              <p:cNvPr id="178" name="矩形 31"/>
              <p:cNvSpPr/>
              <p:nvPr/>
            </p:nvSpPr>
            <p:spPr>
              <a:xfrm>
                <a:off x="3729600" y="2766600"/>
                <a:ext cx="4247640" cy="5248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</a:pPr>
                <a:r>
                  <a:rPr b="0" lang="zh-CN" sz="3000" spc="-1" strike="noStrike">
                    <a:solidFill>
                      <a:srgbClr val="433a4b"/>
                    </a:solidFill>
                    <a:latin typeface="华文新魏"/>
                    <a:ea typeface="华文新魏"/>
                  </a:rPr>
                  <a:t>假若梁启超先生能看到今天的中国，他会产生怎样的感慨呢？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图片 28" descr="C_108.jpg"/>
              <p:cNvPicPr/>
              <p:nvPr/>
            </p:nvPicPr>
            <p:blipFill>
              <a:blip r:embed="rId3"/>
              <a:stretch/>
            </p:blipFill>
            <p:spPr>
              <a:xfrm>
                <a:off x="3628440" y="3841560"/>
                <a:ext cx="3451320" cy="14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0" name="_14"/>
          <p:cNvSpPr/>
          <p:nvPr/>
        </p:nvSpPr>
        <p:spPr>
          <a:xfrm>
            <a:off x="2149200" y="1989360"/>
            <a:ext cx="778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5000" spc="449" strike="noStrike">
              <a:solidFill>
                <a:srgbClr val="433a4b"/>
              </a:solidFill>
              <a:latin typeface="叶根友刀锋黑草"/>
              <a:ea typeface="叶根友刀锋黑草"/>
            </a:endParaRPr>
          </a:p>
        </p:txBody>
      </p:sp>
      <p:cxnSp>
        <p:nvCxnSpPr>
          <p:cNvPr id="181" name="直接连接符 27"/>
          <p:cNvCxnSpPr/>
          <p:nvPr/>
        </p:nvCxnSpPr>
        <p:spPr>
          <a:xfrm>
            <a:off x="2928240" y="1440720"/>
            <a:ext cx="360" cy="1890000"/>
          </a:xfrm>
          <a:prstGeom prst="straightConnector1">
            <a:avLst/>
          </a:prstGeom>
          <a:ln w="19050">
            <a:solidFill>
              <a:srgbClr val="433a4b"/>
            </a:solidFill>
            <a:round/>
          </a:ln>
        </p:spPr>
      </p:cxnSp>
      <p:grpSp>
        <p:nvGrpSpPr>
          <p:cNvPr id="182" name="组合 4"/>
          <p:cNvGrpSpPr/>
          <p:nvPr/>
        </p:nvGrpSpPr>
        <p:grpSpPr>
          <a:xfrm>
            <a:off x="1856880" y="1652400"/>
            <a:ext cx="812160" cy="1351440"/>
            <a:chOff x="1856880" y="1652400"/>
            <a:chExt cx="812160" cy="1351440"/>
          </a:xfrm>
        </p:grpSpPr>
        <p:pic>
          <p:nvPicPr>
            <p:cNvPr id="183" name="图片 5" descr="图片22.png"/>
            <p:cNvPicPr/>
            <p:nvPr/>
          </p:nvPicPr>
          <p:blipFill>
            <a:blip r:embed="rId4"/>
            <a:stretch/>
          </p:blipFill>
          <p:spPr>
            <a:xfrm>
              <a:off x="1856880" y="1652400"/>
              <a:ext cx="812160" cy="13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6" descr="图片23.png"/>
            <p:cNvPicPr/>
            <p:nvPr/>
          </p:nvPicPr>
          <p:blipFill>
            <a:blip r:embed="rId5"/>
            <a:stretch/>
          </p:blipFill>
          <p:spPr>
            <a:xfrm>
              <a:off x="2001960" y="1769040"/>
              <a:ext cx="50472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7"/>
            <p:cNvSpPr/>
            <p:nvPr/>
          </p:nvSpPr>
          <p:spPr>
            <a:xfrm>
              <a:off x="1908360" y="1862280"/>
              <a:ext cx="6458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3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交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7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5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7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99"/>
                                    </p:cond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6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6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125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26"/>
          <p:cNvSpPr/>
          <p:nvPr/>
        </p:nvSpPr>
        <p:spPr>
          <a:xfrm>
            <a:off x="643320" y="598680"/>
            <a:ext cx="76449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故今日之责任，不在他人，而全在我少年。少年智则国智，少年富则国富，少年强则国强，少年独立则国独立，少年自由则国自由，少年进步则国进步，少年胜于欧洲则国胜于欧洲，少年雄于地球则国雄于地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初升，其道大光。河出伏流，一泻汪洋。潜龙腾渊，鳞爪飞扬。乳虎啸谷，百兽震惶。鹰隼试翼，风尘翕张。奇花初胎，矞矞皇皇。干将发硎，有作其芒。天戴其苍，地履其黄。纵有千古，横有八荒。前途似海，来日方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)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3"/>
          <p:cNvGrpSpPr/>
          <p:nvPr/>
        </p:nvGrpSpPr>
        <p:grpSpPr>
          <a:xfrm>
            <a:off x="749520" y="195120"/>
            <a:ext cx="3822120" cy="501120"/>
            <a:chOff x="749520" y="195120"/>
            <a:chExt cx="3822120" cy="501120"/>
          </a:xfrm>
        </p:grpSpPr>
        <p:pic>
          <p:nvPicPr>
            <p:cNvPr id="189" name="Picture 3" descr=""/>
            <p:cNvPicPr/>
            <p:nvPr/>
          </p:nvPicPr>
          <p:blipFill>
            <a:blip r:embed="rId2"/>
            <a:stretch/>
          </p:blipFill>
          <p:spPr>
            <a:xfrm>
              <a:off x="749520" y="199800"/>
              <a:ext cx="42264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12"/>
            <p:cNvSpPr/>
            <p:nvPr/>
          </p:nvSpPr>
          <p:spPr>
            <a:xfrm>
              <a:off x="1063080" y="195120"/>
              <a:ext cx="35085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7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6"/>
          <p:cNvSpPr/>
          <p:nvPr/>
        </p:nvSpPr>
        <p:spPr>
          <a:xfrm>
            <a:off x="643320" y="598680"/>
            <a:ext cx="76449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故今日之责任，不在他人，而全在我少年。少年智则国智，少年富则国富，少年强则国强，少年独立则国独立，少年自由则国自由，少年进步则国进步，少年胜于欧洲则国胜于欧洲，少年雄于地球则国雄于地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初升，其道大光。河出伏流，一泻汪洋。潜龙腾渊，鳞爪飞扬。乳虎啸谷，百兽震惶。鹰隼试翼，风尘翕张。奇花初胎，矞矞皇皇。干将发硎，有作其芒。天戴其苍，地履其黄。纵有千古，横有八荒。前途似海，来日方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)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"/>
          <p:cNvGrpSpPr/>
          <p:nvPr/>
        </p:nvGrpSpPr>
        <p:grpSpPr>
          <a:xfrm>
            <a:off x="749520" y="195120"/>
            <a:ext cx="3822120" cy="501120"/>
            <a:chOff x="749520" y="195120"/>
            <a:chExt cx="3822120" cy="501120"/>
          </a:xfrm>
        </p:grpSpPr>
        <p:pic>
          <p:nvPicPr>
            <p:cNvPr id="194" name="Picture 3" descr=""/>
            <p:cNvPicPr/>
            <p:nvPr/>
          </p:nvPicPr>
          <p:blipFill>
            <a:blip r:embed="rId2"/>
            <a:stretch/>
          </p:blipFill>
          <p:spPr>
            <a:xfrm>
              <a:off x="749520" y="199800"/>
              <a:ext cx="42264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2"/>
            <p:cNvSpPr/>
            <p:nvPr/>
          </p:nvSpPr>
          <p:spPr>
            <a:xfrm>
              <a:off x="1063080" y="195120"/>
              <a:ext cx="35085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7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_14"/>
          <p:cNvSpPr/>
          <p:nvPr/>
        </p:nvSpPr>
        <p:spPr>
          <a:xfrm>
            <a:off x="2187360" y="1450080"/>
            <a:ext cx="778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Calibri"/>
              </a:rPr>
              <a:t>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27"/>
          <p:cNvCxnSpPr/>
          <p:nvPr/>
        </p:nvCxnSpPr>
        <p:spPr>
          <a:xfrm>
            <a:off x="4389480" y="1414800"/>
            <a:ext cx="360" cy="1890000"/>
          </a:xfrm>
          <a:prstGeom prst="straightConnector1">
            <a:avLst/>
          </a:prstGeom>
          <a:ln w="19050">
            <a:solidFill>
              <a:srgbClr val="433a4b"/>
            </a:solidFill>
            <a:round/>
          </a:ln>
        </p:spPr>
      </p:cxnSp>
      <p:sp>
        <p:nvSpPr>
          <p:cNvPr id="198" name="矩形 11"/>
          <p:cNvSpPr/>
          <p:nvPr/>
        </p:nvSpPr>
        <p:spPr>
          <a:xfrm>
            <a:off x="4389840" y="-103320"/>
            <a:ext cx="5126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_14"/>
          <p:cNvSpPr/>
          <p:nvPr/>
        </p:nvSpPr>
        <p:spPr>
          <a:xfrm>
            <a:off x="1353600" y="1388880"/>
            <a:ext cx="778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Calibri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连接符 27"/>
          <p:cNvCxnSpPr/>
          <p:nvPr/>
        </p:nvCxnSpPr>
        <p:spPr>
          <a:xfrm>
            <a:off x="2354040" y="1364040"/>
            <a:ext cx="360" cy="1890000"/>
          </a:xfrm>
          <a:prstGeom prst="straightConnector1">
            <a:avLst/>
          </a:prstGeom>
          <a:ln w="19050">
            <a:solidFill>
              <a:srgbClr val="433a4b"/>
            </a:solidFill>
            <a:round/>
          </a:ln>
        </p:spPr>
      </p:cxnSp>
      <p:sp>
        <p:nvSpPr>
          <p:cNvPr id="94" name="矩形 11"/>
          <p:cNvSpPr/>
          <p:nvPr/>
        </p:nvSpPr>
        <p:spPr>
          <a:xfrm>
            <a:off x="2663280" y="621720"/>
            <a:ext cx="51267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说是古代用以记叙、议论或说明等方式来阐述事理的文体，可以说明事理，也可以发表议论或记叙事物，都是为了阐明一个道理，往往是借一件事情或一种现象来表述作者对某些事物或问题的见解，篇幅一般不长。跟现在的杂文大体相似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比如：《爱莲说》《师说》《马说》《捕蛇者说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2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116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23"/>
          <p:cNvGrpSpPr/>
          <p:nvPr/>
        </p:nvGrpSpPr>
        <p:grpSpPr>
          <a:xfrm>
            <a:off x="2587320" y="1725480"/>
            <a:ext cx="4761360" cy="1837800"/>
            <a:chOff x="2587320" y="1725480"/>
            <a:chExt cx="4761360" cy="1837800"/>
          </a:xfrm>
        </p:grpSpPr>
        <p:sp>
          <p:nvSpPr>
            <p:cNvPr id="201" name="_14"/>
            <p:cNvSpPr/>
            <p:nvPr/>
          </p:nvSpPr>
          <p:spPr>
            <a:xfrm>
              <a:off x="2587320" y="1725480"/>
              <a:ext cx="7290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000" spc="449" strike="noStrike">
                <a:solidFill>
                  <a:srgbClr val="433a4b"/>
                </a:solidFill>
                <a:latin typeface="Don't Forget"/>
                <a:ea typeface="微软雅黑"/>
              </a:endParaRPr>
            </a:p>
          </p:txBody>
        </p:sp>
        <p:grpSp>
          <p:nvGrpSpPr>
            <p:cNvPr id="202" name="组合 25"/>
            <p:cNvGrpSpPr/>
            <p:nvPr/>
          </p:nvGrpSpPr>
          <p:grpSpPr>
            <a:xfrm>
              <a:off x="3131640" y="2190240"/>
              <a:ext cx="4217040" cy="1373040"/>
              <a:chOff x="3131640" y="2190240"/>
              <a:chExt cx="4217040" cy="1373040"/>
            </a:xfrm>
          </p:grpSpPr>
          <p:sp>
            <p:nvSpPr>
              <p:cNvPr id="203" name="矩形 26"/>
              <p:cNvSpPr/>
              <p:nvPr/>
            </p:nvSpPr>
            <p:spPr>
              <a:xfrm>
                <a:off x="3131640" y="2190240"/>
                <a:ext cx="4003920" cy="32472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</a:pPr>
                <a:r>
                  <a:rPr b="0" lang="zh-CN" sz="3000" spc="-1" strike="noStrike">
                    <a:solidFill>
                      <a:srgbClr val="433a4b"/>
                    </a:solidFill>
                    <a:latin typeface="华文新魏"/>
                    <a:ea typeface="华文新魏"/>
                  </a:rPr>
                  <a:t>每个小组完成一份手抄报，主题为近百年来的杰出人物。内容自选，报纸名称自定。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图片 28" descr="C_108.jpg"/>
              <p:cNvPicPr/>
              <p:nvPr/>
            </p:nvPicPr>
            <p:blipFill>
              <a:blip r:embed="rId2"/>
              <a:stretch/>
            </p:blipFill>
            <p:spPr>
              <a:xfrm>
                <a:off x="3316680" y="3443040"/>
                <a:ext cx="4032000" cy="120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5" name="_14"/>
          <p:cNvSpPr/>
          <p:nvPr/>
        </p:nvSpPr>
        <p:spPr>
          <a:xfrm>
            <a:off x="2047320" y="2013480"/>
            <a:ext cx="778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Calibri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接连接符 27"/>
          <p:cNvCxnSpPr/>
          <p:nvPr/>
        </p:nvCxnSpPr>
        <p:spPr>
          <a:xfrm>
            <a:off x="2928240" y="1440720"/>
            <a:ext cx="360" cy="1890000"/>
          </a:xfrm>
          <a:prstGeom prst="straightConnector1">
            <a:avLst/>
          </a:prstGeom>
          <a:ln w="19050">
            <a:solidFill>
              <a:srgbClr val="433a4b"/>
            </a:solidFill>
            <a:round/>
          </a:ln>
        </p:spPr>
      </p:cxn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7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6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6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2"/>
          <p:cNvGrpSpPr/>
          <p:nvPr/>
        </p:nvGrpSpPr>
        <p:grpSpPr>
          <a:xfrm>
            <a:off x="227880" y="284040"/>
            <a:ext cx="8687880" cy="730800"/>
            <a:chOff x="227880" y="284040"/>
            <a:chExt cx="8687880" cy="730800"/>
          </a:xfrm>
        </p:grpSpPr>
        <p:sp>
          <p:nvSpPr>
            <p:cNvPr id="96" name="TextBox 8"/>
            <p:cNvSpPr/>
            <p:nvPr/>
          </p:nvSpPr>
          <p:spPr>
            <a:xfrm>
              <a:off x="2865600" y="284040"/>
              <a:ext cx="29019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100" spc="-1" strike="noStrike">
                  <a:solidFill>
                    <a:srgbClr val="433a4b"/>
                  </a:solidFill>
                  <a:latin typeface="华文新魏"/>
                  <a:ea typeface="华文新魏"/>
                </a:rPr>
                <a:t>梁启超简介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直接连接符 5"/>
            <p:cNvCxnSpPr/>
            <p:nvPr/>
          </p:nvCxnSpPr>
          <p:spPr>
            <a:xfrm>
              <a:off x="227880" y="1014840"/>
              <a:ext cx="8688240" cy="360"/>
            </a:xfrm>
            <a:prstGeom prst="straightConnector1">
              <a:avLst/>
            </a:prstGeom>
            <a:ln>
              <a:solidFill>
                <a:srgbClr val="433a4b"/>
              </a:solidFill>
              <a:round/>
            </a:ln>
          </p:spPr>
        </p:cxnSp>
      </p:grpSp>
      <p:sp>
        <p:nvSpPr>
          <p:cNvPr id="98" name="矩形 6"/>
          <p:cNvSpPr/>
          <p:nvPr/>
        </p:nvSpPr>
        <p:spPr>
          <a:xfrm>
            <a:off x="227880" y="1469520"/>
            <a:ext cx="1557000" cy="2816280"/>
          </a:xfrm>
          <a:prstGeom prst="rect">
            <a:avLst/>
          </a:prstGeom>
          <a:blipFill rotWithShape="0">
            <a:blip r:embed="rId1">
              <a:alphaModFix amt="99000"/>
            </a:blip>
            <a:srcRect/>
            <a:stretch/>
          </a:blipFill>
          <a:ln w="12700">
            <a:noFill/>
          </a:ln>
          <a:effectLst>
            <a:outerShdw algn="ctr" blurRad="50760" dir="5400000" dist="5076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30000"/>
              </a:lnSpc>
            </a:pPr>
            <a:endParaRPr b="0" lang="en-US" sz="1100" spc="-1" strike="noStrike">
              <a:solidFill>
                <a:srgbClr val="f9f9f9"/>
              </a:solidFill>
              <a:latin typeface="微软雅黑"/>
              <a:ea typeface="微软雅黑"/>
            </a:endParaRPr>
          </a:p>
        </p:txBody>
      </p:sp>
      <p:sp>
        <p:nvSpPr>
          <p:cNvPr id="99" name="Rectangle 23"/>
          <p:cNvSpPr/>
          <p:nvPr/>
        </p:nvSpPr>
        <p:spPr>
          <a:xfrm flipH="1">
            <a:off x="2007360" y="1408320"/>
            <a:ext cx="627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ts val="2701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梁启超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73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29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），字卓如，一字任甫，号任公，又号饮冰室主人、饮冰子、哀时客、中国之新民、自由斋主人，汉族，广东新会人，清光绪举人，和其师康有为一起，倡导变法维新，并称“康梁”。是戊戌变法（百日维新）领袖之一、中国近代维新派代表人物，其著作合编为《饮冰室合集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16"/>
          <p:cNvCxnSpPr/>
          <p:nvPr/>
        </p:nvCxnSpPr>
        <p:spPr>
          <a:xfrm>
            <a:off x="1785240" y="1407960"/>
            <a:ext cx="360" cy="293940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1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26"/>
          <p:cNvSpPr/>
          <p:nvPr/>
        </p:nvSpPr>
        <p:spPr>
          <a:xfrm>
            <a:off x="749520" y="1197360"/>
            <a:ext cx="76449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故今日之责任，不在他人，而全在我少年。少年智则国智，少年富则国富，少年强则国强，少年独立则国独立，少年自由则国自由，少年进步则国进步，少年胜于欧洲则国胜于欧洲，少年雄于地球则国雄于地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初升，其道大光。河出伏流，一泻汪洋。潜龙腾渊，鳞爪飞扬。乳虎啸谷，百兽震惶。鹰隼试翼，风尘翕张。奇花初胎，矞矞皇皇。干将发硎，有作其芒。天戴其苍，地履其黄。纵有千古，横有八荒。前途似海，来日方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3"/>
          <p:cNvGrpSpPr/>
          <p:nvPr/>
        </p:nvGrpSpPr>
        <p:grpSpPr>
          <a:xfrm>
            <a:off x="2250360" y="314280"/>
            <a:ext cx="4412160" cy="899280"/>
            <a:chOff x="2250360" y="314280"/>
            <a:chExt cx="4412160" cy="899280"/>
          </a:xfrm>
        </p:grpSpPr>
        <p:pic>
          <p:nvPicPr>
            <p:cNvPr id="104" name="Picture 3" descr=""/>
            <p:cNvPicPr/>
            <p:nvPr/>
          </p:nvPicPr>
          <p:blipFill>
            <a:blip r:embed="rId2"/>
            <a:stretch/>
          </p:blipFill>
          <p:spPr>
            <a:xfrm>
              <a:off x="2250360" y="314280"/>
              <a:ext cx="45216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2"/>
            <p:cNvSpPr/>
            <p:nvPr/>
          </p:nvSpPr>
          <p:spPr>
            <a:xfrm>
              <a:off x="2909520" y="362160"/>
              <a:ext cx="375300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6"/>
          <p:cNvSpPr/>
          <p:nvPr/>
        </p:nvSpPr>
        <p:spPr>
          <a:xfrm>
            <a:off x="749520" y="1197360"/>
            <a:ext cx="76449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故今日之责任，不在他人，而全在我少年。少年智则国智，少年富则国富，少年强则国强，少年独立则国独立，少年自由则国自由，少年进步则国进步，少年胜于欧洲则国胜于欧洲，少年雄于地球则国雄于地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初升，其道大光。河出伏流，一泻汪洋。潜龙腾渊，鳞爪飞扬。乳虎啸谷，百兽震惶。鹰隼试翼，风尘翕张。奇花初胎，矞矞皇皇。干将发硎，有作其芒。天戴其苍，地履其黄。纵有千古，横有八荒。前途似海，来日方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"/>
          <p:cNvGrpSpPr/>
          <p:nvPr/>
        </p:nvGrpSpPr>
        <p:grpSpPr>
          <a:xfrm>
            <a:off x="2250360" y="314280"/>
            <a:ext cx="4412160" cy="899280"/>
            <a:chOff x="2250360" y="314280"/>
            <a:chExt cx="4412160" cy="899280"/>
          </a:xfrm>
        </p:grpSpPr>
        <p:pic>
          <p:nvPicPr>
            <p:cNvPr id="109" name="Picture 3" descr=""/>
            <p:cNvPicPr/>
            <p:nvPr/>
          </p:nvPicPr>
          <p:blipFill>
            <a:blip r:embed="rId2"/>
            <a:stretch/>
          </p:blipFill>
          <p:spPr>
            <a:xfrm>
              <a:off x="2250360" y="314280"/>
              <a:ext cx="45216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2"/>
            <p:cNvSpPr/>
            <p:nvPr/>
          </p:nvSpPr>
          <p:spPr>
            <a:xfrm>
              <a:off x="2909520" y="362160"/>
              <a:ext cx="375300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26"/>
          <p:cNvSpPr/>
          <p:nvPr/>
        </p:nvSpPr>
        <p:spPr>
          <a:xfrm>
            <a:off x="749520" y="952200"/>
            <a:ext cx="764496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故今日之责任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                   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独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自由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进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胜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雄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河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潜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乳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鹰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奇花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干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天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纵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前途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!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"/>
          <p:cNvGrpSpPr/>
          <p:nvPr/>
        </p:nvGrpSpPr>
        <p:grpSpPr>
          <a:xfrm>
            <a:off x="2250360" y="314280"/>
            <a:ext cx="4412160" cy="899280"/>
            <a:chOff x="2250360" y="314280"/>
            <a:chExt cx="4412160" cy="899280"/>
          </a:xfrm>
        </p:grpSpPr>
        <p:pic>
          <p:nvPicPr>
            <p:cNvPr id="114" name="Picture 3" descr=""/>
            <p:cNvPicPr/>
            <p:nvPr/>
          </p:nvPicPr>
          <p:blipFill>
            <a:blip r:embed="rId2"/>
            <a:stretch/>
          </p:blipFill>
          <p:spPr>
            <a:xfrm>
              <a:off x="2250360" y="314280"/>
              <a:ext cx="45216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12"/>
            <p:cNvSpPr/>
            <p:nvPr/>
          </p:nvSpPr>
          <p:spPr>
            <a:xfrm>
              <a:off x="2909520" y="362160"/>
              <a:ext cx="375300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26"/>
          <p:cNvSpPr/>
          <p:nvPr/>
        </p:nvSpPr>
        <p:spPr>
          <a:xfrm>
            <a:off x="749520" y="1197360"/>
            <a:ext cx="76449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故今日之责任，不在他人，而全在我少年。少年智则国智，少年富则国富，少年强则国强，少年独立则国独立，少年自由则国自由，少年进步则国进步，少年胜于欧洲则国胜于欧洲，少年雄于地球则国雄于地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红日初升，其道大光。河出伏流，一泻汪洋。潜龙腾渊，鳞爪飞扬。乳虎啸谷，百兽震惶。鹰隼试翼，风尘翕张。奇花初胎，矞矞皇皇。干将发硎，有作其芒。天戴其苍，地履其黄。纵有千古，横有八荒。前途似海，来日方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美哉，我少年中国，与天不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壮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我中国少年，与国无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"/>
          <p:cNvGrpSpPr/>
          <p:nvPr/>
        </p:nvGrpSpPr>
        <p:grpSpPr>
          <a:xfrm>
            <a:off x="2250360" y="314280"/>
            <a:ext cx="4412160" cy="899280"/>
            <a:chOff x="2250360" y="314280"/>
            <a:chExt cx="4412160" cy="899280"/>
          </a:xfrm>
        </p:grpSpPr>
        <p:pic>
          <p:nvPicPr>
            <p:cNvPr id="119" name="Picture 3" descr=""/>
            <p:cNvPicPr/>
            <p:nvPr/>
          </p:nvPicPr>
          <p:blipFill>
            <a:blip r:embed="rId2"/>
            <a:stretch/>
          </p:blipFill>
          <p:spPr>
            <a:xfrm>
              <a:off x="2250360" y="314280"/>
              <a:ext cx="45216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2"/>
            <p:cNvSpPr/>
            <p:nvPr/>
          </p:nvSpPr>
          <p:spPr>
            <a:xfrm>
              <a:off x="2909520" y="362160"/>
              <a:ext cx="375300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2"/>
          <p:cNvGrpSpPr/>
          <p:nvPr/>
        </p:nvGrpSpPr>
        <p:grpSpPr>
          <a:xfrm>
            <a:off x="227880" y="284040"/>
            <a:ext cx="8687880" cy="730800"/>
            <a:chOff x="227880" y="284040"/>
            <a:chExt cx="8687880" cy="730800"/>
          </a:xfrm>
        </p:grpSpPr>
        <p:sp>
          <p:nvSpPr>
            <p:cNvPr id="122" name="TextBox 8"/>
            <p:cNvSpPr/>
            <p:nvPr/>
          </p:nvSpPr>
          <p:spPr>
            <a:xfrm>
              <a:off x="2865600" y="284040"/>
              <a:ext cx="29019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100" spc="-1" strike="noStrike">
                  <a:solidFill>
                    <a:srgbClr val="433a4b"/>
                  </a:solidFill>
                  <a:latin typeface="华文新魏"/>
                  <a:ea typeface="华文新魏"/>
                </a:rPr>
                <a:t>少年中国说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直接连接符 5"/>
            <p:cNvCxnSpPr/>
            <p:nvPr/>
          </p:nvCxnSpPr>
          <p:spPr>
            <a:xfrm>
              <a:off x="227880" y="1014840"/>
              <a:ext cx="8688240" cy="360"/>
            </a:xfrm>
            <a:prstGeom prst="straightConnector1">
              <a:avLst/>
            </a:prstGeom>
            <a:ln>
              <a:solidFill>
                <a:srgbClr val="433a4b"/>
              </a:solidFill>
              <a:round/>
            </a:ln>
          </p:spPr>
        </p:cxnSp>
      </p:grpSp>
      <p:sp>
        <p:nvSpPr>
          <p:cNvPr id="124" name="矩形 6"/>
          <p:cNvSpPr/>
          <p:nvPr/>
        </p:nvSpPr>
        <p:spPr>
          <a:xfrm>
            <a:off x="227880" y="1469520"/>
            <a:ext cx="1557000" cy="2816280"/>
          </a:xfrm>
          <a:prstGeom prst="rect">
            <a:avLst/>
          </a:prstGeom>
          <a:blipFill rotWithShape="0">
            <a:blip r:embed="rId1">
              <a:alphaModFix amt="99000"/>
            </a:blip>
            <a:srcRect/>
            <a:stretch/>
          </a:blipFill>
          <a:ln w="12700">
            <a:noFill/>
          </a:ln>
          <a:effectLst>
            <a:outerShdw algn="ctr" blurRad="50760" dir="5400000" dist="5076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lnSpc>
                <a:spcPct val="130000"/>
              </a:lnSpc>
            </a:pPr>
            <a:endParaRPr b="0" lang="en-US" sz="1100" spc="-1" strike="noStrike">
              <a:solidFill>
                <a:srgbClr val="f9f9f9"/>
              </a:solidFill>
              <a:latin typeface="微软雅黑"/>
              <a:ea typeface="微软雅黑"/>
            </a:endParaRPr>
          </a:p>
        </p:txBody>
      </p:sp>
      <p:sp>
        <p:nvSpPr>
          <p:cNvPr id="125" name="Rectangle 23"/>
          <p:cNvSpPr/>
          <p:nvPr/>
        </p:nvSpPr>
        <p:spPr>
          <a:xfrm flipH="1">
            <a:off x="1842120" y="1744200"/>
            <a:ext cx="6762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梁启超先生想借这篇文章表达什么观点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 flipH="1">
            <a:off x="1987200" y="2635560"/>
            <a:ext cx="6661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故今日之责任，不在他人，而全在我少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Connector 16"/>
          <p:cNvCxnSpPr/>
          <p:nvPr/>
        </p:nvCxnSpPr>
        <p:spPr>
          <a:xfrm>
            <a:off x="1785240" y="1407960"/>
            <a:ext cx="360" cy="293940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9" descr=""/>
          <p:cNvPicPr/>
          <p:nvPr/>
        </p:nvPicPr>
        <p:blipFill>
          <a:blip r:embed="rId1"/>
          <a:stretch/>
        </p:blipFill>
        <p:spPr>
          <a:xfrm>
            <a:off x="6966720" y="4174200"/>
            <a:ext cx="3558600" cy="25149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6"/>
          <p:cNvSpPr/>
          <p:nvPr/>
        </p:nvSpPr>
        <p:spPr>
          <a:xfrm>
            <a:off x="880200" y="829440"/>
            <a:ext cx="7644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欲言国之老少，请先言人之老少。老年人常思既往，少年人常思将来。惟思既往也，故生留恋心；惟思将来也，故生希望心。惟留恋也，故保守；惟希望也，故进取。惟保守也，故永旧；惟进取也，故日新。惟思既往也，事事皆其所已经者，故惟知照例；惟思将来也，事事皆其所未经者，故常敢破格。老年人常多忧虑，少年人常好行乐。惟多忧也，故灰心；惟行乐也，故盛气。惟灰心也，故怯懦；惟盛气也，故豪壮。惟怯懦也，故苟且；惟豪壮也，故冒险。惟苟且也，故能灭世界；惟冒险也，故能造世界。老年人常厌事，少年人常喜事。惟厌事也，故常觉一切事无可为者；惟好事也，故常觉一切事无不可为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"/>
          <p:cNvGrpSpPr/>
          <p:nvPr/>
        </p:nvGrpSpPr>
        <p:grpSpPr>
          <a:xfrm>
            <a:off x="880200" y="208080"/>
            <a:ext cx="3964320" cy="631440"/>
            <a:chOff x="880200" y="208080"/>
            <a:chExt cx="3964320" cy="631440"/>
          </a:xfrm>
        </p:grpSpPr>
        <p:pic>
          <p:nvPicPr>
            <p:cNvPr id="131" name="Picture 3" descr=""/>
            <p:cNvPicPr/>
            <p:nvPr/>
          </p:nvPicPr>
          <p:blipFill>
            <a:blip r:embed="rId2"/>
            <a:stretch/>
          </p:blipFill>
          <p:spPr>
            <a:xfrm>
              <a:off x="880200" y="208080"/>
              <a:ext cx="36900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12"/>
            <p:cNvSpPr/>
            <p:nvPr/>
          </p:nvSpPr>
          <p:spPr>
            <a:xfrm>
              <a:off x="1190160" y="208080"/>
              <a:ext cx="36543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少年中国说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炫彩扁平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fbf53"/>
      </a:accent1>
      <a:accent2>
        <a:srgbClr val="f17475"/>
      </a:accent2>
      <a:accent3>
        <a:srgbClr val="01b3c5"/>
      </a:accent3>
      <a:accent4>
        <a:srgbClr val="77448c"/>
      </a:accent4>
      <a:accent5>
        <a:srgbClr val="00af92"/>
      </a:accent5>
      <a:accent6>
        <a:srgbClr val="c65885"/>
      </a:accent6>
      <a:hlink>
        <a:srgbClr val="fcc79f"/>
      </a:hlink>
      <a:folHlink>
        <a:srgbClr val="869fb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炫彩扁平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fbf53"/>
      </a:accent1>
      <a:accent2>
        <a:srgbClr val="f17475"/>
      </a:accent2>
      <a:accent3>
        <a:srgbClr val="01b3c5"/>
      </a:accent3>
      <a:accent4>
        <a:srgbClr val="77448c"/>
      </a:accent4>
      <a:accent5>
        <a:srgbClr val="00af92"/>
      </a:accent5>
      <a:accent6>
        <a:srgbClr val="c65885"/>
      </a:accent6>
      <a:hlink>
        <a:srgbClr val="fcc79f"/>
      </a:hlink>
      <a:folHlink>
        <a:srgbClr val="869fb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ffbf53"/>
      </a:accent1>
      <a:accent2>
        <a:srgbClr val="f17475"/>
      </a:accent2>
      <a:accent3>
        <a:srgbClr val="01b3c5"/>
      </a:accent3>
      <a:accent4>
        <a:srgbClr val="77448c"/>
      </a:accent4>
      <a:accent5>
        <a:srgbClr val="00af92"/>
      </a:accent5>
      <a:accent6>
        <a:srgbClr val="c65885"/>
      </a:accent6>
      <a:hlink>
        <a:srgbClr val="fcc79f"/>
      </a:hlink>
      <a:folHlink>
        <a:srgbClr val="869fb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3少年中国说</Template>
  <TotalTime>29</TotalTime>
  <Application>LibreOffice/7.4.7.2$Linux_X86_64 LibreOffice_project/40$Build-2</Application>
  <AppVersion>15.0000</AppVersion>
  <Words>3060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1T02:26:3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03T05:58:44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全屏显示(16:9)</vt:lpwstr>
  </property>
  <property fmtid="{D5CDD505-2E9C-101B-9397-08002B2CF9AE}" pid="4" name="Slides">
    <vt:r8>21</vt:r8>
  </property>
</Properties>
</file>