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Click to move the slide</a:t>
            </a: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13E8F1-1372-486A-96CE-BD1CB0C6C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601"/>
              </a:spcBef>
              <a:buNone/>
              <a:defRPr b="0" lang="en-US" sz="1200" spc="-1" strike="noStrike">
                <a:solidFill>
                  <a:srgbClr val="3333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01"/>
              </a:spcBef>
              <a:buNone/>
            </a:pPr>
            <a:fld id="{62BF824D-4E44-4DE6-9DA9-C2CFFCE61195}" type="slidenum">
              <a:rPr b="0" lang="en-US" sz="1200" spc="-1" strike="noStrike">
                <a:solidFill>
                  <a:srgbClr val="3333ff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4EC-1F49-47F6-91CA-347B7D8E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CA6-7A1A-4624-92C4-B2F6074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D76-C358-426A-942A-EDBD9384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B7E-5678-44E6-92B4-3ADB4E2B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E0D4-C11F-4774-B12C-EBB0AD14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5BB6-0A61-430E-9C57-E609975C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DBD1-3E07-41EC-84D9-DE4894C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E9BC-A736-490C-97A1-1948D014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71A-6434-4BAE-9AAE-A3D219A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18F8-2446-4925-83F4-CF0CFAB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FE35-B567-4050-A31E-1F0D0D4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A2C-4027-4FAF-AF98-CBE1C7F3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C920-C71F-4295-9423-3C34A7D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AD7-2F36-4B40-A7C9-AB24413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55E6-CAE2-415F-B319-2A734CB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D4D-B830-4C9C-AEB1-921D5F12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B6A6-40A5-4C1E-987A-90BE850D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E655-2D02-4773-9358-387414B2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1009-A584-4980-A94F-F96BA8A1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8A9B-6041-4B42-9EA0-3DCE182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A487-1821-45DA-AAC9-87F7F44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8B83-3100-4D60-9E6F-21EC9A31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078-5A51-4935-B560-8BBF814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F6A2-456E-4E25-B08F-3DB431E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BF7A-461D-42D3-9195-C6E4CE0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420C-3B82-43D2-9FA3-B161581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E493-60E1-4CB3-89F2-36365C5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BE03-6CCD-43EE-A09E-E9D03E7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674A-6142-4526-B4C7-B0853D75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E89F-9E72-4033-A7A6-2B7B68C6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2FA-85E8-4819-8240-210DEA0D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8B8-981F-4873-8947-4B8A0B4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4FD-6679-4E49-8E45-68843B0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40F-EC67-49ED-863B-2BEBEB7C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1D9-31E1-4ED2-A011-13B7D31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5F0-1BE2-4CE8-A837-E811CC4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EF606B-BE3D-4463-A03A-5BD60CC46A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C3E6D7-00B2-4BC2-A0E7-6E60C423A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B666E-8991-42C9-AEAF-2DD418C6B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download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4081680" y="1556640"/>
            <a:ext cx="468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事事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3636720" y="5949360"/>
            <a:ext cx="5064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多特软件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-WWW.DUO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95280" y="304920"/>
            <a:ext cx="228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据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2666880"/>
            <a:ext cx="8076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事实论据：事实在议论文中论据作用十分明显，分析事实，看出道理，检验它与文章点在逻辑上是否一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5800" y="4114800"/>
            <a:ext cx="7772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道理论据：作为论据的道理总是读者比较熟悉的，或者是为社会普遍承认的，它们是对大量事实抽象，概括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371600" y="5638680"/>
            <a:ext cx="647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据基本要是：真实可靠，充分典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09480" y="9907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据是为说明论点服务的，既要可靠又要充分，事实胜于雄辩，是最好的论据。论据也可以是人们公认的真理，经过实践考验的哲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09480" y="121932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中的论点和论据是通过论证组织起来的。论证是运用论据来证明论点的过程和方法，是论点和论据之间的逻辑关系纽带。论点是解决“需要证明什么，”论据是解决“用什么来证明”，论证是解决“怎样证明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3657600"/>
            <a:ext cx="586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证方法有以下几种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14400" y="4343400"/>
            <a:ext cx="220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举例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505320" y="4343400"/>
            <a:ext cx="228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道理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324480" y="4343400"/>
            <a:ext cx="243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对比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5029200"/>
            <a:ext cx="259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比喻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143000" y="5638680"/>
            <a:ext cx="647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证的基本要求是：推理必须符合逻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371600" y="533520"/>
            <a:ext cx="1272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505320" y="5029200"/>
            <a:ext cx="251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因果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324480" y="4952880"/>
            <a:ext cx="152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228600"/>
            <a:ext cx="830556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举例论证：列举确凿、充分，有代表性的事例证明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事实论证又称例证法，属于归纳的思维方法，是以个别来证明一般，以典型事例为论据来证明论点的方法，通常说的“摆事实、讲道理”，运用的就是例证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种方法的关键之处，是要选择最有代表性的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33520" y="4495680"/>
            <a:ext cx="807696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小强特别爱吃零食。他口袋里总装着糖、瓜子、巧克力豆之类的东西，上学的路上吃，课间玩的时候吃，有时上着课他都偷偷地往嘴里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28600" y="152280"/>
            <a:ext cx="868644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道理论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道理论证法又称引证法，此种方法属于演绎法，是引用一般原理、规律、原则作论据来推出个别具体结论的思维过程。它的思想基础也是“实践是检验真理的唯一标准”，尽管作为论据的是抽象的理论，这些理论对我们而言是间接的实践，但却是前人亲身实践的结果。使用此种论证方法因为作为论据的是众所周知或一般公认的原理、规律、原则、名人名言，所以具有极其强烈的权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引用一般原理、规律、原则或者名人名言，有征引（直接引用）和引述（间接引用）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0880" y="4419720"/>
            <a:ext cx="82292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逆水行舟，不进则退。学习也是这样的，你不努力，不进步，就会退步。因为不努力，学到的知识就少。即使是学过的知识，也会因为不努力而渐渐生疏。所以，我们在学习上，决不能有松懈的思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85800" y="762120"/>
            <a:ext cx="792432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对比论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拿正反两方面的论点或论据作对比，在对比中证明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种方法，往往能深刻地揭示事物的本质。运用这种方法，要注意事物的对比性，也就是说这种对比，必须能有力地证明论点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5800" y="3962520"/>
            <a:ext cx="77720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李力同学是个非常勇敢的人。有一次，他上街买东西，碰上一个人大声地喊“抓小偷”。好多人见小偷跑过来，都躲到了一边，他却一个箭步冲上去，抱住小偷，扭打起来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62120" y="762120"/>
            <a:ext cx="754344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比喻论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人们熟知的事物作比喻来证明论点。此外，在驳论中，往往还采用“以尔之矛，攻尔之盾”的批驳 方法和“归谬法”。在多数议论文中往往是综合运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运用喻证法要注意本体、喻体的相似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4267080"/>
            <a:ext cx="7695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鲁迅的《拿来主义》中把文化遗产喻为一所大宅子，列举一个青年对待大宅子的态度来表达作者对文化遗产采取“拿来主义”的态度，形象、生动，给人们以很深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838080"/>
            <a:ext cx="79243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因果论证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因果论证法即通过分析，揭示出论点和论据之间的因果关系，以证明论点的论证方法。因果法有三种情况：一是由因导果，即我们平常所说的“种瓜得瓜，种豆得豆”；二是由果溯因，即用结果作论据证明原因；三是由一种结果推导出另一种结果。因果关系能够揭示出事物之间的必然性，因此也具有极佳的说服效果。这种方法常用于科学性较强的议论文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762120"/>
            <a:ext cx="79243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类比论证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类比论证所反映的是由此及彼，由这一事物向其他事物过渡的求同思维形式，忽略个性而寻求共性。使用此种论证方法可以拓展学生的思维领域，对问题的认识能站得更高一些，看得更远一些，对宏观的把握更自如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rId1" action="ppaction://hlinksldjump"/>
          </p:cNvPr>
          <p:cNvSpPr/>
          <p:nvPr/>
        </p:nvSpPr>
        <p:spPr>
          <a:xfrm>
            <a:off x="784872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33520" y="609480"/>
            <a:ext cx="281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反证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371600"/>
            <a:ext cx="761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就是不从正面来证明论点，而是从反面来加以证明。这种方法，往往能产生正面证明所不能起到的作用。运用这种方法，应注意要使反面的“结果”来触动人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838080" y="3429000"/>
            <a:ext cx="754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我们应当养成讲卫生的好习惯。不讲卫生，浑身哪里都是脏的，别人见了你就会捂着鼻子，躲得远远的。另一方面，也是最重要的，不讲卫生会传染很多疾病，严重地危害我们的健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>
            <a:hlinkClick r:id="rId1" action="ppaction://hlinksldjump"/>
          </p:cNvPr>
          <p:cNvSpPr/>
          <p:nvPr/>
        </p:nvSpPr>
        <p:spPr>
          <a:xfrm>
            <a:off x="7620120" y="617220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441936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结  构</a:t>
            </a:r>
            <a:endParaRPr b="0" lang="en-US" sz="44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5800" y="3352680"/>
            <a:ext cx="2742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提出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85800" y="4495680"/>
            <a:ext cx="2381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析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542280" y="342900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引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961440" y="3352680"/>
            <a:ext cx="1341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是什么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85800" y="5715000"/>
            <a:ext cx="250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解决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6618600" y="579132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结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542280" y="4572000"/>
            <a:ext cx="700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本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4190040" y="5715000"/>
            <a:ext cx="1341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怎么办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037760" y="4572000"/>
            <a:ext cx="1341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为什么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1523880" y="3962520"/>
            <a:ext cx="304560" cy="533160"/>
          </a:xfrm>
          <a:prstGeom prst="downArrow">
            <a:avLst>
              <a:gd name="adj1" fmla="val 50000"/>
              <a:gd name="adj2" fmla="val 4375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1523880" y="5181480"/>
            <a:ext cx="304560" cy="533160"/>
          </a:xfrm>
          <a:prstGeom prst="downArrow">
            <a:avLst>
              <a:gd name="adj1" fmla="val 50000"/>
              <a:gd name="adj2" fmla="val 4375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211" name="Line 16"/>
          <p:cNvSpPr/>
          <p:nvPr/>
        </p:nvSpPr>
        <p:spPr>
          <a:xfrm>
            <a:off x="6858000" y="396216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6858000" y="5181480"/>
            <a:ext cx="360" cy="6094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609480" y="2666880"/>
            <a:ext cx="457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三段论式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09480" y="914400"/>
            <a:ext cx="518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的基本结构层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533520" y="1600200"/>
            <a:ext cx="7695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基本结构是提出问题（引论）、分析问题（本论）、解决问题（结 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457200" y="228600"/>
            <a:ext cx="5943240" cy="990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风声、雨声、读书声，声声入耳；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380880" y="5715000"/>
            <a:ext cx="5790960" cy="914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家事、国事、天下事，事事关心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0060825155647"/>
          <p:cNvPicPr/>
          <p:nvPr/>
        </p:nvPicPr>
        <p:blipFill>
          <a:blip r:embed="rId1"/>
          <a:stretch/>
        </p:blipFill>
        <p:spPr>
          <a:xfrm>
            <a:off x="0" y="1447920"/>
            <a:ext cx="9143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1752480" y="304920"/>
            <a:ext cx="30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752480" y="1219320"/>
            <a:ext cx="434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可分两大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752480" y="1828800"/>
            <a:ext cx="533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a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纵式：逐层深入的论述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990720" y="2590920"/>
            <a:ext cx="73148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“层层深入”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先提出论点后，先从消极方面论证，然后进一步从积极方面论述，如《怀疑与学问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066680" y="4419720"/>
            <a:ext cx="73148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.“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起承转合”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开头破题，引出论述问题；接着承接开头，阐述所论述的问题；“转”是从各个角度证明论点；最后归结，就是“合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371600" y="533520"/>
            <a:ext cx="5790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横式：并列展开的论述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1143000"/>
            <a:ext cx="327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1676520"/>
            <a:ext cx="74671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“总论——分论——总论”式，先提出论点，而后从几个方面阐述，最后总结归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09480" y="2819520"/>
            <a:ext cx="746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“总论——分论”式，先提出论点，然后从几个方面论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09480" y="380988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“分论——总论”式，对所要论述的总是分几个方面剖析，然后综合归纳出结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5800" y="4952880"/>
            <a:ext cx="792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总之，分析议论文的结构，先要弄明白中段落层次间的内在联系，还要注意文章中起着承上启下作用的过渡段，过渡句以及过渡词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>
            <a:hlinkClick r:id="rId1" action="ppaction://hlinksldjump"/>
          </p:cNvPr>
          <p:cNvSpPr/>
          <p:nvPr/>
        </p:nvSpPr>
        <p:spPr>
          <a:xfrm>
            <a:off x="8077320" y="6095880"/>
            <a:ext cx="53316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00609172012587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533520" y="609480"/>
            <a:ext cx="632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深入阅读课文，思考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04920" y="1828800"/>
            <a:ext cx="838152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是怎样阐述对联的含义和意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是怎样评述对联的作者（或东林党人）的读书和讲学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为什么要重提这副对联和对联的作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是如何提出并论述自己的观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文章的中心论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33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26"/>
          <p:cNvSpPr/>
          <p:nvPr/>
        </p:nvSpPr>
        <p:spPr>
          <a:xfrm>
            <a:off x="1143000" y="3048120"/>
            <a:ext cx="914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对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028"/>
          <p:cNvSpPr txBox="1"/>
          <p:nvPr/>
        </p:nvSpPr>
        <p:spPr>
          <a:xfrm>
            <a:off x="1219320" y="838080"/>
            <a:ext cx="4647960" cy="1599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文章的思路：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29"/>
          <p:cNvSpPr/>
          <p:nvPr/>
        </p:nvSpPr>
        <p:spPr>
          <a:xfrm>
            <a:off x="2133720" y="3048120"/>
            <a:ext cx="2361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东林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30"/>
          <p:cNvSpPr/>
          <p:nvPr/>
        </p:nvSpPr>
        <p:spPr>
          <a:xfrm>
            <a:off x="4495680" y="3048120"/>
            <a:ext cx="2971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作者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31"/>
          <p:cNvSpPr/>
          <p:nvPr/>
        </p:nvSpPr>
        <p:spPr>
          <a:xfrm>
            <a:off x="1143000" y="4038480"/>
            <a:ext cx="281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作者的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32"/>
          <p:cNvSpPr/>
          <p:nvPr/>
        </p:nvSpPr>
        <p:spPr>
          <a:xfrm>
            <a:off x="3809880" y="4038480"/>
            <a:ext cx="365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全文的中心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" descr="2006091720124954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457200" y="533520"/>
            <a:ext cx="815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根据课文内容，结合单元导读，分清段落结构，归纳出段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57200" y="1523880"/>
            <a:ext cx="777204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981080" y="1523880"/>
            <a:ext cx="220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—6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752480" y="3429000"/>
            <a:ext cx="2590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—10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600200" y="5334120"/>
            <a:ext cx="1066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80880" y="2133720"/>
            <a:ext cx="8381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从明代东林党首领顾宪成撰写的一副对联入手，在分析上下联的意思中引出了作者的观点：既要努力读书，又要关心政治，不可偏废其中任何一个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57200" y="3962520"/>
            <a:ext cx="8229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对东林党人的读书和讲学做了历史的辩证的评述，并阐述了“努力读书”与“关心政治”二者不可偏废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219320" y="5867280"/>
            <a:ext cx="533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提出观点并发出号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15_LAPFECMDKD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609480" y="457200"/>
            <a:ext cx="632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小组合作探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57200" y="1371600"/>
            <a:ext cx="853416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是怎样层层深入地阐明作者的观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文章认为东林党人的进步性和局限性表现在哪里？作者这样分析评述东林党人的思维方式对我们有什么启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这篇文章让我们读到了作者怎样的品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本文还有没有现实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结合课文谈谈本文在论证上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1143000"/>
            <a:ext cx="86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是怎样层层深入地阐明作者的观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09480" y="2362320"/>
            <a:ext cx="79243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先引东林党人顾宪成撰写的一副对联，进行评析，得出古人“一面致力于读书，一面关心政治”的结论，然后分析东林党人“关心政治”的内涵，再从正面阐述“读书”和“关心政治”不可偏废，最后提出观点并发出号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>
            <a:hlinkClick r:id="rId1" action="ppaction://hlinksldjump"/>
          </p:cNvPr>
          <p:cNvSpPr/>
          <p:nvPr/>
        </p:nvSpPr>
        <p:spPr>
          <a:xfrm>
            <a:off x="7772400" y="57913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80880" y="304920"/>
            <a:ext cx="84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文章认为东林党人的进步性和局限性表现在哪里？作者这样分析评述东林党人的思维方式对我们有什么启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80880" y="1600200"/>
            <a:ext cx="685764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进步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局限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启发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905120" y="1676520"/>
            <a:ext cx="640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一面致力读书，一面关心政治，强于那些只知道读死书和追求功名利禄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828800" y="2971800"/>
            <a:ext cx="655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东林党人仍然站在封建统治阶级立场上，而且他们只知道用“君子”和“小人”去区别政治上的正邪两派，没有反封建的因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4630680"/>
            <a:ext cx="8229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作者评述历史人物，以一分为二的观点看问题，并能以翔实的历史资料为佐证分析问题，有理有据，其间展现出来的学者严谨治学的态度，分析鞭辟入里的做学问的方式都是值得我们学习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>
            <a:hlinkClick r:id="rId1" action="ppaction://hlinksldjump"/>
          </p:cNvPr>
          <p:cNvSpPr/>
          <p:nvPr/>
        </p:nvSpPr>
        <p:spPr>
          <a:xfrm>
            <a:off x="7924680" y="609588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80880" y="914400"/>
            <a:ext cx="815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这篇文章让我们读到了作者怎样的品格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3520" y="1981080"/>
            <a:ext cx="8000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篇文章提出的论断至今还闪耀着辩证唯物主义的光芒，虽然作者邓拓为了写作这一类文章而付出了惨痛的代价——在“文化大革命”中遭迫害致死。在那个“突出政治”“政治挂帅”的年代，作者敢于如此提出问题和分析问题，表现了一个共产党人独立思考直抒己见的高风亮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772400" y="57913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533520" y="838080"/>
            <a:ext cx="8229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本文还有没有现实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520" y="2057400"/>
            <a:ext cx="8305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时至今日，这篇文章仍然具有很强的现实意义。死读书、闭门读书、不关心社会、不关心时事的现象在青年学生中还是较为普遍的。我们有必要重温本文的观点：“既要努力读书，又要关心政治”，引导学生明确学习目的，树立远大理想，把个人的命运与国家民族的前途联系在一起，“为中华之崛起而读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7772400" y="57913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685800"/>
            <a:ext cx="822924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掌握下列生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撰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zhuàn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写   颇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pō 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天籁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lài 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功名利禄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l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颢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hào  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嫡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dí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亲  衣钵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bō  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可思议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y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3276720"/>
            <a:ext cx="85341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积累下列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天籁齐鸣   ②功名利禄    ③衣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可思议   ⑤正宗嫡传    ⑥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⑦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撰写    ⑧抱负    ⑨限制   ⑩透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026"/>
          <p:cNvSpPr/>
          <p:nvPr/>
        </p:nvSpPr>
        <p:spPr>
          <a:xfrm>
            <a:off x="380880" y="22860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结合课文谈谈本文在论证上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304920" y="838080"/>
            <a:ext cx="8229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对历史人物的评述，文章有其独到之处，既没有一味肯定他们的进步作用，也没有全盘否定。作者先肯定东林党人“比起那一班读死书的和追求功名利禄的人，总算进步多了”，然后由追溯了东林党人思想和学说的渊源，指出了他们的历史局限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28"/>
          <p:cNvSpPr/>
          <p:nvPr/>
        </p:nvSpPr>
        <p:spPr>
          <a:xfrm>
            <a:off x="380880" y="2971800"/>
            <a:ext cx="8381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论述自己的观点时，作者也是从两个方面展开的：既指出“不读书而只谈政治的人，只是空头的政治家”，又指出“不问政治而死读书本的人，那也是无用的书呆子”，最后引出了本文的中心论点“既要努力读书，又要关心政治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29"/>
          <p:cNvSpPr/>
          <p:nvPr/>
        </p:nvSpPr>
        <p:spPr>
          <a:xfrm>
            <a:off x="380880" y="5257800"/>
            <a:ext cx="8381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样评述历史人物和阐明自己的观点，表现了作者辩证的思维特点，克服了片面性，使文章的论述既全面，又严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30">
            <a:hlinkClick r:id="rId1" action="ppaction://hlinksldjump"/>
          </p:cNvPr>
          <p:cNvSpPr/>
          <p:nvPr/>
        </p:nvSpPr>
        <p:spPr>
          <a:xfrm>
            <a:off x="8229600" y="6248520"/>
            <a:ext cx="609120" cy="456840"/>
          </a:xfrm>
          <a:prstGeom prst="actionButtonBackPrevious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树与水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609480" y="1143000"/>
            <a:ext cx="761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分析下面句子的句式特点，试着仿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14400" y="2895480"/>
            <a:ext cx="746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不读书而空谈政治的人，只是空头的政治家，决不是真正的政治家。真正的政治家没有不努力读书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小溪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"/>
          <p:cNvSpPr/>
          <p:nvPr/>
        </p:nvSpPr>
        <p:spPr>
          <a:xfrm>
            <a:off x="762120" y="3200400"/>
            <a:ext cx="746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请结合自己的思想实际谈谈你对“努力学习”与“关心政治”的关系的认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3"/>
          <p:cNvSpPr txBox="1"/>
          <p:nvPr/>
        </p:nvSpPr>
        <p:spPr>
          <a:xfrm>
            <a:off x="990720" y="838080"/>
            <a:ext cx="6019560" cy="1523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亮出我的观点——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1371600" y="3505320"/>
            <a:ext cx="640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学习本文你有什么收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219320" y="609480"/>
            <a:ext cx="4114440" cy="1599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自结：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457200"/>
            <a:ext cx="7772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作者作品及相关知识简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09480" y="1447920"/>
            <a:ext cx="81529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马南邨：原名邓拓、邓子健、邓云特。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91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出生在福建闽侯一个旧知识分子家庭。他从小就酷爱文学艺术。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96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应《北京晚报》的要求，开设了《燕山夜话》专栏，以马南邨为笔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《燕山夜话》包括一百五十多篇文章。由于林彪、江青等人出于整垮北京市委达到乱中夺权的目的。《燕山夜话》变成了“反党黑文”邓拓因此含冤自尽。成为“四人帮”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966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大兴文字狱的第一个牺牲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533520" y="1523880"/>
            <a:ext cx="79243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本文选自《燕山夜话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《燕山夜话》是时任北京市委文教书记的邓拓同志（笔名马南邨）在上世纪六十年代发表的一系列杂文的汇集。《燕山夜话》涉及当时社会生活的各个方面和不同层面，表达了作者的独立思考，针对性很强，具有鲜明的时代特点。本文针对当时青年普遍关注的热点问题——“努力读书”与“关心政治”的关系，阐明了自己的看法和主张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838080" y="380880"/>
            <a:ext cx="3428640" cy="837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背景资料： 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0880" y="228600"/>
            <a:ext cx="3352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感知内容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" y="2362320"/>
            <a:ext cx="761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是作者对某个问题或某件事进行分析、评论，表明自己的观点、立场、态度、看法和主张的一种文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85800" y="4114800"/>
            <a:ext cx="7772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这类文章或从正面提出某种见解、主张，或是驳斥别人的错误观点。新闻报刊中的评论、杂文或日常生活中的感想等，都属于议论文的范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1676520" y="1143000"/>
            <a:ext cx="3885840" cy="866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关于议论文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685800" y="60948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快读教材第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8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页《谈谈议论文的阅读》思考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62120" y="1523880"/>
            <a:ext cx="678132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的三要素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常用的论证方法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最基本的结构有几种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90720" y="2286000"/>
            <a:ext cx="6933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点、论据、论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38080" y="3657600"/>
            <a:ext cx="746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道理论证、举例论证（事实论证）、比喻论证、对比论证、类比论证、因果论证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19320" y="5410080"/>
            <a:ext cx="289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并列式——横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219320" y="6019920"/>
            <a:ext cx="281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层进式——纵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议论文的三要素 </a:t>
            </a:r>
            <a:endParaRPr b="0" lang="en-US" sz="4400" spc="-1" strike="noStrike">
              <a:solidFill>
                <a:srgbClr val="3333ff"/>
              </a:solidFill>
              <a:latin typeface="黑体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274760" y="3124080"/>
            <a:ext cx="72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论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53240" y="4267080"/>
            <a:ext cx="72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论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075560" y="3200400"/>
            <a:ext cx="2194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用来证明论点的材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369320" y="4191120"/>
            <a:ext cx="2741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运用论据来证明论点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457200" y="2209680"/>
            <a:ext cx="151920" cy="2590560"/>
          </a:xfrm>
          <a:prstGeom prst="leftBrace">
            <a:avLst>
              <a:gd name="adj1" fmla="val 141667"/>
              <a:gd name="adj2" fmla="val 50000"/>
            </a:avLst>
          </a:prstGeom>
          <a:noFill/>
          <a:ln w="28575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3333ff"/>
              </a:solidFill>
              <a:latin typeface="黑体"/>
              <a:ea typeface="黑体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19520" y="2133720"/>
            <a:ext cx="556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作者所持的观点和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685800" y="2133720"/>
            <a:ext cx="3200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、论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5" dur="1" fill="hold"/>
                                        <p:tgtEl>
                                          <p:spTgt spid="15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7" dur="1" fill="hold"/>
                                        <p:tgtEl>
                                          <p:spTgt spid="15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" dur="1" fill="hold"/>
                                        <p:tgtEl>
                                          <p:spTgt spid="15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457200" y="457200"/>
            <a:ext cx="800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点：是作者对所论述问题的见解和主张，是议论文的灵魂、统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09480" y="1600200"/>
            <a:ext cx="7772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议论文一般只有一个中心论点，有的议论文还围绕中心论点提出几个分论点，分论点是用来补充或证明中心论点的，只要研究这些论点的关系，就可以分出主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09480" y="3505320"/>
            <a:ext cx="784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如何找中心论点。论点应该是明确的判断，是作者看法的完整陈述，在形式上应该是完整的句子。位置可分：文章标题、文章开头、文章结尾、文章中间，有的则需要读者概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80880" y="5410080"/>
            <a:ext cx="853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论点的基本要求是：论点应该鲜明、准确、概括，有实际意义，绝不可模棱两可，让人捉摸不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  <Words>4837</Words>
  <Paragraphs>1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2:07:34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22T00:38:22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34</vt:r8>
  </property>
</Properties>
</file>