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  <p:sldId id="279" r:id="rId61"/>
    <p:sldId id="280" r:id="rId62"/>
    <p:sldId id="281" r:id="rId63"/>
    <p:sldId id="282" r:id="rId64"/>
    <p:sldId id="283" r:id="rId65"/>
    <p:sldId id="284" r:id="rId66"/>
    <p:sldId id="285" r:id="rId67"/>
    <p:sldId id="286" r:id="rId68"/>
    <p:sldId id="287" r:id="rId69"/>
    <p:sldId id="288" r:id="rId70"/>
    <p:sldId id="289" r:id="rId71"/>
    <p:sldId id="290" r:id="rId72"/>
  </p:sldIdLst>
  <p:sldSz cx="9144000" cy="6858000"/>
  <p:notesSz cx="7104063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slide" Target="slides/slide24.xml"/><Relationship Id="rId62" Type="http://schemas.openxmlformats.org/officeDocument/2006/relationships/slide" Target="slides/slide25.xml"/><Relationship Id="rId63" Type="http://schemas.openxmlformats.org/officeDocument/2006/relationships/slide" Target="slides/slide26.xml"/><Relationship Id="rId64" Type="http://schemas.openxmlformats.org/officeDocument/2006/relationships/slide" Target="slides/slide27.xml"/><Relationship Id="rId65" Type="http://schemas.openxmlformats.org/officeDocument/2006/relationships/slide" Target="slides/slide28.xml"/><Relationship Id="rId66" Type="http://schemas.openxmlformats.org/officeDocument/2006/relationships/slide" Target="slides/slide29.xml"/><Relationship Id="rId67" Type="http://schemas.openxmlformats.org/officeDocument/2006/relationships/slide" Target="slides/slide30.xml"/><Relationship Id="rId68" Type="http://schemas.openxmlformats.org/officeDocument/2006/relationships/slide" Target="slides/slide31.xml"/><Relationship Id="rId69" Type="http://schemas.openxmlformats.org/officeDocument/2006/relationships/slide" Target="slides/slide32.xml"/><Relationship Id="rId70" Type="http://schemas.openxmlformats.org/officeDocument/2006/relationships/slide" Target="slides/slide33.xml"/><Relationship Id="rId71" Type="http://schemas.openxmlformats.org/officeDocument/2006/relationships/slide" Target="slides/slide34.xml"/><Relationship Id="rId72" Type="http://schemas.openxmlformats.org/officeDocument/2006/relationships/slide" Target="slides/slide35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dt" idx="10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ftr" idx="10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 type="sldNum" idx="10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B64F01-CFA1-41C5-A9FF-7F067F4A9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249200" y="1279440"/>
            <a:ext cx="4605120" cy="345420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711360" y="4925880"/>
            <a:ext cx="5682960" cy="4028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 type="sldNum" idx="110"/>
          </p:nvPr>
        </p:nvSpPr>
        <p:spPr>
          <a:xfrm>
            <a:off x="4024440" y="9721800"/>
            <a:ext cx="3077640" cy="512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412216-846D-4BC6-9051-E1F63EAB1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1249200" y="1279440"/>
            <a:ext cx="4605120" cy="345420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711360" y="4925880"/>
            <a:ext cx="5682960" cy="4028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 type="sldNum" idx="109"/>
          </p:nvPr>
        </p:nvSpPr>
        <p:spPr>
          <a:xfrm>
            <a:off x="4024440" y="9721800"/>
            <a:ext cx="3077640" cy="512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A22A9D-C91D-4643-8B66-C45F93CD7E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8A9-8BA9-4631-9C18-5E9ECD10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976-8BAB-43C9-8E8B-C46002A8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3FA7A-7051-4DAE-8BCD-54FAA528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A07A1-1233-41F1-AEF3-5F23A614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49813-E8A6-4AA3-9BDC-B1D70E47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6441B-3FC0-47C4-9C4A-C0D02F02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68024-4536-4655-8706-EF3DFC3B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18230-1FB0-4FB9-9514-A11C6D58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D1978-634B-4D73-8B4E-90D9F333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9C43D-A2C6-4B51-9D6B-3673DBAA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DE70A-B287-45C4-A6DB-CF27ECF9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01FB2-9048-40FB-998C-74B90B1F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6C4-1FC5-4AAE-966B-83F6B3AA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D4CE8-1544-4AF1-A1A7-930DCDDC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F7BAC-A4D7-482A-BB60-84FC596B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ADF71-61E8-4C0B-A8ED-204830F3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6555F-C4FF-49A3-AEEA-003110F8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D1BC7-E402-4DD0-817E-0E196610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310D9-A1D8-496F-903A-51E2E1B7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4B5F2-0DC2-45C0-90C6-3942F083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391F9-B4CC-4162-86EA-28D5BF52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4F044-5E3C-418C-AA72-A7BFCA8F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DF547-749A-4A27-9FA5-AEE94B3B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610-59B7-4960-8B57-084CFD91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D2957-0024-46A4-8679-3888C90B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0E187-C4A7-45D9-BA47-B1B904AA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0E2C1-FA08-4DDA-AB5E-9A08BEE9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7F574-1495-40B4-979B-3E769BB3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A0D6B-3508-4CA6-B37C-B5F9D552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B4BD7-FB92-489D-8287-61BF9107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94FC3-BB61-420D-B5B6-A87F8C4D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644D5-2816-4FFF-92E7-952D3DB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ED0DE-D92B-472B-AC22-B1D60C0E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89CA6-AB40-47FA-B9A6-B6DD37CC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3BA7-4367-4FB0-BD6A-41643349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54E85-752E-410F-9086-FDCD197B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7BA7C-1C52-4937-8970-E003997F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B926C-B69A-4513-B84D-8E1CE556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67452-DAA1-4189-AF36-30343B0B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26D10-78B4-4B24-AEB5-9018DB6F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AE2FD-1FF9-4716-B824-AD86AF7E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4E456-8ADB-4880-871C-5843CDB3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BBA5F-9888-4DA9-8D8F-D45D6065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17425-7D35-49B5-AB0B-EF6048C1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0CA5A-710C-40E8-B604-B39F7A06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5CA2-33FD-4324-9FBA-13E43B49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77464-EFC3-4E3F-BE05-6E67C2EF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3470E-4852-4709-B80B-88592D30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E02DF-ED70-4C2E-9E91-66ADF825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5F8A2-BE11-4F9C-8CF0-36B9D7C1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D431C-68F3-44DA-AD6D-E2CCD309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2C435-8D65-497F-ADD1-524A7D2B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D5251-45EA-4EB5-BC1E-0851997D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608BB-9F15-4677-916F-F5F28FC2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E3C4E-B6E3-490B-B636-586FEF14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A3283-9401-40E7-9A10-3573839C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76F7-6DF5-4759-8D9C-0E34A59F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54D64-99CF-43D4-B05D-1A9E0EE0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C30FA-4ECF-4C80-8901-D45274C2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B77C5-FE61-47A9-8975-B42B2D63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46AE3-1F91-45CF-AAB6-22AC7AB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1148B-9570-40E9-B529-18A9EDCE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4D766-522B-4F1B-A46F-A0783BA4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13EC1-64E8-471A-AB24-302AD876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A7FF3-3E7B-4B0F-86E1-48E0D23E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4D378-1643-4EC7-9D5D-53E24CAD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19BDE-936F-496F-8A7F-98A085CC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EAD1-644A-43B0-B856-3A50CF5C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64429-103F-45B8-81F6-8D2CABF9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094BD-557A-40F5-A869-7C0F0C68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8C9FB-E0D4-414E-B115-ED9BC2CC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EF687-2FB4-4CB0-BABE-CF2326C9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3D8B4-C672-453B-9C50-3DC0492C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A31ED-78A3-4613-840F-5B2A8AC2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78C72-158F-4D54-82A6-64DF5F8C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B3A0F-DAC2-4476-8A32-D7DEA664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CF814-6964-4E62-AE5E-DF6CA171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E31B5-57B4-4CAE-BA86-9299375A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69A9-3E9C-40B6-ABD3-6D1D5B6A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54223-3C76-415D-A3E4-DFCCD289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E97B4-1119-408C-A568-CE68C2E6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6337B4-78DA-40E1-9067-15CFAB4B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F7BE9-7D68-4523-83B9-7D82BB85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5D729-ABA2-4A2F-9250-3F9E9ADC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5949D-77AE-463A-98B2-DCC49D5F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0DD66-6E04-42D5-AA84-BF73D23E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4F4E6B-B1C5-4567-8348-B2ABA40B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A8B4CB-2B7B-4476-8FE8-79C700A2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AD84E-14ED-426F-94E9-0C91A565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EDC8-C5AA-4B31-A7F8-50A085E1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F6C23-8470-4EFB-9A9F-117862EC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3A804-2EDC-479B-8998-531BD308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49F89-921E-4279-BC00-9FE07E26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6CCAB-1B24-4543-9DE8-04629296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1CBAF9-4D4A-464F-81E6-085C1501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58AD6E-75F5-473C-B6A4-E86EA6C1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28771-CA78-49E9-B692-3D0B5886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804C4-7FE6-409C-AC3E-3D71346B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7FFC0-0FE7-48A7-A1A5-86A27AC6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44582-454E-49ED-82D8-C07800EC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31B0-CFC1-4AF1-848F-77F66CC7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34F75-5E58-49F4-AB7B-63EABE10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79864-4D32-4DA4-A9ED-3F96BDC5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D709B2-AF03-422B-9C40-288F77F1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AB1FD-436E-46DC-AE25-425F1818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CCEFA5-B2E1-4801-B162-55548C7F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96CC50-6061-4F5B-A460-961D8A70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127A5-47A5-44CD-9B8B-4C76BD95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1A60B-7659-4406-ADEF-7F342095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01214-5591-4702-A2A1-2BF8ECE6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6B0D3-A5C1-4CE9-8E35-590E3A64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78C-7C05-4A0D-B0A4-3AF79366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DF52-A7E3-43A5-9A5C-0CCB3358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AB22A-309D-4B68-9786-372D29F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CD0F2-A23F-4499-B081-202ACAA3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3865A-B78E-4E24-9926-17EDDC38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AAA62-97A4-4023-AC78-5EE26025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6680D0-1AF3-4EEE-A5C1-626ED285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6DE1A8-94A6-4AE7-8AF2-A875F949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C9ABB2-9F3D-47B8-90DB-C3634FEA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229E4F-5162-4A3F-9917-FBD12B41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96608-DCD4-4D1E-A932-4866D7CC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90107C-EE54-46B3-8193-9DD5190D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6880-36A4-4B90-AA3E-03642CB1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1E746E-5163-4DDB-A949-88A89ED9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9C2749-B428-4C90-ACF0-8C99DF1D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B3A69-0CB6-45EF-A3C1-27C42EBE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B52DC-EB57-4ADB-ACBF-D4FC704E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D0BD4-E834-48BE-8F85-7FCF2D8A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EE4431-1960-4259-9724-FA382290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5C31E6-2504-4595-BC77-97DF23DA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F00851-44C9-4A03-BED3-78913219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CF5F1-A471-4DB1-83F1-66F47A95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9D631A-3697-4A3A-B918-0DD9B0BF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93B6-6A4E-4B90-99B0-E21E04EA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D36D2F-FE8E-457F-9C21-D797B6BF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2D9CDE-C0A5-4AD5-A9EA-4FE58D2C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86BF0-E212-42DD-AE89-304207FB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6187F3-BF7E-4315-AC13-036CAE57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0CCC7-519F-4A50-A70E-79A2742E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E814F1-3FFF-4979-8890-9960BEA5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ECCBBA-0CD3-4087-9A51-9BA5716F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CCE6F-2CC8-4A55-BD40-31833953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D0C6BD-E90C-4A85-A7C6-AA05B73B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7DC6EA-D2C3-416E-A1D0-B253E5E2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0232-1B4C-4955-BAA5-C6567D30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1DEF58-460A-4527-BF5A-5135FBB3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6C998F-1590-4C03-9CE4-AB958261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572AA3-3373-4691-B979-BE8997D9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56D6F1-91DE-446C-8EFC-525BE6BD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E03C34-F497-4AAA-835C-4D4607C7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3E8743-B8E6-46E1-910D-7F7B3005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2DB5D4-90BF-44F4-8F61-1D2A4386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D5675-9B01-4F9F-BF88-9FECD936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2653A1-1FCB-423F-9572-8613C337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2EB3E-8207-49FD-A8FE-2A4E52D3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09F3-E35D-4385-A48D-91FFD859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53FE5-F2F3-416C-8FF3-BE5B4C5A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7626A2-4DE7-4663-818D-E2E4DFA9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B98812-BA06-4597-A704-C5F7651C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D7D81-BA12-4957-A0F8-731C106B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976EF-5E33-451D-BCD2-E3757BCA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C3332A-A7D2-4D75-B2EA-613C4D14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FB5D87-181C-4D04-A074-15E3D99B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509B67-CCF8-40C4-A697-3C772CD5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7F7A1C-E3F3-48D0-B37C-43C60920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ED7E34-10E6-495C-8006-E6A75807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6EFB-CFFE-4984-A5A0-712325F5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7C3EC6-CD8A-4920-841D-E3CEF437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7A83EF-60B3-4034-96E1-3FDB51A1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C92AC-CE73-4B30-AC6A-D1FFBEB4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EDD223-6D08-42CF-87FF-1510BFBF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2C2B16-BE4E-4A24-820E-4FB7B564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B2613D-CE6C-4075-A37D-BF854B98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C4D741-39C0-4661-BBC3-7E05D7DD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815D19-6849-4AF9-9E82-C8EE0EEF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F9F74F-9BBD-40F8-840F-AABD639C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93AA18-6369-47E8-B87D-7A223483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83E41-2A34-4348-A9F6-7AF12A4A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E1379C-AA57-4ABA-968F-E6D3A615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C1E2B7-DED0-42B9-9093-5181251A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DD2E57-7C59-43C9-8CCC-69DA2FF2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B781C1-AC32-4092-BE7F-40279F80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4C3A1C-2380-433B-AEC9-6014ED68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698847-28EA-42DF-A3C5-1F7DC42C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E1EC6A-E29A-4B61-A798-A9DDD9E0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32FACE-0006-4CCC-A2B0-3D9EA8AA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B966DF-8D32-4AB0-BCAC-0BC268EB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FE4117-FA4C-41A2-ACE4-E3BA3920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AAEC-1A7C-4CBC-96A4-7F55E1D3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1B278D-D0A3-43A4-A3A7-BE41242B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045C41-196E-4E6D-A8C3-01083ADA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13CE8A-335D-411C-89C4-B7861EA9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EEDBD7-1D30-4F88-AAD3-5E5D589F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CBFFFD-6ACB-4658-8AAA-16661F07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14CBAD-6DB8-444F-BF36-9448DE97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264888-7D63-458D-9FAD-65CA1696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7E1D8D-490C-4198-AD41-91FC1FB8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0E1329-3416-4AA9-ACB1-F6421887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FD2795-AC7E-4747-B349-5F34408D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D148-CAE7-4FA0-81A9-5928C60E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4142EC-5B68-4289-A1E6-EEBF6D46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372F66-14D5-4BA6-A9AF-7FEB1E86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779997-DD3B-447E-A7E4-A30AB253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87BB31-CD0B-4251-A497-8FB8DE04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B72ADF-CE29-4127-A680-C5424236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FF0209-6210-406B-B2B9-00786CB1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C39742-0FF6-43B1-9625-0DF70977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FD3487-02D7-4FCD-A208-B52F89AB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7D28DA-5C0E-4739-86FD-DA99F2D0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AF28BA-5365-405B-86D6-3A5DD09A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FE92-D75F-4FC0-94F7-1C65ACBA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A93548-E46E-44D8-B217-086D9B5F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81D276-1B4B-4823-A39A-F1124C05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2008F2-51A7-4EBA-8A6F-ABBB060E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612EB8-AAAA-4DFD-B4A3-D03573FE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CE8B6C-B7CD-4836-9D54-76058F86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160030-23CB-4473-B768-E7560655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70E74D-50E3-4B77-874F-62D20A27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E160C0-BF68-4B8C-97D3-54F9665F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F693E0-E140-469F-A75D-121594DB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7F1295-CFC3-47DC-9AAB-CD85293B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BBC-7179-4B6B-B627-D4699A74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8A4FB-CA39-4EE5-AA1D-C8B12D31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D0C240-B7EE-466D-BE6A-662453CA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B999F1-9AF7-4560-967E-6372E0C8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617684-6B0F-4D2F-BF4F-A80FE609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2AC9CA-B749-4A11-95E0-9FF86E25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8C9091-CECF-4D87-AE65-6B160C93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F0A421-500A-4B42-890C-41A683A1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2C9610-2AB6-4449-BBC9-FB3AA188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A932F7-61B5-4A50-A3B9-2C14ED8C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944EC0-BF5D-411C-8F13-19BEC296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0D8B49-602C-4054-A4D8-5ED1509E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BA33-F25C-4D19-B3F4-41D465E9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8681BE-15FD-48DD-94E5-26C7A0F2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3B979E-50DE-47C7-A95B-5E4A8DE6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F28805-241C-473C-8C89-C158C124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03D204-9E26-4BAF-9AD5-223F295D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DC4BE7-C038-45CF-AC56-B04096EC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E2D4C1-F10C-4AF4-BC82-1492ADEC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569A8F-F42F-403E-A155-3244D266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988785-3F8E-4641-899B-D6CCAA7F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218CB8-7DAC-4ECC-B121-C838979D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267DA8-A556-4805-9EB9-7DD794C8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30357-2C4B-47DC-8EF1-28FB7BFA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18A2F1-079E-4E5A-9F6B-6773A1E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9DE33B-EBAC-44E9-9975-02AE7A91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7441AC-6506-40DE-ACDE-F2DF89D1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2CEC7F-3955-4974-9653-3C5C77A9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E10037-033C-48A5-89B2-46F4E798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EE20A3-466E-48BF-B11F-A9C8508F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FE2952-FC2E-4173-B985-28F6BE23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840922-451D-4312-B85F-FB22212D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D82413-A540-4BE6-8E62-86D77A9C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B413CA-8824-4F5D-AD96-7F2F204F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C3634-BABA-470E-BD29-10EACCF8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3219BF-674C-4D0C-A775-D52EEEAA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7B1D95-1FEA-4ACE-A626-0069A959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12DF02-412D-431A-B872-17455D1E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A794CC-71AD-4359-92F9-72D01F35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170510-A1F8-4555-B37B-0F0ACC64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445DE4-C82B-4BEC-9970-59EECCF4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745BC4-2099-4943-92B9-449975F3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1D32BA-508B-4670-AEE6-B58B8589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D58EA7-472C-4CB5-B4C2-F69C98FC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EE8503-5729-4D23-B59C-73BD8348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5D295-B904-488B-B05A-2D989A62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A41089-200F-4B72-AC92-DA4064BD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82355C-486A-4474-A1DE-5CF3829B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F790EC-9BD4-497A-928B-6C395ECE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247B49-1FAE-4582-BBC2-1906C56B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95441F-61FD-45DD-B74E-6E182BA2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6CE859-F43F-4F32-9ADA-535189E1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B383E8-3BCE-487D-8523-AE5054B9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EC9C9B-695A-4BE4-A2A4-A506ECEA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9E0C3F-8439-4121-9BE9-39C7FC57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595B9A-BCCF-4C9E-A8EF-7820440D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C2527-7974-4319-B472-6123D748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638EE6-2CDA-4F8A-968D-AA7A8EE2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6333BF-48F5-4191-AAD2-8A107B02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091072-0FAF-452B-AAF4-E7BA31E5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F7A7D5-D98B-4D75-8D65-87DED5C5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43E4AA-4844-4388-A08B-4205DB72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67E9D8-D34A-4DC4-A133-31583F07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6658D2-001B-443B-98D0-1E4EC30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4DCD04-2B44-40F1-830F-CB8FBBCA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6073B1-A79E-440A-8451-4A8A69B3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0C60C5-5362-4FE8-BEE8-A023F1A7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481A-9C24-4476-A78D-D771F1CB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DCFC4B-7824-4668-AD4C-BFBEF097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6FF528-2963-4D9A-95D9-27B7BE8F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7487D9-5E9B-4F5E-86D0-3F79BE4E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249608-35A1-4BA3-A4F6-ADFB266E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2413C9-02EC-4CBC-91A4-67FAC2B0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372F0D-406E-42E8-94D1-0A8B36EA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897BD3-515C-4676-A7A0-884C3E29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E9D072-83DF-4DB8-9D3D-D9A95C3B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1CB1A9-25A1-47FF-8CBE-4A2C7D73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DE2585-13AB-4AE7-BF6E-C4ADC13B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A86D2-C838-4423-905C-C0A47CCD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EDF179-5C73-4EDC-B4C9-DF266363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2E4AA4-E042-44F8-970C-089E8343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E76830-DB18-4094-A0BD-13993C6C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AB954B-7507-46F8-AD90-4DB9318D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B3212A-C4DA-485C-8387-D452D6EA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C70D15-F254-4298-9456-F2736AB2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CBDC3F-676E-40CB-AF09-C3DA7128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54EC2B-A229-49C6-84D6-BEB32D10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90D78F-B51C-4E7E-8916-6D6C695E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A2E9A2-9624-4C97-AAFD-5F02276E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9747-4E38-43AE-9970-95BA7DF8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D0B59B-5545-44FD-AC21-A871789D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0905B0-6CC5-4E3A-9C77-3E0C20C9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71B43A-9EA2-4629-A812-36BF1430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D8C234-A8F6-4E0D-B42F-6AC0D222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B06416-7E1F-482D-A365-3AAA8A0E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E1ACE5-5174-4565-A4AE-89B2C0C4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F4F4B6-1D04-4F8B-AC7F-721765F9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D01F23-5BD8-475A-9316-06CBCBB9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1D1899-6C5E-4EF6-B9AC-F8575952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CDE25E-7417-44C9-B5D2-F3A51EB6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D7EC3-32BA-4A75-BE82-302AA019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D397AC-DFA9-4600-9FCD-AE394F7F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BDA589-BE6C-492B-9D98-5D696F1C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CB84AD-3D8C-4657-AC71-6B48D513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7B4469-4408-482D-AD60-EB4CC5A5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E3D569-15BE-4DBB-85BD-286EB00E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EC7FB1-1F18-48B1-B873-AB20C34B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E6811F-993B-4DED-92DD-0603B29D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2584DB-A8B7-47CE-B0C8-5E4AF13F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273DD4-487B-45EB-8642-87D47021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23CEB6-A654-42C8-BBE8-19CB0243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EC4-810A-4E25-B7F6-144481E9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215E6-9BF3-4522-AA71-95CEE775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809DF7-B1CD-45DA-AD9E-F7374B4E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1C48B6-FEF2-4B52-B02D-309A91B4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09F157-5311-46FD-8A20-F676ABAE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0585D6D-DB4D-472A-80C2-33517003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C06432-33B0-4B2A-AA18-C313C648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07233E-ABC5-4537-9C25-16161944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75DBE3-784A-433C-B820-353894B5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6E5079-C711-4A01-BDA3-345C0E84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D0B444-4D8E-4E33-B831-1B7F7A54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A70034-8449-41BB-BD51-C27357AE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33115-3FB6-4A7A-B35F-246FC704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4E2C82-4D6B-47CD-BBF4-075CB746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ECCB05-605A-4D58-9922-67FBF6AF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5E2678-3B8E-4A16-90FA-00BE4525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B59BB9-3020-4A78-BA4A-715C9DC7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D9A98D-4519-4FC2-AA20-8F220EF1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C2B673-87D5-4AEA-A4AF-7DD3357D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86040A-2369-4A10-AF19-4F83D30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4630F4-C763-4A9C-9BC9-5AD3F23C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665AA3-C6B6-4644-993F-706EC9A2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384F00-41A7-4B7F-A178-AA4261C4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6C8C-22AE-499D-99EE-4059F333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546EA4-7113-4614-A218-D44D7986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0E73E-1803-452E-991D-D984545D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48F01-46DC-4DB6-A18A-0D50698F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A4B04-905C-409C-8F67-769F1C97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84CC5-80BE-44CF-918E-481E989D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0CD94-C3DA-4637-A22A-001FF955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5D2CA-D73F-421F-8275-95E887CB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43566-7B81-4C29-B953-E71E1B27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F33-4070-4A83-8078-E0B43E15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70224-373E-4EB5-90F1-EAD71677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6D1FD-6CA0-4643-8503-9175DF90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C7632-1A0E-493A-AEE0-199183E8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7A348-2D05-4D4E-A2BB-76FF2623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C757F-BE9F-4752-AE88-651BCA89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3C5CF-01C4-4C3B-A21E-353FCDD2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D45C1-DD25-469D-A2D8-804C7C13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B4075-9F30-4AB5-903A-6CA22892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758E7-0BCF-4790-BC5C-69D1C7BA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9D259-9955-4E69-900F-5F0D02DF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D70-41BE-4AC7-9E30-0576A119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16AB7-90CC-41EC-B980-37AEBFD0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EFF21-D093-4FFF-84DE-11728E63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3E9D-2E07-4818-B835-FD24F8B8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52FAF-F4CB-4A00-9AB2-008DFAD1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3A790-62AD-46E1-8912-9D10D42D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81A5F-95B5-4CB7-8354-547B30C9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E9C85-A8D2-4A21-B57D-5E9D6F27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BBFF5-A08D-485E-86B2-DBB91270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BC799-3BFF-4690-9D10-0DA87C5D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EE01D-14DA-448D-A288-C4622459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DC2-9866-4787-8936-5BAC73F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635E4-B073-4449-A498-32D1564B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AD103-7965-44E1-B623-51543AD4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E8A1A-E108-4E04-BE41-CCD7182E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82A37-3207-4AA6-8581-99548D55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BF3F5-724C-471C-90BD-68F43CD3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47819-2B9A-4BBE-B294-C297FBB9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CBC74-090E-4280-92F7-2CF8BF9A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63955-2723-4230-AB62-ADE95507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D6422-7181-48EE-993D-5CFEA015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7CEEF-142F-4503-8EC2-33E15B67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3E5-C808-4FDB-9328-EC93EA4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AF892-829C-4CB5-ADD8-1AEF5B11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3F9B6-9E34-41D9-B963-F09A8D8C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0A4D0-4B26-44D3-A869-27FAA898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FB41D-E0F7-44A1-99CD-8A2FC4F8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563EC-F29D-4DCF-9479-379344D8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F3F47-2594-4B50-B8AF-2F1E97E3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8D657-75C4-471C-BEA4-2735D281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8637E-9795-450F-9293-75249814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B79CA-C5D6-456C-89D1-3FB228D4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F14AD-411A-44A7-AEB9-C6D5EC50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894-3B5B-420C-917F-4F86AAD8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501480" y="431640"/>
            <a:ext cx="814032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29EA6-42B1-49E4-9538-159E39DC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727DA-7E96-4FF2-AC98-0D5E2A4F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9CE9A-B369-44D6-A370-F49441ED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DDA44-5E90-421C-8F4C-EBAD247A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92437-05CD-4188-BDC5-3639E8FE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F2B32-196F-431E-BE1E-A02DF096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3C4E9-59A2-45AB-B020-8A46DE20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85C0F-1869-48D5-817A-5DF586E9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D9519-CB7B-447D-9D6B-43780825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6360"/>
              </a:tabLst>
            </a:pP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A58DA-17FC-481F-A26A-2D19BD6E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8836FB-A45F-4733-9844-96AC75237FE5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8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9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30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D7681E-7572-4C10-9A7C-ECC115303D85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31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32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33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B1CC4A-3AB6-45E4-97B3-8CBA5E68140C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34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35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36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0250D1-7C43-4DA3-8635-0464BE4FCFE3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37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38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39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F7E16B-FFC4-4DA6-8842-A197464969F4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40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ftr" idx="41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sldNum" idx="42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FF8515-9141-49F9-B52C-88AC67E262D7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43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ftr" idx="44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45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8468F6-BF5A-4A47-B64C-DC3DB7567543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dt" idx="46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ftr" idx="47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sldNum" idx="48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68812B-CB05-4E34-BDE0-46B031886A60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dt" idx="49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ftr" idx="50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sldNum" idx="51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ADB09D-CBA7-43DD-833F-963E5C8856B7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52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53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54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CD335D-CE0D-47E0-8A5A-7E0B494D0C28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55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ftr" idx="56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ldNum" idx="57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CD89A5-1673-44BC-ABF4-B4FA941D20FD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425E60-CDD5-4357-A947-A14668AFD964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58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59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60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97DB7E-EB22-4E32-AC6C-3E7BC96B73FB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61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62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63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9F79B5-659F-4807-9C92-12BDFEF4E3FB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dt" idx="64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ftr" idx="65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sldNum" idx="66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C59D23-F250-4240-95A6-A8CD87DDD24C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dt" idx="67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ftr" idx="68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sldNum" idx="69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752B4E-969F-465E-94D9-E3BB2A24D85A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dt" idx="70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71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sldNum" idx="72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E6CCC8-9E67-49F3-8826-286A32889B63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dt" idx="73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ftr" idx="74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sldNum" idx="75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14557D-0F62-46FA-8FD4-F5FD4F9295C3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dt" idx="76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ftr" idx="77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sldNum" idx="78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AAAADB-1646-4F14-AA92-BE48B701934E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dt" idx="79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 type="ftr" idx="80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 type="sldNum" idx="81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9D62A2-7EE0-4421-A1B9-CDAF75597645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dt" idx="82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ftr" idx="83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sldNum" idx="84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7341D4-F719-42E2-898D-FE4E2F60C89A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dt" idx="85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86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87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732087-0B52-4166-8887-ED25D36AAE30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AE6DCE-4A27-444C-84AE-856F9340325C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dt" idx="88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ftr" idx="89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sldNum" idx="90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F1A9E9-252C-419B-863B-943E4072A21C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dt" idx="91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 type="ftr" idx="92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 type="sldNum" idx="93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8A2517-9368-4727-8C0E-9891BEBFC541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dt" idx="94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ftr" idx="95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sldNum" idx="96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77E429-7B29-4875-850E-C58767DF5FB2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dt" idx="97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 type="ftr" idx="98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 type="sldNum" idx="99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D34D82-239D-43E8-B8AA-81C9A69DAEE8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dt" idx="100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ftr" idx="101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 type="sldNum" idx="102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DF54C1-736C-479C-B139-B884A0D07220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dt" idx="103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 type="ftr" idx="104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 type="sldNum" idx="105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A0A492-0149-4B18-A26B-26A49568E62E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C1BAC4-B716-4107-B867-7B4D0C8340F3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4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5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95424C-7B71-409B-9DC5-169F047871F7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7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8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62766A-B225-4BCF-885B-9A0E38C358B9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3051720" y="61236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20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21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136D51-B25D-4F5A-9F8F-08A24F6340E5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22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23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24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0578C3-D272-49D3-8B87-58AE482809D8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032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1520" rIns="76320" tIns="38160" bIns="38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25"/>
          </p:nvPr>
        </p:nvSpPr>
        <p:spPr>
          <a:xfrm>
            <a:off x="660240" y="6350040"/>
            <a:ext cx="202356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26"/>
          </p:nvPr>
        </p:nvSpPr>
        <p:spPr>
          <a:xfrm>
            <a:off x="3087720" y="6350040"/>
            <a:ext cx="2968200" cy="3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7"/>
          </p:nvPr>
        </p:nvSpPr>
        <p:spPr>
          <a:xfrm>
            <a:off x="6458040" y="6350040"/>
            <a:ext cx="2025360" cy="31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86010E-051B-44EF-B82E-98A7982BCC56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6360"/>
              </a:tabLst>
            </a:pPr>
            <a:r>
              <a:rPr b="0" lang="en-US" sz="12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63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8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0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1" descr=""/>
          <p:cNvPicPr/>
          <p:nvPr/>
        </p:nvPicPr>
        <p:blipFill>
          <a:blip r:embed="rId2"/>
          <a:stretch/>
        </p:blipFill>
        <p:spPr>
          <a:xfrm>
            <a:off x="6246720" y="244440"/>
            <a:ext cx="2344320" cy="537120"/>
          </a:xfrm>
          <a:prstGeom prst="rect">
            <a:avLst/>
          </a:prstGeom>
          <a:ln w="0">
            <a:noFill/>
          </a:ln>
        </p:spPr>
      </p:pic>
      <p:grpSp>
        <p:nvGrpSpPr>
          <p:cNvPr id="1478" name="组合 6"/>
          <p:cNvGrpSpPr/>
          <p:nvPr/>
        </p:nvGrpSpPr>
        <p:grpSpPr>
          <a:xfrm>
            <a:off x="3492360" y="1348920"/>
            <a:ext cx="2997000" cy="1034640"/>
            <a:chOff x="3492360" y="1348920"/>
            <a:chExt cx="2997000" cy="1034640"/>
          </a:xfrm>
        </p:grpSpPr>
        <p:sp>
          <p:nvSpPr>
            <p:cNvPr id="1479" name="椭圆 9"/>
            <p:cNvSpPr/>
            <p:nvPr/>
          </p:nvSpPr>
          <p:spPr>
            <a:xfrm>
              <a:off x="3613320" y="1386360"/>
              <a:ext cx="666720" cy="810720"/>
            </a:xfrm>
            <a:prstGeom prst="ellipse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480" name="标题 1"/>
            <p:cNvSpPr/>
            <p:nvPr/>
          </p:nvSpPr>
          <p:spPr>
            <a:xfrm>
              <a:off x="3492360" y="1348920"/>
              <a:ext cx="2997000" cy="10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17 </a:t>
              </a:r>
              <a:r>
                <a:rPr b="1" lang="zh-CN" sz="5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松鼠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矩形 5"/>
          <p:cNvSpPr/>
          <p:nvPr/>
        </p:nvSpPr>
        <p:spPr>
          <a:xfrm>
            <a:off x="0" y="5706720"/>
            <a:ext cx="9143640" cy="3913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1" name="组合 12"/>
          <p:cNvGrpSpPr/>
          <p:nvPr/>
        </p:nvGrpSpPr>
        <p:grpSpPr>
          <a:xfrm>
            <a:off x="48240" y="144000"/>
            <a:ext cx="2334240" cy="1185120"/>
            <a:chOff x="48240" y="144000"/>
            <a:chExt cx="2334240" cy="1185120"/>
          </a:xfrm>
        </p:grpSpPr>
        <p:pic>
          <p:nvPicPr>
            <p:cNvPr id="1672" name="图片 13" descr=""/>
            <p:cNvPicPr/>
            <p:nvPr/>
          </p:nvPicPr>
          <p:blipFill>
            <a:blip r:embed="rId1"/>
            <a:stretch/>
          </p:blipFill>
          <p:spPr>
            <a:xfrm>
              <a:off x="153360" y="162000"/>
              <a:ext cx="18637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3" name="图片 14" descr="小天使.png"/>
            <p:cNvPicPr/>
            <p:nvPr/>
          </p:nvPicPr>
          <p:blipFill>
            <a:blip r:embed="rId2"/>
            <a:stretch/>
          </p:blipFill>
          <p:spPr>
            <a:xfrm>
              <a:off x="1627920" y="144000"/>
              <a:ext cx="75456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4" name="图片 15" descr=""/>
            <p:cNvPicPr/>
            <p:nvPr/>
          </p:nvPicPr>
          <p:blipFill>
            <a:blip r:embed="rId3"/>
            <a:stretch/>
          </p:blipFill>
          <p:spPr>
            <a:xfrm rot="21136800">
              <a:off x="86760" y="685800"/>
              <a:ext cx="306720" cy="5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文本框 6"/>
            <p:cNvSpPr/>
            <p:nvPr/>
          </p:nvSpPr>
          <p:spPr>
            <a:xfrm>
              <a:off x="571680" y="2383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b0f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6" name="文本框 5"/>
          <p:cNvSpPr/>
          <p:nvPr/>
        </p:nvSpPr>
        <p:spPr>
          <a:xfrm>
            <a:off x="760320" y="1087920"/>
            <a:ext cx="7910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朗读课文，说说课文主要介绍了松鼠哪些方面的知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图片 9"/>
          <p:cNvSpPr/>
          <p:nvPr/>
        </p:nvSpPr>
        <p:spPr>
          <a:xfrm flipH="1">
            <a:off x="5035320" y="2292840"/>
            <a:ext cx="3346920" cy="376056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4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63360" rotWithShape="0">
              <a:srgbClr val="000000">
                <a:alpha val="45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组合 2"/>
          <p:cNvGrpSpPr/>
          <p:nvPr/>
        </p:nvGrpSpPr>
        <p:grpSpPr>
          <a:xfrm>
            <a:off x="1114560" y="2853360"/>
            <a:ext cx="3084120" cy="791280"/>
            <a:chOff x="1114560" y="2853360"/>
            <a:chExt cx="3084120" cy="791280"/>
          </a:xfrm>
        </p:grpSpPr>
        <p:sp>
          <p:nvSpPr>
            <p:cNvPr id="1679" name="矩形: 剪去对角 14"/>
            <p:cNvSpPr/>
            <p:nvPr/>
          </p:nvSpPr>
          <p:spPr>
            <a:xfrm>
              <a:off x="1114560" y="2868120"/>
              <a:ext cx="3084120" cy="776520"/>
            </a:xfrm>
            <a:prstGeom prst="flowChartPreparation">
              <a:avLst/>
            </a:prstGeom>
            <a:solidFill>
              <a:srgbClr val="f8cce0"/>
            </a:solidFill>
            <a:ln>
              <a:solidFill>
                <a:srgbClr val="e9619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680" name="文本框 1"/>
            <p:cNvSpPr/>
            <p:nvPr/>
          </p:nvSpPr>
          <p:spPr>
            <a:xfrm>
              <a:off x="1554480" y="2853360"/>
              <a:ext cx="22478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漂亮的外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1" name="组合 2"/>
          <p:cNvGrpSpPr/>
          <p:nvPr/>
        </p:nvGrpSpPr>
        <p:grpSpPr>
          <a:xfrm>
            <a:off x="1114560" y="4057560"/>
            <a:ext cx="3084120" cy="791280"/>
            <a:chOff x="1114560" y="4057560"/>
            <a:chExt cx="3084120" cy="791280"/>
          </a:xfrm>
        </p:grpSpPr>
        <p:sp>
          <p:nvSpPr>
            <p:cNvPr id="1682" name="矩形: 剪去对角 14"/>
            <p:cNvSpPr/>
            <p:nvPr/>
          </p:nvSpPr>
          <p:spPr>
            <a:xfrm>
              <a:off x="1114560" y="4072320"/>
              <a:ext cx="3084120" cy="776520"/>
            </a:xfrm>
            <a:prstGeom prst="flowChartPreparation">
              <a:avLst/>
            </a:prstGeom>
            <a:solidFill>
              <a:srgbClr val="c8fbc5"/>
            </a:solidFill>
            <a:ln>
              <a:solidFill>
                <a:srgbClr val="85d37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683" name="文本框 1"/>
            <p:cNvSpPr/>
            <p:nvPr/>
          </p:nvSpPr>
          <p:spPr>
            <a:xfrm>
              <a:off x="1554480" y="4057560"/>
              <a:ext cx="22478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驯良的习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4" name="组合 2"/>
          <p:cNvGrpSpPr/>
          <p:nvPr/>
        </p:nvGrpSpPr>
        <p:grpSpPr>
          <a:xfrm>
            <a:off x="1114560" y="5259960"/>
            <a:ext cx="3084120" cy="793440"/>
            <a:chOff x="1114560" y="5259960"/>
            <a:chExt cx="3084120" cy="793440"/>
          </a:xfrm>
        </p:grpSpPr>
        <p:sp>
          <p:nvSpPr>
            <p:cNvPr id="1685" name="矩形: 剪去对角 14"/>
            <p:cNvSpPr/>
            <p:nvPr/>
          </p:nvSpPr>
          <p:spPr>
            <a:xfrm>
              <a:off x="1114560" y="5274720"/>
              <a:ext cx="3084120" cy="778680"/>
            </a:xfrm>
            <a:prstGeom prst="flowChartPreparation">
              <a:avLst/>
            </a:prstGeom>
            <a:solidFill>
              <a:srgbClr val="feccb8"/>
            </a:solidFill>
            <a:ln>
              <a:solidFill>
                <a:srgbClr val="fc743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686" name="文本框 1"/>
            <p:cNvSpPr/>
            <p:nvPr/>
          </p:nvSpPr>
          <p:spPr>
            <a:xfrm>
              <a:off x="1554480" y="5259960"/>
              <a:ext cx="22478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乖巧的行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6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6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6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7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7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7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7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7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7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7" name="组合 12"/>
          <p:cNvGrpSpPr/>
          <p:nvPr/>
        </p:nvGrpSpPr>
        <p:grpSpPr>
          <a:xfrm>
            <a:off x="48240" y="144000"/>
            <a:ext cx="2334240" cy="1185120"/>
            <a:chOff x="48240" y="144000"/>
            <a:chExt cx="2334240" cy="1185120"/>
          </a:xfrm>
        </p:grpSpPr>
        <p:pic>
          <p:nvPicPr>
            <p:cNvPr id="1688" name="图片 13" descr=""/>
            <p:cNvPicPr/>
            <p:nvPr/>
          </p:nvPicPr>
          <p:blipFill>
            <a:blip r:embed="rId1"/>
            <a:stretch/>
          </p:blipFill>
          <p:spPr>
            <a:xfrm>
              <a:off x="153360" y="162000"/>
              <a:ext cx="18637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图片 14" descr="小天使.png"/>
            <p:cNvPicPr/>
            <p:nvPr/>
          </p:nvPicPr>
          <p:blipFill>
            <a:blip r:embed="rId2"/>
            <a:stretch/>
          </p:blipFill>
          <p:spPr>
            <a:xfrm>
              <a:off x="1627920" y="144000"/>
              <a:ext cx="75456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图片 15" descr=""/>
            <p:cNvPicPr/>
            <p:nvPr/>
          </p:nvPicPr>
          <p:blipFill>
            <a:blip r:embed="rId3"/>
            <a:stretch/>
          </p:blipFill>
          <p:spPr>
            <a:xfrm rot="21136800">
              <a:off x="86760" y="685800"/>
              <a:ext cx="306720" cy="5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1" name="文本框 6"/>
            <p:cNvSpPr/>
            <p:nvPr/>
          </p:nvSpPr>
          <p:spPr>
            <a:xfrm>
              <a:off x="571680" y="2383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b0f0"/>
                  </a:solidFill>
                  <a:latin typeface="黑体"/>
                  <a:ea typeface="黑体"/>
                </a:rPr>
                <a:t>课文品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2" name="Text Box 7"/>
          <p:cNvSpPr/>
          <p:nvPr/>
        </p:nvSpPr>
        <p:spPr>
          <a:xfrm>
            <a:off x="439560" y="1276200"/>
            <a:ext cx="8972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，找出描写松鼠外形特征的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矩形 7"/>
          <p:cNvSpPr/>
          <p:nvPr/>
        </p:nvSpPr>
        <p:spPr>
          <a:xfrm>
            <a:off x="912960" y="2067840"/>
            <a:ext cx="80341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是一种漂亮的小动物，乖巧，驯良，很讨人喜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4" name="组合 2"/>
          <p:cNvGrpSpPr/>
          <p:nvPr/>
        </p:nvGrpSpPr>
        <p:grpSpPr>
          <a:xfrm>
            <a:off x="984240" y="3790800"/>
            <a:ext cx="7594200" cy="2437920"/>
            <a:chOff x="984240" y="3790800"/>
            <a:chExt cx="7594200" cy="2437920"/>
          </a:xfrm>
        </p:grpSpPr>
        <p:sp>
          <p:nvSpPr>
            <p:cNvPr id="1695" name="文本框 8"/>
            <p:cNvSpPr/>
            <p:nvPr/>
          </p:nvSpPr>
          <p:spPr>
            <a:xfrm>
              <a:off x="1100880" y="3868560"/>
              <a:ext cx="7443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    </a:t>
              </a:r>
              <a:r>
                <a:rPr b="1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总起句，概括写松鼠的特征，统领全文。下文将围绕</a:t>
              </a:r>
              <a:r>
                <a:rPr b="1" lang="en-US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“</a:t>
              </a:r>
              <a:r>
                <a:rPr b="1" lang="zh-CN" sz="3000" spc="-1" strike="noStrike">
                  <a:solidFill>
                    <a:srgbClr val="00a249"/>
                  </a:solidFill>
                  <a:latin typeface="宋体"/>
                  <a:ea typeface="宋体"/>
                </a:rPr>
                <a:t>漂亮</a:t>
              </a:r>
              <a:r>
                <a:rPr b="1" lang="en-US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”“</a:t>
              </a:r>
              <a:r>
                <a:rPr b="1" lang="zh-CN" sz="3000" spc="-1" strike="noStrike">
                  <a:solidFill>
                    <a:srgbClr val="00a249"/>
                  </a:solidFill>
                  <a:latin typeface="宋体"/>
                  <a:ea typeface="宋体"/>
                </a:rPr>
                <a:t>乖巧</a:t>
              </a:r>
              <a:r>
                <a:rPr b="1" lang="en-US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”“</a:t>
              </a:r>
              <a:r>
                <a:rPr b="1" lang="zh-CN" sz="3000" spc="-1" strike="noStrike">
                  <a:solidFill>
                    <a:srgbClr val="00a249"/>
                  </a:solidFill>
                  <a:latin typeface="宋体"/>
                  <a:ea typeface="宋体"/>
                </a:rPr>
                <a:t>驯良</a:t>
              </a:r>
              <a:r>
                <a:rPr b="1" lang="en-US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”来介绍松鼠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矩形 1"/>
            <p:cNvSpPr/>
            <p:nvPr/>
          </p:nvSpPr>
          <p:spPr>
            <a:xfrm>
              <a:off x="984240" y="3790800"/>
              <a:ext cx="7594200" cy="2437920"/>
            </a:xfrm>
            <a:prstGeom prst="rect">
              <a:avLst/>
            </a:prstGeom>
            <a:noFill/>
            <a:ln w="19050">
              <a:solidFill>
                <a:srgbClr val="ffc715"/>
              </a:solidFill>
              <a:prstDash val="dashDot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0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6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6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6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7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矩形 1"/>
          <p:cNvSpPr/>
          <p:nvPr/>
        </p:nvSpPr>
        <p:spPr>
          <a:xfrm>
            <a:off x="668160" y="548280"/>
            <a:ext cx="49017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它们面容清秀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眼睛闪闪发光，身体矫健，四肢轻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图片 8"/>
          <p:cNvSpPr/>
          <p:nvPr/>
        </p:nvSpPr>
        <p:spPr>
          <a:xfrm flipH="1">
            <a:off x="5562360" y="983520"/>
            <a:ext cx="3159360" cy="3268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12700" endPos="55000" rotWithShape="0" stA="52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流程图: 过程 11"/>
          <p:cNvSpPr/>
          <p:nvPr/>
        </p:nvSpPr>
        <p:spPr>
          <a:xfrm>
            <a:off x="2714760" y="745200"/>
            <a:ext cx="969480" cy="736200"/>
          </a:xfrm>
          <a:prstGeom prst="flowChartProcess">
            <a:avLst/>
          </a:prstGeom>
          <a:noFill/>
          <a:ln w="28575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00" name="流程图: 过程 12"/>
          <p:cNvSpPr/>
          <p:nvPr/>
        </p:nvSpPr>
        <p:spPr>
          <a:xfrm>
            <a:off x="4186080" y="1752480"/>
            <a:ext cx="950400" cy="736200"/>
          </a:xfrm>
          <a:prstGeom prst="flowChartProcess">
            <a:avLst/>
          </a:prstGeom>
          <a:noFill/>
          <a:ln w="28575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01" name="流程图: 过程 13"/>
          <p:cNvSpPr/>
          <p:nvPr/>
        </p:nvSpPr>
        <p:spPr>
          <a:xfrm>
            <a:off x="781200" y="1752480"/>
            <a:ext cx="948960" cy="736200"/>
          </a:xfrm>
          <a:prstGeom prst="flowChartProcess">
            <a:avLst/>
          </a:prstGeom>
          <a:noFill/>
          <a:ln w="28575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02" name="流程图: 过程 14"/>
          <p:cNvSpPr/>
          <p:nvPr/>
        </p:nvSpPr>
        <p:spPr>
          <a:xfrm>
            <a:off x="2239920" y="2753640"/>
            <a:ext cx="950400" cy="734040"/>
          </a:xfrm>
          <a:prstGeom prst="flowChartProcess">
            <a:avLst/>
          </a:prstGeom>
          <a:noFill/>
          <a:ln w="28575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1703" name="组合 5"/>
          <p:cNvGrpSpPr/>
          <p:nvPr/>
        </p:nvGrpSpPr>
        <p:grpSpPr>
          <a:xfrm>
            <a:off x="758520" y="3421440"/>
            <a:ext cx="4280040" cy="3126600"/>
            <a:chOff x="758520" y="3421440"/>
            <a:chExt cx="4280040" cy="3126600"/>
          </a:xfrm>
        </p:grpSpPr>
        <p:sp>
          <p:nvSpPr>
            <p:cNvPr id="1704" name="爆炸形 2 4"/>
            <p:cNvSpPr/>
            <p:nvPr/>
          </p:nvSpPr>
          <p:spPr>
            <a:xfrm rot="678000">
              <a:off x="956880" y="3778200"/>
              <a:ext cx="3882600" cy="2412720"/>
            </a:xfrm>
            <a:prstGeom prst="irregularSeal2">
              <a:avLst/>
            </a:prstGeom>
            <a:solidFill>
              <a:srgbClr val="ffffbd"/>
            </a:solidFill>
            <a:ln w="19050"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705" name="矩形 2"/>
            <p:cNvSpPr/>
            <p:nvPr/>
          </p:nvSpPr>
          <p:spPr>
            <a:xfrm>
              <a:off x="2046240" y="4542480"/>
              <a:ext cx="133920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800" spc="-1" strike="noStrike">
                  <a:solidFill>
                    <a:srgbClr val="0000ff"/>
                  </a:solidFill>
                  <a:latin typeface="Calibri"/>
                  <a:ea typeface="宋体"/>
                </a:rPr>
                <a:t>惹人喜爱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6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6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6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6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6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6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矩形 1"/>
          <p:cNvSpPr/>
          <p:nvPr/>
        </p:nvSpPr>
        <p:spPr>
          <a:xfrm>
            <a:off x="379440" y="685800"/>
            <a:ext cx="83847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玲珑的小面孔，衬上一条帽缨形的美丽尾巴，显得格外漂亮。它们的尾巴老是翘起来，一直翘到头上，自己就躲在尾巴底下歇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7" name="图片 13" descr=""/>
          <p:cNvPicPr/>
          <p:nvPr/>
        </p:nvPicPr>
        <p:blipFill>
          <a:blip r:embed="rId1"/>
          <a:stretch/>
        </p:blipFill>
        <p:spPr>
          <a:xfrm flipH="1">
            <a:off x="6359760" y="3349800"/>
            <a:ext cx="2391480" cy="1871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708" name="文本框 14"/>
          <p:cNvSpPr/>
          <p:nvPr/>
        </p:nvSpPr>
        <p:spPr>
          <a:xfrm>
            <a:off x="767160" y="43858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尾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左大括号 15"/>
          <p:cNvSpPr/>
          <p:nvPr/>
        </p:nvSpPr>
        <p:spPr>
          <a:xfrm>
            <a:off x="1571760" y="3769920"/>
            <a:ext cx="226800" cy="2006280"/>
          </a:xfrm>
          <a:prstGeom prst="leftBrace">
            <a:avLst>
              <a:gd name="adj1" fmla="val 58426"/>
              <a:gd name="adj2" fmla="val 50000"/>
            </a:avLst>
          </a:prstGeom>
          <a:noFill/>
          <a:ln w="28575">
            <a:solidFill>
              <a:srgbClr val="00b05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66cc"/>
              </a:solidFill>
              <a:latin typeface="Arial"/>
              <a:ea typeface="微软雅黑"/>
            </a:endParaRPr>
          </a:p>
        </p:txBody>
      </p:sp>
      <p:sp>
        <p:nvSpPr>
          <p:cNvPr id="1710" name="文本框 16"/>
          <p:cNvSpPr/>
          <p:nvPr/>
        </p:nvSpPr>
        <p:spPr>
          <a:xfrm>
            <a:off x="2052720" y="33825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形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文本框 17"/>
          <p:cNvSpPr/>
          <p:nvPr/>
        </p:nvSpPr>
        <p:spPr>
          <a:xfrm>
            <a:off x="2055960" y="53128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文本框 19"/>
          <p:cNvSpPr/>
          <p:nvPr/>
        </p:nvSpPr>
        <p:spPr>
          <a:xfrm>
            <a:off x="3206880" y="3382560"/>
            <a:ext cx="110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帽缨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文本框 20"/>
          <p:cNvSpPr/>
          <p:nvPr/>
        </p:nvSpPr>
        <p:spPr>
          <a:xfrm>
            <a:off x="3978000" y="5312880"/>
            <a:ext cx="798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翘起来、歇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文本框 22"/>
          <p:cNvSpPr/>
          <p:nvPr/>
        </p:nvSpPr>
        <p:spPr>
          <a:xfrm>
            <a:off x="5085000" y="33825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美丽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文本框 23"/>
          <p:cNvSpPr/>
          <p:nvPr/>
        </p:nvSpPr>
        <p:spPr>
          <a:xfrm>
            <a:off x="6304320" y="53128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奇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6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6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3" dur="6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6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9" dur="6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6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图片 5"/>
          <p:cNvSpPr/>
          <p:nvPr/>
        </p:nvSpPr>
        <p:spPr>
          <a:xfrm>
            <a:off x="5576040" y="595800"/>
            <a:ext cx="3097800" cy="3393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矩形 6"/>
          <p:cNvSpPr/>
          <p:nvPr/>
        </p:nvSpPr>
        <p:spPr>
          <a:xfrm>
            <a:off x="1180800" y="47390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吃食姿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矩形 7"/>
          <p:cNvSpPr/>
          <p:nvPr/>
        </p:nvSpPr>
        <p:spPr>
          <a:xfrm>
            <a:off x="527040" y="520560"/>
            <a:ext cx="47779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它们常常直竖着身子坐着，像人们用手一样，用前爪往嘴里送东西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8"/>
          <p:cNvSpPr/>
          <p:nvPr/>
        </p:nvSpPr>
        <p:spPr>
          <a:xfrm>
            <a:off x="3942000" y="423108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直竖着身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9"/>
          <p:cNvSpPr/>
          <p:nvPr/>
        </p:nvSpPr>
        <p:spPr>
          <a:xfrm>
            <a:off x="3779640" y="52873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用前爪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1" name="组合 3"/>
          <p:cNvGrpSpPr/>
          <p:nvPr/>
        </p:nvGrpSpPr>
        <p:grpSpPr>
          <a:xfrm>
            <a:off x="6138000" y="4246560"/>
            <a:ext cx="2504160" cy="1954080"/>
            <a:chOff x="6138000" y="4246560"/>
            <a:chExt cx="2504160" cy="1954080"/>
          </a:xfrm>
        </p:grpSpPr>
        <p:sp>
          <p:nvSpPr>
            <p:cNvPr id="1722" name="爆炸形 2 2"/>
            <p:cNvSpPr/>
            <p:nvPr/>
          </p:nvSpPr>
          <p:spPr>
            <a:xfrm rot="556800">
              <a:off x="6252840" y="4419360"/>
              <a:ext cx="2274480" cy="1608480"/>
            </a:xfrm>
            <a:prstGeom prst="irregularSeal2">
              <a:avLst/>
            </a:prstGeom>
            <a:solidFill>
              <a:srgbClr val="ffffbd"/>
            </a:solidFill>
            <a:ln>
              <a:solidFill>
                <a:srgbClr val="ed7d3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723" name="矩形 10"/>
            <p:cNvSpPr/>
            <p:nvPr/>
          </p:nvSpPr>
          <p:spPr>
            <a:xfrm>
              <a:off x="6905160" y="4772520"/>
              <a:ext cx="729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ff"/>
                  </a:solidFill>
                  <a:latin typeface="宋体"/>
                  <a:ea typeface="宋体"/>
                </a:rPr>
                <a:t>可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4" name="左大括号 10"/>
          <p:cNvSpPr/>
          <p:nvPr/>
        </p:nvSpPr>
        <p:spPr>
          <a:xfrm>
            <a:off x="2805120" y="4542480"/>
            <a:ext cx="226800" cy="1390320"/>
          </a:xfrm>
          <a:prstGeom prst="leftBrace">
            <a:avLst>
              <a:gd name="adj1" fmla="val 58426"/>
              <a:gd name="adj2" fmla="val 50000"/>
            </a:avLst>
          </a:prstGeom>
          <a:noFill/>
          <a:ln w="28575">
            <a:solidFill>
              <a:srgbClr val="00b05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66cc"/>
              </a:solidFill>
              <a:latin typeface="Arial"/>
              <a:ea typeface="微软雅黑"/>
            </a:endParaRPr>
          </a:p>
        </p:txBody>
      </p:sp>
      <p:sp>
        <p:nvSpPr>
          <p:cNvPr id="1725" name="左大括号 12"/>
          <p:cNvSpPr/>
          <p:nvPr/>
        </p:nvSpPr>
        <p:spPr>
          <a:xfrm flipH="1">
            <a:off x="5681520" y="4542480"/>
            <a:ext cx="226800" cy="1390320"/>
          </a:xfrm>
          <a:prstGeom prst="leftBrace">
            <a:avLst>
              <a:gd name="adj1" fmla="val 58426"/>
              <a:gd name="adj2" fmla="val 50000"/>
            </a:avLst>
          </a:prstGeom>
          <a:noFill/>
          <a:ln w="28575">
            <a:solidFill>
              <a:srgbClr val="00b05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66cc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6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6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6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6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0" dur="7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Text Box 4"/>
          <p:cNvSpPr/>
          <p:nvPr/>
        </p:nvSpPr>
        <p:spPr>
          <a:xfrm>
            <a:off x="316080" y="527040"/>
            <a:ext cx="823068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，思考：这段话是从哪些方面介绍松鼠的性格特征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矩形 2"/>
          <p:cNvSpPr/>
          <p:nvPr/>
        </p:nvSpPr>
        <p:spPr>
          <a:xfrm>
            <a:off x="762120" y="2209680"/>
            <a:ext cx="786744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不躲藏在地底下，经常在高处活动，像飞鸟一样住在树顶上，满树林里跑，从这棵树跳到那棵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矩形 3"/>
          <p:cNvSpPr/>
          <p:nvPr/>
        </p:nvSpPr>
        <p:spPr>
          <a:xfrm>
            <a:off x="777960" y="4891680"/>
            <a:ext cx="193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地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组合 6"/>
          <p:cNvGrpSpPr/>
          <p:nvPr/>
        </p:nvGrpSpPr>
        <p:grpSpPr>
          <a:xfrm>
            <a:off x="3877920" y="4320000"/>
            <a:ext cx="4365720" cy="1961640"/>
            <a:chOff x="3877920" y="4320000"/>
            <a:chExt cx="4365720" cy="1961640"/>
          </a:xfrm>
        </p:grpSpPr>
        <p:cxnSp>
          <p:nvCxnSpPr>
            <p:cNvPr id="1730" name="直接箭头连接符 5"/>
            <p:cNvCxnSpPr/>
            <p:nvPr/>
          </p:nvCxnSpPr>
          <p:spPr>
            <a:xfrm>
              <a:off x="3877920" y="5333760"/>
              <a:ext cx="898920" cy="360"/>
            </a:xfrm>
            <a:prstGeom prst="straightConnector1">
              <a:avLst/>
            </a:prstGeom>
            <a:ln w="76200">
              <a:solidFill>
                <a:srgbClr val="ffc000"/>
              </a:solidFill>
              <a:tailEnd len="med" type="triangle" w="med"/>
            </a:ln>
          </p:spPr>
        </p:cxnSp>
        <p:grpSp>
          <p:nvGrpSpPr>
            <p:cNvPr id="1731" name="组合 8"/>
            <p:cNvGrpSpPr/>
            <p:nvPr/>
          </p:nvGrpSpPr>
          <p:grpSpPr>
            <a:xfrm>
              <a:off x="4886280" y="4320000"/>
              <a:ext cx="3357360" cy="1961640"/>
              <a:chOff x="4886280" y="4320000"/>
              <a:chExt cx="3357360" cy="1961640"/>
            </a:xfrm>
          </p:grpSpPr>
          <p:sp>
            <p:nvSpPr>
              <p:cNvPr id="1732" name="云形 7"/>
              <p:cNvSpPr/>
              <p:nvPr/>
            </p:nvSpPr>
            <p:spPr>
              <a:xfrm>
                <a:off x="4886280" y="4320000"/>
                <a:ext cx="3357360" cy="1961640"/>
              </a:xfrm>
              <a:custGeom>
                <a:avLst/>
                <a:gdLst>
                  <a:gd name="textAreaLeft" fmla="*/ 0 w 3357360"/>
                  <a:gd name="textAreaRight" fmla="*/ 3357720 w 3357360"/>
                  <a:gd name="textAreaTop" fmla="*/ 0 h 1961640"/>
                  <a:gd name="textAreaBottom" fmla="*/ 1962000 h 1961640"/>
                </a:gdLst>
                <a:ahLst/>
                <a:rect l="textAreaLeft" t="textAreaTop" r="textAreaRight" b="textAreaBottom"/>
                <a:pathLst>
                  <a:path w="43256" h="43219">
                    <a:moveTo>
                      <a:pt x="3936" y="14229"/>
                    </a:moveTo>
                    <a:cubicBezTo>
                      <a:pt x="3665" y="11516"/>
                      <a:pt x="4297" y="8780"/>
                      <a:pt x="5659" y="6766"/>
                    </a:cubicBezTo>
                    <a:cubicBezTo>
                      <a:pt x="7811" y="3585"/>
                      <a:pt x="11300" y="2876"/>
                      <a:pt x="14041" y="5061"/>
                    </a:cubicBezTo>
                    <a:cubicBezTo>
                      <a:pt x="15714" y="768"/>
                      <a:pt x="19950" y="-119"/>
                      <a:pt x="22492" y="3291"/>
                    </a:cubicBezTo>
                    <a:cubicBezTo>
                      <a:pt x="23133" y="1542"/>
                      <a:pt x="24364" y="333"/>
                      <a:pt x="25785" y="59"/>
                    </a:cubicBezTo>
                    <a:cubicBezTo>
                      <a:pt x="27349" y="-243"/>
                      <a:pt x="28911" y="629"/>
                      <a:pt x="29869" y="2340"/>
                    </a:cubicBezTo>
                    <a:cubicBezTo>
                      <a:pt x="31251" y="126"/>
                      <a:pt x="33537" y="-601"/>
                      <a:pt x="35499" y="549"/>
                    </a:cubicBezTo>
                    <a:cubicBezTo>
                      <a:pt x="36994" y="1425"/>
                      <a:pt x="38066" y="3259"/>
                      <a:pt x="38354" y="5435"/>
                    </a:cubicBezTo>
                    <a:cubicBezTo>
                      <a:pt x="40082" y="6077"/>
                      <a:pt x="41458" y="7857"/>
                      <a:pt x="42018" y="10177"/>
                    </a:cubicBezTo>
                    <a:cubicBezTo>
                      <a:pt x="42425" y="11861"/>
                      <a:pt x="42367" y="13690"/>
                      <a:pt x="41854" y="15319"/>
                    </a:cubicBezTo>
                    <a:cubicBezTo>
                      <a:pt x="43115" y="17553"/>
                      <a:pt x="43556" y="20449"/>
                      <a:pt x="43052" y="23181"/>
                    </a:cubicBezTo>
                    <a:cubicBezTo>
                      <a:pt x="42382" y="26813"/>
                      <a:pt x="40164" y="29533"/>
                      <a:pt x="37440" y="30063"/>
                    </a:cubicBezTo>
                    <a:cubicBezTo>
                      <a:pt x="37427" y="32330"/>
                      <a:pt x="36694" y="34480"/>
                      <a:pt x="35431" y="35960"/>
                    </a:cubicBezTo>
                    <a:cubicBezTo>
                      <a:pt x="33512" y="38209"/>
                      <a:pt x="30740" y="38498"/>
                      <a:pt x="28591" y="36674"/>
                    </a:cubicBezTo>
                    <a:cubicBezTo>
                      <a:pt x="27896" y="39807"/>
                      <a:pt x="26035" y="42202"/>
                      <a:pt x="23703" y="42965"/>
                    </a:cubicBezTo>
                    <a:cubicBezTo>
                      <a:pt x="20955" y="43864"/>
                      <a:pt x="18087" y="42332"/>
                      <a:pt x="16516" y="39125"/>
                    </a:cubicBezTo>
                    <a:cubicBezTo>
                      <a:pt x="12808" y="42169"/>
                      <a:pt x="7992" y="40458"/>
                      <a:pt x="5840" y="35331"/>
                    </a:cubicBezTo>
                    <a:cubicBezTo>
                      <a:pt x="3726" y="35668"/>
                      <a:pt x="1741" y="33883"/>
                      <a:pt x="1146" y="31109"/>
                    </a:cubicBezTo>
                    <a:cubicBezTo>
                      <a:pt x="715" y="29102"/>
                      <a:pt x="1096" y="26936"/>
                      <a:pt x="2149" y="25410"/>
                    </a:cubicBezTo>
                    <a:cubicBezTo>
                      <a:pt x="655" y="24213"/>
                      <a:pt x="-177" y="21916"/>
                      <a:pt x="31" y="19563"/>
                    </a:cubicBezTo>
                    <a:cubicBezTo>
                      <a:pt x="275" y="16808"/>
                      <a:pt x="1881" y="14650"/>
                      <a:pt x="3899" y="14366"/>
                    </a:cubicBezTo>
                    <a:cubicBezTo>
                      <a:pt x="3911" y="14320"/>
                      <a:pt x="3924" y="14275"/>
                      <a:pt x="3936" y="14229"/>
                    </a:cubicBezTo>
                    <a:close/>
                  </a:path>
                  <a:path fill="none" w="43256" h="43219">
                    <a:moveTo>
                      <a:pt x="2966" y="25668"/>
                    </a:moveTo>
                    <a:cubicBezTo>
                      <a:pt x="2082" y="25762"/>
                      <a:pt x="2961" y="25852"/>
                      <a:pt x="2196" y="25239"/>
                    </a:cubicBezTo>
                    <a:moveTo>
                      <a:pt x="6964" y="34758"/>
                    </a:moveTo>
                    <a:cubicBezTo>
                      <a:pt x="6609" y="34951"/>
                      <a:pt x="6236" y="35079"/>
                      <a:pt x="5856" y="35139"/>
                    </a:cubicBezTo>
                    <a:moveTo>
                      <a:pt x="16514" y="38949"/>
                    </a:moveTo>
                    <a:cubicBezTo>
                      <a:pt x="16247" y="38403"/>
                      <a:pt x="16023" y="37820"/>
                      <a:pt x="15846" y="37209"/>
                    </a:cubicBezTo>
                    <a:moveTo>
                      <a:pt x="28863" y="34610"/>
                    </a:moveTo>
                    <a:cubicBezTo>
                      <a:pt x="28824" y="35257"/>
                      <a:pt x="28734" y="35897"/>
                      <a:pt x="28596" y="36519"/>
                    </a:cubicBezTo>
                    <a:moveTo>
                      <a:pt x="34165" y="22813"/>
                    </a:moveTo>
                    <a:cubicBezTo>
                      <a:pt x="36169" y="24141"/>
                      <a:pt x="37434" y="26917"/>
                      <a:pt x="37416" y="29949"/>
                    </a:cubicBezTo>
                    <a:moveTo>
                      <a:pt x="41834" y="15213"/>
                    </a:moveTo>
                    <a:cubicBezTo>
                      <a:pt x="41509" y="16245"/>
                      <a:pt x="41014" y="17161"/>
                      <a:pt x="40386" y="17889"/>
                    </a:cubicBezTo>
                    <a:moveTo>
                      <a:pt x="38360" y="5285"/>
                    </a:moveTo>
                    <a:cubicBezTo>
                      <a:pt x="38415" y="5702"/>
                      <a:pt x="38441" y="6125"/>
                      <a:pt x="38436" y="6549"/>
                    </a:cubicBezTo>
                    <a:moveTo>
                      <a:pt x="29114" y="3811"/>
                    </a:moveTo>
                    <a:cubicBezTo>
                      <a:pt x="29303" y="3228"/>
                      <a:pt x="29552" y="2685"/>
                      <a:pt x="29856" y="2199"/>
                    </a:cubicBezTo>
                    <a:moveTo>
                      <a:pt x="22177" y="4579"/>
                    </a:moveTo>
                    <a:cubicBezTo>
                      <a:pt x="22254" y="4097"/>
                      <a:pt x="22375" y="3630"/>
                      <a:pt x="22536" y="3189"/>
                    </a:cubicBezTo>
                    <a:moveTo>
                      <a:pt x="14036" y="5051"/>
                    </a:moveTo>
                    <a:cubicBezTo>
                      <a:pt x="14508" y="5427"/>
                      <a:pt x="14944" y="5880"/>
                      <a:pt x="15336" y="6399"/>
                    </a:cubicBezTo>
                    <a:moveTo>
                      <a:pt x="4163" y="15648"/>
                    </a:moveTo>
                    <a:cubicBezTo>
                      <a:pt x="4060" y="15184"/>
                      <a:pt x="3984" y="14710"/>
                      <a:pt x="3936" y="14229"/>
                    </a:cubicBezTo>
                  </a:path>
                </a:pathLst>
              </a:custGeom>
              <a:solidFill>
                <a:srgbClr val="defff4"/>
              </a:solidFill>
              <a:ln>
                <a:solidFill>
                  <a:srgbClr val="2ef8f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733" name="矩形 6"/>
              <p:cNvSpPr/>
              <p:nvPr/>
            </p:nvSpPr>
            <p:spPr>
              <a:xfrm>
                <a:off x="5049360" y="4460040"/>
                <a:ext cx="3043440" cy="12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20000"/>
                  </a:lnSpc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　　不侵犯人类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的生活空间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4" name="矩形 4"/>
          <p:cNvSpPr/>
          <p:nvPr/>
        </p:nvSpPr>
        <p:spPr>
          <a:xfrm>
            <a:off x="3037320" y="49446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树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6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6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6" dur="500"/>
                                        <p:tgtEl>
                                          <p:spTgt spid="1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6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6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矩形 17"/>
          <p:cNvSpPr/>
          <p:nvPr/>
        </p:nvSpPr>
        <p:spPr>
          <a:xfrm>
            <a:off x="644400" y="450720"/>
            <a:ext cx="798156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在清朗的夏夜，可以听到松鼠在树上跳着叫着，互相追逐。它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好像很怕强烈的日光，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天躲在窝里歇凉，晚上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来奔跑、玩耍、吃东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矩形 14"/>
          <p:cNvSpPr/>
          <p:nvPr/>
        </p:nvSpPr>
        <p:spPr>
          <a:xfrm>
            <a:off x="644400" y="450720"/>
            <a:ext cx="79941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在清朗的夏夜，可以听到松鼠在树上跳着叫着，互相追逐。它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好像很怕强烈的日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组合 1"/>
          <p:cNvGrpSpPr/>
          <p:nvPr/>
        </p:nvGrpSpPr>
        <p:grpSpPr>
          <a:xfrm>
            <a:off x="3732120" y="4313880"/>
            <a:ext cx="4638240" cy="1987200"/>
            <a:chOff x="3732120" y="4313880"/>
            <a:chExt cx="4638240" cy="1987200"/>
          </a:xfrm>
        </p:grpSpPr>
        <p:cxnSp>
          <p:nvCxnSpPr>
            <p:cNvPr id="1738" name="直接箭头连接符 9"/>
            <p:cNvCxnSpPr/>
            <p:nvPr/>
          </p:nvCxnSpPr>
          <p:spPr>
            <a:xfrm>
              <a:off x="3732120" y="5333760"/>
              <a:ext cx="1419480" cy="360"/>
            </a:xfrm>
            <a:prstGeom prst="straightConnector1">
              <a:avLst/>
            </a:prstGeom>
            <a:ln w="76200">
              <a:solidFill>
                <a:srgbClr val="ffc000"/>
              </a:solidFill>
              <a:tailEnd len="med" type="triangle" w="med"/>
            </a:ln>
          </p:spPr>
        </p:cxnSp>
        <p:grpSp>
          <p:nvGrpSpPr>
            <p:cNvPr id="1739" name="组合 10"/>
            <p:cNvGrpSpPr/>
            <p:nvPr/>
          </p:nvGrpSpPr>
          <p:grpSpPr>
            <a:xfrm>
              <a:off x="5313240" y="4313880"/>
              <a:ext cx="3057120" cy="1987200"/>
              <a:chOff x="5313240" y="4313880"/>
              <a:chExt cx="3057120" cy="1987200"/>
            </a:xfrm>
          </p:grpSpPr>
          <p:sp>
            <p:nvSpPr>
              <p:cNvPr id="1740" name="云形 7"/>
              <p:cNvSpPr/>
              <p:nvPr/>
            </p:nvSpPr>
            <p:spPr>
              <a:xfrm>
                <a:off x="5313240" y="4313880"/>
                <a:ext cx="3057120" cy="1987200"/>
              </a:xfrm>
              <a:custGeom>
                <a:avLst/>
                <a:gdLst>
                  <a:gd name="textAreaLeft" fmla="*/ 0 w 3057120"/>
                  <a:gd name="textAreaRight" fmla="*/ 3057480 w 3057120"/>
                  <a:gd name="textAreaTop" fmla="*/ 0 h 1987200"/>
                  <a:gd name="textAreaBottom" fmla="*/ 1987560 h 1987200"/>
                </a:gdLst>
                <a:ahLst/>
                <a:rect l="textAreaLeft" t="textAreaTop" r="textAreaRight" b="textAreaBottom"/>
                <a:pathLst>
                  <a:path w="43256" h="43219">
                    <a:moveTo>
                      <a:pt x="3936" y="14229"/>
                    </a:moveTo>
                    <a:cubicBezTo>
                      <a:pt x="3665" y="11516"/>
                      <a:pt x="4297" y="8780"/>
                      <a:pt x="5659" y="6766"/>
                    </a:cubicBezTo>
                    <a:cubicBezTo>
                      <a:pt x="7811" y="3585"/>
                      <a:pt x="11300" y="2876"/>
                      <a:pt x="14041" y="5061"/>
                    </a:cubicBezTo>
                    <a:cubicBezTo>
                      <a:pt x="15714" y="768"/>
                      <a:pt x="19950" y="-119"/>
                      <a:pt x="22492" y="3291"/>
                    </a:cubicBezTo>
                    <a:cubicBezTo>
                      <a:pt x="23133" y="1542"/>
                      <a:pt x="24364" y="333"/>
                      <a:pt x="25785" y="59"/>
                    </a:cubicBezTo>
                    <a:cubicBezTo>
                      <a:pt x="27349" y="-243"/>
                      <a:pt x="28911" y="629"/>
                      <a:pt x="29869" y="2340"/>
                    </a:cubicBezTo>
                    <a:cubicBezTo>
                      <a:pt x="31251" y="126"/>
                      <a:pt x="33537" y="-601"/>
                      <a:pt x="35499" y="549"/>
                    </a:cubicBezTo>
                    <a:cubicBezTo>
                      <a:pt x="36994" y="1425"/>
                      <a:pt x="38066" y="3259"/>
                      <a:pt x="38354" y="5435"/>
                    </a:cubicBezTo>
                    <a:cubicBezTo>
                      <a:pt x="40082" y="6077"/>
                      <a:pt x="41458" y="7857"/>
                      <a:pt x="42018" y="10177"/>
                    </a:cubicBezTo>
                    <a:cubicBezTo>
                      <a:pt x="42425" y="11861"/>
                      <a:pt x="42367" y="13690"/>
                      <a:pt x="41854" y="15319"/>
                    </a:cubicBezTo>
                    <a:cubicBezTo>
                      <a:pt x="43115" y="17553"/>
                      <a:pt x="43556" y="20449"/>
                      <a:pt x="43052" y="23181"/>
                    </a:cubicBezTo>
                    <a:cubicBezTo>
                      <a:pt x="42382" y="26813"/>
                      <a:pt x="40164" y="29533"/>
                      <a:pt x="37440" y="30063"/>
                    </a:cubicBezTo>
                    <a:cubicBezTo>
                      <a:pt x="37427" y="32330"/>
                      <a:pt x="36694" y="34480"/>
                      <a:pt x="35431" y="35960"/>
                    </a:cubicBezTo>
                    <a:cubicBezTo>
                      <a:pt x="33512" y="38209"/>
                      <a:pt x="30740" y="38498"/>
                      <a:pt x="28591" y="36674"/>
                    </a:cubicBezTo>
                    <a:cubicBezTo>
                      <a:pt x="27896" y="39807"/>
                      <a:pt x="26035" y="42202"/>
                      <a:pt x="23703" y="42965"/>
                    </a:cubicBezTo>
                    <a:cubicBezTo>
                      <a:pt x="20955" y="43864"/>
                      <a:pt x="18087" y="42332"/>
                      <a:pt x="16516" y="39125"/>
                    </a:cubicBezTo>
                    <a:cubicBezTo>
                      <a:pt x="12808" y="42169"/>
                      <a:pt x="7992" y="40458"/>
                      <a:pt x="5840" y="35331"/>
                    </a:cubicBezTo>
                    <a:cubicBezTo>
                      <a:pt x="3726" y="35668"/>
                      <a:pt x="1741" y="33883"/>
                      <a:pt x="1146" y="31109"/>
                    </a:cubicBezTo>
                    <a:cubicBezTo>
                      <a:pt x="715" y="29102"/>
                      <a:pt x="1096" y="26936"/>
                      <a:pt x="2149" y="25410"/>
                    </a:cubicBezTo>
                    <a:cubicBezTo>
                      <a:pt x="655" y="24213"/>
                      <a:pt x="-177" y="21916"/>
                      <a:pt x="31" y="19563"/>
                    </a:cubicBezTo>
                    <a:cubicBezTo>
                      <a:pt x="275" y="16808"/>
                      <a:pt x="1881" y="14650"/>
                      <a:pt x="3899" y="14366"/>
                    </a:cubicBezTo>
                    <a:cubicBezTo>
                      <a:pt x="3911" y="14320"/>
                      <a:pt x="3924" y="14275"/>
                      <a:pt x="3936" y="14229"/>
                    </a:cubicBezTo>
                    <a:close/>
                  </a:path>
                  <a:path fill="none" w="43256" h="43219">
                    <a:moveTo>
                      <a:pt x="2966" y="25668"/>
                    </a:moveTo>
                    <a:cubicBezTo>
                      <a:pt x="2082" y="25762"/>
                      <a:pt x="2961" y="25852"/>
                      <a:pt x="2196" y="25239"/>
                    </a:cubicBezTo>
                    <a:moveTo>
                      <a:pt x="6964" y="34758"/>
                    </a:moveTo>
                    <a:cubicBezTo>
                      <a:pt x="6609" y="34951"/>
                      <a:pt x="6236" y="35079"/>
                      <a:pt x="5856" y="35139"/>
                    </a:cubicBezTo>
                    <a:moveTo>
                      <a:pt x="16514" y="38949"/>
                    </a:moveTo>
                    <a:cubicBezTo>
                      <a:pt x="16247" y="38403"/>
                      <a:pt x="16023" y="37820"/>
                      <a:pt x="15846" y="37209"/>
                    </a:cubicBezTo>
                    <a:moveTo>
                      <a:pt x="28863" y="34610"/>
                    </a:moveTo>
                    <a:cubicBezTo>
                      <a:pt x="28824" y="35257"/>
                      <a:pt x="28734" y="35897"/>
                      <a:pt x="28596" y="36519"/>
                    </a:cubicBezTo>
                    <a:moveTo>
                      <a:pt x="34165" y="22813"/>
                    </a:moveTo>
                    <a:cubicBezTo>
                      <a:pt x="36169" y="24141"/>
                      <a:pt x="37434" y="26917"/>
                      <a:pt x="37416" y="29949"/>
                    </a:cubicBezTo>
                    <a:moveTo>
                      <a:pt x="41834" y="15213"/>
                    </a:moveTo>
                    <a:cubicBezTo>
                      <a:pt x="41509" y="16245"/>
                      <a:pt x="41014" y="17161"/>
                      <a:pt x="40386" y="17889"/>
                    </a:cubicBezTo>
                    <a:moveTo>
                      <a:pt x="38360" y="5285"/>
                    </a:moveTo>
                    <a:cubicBezTo>
                      <a:pt x="38415" y="5702"/>
                      <a:pt x="38441" y="6125"/>
                      <a:pt x="38436" y="6549"/>
                    </a:cubicBezTo>
                    <a:moveTo>
                      <a:pt x="29114" y="3811"/>
                    </a:moveTo>
                    <a:cubicBezTo>
                      <a:pt x="29303" y="3228"/>
                      <a:pt x="29552" y="2685"/>
                      <a:pt x="29856" y="2199"/>
                    </a:cubicBezTo>
                    <a:moveTo>
                      <a:pt x="22177" y="4579"/>
                    </a:moveTo>
                    <a:cubicBezTo>
                      <a:pt x="22254" y="4097"/>
                      <a:pt x="22375" y="3630"/>
                      <a:pt x="22536" y="3189"/>
                    </a:cubicBezTo>
                    <a:moveTo>
                      <a:pt x="14036" y="5051"/>
                    </a:moveTo>
                    <a:cubicBezTo>
                      <a:pt x="14508" y="5427"/>
                      <a:pt x="14944" y="5880"/>
                      <a:pt x="15336" y="6399"/>
                    </a:cubicBezTo>
                    <a:moveTo>
                      <a:pt x="4163" y="15648"/>
                    </a:moveTo>
                    <a:cubicBezTo>
                      <a:pt x="4060" y="15184"/>
                      <a:pt x="3984" y="14710"/>
                      <a:pt x="3936" y="14229"/>
                    </a:cubicBezTo>
                  </a:path>
                </a:pathLst>
              </a:custGeom>
              <a:solidFill>
                <a:srgbClr val="defff4"/>
              </a:solidFill>
              <a:ln>
                <a:solidFill>
                  <a:srgbClr val="2ef8f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741" name="矩形 12"/>
              <p:cNvSpPr/>
              <p:nvPr/>
            </p:nvSpPr>
            <p:spPr>
              <a:xfrm>
                <a:off x="5513040" y="4450680"/>
                <a:ext cx="265788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14000"/>
                  </a:lnSpc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　　不骚扰人类的生活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2" name="矩形 12"/>
          <p:cNvSpPr/>
          <p:nvPr/>
        </p:nvSpPr>
        <p:spPr>
          <a:xfrm>
            <a:off x="2908440" y="49233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晚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3" name="图片 7" descr=""/>
          <p:cNvPicPr/>
          <p:nvPr/>
        </p:nvPicPr>
        <p:blipFill>
          <a:blip r:embed="rId1"/>
          <a:stretch/>
        </p:blipFill>
        <p:spPr>
          <a:xfrm>
            <a:off x="5562720" y="1617120"/>
            <a:ext cx="2754000" cy="24444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744" name="矩形 15"/>
          <p:cNvSpPr/>
          <p:nvPr/>
        </p:nvSpPr>
        <p:spPr>
          <a:xfrm>
            <a:off x="685800" y="4866120"/>
            <a:ext cx="193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时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矩形 14"/>
          <p:cNvSpPr/>
          <p:nvPr/>
        </p:nvSpPr>
        <p:spPr>
          <a:xfrm>
            <a:off x="638280" y="1731240"/>
            <a:ext cx="50446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　　　　　　　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天躲在窝里歇凉，晚上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来奔跑、玩耍、吃东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6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6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6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6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6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6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流程图: 过程 26"/>
          <p:cNvSpPr/>
          <p:nvPr/>
        </p:nvSpPr>
        <p:spPr>
          <a:xfrm>
            <a:off x="8102520" y="3117960"/>
            <a:ext cx="452160" cy="613440"/>
          </a:xfrm>
          <a:prstGeom prst="flowChartProcess">
            <a:avLst/>
          </a:prstGeom>
          <a:solidFill>
            <a:srgbClr val="5afe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0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47" name="流程图: 过程 27"/>
          <p:cNvSpPr/>
          <p:nvPr/>
        </p:nvSpPr>
        <p:spPr>
          <a:xfrm>
            <a:off x="6970680" y="3086280"/>
            <a:ext cx="452160" cy="615600"/>
          </a:xfrm>
          <a:prstGeom prst="flowChartProcess">
            <a:avLst/>
          </a:prstGeom>
          <a:solidFill>
            <a:srgbClr val="5afe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0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48" name="流程图: 过程 28"/>
          <p:cNvSpPr/>
          <p:nvPr/>
        </p:nvSpPr>
        <p:spPr>
          <a:xfrm>
            <a:off x="3895560" y="3801600"/>
            <a:ext cx="450360" cy="613440"/>
          </a:xfrm>
          <a:prstGeom prst="flowChartProcess">
            <a:avLst/>
          </a:prstGeom>
          <a:solidFill>
            <a:srgbClr val="5afe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0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749" name="矩形 23"/>
          <p:cNvSpPr/>
          <p:nvPr/>
        </p:nvSpPr>
        <p:spPr>
          <a:xfrm>
            <a:off x="773280" y="2326320"/>
            <a:ext cx="796248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它们是十分警觉的，只要有人触动一下松鼠所在的大树，它们就从树上的窝里跑出来躲到树枝底下，或者逃到别的树上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矩形 2"/>
          <p:cNvSpPr/>
          <p:nvPr/>
        </p:nvSpPr>
        <p:spPr>
          <a:xfrm>
            <a:off x="4994280" y="2326320"/>
            <a:ext cx="108864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只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Text Box 4"/>
          <p:cNvSpPr/>
          <p:nvPr/>
        </p:nvSpPr>
        <p:spPr>
          <a:xfrm>
            <a:off x="399960" y="455040"/>
            <a:ext cx="76737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，了解松鼠的行为特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组合 9"/>
          <p:cNvGrpSpPr/>
          <p:nvPr/>
        </p:nvGrpSpPr>
        <p:grpSpPr>
          <a:xfrm>
            <a:off x="2462040" y="1361160"/>
            <a:ext cx="4771800" cy="780840"/>
            <a:chOff x="2462040" y="1361160"/>
            <a:chExt cx="4771800" cy="780840"/>
          </a:xfrm>
        </p:grpSpPr>
        <p:sp>
          <p:nvSpPr>
            <p:cNvPr id="1753" name="线形标注 1 14"/>
            <p:cNvSpPr/>
            <p:nvPr/>
          </p:nvSpPr>
          <p:spPr>
            <a:xfrm>
              <a:off x="2462040" y="1397160"/>
              <a:ext cx="4771800" cy="744840"/>
            </a:xfrm>
            <a:prstGeom prst="borderCallout1">
              <a:avLst>
                <a:gd name="adj1" fmla="val 105814"/>
                <a:gd name="adj2" fmla="val 73372"/>
                <a:gd name="adj3" fmla="val 143817"/>
                <a:gd name="adj4" fmla="val 63555"/>
              </a:avLst>
            </a:prstGeom>
            <a:noFill/>
            <a:ln w="19050">
              <a:solidFill>
                <a:srgbClr val="ff00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754" name="文本框 15"/>
            <p:cNvSpPr/>
            <p:nvPr/>
          </p:nvSpPr>
          <p:spPr>
            <a:xfrm>
              <a:off x="3236760" y="1361160"/>
              <a:ext cx="32778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6600ff"/>
                  </a:solidFill>
                  <a:latin typeface="宋体"/>
                  <a:ea typeface="宋体"/>
                </a:rPr>
                <a:t>关联词：只要</a:t>
              </a:r>
              <a:r>
                <a:rPr b="1" lang="en-US" sz="3200" spc="-1" strike="noStrike">
                  <a:solidFill>
                    <a:srgbClr val="6600ff"/>
                  </a:solidFill>
                  <a:latin typeface="宋体"/>
                  <a:ea typeface="宋体"/>
                </a:rPr>
                <a:t>……就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5" name="组合 8"/>
          <p:cNvGrpSpPr/>
          <p:nvPr/>
        </p:nvGrpSpPr>
        <p:grpSpPr>
          <a:xfrm>
            <a:off x="3651480" y="4899240"/>
            <a:ext cx="2311920" cy="1307520"/>
            <a:chOff x="3651480" y="4899240"/>
            <a:chExt cx="2311920" cy="1307520"/>
          </a:xfrm>
        </p:grpSpPr>
        <p:sp>
          <p:nvSpPr>
            <p:cNvPr id="1756" name="云形 7"/>
            <p:cNvSpPr/>
            <p:nvPr/>
          </p:nvSpPr>
          <p:spPr>
            <a:xfrm rot="255600">
              <a:off x="3690720" y="4980240"/>
              <a:ext cx="2233080" cy="1144800"/>
            </a:xfrm>
            <a:custGeom>
              <a:avLst/>
              <a:gdLst>
                <a:gd name="textAreaLeft" fmla="*/ 0 w 2233080"/>
                <a:gd name="textAreaRight" fmla="*/ 2233440 w 2233080"/>
                <a:gd name="textAreaTop" fmla="*/ 0 h 1144800"/>
                <a:gd name="textAreaBottom" fmla="*/ 1145160 h 1144800"/>
              </a:gdLst>
              <a:ahLst/>
              <a:rect l="textAreaLeft" t="textAreaTop" r="textAreaRight" b="textAreaBottom"/>
              <a:pathLst>
                <a:path w="43256" h="43219">
                  <a:moveTo>
                    <a:pt x="3936" y="14229"/>
                  </a:moveTo>
                  <a:cubicBezTo>
                    <a:pt x="3665" y="11516"/>
                    <a:pt x="4297" y="8780"/>
                    <a:pt x="5659" y="6766"/>
                  </a:cubicBezTo>
                  <a:cubicBezTo>
                    <a:pt x="7811" y="3585"/>
                    <a:pt x="11300" y="2876"/>
                    <a:pt x="14041" y="5061"/>
                  </a:cubicBezTo>
                  <a:cubicBezTo>
                    <a:pt x="15714" y="768"/>
                    <a:pt x="19950" y="-119"/>
                    <a:pt x="22492" y="3291"/>
                  </a:cubicBezTo>
                  <a:cubicBezTo>
                    <a:pt x="23133" y="1542"/>
                    <a:pt x="24364" y="333"/>
                    <a:pt x="25785" y="59"/>
                  </a:cubicBezTo>
                  <a:cubicBezTo>
                    <a:pt x="27349" y="-243"/>
                    <a:pt x="28911" y="629"/>
                    <a:pt x="29869" y="2340"/>
                  </a:cubicBezTo>
                  <a:cubicBezTo>
                    <a:pt x="31251" y="126"/>
                    <a:pt x="33537" y="-601"/>
                    <a:pt x="35499" y="549"/>
                  </a:cubicBezTo>
                  <a:cubicBezTo>
                    <a:pt x="36994" y="1425"/>
                    <a:pt x="38066" y="3259"/>
                    <a:pt x="38354" y="5435"/>
                  </a:cubicBezTo>
                  <a:cubicBezTo>
                    <a:pt x="40082" y="6077"/>
                    <a:pt x="41458" y="7857"/>
                    <a:pt x="42018" y="10177"/>
                  </a:cubicBezTo>
                  <a:cubicBezTo>
                    <a:pt x="42425" y="11861"/>
                    <a:pt x="42367" y="13690"/>
                    <a:pt x="41854" y="15319"/>
                  </a:cubicBezTo>
                  <a:cubicBezTo>
                    <a:pt x="43115" y="17553"/>
                    <a:pt x="43556" y="20449"/>
                    <a:pt x="43052" y="23181"/>
                  </a:cubicBezTo>
                  <a:cubicBezTo>
                    <a:pt x="42382" y="26813"/>
                    <a:pt x="40164" y="29533"/>
                    <a:pt x="37440" y="30063"/>
                  </a:cubicBezTo>
                  <a:cubicBezTo>
                    <a:pt x="37427" y="32330"/>
                    <a:pt x="36694" y="34480"/>
                    <a:pt x="35431" y="35960"/>
                  </a:cubicBezTo>
                  <a:cubicBezTo>
                    <a:pt x="33512" y="38209"/>
                    <a:pt x="30740" y="38498"/>
                    <a:pt x="28591" y="36674"/>
                  </a:cubicBezTo>
                  <a:cubicBezTo>
                    <a:pt x="27896" y="39807"/>
                    <a:pt x="26035" y="42202"/>
                    <a:pt x="23703" y="42965"/>
                  </a:cubicBezTo>
                  <a:cubicBezTo>
                    <a:pt x="20955" y="43864"/>
                    <a:pt x="18087" y="42332"/>
                    <a:pt x="16516" y="39125"/>
                  </a:cubicBezTo>
                  <a:cubicBezTo>
                    <a:pt x="12808" y="42169"/>
                    <a:pt x="7992" y="40458"/>
                    <a:pt x="5840" y="35331"/>
                  </a:cubicBezTo>
                  <a:cubicBezTo>
                    <a:pt x="3726" y="35668"/>
                    <a:pt x="1741" y="33883"/>
                    <a:pt x="1146" y="31109"/>
                  </a:cubicBezTo>
                  <a:cubicBezTo>
                    <a:pt x="715" y="29102"/>
                    <a:pt x="1096" y="26936"/>
                    <a:pt x="2149" y="25410"/>
                  </a:cubicBezTo>
                  <a:cubicBezTo>
                    <a:pt x="655" y="24213"/>
                    <a:pt x="-177" y="21916"/>
                    <a:pt x="31" y="19563"/>
                  </a:cubicBezTo>
                  <a:cubicBezTo>
                    <a:pt x="275" y="16808"/>
                    <a:pt x="1881" y="14650"/>
                    <a:pt x="3899" y="14366"/>
                  </a:cubicBezTo>
                  <a:cubicBezTo>
                    <a:pt x="3911" y="14320"/>
                    <a:pt x="3924" y="14275"/>
                    <a:pt x="3936" y="14229"/>
                  </a:cubicBezTo>
                  <a:close/>
                </a:path>
                <a:path fill="none" w="43256" h="43219">
                  <a:moveTo>
                    <a:pt x="4729" y="26036"/>
                  </a:moveTo>
                  <a:cubicBezTo>
                    <a:pt x="3845" y="26130"/>
                    <a:pt x="2961" y="25852"/>
                    <a:pt x="2196" y="25239"/>
                  </a:cubicBezTo>
                  <a:moveTo>
                    <a:pt x="6964" y="34758"/>
                  </a:moveTo>
                  <a:cubicBezTo>
                    <a:pt x="6609" y="34951"/>
                    <a:pt x="6236" y="35079"/>
                    <a:pt x="5856" y="35139"/>
                  </a:cubicBezTo>
                  <a:moveTo>
                    <a:pt x="16514" y="38949"/>
                  </a:moveTo>
                  <a:cubicBezTo>
                    <a:pt x="16247" y="38403"/>
                    <a:pt x="16023" y="37820"/>
                    <a:pt x="15846" y="37209"/>
                  </a:cubicBezTo>
                  <a:moveTo>
                    <a:pt x="28863" y="34610"/>
                  </a:moveTo>
                  <a:cubicBezTo>
                    <a:pt x="28824" y="35257"/>
                    <a:pt x="28734" y="35897"/>
                    <a:pt x="28596" y="36519"/>
                  </a:cubicBezTo>
                  <a:moveTo>
                    <a:pt x="40255" y="25704"/>
                  </a:moveTo>
                  <a:cubicBezTo>
                    <a:pt x="40302" y="27071"/>
                    <a:pt x="37434" y="26917"/>
                    <a:pt x="37416" y="29949"/>
                  </a:cubicBezTo>
                  <a:moveTo>
                    <a:pt x="41834" y="15213"/>
                  </a:moveTo>
                  <a:cubicBezTo>
                    <a:pt x="41509" y="16245"/>
                    <a:pt x="41014" y="17161"/>
                    <a:pt x="40386" y="17889"/>
                  </a:cubicBezTo>
                  <a:moveTo>
                    <a:pt x="38360" y="5285"/>
                  </a:moveTo>
                  <a:cubicBezTo>
                    <a:pt x="38415" y="5702"/>
                    <a:pt x="38441" y="6125"/>
                    <a:pt x="38436" y="6549"/>
                  </a:cubicBezTo>
                  <a:moveTo>
                    <a:pt x="29114" y="3811"/>
                  </a:moveTo>
                  <a:cubicBezTo>
                    <a:pt x="29303" y="3228"/>
                    <a:pt x="29552" y="2685"/>
                    <a:pt x="29856" y="2199"/>
                  </a:cubicBezTo>
                  <a:moveTo>
                    <a:pt x="22177" y="4579"/>
                  </a:moveTo>
                  <a:cubicBezTo>
                    <a:pt x="22254" y="4097"/>
                    <a:pt x="22375" y="3630"/>
                    <a:pt x="22536" y="3189"/>
                  </a:cubicBezTo>
                  <a:moveTo>
                    <a:pt x="14036" y="5051"/>
                  </a:moveTo>
                  <a:cubicBezTo>
                    <a:pt x="14508" y="5427"/>
                    <a:pt x="14944" y="5880"/>
                    <a:pt x="15336" y="6399"/>
                  </a:cubicBezTo>
                  <a:moveTo>
                    <a:pt x="4163" y="15648"/>
                  </a:moveTo>
                  <a:cubicBezTo>
                    <a:pt x="4060" y="15184"/>
                    <a:pt x="3984" y="14710"/>
                    <a:pt x="3936" y="14229"/>
                  </a:cubicBezTo>
                </a:path>
              </a:pathLst>
            </a:custGeom>
            <a:solidFill>
              <a:srgbClr val="ffffbd"/>
            </a:solidFill>
            <a:ln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757" name="文本框 12"/>
            <p:cNvSpPr/>
            <p:nvPr/>
          </p:nvSpPr>
          <p:spPr>
            <a:xfrm>
              <a:off x="4219560" y="5107680"/>
              <a:ext cx="1156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十分警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8" name="组合 10"/>
          <p:cNvGrpSpPr/>
          <p:nvPr/>
        </p:nvGrpSpPr>
        <p:grpSpPr>
          <a:xfrm>
            <a:off x="6400800" y="4728600"/>
            <a:ext cx="2085480" cy="1434600"/>
            <a:chOff x="6400800" y="4728600"/>
            <a:chExt cx="2085480" cy="1434600"/>
          </a:xfrm>
        </p:grpSpPr>
        <p:sp>
          <p:nvSpPr>
            <p:cNvPr id="1759" name="线形标注 1 19"/>
            <p:cNvSpPr/>
            <p:nvPr/>
          </p:nvSpPr>
          <p:spPr>
            <a:xfrm>
              <a:off x="6400800" y="4728600"/>
              <a:ext cx="2085480" cy="1434600"/>
            </a:xfrm>
            <a:prstGeom prst="borderCallout1">
              <a:avLst>
                <a:gd name="adj1" fmla="val -8890"/>
                <a:gd name="adj2" fmla="val 50604"/>
                <a:gd name="adj3" fmla="val -66739"/>
                <a:gd name="adj4" fmla="val 38616"/>
              </a:avLst>
            </a:prstGeom>
            <a:noFill/>
            <a:ln w="19050">
              <a:solidFill>
                <a:srgbClr val="2bb72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760" name="文本框 20"/>
            <p:cNvSpPr/>
            <p:nvPr/>
          </p:nvSpPr>
          <p:spPr>
            <a:xfrm>
              <a:off x="7396560" y="4728600"/>
              <a:ext cx="36684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64444"/>
                  </a:solidFill>
                  <a:latin typeface="宋体"/>
                  <a:ea typeface="宋体"/>
                </a:rPr>
                <a:t>动作：跑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64444"/>
                  </a:solidFill>
                  <a:latin typeface="宋体"/>
                  <a:ea typeface="宋体"/>
                </a:rPr>
                <a:t>躲、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文本框 12"/>
          <p:cNvSpPr/>
          <p:nvPr/>
        </p:nvSpPr>
        <p:spPr>
          <a:xfrm>
            <a:off x="1340280" y="45824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反应灵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文本框 12"/>
          <p:cNvSpPr/>
          <p:nvPr/>
        </p:nvSpPr>
        <p:spPr>
          <a:xfrm>
            <a:off x="1340280" y="54842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动作迅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3" name="组合 4"/>
          <p:cNvGrpSpPr/>
          <p:nvPr/>
        </p:nvGrpSpPr>
        <p:grpSpPr>
          <a:xfrm>
            <a:off x="2759040" y="4917240"/>
            <a:ext cx="766440" cy="1158840"/>
            <a:chOff x="2759040" y="4917240"/>
            <a:chExt cx="766440" cy="1158840"/>
          </a:xfrm>
        </p:grpSpPr>
        <p:sp>
          <p:nvSpPr>
            <p:cNvPr id="1764" name="右箭头 22"/>
            <p:cNvSpPr/>
            <p:nvPr/>
          </p:nvSpPr>
          <p:spPr>
            <a:xfrm rot="601200">
              <a:off x="2778120" y="4978080"/>
              <a:ext cx="728280" cy="2833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>
              <a:solidFill>
                <a:srgbClr val="ed7d3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765" name="右箭头 32"/>
            <p:cNvSpPr/>
            <p:nvPr/>
          </p:nvSpPr>
          <p:spPr>
            <a:xfrm flipV="1" rot="20998800">
              <a:off x="2778120" y="5730840"/>
              <a:ext cx="728280" cy="2833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>
              <a:solidFill>
                <a:srgbClr val="ed7d3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766" name="矩形 35"/>
          <p:cNvSpPr/>
          <p:nvPr/>
        </p:nvSpPr>
        <p:spPr>
          <a:xfrm>
            <a:off x="4216320" y="3018240"/>
            <a:ext cx="55836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6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0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6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6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6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9" dur="6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6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图片 1"/>
          <p:cNvSpPr/>
          <p:nvPr/>
        </p:nvSpPr>
        <p:spPr>
          <a:xfrm>
            <a:off x="5453280" y="3270960"/>
            <a:ext cx="2834280" cy="2517480"/>
          </a:xfrm>
          <a:prstGeom prst="snipRoundRect">
            <a:avLst>
              <a:gd name="adj1" fmla="val 16667"/>
              <a:gd name="adj2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31680"/>
          </a:effectLst>
          <a:scene3d>
            <a:camera prst="orthographicFront">
              <a:rot lat="0" lon="0" rev="60000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576360" y="486720"/>
            <a:ext cx="8073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轻快极了，总是小跳着前进，有时也连蹦带跑。它们的爪子是那样锐利，动作是那样敏捷，一棵很光滑的高树，一忽儿就爬上去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文本框 3"/>
          <p:cNvSpPr/>
          <p:nvPr/>
        </p:nvSpPr>
        <p:spPr>
          <a:xfrm>
            <a:off x="5745240" y="895320"/>
            <a:ext cx="29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文本框 4"/>
          <p:cNvSpPr/>
          <p:nvPr/>
        </p:nvSpPr>
        <p:spPr>
          <a:xfrm>
            <a:off x="2202480" y="1722960"/>
            <a:ext cx="41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··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1" name="组合 9"/>
          <p:cNvGrpSpPr/>
          <p:nvPr/>
        </p:nvGrpSpPr>
        <p:grpSpPr>
          <a:xfrm>
            <a:off x="716040" y="4339080"/>
            <a:ext cx="1414080" cy="1212480"/>
            <a:chOff x="716040" y="4339080"/>
            <a:chExt cx="1414080" cy="1212480"/>
          </a:xfrm>
        </p:grpSpPr>
        <p:sp>
          <p:nvSpPr>
            <p:cNvPr id="1772" name="云形 5"/>
            <p:cNvSpPr/>
            <p:nvPr/>
          </p:nvSpPr>
          <p:spPr>
            <a:xfrm>
              <a:off x="716040" y="4339080"/>
              <a:ext cx="1414080" cy="1212480"/>
            </a:xfrm>
            <a:prstGeom prst="cloud">
              <a:avLst/>
            </a:prstGeom>
            <a:solidFill>
              <a:srgbClr val="ffffbd"/>
            </a:solidFill>
            <a:ln>
              <a:solidFill>
                <a:srgbClr val="ed7d3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773" name="矩形 7"/>
            <p:cNvSpPr/>
            <p:nvPr/>
          </p:nvSpPr>
          <p:spPr>
            <a:xfrm>
              <a:off x="1050840" y="4468320"/>
              <a:ext cx="729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动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4" name="组合 6"/>
          <p:cNvGrpSpPr/>
          <p:nvPr/>
        </p:nvGrpSpPr>
        <p:grpSpPr>
          <a:xfrm>
            <a:off x="2388600" y="4251600"/>
            <a:ext cx="1153440" cy="1453320"/>
            <a:chOff x="2388600" y="4251600"/>
            <a:chExt cx="1153440" cy="1453320"/>
          </a:xfrm>
        </p:grpSpPr>
        <p:sp>
          <p:nvSpPr>
            <p:cNvPr id="1775" name="右箭头 8"/>
            <p:cNvSpPr/>
            <p:nvPr/>
          </p:nvSpPr>
          <p:spPr>
            <a:xfrm rot="20622000">
              <a:off x="2395440" y="4406760"/>
              <a:ext cx="1139400" cy="2134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776" name="右箭头 10"/>
            <p:cNvSpPr/>
            <p:nvPr/>
          </p:nvSpPr>
          <p:spPr>
            <a:xfrm flipV="1" rot="978000">
              <a:off x="2395440" y="5335560"/>
              <a:ext cx="1139400" cy="2134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777" name="组合 16"/>
          <p:cNvGrpSpPr/>
          <p:nvPr/>
        </p:nvGrpSpPr>
        <p:grpSpPr>
          <a:xfrm>
            <a:off x="3751200" y="3900960"/>
            <a:ext cx="1283760" cy="878040"/>
            <a:chOff x="3751200" y="3900960"/>
            <a:chExt cx="1283760" cy="878040"/>
          </a:xfrm>
        </p:grpSpPr>
        <p:sp>
          <p:nvSpPr>
            <p:cNvPr id="1778" name="矩形 11"/>
            <p:cNvSpPr/>
            <p:nvPr/>
          </p:nvSpPr>
          <p:spPr>
            <a:xfrm>
              <a:off x="4030560" y="3900960"/>
              <a:ext cx="729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轻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圆角矩形 14"/>
            <p:cNvSpPr/>
            <p:nvPr/>
          </p:nvSpPr>
          <p:spPr>
            <a:xfrm>
              <a:off x="3751200" y="3917880"/>
              <a:ext cx="1283760" cy="861120"/>
            </a:xfrm>
            <a:prstGeom prst="roundRect">
              <a:avLst>
                <a:gd name="adj" fmla="val 16667"/>
              </a:avLst>
            </a:prstGeom>
            <a:noFill/>
            <a:ln w="19050">
              <a:solidFill>
                <a:srgbClr val="008e40"/>
              </a:solidFill>
              <a:prstDash val="dashDot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780" name="组合 17"/>
          <p:cNvGrpSpPr/>
          <p:nvPr/>
        </p:nvGrpSpPr>
        <p:grpSpPr>
          <a:xfrm>
            <a:off x="3751200" y="5099040"/>
            <a:ext cx="1283760" cy="878040"/>
            <a:chOff x="3751200" y="5099040"/>
            <a:chExt cx="1283760" cy="878040"/>
          </a:xfrm>
        </p:grpSpPr>
        <p:sp>
          <p:nvSpPr>
            <p:cNvPr id="1781" name="矩形 18"/>
            <p:cNvSpPr/>
            <p:nvPr/>
          </p:nvSpPr>
          <p:spPr>
            <a:xfrm>
              <a:off x="4030560" y="5099040"/>
              <a:ext cx="729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敏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圆角矩形 19"/>
            <p:cNvSpPr/>
            <p:nvPr/>
          </p:nvSpPr>
          <p:spPr>
            <a:xfrm>
              <a:off x="3751200" y="5115960"/>
              <a:ext cx="1283760" cy="861120"/>
            </a:xfrm>
            <a:prstGeom prst="roundRect">
              <a:avLst>
                <a:gd name="adj" fmla="val 16667"/>
              </a:avLst>
            </a:prstGeom>
            <a:noFill/>
            <a:ln w="19050">
              <a:solidFill>
                <a:srgbClr val="008e40"/>
              </a:solidFill>
              <a:prstDash val="dashDot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6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6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6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6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6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6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4"/>
          <p:cNvSpPr/>
          <p:nvPr/>
        </p:nvSpPr>
        <p:spPr>
          <a:xfrm>
            <a:off x="384120" y="1458360"/>
            <a:ext cx="5460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3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在秋天拾榛子，塞到老树空心的缝隙里，塞得满满的，留到冬天吃。在冬天，它们也常用爪子把雪扒开，在雪下面找榛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Rectangle 4"/>
          <p:cNvSpPr/>
          <p:nvPr/>
        </p:nvSpPr>
        <p:spPr>
          <a:xfrm>
            <a:off x="384120" y="1458360"/>
            <a:ext cx="5460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3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在秋天拾榛子，塞到老树空心的缝隙里，塞得满满的，留到冬天吃。在冬天，它们也常用爪子把雪扒开，在雪下面找榛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图片 3"/>
          <p:cNvSpPr/>
          <p:nvPr/>
        </p:nvSpPr>
        <p:spPr>
          <a:xfrm>
            <a:off x="6049440" y="727920"/>
            <a:ext cx="2523240" cy="2069280"/>
          </a:xfrm>
          <a:prstGeom prst="round1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31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6" name="组合 4"/>
          <p:cNvGrpSpPr/>
          <p:nvPr/>
        </p:nvGrpSpPr>
        <p:grpSpPr>
          <a:xfrm>
            <a:off x="1765440" y="539640"/>
            <a:ext cx="1882440" cy="770040"/>
            <a:chOff x="1765440" y="539640"/>
            <a:chExt cx="1882440" cy="770040"/>
          </a:xfrm>
        </p:grpSpPr>
        <p:sp>
          <p:nvSpPr>
            <p:cNvPr id="1787" name="文本框 7"/>
            <p:cNvSpPr/>
            <p:nvPr/>
          </p:nvSpPr>
          <p:spPr>
            <a:xfrm>
              <a:off x="2145960" y="539640"/>
              <a:ext cx="1156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6600ff"/>
                  </a:solidFill>
                  <a:latin typeface="宋体"/>
                  <a:ea typeface="宋体"/>
                </a:rPr>
                <a:t>动作描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线形标注 1 8"/>
            <p:cNvSpPr/>
            <p:nvPr/>
          </p:nvSpPr>
          <p:spPr>
            <a:xfrm>
              <a:off x="1765440" y="611640"/>
              <a:ext cx="1882440" cy="698040"/>
            </a:xfrm>
            <a:prstGeom prst="borderCallout1">
              <a:avLst>
                <a:gd name="adj1" fmla="val 106542"/>
                <a:gd name="adj2" fmla="val 47194"/>
                <a:gd name="adj3" fmla="val 147272"/>
                <a:gd name="adj4" fmla="val 97336"/>
              </a:avLst>
            </a:prstGeom>
            <a:noFill/>
            <a:ln w="19050">
              <a:solidFill>
                <a:srgbClr val="ff00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789" name="组合 2"/>
          <p:cNvGrpSpPr/>
          <p:nvPr/>
        </p:nvGrpSpPr>
        <p:grpSpPr>
          <a:xfrm>
            <a:off x="5870520" y="3236400"/>
            <a:ext cx="2814120" cy="1377720"/>
            <a:chOff x="5870520" y="3236400"/>
            <a:chExt cx="2814120" cy="1377720"/>
          </a:xfrm>
        </p:grpSpPr>
        <p:sp>
          <p:nvSpPr>
            <p:cNvPr id="1790" name="云形标注 20"/>
            <p:cNvSpPr/>
            <p:nvPr/>
          </p:nvSpPr>
          <p:spPr>
            <a:xfrm>
              <a:off x="5870520" y="3236400"/>
              <a:ext cx="2814120" cy="1377720"/>
            </a:xfrm>
            <a:prstGeom prst="cloudCallout">
              <a:avLst>
                <a:gd name="adj1" fmla="val -45201"/>
                <a:gd name="adj2" fmla="val -67929"/>
              </a:avLst>
            </a:prstGeom>
            <a:solidFill>
              <a:srgbClr val="fcfcf4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791" name="矩形 14"/>
            <p:cNvSpPr/>
            <p:nvPr/>
          </p:nvSpPr>
          <p:spPr>
            <a:xfrm>
              <a:off x="6528960" y="3509280"/>
              <a:ext cx="16441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储备食物过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组合 5"/>
          <p:cNvGrpSpPr/>
          <p:nvPr/>
        </p:nvGrpSpPr>
        <p:grpSpPr>
          <a:xfrm>
            <a:off x="6091200" y="4622760"/>
            <a:ext cx="2518920" cy="1491840"/>
            <a:chOff x="6091200" y="4622760"/>
            <a:chExt cx="2518920" cy="1491840"/>
          </a:xfrm>
        </p:grpSpPr>
        <p:sp>
          <p:nvSpPr>
            <p:cNvPr id="1793" name="爆炸形 1 19"/>
            <p:cNvSpPr/>
            <p:nvPr/>
          </p:nvSpPr>
          <p:spPr>
            <a:xfrm>
              <a:off x="6091200" y="4622760"/>
              <a:ext cx="2518920" cy="1491840"/>
            </a:xfrm>
            <a:prstGeom prst="irregularSeal1">
              <a:avLst/>
            </a:prstGeom>
            <a:solidFill>
              <a:srgbClr val="ffffbd"/>
            </a:solidFill>
            <a:ln>
              <a:solidFill>
                <a:srgbClr val="ed7d3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794" name="矩形 18"/>
            <p:cNvSpPr/>
            <p:nvPr/>
          </p:nvSpPr>
          <p:spPr>
            <a:xfrm>
              <a:off x="6960600" y="4944600"/>
              <a:ext cx="6991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400" spc="-1" strike="noStrike">
                  <a:solidFill>
                    <a:srgbClr val="008e40"/>
                  </a:solidFill>
                  <a:latin typeface="宋体"/>
                  <a:ea typeface="宋体"/>
                </a:rPr>
                <a:t>聪明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7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7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6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6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7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2" name="组合 1"/>
          <p:cNvGrpSpPr/>
          <p:nvPr/>
        </p:nvGrpSpPr>
        <p:grpSpPr>
          <a:xfrm>
            <a:off x="48240" y="144000"/>
            <a:ext cx="2334240" cy="1185120"/>
            <a:chOff x="48240" y="144000"/>
            <a:chExt cx="2334240" cy="1185120"/>
          </a:xfrm>
        </p:grpSpPr>
        <p:pic>
          <p:nvPicPr>
            <p:cNvPr id="1483" name="图片 7" descr=""/>
            <p:cNvPicPr/>
            <p:nvPr/>
          </p:nvPicPr>
          <p:blipFill>
            <a:blip r:embed="rId1"/>
            <a:stretch/>
          </p:blipFill>
          <p:spPr>
            <a:xfrm>
              <a:off x="153360" y="162000"/>
              <a:ext cx="18637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4" name="图片 8" descr="小天使.png"/>
            <p:cNvPicPr/>
            <p:nvPr/>
          </p:nvPicPr>
          <p:blipFill>
            <a:blip r:embed="rId2"/>
            <a:stretch/>
          </p:blipFill>
          <p:spPr>
            <a:xfrm>
              <a:off x="1627920" y="144000"/>
              <a:ext cx="75456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图片 9" descr=""/>
            <p:cNvPicPr/>
            <p:nvPr/>
          </p:nvPicPr>
          <p:blipFill>
            <a:blip r:embed="rId3"/>
            <a:stretch/>
          </p:blipFill>
          <p:spPr>
            <a:xfrm rot="21136800">
              <a:off x="86760" y="685800"/>
              <a:ext cx="306720" cy="5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6" name="文本框 6"/>
            <p:cNvSpPr/>
            <p:nvPr/>
          </p:nvSpPr>
          <p:spPr>
            <a:xfrm>
              <a:off x="578880" y="2383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b0f0"/>
                  </a:solidFill>
                  <a:latin typeface="黑体"/>
                  <a:ea typeface="黑体"/>
                </a:rPr>
                <a:t>作者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7" name="文本框 6"/>
          <p:cNvSpPr/>
          <p:nvPr/>
        </p:nvSpPr>
        <p:spPr>
          <a:xfrm>
            <a:off x="2770200" y="766080"/>
            <a:ext cx="618948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布封  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707—178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世纪法国著名的博物学家、作家。他毕生从事博物学研究，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时间写出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册巨著《自然史》，开创了现代地质学的先河，其中关于生物的描写，对后来的进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论有直接影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图片 7"/>
          <p:cNvSpPr/>
          <p:nvPr/>
        </p:nvSpPr>
        <p:spPr>
          <a:xfrm flipH="1">
            <a:off x="431280" y="1740240"/>
            <a:ext cx="2197080" cy="3729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5"/>
          <p:cNvSpPr/>
          <p:nvPr/>
        </p:nvSpPr>
        <p:spPr>
          <a:xfrm>
            <a:off x="4638600" y="876240"/>
            <a:ext cx="42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的窝通常搭在树枝分杈的地方，又干净又暖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5"/>
          <p:cNvSpPr/>
          <p:nvPr/>
        </p:nvSpPr>
        <p:spPr>
          <a:xfrm>
            <a:off x="4638600" y="876240"/>
            <a:ext cx="42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的窝通常搭在树枝分杈的地方，又干净又暖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图片 5"/>
          <p:cNvSpPr/>
          <p:nvPr/>
        </p:nvSpPr>
        <p:spPr>
          <a:xfrm flipH="1">
            <a:off x="504360" y="733680"/>
            <a:ext cx="3887640" cy="3257640"/>
          </a:xfrm>
          <a:prstGeom prst="round2Same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组合 2"/>
          <p:cNvGrpSpPr/>
          <p:nvPr/>
        </p:nvGrpSpPr>
        <p:grpSpPr>
          <a:xfrm>
            <a:off x="1166760" y="4264920"/>
            <a:ext cx="2993760" cy="1684440"/>
            <a:chOff x="1166760" y="4264920"/>
            <a:chExt cx="2993760" cy="1684440"/>
          </a:xfrm>
        </p:grpSpPr>
        <p:sp>
          <p:nvSpPr>
            <p:cNvPr id="1799" name="云形标注 9"/>
            <p:cNvSpPr/>
            <p:nvPr/>
          </p:nvSpPr>
          <p:spPr>
            <a:xfrm flipH="1">
              <a:off x="1166760" y="4264920"/>
              <a:ext cx="2993760" cy="1684440"/>
            </a:xfrm>
            <a:custGeom>
              <a:avLst/>
              <a:gdLst>
                <a:gd name="textAreaLeft" fmla="*/ 360 w 2993760"/>
                <a:gd name="textAreaRight" fmla="*/ 2994480 w 2993760"/>
                <a:gd name="textAreaTop" fmla="*/ 0 h 1684440"/>
                <a:gd name="textAreaBottom" fmla="*/ 1684800 h 1684440"/>
              </a:gdLst>
              <a:ahLst/>
              <a:rect l="textAreaLeft" t="textAreaTop" r="textAreaRight" b="textAreaBottom"/>
              <a:pathLst>
                <a:path w="46061" h="48781">
                  <a:moveTo>
                    <a:pt x="6741" y="19791"/>
                  </a:moveTo>
                  <a:cubicBezTo>
                    <a:pt x="6470" y="17078"/>
                    <a:pt x="7102" y="14342"/>
                    <a:pt x="8464" y="12328"/>
                  </a:cubicBezTo>
                  <a:cubicBezTo>
                    <a:pt x="10616" y="9147"/>
                    <a:pt x="14105" y="8438"/>
                    <a:pt x="16846" y="10623"/>
                  </a:cubicBezTo>
                  <a:cubicBezTo>
                    <a:pt x="18519" y="6330"/>
                    <a:pt x="22755" y="5443"/>
                    <a:pt x="25297" y="8853"/>
                  </a:cubicBezTo>
                  <a:cubicBezTo>
                    <a:pt x="25938" y="7104"/>
                    <a:pt x="27169" y="5895"/>
                    <a:pt x="28590" y="5621"/>
                  </a:cubicBezTo>
                  <a:cubicBezTo>
                    <a:pt x="30154" y="5319"/>
                    <a:pt x="31716" y="6191"/>
                    <a:pt x="32674" y="7902"/>
                  </a:cubicBezTo>
                  <a:cubicBezTo>
                    <a:pt x="34056" y="5688"/>
                    <a:pt x="36342" y="4961"/>
                    <a:pt x="38304" y="6111"/>
                  </a:cubicBezTo>
                  <a:cubicBezTo>
                    <a:pt x="39799" y="6987"/>
                    <a:pt x="40871" y="8821"/>
                    <a:pt x="41159" y="10997"/>
                  </a:cubicBezTo>
                  <a:cubicBezTo>
                    <a:pt x="42887" y="11639"/>
                    <a:pt x="44263" y="13419"/>
                    <a:pt x="44823" y="15739"/>
                  </a:cubicBezTo>
                  <a:cubicBezTo>
                    <a:pt x="45230" y="17423"/>
                    <a:pt x="45172" y="19252"/>
                    <a:pt x="44659" y="20881"/>
                  </a:cubicBezTo>
                  <a:cubicBezTo>
                    <a:pt x="45920" y="23115"/>
                    <a:pt x="46361" y="26011"/>
                    <a:pt x="45857" y="28743"/>
                  </a:cubicBezTo>
                  <a:cubicBezTo>
                    <a:pt x="45187" y="32375"/>
                    <a:pt x="42969" y="35095"/>
                    <a:pt x="40245" y="35625"/>
                  </a:cubicBezTo>
                  <a:cubicBezTo>
                    <a:pt x="40232" y="37892"/>
                    <a:pt x="39499" y="40042"/>
                    <a:pt x="38236" y="41522"/>
                  </a:cubicBezTo>
                  <a:cubicBezTo>
                    <a:pt x="36317" y="43771"/>
                    <a:pt x="33545" y="44060"/>
                    <a:pt x="31396" y="42236"/>
                  </a:cubicBezTo>
                  <a:cubicBezTo>
                    <a:pt x="30701" y="45369"/>
                    <a:pt x="28840" y="47764"/>
                    <a:pt x="26508" y="48527"/>
                  </a:cubicBezTo>
                  <a:cubicBezTo>
                    <a:pt x="23760" y="49426"/>
                    <a:pt x="20892" y="47894"/>
                    <a:pt x="19321" y="44687"/>
                  </a:cubicBezTo>
                  <a:cubicBezTo>
                    <a:pt x="15613" y="47731"/>
                    <a:pt x="10797" y="46020"/>
                    <a:pt x="8645" y="40893"/>
                  </a:cubicBezTo>
                  <a:cubicBezTo>
                    <a:pt x="6531" y="41230"/>
                    <a:pt x="4546" y="39445"/>
                    <a:pt x="3951" y="36671"/>
                  </a:cubicBezTo>
                  <a:cubicBezTo>
                    <a:pt x="3520" y="34664"/>
                    <a:pt x="3901" y="32498"/>
                    <a:pt x="4954" y="30972"/>
                  </a:cubicBezTo>
                  <a:cubicBezTo>
                    <a:pt x="3460" y="29775"/>
                    <a:pt x="2628" y="27478"/>
                    <a:pt x="2836" y="25125"/>
                  </a:cubicBezTo>
                  <a:cubicBezTo>
                    <a:pt x="3080" y="22370"/>
                    <a:pt x="4686" y="20212"/>
                    <a:pt x="6704" y="19928"/>
                  </a:cubicBezTo>
                  <a:cubicBezTo>
                    <a:pt x="6716" y="19882"/>
                    <a:pt x="6729" y="19837"/>
                    <a:pt x="6741" y="19791"/>
                  </a:cubicBezTo>
                  <a:close/>
                </a:path>
                <a:path w="2994743" h="1262311">
                  <a:moveTo>
                    <a:pt x="62104" y="31052"/>
                  </a:moveTo>
                  <a:cubicBezTo>
                    <a:pt x="62104" y="48202"/>
                    <a:pt x="48202" y="62104"/>
                    <a:pt x="31052" y="62104"/>
                  </a:cubicBezTo>
                  <a:cubicBezTo>
                    <a:pt x="13902" y="62104"/>
                    <a:pt x="0" y="48202"/>
                    <a:pt x="0" y="31052"/>
                  </a:cubicBezTo>
                  <a:cubicBezTo>
                    <a:pt x="0" y="13902"/>
                    <a:pt x="13902" y="0"/>
                    <a:pt x="31052" y="0"/>
                  </a:cubicBezTo>
                  <a:cubicBezTo>
                    <a:pt x="48202" y="0"/>
                    <a:pt x="62104" y="13902"/>
                    <a:pt x="62104" y="31052"/>
                  </a:cubicBezTo>
                  <a:close/>
                </a:path>
                <a:path w="2994743" h="1262311">
                  <a:moveTo>
                    <a:pt x="275033" y="109052"/>
                  </a:moveTo>
                  <a:cubicBezTo>
                    <a:pt x="275033" y="143351"/>
                    <a:pt x="247228" y="171156"/>
                    <a:pt x="212929" y="171156"/>
                  </a:cubicBezTo>
                  <a:cubicBezTo>
                    <a:pt x="178630" y="171156"/>
                    <a:pt x="150825" y="143351"/>
                    <a:pt x="150825" y="109052"/>
                  </a:cubicBezTo>
                  <a:cubicBezTo>
                    <a:pt x="150825" y="74753"/>
                    <a:pt x="178630" y="46948"/>
                    <a:pt x="212929" y="46948"/>
                  </a:cubicBezTo>
                  <a:cubicBezTo>
                    <a:pt x="247228" y="46948"/>
                    <a:pt x="275033" y="74753"/>
                    <a:pt x="275033" y="109052"/>
                  </a:cubicBezTo>
                  <a:close/>
                </a:path>
                <a:path w="2994743" h="1262311">
                  <a:moveTo>
                    <a:pt x="545039" y="211531"/>
                  </a:moveTo>
                  <a:cubicBezTo>
                    <a:pt x="545039" y="262980"/>
                    <a:pt x="503331" y="304688"/>
                    <a:pt x="451882" y="304688"/>
                  </a:cubicBezTo>
                  <a:cubicBezTo>
                    <a:pt x="400433" y="304688"/>
                    <a:pt x="358725" y="262980"/>
                    <a:pt x="358725" y="211531"/>
                  </a:cubicBezTo>
                  <a:cubicBezTo>
                    <a:pt x="358725" y="160082"/>
                    <a:pt x="400433" y="118374"/>
                    <a:pt x="451882" y="118374"/>
                  </a:cubicBezTo>
                  <a:cubicBezTo>
                    <a:pt x="503331" y="118374"/>
                    <a:pt x="545039" y="160082"/>
                    <a:pt x="545039" y="211531"/>
                  </a:cubicBezTo>
                  <a:close/>
                </a:path>
                <a:path fill="none" w="46061" h="48781">
                  <a:moveTo>
                    <a:pt x="7534" y="31598"/>
                  </a:moveTo>
                  <a:cubicBezTo>
                    <a:pt x="6650" y="31692"/>
                    <a:pt x="5766" y="31414"/>
                    <a:pt x="5001" y="30801"/>
                  </a:cubicBezTo>
                  <a:moveTo>
                    <a:pt x="9769" y="40320"/>
                  </a:moveTo>
                  <a:cubicBezTo>
                    <a:pt x="9414" y="40513"/>
                    <a:pt x="9041" y="40641"/>
                    <a:pt x="8661" y="40701"/>
                  </a:cubicBezTo>
                  <a:moveTo>
                    <a:pt x="19319" y="44511"/>
                  </a:moveTo>
                  <a:cubicBezTo>
                    <a:pt x="19052" y="43965"/>
                    <a:pt x="18828" y="43382"/>
                    <a:pt x="18651" y="42771"/>
                  </a:cubicBezTo>
                  <a:moveTo>
                    <a:pt x="31668" y="40172"/>
                  </a:moveTo>
                  <a:cubicBezTo>
                    <a:pt x="31629" y="40819"/>
                    <a:pt x="31539" y="41459"/>
                    <a:pt x="31401" y="42081"/>
                  </a:cubicBezTo>
                  <a:moveTo>
                    <a:pt x="40279" y="33312"/>
                  </a:moveTo>
                  <a:cubicBezTo>
                    <a:pt x="40732" y="33601"/>
                    <a:pt x="40239" y="32479"/>
                    <a:pt x="40221" y="35511"/>
                  </a:cubicBezTo>
                  <a:moveTo>
                    <a:pt x="44639" y="20775"/>
                  </a:moveTo>
                  <a:cubicBezTo>
                    <a:pt x="44314" y="21807"/>
                    <a:pt x="43819" y="22723"/>
                    <a:pt x="43191" y="23451"/>
                  </a:cubicBezTo>
                  <a:moveTo>
                    <a:pt x="41165" y="10847"/>
                  </a:moveTo>
                  <a:cubicBezTo>
                    <a:pt x="41220" y="11264"/>
                    <a:pt x="41246" y="11687"/>
                    <a:pt x="41241" y="12111"/>
                  </a:cubicBezTo>
                  <a:moveTo>
                    <a:pt x="31919" y="9373"/>
                  </a:moveTo>
                  <a:cubicBezTo>
                    <a:pt x="32108" y="8790"/>
                    <a:pt x="32357" y="8247"/>
                    <a:pt x="32661" y="7761"/>
                  </a:cubicBezTo>
                  <a:moveTo>
                    <a:pt x="24982" y="10141"/>
                  </a:moveTo>
                  <a:cubicBezTo>
                    <a:pt x="25059" y="9659"/>
                    <a:pt x="25180" y="9192"/>
                    <a:pt x="25341" y="8751"/>
                  </a:cubicBezTo>
                  <a:moveTo>
                    <a:pt x="16841" y="10613"/>
                  </a:moveTo>
                  <a:cubicBezTo>
                    <a:pt x="17313" y="10989"/>
                    <a:pt x="17749" y="11442"/>
                    <a:pt x="18141" y="11961"/>
                  </a:cubicBezTo>
                  <a:moveTo>
                    <a:pt x="6968" y="21210"/>
                  </a:moveTo>
                  <a:cubicBezTo>
                    <a:pt x="6865" y="20746"/>
                    <a:pt x="6789" y="20272"/>
                    <a:pt x="6741" y="19791"/>
                  </a:cubicBezTo>
                </a:path>
              </a:pathLst>
            </a:custGeom>
            <a:noFill/>
            <a:ln w="19050"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00" name="矩形 6"/>
            <p:cNvSpPr/>
            <p:nvPr/>
          </p:nvSpPr>
          <p:spPr>
            <a:xfrm>
              <a:off x="1951200" y="4798080"/>
              <a:ext cx="12175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4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松鼠搭窝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组合 3"/>
          <p:cNvGrpSpPr/>
          <p:nvPr/>
        </p:nvGrpSpPr>
        <p:grpSpPr>
          <a:xfrm>
            <a:off x="5354640" y="4025880"/>
            <a:ext cx="2700000" cy="1917360"/>
            <a:chOff x="5354640" y="4025880"/>
            <a:chExt cx="2700000" cy="1917360"/>
          </a:xfrm>
        </p:grpSpPr>
        <p:sp>
          <p:nvSpPr>
            <p:cNvPr id="1802" name="爆炸形 1 7"/>
            <p:cNvSpPr/>
            <p:nvPr/>
          </p:nvSpPr>
          <p:spPr>
            <a:xfrm>
              <a:off x="5354640" y="4025880"/>
              <a:ext cx="2700000" cy="1917360"/>
            </a:xfrm>
            <a:prstGeom prst="irregularSeal1">
              <a:avLst/>
            </a:prstGeom>
            <a:solidFill>
              <a:srgbClr val="ffffbd"/>
            </a:solidFill>
            <a:ln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03" name="Rectangle 5"/>
            <p:cNvSpPr/>
            <p:nvPr/>
          </p:nvSpPr>
          <p:spPr>
            <a:xfrm>
              <a:off x="6132600" y="4385880"/>
              <a:ext cx="113148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</a:pPr>
              <a:r>
                <a:rPr b="1" lang="zh-CN" sz="3600" spc="-1" strike="noStrike">
                  <a:solidFill>
                    <a:srgbClr val="008e40"/>
                  </a:solidFill>
                  <a:latin typeface="微软雅黑"/>
                  <a:ea typeface="微软雅黑"/>
                </a:rPr>
                <a:t>选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4" dur="600"/>
                                        <p:tgtEl>
                                          <p:spTgt spid="1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7" dur="6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6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7" dur="600"/>
                                        <p:tgtEl>
                                          <p:spTgt spid="1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矩形 1"/>
          <p:cNvSpPr/>
          <p:nvPr/>
        </p:nvSpPr>
        <p:spPr>
          <a:xfrm>
            <a:off x="779400" y="569520"/>
            <a:ext cx="7878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它们搭窝的时候，先搬些小木片，错杂着放在一起，再用一些干苔藓编扎起来，然后把苔藓挤紧，踏平，使那建筑物足够宽敞，足够坚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椭圆 3"/>
          <p:cNvSpPr/>
          <p:nvPr/>
        </p:nvSpPr>
        <p:spPr>
          <a:xfrm>
            <a:off x="4921200" y="668880"/>
            <a:ext cx="477360" cy="691920"/>
          </a:xfrm>
          <a:prstGeom prst="ellipse">
            <a:avLst/>
          </a:prstGeom>
          <a:noFill/>
          <a:ln w="28575">
            <a:solidFill>
              <a:srgbClr val="ff00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806" name="椭圆 4"/>
          <p:cNvSpPr/>
          <p:nvPr/>
        </p:nvSpPr>
        <p:spPr>
          <a:xfrm>
            <a:off x="3699000" y="1464840"/>
            <a:ext cx="474480" cy="689760"/>
          </a:xfrm>
          <a:prstGeom prst="ellipse">
            <a:avLst/>
          </a:prstGeom>
          <a:noFill/>
          <a:ln w="28575">
            <a:solidFill>
              <a:srgbClr val="ff00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807" name="椭圆 5"/>
          <p:cNvSpPr/>
          <p:nvPr/>
        </p:nvSpPr>
        <p:spPr>
          <a:xfrm>
            <a:off x="736560" y="2154600"/>
            <a:ext cx="1001520" cy="757440"/>
          </a:xfrm>
          <a:prstGeom prst="ellipse">
            <a:avLst/>
          </a:prstGeom>
          <a:noFill/>
          <a:ln w="28575">
            <a:solidFill>
              <a:srgbClr val="ff00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1808" name="组合 7"/>
          <p:cNvGrpSpPr/>
          <p:nvPr/>
        </p:nvGrpSpPr>
        <p:grpSpPr>
          <a:xfrm>
            <a:off x="692280" y="3875760"/>
            <a:ext cx="7878240" cy="2382840"/>
            <a:chOff x="692280" y="3875760"/>
            <a:chExt cx="7878240" cy="2382840"/>
          </a:xfrm>
        </p:grpSpPr>
        <p:sp>
          <p:nvSpPr>
            <p:cNvPr id="1809" name="圆角矩形 6"/>
            <p:cNvSpPr/>
            <p:nvPr/>
          </p:nvSpPr>
          <p:spPr>
            <a:xfrm>
              <a:off x="826920" y="3875760"/>
              <a:ext cx="7499160" cy="2382840"/>
            </a:xfrm>
            <a:prstGeom prst="roundRect">
              <a:avLst>
                <a:gd name="adj" fmla="val 16667"/>
              </a:avLst>
            </a:prstGeom>
            <a:solidFill>
              <a:srgbClr val="ffe1f0"/>
            </a:solidFill>
            <a:ln>
              <a:solidFill>
                <a:srgbClr val="ff00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10" name="矩形 1"/>
            <p:cNvSpPr/>
            <p:nvPr/>
          </p:nvSpPr>
          <p:spPr>
            <a:xfrm>
              <a:off x="692280" y="3875760"/>
              <a:ext cx="787824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　　</a:t>
              </a:r>
              <a:r>
                <a:rPr b="1" lang="zh-CN" sz="3200" spc="-100" strike="noStrike">
                  <a:solidFill>
                    <a:srgbClr val="0000ff"/>
                  </a:solidFill>
                  <a:latin typeface="宋体"/>
                  <a:ea typeface="宋体"/>
                </a:rPr>
                <a:t>这句话用表示时间顺序的“先”“再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“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然后”等词语介绍了松鼠搭窝的过程，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很有条理性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7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7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2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7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7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7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矩形 2"/>
          <p:cNvSpPr/>
          <p:nvPr/>
        </p:nvSpPr>
        <p:spPr>
          <a:xfrm>
            <a:off x="533520" y="599040"/>
            <a:ext cx="4574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这样，它们可以带着儿女住在里面，既舒适又安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2" name="组合 6"/>
          <p:cNvGrpSpPr/>
          <p:nvPr/>
        </p:nvGrpSpPr>
        <p:grpSpPr>
          <a:xfrm>
            <a:off x="612720" y="4161240"/>
            <a:ext cx="1719000" cy="1491840"/>
            <a:chOff x="612720" y="4161240"/>
            <a:chExt cx="1719000" cy="1491840"/>
          </a:xfrm>
        </p:grpSpPr>
        <p:sp>
          <p:nvSpPr>
            <p:cNvPr id="1813" name="云形 5"/>
            <p:cNvSpPr/>
            <p:nvPr/>
          </p:nvSpPr>
          <p:spPr>
            <a:xfrm>
              <a:off x="612720" y="4161240"/>
              <a:ext cx="1719000" cy="1491840"/>
            </a:xfrm>
            <a:prstGeom prst="cloud">
              <a:avLst/>
            </a:prstGeom>
            <a:solidFill>
              <a:srgbClr val="ffffbd"/>
            </a:solidFill>
            <a:ln w="19050">
              <a:solidFill>
                <a:srgbClr val="ed7d3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14" name="矩形 5"/>
            <p:cNvSpPr/>
            <p:nvPr/>
          </p:nvSpPr>
          <p:spPr>
            <a:xfrm>
              <a:off x="1076400" y="4424400"/>
              <a:ext cx="729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居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5" name="图片 1"/>
          <p:cNvSpPr/>
          <p:nvPr/>
        </p:nvSpPr>
        <p:spPr>
          <a:xfrm rot="21268800">
            <a:off x="5438520" y="1022040"/>
            <a:ext cx="3092400" cy="34012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6" name="组合 10"/>
          <p:cNvGrpSpPr/>
          <p:nvPr/>
        </p:nvGrpSpPr>
        <p:grpSpPr>
          <a:xfrm>
            <a:off x="2433960" y="4135320"/>
            <a:ext cx="1048320" cy="1423440"/>
            <a:chOff x="2433960" y="4135320"/>
            <a:chExt cx="1048320" cy="1423440"/>
          </a:xfrm>
        </p:grpSpPr>
        <p:sp>
          <p:nvSpPr>
            <p:cNvPr id="1817" name="右箭头 11"/>
            <p:cNvSpPr/>
            <p:nvPr/>
          </p:nvSpPr>
          <p:spPr>
            <a:xfrm rot="20622000">
              <a:off x="2442960" y="4275360"/>
              <a:ext cx="1029960" cy="2134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18" name="右箭头 12"/>
            <p:cNvSpPr/>
            <p:nvPr/>
          </p:nvSpPr>
          <p:spPr>
            <a:xfrm flipV="1" rot="978000">
              <a:off x="2442960" y="5204880"/>
              <a:ext cx="1029960" cy="2134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819" name="组合 13"/>
          <p:cNvGrpSpPr/>
          <p:nvPr/>
        </p:nvGrpSpPr>
        <p:grpSpPr>
          <a:xfrm>
            <a:off x="3699000" y="3769920"/>
            <a:ext cx="1283760" cy="878040"/>
            <a:chOff x="3699000" y="3769920"/>
            <a:chExt cx="1283760" cy="878040"/>
          </a:xfrm>
        </p:grpSpPr>
        <p:sp>
          <p:nvSpPr>
            <p:cNvPr id="1820" name="矩形 14"/>
            <p:cNvSpPr/>
            <p:nvPr/>
          </p:nvSpPr>
          <p:spPr>
            <a:xfrm>
              <a:off x="3978360" y="3769920"/>
              <a:ext cx="729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ff"/>
                  </a:solidFill>
                  <a:latin typeface="微软雅黑"/>
                  <a:ea typeface="宋体"/>
                </a:rPr>
                <a:t>舒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圆角矩形 15"/>
            <p:cNvSpPr/>
            <p:nvPr/>
          </p:nvSpPr>
          <p:spPr>
            <a:xfrm>
              <a:off x="3699000" y="3786840"/>
              <a:ext cx="1283760" cy="861120"/>
            </a:xfrm>
            <a:prstGeom prst="roundRect">
              <a:avLst>
                <a:gd name="adj" fmla="val 16667"/>
              </a:avLst>
            </a:prstGeom>
            <a:noFill/>
            <a:ln w="19050">
              <a:solidFill>
                <a:srgbClr val="008e40"/>
              </a:solidFill>
              <a:prstDash val="dashDot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822" name="组合 16"/>
          <p:cNvGrpSpPr/>
          <p:nvPr/>
        </p:nvGrpSpPr>
        <p:grpSpPr>
          <a:xfrm>
            <a:off x="3699000" y="4967640"/>
            <a:ext cx="1283760" cy="878400"/>
            <a:chOff x="3699000" y="4967640"/>
            <a:chExt cx="1283760" cy="878400"/>
          </a:xfrm>
        </p:grpSpPr>
        <p:sp>
          <p:nvSpPr>
            <p:cNvPr id="1823" name="矩形 17"/>
            <p:cNvSpPr/>
            <p:nvPr/>
          </p:nvSpPr>
          <p:spPr>
            <a:xfrm>
              <a:off x="3978360" y="4967640"/>
              <a:ext cx="729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ff"/>
                  </a:solidFill>
                  <a:latin typeface="微软雅黑"/>
                  <a:ea typeface="宋体"/>
                </a:rPr>
                <a:t>安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圆角矩形 18"/>
            <p:cNvSpPr/>
            <p:nvPr/>
          </p:nvSpPr>
          <p:spPr>
            <a:xfrm>
              <a:off x="3699000" y="4984920"/>
              <a:ext cx="1283760" cy="861120"/>
            </a:xfrm>
            <a:prstGeom prst="roundRect">
              <a:avLst>
                <a:gd name="adj" fmla="val 16667"/>
              </a:avLst>
            </a:prstGeom>
            <a:noFill/>
            <a:ln w="19050">
              <a:solidFill>
                <a:srgbClr val="008e40"/>
              </a:solidFill>
              <a:prstDash val="dashDot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0" dur="6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3" dur="6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1" dur="6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6" dur="6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矩形 2"/>
          <p:cNvSpPr/>
          <p:nvPr/>
        </p:nvSpPr>
        <p:spPr>
          <a:xfrm>
            <a:off x="317520" y="452880"/>
            <a:ext cx="844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窝口朝上，端端正正，很狭窄，勉强可以进出。窝口有一个圆锥形的盖，把整个窝遮蔽起来，下雨时雨水向四周流去，不会落在窝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组合 4"/>
          <p:cNvGrpSpPr/>
          <p:nvPr/>
        </p:nvGrpSpPr>
        <p:grpSpPr>
          <a:xfrm>
            <a:off x="450720" y="4186800"/>
            <a:ext cx="8497800" cy="1946880"/>
            <a:chOff x="450720" y="4186800"/>
            <a:chExt cx="8497800" cy="1946880"/>
          </a:xfrm>
        </p:grpSpPr>
        <p:sp>
          <p:nvSpPr>
            <p:cNvPr id="1827" name="圆角矩形 2"/>
            <p:cNvSpPr/>
            <p:nvPr/>
          </p:nvSpPr>
          <p:spPr>
            <a:xfrm>
              <a:off x="450720" y="4195080"/>
              <a:ext cx="8229240" cy="1938600"/>
            </a:xfrm>
            <a:prstGeom prst="roundRect">
              <a:avLst>
                <a:gd name="adj" fmla="val 16667"/>
              </a:avLst>
            </a:prstGeom>
            <a:solidFill>
              <a:srgbClr val="ffe1f0"/>
            </a:solidFill>
            <a:ln>
              <a:solidFill>
                <a:srgbClr val="ff00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28" name="矩形 3"/>
            <p:cNvSpPr/>
            <p:nvPr/>
          </p:nvSpPr>
          <p:spPr>
            <a:xfrm>
              <a:off x="500040" y="4186800"/>
              <a:ext cx="844848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1" lang="zh-CN" sz="3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　　介绍了松鼠窝的形状及其防雨的特点，表现出窝的精巧，也突出了松鼠的聪明。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6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6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6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矩形 1"/>
          <p:cNvSpPr/>
          <p:nvPr/>
        </p:nvSpPr>
        <p:spPr>
          <a:xfrm>
            <a:off x="903240" y="2019240"/>
            <a:ext cx="758304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通常一胎生三四个。小松鼠的毛是灰褐色的，过了冬就换毛，新换的毛比脱落的毛颜色深些。它们用爪子和牙齿梳理全身的毛，身上总是光光溜溜、干干净净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4"/>
          <p:cNvSpPr/>
          <p:nvPr/>
        </p:nvSpPr>
        <p:spPr>
          <a:xfrm>
            <a:off x="469800" y="444600"/>
            <a:ext cx="77673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，了解松鼠的生活习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文本框 3"/>
          <p:cNvSpPr/>
          <p:nvPr/>
        </p:nvSpPr>
        <p:spPr>
          <a:xfrm>
            <a:off x="3586320" y="4402800"/>
            <a:ext cx="4160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光光溜溜、干干净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文本框 8"/>
          <p:cNvSpPr/>
          <p:nvPr/>
        </p:nvSpPr>
        <p:spPr>
          <a:xfrm>
            <a:off x="3254400" y="2434320"/>
            <a:ext cx="2668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····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直接连接符 13"/>
          <p:cNvCxnSpPr/>
          <p:nvPr/>
        </p:nvCxnSpPr>
        <p:spPr>
          <a:xfrm>
            <a:off x="1022040" y="3593880"/>
            <a:ext cx="7355520" cy="360"/>
          </a:xfrm>
          <a:prstGeom prst="straightConnector1">
            <a:avLst/>
          </a:prstGeom>
          <a:ln w="28575">
            <a:solidFill>
              <a:srgbClr val="00b0f0"/>
            </a:solidFill>
          </a:ln>
        </p:spPr>
      </p:cxnSp>
      <p:cxnSp>
        <p:nvCxnSpPr>
          <p:cNvPr id="1834" name="直接连接符 16"/>
          <p:cNvCxnSpPr/>
          <p:nvPr/>
        </p:nvCxnSpPr>
        <p:spPr>
          <a:xfrm>
            <a:off x="6043320" y="2817000"/>
            <a:ext cx="2323080" cy="360"/>
          </a:xfrm>
          <a:prstGeom prst="straightConnector1">
            <a:avLst/>
          </a:prstGeom>
          <a:ln w="28575">
            <a:solidFill>
              <a:srgbClr val="00b0f0"/>
            </a:solidFill>
          </a:ln>
        </p:spPr>
      </p:cxnSp>
      <p:cxnSp>
        <p:nvCxnSpPr>
          <p:cNvPr id="1835" name="直接连接符 18"/>
          <p:cNvCxnSpPr/>
          <p:nvPr/>
        </p:nvCxnSpPr>
        <p:spPr>
          <a:xfrm>
            <a:off x="1010880" y="4372920"/>
            <a:ext cx="2493000" cy="360"/>
          </a:xfrm>
          <a:prstGeom prst="straightConnector1">
            <a:avLst/>
          </a:prstGeom>
          <a:ln w="28575">
            <a:solidFill>
              <a:srgbClr val="00b0f0"/>
            </a:solidFill>
          </a:ln>
        </p:spPr>
      </p:cxnSp>
      <p:grpSp>
        <p:nvGrpSpPr>
          <p:cNvPr id="1836" name="组合 28672"/>
          <p:cNvGrpSpPr/>
          <p:nvPr/>
        </p:nvGrpSpPr>
        <p:grpSpPr>
          <a:xfrm>
            <a:off x="2333520" y="1359000"/>
            <a:ext cx="1814040" cy="729720"/>
            <a:chOff x="2333520" y="1359000"/>
            <a:chExt cx="1814040" cy="729720"/>
          </a:xfrm>
        </p:grpSpPr>
        <p:sp>
          <p:nvSpPr>
            <p:cNvPr id="1837" name="线形标注 1 19"/>
            <p:cNvSpPr/>
            <p:nvPr/>
          </p:nvSpPr>
          <p:spPr>
            <a:xfrm>
              <a:off x="2333520" y="1390680"/>
              <a:ext cx="1814040" cy="698040"/>
            </a:xfrm>
            <a:prstGeom prst="borderCallout1">
              <a:avLst>
                <a:gd name="adj1" fmla="val 76528"/>
                <a:gd name="adj2" fmla="val 100758"/>
                <a:gd name="adj3" fmla="val 111741"/>
                <a:gd name="adj4" fmla="val 135580"/>
              </a:avLst>
            </a:prstGeom>
            <a:solidFill>
              <a:srgbClr val="ffe1f0"/>
            </a:solidFill>
            <a:ln w="19050">
              <a:solidFill>
                <a:srgbClr val="ff00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38" name="文本框 20"/>
            <p:cNvSpPr/>
            <p:nvPr/>
          </p:nvSpPr>
          <p:spPr>
            <a:xfrm>
              <a:off x="2679480" y="1359000"/>
              <a:ext cx="1156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  <a:ea typeface="宋体"/>
                </a:rPr>
                <a:t>繁殖情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组合 28673"/>
          <p:cNvGrpSpPr/>
          <p:nvPr/>
        </p:nvGrpSpPr>
        <p:grpSpPr>
          <a:xfrm>
            <a:off x="6043680" y="1397160"/>
            <a:ext cx="960120" cy="729720"/>
            <a:chOff x="6043680" y="1397160"/>
            <a:chExt cx="960120" cy="729720"/>
          </a:xfrm>
        </p:grpSpPr>
        <p:sp>
          <p:nvSpPr>
            <p:cNvPr id="1840" name="线形标注 1 25"/>
            <p:cNvSpPr/>
            <p:nvPr/>
          </p:nvSpPr>
          <p:spPr>
            <a:xfrm>
              <a:off x="6043680" y="1428840"/>
              <a:ext cx="960120" cy="698040"/>
            </a:xfrm>
            <a:prstGeom prst="borderCallout1">
              <a:avLst>
                <a:gd name="adj1" fmla="val 76528"/>
                <a:gd name="adj2" fmla="val 100758"/>
                <a:gd name="adj3" fmla="val 111741"/>
                <a:gd name="adj4" fmla="val 135580"/>
              </a:avLst>
            </a:prstGeom>
            <a:gradFill rotWithShape="0">
              <a:gsLst>
                <a:gs pos="0">
                  <a:srgbClr val="f7bca4"/>
                </a:gs>
                <a:gs pos="100000">
                  <a:srgbClr val="f4b196"/>
                </a:gs>
              </a:gsLst>
              <a:lin ang="5400000"/>
            </a:gradFill>
            <a:ln>
              <a:solidFill>
                <a:srgbClr val="ed7d31"/>
              </a:solidFill>
            </a:ln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1841" name="文本框 26"/>
            <p:cNvSpPr/>
            <p:nvPr/>
          </p:nvSpPr>
          <p:spPr>
            <a:xfrm>
              <a:off x="6190920" y="1397160"/>
              <a:ext cx="668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  <a:ea typeface="宋体"/>
                </a:rPr>
                <a:t>换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2" name="组合 6"/>
          <p:cNvGrpSpPr/>
          <p:nvPr/>
        </p:nvGrpSpPr>
        <p:grpSpPr>
          <a:xfrm>
            <a:off x="1862280" y="5327640"/>
            <a:ext cx="1899720" cy="852480"/>
            <a:chOff x="1862280" y="5327640"/>
            <a:chExt cx="1899720" cy="852480"/>
          </a:xfrm>
        </p:grpSpPr>
        <p:sp>
          <p:nvSpPr>
            <p:cNvPr id="1843" name="双波形 29"/>
            <p:cNvSpPr/>
            <p:nvPr/>
          </p:nvSpPr>
          <p:spPr>
            <a:xfrm>
              <a:off x="1862280" y="5327640"/>
              <a:ext cx="1899720" cy="852480"/>
            </a:xfrm>
            <a:prstGeom prst="doubleWave">
              <a:avLst>
                <a:gd name="adj1" fmla="val 6250"/>
                <a:gd name="adj2" fmla="val 0"/>
              </a:avLst>
            </a:prstGeom>
            <a:solidFill>
              <a:srgbClr val="9933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844" name="TextBox 6"/>
            <p:cNvSpPr/>
            <p:nvPr/>
          </p:nvSpPr>
          <p:spPr>
            <a:xfrm>
              <a:off x="2224440" y="5338440"/>
              <a:ext cx="1156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讨人喜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5" name="组合 28674"/>
          <p:cNvGrpSpPr/>
          <p:nvPr/>
        </p:nvGrpSpPr>
        <p:grpSpPr>
          <a:xfrm>
            <a:off x="6219000" y="5240520"/>
            <a:ext cx="1784160" cy="1064880"/>
            <a:chOff x="6219000" y="5240520"/>
            <a:chExt cx="1784160" cy="1064880"/>
          </a:xfrm>
        </p:grpSpPr>
        <p:sp>
          <p:nvSpPr>
            <p:cNvPr id="1846" name="云形标注 27"/>
            <p:cNvSpPr/>
            <p:nvPr/>
          </p:nvSpPr>
          <p:spPr>
            <a:xfrm flipV="1" rot="21402600">
              <a:off x="6244920" y="5289120"/>
              <a:ext cx="1731600" cy="966960"/>
            </a:xfrm>
            <a:prstGeom prst="cloudCallout">
              <a:avLst>
                <a:gd name="adj1" fmla="val -79302"/>
                <a:gd name="adj2" fmla="val 73309"/>
              </a:avLst>
            </a:prstGeom>
            <a:gradFill rotWithShape="0">
              <a:gsLst>
                <a:gs pos="0">
                  <a:srgbClr val="ffda9e"/>
                </a:gs>
                <a:gs pos="100000">
                  <a:srgbClr val="ffd590"/>
                </a:gs>
              </a:gsLst>
              <a:lin ang="16002000"/>
            </a:gradFill>
            <a:ln>
              <a:solidFill>
                <a:srgbClr val="ffc000"/>
              </a:solidFill>
            </a:ln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1847" name="文本框 28671"/>
            <p:cNvSpPr/>
            <p:nvPr/>
          </p:nvSpPr>
          <p:spPr>
            <a:xfrm>
              <a:off x="6651000" y="5400720"/>
              <a:ext cx="9126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33cc"/>
                  </a:solidFill>
                  <a:latin typeface="Calibri"/>
                  <a:ea typeface="宋体"/>
                </a:rPr>
                <a:t>爱干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7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7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7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5" dur="7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74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6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0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8" name="组合 12"/>
          <p:cNvGrpSpPr/>
          <p:nvPr/>
        </p:nvGrpSpPr>
        <p:grpSpPr>
          <a:xfrm>
            <a:off x="48240" y="144000"/>
            <a:ext cx="2334240" cy="1185120"/>
            <a:chOff x="48240" y="144000"/>
            <a:chExt cx="2334240" cy="1185120"/>
          </a:xfrm>
        </p:grpSpPr>
        <p:pic>
          <p:nvPicPr>
            <p:cNvPr id="1849" name="图片 13" descr=""/>
            <p:cNvPicPr/>
            <p:nvPr/>
          </p:nvPicPr>
          <p:blipFill>
            <a:blip r:embed="rId1"/>
            <a:stretch/>
          </p:blipFill>
          <p:spPr>
            <a:xfrm>
              <a:off x="153360" y="162000"/>
              <a:ext cx="18637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图片 14" descr="小天使.png"/>
            <p:cNvPicPr/>
            <p:nvPr/>
          </p:nvPicPr>
          <p:blipFill>
            <a:blip r:embed="rId2"/>
            <a:stretch/>
          </p:blipFill>
          <p:spPr>
            <a:xfrm>
              <a:off x="1627920" y="144000"/>
              <a:ext cx="75456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1" name="图片 15" descr=""/>
            <p:cNvPicPr/>
            <p:nvPr/>
          </p:nvPicPr>
          <p:blipFill>
            <a:blip r:embed="rId3"/>
            <a:stretch/>
          </p:blipFill>
          <p:spPr>
            <a:xfrm rot="21136800">
              <a:off x="86760" y="685800"/>
              <a:ext cx="306720" cy="5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文本框 6"/>
            <p:cNvSpPr/>
            <p:nvPr/>
          </p:nvSpPr>
          <p:spPr>
            <a:xfrm>
              <a:off x="571680" y="2383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b0f0"/>
                  </a:solidFill>
                  <a:latin typeface="黑体"/>
                  <a:ea typeface="黑体"/>
                </a:rPr>
                <a:t>板书设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3" name="左大括号 6"/>
          <p:cNvSpPr/>
          <p:nvPr/>
        </p:nvSpPr>
        <p:spPr>
          <a:xfrm>
            <a:off x="1476360" y="1475280"/>
            <a:ext cx="312480" cy="4359960"/>
          </a:xfrm>
          <a:prstGeom prst="leftBrace">
            <a:avLst>
              <a:gd name="adj1" fmla="val 36949"/>
              <a:gd name="adj2" fmla="val 50000"/>
            </a:avLst>
          </a:prstGeom>
          <a:noFill/>
          <a:ln w="381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54" name="文本框 5"/>
          <p:cNvSpPr/>
          <p:nvPr/>
        </p:nvSpPr>
        <p:spPr>
          <a:xfrm>
            <a:off x="1770120" y="1202400"/>
            <a:ext cx="1669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外形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文本框 5"/>
          <p:cNvSpPr/>
          <p:nvPr/>
        </p:nvSpPr>
        <p:spPr>
          <a:xfrm>
            <a:off x="1771560" y="2554920"/>
            <a:ext cx="1785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文本框 5"/>
          <p:cNvSpPr/>
          <p:nvPr/>
        </p:nvSpPr>
        <p:spPr>
          <a:xfrm>
            <a:off x="1770120" y="5308560"/>
            <a:ext cx="1801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生活习性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左大括号 10"/>
          <p:cNvSpPr/>
          <p:nvPr/>
        </p:nvSpPr>
        <p:spPr>
          <a:xfrm flipH="1">
            <a:off x="7410600" y="1483920"/>
            <a:ext cx="328320" cy="4351680"/>
          </a:xfrm>
          <a:prstGeom prst="leftBrace">
            <a:avLst>
              <a:gd name="adj1" fmla="val 36949"/>
              <a:gd name="adj2" fmla="val 50000"/>
            </a:avLst>
          </a:prstGeom>
          <a:noFill/>
          <a:ln w="381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58" name="文本框 5"/>
          <p:cNvSpPr/>
          <p:nvPr/>
        </p:nvSpPr>
        <p:spPr>
          <a:xfrm>
            <a:off x="7729200" y="2292480"/>
            <a:ext cx="119988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68760" bIns="68760" anchor="t" vert="vert" rot="54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聪明伶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惹人喜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文本框 5"/>
          <p:cNvSpPr/>
          <p:nvPr/>
        </p:nvSpPr>
        <p:spPr>
          <a:xfrm>
            <a:off x="3630600" y="967320"/>
            <a:ext cx="249372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面容 眼睛 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四肢 尾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文本框 5"/>
          <p:cNvSpPr/>
          <p:nvPr/>
        </p:nvSpPr>
        <p:spPr>
          <a:xfrm>
            <a:off x="6315120" y="1221480"/>
            <a:ext cx="1031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漂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文本框 5"/>
          <p:cNvSpPr/>
          <p:nvPr/>
        </p:nvSpPr>
        <p:spPr>
          <a:xfrm>
            <a:off x="1770120" y="3905280"/>
            <a:ext cx="183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行为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文本框 5"/>
          <p:cNvSpPr/>
          <p:nvPr/>
        </p:nvSpPr>
        <p:spPr>
          <a:xfrm>
            <a:off x="3672000" y="2309400"/>
            <a:ext cx="23540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范围  树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时间  晚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文本框 5"/>
          <p:cNvSpPr/>
          <p:nvPr/>
        </p:nvSpPr>
        <p:spPr>
          <a:xfrm>
            <a:off x="6315120" y="2548440"/>
            <a:ext cx="1031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驯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文本框 5"/>
          <p:cNvSpPr/>
          <p:nvPr/>
        </p:nvSpPr>
        <p:spPr>
          <a:xfrm>
            <a:off x="3672000" y="3668040"/>
            <a:ext cx="23540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行动  轻快敏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搭窝  精心考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文本框 5"/>
          <p:cNvSpPr/>
          <p:nvPr/>
        </p:nvSpPr>
        <p:spPr>
          <a:xfrm>
            <a:off x="6315120" y="3941280"/>
            <a:ext cx="1029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乖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文本框 5"/>
          <p:cNvSpPr/>
          <p:nvPr/>
        </p:nvSpPr>
        <p:spPr>
          <a:xfrm>
            <a:off x="6165720" y="5306400"/>
            <a:ext cx="1328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爱干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左大括号 20"/>
          <p:cNvSpPr/>
          <p:nvPr/>
        </p:nvSpPr>
        <p:spPr>
          <a:xfrm>
            <a:off x="3489480" y="1113480"/>
            <a:ext cx="163080" cy="1062360"/>
          </a:xfrm>
          <a:prstGeom prst="leftBrace">
            <a:avLst>
              <a:gd name="adj1" fmla="val 36949"/>
              <a:gd name="adj2" fmla="val 50000"/>
            </a:avLst>
          </a:prstGeom>
          <a:noFill/>
          <a:ln w="381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68" name="左大括号 21"/>
          <p:cNvSpPr/>
          <p:nvPr/>
        </p:nvSpPr>
        <p:spPr>
          <a:xfrm rot="10800000">
            <a:off x="6005880" y="1111680"/>
            <a:ext cx="163080" cy="1064160"/>
          </a:xfrm>
          <a:prstGeom prst="leftBrace">
            <a:avLst>
              <a:gd name="adj1" fmla="val 36949"/>
              <a:gd name="adj2" fmla="val 50000"/>
            </a:avLst>
          </a:prstGeom>
          <a:noFill/>
          <a:ln w="381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69" name="左大括号 22"/>
          <p:cNvSpPr/>
          <p:nvPr/>
        </p:nvSpPr>
        <p:spPr>
          <a:xfrm>
            <a:off x="3489480" y="2474280"/>
            <a:ext cx="193320" cy="1072800"/>
          </a:xfrm>
          <a:prstGeom prst="leftBrace">
            <a:avLst>
              <a:gd name="adj1" fmla="val 36949"/>
              <a:gd name="adj2" fmla="val 50000"/>
            </a:avLst>
          </a:prstGeom>
          <a:noFill/>
          <a:ln w="381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70" name="左大括号 23"/>
          <p:cNvSpPr/>
          <p:nvPr/>
        </p:nvSpPr>
        <p:spPr>
          <a:xfrm>
            <a:off x="3483000" y="3820680"/>
            <a:ext cx="191880" cy="1064160"/>
          </a:xfrm>
          <a:prstGeom prst="leftBrace">
            <a:avLst>
              <a:gd name="adj1" fmla="val 36949"/>
              <a:gd name="adj2" fmla="val 50000"/>
            </a:avLst>
          </a:prstGeom>
          <a:noFill/>
          <a:ln w="381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71" name="左大括号 24"/>
          <p:cNvSpPr/>
          <p:nvPr/>
        </p:nvSpPr>
        <p:spPr>
          <a:xfrm rot="10800000">
            <a:off x="6005880" y="2470320"/>
            <a:ext cx="172800" cy="1098360"/>
          </a:xfrm>
          <a:prstGeom prst="leftBrace">
            <a:avLst>
              <a:gd name="adj1" fmla="val 36949"/>
              <a:gd name="adj2" fmla="val 50000"/>
            </a:avLst>
          </a:prstGeom>
          <a:noFill/>
          <a:ln w="381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72" name="左大括号 25"/>
          <p:cNvSpPr/>
          <p:nvPr/>
        </p:nvSpPr>
        <p:spPr>
          <a:xfrm rot="10800000">
            <a:off x="5978880" y="3848760"/>
            <a:ext cx="191880" cy="1064160"/>
          </a:xfrm>
          <a:prstGeom prst="leftBrace">
            <a:avLst>
              <a:gd name="adj1" fmla="val 36949"/>
              <a:gd name="adj2" fmla="val 50000"/>
            </a:avLst>
          </a:prstGeom>
          <a:noFill/>
          <a:ln w="381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73" name="文本框 5"/>
          <p:cNvSpPr/>
          <p:nvPr/>
        </p:nvSpPr>
        <p:spPr>
          <a:xfrm>
            <a:off x="3998880" y="5101200"/>
            <a:ext cx="168408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14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繁殖、换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梳理打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4" name="直接箭头连接符 27"/>
          <p:cNvCxnSpPr/>
          <p:nvPr/>
        </p:nvCxnSpPr>
        <p:spPr>
          <a:xfrm>
            <a:off x="3500280" y="5723280"/>
            <a:ext cx="408240" cy="360"/>
          </a:xfrm>
          <a:prstGeom prst="straightConnector1">
            <a:avLst/>
          </a:prstGeom>
          <a:ln w="38100">
            <a:solidFill>
              <a:srgbClr val="00b0f0"/>
            </a:solidFill>
            <a:tailEnd len="med" type="arrow" w="med"/>
          </a:ln>
        </p:spPr>
      </p:cxnSp>
      <p:grpSp>
        <p:nvGrpSpPr>
          <p:cNvPr id="1875" name="组合 29"/>
          <p:cNvGrpSpPr/>
          <p:nvPr/>
        </p:nvGrpSpPr>
        <p:grpSpPr>
          <a:xfrm>
            <a:off x="344520" y="2548440"/>
            <a:ext cx="1227240" cy="2336400"/>
            <a:chOff x="344520" y="2548440"/>
            <a:chExt cx="1227240" cy="2336400"/>
          </a:xfrm>
        </p:grpSpPr>
        <p:sp>
          <p:nvSpPr>
            <p:cNvPr id="1876" name="Text Box 14"/>
            <p:cNvSpPr/>
            <p:nvPr/>
          </p:nvSpPr>
          <p:spPr>
            <a:xfrm>
              <a:off x="381240" y="2548440"/>
              <a:ext cx="11905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33cc"/>
                  </a:solidFill>
                  <a:latin typeface="Arial"/>
                  <a:ea typeface="黑体"/>
                </a:rPr>
                <a:t>松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7" name="图片 6" descr=""/>
            <p:cNvPicPr/>
            <p:nvPr/>
          </p:nvPicPr>
          <p:blipFill>
            <a:blip r:embed="rId4"/>
            <a:stretch/>
          </p:blipFill>
          <p:spPr>
            <a:xfrm>
              <a:off x="344520" y="3327840"/>
              <a:ext cx="1227240" cy="15570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878" name="直接箭头连接符 34"/>
          <p:cNvCxnSpPr/>
          <p:nvPr/>
        </p:nvCxnSpPr>
        <p:spPr>
          <a:xfrm>
            <a:off x="5741640" y="5723280"/>
            <a:ext cx="408600" cy="360"/>
          </a:xfrm>
          <a:prstGeom prst="straightConnector1">
            <a:avLst/>
          </a:prstGeom>
          <a:ln w="38100">
            <a:solidFill>
              <a:srgbClr val="00b0f0"/>
            </a:solidFill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0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7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7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6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6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6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6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6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6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6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6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6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6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6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6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6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6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9" name="组合 12"/>
          <p:cNvGrpSpPr/>
          <p:nvPr/>
        </p:nvGrpSpPr>
        <p:grpSpPr>
          <a:xfrm>
            <a:off x="48240" y="144000"/>
            <a:ext cx="2334240" cy="1185120"/>
            <a:chOff x="48240" y="144000"/>
            <a:chExt cx="2334240" cy="1185120"/>
          </a:xfrm>
        </p:grpSpPr>
        <p:pic>
          <p:nvPicPr>
            <p:cNvPr id="1880" name="图片 13" descr=""/>
            <p:cNvPicPr/>
            <p:nvPr/>
          </p:nvPicPr>
          <p:blipFill>
            <a:blip r:embed="rId1"/>
            <a:stretch/>
          </p:blipFill>
          <p:spPr>
            <a:xfrm>
              <a:off x="153360" y="162000"/>
              <a:ext cx="18637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1" name="图片 14" descr="小天使.png"/>
            <p:cNvPicPr/>
            <p:nvPr/>
          </p:nvPicPr>
          <p:blipFill>
            <a:blip r:embed="rId2"/>
            <a:stretch/>
          </p:blipFill>
          <p:spPr>
            <a:xfrm>
              <a:off x="1627920" y="144000"/>
              <a:ext cx="75456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2" name="图片 15" descr=""/>
            <p:cNvPicPr/>
            <p:nvPr/>
          </p:nvPicPr>
          <p:blipFill>
            <a:blip r:embed="rId3"/>
            <a:stretch/>
          </p:blipFill>
          <p:spPr>
            <a:xfrm rot="21136800">
              <a:off x="86760" y="685800"/>
              <a:ext cx="306720" cy="5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3" name="文本框 6"/>
            <p:cNvSpPr/>
            <p:nvPr/>
          </p:nvSpPr>
          <p:spPr>
            <a:xfrm>
              <a:off x="571680" y="2383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b0f0"/>
                  </a:solidFill>
                  <a:latin typeface="黑体"/>
                  <a:ea typeface="黑体"/>
                </a:rPr>
                <a:t>课文主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文本框 6"/>
          <p:cNvSpPr/>
          <p:nvPr/>
        </p:nvSpPr>
        <p:spPr>
          <a:xfrm>
            <a:off x="442800" y="1090080"/>
            <a:ext cx="4611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文以生动传神的描写及准确而简练的说明介绍了松鼠漂亮的外形、驯良的习性和乖巧的行为，表达了作者对松鼠的喜爱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图片 7"/>
          <p:cNvSpPr/>
          <p:nvPr/>
        </p:nvSpPr>
        <p:spPr>
          <a:xfrm>
            <a:off x="5240160" y="1526760"/>
            <a:ext cx="3381120" cy="30510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6350" dir="5400000" dist="50800" endA="300" endPos="58000" rotWithShape="0" stA="50000" sy="-100000"/>
          </a:effectLst>
          <a:scene3d>
            <a:camera prst="orthographicFront">
              <a:rot lat="0" lon="0" rev="30000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0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7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7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6" name="组合 12"/>
          <p:cNvGrpSpPr/>
          <p:nvPr/>
        </p:nvGrpSpPr>
        <p:grpSpPr>
          <a:xfrm>
            <a:off x="48240" y="144000"/>
            <a:ext cx="2334240" cy="1185120"/>
            <a:chOff x="48240" y="144000"/>
            <a:chExt cx="2334240" cy="1185120"/>
          </a:xfrm>
        </p:grpSpPr>
        <p:pic>
          <p:nvPicPr>
            <p:cNvPr id="1887" name="图片 13" descr=""/>
            <p:cNvPicPr/>
            <p:nvPr/>
          </p:nvPicPr>
          <p:blipFill>
            <a:blip r:embed="rId1"/>
            <a:stretch/>
          </p:blipFill>
          <p:spPr>
            <a:xfrm>
              <a:off x="153360" y="162000"/>
              <a:ext cx="18637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8" name="图片 14" descr="小天使.png"/>
            <p:cNvPicPr/>
            <p:nvPr/>
          </p:nvPicPr>
          <p:blipFill>
            <a:blip r:embed="rId2"/>
            <a:stretch/>
          </p:blipFill>
          <p:spPr>
            <a:xfrm>
              <a:off x="1627920" y="144000"/>
              <a:ext cx="75456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9" name="图片 15" descr=""/>
            <p:cNvPicPr/>
            <p:nvPr/>
          </p:nvPicPr>
          <p:blipFill>
            <a:blip r:embed="rId3"/>
            <a:stretch/>
          </p:blipFill>
          <p:spPr>
            <a:xfrm rot="21136800">
              <a:off x="86760" y="685800"/>
              <a:ext cx="306720" cy="5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0" name="文本框 6"/>
            <p:cNvSpPr/>
            <p:nvPr/>
          </p:nvSpPr>
          <p:spPr>
            <a:xfrm>
              <a:off x="571680" y="2383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b0f0"/>
                  </a:solidFill>
                  <a:latin typeface="黑体"/>
                  <a:ea typeface="黑体"/>
                </a:rPr>
                <a:t>拓展发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1" name="TextBox 1"/>
          <p:cNvSpPr/>
          <p:nvPr/>
        </p:nvSpPr>
        <p:spPr>
          <a:xfrm>
            <a:off x="2577960" y="776880"/>
            <a:ext cx="4169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描写松鼠的诗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文本框 7"/>
          <p:cNvSpPr/>
          <p:nvPr/>
        </p:nvSpPr>
        <p:spPr>
          <a:xfrm>
            <a:off x="619200" y="1716480"/>
            <a:ext cx="808956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茂林处处见松鼠，幽圃时时闻竹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陆游《初春幽居》昼岩松鼠静，春堑竹鸡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林逋《湖山小隐》门前鱼浦啼竹禽，屋上鹤巢走松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李延兴《题画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0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6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7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文本框 1"/>
          <p:cNvSpPr/>
          <p:nvPr/>
        </p:nvSpPr>
        <p:spPr>
          <a:xfrm>
            <a:off x="684360" y="2163240"/>
            <a:ext cx="805608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白天躲在窝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ō w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里歇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iē xi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凉，晚上出来奔跑、玩耍、吃东西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矩形 1"/>
          <p:cNvSpPr/>
          <p:nvPr/>
        </p:nvSpPr>
        <p:spPr>
          <a:xfrm>
            <a:off x="684360" y="4267080"/>
            <a:ext cx="756396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窝口很狭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á xiá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窄，勉强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iǎ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iánɡ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可以进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组合 12"/>
          <p:cNvGrpSpPr/>
          <p:nvPr/>
        </p:nvGrpSpPr>
        <p:grpSpPr>
          <a:xfrm>
            <a:off x="48240" y="144000"/>
            <a:ext cx="2334240" cy="1185120"/>
            <a:chOff x="48240" y="144000"/>
            <a:chExt cx="2334240" cy="1185120"/>
          </a:xfrm>
        </p:grpSpPr>
        <p:pic>
          <p:nvPicPr>
            <p:cNvPr id="1896" name="图片 13" descr=""/>
            <p:cNvPicPr/>
            <p:nvPr/>
          </p:nvPicPr>
          <p:blipFill>
            <a:blip r:embed="rId1"/>
            <a:stretch/>
          </p:blipFill>
          <p:spPr>
            <a:xfrm>
              <a:off x="153360" y="162000"/>
              <a:ext cx="18637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7" name="图片 14" descr="小天使.png"/>
            <p:cNvPicPr/>
            <p:nvPr/>
          </p:nvPicPr>
          <p:blipFill>
            <a:blip r:embed="rId2"/>
            <a:stretch/>
          </p:blipFill>
          <p:spPr>
            <a:xfrm>
              <a:off x="1627920" y="144000"/>
              <a:ext cx="75456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8" name="图片 15" descr=""/>
            <p:cNvPicPr/>
            <p:nvPr/>
          </p:nvPicPr>
          <p:blipFill>
            <a:blip r:embed="rId3"/>
            <a:stretch/>
          </p:blipFill>
          <p:spPr>
            <a:xfrm rot="21136800">
              <a:off x="86760" y="685800"/>
              <a:ext cx="306720" cy="5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9" name="文本框 6"/>
            <p:cNvSpPr/>
            <p:nvPr/>
          </p:nvSpPr>
          <p:spPr>
            <a:xfrm>
              <a:off x="571680" y="2383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b0f0"/>
                  </a:solidFill>
                  <a:latin typeface="黑体"/>
                  <a:ea typeface="黑体"/>
                </a:rPr>
                <a:t>课堂练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0" name="TextBox 1"/>
          <p:cNvSpPr/>
          <p:nvPr/>
        </p:nvSpPr>
        <p:spPr>
          <a:xfrm>
            <a:off x="311040" y="1200240"/>
            <a:ext cx="7676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、用“√”选出下列加点字正确的读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文本框 2"/>
          <p:cNvSpPr/>
          <p:nvPr/>
        </p:nvSpPr>
        <p:spPr>
          <a:xfrm>
            <a:off x="5964480" y="2597040"/>
            <a:ext cx="23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文本框 4"/>
          <p:cNvSpPr/>
          <p:nvPr/>
        </p:nvSpPr>
        <p:spPr>
          <a:xfrm>
            <a:off x="2497320" y="4737240"/>
            <a:ext cx="23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文本框 5"/>
          <p:cNvSpPr/>
          <p:nvPr/>
        </p:nvSpPr>
        <p:spPr>
          <a:xfrm>
            <a:off x="6380280" y="4735080"/>
            <a:ext cx="23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文本框 11"/>
          <p:cNvSpPr/>
          <p:nvPr/>
        </p:nvSpPr>
        <p:spPr>
          <a:xfrm>
            <a:off x="4048200" y="4417560"/>
            <a:ext cx="83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文本框 12"/>
          <p:cNvSpPr/>
          <p:nvPr/>
        </p:nvSpPr>
        <p:spPr>
          <a:xfrm>
            <a:off x="7031160" y="2421360"/>
            <a:ext cx="83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文本框 13"/>
          <p:cNvSpPr/>
          <p:nvPr/>
        </p:nvSpPr>
        <p:spPr>
          <a:xfrm>
            <a:off x="7207200" y="4502160"/>
            <a:ext cx="83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文本框 14"/>
          <p:cNvSpPr/>
          <p:nvPr/>
        </p:nvSpPr>
        <p:spPr>
          <a:xfrm>
            <a:off x="4294080" y="2408760"/>
            <a:ext cx="83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文本框 2"/>
          <p:cNvSpPr/>
          <p:nvPr/>
        </p:nvSpPr>
        <p:spPr>
          <a:xfrm>
            <a:off x="3318120" y="2597040"/>
            <a:ext cx="23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文本框 1"/>
          <p:cNvSpPr/>
          <p:nvPr/>
        </p:nvSpPr>
        <p:spPr>
          <a:xfrm>
            <a:off x="555480" y="1119600"/>
            <a:ext cx="81529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它们是十分警觉的，只要有人触动一下松鼠所在的大树，它们就从树上的窝里跑出来躲到树枝底下，或者逃到别的树上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句话中作者用了三个字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”“____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来表现松鼠对于微小危险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能力，从而更显出它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灵性，由此表现出它的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文本框 3"/>
          <p:cNvSpPr/>
          <p:nvPr/>
        </p:nvSpPr>
        <p:spPr>
          <a:xfrm>
            <a:off x="6073920" y="3301920"/>
            <a:ext cx="736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文本框 4"/>
          <p:cNvSpPr/>
          <p:nvPr/>
        </p:nvSpPr>
        <p:spPr>
          <a:xfrm>
            <a:off x="7591320" y="3263760"/>
            <a:ext cx="736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文本框 5"/>
          <p:cNvSpPr/>
          <p:nvPr/>
        </p:nvSpPr>
        <p:spPr>
          <a:xfrm>
            <a:off x="1149480" y="4008960"/>
            <a:ext cx="590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文本框 6"/>
          <p:cNvSpPr/>
          <p:nvPr/>
        </p:nvSpPr>
        <p:spPr>
          <a:xfrm>
            <a:off x="6757920" y="4025880"/>
            <a:ext cx="179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快速应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文本框 7"/>
          <p:cNvSpPr/>
          <p:nvPr/>
        </p:nvSpPr>
        <p:spPr>
          <a:xfrm>
            <a:off x="4557600" y="4728600"/>
            <a:ext cx="205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十分警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文本框 8"/>
          <p:cNvSpPr/>
          <p:nvPr/>
        </p:nvSpPr>
        <p:spPr>
          <a:xfrm>
            <a:off x="3716280" y="5471640"/>
            <a:ext cx="952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灵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Box 1"/>
          <p:cNvSpPr/>
          <p:nvPr/>
        </p:nvSpPr>
        <p:spPr>
          <a:xfrm>
            <a:off x="482760" y="311040"/>
            <a:ext cx="7676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二、品味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9" name="组合 12"/>
          <p:cNvGrpSpPr/>
          <p:nvPr/>
        </p:nvGrpSpPr>
        <p:grpSpPr>
          <a:xfrm>
            <a:off x="48240" y="144000"/>
            <a:ext cx="2334240" cy="1185120"/>
            <a:chOff x="48240" y="144000"/>
            <a:chExt cx="2334240" cy="1185120"/>
          </a:xfrm>
        </p:grpSpPr>
        <p:pic>
          <p:nvPicPr>
            <p:cNvPr id="1490" name="图片 13" descr=""/>
            <p:cNvPicPr/>
            <p:nvPr/>
          </p:nvPicPr>
          <p:blipFill>
            <a:blip r:embed="rId1"/>
            <a:stretch/>
          </p:blipFill>
          <p:spPr>
            <a:xfrm>
              <a:off x="153360" y="162000"/>
              <a:ext cx="18637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图片 14" descr="小天使.png"/>
            <p:cNvPicPr/>
            <p:nvPr/>
          </p:nvPicPr>
          <p:blipFill>
            <a:blip r:embed="rId2"/>
            <a:stretch/>
          </p:blipFill>
          <p:spPr>
            <a:xfrm>
              <a:off x="1627920" y="144000"/>
              <a:ext cx="75456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2" name="图片 15" descr=""/>
            <p:cNvPicPr/>
            <p:nvPr/>
          </p:nvPicPr>
          <p:blipFill>
            <a:blip r:embed="rId3"/>
            <a:stretch/>
          </p:blipFill>
          <p:spPr>
            <a:xfrm rot="21136800">
              <a:off x="86760" y="685800"/>
              <a:ext cx="306720" cy="5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3" name="文本框 6"/>
            <p:cNvSpPr/>
            <p:nvPr/>
          </p:nvSpPr>
          <p:spPr>
            <a:xfrm>
              <a:off x="571680" y="2383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b0f0"/>
                  </a:solidFill>
                  <a:latin typeface="黑体"/>
                  <a:ea typeface="黑体"/>
                </a:rPr>
                <a:t>助读资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矩形 1"/>
          <p:cNvSpPr/>
          <p:nvPr/>
        </p:nvSpPr>
        <p:spPr>
          <a:xfrm>
            <a:off x="387360" y="1223280"/>
            <a:ext cx="84387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  脊椎动物，属哺乳纲啮齿目松鼠科。它是小型兽类，体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克，体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厘米。尾蓬松，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厘米，超过体长的一半以上，密生棕黑色长毛。体毛灰色，故又称“灰松鼠”，也有暗褐色或赤褐色的。腹面白色。生活在山区、树林间，用树叶、草苔筑巢，或利用鸦、鹊的废巢。松鼠喜食松子和胡桃等果实，有时也食昆虫和鸟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7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7" name="组合 12"/>
          <p:cNvGrpSpPr/>
          <p:nvPr/>
        </p:nvGrpSpPr>
        <p:grpSpPr>
          <a:xfrm>
            <a:off x="48240" y="144000"/>
            <a:ext cx="2334240" cy="1185120"/>
            <a:chOff x="48240" y="144000"/>
            <a:chExt cx="2334240" cy="1185120"/>
          </a:xfrm>
        </p:grpSpPr>
        <p:pic>
          <p:nvPicPr>
            <p:cNvPr id="1918" name="图片 13" descr=""/>
            <p:cNvPicPr/>
            <p:nvPr/>
          </p:nvPicPr>
          <p:blipFill>
            <a:blip r:embed="rId1"/>
            <a:stretch/>
          </p:blipFill>
          <p:spPr>
            <a:xfrm>
              <a:off x="153360" y="162000"/>
              <a:ext cx="18637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图片 14" descr="小天使.png"/>
            <p:cNvPicPr/>
            <p:nvPr/>
          </p:nvPicPr>
          <p:blipFill>
            <a:blip r:embed="rId2"/>
            <a:stretch/>
          </p:blipFill>
          <p:spPr>
            <a:xfrm>
              <a:off x="1627920" y="144000"/>
              <a:ext cx="75456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图片 15" descr=""/>
            <p:cNvPicPr/>
            <p:nvPr/>
          </p:nvPicPr>
          <p:blipFill>
            <a:blip r:embed="rId3"/>
            <a:stretch/>
          </p:blipFill>
          <p:spPr>
            <a:xfrm rot="21136800">
              <a:off x="86760" y="685800"/>
              <a:ext cx="306720" cy="5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1" name="文本框 6"/>
            <p:cNvSpPr/>
            <p:nvPr/>
          </p:nvSpPr>
          <p:spPr>
            <a:xfrm>
              <a:off x="571680" y="2383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b0f0"/>
                  </a:solidFill>
                  <a:latin typeface="黑体"/>
                  <a:ea typeface="黑体"/>
                </a:rPr>
                <a:t>课后习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2" name="组合 2"/>
          <p:cNvGrpSpPr/>
          <p:nvPr/>
        </p:nvGrpSpPr>
        <p:grpSpPr>
          <a:xfrm>
            <a:off x="487440" y="1181160"/>
            <a:ext cx="8313480" cy="718560"/>
            <a:chOff x="487440" y="1181160"/>
            <a:chExt cx="8313480" cy="718560"/>
          </a:xfrm>
        </p:grpSpPr>
        <p:sp>
          <p:nvSpPr>
            <p:cNvPr id="1923" name="TextBox 2"/>
            <p:cNvSpPr/>
            <p:nvPr/>
          </p:nvSpPr>
          <p:spPr>
            <a:xfrm>
              <a:off x="926280" y="1181160"/>
              <a:ext cx="78746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8000"/>
                </a:lnSpc>
              </a:pPr>
              <a:r>
                <a:rPr b="1" lang="zh-CN" sz="3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默读课文，把从课文中获得的有关松鼠的信息分条写下来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4" name="Picture 2" descr="E:\陈文丽\人一语大课堂正文\印标.tif"/>
            <p:cNvPicPr/>
            <p:nvPr/>
          </p:nvPicPr>
          <p:blipFill>
            <a:blip r:embed="rId4"/>
            <a:stretch/>
          </p:blipFill>
          <p:spPr>
            <a:xfrm>
              <a:off x="487440" y="1342080"/>
              <a:ext cx="421920" cy="5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5" name="TextBox 3"/>
          <p:cNvSpPr/>
          <p:nvPr/>
        </p:nvSpPr>
        <p:spPr>
          <a:xfrm>
            <a:off x="884160" y="2558880"/>
            <a:ext cx="791640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默读指导：课文可以分为四个部分，每一部分都有其侧重点，默读时抓住每一部分的要点，就能快速理解课文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有关松鼠的信息可以从课文所介绍的四个方面去概括，这四个方面是：外形特征、性格特征、行为特征、生活习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文本框 1"/>
          <p:cNvSpPr/>
          <p:nvPr/>
        </p:nvSpPr>
        <p:spPr>
          <a:xfrm>
            <a:off x="369720" y="493200"/>
            <a:ext cx="850860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外形特征：漂亮——面容清秀，眼睛闪光，身体矫健，四肢轻快，帽缨形的美丽尾巴老是翘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：驯良——在树上做窝，很少到地上来；不接近人的住宅，住在高大的老树上；白天躲在窝里歇凉，晚上出来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行为特征：乖巧——十分警觉，动作轻快、敏捷；搭窝精心考究，“先……再……然后……”，窝口朝上，窝口有一个圆锥形的盖，把整个窝遮蔽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生活习性：洁净——用爪子和牙齿梳理全身的毛，身上总是光光溜溜、干干净净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0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1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1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1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1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7" name="组合 2"/>
          <p:cNvGrpSpPr/>
          <p:nvPr/>
        </p:nvGrpSpPr>
        <p:grpSpPr>
          <a:xfrm>
            <a:off x="331920" y="378720"/>
            <a:ext cx="8308440" cy="637200"/>
            <a:chOff x="331920" y="378720"/>
            <a:chExt cx="8308440" cy="637200"/>
          </a:xfrm>
        </p:grpSpPr>
        <p:sp>
          <p:nvSpPr>
            <p:cNvPr id="1928" name="TextBox 2"/>
            <p:cNvSpPr/>
            <p:nvPr/>
          </p:nvSpPr>
          <p:spPr>
            <a:xfrm>
              <a:off x="739440" y="378720"/>
              <a:ext cx="79009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读下面的句子，找出课文中相应的内容，体会表达上的不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9" name="Picture 2" descr="E:\陈文丽\人一语大课堂正文\印标.tif"/>
            <p:cNvPicPr/>
            <p:nvPr/>
          </p:nvPicPr>
          <p:blipFill>
            <a:blip r:embed="rId1"/>
            <a:stretch/>
          </p:blipFill>
          <p:spPr>
            <a:xfrm>
              <a:off x="331920" y="500400"/>
              <a:ext cx="407160" cy="51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0" name="矩形 2"/>
          <p:cNvSpPr/>
          <p:nvPr/>
        </p:nvSpPr>
        <p:spPr>
          <a:xfrm>
            <a:off x="615960" y="1826640"/>
            <a:ext cx="832284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◇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体形细长，体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厘米，尾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厘米，体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◇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在树上筑巢或利用树洞栖居，巢以树的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枝条及杂物构成，直径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厘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◇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每年春、秋季换毛。年产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次，一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产仔较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选自《中国大百科全书》（第二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5" dur="7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矩形 1"/>
          <p:cNvSpPr/>
          <p:nvPr/>
        </p:nvSpPr>
        <p:spPr>
          <a:xfrm>
            <a:off x="474840" y="664560"/>
            <a:ext cx="8351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与第一句话相对应的内容是：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中描写松鼠外形的句子，如“它们面容清秀，眼睛闪闪发光……自己就躲在尾巴底下歇凉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矩形 2"/>
          <p:cNvSpPr/>
          <p:nvPr/>
        </p:nvSpPr>
        <p:spPr>
          <a:xfrm>
            <a:off x="474840" y="3524400"/>
            <a:ext cx="8351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与第二句话相对应的内容是：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中描写松鼠搭窝的内容，如“松鼠的窝通常搭在树枝分杈的地方……足够宽敞，足够坚实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0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2" dur="7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7" dur="7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矩形 1"/>
          <p:cNvSpPr/>
          <p:nvPr/>
        </p:nvSpPr>
        <p:spPr>
          <a:xfrm>
            <a:off x="579600" y="817200"/>
            <a:ext cx="79848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8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与第三句话相对应的内容是：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中介绍松鼠繁殖情况的内容，如“松鼠通常一胎生三四个……光光溜溜、干干净净的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运用的是形象的描述，富于文学色彩，表达更生动；这几个句子是通过列举具体的数字来介绍松鼠，表达更准确，更具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0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4" dur="7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组合 12"/>
          <p:cNvGrpSpPr/>
          <p:nvPr/>
        </p:nvGrpSpPr>
        <p:grpSpPr>
          <a:xfrm>
            <a:off x="48240" y="144000"/>
            <a:ext cx="2334240" cy="1185120"/>
            <a:chOff x="48240" y="144000"/>
            <a:chExt cx="2334240" cy="1185120"/>
          </a:xfrm>
        </p:grpSpPr>
        <p:pic>
          <p:nvPicPr>
            <p:cNvPr id="1935" name="图片 13" descr=""/>
            <p:cNvPicPr/>
            <p:nvPr/>
          </p:nvPicPr>
          <p:blipFill>
            <a:blip r:embed="rId1"/>
            <a:stretch/>
          </p:blipFill>
          <p:spPr>
            <a:xfrm>
              <a:off x="153360" y="162000"/>
              <a:ext cx="18637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6" name="图片 14" descr="小天使.png"/>
            <p:cNvPicPr/>
            <p:nvPr/>
          </p:nvPicPr>
          <p:blipFill>
            <a:blip r:embed="rId2"/>
            <a:stretch/>
          </p:blipFill>
          <p:spPr>
            <a:xfrm>
              <a:off x="1627920" y="144000"/>
              <a:ext cx="75456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7" name="图片 15" descr=""/>
            <p:cNvPicPr/>
            <p:nvPr/>
          </p:nvPicPr>
          <p:blipFill>
            <a:blip r:embed="rId3"/>
            <a:stretch/>
          </p:blipFill>
          <p:spPr>
            <a:xfrm rot="21136800">
              <a:off x="86760" y="685800"/>
              <a:ext cx="306720" cy="5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8" name="文本框 6"/>
            <p:cNvSpPr/>
            <p:nvPr/>
          </p:nvSpPr>
          <p:spPr>
            <a:xfrm>
              <a:off x="571680" y="2383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b0f0"/>
                  </a:solidFill>
                  <a:latin typeface="黑体"/>
                  <a:ea typeface="黑体"/>
                </a:rPr>
                <a:t>课外练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9" name="内容占位符 2"/>
          <p:cNvSpPr/>
          <p:nvPr/>
        </p:nvSpPr>
        <p:spPr>
          <a:xfrm>
            <a:off x="506520" y="1879560"/>
            <a:ext cx="8130960" cy="26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熟读课文，积累文中的优美词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仿照本文的写作特点，认真观察并写一写自己喜欢的小动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1" dur="6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文本框 28"/>
          <p:cNvSpPr/>
          <p:nvPr/>
        </p:nvSpPr>
        <p:spPr>
          <a:xfrm>
            <a:off x="852480" y="1943280"/>
            <a:ext cx="774504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86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    驯良    清秀    矫健    玲珑    帽缨    翘着    歇凉    做窝    蛰伏    光滑    拾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6" name="组合 10"/>
          <p:cNvGrpSpPr/>
          <p:nvPr/>
        </p:nvGrpSpPr>
        <p:grpSpPr>
          <a:xfrm>
            <a:off x="48240" y="144000"/>
            <a:ext cx="2334240" cy="1185120"/>
            <a:chOff x="48240" y="144000"/>
            <a:chExt cx="2334240" cy="1185120"/>
          </a:xfrm>
        </p:grpSpPr>
        <p:pic>
          <p:nvPicPr>
            <p:cNvPr id="1497" name="图片 12" descr=""/>
            <p:cNvPicPr/>
            <p:nvPr/>
          </p:nvPicPr>
          <p:blipFill>
            <a:blip r:embed="rId1"/>
            <a:stretch/>
          </p:blipFill>
          <p:spPr>
            <a:xfrm>
              <a:off x="153360" y="162000"/>
              <a:ext cx="18637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图片 13" descr="小天使.png"/>
            <p:cNvPicPr/>
            <p:nvPr/>
          </p:nvPicPr>
          <p:blipFill>
            <a:blip r:embed="rId2"/>
            <a:stretch/>
          </p:blipFill>
          <p:spPr>
            <a:xfrm>
              <a:off x="1627920" y="144000"/>
              <a:ext cx="754560" cy="11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图片 14" descr=""/>
            <p:cNvPicPr/>
            <p:nvPr/>
          </p:nvPicPr>
          <p:blipFill>
            <a:blip r:embed="rId3"/>
            <a:stretch/>
          </p:blipFill>
          <p:spPr>
            <a:xfrm rot="21136800">
              <a:off x="86760" y="685800"/>
              <a:ext cx="306720" cy="5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0" name="文本框 6"/>
            <p:cNvSpPr/>
            <p:nvPr/>
          </p:nvSpPr>
          <p:spPr>
            <a:xfrm>
              <a:off x="549720" y="23832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b0f0"/>
                  </a:solidFill>
                  <a:latin typeface="黑体"/>
                  <a:ea typeface="黑体"/>
                </a:rPr>
                <a:t>字词识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1" name="组合 1"/>
          <p:cNvGrpSpPr/>
          <p:nvPr/>
        </p:nvGrpSpPr>
        <p:grpSpPr>
          <a:xfrm>
            <a:off x="3701880" y="736560"/>
            <a:ext cx="1828440" cy="1127880"/>
            <a:chOff x="3701880" y="736560"/>
            <a:chExt cx="1828440" cy="1127880"/>
          </a:xfrm>
        </p:grpSpPr>
        <p:sp>
          <p:nvSpPr>
            <p:cNvPr id="1502" name="文本框 11"/>
            <p:cNvSpPr/>
            <p:nvPr/>
          </p:nvSpPr>
          <p:spPr>
            <a:xfrm>
              <a:off x="4127400" y="880560"/>
              <a:ext cx="1402920" cy="572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575">
              <a:solidFill>
                <a:srgbClr val="a9da74"/>
              </a:solidFill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3" name="图片 16" descr=""/>
            <p:cNvPicPr/>
            <p:nvPr/>
          </p:nvPicPr>
          <p:blipFill>
            <a:blip r:embed="rId4"/>
            <a:stretch/>
          </p:blipFill>
          <p:spPr>
            <a:xfrm>
              <a:off x="3701880" y="736560"/>
              <a:ext cx="622440" cy="112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4" name="矩形 27"/>
          <p:cNvSpPr/>
          <p:nvPr/>
        </p:nvSpPr>
        <p:spPr>
          <a:xfrm>
            <a:off x="6905520" y="3166560"/>
            <a:ext cx="96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8"/>
          <p:cNvSpPr/>
          <p:nvPr/>
        </p:nvSpPr>
        <p:spPr>
          <a:xfrm>
            <a:off x="3020760" y="1799280"/>
            <a:ext cx="52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ù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26"/>
          <p:cNvSpPr/>
          <p:nvPr/>
        </p:nvSpPr>
        <p:spPr>
          <a:xfrm>
            <a:off x="6775560" y="179928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iǎ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文本框 28"/>
          <p:cNvSpPr/>
          <p:nvPr/>
        </p:nvSpPr>
        <p:spPr>
          <a:xfrm>
            <a:off x="852480" y="1934640"/>
            <a:ext cx="774504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86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松鼠    驯良    清秀    矫健    玲珑    帽缨    翘着    歇凉    做窝    蛰伏    光滑    拾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6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6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文本框 28"/>
          <p:cNvSpPr/>
          <p:nvPr/>
        </p:nvSpPr>
        <p:spPr>
          <a:xfrm>
            <a:off x="958680" y="275040"/>
            <a:ext cx="7756200" cy="83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7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榛子    分杈    苔藓    宽敞狭窄    勉强    圆锥    褐色    梳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2"/>
          <p:cNvSpPr/>
          <p:nvPr/>
        </p:nvSpPr>
        <p:spPr>
          <a:xfrm>
            <a:off x="5652000" y="628560"/>
            <a:ext cx="56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i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3"/>
          <p:cNvSpPr/>
          <p:nvPr/>
        </p:nvSpPr>
        <p:spPr>
          <a:xfrm>
            <a:off x="3427560" y="601200"/>
            <a:ext cx="83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4"/>
          <p:cNvSpPr/>
          <p:nvPr/>
        </p:nvSpPr>
        <p:spPr>
          <a:xfrm>
            <a:off x="906480" y="2557080"/>
            <a:ext cx="83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5"/>
          <p:cNvSpPr/>
          <p:nvPr/>
        </p:nvSpPr>
        <p:spPr>
          <a:xfrm>
            <a:off x="2706840" y="2523240"/>
            <a:ext cx="140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6"/>
          <p:cNvSpPr/>
          <p:nvPr/>
        </p:nvSpPr>
        <p:spPr>
          <a:xfrm>
            <a:off x="5492880" y="2523240"/>
            <a:ext cx="106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u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6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6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6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6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6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6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6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6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6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6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图片 2" descr="摄图网_400063324_banner"/>
          <p:cNvPicPr/>
          <p:nvPr/>
        </p:nvPicPr>
        <p:blipFill>
          <a:blip r:embed="rId2"/>
          <a:stretch/>
        </p:blipFill>
        <p:spPr>
          <a:xfrm>
            <a:off x="-34920" y="-63360"/>
            <a:ext cx="9213480" cy="6984720"/>
          </a:xfrm>
          <a:prstGeom prst="rect">
            <a:avLst/>
          </a:prstGeom>
          <a:ln w="0">
            <a:noFill/>
          </a:ln>
        </p:spPr>
      </p:pic>
      <p:pic>
        <p:nvPicPr>
          <p:cNvPr id="1515" name="图片 30" descr=""/>
          <p:cNvPicPr/>
          <p:nvPr/>
        </p:nvPicPr>
        <p:blipFill>
          <a:blip r:embed="rId3"/>
          <a:stretch/>
        </p:blipFill>
        <p:spPr>
          <a:xfrm>
            <a:off x="6956280" y="4089240"/>
            <a:ext cx="2079360" cy="2770200"/>
          </a:xfrm>
          <a:prstGeom prst="rect">
            <a:avLst/>
          </a:prstGeom>
          <a:ln w="0">
            <a:noFill/>
          </a:ln>
        </p:spPr>
      </p:pic>
      <p:grpSp>
        <p:nvGrpSpPr>
          <p:cNvPr id="1516" name="组合 60"/>
          <p:cNvGrpSpPr/>
          <p:nvPr/>
        </p:nvGrpSpPr>
        <p:grpSpPr>
          <a:xfrm>
            <a:off x="258840" y="313200"/>
            <a:ext cx="939600" cy="1252800"/>
            <a:chOff x="258840" y="313200"/>
            <a:chExt cx="939600" cy="1252800"/>
          </a:xfrm>
        </p:grpSpPr>
        <p:pic>
          <p:nvPicPr>
            <p:cNvPr id="1517" name="图片 29" descr=""/>
            <p:cNvPicPr/>
            <p:nvPr/>
          </p:nvPicPr>
          <p:blipFill>
            <a:blip r:embed="rId4"/>
            <a:stretch/>
          </p:blipFill>
          <p:spPr>
            <a:xfrm>
              <a:off x="258840" y="313200"/>
              <a:ext cx="93960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文本框 4"/>
            <p:cNvSpPr/>
            <p:nvPr/>
          </p:nvSpPr>
          <p:spPr>
            <a:xfrm>
              <a:off x="427320" y="551880"/>
              <a:ext cx="6728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组合 41"/>
          <p:cNvGrpSpPr/>
          <p:nvPr/>
        </p:nvGrpSpPr>
        <p:grpSpPr>
          <a:xfrm>
            <a:off x="1816200" y="313200"/>
            <a:ext cx="939600" cy="1252800"/>
            <a:chOff x="1816200" y="313200"/>
            <a:chExt cx="939600" cy="1252800"/>
          </a:xfrm>
        </p:grpSpPr>
        <p:pic>
          <p:nvPicPr>
            <p:cNvPr id="1520" name="图片 33" descr=""/>
            <p:cNvPicPr/>
            <p:nvPr/>
          </p:nvPicPr>
          <p:blipFill>
            <a:blip r:embed="rId5"/>
            <a:stretch/>
          </p:blipFill>
          <p:spPr>
            <a:xfrm>
              <a:off x="1816200" y="313200"/>
              <a:ext cx="93960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1" name="文本框 4"/>
            <p:cNvSpPr/>
            <p:nvPr/>
          </p:nvSpPr>
          <p:spPr>
            <a:xfrm>
              <a:off x="1984680" y="551880"/>
              <a:ext cx="6728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组合 42"/>
          <p:cNvGrpSpPr/>
          <p:nvPr/>
        </p:nvGrpSpPr>
        <p:grpSpPr>
          <a:xfrm>
            <a:off x="3375000" y="313200"/>
            <a:ext cx="939600" cy="1252800"/>
            <a:chOff x="3375000" y="313200"/>
            <a:chExt cx="939600" cy="1252800"/>
          </a:xfrm>
        </p:grpSpPr>
        <p:pic>
          <p:nvPicPr>
            <p:cNvPr id="1523" name="图片 36" descr=""/>
            <p:cNvPicPr/>
            <p:nvPr/>
          </p:nvPicPr>
          <p:blipFill>
            <a:blip r:embed="rId6"/>
            <a:stretch/>
          </p:blipFill>
          <p:spPr>
            <a:xfrm>
              <a:off x="3375000" y="313200"/>
              <a:ext cx="93960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4" name="文本框 4"/>
            <p:cNvSpPr/>
            <p:nvPr/>
          </p:nvSpPr>
          <p:spPr>
            <a:xfrm>
              <a:off x="3543840" y="551880"/>
              <a:ext cx="6728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组合 49"/>
          <p:cNvGrpSpPr/>
          <p:nvPr/>
        </p:nvGrpSpPr>
        <p:grpSpPr>
          <a:xfrm>
            <a:off x="258840" y="1989720"/>
            <a:ext cx="939600" cy="1252800"/>
            <a:chOff x="258840" y="1989720"/>
            <a:chExt cx="939600" cy="1252800"/>
          </a:xfrm>
        </p:grpSpPr>
        <p:pic>
          <p:nvPicPr>
            <p:cNvPr id="1526" name="图片 38" descr=""/>
            <p:cNvPicPr/>
            <p:nvPr/>
          </p:nvPicPr>
          <p:blipFill>
            <a:blip r:embed="rId7"/>
            <a:stretch/>
          </p:blipFill>
          <p:spPr>
            <a:xfrm>
              <a:off x="258840" y="1989720"/>
              <a:ext cx="93960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7" name="文本框 4"/>
            <p:cNvSpPr/>
            <p:nvPr/>
          </p:nvSpPr>
          <p:spPr>
            <a:xfrm>
              <a:off x="427320" y="2228400"/>
              <a:ext cx="6728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组合 53"/>
          <p:cNvGrpSpPr/>
          <p:nvPr/>
        </p:nvGrpSpPr>
        <p:grpSpPr>
          <a:xfrm>
            <a:off x="1843200" y="1989720"/>
            <a:ext cx="939600" cy="1252800"/>
            <a:chOff x="1843200" y="1989720"/>
            <a:chExt cx="939600" cy="1252800"/>
          </a:xfrm>
        </p:grpSpPr>
        <p:pic>
          <p:nvPicPr>
            <p:cNvPr id="1529" name="图片 43" descr=""/>
            <p:cNvPicPr/>
            <p:nvPr/>
          </p:nvPicPr>
          <p:blipFill>
            <a:blip r:embed="rId8"/>
            <a:stretch/>
          </p:blipFill>
          <p:spPr>
            <a:xfrm>
              <a:off x="1843200" y="1989720"/>
              <a:ext cx="93960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0" name="文本框 4"/>
            <p:cNvSpPr/>
            <p:nvPr/>
          </p:nvSpPr>
          <p:spPr>
            <a:xfrm>
              <a:off x="2011680" y="2228400"/>
              <a:ext cx="6728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组合 52"/>
          <p:cNvGrpSpPr/>
          <p:nvPr/>
        </p:nvGrpSpPr>
        <p:grpSpPr>
          <a:xfrm>
            <a:off x="3409920" y="1989720"/>
            <a:ext cx="939600" cy="1252800"/>
            <a:chOff x="3409920" y="1989720"/>
            <a:chExt cx="939600" cy="1252800"/>
          </a:xfrm>
        </p:grpSpPr>
        <p:pic>
          <p:nvPicPr>
            <p:cNvPr id="1532" name="图片 50" descr=""/>
            <p:cNvPicPr/>
            <p:nvPr/>
          </p:nvPicPr>
          <p:blipFill>
            <a:blip r:embed="rId9"/>
            <a:stretch/>
          </p:blipFill>
          <p:spPr>
            <a:xfrm>
              <a:off x="3409920" y="1989720"/>
              <a:ext cx="93960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3" name="文本框 4"/>
            <p:cNvSpPr/>
            <p:nvPr/>
          </p:nvSpPr>
          <p:spPr>
            <a:xfrm>
              <a:off x="3578760" y="2228400"/>
              <a:ext cx="6728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组合 54"/>
          <p:cNvGrpSpPr/>
          <p:nvPr/>
        </p:nvGrpSpPr>
        <p:grpSpPr>
          <a:xfrm>
            <a:off x="258840" y="3668040"/>
            <a:ext cx="939600" cy="1252800"/>
            <a:chOff x="258840" y="3668040"/>
            <a:chExt cx="939600" cy="1252800"/>
          </a:xfrm>
        </p:grpSpPr>
        <p:pic>
          <p:nvPicPr>
            <p:cNvPr id="1535" name="图片 55" descr=""/>
            <p:cNvPicPr/>
            <p:nvPr/>
          </p:nvPicPr>
          <p:blipFill>
            <a:blip r:embed="rId10"/>
            <a:stretch/>
          </p:blipFill>
          <p:spPr>
            <a:xfrm>
              <a:off x="258840" y="3668040"/>
              <a:ext cx="93960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文本框 4"/>
            <p:cNvSpPr/>
            <p:nvPr/>
          </p:nvSpPr>
          <p:spPr>
            <a:xfrm>
              <a:off x="427320" y="3906720"/>
              <a:ext cx="6728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组合 57"/>
          <p:cNvGrpSpPr/>
          <p:nvPr/>
        </p:nvGrpSpPr>
        <p:grpSpPr>
          <a:xfrm>
            <a:off x="1816200" y="3668040"/>
            <a:ext cx="939600" cy="1252800"/>
            <a:chOff x="1816200" y="3668040"/>
            <a:chExt cx="939600" cy="1252800"/>
          </a:xfrm>
        </p:grpSpPr>
        <p:pic>
          <p:nvPicPr>
            <p:cNvPr id="1538" name="图片 58" descr=""/>
            <p:cNvPicPr/>
            <p:nvPr/>
          </p:nvPicPr>
          <p:blipFill>
            <a:blip r:embed="rId11"/>
            <a:stretch/>
          </p:blipFill>
          <p:spPr>
            <a:xfrm>
              <a:off x="1816200" y="3668040"/>
              <a:ext cx="93960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9" name="文本框 4"/>
            <p:cNvSpPr/>
            <p:nvPr/>
          </p:nvSpPr>
          <p:spPr>
            <a:xfrm>
              <a:off x="1984680" y="3906720"/>
              <a:ext cx="6728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delay="0" evt="onClick">
                    <p:tgtEl>
                      <p:spTgt spid="1516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delay="0" evt="onClick">
                          <p:tgtEl>
                            <p:spTgt spid="1516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delay="0" evt="onClick">
                    <p:tgtEl>
                      <p:spTgt spid="1519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delay="0" evt="onClick">
                          <p:tgtEl>
                            <p:spTgt spid="1519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delay="0" evt="onClick">
                    <p:tgtEl>
                      <p:spTgt spid="1522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delay="0" evt="onClick">
                          <p:tgtEl>
                            <p:spTgt spid="1522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delay="0" evt="onClick">
                    <p:tgtEl>
                      <p:spTgt spid="1525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delay="0" evt="onClick">
                          <p:tgtEl>
                            <p:spTgt spid="1525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delay="0" evt="onClick">
                    <p:tgtEl>
                      <p:spTgt spid="1528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delay="0" evt="onClick">
                          <p:tgtEl>
                            <p:spTgt spid="1528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delay="0" evt="onClick">
                    <p:tgtEl>
                      <p:spTgt spid="1531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delay="0" evt="onClick">
                          <p:tgtEl>
                            <p:spTgt spid="1531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delay="0" evt="onClick">
                    <p:tgtEl>
                      <p:spTgt spid="1534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delay="0" evt="onClick">
                          <p:tgtEl>
                            <p:spTgt spid="1534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delay="0" evt="onClick">
                    <p:tgtEl>
                      <p:spTgt spid="1537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delay="0" evt="onClick">
                          <p:tgtEl>
                            <p:spTgt spid="1537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0" name="组合 3"/>
          <p:cNvGrpSpPr/>
          <p:nvPr/>
        </p:nvGrpSpPr>
        <p:grpSpPr>
          <a:xfrm>
            <a:off x="154080" y="139680"/>
            <a:ext cx="1978920" cy="1176480"/>
            <a:chOff x="154080" y="139680"/>
            <a:chExt cx="1978920" cy="1176480"/>
          </a:xfrm>
        </p:grpSpPr>
        <p:sp>
          <p:nvSpPr>
            <p:cNvPr id="1541" name="文本框 10"/>
            <p:cNvSpPr/>
            <p:nvPr/>
          </p:nvSpPr>
          <p:spPr>
            <a:xfrm>
              <a:off x="730080" y="440280"/>
              <a:ext cx="1402920" cy="572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575">
              <a:solidFill>
                <a:srgbClr val="43ceff"/>
              </a:solidFill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写一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2" name="图片 9" descr=""/>
            <p:cNvPicPr/>
            <p:nvPr/>
          </p:nvPicPr>
          <p:blipFill>
            <a:blip r:embed="rId1"/>
            <a:stretch/>
          </p:blipFill>
          <p:spPr>
            <a:xfrm>
              <a:off x="154080" y="139680"/>
              <a:ext cx="811080" cy="117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3" name="组合 5"/>
          <p:cNvGrpSpPr/>
          <p:nvPr/>
        </p:nvGrpSpPr>
        <p:grpSpPr>
          <a:xfrm>
            <a:off x="1085760" y="2461680"/>
            <a:ext cx="837360" cy="1164960"/>
            <a:chOff x="1085760" y="2461680"/>
            <a:chExt cx="837360" cy="1164960"/>
          </a:xfrm>
        </p:grpSpPr>
        <p:grpSp>
          <p:nvGrpSpPr>
            <p:cNvPr id="1544" name="组合 7"/>
            <p:cNvGrpSpPr/>
            <p:nvPr/>
          </p:nvGrpSpPr>
          <p:grpSpPr>
            <a:xfrm>
              <a:off x="1085760" y="2490480"/>
              <a:ext cx="837360" cy="1136160"/>
              <a:chOff x="1085760" y="2490480"/>
              <a:chExt cx="837360" cy="1136160"/>
            </a:xfrm>
          </p:grpSpPr>
          <p:sp>
            <p:nvSpPr>
              <p:cNvPr id="1545" name="矩形 1"/>
              <p:cNvSpPr/>
              <p:nvPr/>
            </p:nvSpPr>
            <p:spPr>
              <a:xfrm>
                <a:off x="1085760" y="2490480"/>
                <a:ext cx="837000" cy="111816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楷体"/>
                  <a:ea typeface="楷体"/>
                </a:endParaRPr>
              </a:p>
            </p:txBody>
          </p:sp>
          <p:cxnSp>
            <p:nvCxnSpPr>
              <p:cNvPr id="1546" name="直接连接符 4"/>
              <p:cNvCxnSpPr/>
              <p:nvPr/>
            </p:nvCxnSpPr>
            <p:spPr>
              <a:xfrm>
                <a:off x="1085760" y="3040920"/>
                <a:ext cx="83772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547" name="直接连接符 6"/>
              <p:cNvCxnSpPr/>
              <p:nvPr/>
            </p:nvCxnSpPr>
            <p:spPr>
              <a:xfrm>
                <a:off x="1504800" y="2508120"/>
                <a:ext cx="360" cy="111888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548" name="TextBox 2"/>
            <p:cNvSpPr/>
            <p:nvPr/>
          </p:nvSpPr>
          <p:spPr>
            <a:xfrm>
              <a:off x="1133280" y="2461680"/>
              <a:ext cx="7383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9" name="组合 7"/>
          <p:cNvGrpSpPr/>
          <p:nvPr/>
        </p:nvGrpSpPr>
        <p:grpSpPr>
          <a:xfrm>
            <a:off x="4092480" y="2489040"/>
            <a:ext cx="835560" cy="1137600"/>
            <a:chOff x="4092480" y="2489040"/>
            <a:chExt cx="835560" cy="1137600"/>
          </a:xfrm>
        </p:grpSpPr>
        <p:grpSp>
          <p:nvGrpSpPr>
            <p:cNvPr id="1550" name="组合 7"/>
            <p:cNvGrpSpPr/>
            <p:nvPr/>
          </p:nvGrpSpPr>
          <p:grpSpPr>
            <a:xfrm>
              <a:off x="4092480" y="2489040"/>
              <a:ext cx="835560" cy="1137600"/>
              <a:chOff x="4092480" y="2489040"/>
              <a:chExt cx="835560" cy="1137600"/>
            </a:xfrm>
          </p:grpSpPr>
          <p:sp>
            <p:nvSpPr>
              <p:cNvPr id="1551" name="矩形 1"/>
              <p:cNvSpPr/>
              <p:nvPr/>
            </p:nvSpPr>
            <p:spPr>
              <a:xfrm>
                <a:off x="4092480" y="2489040"/>
                <a:ext cx="835200" cy="111924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cxnSp>
            <p:nvCxnSpPr>
              <p:cNvPr id="1552" name="直接连接符 4"/>
              <p:cNvCxnSpPr/>
              <p:nvPr/>
            </p:nvCxnSpPr>
            <p:spPr>
              <a:xfrm>
                <a:off x="4092480" y="3040200"/>
                <a:ext cx="83592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553" name="直接连接符 6"/>
              <p:cNvCxnSpPr/>
              <p:nvPr/>
            </p:nvCxnSpPr>
            <p:spPr>
              <a:xfrm>
                <a:off x="4510440" y="2507040"/>
                <a:ext cx="360" cy="11199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554" name="TextBox 42"/>
            <p:cNvSpPr/>
            <p:nvPr/>
          </p:nvSpPr>
          <p:spPr>
            <a:xfrm>
              <a:off x="4115160" y="2493360"/>
              <a:ext cx="796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5" name="组合 7"/>
          <p:cNvGrpSpPr/>
          <p:nvPr/>
        </p:nvGrpSpPr>
        <p:grpSpPr>
          <a:xfrm>
            <a:off x="790560" y="4336920"/>
            <a:ext cx="835560" cy="1150200"/>
            <a:chOff x="790560" y="4336920"/>
            <a:chExt cx="835560" cy="1150200"/>
          </a:xfrm>
        </p:grpSpPr>
        <p:grpSp>
          <p:nvGrpSpPr>
            <p:cNvPr id="1556" name="组合 7"/>
            <p:cNvGrpSpPr/>
            <p:nvPr/>
          </p:nvGrpSpPr>
          <p:grpSpPr>
            <a:xfrm>
              <a:off x="790560" y="4355640"/>
              <a:ext cx="835560" cy="1131480"/>
              <a:chOff x="790560" y="4355640"/>
              <a:chExt cx="835560" cy="1131480"/>
            </a:xfrm>
          </p:grpSpPr>
          <p:sp>
            <p:nvSpPr>
              <p:cNvPr id="1557" name="矩形 1"/>
              <p:cNvSpPr/>
              <p:nvPr/>
            </p:nvSpPr>
            <p:spPr>
              <a:xfrm>
                <a:off x="790560" y="4355640"/>
                <a:ext cx="835200" cy="111348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cxnSp>
            <p:nvCxnSpPr>
              <p:cNvPr id="1558" name="直接连接符 4"/>
              <p:cNvCxnSpPr/>
              <p:nvPr/>
            </p:nvCxnSpPr>
            <p:spPr>
              <a:xfrm>
                <a:off x="790560" y="4903920"/>
                <a:ext cx="83592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559" name="直接连接符 6"/>
              <p:cNvCxnSpPr/>
              <p:nvPr/>
            </p:nvCxnSpPr>
            <p:spPr>
              <a:xfrm>
                <a:off x="1208520" y="4373280"/>
                <a:ext cx="360" cy="111420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560" name="TextBox 42"/>
            <p:cNvSpPr/>
            <p:nvPr/>
          </p:nvSpPr>
          <p:spPr>
            <a:xfrm>
              <a:off x="807840" y="4336920"/>
              <a:ext cx="796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1" name="组合 7"/>
          <p:cNvGrpSpPr/>
          <p:nvPr/>
        </p:nvGrpSpPr>
        <p:grpSpPr>
          <a:xfrm>
            <a:off x="3460680" y="4356000"/>
            <a:ext cx="835560" cy="1133280"/>
            <a:chOff x="3460680" y="4356000"/>
            <a:chExt cx="835560" cy="1133280"/>
          </a:xfrm>
        </p:grpSpPr>
        <p:grpSp>
          <p:nvGrpSpPr>
            <p:cNvPr id="1562" name="组合 7"/>
            <p:cNvGrpSpPr/>
            <p:nvPr/>
          </p:nvGrpSpPr>
          <p:grpSpPr>
            <a:xfrm>
              <a:off x="3460680" y="4356720"/>
              <a:ext cx="835560" cy="1132560"/>
              <a:chOff x="3460680" y="4356720"/>
              <a:chExt cx="835560" cy="1132560"/>
            </a:xfrm>
          </p:grpSpPr>
          <p:sp>
            <p:nvSpPr>
              <p:cNvPr id="1563" name="矩形 1"/>
              <p:cNvSpPr/>
              <p:nvPr/>
            </p:nvSpPr>
            <p:spPr>
              <a:xfrm>
                <a:off x="3460680" y="4356720"/>
                <a:ext cx="835200" cy="111456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cxnSp>
            <p:nvCxnSpPr>
              <p:cNvPr id="1564" name="直接连接符 4"/>
              <p:cNvCxnSpPr/>
              <p:nvPr/>
            </p:nvCxnSpPr>
            <p:spPr>
              <a:xfrm>
                <a:off x="3460680" y="4905360"/>
                <a:ext cx="83592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565" name="直接连接符 6"/>
              <p:cNvCxnSpPr/>
              <p:nvPr/>
            </p:nvCxnSpPr>
            <p:spPr>
              <a:xfrm>
                <a:off x="3878640" y="4374360"/>
                <a:ext cx="360" cy="111528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566" name="TextBox 42"/>
            <p:cNvSpPr/>
            <p:nvPr/>
          </p:nvSpPr>
          <p:spPr>
            <a:xfrm>
              <a:off x="3487320" y="4356000"/>
              <a:ext cx="796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7" name="组合 5"/>
          <p:cNvGrpSpPr/>
          <p:nvPr/>
        </p:nvGrpSpPr>
        <p:grpSpPr>
          <a:xfrm>
            <a:off x="2589120" y="2466000"/>
            <a:ext cx="837360" cy="1154160"/>
            <a:chOff x="2589120" y="2466000"/>
            <a:chExt cx="837360" cy="1154160"/>
          </a:xfrm>
        </p:grpSpPr>
        <p:grpSp>
          <p:nvGrpSpPr>
            <p:cNvPr id="1568" name="组合 7"/>
            <p:cNvGrpSpPr/>
            <p:nvPr/>
          </p:nvGrpSpPr>
          <p:grpSpPr>
            <a:xfrm>
              <a:off x="2589120" y="2489400"/>
              <a:ext cx="837360" cy="1130760"/>
              <a:chOff x="2589120" y="2489400"/>
              <a:chExt cx="837360" cy="1130760"/>
            </a:xfrm>
          </p:grpSpPr>
          <p:sp>
            <p:nvSpPr>
              <p:cNvPr id="1569" name="矩形 1"/>
              <p:cNvSpPr/>
              <p:nvPr/>
            </p:nvSpPr>
            <p:spPr>
              <a:xfrm>
                <a:off x="2589120" y="2489400"/>
                <a:ext cx="837000" cy="111276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楷体"/>
                  <a:ea typeface="楷体"/>
                </a:endParaRPr>
              </a:p>
            </p:txBody>
          </p:sp>
          <p:cxnSp>
            <p:nvCxnSpPr>
              <p:cNvPr id="1570" name="直接连接符 4"/>
              <p:cNvCxnSpPr/>
              <p:nvPr/>
            </p:nvCxnSpPr>
            <p:spPr>
              <a:xfrm>
                <a:off x="2589120" y="3037320"/>
                <a:ext cx="83772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571" name="直接连接符 6"/>
              <p:cNvCxnSpPr/>
              <p:nvPr/>
            </p:nvCxnSpPr>
            <p:spPr>
              <a:xfrm>
                <a:off x="3008160" y="2507040"/>
                <a:ext cx="360" cy="111348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572" name="TextBox 2"/>
            <p:cNvSpPr/>
            <p:nvPr/>
          </p:nvSpPr>
          <p:spPr>
            <a:xfrm>
              <a:off x="2632320" y="2466000"/>
              <a:ext cx="7383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组合 7"/>
          <p:cNvGrpSpPr/>
          <p:nvPr/>
        </p:nvGrpSpPr>
        <p:grpSpPr>
          <a:xfrm>
            <a:off x="5594040" y="2489040"/>
            <a:ext cx="835920" cy="1135440"/>
            <a:chOff x="5594040" y="2489040"/>
            <a:chExt cx="835920" cy="1135440"/>
          </a:xfrm>
        </p:grpSpPr>
        <p:grpSp>
          <p:nvGrpSpPr>
            <p:cNvPr id="1574" name="组合 7"/>
            <p:cNvGrpSpPr/>
            <p:nvPr/>
          </p:nvGrpSpPr>
          <p:grpSpPr>
            <a:xfrm>
              <a:off x="5594040" y="2489040"/>
              <a:ext cx="835920" cy="1135440"/>
              <a:chOff x="5594040" y="2489040"/>
              <a:chExt cx="835920" cy="1135440"/>
            </a:xfrm>
          </p:grpSpPr>
          <p:sp>
            <p:nvSpPr>
              <p:cNvPr id="1575" name="矩形 1"/>
              <p:cNvSpPr/>
              <p:nvPr/>
            </p:nvSpPr>
            <p:spPr>
              <a:xfrm>
                <a:off x="5594400" y="2489040"/>
                <a:ext cx="835200" cy="111708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cxnSp>
            <p:nvCxnSpPr>
              <p:cNvPr id="1576" name="直接连接符 4"/>
              <p:cNvCxnSpPr/>
              <p:nvPr/>
            </p:nvCxnSpPr>
            <p:spPr>
              <a:xfrm>
                <a:off x="5594040" y="3039120"/>
                <a:ext cx="8362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577" name="直接连接符 6"/>
              <p:cNvCxnSpPr/>
              <p:nvPr/>
            </p:nvCxnSpPr>
            <p:spPr>
              <a:xfrm>
                <a:off x="6012360" y="2507040"/>
                <a:ext cx="360" cy="111780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578" name="TextBox 42"/>
            <p:cNvSpPr/>
            <p:nvPr/>
          </p:nvSpPr>
          <p:spPr>
            <a:xfrm>
              <a:off x="5630400" y="2500200"/>
              <a:ext cx="796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珑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组合 7"/>
          <p:cNvGrpSpPr/>
          <p:nvPr/>
        </p:nvGrpSpPr>
        <p:grpSpPr>
          <a:xfrm>
            <a:off x="2125440" y="4349880"/>
            <a:ext cx="835920" cy="1139400"/>
            <a:chOff x="2125440" y="4349880"/>
            <a:chExt cx="835920" cy="1139400"/>
          </a:xfrm>
        </p:grpSpPr>
        <p:grpSp>
          <p:nvGrpSpPr>
            <p:cNvPr id="1580" name="组合 7"/>
            <p:cNvGrpSpPr/>
            <p:nvPr/>
          </p:nvGrpSpPr>
          <p:grpSpPr>
            <a:xfrm>
              <a:off x="2125440" y="4354920"/>
              <a:ext cx="835920" cy="1134360"/>
              <a:chOff x="2125440" y="4354920"/>
              <a:chExt cx="835920" cy="1134360"/>
            </a:xfrm>
          </p:grpSpPr>
          <p:sp>
            <p:nvSpPr>
              <p:cNvPr id="1581" name="矩形 1"/>
              <p:cNvSpPr/>
              <p:nvPr/>
            </p:nvSpPr>
            <p:spPr>
              <a:xfrm>
                <a:off x="2125800" y="4354920"/>
                <a:ext cx="835200" cy="111636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cxnSp>
            <p:nvCxnSpPr>
              <p:cNvPr id="1582" name="直接连接符 4"/>
              <p:cNvCxnSpPr/>
              <p:nvPr/>
            </p:nvCxnSpPr>
            <p:spPr>
              <a:xfrm>
                <a:off x="2125440" y="4904640"/>
                <a:ext cx="8362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583" name="直接连接符 6"/>
              <p:cNvCxnSpPr/>
              <p:nvPr/>
            </p:nvCxnSpPr>
            <p:spPr>
              <a:xfrm>
                <a:off x="2543760" y="4372560"/>
                <a:ext cx="360" cy="111708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584" name="TextBox 42"/>
            <p:cNvSpPr/>
            <p:nvPr/>
          </p:nvSpPr>
          <p:spPr>
            <a:xfrm>
              <a:off x="2149920" y="4349880"/>
              <a:ext cx="796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滑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组合 7"/>
          <p:cNvGrpSpPr/>
          <p:nvPr/>
        </p:nvGrpSpPr>
        <p:grpSpPr>
          <a:xfrm>
            <a:off x="4795560" y="4343400"/>
            <a:ext cx="835920" cy="1145880"/>
            <a:chOff x="4795560" y="4343400"/>
            <a:chExt cx="835920" cy="1145880"/>
          </a:xfrm>
        </p:grpSpPr>
        <p:grpSp>
          <p:nvGrpSpPr>
            <p:cNvPr id="1586" name="组合 7"/>
            <p:cNvGrpSpPr/>
            <p:nvPr/>
          </p:nvGrpSpPr>
          <p:grpSpPr>
            <a:xfrm>
              <a:off x="4795560" y="4356000"/>
              <a:ext cx="835920" cy="1133280"/>
              <a:chOff x="4795560" y="4356000"/>
              <a:chExt cx="835920" cy="1133280"/>
            </a:xfrm>
          </p:grpSpPr>
          <p:sp>
            <p:nvSpPr>
              <p:cNvPr id="1587" name="矩形 1"/>
              <p:cNvSpPr/>
              <p:nvPr/>
            </p:nvSpPr>
            <p:spPr>
              <a:xfrm>
                <a:off x="4795920" y="4356000"/>
                <a:ext cx="835200" cy="111528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cxnSp>
            <p:nvCxnSpPr>
              <p:cNvPr id="1588" name="直接连接符 4"/>
              <p:cNvCxnSpPr/>
              <p:nvPr/>
            </p:nvCxnSpPr>
            <p:spPr>
              <a:xfrm>
                <a:off x="4795560" y="4905000"/>
                <a:ext cx="8362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589" name="直接连接符 6"/>
              <p:cNvCxnSpPr/>
              <p:nvPr/>
            </p:nvCxnSpPr>
            <p:spPr>
              <a:xfrm>
                <a:off x="5213880" y="4373640"/>
                <a:ext cx="360" cy="111600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590" name="TextBox 42"/>
            <p:cNvSpPr/>
            <p:nvPr/>
          </p:nvSpPr>
          <p:spPr>
            <a:xfrm>
              <a:off x="4814640" y="4343400"/>
              <a:ext cx="796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狭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组合 7"/>
          <p:cNvGrpSpPr/>
          <p:nvPr/>
        </p:nvGrpSpPr>
        <p:grpSpPr>
          <a:xfrm>
            <a:off x="7095960" y="2478600"/>
            <a:ext cx="835560" cy="1143720"/>
            <a:chOff x="7095960" y="2478600"/>
            <a:chExt cx="835560" cy="1143720"/>
          </a:xfrm>
        </p:grpSpPr>
        <p:grpSp>
          <p:nvGrpSpPr>
            <p:cNvPr id="1592" name="组合 7"/>
            <p:cNvGrpSpPr/>
            <p:nvPr/>
          </p:nvGrpSpPr>
          <p:grpSpPr>
            <a:xfrm>
              <a:off x="7095960" y="2490120"/>
              <a:ext cx="835560" cy="1132200"/>
              <a:chOff x="7095960" y="2490120"/>
              <a:chExt cx="835560" cy="1132200"/>
            </a:xfrm>
          </p:grpSpPr>
          <p:sp>
            <p:nvSpPr>
              <p:cNvPr id="1593" name="矩形 1"/>
              <p:cNvSpPr/>
              <p:nvPr/>
            </p:nvSpPr>
            <p:spPr>
              <a:xfrm>
                <a:off x="7095960" y="2490120"/>
                <a:ext cx="835200" cy="111420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cxnSp>
            <p:nvCxnSpPr>
              <p:cNvPr id="1594" name="直接连接符 4"/>
              <p:cNvCxnSpPr/>
              <p:nvPr/>
            </p:nvCxnSpPr>
            <p:spPr>
              <a:xfrm>
                <a:off x="7095960" y="3038760"/>
                <a:ext cx="83592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595" name="直接连接符 6"/>
              <p:cNvCxnSpPr/>
              <p:nvPr/>
            </p:nvCxnSpPr>
            <p:spPr>
              <a:xfrm>
                <a:off x="7514280" y="2507760"/>
                <a:ext cx="360" cy="111492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596" name="TextBox 42"/>
            <p:cNvSpPr/>
            <p:nvPr/>
          </p:nvSpPr>
          <p:spPr>
            <a:xfrm>
              <a:off x="7130160" y="2478600"/>
              <a:ext cx="796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7" name="组合 7"/>
          <p:cNvGrpSpPr/>
          <p:nvPr/>
        </p:nvGrpSpPr>
        <p:grpSpPr>
          <a:xfrm>
            <a:off x="6129000" y="4330800"/>
            <a:ext cx="835920" cy="1160640"/>
            <a:chOff x="6129000" y="4330800"/>
            <a:chExt cx="835920" cy="1160640"/>
          </a:xfrm>
        </p:grpSpPr>
        <p:grpSp>
          <p:nvGrpSpPr>
            <p:cNvPr id="1598" name="组合 7"/>
            <p:cNvGrpSpPr/>
            <p:nvPr/>
          </p:nvGrpSpPr>
          <p:grpSpPr>
            <a:xfrm>
              <a:off x="6129000" y="4354920"/>
              <a:ext cx="835920" cy="1136520"/>
              <a:chOff x="6129000" y="4354920"/>
              <a:chExt cx="835920" cy="1136520"/>
            </a:xfrm>
          </p:grpSpPr>
          <p:sp>
            <p:nvSpPr>
              <p:cNvPr id="1599" name="矩形 1"/>
              <p:cNvSpPr/>
              <p:nvPr/>
            </p:nvSpPr>
            <p:spPr>
              <a:xfrm>
                <a:off x="6129360" y="4354920"/>
                <a:ext cx="835200" cy="111816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cxnSp>
            <p:nvCxnSpPr>
              <p:cNvPr id="1600" name="直接连接符 4"/>
              <p:cNvCxnSpPr/>
              <p:nvPr/>
            </p:nvCxnSpPr>
            <p:spPr>
              <a:xfrm>
                <a:off x="6129000" y="4905720"/>
                <a:ext cx="8362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601" name="直接连接符 6"/>
              <p:cNvCxnSpPr/>
              <p:nvPr/>
            </p:nvCxnSpPr>
            <p:spPr>
              <a:xfrm>
                <a:off x="6547320" y="4372920"/>
                <a:ext cx="360" cy="111888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602" name="TextBox 42"/>
            <p:cNvSpPr/>
            <p:nvPr/>
          </p:nvSpPr>
          <p:spPr>
            <a:xfrm>
              <a:off x="6147360" y="4330800"/>
              <a:ext cx="796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勉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组合 7"/>
          <p:cNvGrpSpPr/>
          <p:nvPr/>
        </p:nvGrpSpPr>
        <p:grpSpPr>
          <a:xfrm>
            <a:off x="7476840" y="4336920"/>
            <a:ext cx="835920" cy="1152360"/>
            <a:chOff x="7476840" y="4336920"/>
            <a:chExt cx="835920" cy="1152360"/>
          </a:xfrm>
        </p:grpSpPr>
        <p:grpSp>
          <p:nvGrpSpPr>
            <p:cNvPr id="1604" name="组合 7"/>
            <p:cNvGrpSpPr/>
            <p:nvPr/>
          </p:nvGrpSpPr>
          <p:grpSpPr>
            <a:xfrm>
              <a:off x="7476840" y="4356360"/>
              <a:ext cx="835920" cy="1132920"/>
              <a:chOff x="7476840" y="4356360"/>
              <a:chExt cx="835920" cy="1132920"/>
            </a:xfrm>
          </p:grpSpPr>
          <p:sp>
            <p:nvSpPr>
              <p:cNvPr id="1605" name="矩形 1"/>
              <p:cNvSpPr/>
              <p:nvPr/>
            </p:nvSpPr>
            <p:spPr>
              <a:xfrm>
                <a:off x="7477200" y="4356360"/>
                <a:ext cx="835200" cy="111492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cxnSp>
            <p:nvCxnSpPr>
              <p:cNvPr id="1606" name="直接连接符 4"/>
              <p:cNvCxnSpPr/>
              <p:nvPr/>
            </p:nvCxnSpPr>
            <p:spPr>
              <a:xfrm>
                <a:off x="7476840" y="4905360"/>
                <a:ext cx="8362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607" name="直接连接符 6"/>
              <p:cNvCxnSpPr/>
              <p:nvPr/>
            </p:nvCxnSpPr>
            <p:spPr>
              <a:xfrm>
                <a:off x="7895160" y="4374000"/>
                <a:ext cx="360" cy="11156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608" name="TextBox 42"/>
            <p:cNvSpPr/>
            <p:nvPr/>
          </p:nvSpPr>
          <p:spPr>
            <a:xfrm>
              <a:off x="7499160" y="4336920"/>
              <a:ext cx="796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组合 72"/>
          <p:cNvGrpSpPr/>
          <p:nvPr/>
        </p:nvGrpSpPr>
        <p:grpSpPr>
          <a:xfrm>
            <a:off x="2759040" y="702720"/>
            <a:ext cx="4909680" cy="1487520"/>
            <a:chOff x="2759040" y="702720"/>
            <a:chExt cx="4909680" cy="1487520"/>
          </a:xfrm>
        </p:grpSpPr>
        <p:sp>
          <p:nvSpPr>
            <p:cNvPr id="1610" name="椭圆 73"/>
            <p:cNvSpPr/>
            <p:nvPr/>
          </p:nvSpPr>
          <p:spPr>
            <a:xfrm>
              <a:off x="2759040" y="702720"/>
              <a:ext cx="4909680" cy="109620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611" name="文本框 1"/>
            <p:cNvSpPr/>
            <p:nvPr/>
          </p:nvSpPr>
          <p:spPr>
            <a:xfrm>
              <a:off x="3036960" y="819720"/>
              <a:ext cx="44438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按结构给下列各字分类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椭圆 75"/>
            <p:cNvSpPr/>
            <p:nvPr/>
          </p:nvSpPr>
          <p:spPr>
            <a:xfrm>
              <a:off x="3360600" y="1958040"/>
              <a:ext cx="177480" cy="13104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613" name="椭圆 76"/>
            <p:cNvSpPr/>
            <p:nvPr/>
          </p:nvSpPr>
          <p:spPr>
            <a:xfrm>
              <a:off x="3236760" y="2110320"/>
              <a:ext cx="107640" cy="7992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614" name="椭圆 77"/>
            <p:cNvSpPr/>
            <p:nvPr/>
          </p:nvSpPr>
          <p:spPr>
            <a:xfrm>
              <a:off x="3538440" y="1771560"/>
              <a:ext cx="225000" cy="16668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1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5" name="组合 2"/>
          <p:cNvGrpSpPr/>
          <p:nvPr/>
        </p:nvGrpSpPr>
        <p:grpSpPr>
          <a:xfrm>
            <a:off x="4140360" y="611640"/>
            <a:ext cx="4049280" cy="2050920"/>
            <a:chOff x="4140360" y="611640"/>
            <a:chExt cx="4049280" cy="2050920"/>
          </a:xfrm>
        </p:grpSpPr>
        <p:grpSp>
          <p:nvGrpSpPr>
            <p:cNvPr id="1616" name="组合 4"/>
            <p:cNvGrpSpPr/>
            <p:nvPr/>
          </p:nvGrpSpPr>
          <p:grpSpPr>
            <a:xfrm>
              <a:off x="6335640" y="1786320"/>
              <a:ext cx="758520" cy="876240"/>
              <a:chOff x="6335640" y="1786320"/>
              <a:chExt cx="758520" cy="876240"/>
            </a:xfrm>
          </p:grpSpPr>
          <p:sp>
            <p:nvSpPr>
              <p:cNvPr id="1617" name="云形 5"/>
              <p:cNvSpPr/>
              <p:nvPr/>
            </p:nvSpPr>
            <p:spPr>
              <a:xfrm>
                <a:off x="6335640" y="1865160"/>
                <a:ext cx="758520" cy="797400"/>
              </a:xfrm>
              <a:prstGeom prst="cloud">
                <a:avLst/>
              </a:prstGeom>
              <a:noFill/>
              <a:ln w="28575">
                <a:solidFill>
                  <a:srgbClr val="c72df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18" name="文本框 9"/>
              <p:cNvSpPr/>
              <p:nvPr/>
            </p:nvSpPr>
            <p:spPr>
              <a:xfrm>
                <a:off x="6393960" y="1786320"/>
                <a:ext cx="6202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楷体"/>
                    <a:ea typeface="楷体"/>
                  </a:rPr>
                  <a:t>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9" name="组合 7"/>
            <p:cNvGrpSpPr/>
            <p:nvPr/>
          </p:nvGrpSpPr>
          <p:grpSpPr>
            <a:xfrm>
              <a:off x="4140360" y="611640"/>
              <a:ext cx="758520" cy="888480"/>
              <a:chOff x="4140360" y="611640"/>
              <a:chExt cx="758520" cy="888480"/>
            </a:xfrm>
          </p:grpSpPr>
          <p:sp>
            <p:nvSpPr>
              <p:cNvPr id="1620" name="云形 8"/>
              <p:cNvSpPr/>
              <p:nvPr/>
            </p:nvSpPr>
            <p:spPr>
              <a:xfrm>
                <a:off x="4140360" y="702360"/>
                <a:ext cx="758520" cy="797760"/>
              </a:xfrm>
              <a:prstGeom prst="cloud">
                <a:avLst/>
              </a:prstGeom>
              <a:noFill/>
              <a:ln w="28575">
                <a:solidFill>
                  <a:srgbClr val="c72df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21" name="文本框 13"/>
              <p:cNvSpPr/>
              <p:nvPr/>
            </p:nvSpPr>
            <p:spPr>
              <a:xfrm>
                <a:off x="4205520" y="611640"/>
                <a:ext cx="6202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楷体"/>
                    <a:ea typeface="楷体"/>
                  </a:rPr>
                  <a:t>玲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2" name="组合 10"/>
            <p:cNvGrpSpPr/>
            <p:nvPr/>
          </p:nvGrpSpPr>
          <p:grpSpPr>
            <a:xfrm>
              <a:off x="5216400" y="611640"/>
              <a:ext cx="759960" cy="886680"/>
              <a:chOff x="5216400" y="611640"/>
              <a:chExt cx="759960" cy="886680"/>
            </a:xfrm>
          </p:grpSpPr>
          <p:sp>
            <p:nvSpPr>
              <p:cNvPr id="1623" name="云形 11"/>
              <p:cNvSpPr/>
              <p:nvPr/>
            </p:nvSpPr>
            <p:spPr>
              <a:xfrm>
                <a:off x="5216400" y="703080"/>
                <a:ext cx="759960" cy="795240"/>
              </a:xfrm>
              <a:prstGeom prst="cloud">
                <a:avLst/>
              </a:prstGeom>
              <a:noFill/>
              <a:ln w="28575">
                <a:solidFill>
                  <a:srgbClr val="c72df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24" name="文本框 16"/>
              <p:cNvSpPr/>
              <p:nvPr/>
            </p:nvSpPr>
            <p:spPr>
              <a:xfrm>
                <a:off x="5275080" y="611640"/>
                <a:ext cx="62172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楷体"/>
                    <a:ea typeface="楷体"/>
                  </a:rPr>
                  <a:t>珑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5" name="组合 13"/>
            <p:cNvGrpSpPr/>
            <p:nvPr/>
          </p:nvGrpSpPr>
          <p:grpSpPr>
            <a:xfrm>
              <a:off x="6335640" y="611640"/>
              <a:ext cx="758520" cy="861120"/>
              <a:chOff x="6335640" y="611640"/>
              <a:chExt cx="758520" cy="861120"/>
            </a:xfrm>
          </p:grpSpPr>
          <p:sp>
            <p:nvSpPr>
              <p:cNvPr id="1626" name="云形 14"/>
              <p:cNvSpPr/>
              <p:nvPr/>
            </p:nvSpPr>
            <p:spPr>
              <a:xfrm>
                <a:off x="6335640" y="671040"/>
                <a:ext cx="758520" cy="801720"/>
              </a:xfrm>
              <a:prstGeom prst="cloud">
                <a:avLst/>
              </a:prstGeom>
              <a:noFill/>
              <a:ln w="28575">
                <a:solidFill>
                  <a:srgbClr val="c72df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27" name="文本框 19"/>
              <p:cNvSpPr/>
              <p:nvPr/>
            </p:nvSpPr>
            <p:spPr>
              <a:xfrm>
                <a:off x="6387120" y="611640"/>
                <a:ext cx="6202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楷体"/>
                    <a:ea typeface="楷体"/>
                  </a:rPr>
                  <a:t>歇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8" name="组合 16"/>
            <p:cNvGrpSpPr/>
            <p:nvPr/>
          </p:nvGrpSpPr>
          <p:grpSpPr>
            <a:xfrm>
              <a:off x="4140360" y="1799280"/>
              <a:ext cx="758520" cy="863280"/>
              <a:chOff x="4140360" y="1799280"/>
              <a:chExt cx="758520" cy="863280"/>
            </a:xfrm>
          </p:grpSpPr>
          <p:sp>
            <p:nvSpPr>
              <p:cNvPr id="1629" name="云形 17"/>
              <p:cNvSpPr/>
              <p:nvPr/>
            </p:nvSpPr>
            <p:spPr>
              <a:xfrm>
                <a:off x="4140360" y="1860480"/>
                <a:ext cx="758520" cy="802080"/>
              </a:xfrm>
              <a:prstGeom prst="cloud">
                <a:avLst/>
              </a:prstGeom>
              <a:noFill/>
              <a:ln w="28575">
                <a:solidFill>
                  <a:srgbClr val="c72df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30" name="文本框 22"/>
              <p:cNvSpPr/>
              <p:nvPr/>
            </p:nvSpPr>
            <p:spPr>
              <a:xfrm>
                <a:off x="4205520" y="1799280"/>
                <a:ext cx="6202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楷体"/>
                    <a:ea typeface="楷体"/>
                  </a:rPr>
                  <a:t>拾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1" name="组合 19"/>
            <p:cNvGrpSpPr/>
            <p:nvPr/>
          </p:nvGrpSpPr>
          <p:grpSpPr>
            <a:xfrm>
              <a:off x="7431120" y="611640"/>
              <a:ext cx="758520" cy="886680"/>
              <a:chOff x="7431120" y="611640"/>
              <a:chExt cx="758520" cy="886680"/>
            </a:xfrm>
          </p:grpSpPr>
          <p:sp>
            <p:nvSpPr>
              <p:cNvPr id="1632" name="云形 20"/>
              <p:cNvSpPr/>
              <p:nvPr/>
            </p:nvSpPr>
            <p:spPr>
              <a:xfrm>
                <a:off x="7431120" y="703080"/>
                <a:ext cx="758520" cy="795240"/>
              </a:xfrm>
              <a:prstGeom prst="cloud">
                <a:avLst/>
              </a:prstGeom>
              <a:noFill/>
              <a:ln w="28575">
                <a:solidFill>
                  <a:srgbClr val="c72df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33" name="文本框 25"/>
              <p:cNvSpPr/>
              <p:nvPr/>
            </p:nvSpPr>
            <p:spPr>
              <a:xfrm>
                <a:off x="7496280" y="611640"/>
                <a:ext cx="6202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楷体"/>
                    <a:ea typeface="楷体"/>
                  </a:rPr>
                  <a:t>滑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组合 22"/>
            <p:cNvGrpSpPr/>
            <p:nvPr/>
          </p:nvGrpSpPr>
          <p:grpSpPr>
            <a:xfrm>
              <a:off x="5216400" y="1754640"/>
              <a:ext cx="758520" cy="907920"/>
              <a:chOff x="5216400" y="1754640"/>
              <a:chExt cx="758520" cy="907920"/>
            </a:xfrm>
          </p:grpSpPr>
          <p:sp>
            <p:nvSpPr>
              <p:cNvPr id="1635" name="云形 23"/>
              <p:cNvSpPr/>
              <p:nvPr/>
            </p:nvSpPr>
            <p:spPr>
              <a:xfrm>
                <a:off x="5216400" y="1867320"/>
                <a:ext cx="758520" cy="795240"/>
              </a:xfrm>
              <a:prstGeom prst="cloud">
                <a:avLst/>
              </a:prstGeom>
              <a:noFill/>
              <a:ln w="28575">
                <a:solidFill>
                  <a:srgbClr val="c72df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36" name="文本框 28"/>
              <p:cNvSpPr/>
              <p:nvPr/>
            </p:nvSpPr>
            <p:spPr>
              <a:xfrm>
                <a:off x="5274720" y="1754640"/>
                <a:ext cx="6202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楷体"/>
                    <a:ea typeface="楷体"/>
                  </a:rPr>
                  <a:t>狭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7" name="组合 3"/>
          <p:cNvGrpSpPr/>
          <p:nvPr/>
        </p:nvGrpSpPr>
        <p:grpSpPr>
          <a:xfrm>
            <a:off x="4140360" y="3244680"/>
            <a:ext cx="2953800" cy="897120"/>
            <a:chOff x="4140360" y="3244680"/>
            <a:chExt cx="2953800" cy="897120"/>
          </a:xfrm>
        </p:grpSpPr>
        <p:grpSp>
          <p:nvGrpSpPr>
            <p:cNvPr id="1638" name="组合 25"/>
            <p:cNvGrpSpPr/>
            <p:nvPr/>
          </p:nvGrpSpPr>
          <p:grpSpPr>
            <a:xfrm>
              <a:off x="4140360" y="3263760"/>
              <a:ext cx="759960" cy="878040"/>
              <a:chOff x="4140360" y="3263760"/>
              <a:chExt cx="759960" cy="878040"/>
            </a:xfrm>
          </p:grpSpPr>
          <p:sp>
            <p:nvSpPr>
              <p:cNvPr id="1639" name="云形 26"/>
              <p:cNvSpPr/>
              <p:nvPr/>
            </p:nvSpPr>
            <p:spPr>
              <a:xfrm>
                <a:off x="4140360" y="3344400"/>
                <a:ext cx="759960" cy="797400"/>
              </a:xfrm>
              <a:prstGeom prst="cloud">
                <a:avLst/>
              </a:prstGeom>
              <a:noFill/>
              <a:ln w="28575">
                <a:solidFill>
                  <a:srgbClr val="00b0f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40" name="文本框 31"/>
              <p:cNvSpPr/>
              <p:nvPr/>
            </p:nvSpPr>
            <p:spPr>
              <a:xfrm>
                <a:off x="4197240" y="3263760"/>
                <a:ext cx="62172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楷体"/>
                    <a:ea typeface="楷体"/>
                  </a:rPr>
                  <a:t>鼠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1" name="组合 28"/>
            <p:cNvGrpSpPr/>
            <p:nvPr/>
          </p:nvGrpSpPr>
          <p:grpSpPr>
            <a:xfrm>
              <a:off x="5216400" y="3282840"/>
              <a:ext cx="759960" cy="842040"/>
              <a:chOff x="5216400" y="3282840"/>
              <a:chExt cx="759960" cy="842040"/>
            </a:xfrm>
          </p:grpSpPr>
          <p:sp>
            <p:nvSpPr>
              <p:cNvPr id="1642" name="云形 29"/>
              <p:cNvSpPr/>
              <p:nvPr/>
            </p:nvSpPr>
            <p:spPr>
              <a:xfrm>
                <a:off x="5216400" y="3329280"/>
                <a:ext cx="759960" cy="795600"/>
              </a:xfrm>
              <a:prstGeom prst="cloud">
                <a:avLst/>
              </a:prstGeom>
              <a:noFill/>
              <a:ln w="28575">
                <a:solidFill>
                  <a:srgbClr val="00b0f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43" name="文本框 34"/>
              <p:cNvSpPr/>
              <p:nvPr/>
            </p:nvSpPr>
            <p:spPr>
              <a:xfrm>
                <a:off x="5267880" y="3282840"/>
                <a:ext cx="62172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楷体"/>
                    <a:ea typeface="楷体"/>
                  </a:rPr>
                  <a:t>秀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4" name="组合 31"/>
            <p:cNvGrpSpPr/>
            <p:nvPr/>
          </p:nvGrpSpPr>
          <p:grpSpPr>
            <a:xfrm>
              <a:off x="6334200" y="3244680"/>
              <a:ext cx="759960" cy="863280"/>
              <a:chOff x="6334200" y="3244680"/>
              <a:chExt cx="759960" cy="863280"/>
            </a:xfrm>
          </p:grpSpPr>
          <p:sp>
            <p:nvSpPr>
              <p:cNvPr id="1645" name="云形 32"/>
              <p:cNvSpPr/>
              <p:nvPr/>
            </p:nvSpPr>
            <p:spPr>
              <a:xfrm>
                <a:off x="6334200" y="3312360"/>
                <a:ext cx="759960" cy="795600"/>
              </a:xfrm>
              <a:prstGeom prst="cloud">
                <a:avLst/>
              </a:prstGeom>
              <a:noFill/>
              <a:ln w="28575">
                <a:solidFill>
                  <a:srgbClr val="00b0f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46" name="文本框 37"/>
              <p:cNvSpPr/>
              <p:nvPr/>
            </p:nvSpPr>
            <p:spPr>
              <a:xfrm>
                <a:off x="6392520" y="3244680"/>
                <a:ext cx="62172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楷体"/>
                    <a:ea typeface="楷体"/>
                  </a:rPr>
                  <a:t>窝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7" name="组合 34"/>
          <p:cNvGrpSpPr/>
          <p:nvPr/>
        </p:nvGrpSpPr>
        <p:grpSpPr>
          <a:xfrm>
            <a:off x="4140360" y="5012280"/>
            <a:ext cx="759960" cy="871560"/>
            <a:chOff x="4140360" y="5012280"/>
            <a:chExt cx="759960" cy="871560"/>
          </a:xfrm>
        </p:grpSpPr>
        <p:sp>
          <p:nvSpPr>
            <p:cNvPr id="1648" name="云形 35"/>
            <p:cNvSpPr/>
            <p:nvPr/>
          </p:nvSpPr>
          <p:spPr>
            <a:xfrm>
              <a:off x="4140360" y="5088240"/>
              <a:ext cx="759960" cy="795600"/>
            </a:xfrm>
            <a:prstGeom prst="cloud">
              <a:avLst/>
            </a:prstGeom>
            <a:noFill/>
            <a:ln w="28575">
              <a:solidFill>
                <a:srgbClr val="fb9c6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649" name="文本框 40"/>
            <p:cNvSpPr/>
            <p:nvPr/>
          </p:nvSpPr>
          <p:spPr>
            <a:xfrm>
              <a:off x="4186080" y="5012280"/>
              <a:ext cx="621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组合 61"/>
          <p:cNvGrpSpPr/>
          <p:nvPr/>
        </p:nvGrpSpPr>
        <p:grpSpPr>
          <a:xfrm>
            <a:off x="903240" y="717480"/>
            <a:ext cx="2917440" cy="676800"/>
            <a:chOff x="903240" y="717480"/>
            <a:chExt cx="2917440" cy="676800"/>
          </a:xfrm>
        </p:grpSpPr>
        <p:sp>
          <p:nvSpPr>
            <p:cNvPr id="1651" name="文本框 4"/>
            <p:cNvSpPr/>
            <p:nvPr/>
          </p:nvSpPr>
          <p:spPr>
            <a:xfrm>
              <a:off x="903240" y="748440"/>
              <a:ext cx="2917440" cy="645840"/>
            </a:xfrm>
            <a:prstGeom prst="homePlate">
              <a:avLst>
                <a:gd name="adj" fmla="val 49630"/>
              </a:avLst>
            </a:prstGeom>
            <a:solidFill>
              <a:srgbClr val="e6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2" name="矩形 37"/>
            <p:cNvSpPr/>
            <p:nvPr/>
          </p:nvSpPr>
          <p:spPr>
            <a:xfrm>
              <a:off x="1540080" y="717480"/>
              <a:ext cx="1278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宋体"/>
                </a:rPr>
                <a:t>左右结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3" name="组合 59"/>
          <p:cNvGrpSpPr/>
          <p:nvPr/>
        </p:nvGrpSpPr>
        <p:grpSpPr>
          <a:xfrm>
            <a:off x="879480" y="3193920"/>
            <a:ext cx="2917440" cy="666720"/>
            <a:chOff x="879480" y="3193920"/>
            <a:chExt cx="2917440" cy="666720"/>
          </a:xfrm>
        </p:grpSpPr>
        <p:sp>
          <p:nvSpPr>
            <p:cNvPr id="1654" name="文本框 4"/>
            <p:cNvSpPr/>
            <p:nvPr/>
          </p:nvSpPr>
          <p:spPr>
            <a:xfrm>
              <a:off x="879480" y="3214800"/>
              <a:ext cx="2917440" cy="645840"/>
            </a:xfrm>
            <a:prstGeom prst="homePlate">
              <a:avLst>
                <a:gd name="adj" fmla="val 49630"/>
              </a:avLst>
            </a:prstGeom>
            <a:solidFill>
              <a:srgbClr val="c5fffc"/>
            </a:solidFill>
            <a:ln w="9525">
              <a:solidFill>
                <a:srgbClr val="dbfd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5" name="矩形 38"/>
            <p:cNvSpPr/>
            <p:nvPr/>
          </p:nvSpPr>
          <p:spPr>
            <a:xfrm>
              <a:off x="1541160" y="3193920"/>
              <a:ext cx="1278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宋体"/>
                </a:rPr>
                <a:t>上下结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组合 56"/>
          <p:cNvGrpSpPr/>
          <p:nvPr/>
        </p:nvGrpSpPr>
        <p:grpSpPr>
          <a:xfrm>
            <a:off x="846000" y="4984920"/>
            <a:ext cx="2917440" cy="647280"/>
            <a:chOff x="846000" y="4984920"/>
            <a:chExt cx="2917440" cy="647280"/>
          </a:xfrm>
        </p:grpSpPr>
        <p:sp>
          <p:nvSpPr>
            <p:cNvPr id="1657" name="文本框 4"/>
            <p:cNvSpPr/>
            <p:nvPr/>
          </p:nvSpPr>
          <p:spPr>
            <a:xfrm>
              <a:off x="846000" y="4984920"/>
              <a:ext cx="2917440" cy="645840"/>
            </a:xfrm>
            <a:prstGeom prst="homePlate">
              <a:avLst>
                <a:gd name="adj" fmla="val 49630"/>
              </a:avLst>
            </a:prstGeom>
            <a:solidFill>
              <a:srgbClr val="fcc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8" name="矩形 39"/>
            <p:cNvSpPr/>
            <p:nvPr/>
          </p:nvSpPr>
          <p:spPr>
            <a:xfrm>
              <a:off x="1394640" y="4993920"/>
              <a:ext cx="1552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宋体"/>
                </a:rPr>
                <a:t>半包围结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9" name="图片 4" descr=""/>
          <p:cNvPicPr/>
          <p:nvPr/>
        </p:nvPicPr>
        <p:blipFill>
          <a:blip r:embed="rId1"/>
          <a:stretch/>
        </p:blipFill>
        <p:spPr>
          <a:xfrm>
            <a:off x="6605640" y="3805920"/>
            <a:ext cx="2061720" cy="25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6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6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6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6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6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6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6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0" name="组合 1"/>
          <p:cNvGrpSpPr/>
          <p:nvPr/>
        </p:nvGrpSpPr>
        <p:grpSpPr>
          <a:xfrm>
            <a:off x="76320" y="177840"/>
            <a:ext cx="2485800" cy="897120"/>
            <a:chOff x="76320" y="177840"/>
            <a:chExt cx="2485800" cy="897120"/>
          </a:xfrm>
        </p:grpSpPr>
        <p:sp>
          <p:nvSpPr>
            <p:cNvPr id="1661" name="文本框 7"/>
            <p:cNvSpPr/>
            <p:nvPr/>
          </p:nvSpPr>
          <p:spPr>
            <a:xfrm>
              <a:off x="659880" y="254160"/>
              <a:ext cx="19022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词语解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2" name="图片 4" descr=""/>
            <p:cNvPicPr/>
            <p:nvPr/>
          </p:nvPicPr>
          <p:blipFill>
            <a:blip r:embed="rId1"/>
            <a:stretch/>
          </p:blipFill>
          <p:spPr>
            <a:xfrm>
              <a:off x="76320" y="177840"/>
              <a:ext cx="78192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3" name="TextBox 1"/>
          <p:cNvSpPr/>
          <p:nvPr/>
        </p:nvSpPr>
        <p:spPr>
          <a:xfrm>
            <a:off x="725400" y="1039320"/>
            <a:ext cx="788940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5000"/>
              </a:lnSpc>
              <a:spcBef>
                <a:spcPts val="4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和顺善良。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4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对危险或情况变化的敏锐感觉。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4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强壮有力。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4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动物冬眠，潜伏起来不食不动。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4" name="组合 3"/>
          <p:cNvGrpSpPr/>
          <p:nvPr/>
        </p:nvGrpSpPr>
        <p:grpSpPr>
          <a:xfrm>
            <a:off x="795240" y="4991040"/>
            <a:ext cx="7509960" cy="1096200"/>
            <a:chOff x="795240" y="4991040"/>
            <a:chExt cx="7509960" cy="1096200"/>
          </a:xfrm>
        </p:grpSpPr>
        <p:sp>
          <p:nvSpPr>
            <p:cNvPr id="1665" name="圆角矩形 13"/>
            <p:cNvSpPr/>
            <p:nvPr/>
          </p:nvSpPr>
          <p:spPr>
            <a:xfrm>
              <a:off x="795240" y="4991040"/>
              <a:ext cx="7509960" cy="1096200"/>
            </a:xfrm>
            <a:prstGeom prst="roundRect">
              <a:avLst>
                <a:gd name="adj" fmla="val 16667"/>
              </a:avLst>
            </a:prstGeom>
            <a:solidFill>
              <a:srgbClr val="d1fe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marL="360000">
                <a:lnSpc>
                  <a:spcPct val="120000"/>
                </a:lnSpc>
              </a:pPr>
              <a:endParaRPr b="1" lang="en-US" sz="30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  <p:sp>
          <p:nvSpPr>
            <p:cNvPr id="1666" name="矩形 1"/>
            <p:cNvSpPr/>
            <p:nvPr/>
          </p:nvSpPr>
          <p:spPr>
            <a:xfrm>
              <a:off x="1557000" y="5104080"/>
              <a:ext cx="60638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3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A.</a:t>
              </a:r>
              <a:r>
                <a:rPr b="1" lang="zh-CN" sz="3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驯良   </a:t>
              </a:r>
              <a:r>
                <a:rPr b="1" lang="en-US" sz="3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B.</a:t>
              </a:r>
              <a:r>
                <a:rPr b="1" lang="zh-CN" sz="3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蛰伏   </a:t>
              </a:r>
              <a:r>
                <a:rPr b="1" lang="en-US" sz="3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C.</a:t>
              </a:r>
              <a:r>
                <a:rPr b="1" lang="zh-CN" sz="3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警觉   </a:t>
              </a:r>
              <a:r>
                <a:rPr b="1" lang="en-US" sz="3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D.</a:t>
              </a:r>
              <a:r>
                <a:rPr b="1" lang="zh-CN" sz="3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矫健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7" name="文本框 2"/>
          <p:cNvSpPr/>
          <p:nvPr/>
        </p:nvSpPr>
        <p:spPr>
          <a:xfrm>
            <a:off x="7524000" y="3947760"/>
            <a:ext cx="30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文本框 3"/>
          <p:cNvSpPr/>
          <p:nvPr/>
        </p:nvSpPr>
        <p:spPr>
          <a:xfrm>
            <a:off x="7525800" y="2059560"/>
            <a:ext cx="303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文本框 4"/>
          <p:cNvSpPr/>
          <p:nvPr/>
        </p:nvSpPr>
        <p:spPr>
          <a:xfrm>
            <a:off x="3838680" y="1075320"/>
            <a:ext cx="313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文本框 3"/>
          <p:cNvSpPr/>
          <p:nvPr/>
        </p:nvSpPr>
        <p:spPr>
          <a:xfrm>
            <a:off x="3841560" y="2993040"/>
            <a:ext cx="321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900</Words>
  <Paragraphs>2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20:19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8-14T09:01:07Z</dcterms:modified>
  <cp:revision>1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894</vt:lpwstr>
  </property>
  <property fmtid="{D5CDD505-2E9C-101B-9397-08002B2CF9AE}" pid="3" name="Notes">
    <vt:r8>3</vt:r8>
  </property>
  <property fmtid="{D5CDD505-2E9C-101B-9397-08002B2CF9AE}" pid="4" name="PresentationFormat">
    <vt:lpwstr>全屏显示(4:3)</vt:lpwstr>
  </property>
  <property fmtid="{D5CDD505-2E9C-101B-9397-08002B2CF9AE}" pid="5" name="Slides">
    <vt:r8>36</vt:r8>
  </property>
</Properties>
</file>