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613-6963-4581-AC52-E2D806E4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640" y="3217680"/>
            <a:ext cx="720036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A60-01E0-4320-8DC8-CD7ED016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640" y="321768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1280" y="321768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DE8-B16C-40DC-A05D-029953C7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6320" y="191772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41000" y="191772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640" y="321768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06320" y="321768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41000" y="321768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F3E-D83E-49A8-950B-812F0110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9A60-7379-4877-BC31-006731BD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8C20-0DC2-4B0B-899F-7F977189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14AD-4CF8-4723-9010-BA497DF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9661-31D0-4EF0-86C3-592614E6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5570-C596-491B-8005-60738B94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1640" y="736560"/>
            <a:ext cx="720036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5BFD-54C0-4F08-8BD2-B9032180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71640" y="321768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FA7-6F26-49D7-B65F-001ED58C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802-C15F-482C-A2B9-8E4D6052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1280" y="321768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8BB7-1F72-4623-B6CA-2E41716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71640" y="3217680"/>
            <a:ext cx="720036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FBA0-52C1-4DFF-9A15-6B61A6B7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71640" y="3217680"/>
            <a:ext cx="720036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13CB-03FC-4FA7-8276-8045021E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1640" y="321768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1280" y="321768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6222-9D70-4308-B803-7BCC50F1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06320" y="191772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41000" y="191772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71640" y="321768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06320" y="321768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841000" y="3217680"/>
            <a:ext cx="23184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881B-9340-423D-916F-7034E2D1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9EA-F617-43A4-A13C-4F2CE73A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3CB-9107-4E75-AD54-3CD9E4AD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D12-25B0-406A-BCC2-25AC8035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71640" y="736560"/>
            <a:ext cx="720036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E5D-ADAF-419B-8148-778E577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640" y="321768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FB8-2607-488E-9F0A-F56A0F9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1280" y="321768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43D-FA15-4044-B39F-47A0552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17720"/>
            <a:ext cx="351360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640" y="3217680"/>
            <a:ext cx="7200360" cy="11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F95-DE42-495D-8847-15525F1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11880" y="0"/>
            <a:ext cx="9172080" cy="5141880"/>
            <a:chOff x="-11880" y="0"/>
            <a:chExt cx="9172080" cy="5141880"/>
          </a:xfrm>
        </p:grpSpPr>
        <p:pic>
          <p:nvPicPr>
            <p:cNvPr id="1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112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456120" y="457200"/>
              <a:ext cx="8229240" cy="42289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1880" y="2365200"/>
              <a:ext cx="58248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8577720" y="2365200"/>
              <a:ext cx="582480" cy="45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" name="Group 6"/>
          <p:cNvGrpSpPr/>
          <p:nvPr/>
        </p:nvGrpSpPr>
        <p:grpSpPr>
          <a:xfrm>
            <a:off x="-12600" y="0"/>
            <a:ext cx="9173160" cy="5141880"/>
            <a:chOff x="-12600" y="0"/>
            <a:chExt cx="9173160" cy="5141880"/>
          </a:xfrm>
        </p:grpSpPr>
        <p:pic>
          <p:nvPicPr>
            <p:cNvPr id="6" name="Picture 15" descr="HD-PanelTitleR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112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25"/>
            <p:cNvSpPr/>
            <p:nvPr/>
          </p:nvSpPr>
          <p:spPr>
            <a:xfrm>
              <a:off x="1746360" y="1155600"/>
              <a:ext cx="5657400" cy="287604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Picture 16" descr="HDRibbonTitle-UniformTrim.png"/>
            <p:cNvPicPr/>
            <p:nvPr/>
          </p:nvPicPr>
          <p:blipFill>
            <a:blip r:embed="rId7"/>
            <a:stretch/>
          </p:blipFill>
          <p:spPr>
            <a:xfrm>
              <a:off x="-12600" y="2360880"/>
              <a:ext cx="1858320" cy="4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9" descr="HDRibbonTitle-UniformTrim.png"/>
            <p:cNvPicPr/>
            <p:nvPr/>
          </p:nvPicPr>
          <p:blipFill>
            <a:blip r:embed="rId8"/>
            <a:stretch/>
          </p:blipFill>
          <p:spPr>
            <a:xfrm>
              <a:off x="7302240" y="2360880"/>
              <a:ext cx="1858320" cy="45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19240" y="1403280"/>
            <a:ext cx="5111280" cy="1136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100" spc="-1" strike="noStrike">
                <a:solidFill>
                  <a:srgbClr val="262626"/>
                </a:solidFill>
                <a:latin typeface="Candara"/>
              </a:rPr>
              <a:t>单击此处编辑母版标题样式</a:t>
            </a:r>
            <a:endParaRPr b="0" lang="en-US" sz="4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5987520" y="3778200"/>
            <a:ext cx="672840" cy="20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000000"/>
                </a:solidFill>
                <a:latin typeface="Candar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2019240" y="3778200"/>
            <a:ext cx="3910680" cy="20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6717600" y="3778200"/>
            <a:ext cx="412920" cy="20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B7AF2-BE8F-47A1-91A7-AFAC6A12F72C}" type="slidenum">
              <a:rPr b="0" lang="en-US" sz="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" name="Straight Connector 14"/>
          <p:cNvCxnSpPr/>
          <p:nvPr/>
        </p:nvCxnSpPr>
        <p:spPr>
          <a:xfrm>
            <a:off x="2019240" y="2641320"/>
            <a:ext cx="511200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Candara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Candara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100" spc="-1" strike="noStrike">
                <a:solidFill>
                  <a:srgbClr val="262626"/>
                </a:solidFill>
                <a:latin typeface="Candara"/>
              </a:rPr>
              <a:t>Fourth Outline Level</a:t>
            </a:r>
            <a:endParaRPr b="0" lang="en-US" sz="1100" spc="-1" strike="noStrike">
              <a:solidFill>
                <a:srgbClr val="262626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Candara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Candara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Candara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11880" y="0"/>
            <a:ext cx="9172080" cy="5141880"/>
            <a:chOff x="-11880" y="0"/>
            <a:chExt cx="9172080" cy="5141880"/>
          </a:xfrm>
        </p:grpSpPr>
        <p:pic>
          <p:nvPicPr>
            <p:cNvPr id="53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112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456120" y="457200"/>
              <a:ext cx="8229240" cy="42289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1880" y="2365200"/>
              <a:ext cx="58248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8577720" y="2365200"/>
              <a:ext cx="582480" cy="4543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7" name="Straight Connector 6"/>
          <p:cNvCxnSpPr/>
          <p:nvPr/>
        </p:nvCxnSpPr>
        <p:spPr>
          <a:xfrm>
            <a:off x="1046880" y="1815840"/>
            <a:ext cx="705600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214200" indent="-21420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单击此处编辑母版文本样式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lvl="1" marL="557280" indent="-214200">
              <a:lnSpc>
                <a:spcPct val="100000"/>
              </a:lnSpc>
              <a:spcBef>
                <a:spcPts val="300"/>
              </a:spcBef>
              <a:spcAft>
                <a:spcPts val="45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500" spc="-1" strike="noStrike">
                <a:solidFill>
                  <a:srgbClr val="262626"/>
                </a:solidFill>
                <a:latin typeface="Candara"/>
              </a:rPr>
              <a:t>第二级</a:t>
            </a:r>
            <a:endParaRPr b="0" lang="en-US" sz="1500" spc="-1" strike="noStrike">
              <a:solidFill>
                <a:srgbClr val="262626"/>
              </a:solidFill>
              <a:latin typeface="Candara"/>
            </a:endParaRPr>
          </a:p>
          <a:p>
            <a:pPr lvl="2" marL="900000" indent="-214200">
              <a:lnSpc>
                <a:spcPct val="100000"/>
              </a:lnSpc>
              <a:spcBef>
                <a:spcPts val="281"/>
              </a:spcBef>
              <a:spcAft>
                <a:spcPts val="45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400" spc="-1" strike="noStrike">
                <a:solidFill>
                  <a:srgbClr val="262626"/>
                </a:solidFill>
                <a:latin typeface="Candara"/>
              </a:rPr>
              <a:t>第三级</a:t>
            </a:r>
            <a:endParaRPr b="0" lang="en-US" sz="1400" spc="-1" strike="noStrike">
              <a:solidFill>
                <a:srgbClr val="262626"/>
              </a:solidFill>
              <a:latin typeface="Candara"/>
            </a:endParaRPr>
          </a:p>
          <a:p>
            <a:pPr lvl="3" marL="1157400" indent="-128520">
              <a:lnSpc>
                <a:spcPct val="100000"/>
              </a:lnSpc>
              <a:spcBef>
                <a:spcPts val="241"/>
              </a:spcBef>
              <a:spcAft>
                <a:spcPts val="45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200" spc="-1" strike="noStrike">
                <a:solidFill>
                  <a:srgbClr val="262626"/>
                </a:solidFill>
                <a:latin typeface="Candara"/>
              </a:rPr>
              <a:t>第四级</a:t>
            </a:r>
            <a:endParaRPr b="0" lang="en-US" sz="1200" spc="-1" strike="noStrike">
              <a:solidFill>
                <a:srgbClr val="262626"/>
              </a:solidFill>
              <a:latin typeface="Candara"/>
            </a:endParaRPr>
          </a:p>
          <a:p>
            <a:pPr lvl="4" marL="1500120" indent="-128520">
              <a:lnSpc>
                <a:spcPct val="100000"/>
              </a:lnSpc>
              <a:spcBef>
                <a:spcPts val="221"/>
              </a:spcBef>
              <a:spcAft>
                <a:spcPts val="45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100" spc="-1" strike="noStrike">
                <a:solidFill>
                  <a:srgbClr val="262626"/>
                </a:solidFill>
                <a:latin typeface="Candara"/>
              </a:rPr>
              <a:t>第五级</a:t>
            </a:r>
            <a:endParaRPr b="0" lang="en-US" sz="11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508080" y="4476600"/>
            <a:ext cx="1199880" cy="20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000000"/>
                </a:solidFill>
                <a:latin typeface="Candar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971640" y="4476600"/>
            <a:ext cx="5479200" cy="20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765560" y="4476600"/>
            <a:ext cx="406800" cy="20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10357D-6522-4631-A48C-588566461066}" type="slidenum">
              <a:rPr b="0" lang="en-US" sz="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19240" y="1403280"/>
            <a:ext cx="5111280" cy="1136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100" spc="-1" strike="noStrike">
                <a:solidFill>
                  <a:srgbClr val="262626"/>
                </a:solidFill>
                <a:latin typeface="Candara"/>
              </a:rPr>
              <a:t>5</a:t>
            </a:r>
            <a:r>
              <a:rPr b="0" lang="zh-CN" sz="4100" spc="-1" strike="noStrike">
                <a:solidFill>
                  <a:srgbClr val="262626"/>
                </a:solidFill>
                <a:latin typeface="Candara"/>
              </a:rPr>
              <a:t>、守株待兔</a:t>
            </a:r>
            <a:endParaRPr b="0" lang="en-US" sz="4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667440" y="291960"/>
            <a:ext cx="39232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ndara"/>
              </a:rPr>
              <a:t>部编语文教材小学三年级下册第二单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066760" y="3454560"/>
            <a:ext cx="50479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ndara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守株待兔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宋人有耕田者，田中有株，兔走触株，折颈而死。因释其耒而守株，冀复得兔。兔不可复得，而身为宋国笑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我来填空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57152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宋人（      ），田中（     ）。兔走（      ），（     ）而死。因（         ），冀（       ）。兔（      ），而（      ）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pic>
        <p:nvPicPr>
          <p:cNvPr id="128" name="图片 4" descr=""/>
          <p:cNvPicPr/>
          <p:nvPr/>
        </p:nvPicPr>
        <p:blipFill>
          <a:blip r:embed="rId1"/>
          <a:stretch/>
        </p:blipFill>
        <p:spPr>
          <a:xfrm>
            <a:off x="893520" y="730080"/>
            <a:ext cx="7356960" cy="3676680"/>
          </a:xfrm>
          <a:prstGeom prst="rect">
            <a:avLst/>
          </a:prstGeom>
          <a:ln cap="sq" w="444500">
            <a:solidFill>
              <a:srgbClr val="000000"/>
            </a:solidFill>
            <a:miter/>
          </a:ln>
          <a:effectLst>
            <a:outerShdw algn="bl" blurRad="254160" dir="2700000" dist="190409" rotWithShape="0" sy="90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0" name="内容占位符 4" descr=""/>
          <p:cNvPicPr/>
          <p:nvPr/>
        </p:nvPicPr>
        <p:blipFill>
          <a:blip r:embed="rId1"/>
          <a:stretch/>
        </p:blipFill>
        <p:spPr>
          <a:xfrm>
            <a:off x="627840" y="892440"/>
            <a:ext cx="7907040" cy="335196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借助注释，理解文意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课文主要讲了一件什么事？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73640" y="728280"/>
            <a:ext cx="7596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兔不可复得，而身为宋国笑。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4000" y="19591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为什么？结合课文说说你的理解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这则寓言要告诉我们什么道理？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这则寓言故事告诫我们：做事要靠自己的努力，踏踏实实干，不要有侥幸的心理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4000" y="82764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第二课时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pic>
        <p:nvPicPr>
          <p:cNvPr id="139" name="图片 3" descr=""/>
          <p:cNvPicPr/>
          <p:nvPr/>
        </p:nvPicPr>
        <p:blipFill>
          <a:blip r:embed="rId1"/>
          <a:stretch/>
        </p:blipFill>
        <p:spPr>
          <a:xfrm>
            <a:off x="2318040" y="1917720"/>
            <a:ext cx="429300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看图说话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1" name="内容占位符 3" descr=""/>
          <p:cNvPicPr/>
          <p:nvPr/>
        </p:nvPicPr>
        <p:blipFill>
          <a:blip r:embed="rId1"/>
          <a:stretch/>
        </p:blipFill>
        <p:spPr>
          <a:xfrm>
            <a:off x="5139360" y="1926360"/>
            <a:ext cx="3265560" cy="2700360"/>
          </a:xfrm>
          <a:prstGeom prst="rect">
            <a:avLst/>
          </a:prstGeom>
          <a:ln w="0">
            <a:noFill/>
          </a:ln>
        </p:spPr>
      </p:pic>
      <p:sp>
        <p:nvSpPr>
          <p:cNvPr id="142" name="云形标注 4"/>
          <p:cNvSpPr/>
          <p:nvPr/>
        </p:nvSpPr>
        <p:spPr>
          <a:xfrm>
            <a:off x="5445000" y="524520"/>
            <a:ext cx="3230280" cy="1189440"/>
          </a:xfrm>
          <a:prstGeom prst="cloudCallout">
            <a:avLst>
              <a:gd name="adj1" fmla="val 8406"/>
              <a:gd name="adj2" fmla="val 125000"/>
            </a:avLst>
          </a:prstGeom>
          <a:solidFill>
            <a:srgbClr val="83992a"/>
          </a:solidFill>
          <a:ln>
            <a:solidFill>
              <a:srgbClr val="60711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Candara"/>
              </a:rPr>
              <a:t>此时农夫在想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1379880" y="1926360"/>
            <a:ext cx="3031920" cy="2700360"/>
          </a:xfrm>
          <a:prstGeom prst="rect">
            <a:avLst/>
          </a:prstGeom>
          <a:noFill/>
          <a:ln w="571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Candara"/>
              </a:rPr>
              <a:t>任务单一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Candara"/>
              </a:rPr>
              <a:t>农夫悠然自得地坐在树桩旁，他想：                       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结合插图和课文，把故事讲完整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任务单二：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从前，宋国有个农夫，                                                                                     。 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                                                                                                                         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                                                                                                                         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  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学习目标：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1.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正确认读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4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个生字，会写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9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个生字，写好“左右结构”的字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2.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会正确断句“因释其耒而守株”，把课文读通顺，读出节奏，背诵课文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3.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借助注释，了解课文大意，明白寓言故事道理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4.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看图，把图画的意思写清楚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50080" y="380160"/>
            <a:ext cx="8009640" cy="433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宋国有个农夫正在田里翻土。突然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看见有一只野兔从旁边的草丛里慌慌张张地窜出来，一头撞在田边的树墩子上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便倒在那儿一动也不动了。农民走过去一看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: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兔子死了。因为它奔跑的速度太快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把脖子都撞折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(shé)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了。农民高兴极了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一点力气没花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就白捡了一只又肥又大的野兔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心想：要是天天都能捡到野兔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日子就好过了。从此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再也不肯出力气种地了。每天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把锄头放在身边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就躺在树墩子跟前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等待着第二只、第三只野兔自己撞到这树墩子上来。世上哪有那么多便宜事啊。农民当然没有再捡到撞死的野兔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,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而他的田地却荒芜了。因为没能再次得到兔子，农民自己沦为了宋国的笑柄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文言文与现代文有什么区别？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文言文更凝练、简洁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现代文更详细、生动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这则寓言要告诉我们什么道理？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这则寓言故事告诫我们：做事要靠自己的努力，踏踏实实干，不要有侥幸的心理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200" y="497160"/>
            <a:ext cx="7200360" cy="436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南辕北辙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933840"/>
            <a:ext cx="7200360" cy="347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从前有一个人，坐着马车在大路上飞跑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的朋友看见了，叫住他问：“你上哪儿去呀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!”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回答说：“到楚国去。”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朋友很奇怪，提醒他说：“楚国在南边，你怎么往北走呀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?”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说：“没关系，我的马跑得快。”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朋友说：“马跑得越快，离楚国不是越远了吗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?”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说：“没关系，我的车夫是个好把式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!”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朋友摇摇头，说：“那你哪一天才能到楚国呀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!”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他说：“没关系，不怕时间久，我带的盘缠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(chan)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多。”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楚国在南边，他硬要往北边走。他的马越好，赶车的本领越大，盘缠带得越多，走得越远，就越到不了楚国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971640" y="4346280"/>
            <a:ext cx="7200360" cy="652320"/>
          </a:xfrm>
          <a:prstGeom prst="rect">
            <a:avLst/>
          </a:prstGeom>
          <a:solidFill>
            <a:srgbClr val="83992a"/>
          </a:solidFill>
          <a:ln>
            <a:solidFill>
              <a:srgbClr val="60711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Candara"/>
              </a:rPr>
              <a:t>这则寓言故事讲了一件什么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2280" y="447840"/>
            <a:ext cx="7200360" cy="576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故事里的商人犯了什么错？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这则寓言故事告诫我们：无论做什么事、都要首先看准方向、才能充分发挥自己的有利条件；如果方向错了、那么有利条件只会起到相反的作用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4817520" y="1129680"/>
            <a:ext cx="316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ndara"/>
              </a:rPr>
              <a:t>这则寓言故事告诉我们一个什么道理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920" y="977760"/>
            <a:ext cx="7469280" cy="33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情境一：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小明准备在田径运动会上争夺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800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米的赛跑冠军。他为此买了最轻便的跑鞋，最舒适的运动服。老师提醒他要每天坚持练习跑步，可是小明不听，他想，反正我有最轻便的跑鞋，最舒适的运动服，不怕。你作为小明的同学，知道他这一想法后，要怎么劝劝他？请用上合适的寓言故事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71640" y="923040"/>
            <a:ext cx="7200360" cy="348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情境二：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小林好吃懒做，总想着天上能掉下来馅饼就好了。一天，他去街上溜达，在街头转角处捡到了十块钱，高兴坏了，马上去买了一个香喷喷的馅饼吃。从此以后，他天天到街上溜达，期望能再捡到钱。如果你是他的邻居，知道他的想法后，你要怎么劝告他？请用上合适的寓言故事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作业：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2054160"/>
            <a:ext cx="7200360" cy="1500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14200" indent="-21420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如果你见到《守株待兔》的农夫，你会怎么劝告他？把你想对他说的话写下来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marL="214200" indent="-21420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从《中国古代寓言故事》中挑选一两则寓言来阅读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4000" y="82764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第一课时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2318040" y="1917720"/>
            <a:ext cx="429300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8" name="内容占位符 5" descr=""/>
          <p:cNvPicPr/>
          <p:nvPr/>
        </p:nvPicPr>
        <p:blipFill>
          <a:blip r:embed="rId1"/>
          <a:stretch/>
        </p:blipFill>
        <p:spPr>
          <a:xfrm>
            <a:off x="2971440" y="802800"/>
            <a:ext cx="2399040" cy="3551400"/>
          </a:xfrm>
          <a:prstGeom prst="rect">
            <a:avLst/>
          </a:prstGeom>
          <a:ln cap="sq" w="444500">
            <a:solidFill>
              <a:srgbClr val="000000"/>
            </a:solidFill>
            <a:miter/>
          </a:ln>
          <a:effectLst>
            <a:outerShdw algn="bl" blurRad="254160" dir="2700000" dist="190409" rotWithShape="0" sy="90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0" name="内容占位符 4" descr=""/>
          <p:cNvPicPr/>
          <p:nvPr/>
        </p:nvPicPr>
        <p:blipFill>
          <a:blip r:embed="rId1"/>
          <a:stretch/>
        </p:blipFill>
        <p:spPr>
          <a:xfrm>
            <a:off x="627840" y="892440"/>
            <a:ext cx="7907040" cy="335196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守株待兔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9177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 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宋人有耕田者，田中有株，兔走触株，折颈而死。因释其耒而守株，冀复得兔。兔不可复得，而身为宋国笑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975600"/>
            <a:ext cx="721368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ɡēnɡ    sònɡ    shì     jì       lěi 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  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耕        宋        释    冀     耒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1885680" y="2744640"/>
            <a:ext cx="1628280" cy="189504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3514320" y="2744640"/>
            <a:ext cx="4381560" cy="189504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117" name="矩形 5"/>
          <p:cNvSpPr/>
          <p:nvPr/>
        </p:nvSpPr>
        <p:spPr>
          <a:xfrm>
            <a:off x="7270560" y="18396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ndara"/>
              </a:rPr>
              <a:t>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你知道哪些跟“耒”字旁有关的字？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02120" y="200016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 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耕、耘、耙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736560"/>
            <a:ext cx="7200360" cy="977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262626"/>
                </a:solidFill>
                <a:latin typeface="Candara"/>
              </a:rPr>
              <a:t>因释其耒而守株，冀复得兔。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7280" y="2140920"/>
            <a:ext cx="7200360" cy="2488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451"/>
              </a:spcAft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因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/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释其耒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/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而守株，冀</a:t>
            </a:r>
            <a:r>
              <a:rPr b="0" lang="en-US" sz="1800" spc="-1" strike="noStrike">
                <a:solidFill>
                  <a:srgbClr val="262626"/>
                </a:solidFill>
                <a:latin typeface="Candara"/>
              </a:rPr>
              <a:t>/</a:t>
            </a:r>
            <a:r>
              <a:rPr b="0" lang="zh-CN" sz="1800" spc="-1" strike="noStrike">
                <a:solidFill>
                  <a:srgbClr val="262626"/>
                </a:solidFill>
                <a:latin typeface="Candara"/>
              </a:rPr>
              <a:t>复得兔。</a:t>
            </a:r>
            <a:endParaRPr b="0" lang="en-US" sz="1800" spc="-1" strike="noStrike">
              <a:solidFill>
                <a:srgbClr val="262626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环保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环保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ganic</Template>
  <TotalTime>3</TotalTime>
  <Application>LibreOffice/7.4.7.2$Linux_X86_64 LibreOffice_project/40$Build-2</Application>
  <AppVersion>15.0000</AppVersion>
  <Words>1718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0T04:16:54Z</dcterms:created>
  <dc:creator>第一PPT模板网-WWW.1PPT.COM</dc:creator>
  <dc:description/>
  <dc:language>en-US</dc:language>
  <cp:lastModifiedBy>123</cp:lastModifiedBy>
  <dcterms:modified xsi:type="dcterms:W3CDTF">2021-03-19T02:08:10Z</dcterms:modified>
  <cp:revision>2</cp:revision>
  <dc:subject/>
  <dc:title>5、守株待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98</vt:lpwstr>
  </property>
  <property fmtid="{D5CDD505-2E9C-101B-9397-08002B2CF9AE}" pid="3" name="PresentationFormat">
    <vt:lpwstr>全屏显示(16:9)</vt:lpwstr>
  </property>
  <property fmtid="{D5CDD505-2E9C-101B-9397-08002B2CF9AE}" pid="4" name="Slides">
    <vt:r8>28</vt:r8>
  </property>
</Properties>
</file>