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audio1.wav" ContentType="audio/x-wav"/>
  <Override PartName="/ppt/media/audio2.wav" ContentType="audio/x-wav"/>
  <Override PartName="/ppt/media/image13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9C25F6-6C7D-434C-AB23-128392663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645A13-CACF-4816-AD9E-5312403F3F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fld id="{D6FFEE6A-54C5-4FFD-BA3D-61EA9037BA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944-9DFC-4FCC-9C8A-63ADFB98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98D9-9D02-4405-A8CE-C9847124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285-E8BF-4224-8DBF-4EA93E17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18C-DC85-4367-8E6F-A876B83F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3421-289D-41B4-973D-1EF80AE0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7E4C-3652-45D6-ADF3-43C259E5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764A-A7EA-4511-88D7-34861F27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5633-D019-4306-9F3B-80BBEAF9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24DA-DE37-4AF7-8F5F-7A6EAC82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F1A9-3D96-4970-9968-3F00FEAB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15A5-023D-4B29-B390-952C0CFF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684-A5C2-4AE5-81FC-C45D8D7E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15A4-A27A-4914-B7C5-F23DF1B0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CAD3-141B-4947-8CB1-353A70D1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A93E-F7A2-4266-B6F4-0A77B94C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39B7-AFE2-4219-ABC5-BAEAF372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EE21-9EC8-436E-ACF9-13C038E1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DEB-C962-45E6-8FE3-A6847B0A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062-ADF2-473C-B976-5944CFC7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363-A822-4F16-B97F-75AD1BFC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E25-364A-471B-AF40-7AD309A3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5A2-F6AA-4C64-ACBD-19B13978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EEB-9A9A-4FA5-BEB6-43A7AE88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2A0-18D4-4CAD-AAD1-1E36215A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4"/>
          <p:cNvSpPr/>
          <p:nvPr/>
        </p:nvSpPr>
        <p:spPr>
          <a:xfrm rot="10800000">
            <a:off x="360" y="869760"/>
            <a:ext cx="6108120" cy="37400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" name="图片 28" descr=""/>
          <p:cNvPicPr/>
          <p:nvPr/>
        </p:nvPicPr>
        <p:blipFill>
          <a:blip r:embed="rId2"/>
          <a:srcRect l="0" t="0" r="0" b="-88"/>
          <a:stretch/>
        </p:blipFill>
        <p:spPr>
          <a:xfrm>
            <a:off x="-9360" y="895320"/>
            <a:ext cx="6105240" cy="3701520"/>
          </a:xfrm>
          <a:prstGeom prst="rect">
            <a:avLst/>
          </a:prstGeom>
          <a:ln w="0">
            <a:noFill/>
          </a:ln>
        </p:spPr>
      </p:pic>
      <p:sp>
        <p:nvSpPr>
          <p:cNvPr id="2" name="矩形 14"/>
          <p:cNvSpPr/>
          <p:nvPr/>
        </p:nvSpPr>
        <p:spPr>
          <a:xfrm>
            <a:off x="0" y="1536840"/>
            <a:ext cx="6108120" cy="229824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" name="矩形 14"/>
          <p:cNvSpPr/>
          <p:nvPr/>
        </p:nvSpPr>
        <p:spPr>
          <a:xfrm>
            <a:off x="504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" name="图片 6" descr=""/>
          <p:cNvPicPr/>
          <p:nvPr/>
        </p:nvPicPr>
        <p:blipFill>
          <a:blip r:embed="rId3"/>
          <a:stretch/>
        </p:blipFill>
        <p:spPr>
          <a:xfrm>
            <a:off x="8470080" y="252360"/>
            <a:ext cx="392400" cy="36324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5548320" y="281160"/>
            <a:ext cx="241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北京师范大学出版社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二年级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  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</a:pPr>
            <a:fld id="{CD7BDBAB-30F7-4F52-BCE4-C7F4BBCCD5E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4"/>
          <p:cNvSpPr/>
          <p:nvPr/>
        </p:nvSpPr>
        <p:spPr>
          <a:xfrm>
            <a:off x="0" y="171720"/>
            <a:ext cx="9143640" cy="52128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8" name="图片 21" descr=""/>
          <p:cNvPicPr/>
          <p:nvPr/>
        </p:nvPicPr>
        <p:blipFill>
          <a:blip r:embed="rId2"/>
          <a:stretch/>
        </p:blipFill>
        <p:spPr>
          <a:xfrm>
            <a:off x="1675080" y="190440"/>
            <a:ext cx="7468560" cy="520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8" descr=""/>
          <p:cNvPicPr/>
          <p:nvPr/>
        </p:nvPicPr>
        <p:blipFill>
          <a:blip r:embed="rId3"/>
          <a:stretch/>
        </p:blipFill>
        <p:spPr>
          <a:xfrm>
            <a:off x="8504640" y="252360"/>
            <a:ext cx="392400" cy="363240"/>
          </a:xfrm>
          <a:prstGeom prst="rect">
            <a:avLst/>
          </a:prstGeom>
          <a:ln w="0">
            <a:noFill/>
          </a:ln>
        </p:spPr>
      </p:pic>
      <p:sp>
        <p:nvSpPr>
          <p:cNvPr id="50" name="矩形 8"/>
          <p:cNvSpPr/>
          <p:nvPr/>
        </p:nvSpPr>
        <p:spPr>
          <a:xfrm>
            <a:off x="5548320" y="281160"/>
            <a:ext cx="241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北京师范大学出版社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二年级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  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8D9FCFB-2B67-445E-97D6-5CF64E3B29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4"/>
          <p:cNvSpPr/>
          <p:nvPr/>
        </p:nvSpPr>
        <p:spPr>
          <a:xfrm>
            <a:off x="0" y="171720"/>
            <a:ext cx="9143640" cy="521280"/>
          </a:xfrm>
          <a:prstGeom prst="rect">
            <a:avLst/>
          </a:prstGeom>
          <a:gradFill rotWithShape="0">
            <a:gsLst>
              <a:gs pos="0">
                <a:srgbClr val="e6fbfe">
                  <a:alpha val="80000"/>
                </a:srgbClr>
              </a:gs>
              <a:gs pos="100000">
                <a:srgbClr val="57d2e3"/>
              </a:gs>
            </a:gsLst>
            <a:lin ang="10800000"/>
          </a:gradFill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3" name="图片 21" descr=""/>
          <p:cNvPicPr/>
          <p:nvPr/>
        </p:nvPicPr>
        <p:blipFill>
          <a:blip r:embed="rId2"/>
          <a:stretch/>
        </p:blipFill>
        <p:spPr>
          <a:xfrm>
            <a:off x="1675080" y="190440"/>
            <a:ext cx="7468560" cy="5202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8" descr=""/>
          <p:cNvPicPr/>
          <p:nvPr/>
        </p:nvPicPr>
        <p:blipFill>
          <a:blip r:embed="rId3"/>
          <a:stretch/>
        </p:blipFill>
        <p:spPr>
          <a:xfrm>
            <a:off x="8504640" y="252360"/>
            <a:ext cx="392400" cy="363240"/>
          </a:xfrm>
          <a:prstGeom prst="rect">
            <a:avLst/>
          </a:prstGeom>
          <a:ln w="0">
            <a:noFill/>
          </a:ln>
        </p:spPr>
      </p:pic>
      <p:sp>
        <p:nvSpPr>
          <p:cNvPr id="95" name="矩形 8"/>
          <p:cNvSpPr/>
          <p:nvPr/>
        </p:nvSpPr>
        <p:spPr>
          <a:xfrm>
            <a:off x="5548320" y="281160"/>
            <a:ext cx="241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北京师范大学出版社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二年级 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|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下册  </a:t>
            </a: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audio2.wav"/><Relationship Id="rId3" Type="http://schemas.openxmlformats.org/officeDocument/2006/relationships/audio" Target="../media/audio2.wav"/><Relationship Id="rId4" Type="http://schemas.openxmlformats.org/officeDocument/2006/relationships/audio" Target="../media/audio2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udio2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audio" Target="../media/audio1.wav"/><Relationship Id="rId12" Type="http://schemas.openxmlformats.org/officeDocument/2006/relationships/audio" Target="../media/audio1.wav"/><Relationship Id="rId13" Type="http://schemas.openxmlformats.org/officeDocument/2006/relationships/audio" Target="../media/audio1.wav"/><Relationship Id="rId14" Type="http://schemas.openxmlformats.org/officeDocument/2006/relationships/audio" Target="../media/audio1.wav"/><Relationship Id="rId15" Type="http://schemas.openxmlformats.org/officeDocument/2006/relationships/audio" Target="../media/audio1.wav"/><Relationship Id="rId16" Type="http://schemas.openxmlformats.org/officeDocument/2006/relationships/audio" Target="../media/audio1.wav"/><Relationship Id="rId17" Type="http://schemas.openxmlformats.org/officeDocument/2006/relationships/audio" Target="../media/audio1.wav"/><Relationship Id="rId18" Type="http://schemas.openxmlformats.org/officeDocument/2006/relationships/audio" Target="../media/audio1.wav"/><Relationship Id="rId19" Type="http://schemas.openxmlformats.org/officeDocument/2006/relationships/audio" Target="../media/audio1.wav"/><Relationship Id="rId2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14"/>
          <p:cNvSpPr/>
          <p:nvPr/>
        </p:nvSpPr>
        <p:spPr>
          <a:xfrm>
            <a:off x="0" y="840240"/>
            <a:ext cx="9143640" cy="6017400"/>
          </a:xfrm>
          <a:prstGeom prst="rect">
            <a:avLst/>
          </a:prstGeom>
          <a:noFill/>
          <a:ln w="0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41" name="组合 8"/>
          <p:cNvGrpSpPr/>
          <p:nvPr/>
        </p:nvGrpSpPr>
        <p:grpSpPr>
          <a:xfrm>
            <a:off x="0" y="1316160"/>
            <a:ext cx="9143640" cy="2203200"/>
            <a:chOff x="0" y="1316160"/>
            <a:chExt cx="9143640" cy="2203200"/>
          </a:xfrm>
        </p:grpSpPr>
        <p:sp>
          <p:nvSpPr>
            <p:cNvPr id="142" name="矩形 16"/>
            <p:cNvSpPr/>
            <p:nvPr/>
          </p:nvSpPr>
          <p:spPr>
            <a:xfrm>
              <a:off x="287280" y="1316160"/>
              <a:ext cx="856944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十单元</a:t>
              </a:r>
              <a:r>
                <a:rPr b="1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动脑筋</a:t>
              </a:r>
              <a:r>
                <a:rPr b="1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二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2"/>
            <p:cNvSpPr/>
            <p:nvPr/>
          </p:nvSpPr>
          <p:spPr>
            <a:xfrm>
              <a:off x="0" y="2515320"/>
              <a:ext cx="91436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6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狮子和兔子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矩形 5"/>
          <p:cNvSpPr/>
          <p:nvPr/>
        </p:nvSpPr>
        <p:spPr>
          <a:xfrm>
            <a:off x="2923920" y="52995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2"/>
          <p:cNvSpPr/>
          <p:nvPr/>
        </p:nvSpPr>
        <p:spPr>
          <a:xfrm>
            <a:off x="0" y="105552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合作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8"/>
          <p:cNvSpPr/>
          <p:nvPr/>
        </p:nvSpPr>
        <p:spPr>
          <a:xfrm>
            <a:off x="648720" y="1809720"/>
            <a:ext cx="811980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兔子在笑谁？引发的结果是什么？狮子为什么生气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586480" y="2992320"/>
            <a:ext cx="2540520" cy="363960"/>
          </a:xfrm>
          <a:prstGeom prst="rect">
            <a:avLst/>
          </a:prstGeom>
          <a:solidFill>
            <a:srgbClr val="b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恼羞成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5" descr="探究式教学【素材】《狮子和兔子》狮子2（北师大）.jpg"/>
          <p:cNvPicPr/>
          <p:nvPr/>
        </p:nvPicPr>
        <p:blipFill>
          <a:blip r:embed="rId1"/>
          <a:stretch/>
        </p:blipFill>
        <p:spPr>
          <a:xfrm>
            <a:off x="648720" y="3094200"/>
            <a:ext cx="3481200" cy="29761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7"/>
          <p:cNvSpPr/>
          <p:nvPr/>
        </p:nvSpPr>
        <p:spPr>
          <a:xfrm>
            <a:off x="5248440" y="4273560"/>
            <a:ext cx="3025080" cy="36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气红蚂蚁咬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274360" y="5086440"/>
            <a:ext cx="3025080" cy="36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气小兔子笑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288760" y="5923080"/>
            <a:ext cx="3524040" cy="36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气自己赶不走红蚂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8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8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2"/>
          <p:cNvSpPr/>
          <p:nvPr/>
        </p:nvSpPr>
        <p:spPr>
          <a:xfrm>
            <a:off x="0" y="72216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自主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"/>
          <p:cNvSpPr/>
          <p:nvPr/>
        </p:nvSpPr>
        <p:spPr>
          <a:xfrm>
            <a:off x="293040" y="1886760"/>
            <a:ext cx="875916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子是如此愤怒，可是兔子却并不和他计较。瞧，它的做法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"/>
          <p:cNvSpPr/>
          <p:nvPr/>
        </p:nvSpPr>
        <p:spPr>
          <a:xfrm>
            <a:off x="1097640" y="2765520"/>
            <a:ext cx="7767000" cy="63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兔子笑嘻嘻地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果红蚂蚁叮在我身上，我就跳到水里去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0"/>
          <p:cNvSpPr/>
          <p:nvPr/>
        </p:nvSpPr>
        <p:spPr>
          <a:xfrm>
            <a:off x="3831480" y="4200480"/>
            <a:ext cx="416448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帮狮子像赶走红蚂蚁的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7" descr="探究式教学【素材】《狮子和兔子》兔子4（北师大）.jpg"/>
          <p:cNvPicPr/>
          <p:nvPr/>
        </p:nvPicPr>
        <p:blipFill>
          <a:blip r:embed="rId1"/>
          <a:stretch/>
        </p:blipFill>
        <p:spPr>
          <a:xfrm>
            <a:off x="1232280" y="3990960"/>
            <a:ext cx="1427040" cy="26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195120" y="90972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自主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983520" y="1538640"/>
            <a:ext cx="789264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听了兔子的提醒，狮子是怎么做的？是怎样想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9"/>
          <p:cNvSpPr/>
          <p:nvPr/>
        </p:nvSpPr>
        <p:spPr>
          <a:xfrm>
            <a:off x="3376440" y="2959200"/>
            <a:ext cx="5539680" cy="63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句话提醒了狮子，他纵身跳进河里，河水立即把红蚂蚁冲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5"/>
          <p:cNvSpPr/>
          <p:nvPr/>
        </p:nvSpPr>
        <p:spPr>
          <a:xfrm>
            <a:off x="4064040" y="5208480"/>
            <a:ext cx="416448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狮子会想：“……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6" descr="探究式教学【素材】《狮子和兔子》课文插图（北师大）.png"/>
          <p:cNvPicPr/>
          <p:nvPr/>
        </p:nvPicPr>
        <p:blipFill>
          <a:blip r:embed="rId1"/>
          <a:stretch/>
        </p:blipFill>
        <p:spPr>
          <a:xfrm>
            <a:off x="0" y="2471760"/>
            <a:ext cx="3376080" cy="43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2"/>
          <p:cNvSpPr/>
          <p:nvPr/>
        </p:nvSpPr>
        <p:spPr>
          <a:xfrm>
            <a:off x="195120" y="90972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自主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"/>
          <p:cNvSpPr/>
          <p:nvPr/>
        </p:nvSpPr>
        <p:spPr>
          <a:xfrm>
            <a:off x="403560" y="1763640"/>
            <a:ext cx="874008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兔子的办法管不管用？兔子不仅帮狮子解决了问题，它还告诉狮子一个道理，请用波浪线在文中画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581400" y="3433320"/>
            <a:ext cx="7942320" cy="501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回你明白了吧，光凭力气和发脾气是解决不了问题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581400" y="4604040"/>
            <a:ext cx="7995960" cy="501120"/>
          </a:xfrm>
          <a:prstGeom prst="rect">
            <a:avLst/>
          </a:prstGeom>
          <a:solidFill>
            <a:srgbClr val="b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光凭力气和发脾气是解决不了问题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2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7"/>
          <p:cNvSpPr/>
          <p:nvPr/>
        </p:nvSpPr>
        <p:spPr>
          <a:xfrm>
            <a:off x="1458360" y="5900760"/>
            <a:ext cx="6837480" cy="36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发现了“……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"/>
          <p:cNvSpPr/>
          <p:nvPr/>
        </p:nvSpPr>
        <p:spPr>
          <a:xfrm>
            <a:off x="591840" y="1776240"/>
            <a:ext cx="787140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小兔子的办法和狮子的办法比一比，你发现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194040" y="94284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协作交流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4" descr="探究式教学【素材】《狮子和兔子》狮子3（北师大）.jpg"/>
          <p:cNvPicPr/>
          <p:nvPr/>
        </p:nvPicPr>
        <p:blipFill>
          <a:blip r:embed="rId1"/>
          <a:stretch/>
        </p:blipFill>
        <p:spPr>
          <a:xfrm>
            <a:off x="1020240" y="2917800"/>
            <a:ext cx="2292840" cy="28015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5" descr="探究式教学【素材】《狮子和兔子》兔子3（北师大）.jpg"/>
          <p:cNvPicPr/>
          <p:nvPr/>
        </p:nvPicPr>
        <p:blipFill>
          <a:blip r:embed="rId2"/>
          <a:stretch/>
        </p:blipFill>
        <p:spPr>
          <a:xfrm>
            <a:off x="4150440" y="3141720"/>
            <a:ext cx="2886840" cy="22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文本框 2"/>
          <p:cNvSpPr/>
          <p:nvPr/>
        </p:nvSpPr>
        <p:spPr>
          <a:xfrm>
            <a:off x="226080" y="2276640"/>
            <a:ext cx="8640000" cy="91260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啊，这只狮子仗着自己的力气大，脾气大，就以为自己是百兽之王，没有什么事能难倒他，经过这件事他才明白了光凭力气和发脾气是解决不了问题的。要想解决问题，必须动脑筋想办法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25000" y="92232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总结提高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7"/>
          <p:cNvSpPr/>
          <p:nvPr/>
        </p:nvSpPr>
        <p:spPr>
          <a:xfrm>
            <a:off x="0" y="107316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猜谜语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9" descr="timg.jpg"/>
          <p:cNvPicPr/>
          <p:nvPr/>
        </p:nvPicPr>
        <p:blipFill>
          <a:blip r:embed="rId1"/>
          <a:stretch/>
        </p:blipFill>
        <p:spPr>
          <a:xfrm>
            <a:off x="440640" y="2203560"/>
            <a:ext cx="2335680" cy="3344400"/>
          </a:xfrm>
          <a:prstGeom prst="rect">
            <a:avLst/>
          </a:prstGeom>
          <a:ln w="0">
            <a:noFill/>
          </a:ln>
        </p:spPr>
      </p:pic>
      <p:sp>
        <p:nvSpPr>
          <p:cNvPr id="147" name="矩形 8"/>
          <p:cNvSpPr/>
          <p:nvPr/>
        </p:nvSpPr>
        <p:spPr>
          <a:xfrm>
            <a:off x="3232800" y="1865160"/>
            <a:ext cx="2550600" cy="2147040"/>
          </a:xfrm>
          <a:prstGeom prst="rect">
            <a:avLst/>
          </a:prstGeom>
          <a:solidFill>
            <a:srgbClr val="b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头发乱蓬蓬，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样子很威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抬头吼一声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百兽躲进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3363840" y="4379760"/>
            <a:ext cx="187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9"/>
          <p:cNvSpPr/>
          <p:nvPr/>
        </p:nvSpPr>
        <p:spPr>
          <a:xfrm>
            <a:off x="5876640" y="1865160"/>
            <a:ext cx="3267000" cy="1324080"/>
          </a:xfrm>
          <a:prstGeom prst="rect">
            <a:avLst/>
          </a:prstGeom>
          <a:solidFill>
            <a:srgbClr val="b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耳朵长，尾巴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吃菜，不吃饭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0"/>
          <p:cNvSpPr/>
          <p:nvPr/>
        </p:nvSpPr>
        <p:spPr>
          <a:xfrm>
            <a:off x="6913800" y="3142440"/>
            <a:ext cx="16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兔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0" y="107316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创设情境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6" descr="探究式教学【素材】《狮子和兔子》狮子（北师大）.jpg"/>
          <p:cNvPicPr/>
          <p:nvPr/>
        </p:nvPicPr>
        <p:blipFill>
          <a:blip r:embed="rId1"/>
          <a:stretch/>
        </p:blipFill>
        <p:spPr>
          <a:xfrm>
            <a:off x="1724040" y="1711440"/>
            <a:ext cx="5961240" cy="41619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3" descr="探究式教学【素材】《狮子和兔子》狮子2（北师大）.jpg"/>
          <p:cNvPicPr/>
          <p:nvPr/>
        </p:nvPicPr>
        <p:blipFill>
          <a:blip r:embed="rId2"/>
          <a:stretch/>
        </p:blipFill>
        <p:spPr>
          <a:xfrm>
            <a:off x="1728720" y="1692360"/>
            <a:ext cx="5945760" cy="41702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4" descr="探究式教学【素材】《狮子和兔子》兔子2（北师大）.jpg"/>
          <p:cNvPicPr/>
          <p:nvPr/>
        </p:nvPicPr>
        <p:blipFill>
          <a:blip r:embed="rId3"/>
          <a:stretch/>
        </p:blipFill>
        <p:spPr>
          <a:xfrm>
            <a:off x="1712160" y="1692360"/>
            <a:ext cx="6006240" cy="44550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5" descr="探究式教学【素材】《狮子和兔子》兔子3（北师大）.jpg"/>
          <p:cNvPicPr/>
          <p:nvPr/>
        </p:nvPicPr>
        <p:blipFill>
          <a:blip r:embed="rId4"/>
          <a:stretch/>
        </p:blipFill>
        <p:spPr>
          <a:xfrm>
            <a:off x="1717920" y="1668600"/>
            <a:ext cx="6026760" cy="44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2"/>
          <p:cNvSpPr/>
          <p:nvPr/>
        </p:nvSpPr>
        <p:spPr>
          <a:xfrm>
            <a:off x="235800" y="1566720"/>
            <a:ext cx="893880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凶猛的狮子和温柔的兔子之间发生了一个有趣的故事，我们一起去看看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0" y="811080"/>
            <a:ext cx="409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启发思考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6" descr="探究式教学【素材】《狮子和兔子》兔子3（北师大）.jpg"/>
          <p:cNvPicPr/>
          <p:nvPr/>
        </p:nvPicPr>
        <p:blipFill>
          <a:blip r:embed="rId1"/>
          <a:stretch/>
        </p:blipFill>
        <p:spPr>
          <a:xfrm>
            <a:off x="4705200" y="3355920"/>
            <a:ext cx="3407040" cy="26744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" descr="探究式教学【素材】《狮子和兔子》狮子3（北师大）.jpg"/>
          <p:cNvPicPr/>
          <p:nvPr/>
        </p:nvPicPr>
        <p:blipFill>
          <a:blip r:embed="rId2"/>
          <a:stretch/>
        </p:blipFill>
        <p:spPr>
          <a:xfrm>
            <a:off x="728640" y="2986200"/>
            <a:ext cx="3026160" cy="36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12040" y="685800"/>
            <a:ext cx="529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初读课文，学习生字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"/>
          <p:cNvSpPr/>
          <p:nvPr/>
        </p:nvSpPr>
        <p:spPr>
          <a:xfrm>
            <a:off x="310680" y="1692360"/>
            <a:ext cx="8572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讨厌      咬人      解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i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决        筋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ī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疲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力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脾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气        提醒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ǐn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    叮咬      凭借       晒太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恼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ǎ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羞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i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成怒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 蹲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ū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下      笑嘻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纵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ón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身       百兽之王         又疼又痒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ǎn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BAM010488"/>
          <p:cNvPicPr/>
          <p:nvPr/>
        </p:nvPicPr>
        <p:blipFill>
          <a:blip r:embed="rId1"/>
          <a:stretch/>
        </p:blipFill>
        <p:spPr>
          <a:xfrm>
            <a:off x="514440" y="0"/>
            <a:ext cx="8042400" cy="68385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4"/>
          <p:cNvGrpSpPr/>
          <p:nvPr/>
        </p:nvGrpSpPr>
        <p:grpSpPr>
          <a:xfrm>
            <a:off x="2697480" y="-91440"/>
            <a:ext cx="1488960" cy="1762200"/>
            <a:chOff x="2697480" y="-91440"/>
            <a:chExt cx="1488960" cy="1762200"/>
          </a:xfrm>
        </p:grpSpPr>
        <p:pic>
          <p:nvPicPr>
            <p:cNvPr id="164" name="Picture 5" descr="未标题-1"/>
            <p:cNvPicPr/>
            <p:nvPr/>
          </p:nvPicPr>
          <p:blipFill>
            <a:blip r:embed="rId2"/>
            <a:stretch/>
          </p:blipFill>
          <p:spPr>
            <a:xfrm rot="4834800">
              <a:off x="2652120" y="165600"/>
              <a:ext cx="1579320" cy="12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6"/>
            <p:cNvSpPr/>
            <p:nvPr/>
          </p:nvSpPr>
          <p:spPr>
            <a:xfrm>
              <a:off x="2939400" y="389520"/>
              <a:ext cx="1079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解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7"/>
          <p:cNvGrpSpPr/>
          <p:nvPr/>
        </p:nvGrpSpPr>
        <p:grpSpPr>
          <a:xfrm>
            <a:off x="5407200" y="1942560"/>
            <a:ext cx="2269800" cy="2762640"/>
            <a:chOff x="5407200" y="1942560"/>
            <a:chExt cx="2269800" cy="2762640"/>
          </a:xfrm>
        </p:grpSpPr>
        <p:pic>
          <p:nvPicPr>
            <p:cNvPr id="167" name="Picture 8" descr="未标题-1"/>
            <p:cNvPicPr/>
            <p:nvPr/>
          </p:nvPicPr>
          <p:blipFill>
            <a:blip r:embed="rId3"/>
            <a:stretch/>
          </p:blipFill>
          <p:spPr>
            <a:xfrm rot="17754000">
              <a:off x="5334120" y="2648520"/>
              <a:ext cx="2415600" cy="13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9"/>
            <p:cNvSpPr/>
            <p:nvPr/>
          </p:nvSpPr>
          <p:spPr>
            <a:xfrm>
              <a:off x="5684760" y="2957400"/>
              <a:ext cx="16840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36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笑嘻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0"/>
          <p:cNvGrpSpPr/>
          <p:nvPr/>
        </p:nvGrpSpPr>
        <p:grpSpPr>
          <a:xfrm>
            <a:off x="6244200" y="922680"/>
            <a:ext cx="1641960" cy="1492200"/>
            <a:chOff x="6244200" y="922680"/>
            <a:chExt cx="1641960" cy="1492200"/>
          </a:xfrm>
        </p:grpSpPr>
        <p:pic>
          <p:nvPicPr>
            <p:cNvPr id="170" name="Picture 11" descr="未标题-1"/>
            <p:cNvPicPr/>
            <p:nvPr/>
          </p:nvPicPr>
          <p:blipFill>
            <a:blip r:embed="rId4"/>
            <a:stretch/>
          </p:blipFill>
          <p:spPr>
            <a:xfrm rot="4834800">
              <a:off x="6419880" y="950400"/>
              <a:ext cx="1274400" cy="14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2"/>
            <p:cNvSpPr/>
            <p:nvPr/>
          </p:nvSpPr>
          <p:spPr>
            <a:xfrm>
              <a:off x="6617520" y="1384560"/>
              <a:ext cx="12686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纵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3"/>
          <p:cNvGrpSpPr/>
          <p:nvPr/>
        </p:nvGrpSpPr>
        <p:grpSpPr>
          <a:xfrm>
            <a:off x="1128600" y="1063440"/>
            <a:ext cx="1788480" cy="1592640"/>
            <a:chOff x="1128600" y="1063440"/>
            <a:chExt cx="1788480" cy="1592640"/>
          </a:xfrm>
        </p:grpSpPr>
        <p:pic>
          <p:nvPicPr>
            <p:cNvPr id="173" name="Picture 14" descr="未标题-1"/>
            <p:cNvPicPr/>
            <p:nvPr/>
          </p:nvPicPr>
          <p:blipFill>
            <a:blip r:embed="rId5"/>
            <a:stretch/>
          </p:blipFill>
          <p:spPr>
            <a:xfrm rot="4834800">
              <a:off x="1347120" y="1064880"/>
              <a:ext cx="1350720" cy="15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5"/>
            <p:cNvSpPr/>
            <p:nvPr/>
          </p:nvSpPr>
          <p:spPr>
            <a:xfrm>
              <a:off x="1413720" y="1443240"/>
              <a:ext cx="12985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讨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6"/>
          <p:cNvGrpSpPr/>
          <p:nvPr/>
        </p:nvGrpSpPr>
        <p:grpSpPr>
          <a:xfrm>
            <a:off x="4168440" y="3079440"/>
            <a:ext cx="1586520" cy="1738800"/>
            <a:chOff x="4168440" y="3079440"/>
            <a:chExt cx="1586520" cy="1738800"/>
          </a:xfrm>
        </p:grpSpPr>
        <p:pic>
          <p:nvPicPr>
            <p:cNvPr id="176" name="Picture 17" descr="未标题-1"/>
            <p:cNvPicPr/>
            <p:nvPr/>
          </p:nvPicPr>
          <p:blipFill>
            <a:blip r:embed="rId6"/>
            <a:stretch/>
          </p:blipFill>
          <p:spPr>
            <a:xfrm rot="4834800">
              <a:off x="4192560" y="3272040"/>
              <a:ext cx="1537920" cy="13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8"/>
            <p:cNvSpPr/>
            <p:nvPr/>
          </p:nvSpPr>
          <p:spPr>
            <a:xfrm>
              <a:off x="4406400" y="3560760"/>
              <a:ext cx="1111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叮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22"/>
          <p:cNvGrpSpPr/>
          <p:nvPr/>
        </p:nvGrpSpPr>
        <p:grpSpPr>
          <a:xfrm>
            <a:off x="2182680" y="2612880"/>
            <a:ext cx="2415600" cy="2342880"/>
            <a:chOff x="2182680" y="2612880"/>
            <a:chExt cx="2415600" cy="2342880"/>
          </a:xfrm>
        </p:grpSpPr>
        <p:pic>
          <p:nvPicPr>
            <p:cNvPr id="179" name="Picture 23" descr="未标题-1"/>
            <p:cNvPicPr/>
            <p:nvPr/>
          </p:nvPicPr>
          <p:blipFill>
            <a:blip r:embed="rId7"/>
            <a:stretch/>
          </p:blipFill>
          <p:spPr>
            <a:xfrm rot="17754000">
              <a:off x="2539080" y="2854800"/>
              <a:ext cx="17020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24"/>
            <p:cNvSpPr/>
            <p:nvPr/>
          </p:nvSpPr>
          <p:spPr>
            <a:xfrm>
              <a:off x="2381400" y="3282480"/>
              <a:ext cx="18939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又疼又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5"/>
          <p:cNvGrpSpPr/>
          <p:nvPr/>
        </p:nvGrpSpPr>
        <p:grpSpPr>
          <a:xfrm>
            <a:off x="932040" y="2604240"/>
            <a:ext cx="1713240" cy="1599840"/>
            <a:chOff x="932040" y="2604240"/>
            <a:chExt cx="1713240" cy="1599840"/>
          </a:xfrm>
        </p:grpSpPr>
        <p:pic>
          <p:nvPicPr>
            <p:cNvPr id="182" name="Picture 26" descr="未标题-1"/>
            <p:cNvPicPr/>
            <p:nvPr/>
          </p:nvPicPr>
          <p:blipFill>
            <a:blip r:embed="rId8"/>
            <a:stretch/>
          </p:blipFill>
          <p:spPr>
            <a:xfrm rot="17754000">
              <a:off x="1229760" y="2723040"/>
              <a:ext cx="1117440" cy="13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27"/>
            <p:cNvSpPr/>
            <p:nvPr/>
          </p:nvSpPr>
          <p:spPr>
            <a:xfrm>
              <a:off x="1273320" y="3035160"/>
              <a:ext cx="1157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蹲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8"/>
          <p:cNvGrpSpPr/>
          <p:nvPr/>
        </p:nvGrpSpPr>
        <p:grpSpPr>
          <a:xfrm>
            <a:off x="4532760" y="193680"/>
            <a:ext cx="1689840" cy="1584360"/>
            <a:chOff x="4532760" y="193680"/>
            <a:chExt cx="1689840" cy="1584360"/>
          </a:xfrm>
        </p:grpSpPr>
        <p:pic>
          <p:nvPicPr>
            <p:cNvPr id="185" name="Picture 29" descr="未标题-1"/>
            <p:cNvPicPr/>
            <p:nvPr/>
          </p:nvPicPr>
          <p:blipFill>
            <a:blip r:embed="rId9"/>
            <a:stretch/>
          </p:blipFill>
          <p:spPr>
            <a:xfrm rot="17754000">
              <a:off x="4822200" y="316080"/>
              <a:ext cx="1110960" cy="133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30"/>
            <p:cNvSpPr/>
            <p:nvPr/>
          </p:nvSpPr>
          <p:spPr>
            <a:xfrm>
              <a:off x="4940640" y="667080"/>
              <a:ext cx="996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提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31"/>
          <p:cNvGrpSpPr/>
          <p:nvPr/>
        </p:nvGrpSpPr>
        <p:grpSpPr>
          <a:xfrm>
            <a:off x="3220560" y="1047960"/>
            <a:ext cx="2527920" cy="2394360"/>
            <a:chOff x="3220560" y="1047960"/>
            <a:chExt cx="2527920" cy="2394360"/>
          </a:xfrm>
        </p:grpSpPr>
        <p:pic>
          <p:nvPicPr>
            <p:cNvPr id="188" name="Picture 32" descr="未标题-1"/>
            <p:cNvPicPr/>
            <p:nvPr/>
          </p:nvPicPr>
          <p:blipFill>
            <a:blip r:embed="rId10"/>
            <a:stretch/>
          </p:blipFill>
          <p:spPr>
            <a:xfrm rot="17754000">
              <a:off x="3635640" y="1252080"/>
              <a:ext cx="1697040" cy="19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33"/>
            <p:cNvSpPr/>
            <p:nvPr/>
          </p:nvSpPr>
          <p:spPr>
            <a:xfrm>
              <a:off x="3517200" y="1900800"/>
              <a:ext cx="2115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恼羞成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delay="0" evt="onClick">
                    <p:tgtEl>
                      <p:spTgt spid="166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delay="0"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delay="0" evt="onClick">
                    <p:tgtEl>
                      <p:spTgt spid="16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delay="0"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delay="0" evt="onClick">
                    <p:tgtEl>
                      <p:spTgt spid="172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delay="0"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3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delay="0" evt="onClick">
                    <p:tgtEl>
                      <p:spTgt spid="175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delay="0"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delay="0" evt="onClick">
                    <p:tgtEl>
                      <p:spTgt spid="178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delay="0"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delay="0" evt="onClick">
                    <p:tgtEl>
                      <p:spTgt spid="181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delay="0"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8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delay="0" evt="onClick">
                    <p:tgtEl>
                      <p:spTgt spid="184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delay="0"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delay="0" evt="onClick">
                    <p:tgtEl>
                      <p:spTgt spid="163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delay="0"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0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8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delay="0" evt="onClick">
                    <p:tgtEl>
                      <p:spTgt spid="187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delay="0"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9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8"/>
          <p:cNvSpPr/>
          <p:nvPr/>
        </p:nvSpPr>
        <p:spPr>
          <a:xfrm>
            <a:off x="0" y="84780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再读课文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37960" y="1650960"/>
            <a:ext cx="844848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前，有一只狮子，他力气很大，脾气也很大。他自认为是百兽之王，根本不把别的动物放在眼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天，狮子躺在草丛中晒太阳，没想到一群红蚂蚁偷偷爬到他身上，咬得他又疼又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子跳起来，吼着、蹦着、翻滚着，想把红妈蚁赶走，可是累得筋疲力尽，还是赶不走身上的蚂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兔子蹲在旁边“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ch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哧”地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子恼羞成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笑什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讨厌的东西没叮你是不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兔子笑嘻嘻地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果红蚂蚁叮在我身上，我就跳到水里去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句话提醒了狮子，他纵身跳进河里，河水立即把红蚂蚁冲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兔子在岸上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回你明白了吧，光凭力气和发脾气是解决不了问题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3463560" y="911160"/>
            <a:ext cx="30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子和大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文本框 2"/>
          <p:cNvSpPr/>
          <p:nvPr/>
        </p:nvSpPr>
        <p:spPr>
          <a:xfrm>
            <a:off x="833400" y="1579680"/>
            <a:ext cx="785412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只狮子是一只什么样的狮子呢？他遇到了什么事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0" y="95076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合作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3318120" y="2736360"/>
            <a:ext cx="5369400" cy="91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前，有一只狮子，他力气很大，脾气也很大。他自认为是百兽之王，根本不把别的动物放在眼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天，狮子躺在草丛中晒太阳，没想到一群红蚂蚁偷偷爬到他身上，咬得他又疼又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7" descr="探究式教学【素材】《狮子和兔子》狮子3（北师大）.jpg"/>
          <p:cNvPicPr/>
          <p:nvPr/>
        </p:nvPicPr>
        <p:blipFill>
          <a:blip r:embed="rId1"/>
          <a:stretch/>
        </p:blipFill>
        <p:spPr>
          <a:xfrm>
            <a:off x="833400" y="2551680"/>
            <a:ext cx="1672560" cy="2042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3318120" y="4957920"/>
            <a:ext cx="1612800" cy="363960"/>
          </a:xfrm>
          <a:prstGeom prst="rect">
            <a:avLst/>
          </a:prstGeom>
          <a:solidFill>
            <a:srgbClr val="b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力气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6946200" y="4973760"/>
            <a:ext cx="1966680" cy="363960"/>
          </a:xfrm>
          <a:prstGeom prst="rect">
            <a:avLst/>
          </a:prstGeom>
          <a:solidFill>
            <a:srgbClr val="b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骄傲自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5122080" y="4970520"/>
            <a:ext cx="1614240" cy="363960"/>
          </a:xfrm>
          <a:prstGeom prst="rect">
            <a:avLst/>
          </a:prstGeom>
          <a:solidFill>
            <a:srgbClr val="b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脾气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3432600" y="5888160"/>
            <a:ext cx="4854960" cy="363960"/>
          </a:xfrm>
          <a:prstGeom prst="rect">
            <a:avLst/>
          </a:prstGeom>
          <a:solidFill>
            <a:srgbClr val="b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狮子被红蚂蚁咬得又疼又痒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12" descr="探究式教学【素材】《狮子和兔子》蚂蚁（北师大）.jpg"/>
          <p:cNvPicPr/>
          <p:nvPr/>
        </p:nvPicPr>
        <p:blipFill>
          <a:blip r:embed="rId2"/>
          <a:stretch/>
        </p:blipFill>
        <p:spPr>
          <a:xfrm>
            <a:off x="833400" y="4726080"/>
            <a:ext cx="205596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195120" y="909720"/>
            <a:ext cx="409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合作探究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966960" y="1744560"/>
            <a:ext cx="7393320" cy="501120"/>
          </a:xfrm>
          <a:prstGeom prst="rect">
            <a:avLst/>
          </a:prstGeom>
          <a:solidFill>
            <a:srgbClr val="e6f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被红蚂蚁咬得又疼又痒的狮子是怎样办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9"/>
          <p:cNvSpPr/>
          <p:nvPr/>
        </p:nvSpPr>
        <p:spPr>
          <a:xfrm>
            <a:off x="3828960" y="4664520"/>
            <a:ext cx="3011760" cy="501120"/>
          </a:xfrm>
          <a:prstGeom prst="rect">
            <a:avLst/>
          </a:prstGeom>
          <a:solidFill>
            <a:srgbClr val="b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跳、吼、蹦、翻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2990880" y="2732040"/>
            <a:ext cx="5369400" cy="91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子跳起来，吼着、蹦着、翻滚着，想把红妈蚁赶走，可是累得筋疲力尽，还是赶不走身上的蚂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5" descr="探究式教学【素材】《狮子和兔子》狮子3（北师大）.jpg"/>
          <p:cNvPicPr/>
          <p:nvPr/>
        </p:nvPicPr>
        <p:blipFill>
          <a:blip r:embed="rId1"/>
          <a:stretch/>
        </p:blipFill>
        <p:spPr>
          <a:xfrm>
            <a:off x="626400" y="2646360"/>
            <a:ext cx="1766520" cy="2157120"/>
          </a:xfrm>
          <a:prstGeom prst="rect">
            <a:avLst/>
          </a:prstGeom>
          <a:ln w="0">
            <a:noFill/>
          </a:ln>
        </p:spPr>
      </p:pic>
      <p:sp>
        <p:nvSpPr>
          <p:cNvPr id="207" name="矩形 6"/>
          <p:cNvSpPr/>
          <p:nvPr/>
        </p:nvSpPr>
        <p:spPr>
          <a:xfrm>
            <a:off x="3828960" y="5649840"/>
            <a:ext cx="2473920" cy="501120"/>
          </a:xfrm>
          <a:prstGeom prst="rect">
            <a:avLst/>
          </a:prstGeom>
          <a:solidFill>
            <a:srgbClr val="b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筋疲力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530</Words>
  <Paragraphs>10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03:05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6-17T01:38:37Z</dcterms:modified>
  <cp:revision>4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  <property fmtid="{D5CDD505-2E9C-101B-9397-08002B2CF9AE}" pid="3" name="Notes">
    <vt:r8>3</vt:r8>
  </property>
  <property fmtid="{D5CDD505-2E9C-101B-9397-08002B2CF9AE}" pid="4" name="PresentationFormat">
    <vt:lpwstr>全屏显示(4:3)</vt:lpwstr>
  </property>
  <property fmtid="{D5CDD505-2E9C-101B-9397-08002B2CF9AE}" pid="5" name="Slides">
    <vt:r8>16</vt:r8>
  </property>
</Properties>
</file>