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audio3.wav" ContentType="audio/x-wav"/>
  <Override PartName="/ppt/media/image13.jpeg" ContentType="image/jpeg"/>
  <Override PartName="/ppt/media/image1.jpeg" ContentType="image/jpeg"/>
  <Override PartName="/ppt/media/audio8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B12358-A90B-443C-B424-90A13A347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870555-F540-475F-BB8C-B8D3A30CE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6A88B4-2C9A-4E39-A4BF-CFD44BCCA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D5B200-EAD6-4D7C-A956-9D2EB2E88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99445C-AFA9-4D08-89E3-496BEEEAE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C20AB3-9832-458D-B2B0-D303EBE75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FFD761-711F-4D90-8BA0-43FF7B9A0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13804E-8060-4E55-B21C-77DC23249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3BEDD0-D86B-4C43-A1FA-9A22C17F2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F478DF-45A3-447C-87F3-67DC4B634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4BD1FA-C8A9-4D1E-87BE-4CD4FC348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CE4ADC-CACF-46BD-8CFF-5D502025D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CA39E6-BDAE-4635-802A-B9ACA9F1C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C4C893-1AC5-42A8-A5A4-6F3EBC93C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B0A4BA-34EA-4C35-95BB-5DE168DD1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C88CE8-62FC-4897-BF25-C66C01385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DAD3EF-88C7-4184-8319-A0B2FCF73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30F-6527-4D3C-B7BB-D4DBBDCA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8F4-D456-4FF6-86D2-0DBF76C7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4D7-1633-463C-9956-0C520015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3E9A-442C-44F2-9BAB-318BEE3A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30A3-159D-48D4-8974-CF8E7655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B45F-424D-4752-BD1E-0A11B61D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8423-27BA-45E1-BB56-496E9789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DEE1-89AC-4354-B027-A6F9D9C0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9824-E9B5-4687-98A8-BD8A9754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7869-B414-4748-AC33-F1860EF0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4502-ED36-434D-BF2B-5B977FA2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5B1-C1E3-40DB-BCD6-B847C54E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8F5E-8713-4F9A-AF10-CD7978A2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556E-540E-4238-9671-B38C7681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A0DE-39B9-479E-8DD1-51DEA882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C14B-90CA-47F6-8D0E-8792DF72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73A5-DE29-44B4-9B3E-0F3B401C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3CEF-B29A-4273-975D-4860A32A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6ADE-E977-486F-8376-C48F8BC1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5B7-A024-48BD-A786-EEDE6CA6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934-63FD-4465-BB6F-599A5EDC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0AB-A9C0-458D-A925-21AC5CCF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D92-C7CE-4541-B4E3-62674AC2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5FA-015D-439A-B21E-FFC50993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186D42-EE19-4D0B-893B-51F595F6FB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922923-30D1-4F4B-B1D8-1F02689B8B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udio8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udio3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audio3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udio3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audio8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audio8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udio8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udio8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udio8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udio8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audio8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audio8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audio8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audio8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audio8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udio8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tu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9" name="Text Box 5"/>
          <p:cNvSpPr/>
          <p:nvPr/>
        </p:nvSpPr>
        <p:spPr>
          <a:xfrm>
            <a:off x="1042920" y="1341360"/>
            <a:ext cx="6841800" cy="70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3480" y="1481040"/>
            <a:ext cx="8856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143000" indent="-1143000"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StarSymbol"/>
              <a:buAutoNum type="arabicPlain" startAt="10"/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他得的红圈圈最多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948600" y="5950080"/>
            <a:ext cx="70243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2" name="audio8.wav"/>
          </p:stSnd>
        </p:sndAc>
      </p:transition>
    </mc:Choice>
    <mc:Fallback>
      <p:transition spd="slow">
        <p:sndAc>
          <p:stSnd>
            <p:snd r:embed="rId2" name="audio8.wav"/>
          </p:stSnd>
        </p:sndAc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057_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1" name="Oval 6"/>
          <p:cNvSpPr/>
          <p:nvPr/>
        </p:nvSpPr>
        <p:spPr>
          <a:xfrm>
            <a:off x="1763640" y="3933720"/>
            <a:ext cx="358560" cy="28692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"/>
          <p:cNvSpPr/>
          <p:nvPr/>
        </p:nvSpPr>
        <p:spPr>
          <a:xfrm>
            <a:off x="3708360" y="4221000"/>
            <a:ext cx="358560" cy="28692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4427640" y="5229360"/>
            <a:ext cx="358560" cy="28692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6948360" y="5661000"/>
            <a:ext cx="358560" cy="28692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619280" y="2349360"/>
            <a:ext cx="11520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1042920" y="3573360"/>
            <a:ext cx="9745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058_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8" name="Oval 5"/>
          <p:cNvSpPr/>
          <p:nvPr/>
        </p:nvSpPr>
        <p:spPr>
          <a:xfrm>
            <a:off x="4427640" y="1773360"/>
            <a:ext cx="358560" cy="28692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1" descr="KBSC0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440" cy="658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邓小平爷爷小时候能写一手好字，受到先生的夸奖。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邓小平爷爷小时候就能写一手好字，经常受到先生的夸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619280" y="3284640"/>
            <a:ext cx="813564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0" y="4149720"/>
            <a:ext cx="867528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SCF1582"/>
          <p:cNvPicPr/>
          <p:nvPr/>
        </p:nvPicPr>
        <p:blipFill>
          <a:blip r:embed="rId1"/>
          <a:stretch/>
        </p:blipFill>
        <p:spPr>
          <a:xfrm>
            <a:off x="0" y="0"/>
            <a:ext cx="9356400" cy="6857640"/>
          </a:xfrm>
          <a:prstGeom prst="rect">
            <a:avLst/>
          </a:prstGeom>
          <a:ln w="9525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24000" y="549360"/>
            <a:ext cx="8424360" cy="389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现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我上一年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写铅笔字是小学生的主要功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当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,(       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爷爷小的时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写毛笔字是小学生的主要功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用纸蒙着字帖描，称“仿影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DSCF1570"/>
          <p:cNvPicPr/>
          <p:nvPr/>
        </p:nvPicPr>
        <p:blipFill>
          <a:blip r:embed="rId1"/>
          <a:stretch/>
        </p:blipFill>
        <p:spPr>
          <a:xfrm>
            <a:off x="0" y="1268280"/>
            <a:ext cx="9143640" cy="5589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>
        <p:sndAc>
          <p:stSnd>
            <p:snd r:embed="rId2" name="audio3.wav"/>
          </p:stSnd>
        </p:sndAc>
      </p:transition>
    </mc:Choice>
    <mc:Fallback>
      <p:transition spd="slow">
        <p:sndAc>
          <p:stSnd>
            <p:snd r:embed="rId2" name="audio3.wav"/>
          </p:stSnd>
        </p:sndAc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直接在红字上描写，称“描红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DSCF1591"/>
          <p:cNvPicPr/>
          <p:nvPr/>
        </p:nvPicPr>
        <p:blipFill>
          <a:blip r:embed="rId1"/>
          <a:stretch/>
        </p:blipFill>
        <p:spPr>
          <a:xfrm>
            <a:off x="0" y="1341360"/>
            <a:ext cx="8846640" cy="5516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>
        <p:sndAc>
          <p:stSnd>
            <p:snd r:embed="rId2" name="audio3.wav"/>
          </p:stSnd>
        </p:sndAc>
      </p:transition>
    </mc:Choice>
    <mc:Fallback>
      <p:transition spd="slow">
        <p:sndAc>
          <p:stSnd>
            <p:snd r:embed="rId2" name="audio3.wav"/>
          </p:stSnd>
        </p:sndAc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2" descr="KBSC0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0" name="Text Box 4"/>
          <p:cNvSpPr/>
          <p:nvPr/>
        </p:nvSpPr>
        <p:spPr>
          <a:xfrm>
            <a:off x="611280" y="981000"/>
            <a:ext cx="723564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当时，写毛笔字是小学生的主要功课。先生要孩子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先用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蒙着字帖描，等练熟了，再照着字帖写。写得好的字，先生就在上面画个红圈圈。每次写字，邓小平爷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都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按先生的要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去做，所以，他得的红圈圈最多。母亲知道小平学习这样用功，心里很高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KBSC0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2" name="Text Box 3"/>
          <p:cNvSpPr/>
          <p:nvPr/>
        </p:nvSpPr>
        <p:spPr>
          <a:xfrm>
            <a:off x="0" y="404640"/>
            <a:ext cx="914364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当时，写毛笔字是小学生的主要功课。先生要孩子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先用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蒙着字帖描，等练熟了，再照着字帖写。他总是先…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记住…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再…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写得好的字，先生就在上面画个红圈圈。每次写字，邓小平爷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都能先生的要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按要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去做，所以，他得的红圈圈最多。母亲知道小平学习这样用功，心里很高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KBSC0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258920" y="1413000"/>
            <a:ext cx="7273440" cy="70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endParaRPr b="1" lang="en-US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0" y="974880"/>
            <a:ext cx="9143640" cy="501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哥哥先读书，再（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妹妹先洗脸，再（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 谁   ）先（         ），再（        ）。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因为邓小平爷爷每次都按要求写字，所以他得的红圈圈最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因为（              ），所以（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KBSC04"/>
          <p:cNvPicPr/>
          <p:nvPr/>
        </p:nvPicPr>
        <p:blipFill>
          <a:blip r:embed="rId1"/>
          <a:stretch/>
        </p:blipFill>
        <p:spPr>
          <a:xfrm>
            <a:off x="0" y="0"/>
            <a:ext cx="9143640" cy="7291080"/>
          </a:xfrm>
          <a:prstGeom prst="rect">
            <a:avLst/>
          </a:prstGeom>
          <a:ln w="9525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435520" cy="658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老师要求我们把字写好。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每次写字，邓小平爷爷都能按先生的要求去做。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下雨时，不要站在大树下。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时，写毛笔字是小学生的主要功课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(yāo    yào 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乌鸦上了狐狸的当。（上当）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6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哥哥当上了人民警察。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(dāng    dà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2" name="audio3.wav"/>
          </p:stSnd>
        </p:sndAc>
      </p:transition>
    </mc:Choice>
    <mc:Fallback>
      <p:transition spd="slow">
        <p:sndAc>
          <p:stSnd>
            <p:snd r:embed="rId2" name="audio3.wav"/>
          </p:stSnd>
        </p:sndAc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4"/>
          <p:cNvSpPr/>
          <p:nvPr/>
        </p:nvSpPr>
        <p:spPr>
          <a:xfrm>
            <a:off x="1835280" y="2565360"/>
            <a:ext cx="1080720" cy="360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行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hangye/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节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eri/           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下载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背景图片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图表下载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优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word/              Excel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教程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excel/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课件下载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凡人邓小平"/>
          <p:cNvPicPr/>
          <p:nvPr/>
        </p:nvPicPr>
        <p:blipFill>
          <a:blip r:embed="rId1"/>
          <a:stretch/>
        </p:blipFill>
        <p:spPr>
          <a:xfrm>
            <a:off x="0" y="0"/>
            <a:ext cx="5292360" cy="6857640"/>
          </a:xfrm>
          <a:prstGeom prst="rect">
            <a:avLst/>
          </a:prstGeom>
          <a:ln w="9525">
            <a:noFill/>
          </a:ln>
        </p:spPr>
      </p:pic>
      <p:sp>
        <p:nvSpPr>
          <p:cNvPr id="94" name="Text Box 6"/>
          <p:cNvSpPr/>
          <p:nvPr/>
        </p:nvSpPr>
        <p:spPr>
          <a:xfrm>
            <a:off x="5796000" y="0"/>
            <a:ext cx="2592000" cy="1918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90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日生于四川省广安县协兴乡牌坊村，取名邓先圣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9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年，在法国边打工边学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01C_08iMdhPjwDv6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2627280" y="1198440"/>
            <a:ext cx="5616360" cy="3746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学写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要注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肩平背直头摆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两脚平放有精神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尺、一拳、要记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手离笔尖一寸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写字认真心要静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2" name="audio8.wav"/>
          </p:stSnd>
        </p:sndAc>
      </p:transition>
    </mc:Choice>
    <mc:Fallback>
      <p:transition spd="slow">
        <p:sndAc>
          <p:stSnd>
            <p:snd r:embed="rId2" name="audio8.wav"/>
          </p:stSnd>
        </p:sndAc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059_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>
        <p:sndAc>
          <p:stSnd>
            <p:snd r:embed="rId2" name="audio8.wav"/>
          </p:stSnd>
        </p:sndAc>
      </p:transition>
    </mc:Choice>
    <mc:Fallback>
      <p:transition spd="slow">
        <p:sndAc>
          <p:stSnd>
            <p:snd r:embed="rId2" name="audio8.wav"/>
          </p:stSnd>
        </p:sndAc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>
            <a:off x="1692000" y="407664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1979280" y="1413000"/>
            <a:ext cx="5688000" cy="5300280"/>
            <a:chOff x="1979280" y="1413000"/>
            <a:chExt cx="5688000" cy="5300280"/>
          </a:xfrm>
        </p:grpSpPr>
        <p:sp>
          <p:nvSpPr>
            <p:cNvPr id="143" name="Rectangle 4"/>
            <p:cNvSpPr/>
            <p:nvPr/>
          </p:nvSpPr>
          <p:spPr>
            <a:xfrm>
              <a:off x="1979640" y="1413000"/>
              <a:ext cx="5687640" cy="5300280"/>
            </a:xfrm>
            <a:prstGeom prst="rect">
              <a:avLst/>
            </a:prstGeom>
            <a:noFill/>
            <a:ln w="5715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144" name="Line 5"/>
            <p:cNvSpPr/>
            <p:nvPr/>
          </p:nvSpPr>
          <p:spPr>
            <a:xfrm>
              <a:off x="1979280" y="4076640"/>
              <a:ext cx="5688000" cy="360"/>
            </a:xfrm>
            <a:prstGeom prst="line">
              <a:avLst/>
            </a:prstGeom>
            <a:ln w="5715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45" name="Line 6"/>
          <p:cNvSpPr/>
          <p:nvPr/>
        </p:nvSpPr>
        <p:spPr>
          <a:xfrm>
            <a:off x="4859280" y="1341360"/>
            <a:ext cx="360" cy="5327640"/>
          </a:xfrm>
          <a:prstGeom prst="line">
            <a:avLst/>
          </a:prstGeom>
          <a:ln w="5715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754160" y="836640"/>
            <a:ext cx="4860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514600" y="152280"/>
            <a:ext cx="43430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04920" y="1981080"/>
            <a:ext cx="1523520" cy="3290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来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8.wav"/>
          </p:stSnd>
        </p:sndAc>
      </p:transition>
    </mc:Choice>
    <mc:Fallback>
      <p:transition spd="slow">
        <p:sndAc>
          <p:stSnd>
            <p:snd r:embed="rId1" name="audio8.wav"/>
          </p:stSnd>
        </p:sndAc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1692000" y="407664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1979280" y="1413000"/>
            <a:ext cx="5688000" cy="5300280"/>
            <a:chOff x="1979280" y="1413000"/>
            <a:chExt cx="5688000" cy="5300280"/>
          </a:xfrm>
        </p:grpSpPr>
        <p:sp>
          <p:nvSpPr>
            <p:cNvPr id="151" name="Rectangle 4"/>
            <p:cNvSpPr/>
            <p:nvPr/>
          </p:nvSpPr>
          <p:spPr>
            <a:xfrm>
              <a:off x="1979640" y="1413000"/>
              <a:ext cx="5687640" cy="5300280"/>
            </a:xfrm>
            <a:prstGeom prst="rect">
              <a:avLst/>
            </a:prstGeom>
            <a:noFill/>
            <a:ln w="5715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152" name="Line 5"/>
            <p:cNvSpPr/>
            <p:nvPr/>
          </p:nvSpPr>
          <p:spPr>
            <a:xfrm>
              <a:off x="1979280" y="4076640"/>
              <a:ext cx="5688000" cy="360"/>
            </a:xfrm>
            <a:prstGeom prst="line">
              <a:avLst/>
            </a:prstGeom>
            <a:ln w="5715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53" name="Line 6"/>
          <p:cNvSpPr/>
          <p:nvPr/>
        </p:nvSpPr>
        <p:spPr>
          <a:xfrm>
            <a:off x="4859280" y="1341360"/>
            <a:ext cx="360" cy="5327640"/>
          </a:xfrm>
          <a:prstGeom prst="line">
            <a:avLst/>
          </a:prstGeom>
          <a:ln w="5715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754160" y="836640"/>
            <a:ext cx="4860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514600" y="152280"/>
            <a:ext cx="43430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04920" y="1981080"/>
            <a:ext cx="1523520" cy="156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姓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邓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8.wav"/>
          </p:stSnd>
        </p:sndAc>
      </p:transition>
    </mc:Choice>
    <mc:Fallback>
      <p:transition spd="slow">
        <p:sndAc>
          <p:stSnd>
            <p:snd r:embed="rId1" name="audio8.wav"/>
          </p:stSnd>
        </p:sndAc>
      </p:transition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2"/>
          <p:cNvSpPr/>
          <p:nvPr/>
        </p:nvSpPr>
        <p:spPr>
          <a:xfrm>
            <a:off x="1692000" y="407664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1979280" y="1413000"/>
            <a:ext cx="5688000" cy="5300280"/>
            <a:chOff x="1979280" y="1413000"/>
            <a:chExt cx="5688000" cy="5300280"/>
          </a:xfrm>
        </p:grpSpPr>
        <p:sp>
          <p:nvSpPr>
            <p:cNvPr id="159" name="Rectangle 4"/>
            <p:cNvSpPr/>
            <p:nvPr/>
          </p:nvSpPr>
          <p:spPr>
            <a:xfrm>
              <a:off x="1979640" y="1413000"/>
              <a:ext cx="5687640" cy="5300280"/>
            </a:xfrm>
            <a:prstGeom prst="rect">
              <a:avLst/>
            </a:prstGeom>
            <a:noFill/>
            <a:ln w="5715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160" name="Line 5"/>
            <p:cNvSpPr/>
            <p:nvPr/>
          </p:nvSpPr>
          <p:spPr>
            <a:xfrm>
              <a:off x="1979280" y="4076640"/>
              <a:ext cx="5688000" cy="360"/>
            </a:xfrm>
            <a:prstGeom prst="line">
              <a:avLst/>
            </a:prstGeom>
            <a:ln w="5715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1" name="Line 6"/>
          <p:cNvSpPr/>
          <p:nvPr/>
        </p:nvSpPr>
        <p:spPr>
          <a:xfrm>
            <a:off x="4859280" y="1341360"/>
            <a:ext cx="360" cy="5327640"/>
          </a:xfrm>
          <a:prstGeom prst="line">
            <a:avLst/>
          </a:prstGeom>
          <a:ln w="5715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754160" y="836640"/>
            <a:ext cx="4860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514600" y="152280"/>
            <a:ext cx="43430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24000" y="620640"/>
            <a:ext cx="1523520" cy="501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平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平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平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和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来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8.wav"/>
          </p:stSnd>
        </p:sndAc>
      </p:transition>
    </mc:Choice>
    <mc:Fallback>
      <p:transition spd="slow">
        <p:sndAc>
          <p:stSnd>
            <p:snd r:embed="rId1" name="audio8.wav"/>
          </p:stSnd>
        </p:sndAc>
      </p:transition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1692000" y="407664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1979280" y="1413000"/>
            <a:ext cx="5688000" cy="5300280"/>
            <a:chOff x="1979280" y="1413000"/>
            <a:chExt cx="5688000" cy="5300280"/>
          </a:xfrm>
        </p:grpSpPr>
        <p:sp>
          <p:nvSpPr>
            <p:cNvPr id="167" name="Rectangle 4"/>
            <p:cNvSpPr/>
            <p:nvPr/>
          </p:nvSpPr>
          <p:spPr>
            <a:xfrm>
              <a:off x="1979640" y="1413000"/>
              <a:ext cx="5687640" cy="5300280"/>
            </a:xfrm>
            <a:prstGeom prst="rect">
              <a:avLst/>
            </a:prstGeom>
            <a:noFill/>
            <a:ln w="5715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1979280" y="4076640"/>
              <a:ext cx="5688000" cy="360"/>
            </a:xfrm>
            <a:prstGeom prst="line">
              <a:avLst/>
            </a:prstGeom>
            <a:ln w="5715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9" name="Line 6"/>
          <p:cNvSpPr/>
          <p:nvPr/>
        </p:nvSpPr>
        <p:spPr>
          <a:xfrm>
            <a:off x="4859280" y="1341360"/>
            <a:ext cx="360" cy="5327640"/>
          </a:xfrm>
          <a:prstGeom prst="line">
            <a:avLst/>
          </a:prstGeom>
          <a:ln w="5715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754160" y="836640"/>
            <a:ext cx="4860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2514600" y="152280"/>
            <a:ext cx="43430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04920" y="1981080"/>
            <a:ext cx="1523520" cy="415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来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迟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周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知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8.wav"/>
          </p:stSnd>
        </p:sndAc>
      </p:transition>
    </mc:Choice>
    <mc:Fallback>
      <p:transition spd="slow">
        <p:sndAc>
          <p:stSnd>
            <p:snd r:embed="rId1" name="audio8.wav"/>
          </p:stSnd>
        </p:sndAc>
      </p:transition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2"/>
          <p:cNvSpPr/>
          <p:nvPr/>
        </p:nvSpPr>
        <p:spPr>
          <a:xfrm>
            <a:off x="1692000" y="407664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979280" y="1413000"/>
            <a:ext cx="5688000" cy="5300280"/>
            <a:chOff x="1979280" y="1413000"/>
            <a:chExt cx="5688000" cy="5300280"/>
          </a:xfrm>
        </p:grpSpPr>
        <p:sp>
          <p:nvSpPr>
            <p:cNvPr id="175" name="Rectangle 4"/>
            <p:cNvSpPr/>
            <p:nvPr/>
          </p:nvSpPr>
          <p:spPr>
            <a:xfrm>
              <a:off x="1979640" y="1413000"/>
              <a:ext cx="5687640" cy="5300280"/>
            </a:xfrm>
            <a:prstGeom prst="rect">
              <a:avLst/>
            </a:prstGeom>
            <a:noFill/>
            <a:ln w="5715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176" name="Line 5"/>
            <p:cNvSpPr/>
            <p:nvPr/>
          </p:nvSpPr>
          <p:spPr>
            <a:xfrm>
              <a:off x="1979280" y="4076640"/>
              <a:ext cx="5688000" cy="360"/>
            </a:xfrm>
            <a:prstGeom prst="line">
              <a:avLst/>
            </a:prstGeom>
            <a:ln w="5715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7" name="Line 6"/>
          <p:cNvSpPr/>
          <p:nvPr/>
        </p:nvSpPr>
        <p:spPr>
          <a:xfrm>
            <a:off x="4859280" y="1341360"/>
            <a:ext cx="360" cy="5327640"/>
          </a:xfrm>
          <a:prstGeom prst="line">
            <a:avLst/>
          </a:prstGeom>
          <a:ln w="5715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754160" y="836640"/>
            <a:ext cx="4860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514600" y="152280"/>
            <a:ext cx="43430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04920" y="1981080"/>
            <a:ext cx="1523520" cy="415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夸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夸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夸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8.wav"/>
          </p:stSnd>
        </p:sndAc>
      </p:transition>
    </mc:Choice>
    <mc:Fallback>
      <p:transition spd="slow">
        <p:sndAc>
          <p:stSnd>
            <p:snd r:embed="rId1" name="audio8.wav"/>
          </p:stSnd>
        </p:sndAc>
      </p:transition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Line 2"/>
          <p:cNvSpPr/>
          <p:nvPr/>
        </p:nvSpPr>
        <p:spPr>
          <a:xfrm>
            <a:off x="1692000" y="407664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979280" y="1413000"/>
            <a:ext cx="5688000" cy="5300280"/>
            <a:chOff x="1979280" y="1413000"/>
            <a:chExt cx="5688000" cy="5300280"/>
          </a:xfrm>
        </p:grpSpPr>
        <p:sp>
          <p:nvSpPr>
            <p:cNvPr id="183" name="Rectangle 4"/>
            <p:cNvSpPr/>
            <p:nvPr/>
          </p:nvSpPr>
          <p:spPr>
            <a:xfrm>
              <a:off x="1979640" y="1413000"/>
              <a:ext cx="5687640" cy="5300280"/>
            </a:xfrm>
            <a:prstGeom prst="rect">
              <a:avLst/>
            </a:prstGeom>
            <a:noFill/>
            <a:ln w="5715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1979280" y="4076640"/>
              <a:ext cx="5688000" cy="360"/>
            </a:xfrm>
            <a:prstGeom prst="line">
              <a:avLst/>
            </a:prstGeom>
            <a:ln w="5715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85" name="Line 6"/>
          <p:cNvSpPr/>
          <p:nvPr/>
        </p:nvSpPr>
        <p:spPr>
          <a:xfrm>
            <a:off x="4859280" y="1341360"/>
            <a:ext cx="360" cy="5327640"/>
          </a:xfrm>
          <a:prstGeom prst="line">
            <a:avLst/>
          </a:prstGeom>
          <a:ln w="5715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4754160" y="836640"/>
            <a:ext cx="4860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2514600" y="152280"/>
            <a:ext cx="43430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304920" y="1981080"/>
            <a:ext cx="1523520" cy="415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当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当面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上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8.wav"/>
          </p:stSnd>
        </p:sndAc>
      </p:transition>
    </mc:Choice>
    <mc:Fallback>
      <p:transition spd="slow">
        <p:sndAc>
          <p:stSnd>
            <p:snd r:embed="rId1" name="audio8.wav"/>
          </p:stSnd>
        </p:sndAc>
      </p:transition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2"/>
          <p:cNvSpPr/>
          <p:nvPr/>
        </p:nvSpPr>
        <p:spPr>
          <a:xfrm>
            <a:off x="1692000" y="407664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1979280" y="1413000"/>
            <a:ext cx="5688000" cy="5300280"/>
            <a:chOff x="1979280" y="1413000"/>
            <a:chExt cx="5688000" cy="5300280"/>
          </a:xfrm>
        </p:grpSpPr>
        <p:sp>
          <p:nvSpPr>
            <p:cNvPr id="191" name="Rectangle 4"/>
            <p:cNvSpPr/>
            <p:nvPr/>
          </p:nvSpPr>
          <p:spPr>
            <a:xfrm>
              <a:off x="1979640" y="1413000"/>
              <a:ext cx="5687640" cy="5300280"/>
            </a:xfrm>
            <a:prstGeom prst="rect">
              <a:avLst/>
            </a:prstGeom>
            <a:noFill/>
            <a:ln w="5715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192" name="Line 5"/>
            <p:cNvSpPr/>
            <p:nvPr/>
          </p:nvSpPr>
          <p:spPr>
            <a:xfrm>
              <a:off x="1979280" y="4076640"/>
              <a:ext cx="5688000" cy="360"/>
            </a:xfrm>
            <a:prstGeom prst="line">
              <a:avLst/>
            </a:prstGeom>
            <a:ln w="5715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93" name="Line 6"/>
          <p:cNvSpPr/>
          <p:nvPr/>
        </p:nvSpPr>
        <p:spPr>
          <a:xfrm>
            <a:off x="4859280" y="1341360"/>
            <a:ext cx="360" cy="5327640"/>
          </a:xfrm>
          <a:prstGeom prst="line">
            <a:avLst/>
          </a:prstGeom>
          <a:ln w="5715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754160" y="836640"/>
            <a:ext cx="4860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514600" y="152280"/>
            <a:ext cx="43430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395280" y="620640"/>
            <a:ext cx="1523520" cy="501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功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攻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用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公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8.wav"/>
          </p:stSnd>
        </p:sndAc>
      </p:transition>
    </mc:Choice>
    <mc:Fallback>
      <p:transition spd="slow">
        <p:sndAc>
          <p:stSnd>
            <p:snd r:embed="rId1" name="audio8.wav"/>
          </p:stSnd>
        </p:sndAc>
      </p:transition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>
            <a:off x="1692000" y="407664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1979280" y="1413000"/>
            <a:ext cx="5688000" cy="5300280"/>
            <a:chOff x="1979280" y="1413000"/>
            <a:chExt cx="5688000" cy="5300280"/>
          </a:xfrm>
        </p:grpSpPr>
        <p:sp>
          <p:nvSpPr>
            <p:cNvPr id="199" name="Rectangle 4"/>
            <p:cNvSpPr/>
            <p:nvPr/>
          </p:nvSpPr>
          <p:spPr>
            <a:xfrm>
              <a:off x="1979640" y="1413000"/>
              <a:ext cx="5687640" cy="5300280"/>
            </a:xfrm>
            <a:prstGeom prst="rect">
              <a:avLst/>
            </a:prstGeom>
            <a:noFill/>
            <a:ln w="5715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>
              <a:off x="1979280" y="4076640"/>
              <a:ext cx="5688000" cy="360"/>
            </a:xfrm>
            <a:prstGeom prst="line">
              <a:avLst/>
            </a:prstGeom>
            <a:ln w="5715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201" name="Line 6"/>
          <p:cNvSpPr/>
          <p:nvPr/>
        </p:nvSpPr>
        <p:spPr>
          <a:xfrm>
            <a:off x="4859280" y="1341360"/>
            <a:ext cx="360" cy="5327640"/>
          </a:xfrm>
          <a:prstGeom prst="line">
            <a:avLst/>
          </a:prstGeom>
          <a:ln w="5715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754160" y="836640"/>
            <a:ext cx="4860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2514600" y="152280"/>
            <a:ext cx="43430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68360" y="620640"/>
            <a:ext cx="1523520" cy="501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上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课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课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8.wav"/>
          </p:stSnd>
        </p:sndAc>
      </p:transition>
    </mc:Choice>
    <mc:Fallback>
      <p:transition spd="slow">
        <p:sndAc>
          <p:stSnd>
            <p:snd r:embed="rId1" name="audio8.wav"/>
          </p:stSnd>
        </p:sndAc>
      </p:transition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凡人邓小平"/>
          <p:cNvPicPr/>
          <p:nvPr/>
        </p:nvPicPr>
        <p:blipFill>
          <a:blip r:embed="rId1"/>
          <a:stretch/>
        </p:blipFill>
        <p:spPr>
          <a:xfrm>
            <a:off x="0" y="0"/>
            <a:ext cx="5219280" cy="6857640"/>
          </a:xfrm>
          <a:prstGeom prst="rect">
            <a:avLst/>
          </a:prstGeom>
          <a:ln w="9525">
            <a:noFill/>
          </a:ln>
        </p:spPr>
      </p:pic>
      <p:sp>
        <p:nvSpPr>
          <p:cNvPr id="96" name="Text Box 4"/>
          <p:cNvSpPr/>
          <p:nvPr/>
        </p:nvSpPr>
        <p:spPr>
          <a:xfrm>
            <a:off x="5867280" y="765000"/>
            <a:ext cx="2304720" cy="252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92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年开始了职业革命家的生涯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93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年，任八路军总部政治部付主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2"/>
          <p:cNvSpPr/>
          <p:nvPr/>
        </p:nvSpPr>
        <p:spPr>
          <a:xfrm>
            <a:off x="1692000" y="407664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1979280" y="1413000"/>
            <a:ext cx="5688000" cy="5300280"/>
            <a:chOff x="1979280" y="1413000"/>
            <a:chExt cx="5688000" cy="5300280"/>
          </a:xfrm>
        </p:grpSpPr>
        <p:sp>
          <p:nvSpPr>
            <p:cNvPr id="207" name="Rectangle 4"/>
            <p:cNvSpPr/>
            <p:nvPr/>
          </p:nvSpPr>
          <p:spPr>
            <a:xfrm>
              <a:off x="1979640" y="1413000"/>
              <a:ext cx="5687640" cy="5300280"/>
            </a:xfrm>
            <a:prstGeom prst="rect">
              <a:avLst/>
            </a:prstGeom>
            <a:noFill/>
            <a:ln w="5715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08" name="Line 5"/>
            <p:cNvSpPr/>
            <p:nvPr/>
          </p:nvSpPr>
          <p:spPr>
            <a:xfrm>
              <a:off x="1979280" y="4076640"/>
              <a:ext cx="5688000" cy="360"/>
            </a:xfrm>
            <a:prstGeom prst="line">
              <a:avLst/>
            </a:prstGeom>
            <a:ln w="5715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209" name="Line 6"/>
          <p:cNvSpPr/>
          <p:nvPr/>
        </p:nvSpPr>
        <p:spPr>
          <a:xfrm>
            <a:off x="4859280" y="1341360"/>
            <a:ext cx="360" cy="5327640"/>
          </a:xfrm>
          <a:prstGeom prst="line">
            <a:avLst/>
          </a:prstGeom>
          <a:ln w="5715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4754160" y="836640"/>
            <a:ext cx="4860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2514600" y="152280"/>
            <a:ext cx="43430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304920" y="1981080"/>
            <a:ext cx="1523520" cy="415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这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这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这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到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8.wav"/>
          </p:stSnd>
        </p:sndAc>
      </p:transition>
    </mc:Choice>
    <mc:Fallback>
      <p:transition spd="slow">
        <p:sndAc>
          <p:stSnd>
            <p:snd r:embed="rId1" name="audio8.wav"/>
          </p:stSnd>
        </p:sndAc>
      </p:transition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邓小平生平大事年表：1961年-1970年"/>
          <p:cNvPicPr/>
          <p:nvPr/>
        </p:nvPicPr>
        <p:blipFill>
          <a:blip r:embed="rId1"/>
          <a:stretch/>
        </p:blipFill>
        <p:spPr>
          <a:xfrm>
            <a:off x="0" y="0"/>
            <a:ext cx="5292360" cy="6857640"/>
          </a:xfrm>
          <a:prstGeom prst="rect">
            <a:avLst/>
          </a:prstGeom>
          <a:ln w="9525">
            <a:noFill/>
          </a:ln>
        </p:spPr>
      </p:pic>
      <p:sp>
        <p:nvSpPr>
          <p:cNvPr id="98" name="Text Box 4"/>
          <p:cNvSpPr/>
          <p:nvPr/>
        </p:nvSpPr>
        <p:spPr>
          <a:xfrm>
            <a:off x="6156360" y="1844640"/>
            <a:ext cx="2736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96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年，邓小平和周恩来在北京天安门城楼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212298"/>
          <p:cNvPicPr/>
          <p:nvPr/>
        </p:nvPicPr>
        <p:blipFill>
          <a:blip r:embed="rId1"/>
          <a:stretch/>
        </p:blipFill>
        <p:spPr>
          <a:xfrm>
            <a:off x="0" y="0"/>
            <a:ext cx="5795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0" name="Text Box 4"/>
          <p:cNvSpPr/>
          <p:nvPr/>
        </p:nvSpPr>
        <p:spPr>
          <a:xfrm>
            <a:off x="6516720" y="1341360"/>
            <a:ext cx="2015640" cy="313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98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年 邓小平检阅中国人民解放军陆海空三军部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2" name="audio8.wav"/>
          </p:stSnd>
        </p:sndAc>
      </p:transition>
    </mc:Choice>
    <mc:Fallback>
      <p:transition spd="slow">
        <p:sndAc>
          <p:stSnd>
            <p:snd r:embed="rId2" name="audio8.wav"/>
          </p:stSnd>
        </p:sndAc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7280" y="0"/>
            <a:ext cx="3276360" cy="685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97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月，邓小平爷爷当选为政协主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630425"/>
          <p:cNvPicPr/>
          <p:nvPr/>
        </p:nvPicPr>
        <p:blipFill>
          <a:blip r:embed="rId1"/>
          <a:stretch/>
        </p:blipFill>
        <p:spPr>
          <a:xfrm>
            <a:off x="0" y="0"/>
            <a:ext cx="5870160" cy="6857640"/>
          </a:xfrm>
          <a:prstGeom prst="rect">
            <a:avLst/>
          </a:prstGeom>
          <a:ln w="9525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KBSC04"/>
          <p:cNvPicPr/>
          <p:nvPr/>
        </p:nvPicPr>
        <p:blipFill>
          <a:blip r:embed="rId1"/>
          <a:stretch/>
        </p:blipFill>
        <p:spPr>
          <a:xfrm>
            <a:off x="0" y="0"/>
            <a:ext cx="9143640" cy="7291080"/>
          </a:xfrm>
          <a:prstGeom prst="rect">
            <a:avLst/>
          </a:prstGeom>
          <a:ln w="9525">
            <a:noFill/>
          </a:ln>
        </p:spPr>
      </p:pic>
      <p:sp>
        <p:nvSpPr>
          <p:cNvPr id="104" name="Text Box 3"/>
          <p:cNvSpPr/>
          <p:nvPr/>
        </p:nvSpPr>
        <p:spPr>
          <a:xfrm>
            <a:off x="73440" y="1125360"/>
            <a:ext cx="9087480" cy="4904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jīnɡ  zhǐ  ménɡ  miáo  shú  zhào  àn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经      纸    蒙       描       熟     照    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ènɡ  pínɡ  dào  kuā  dānɡ  ɡōnɡ  kè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邓         平    到      夸      当       功    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qiú  zhè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求     这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KBSC04"/>
          <p:cNvPicPr/>
          <p:nvPr/>
        </p:nvPicPr>
        <p:blipFill>
          <a:blip r:embed="rId1"/>
          <a:stretch/>
        </p:blipFill>
        <p:spPr>
          <a:xfrm>
            <a:off x="0" y="0"/>
            <a:ext cx="9143640" cy="7291080"/>
          </a:xfrm>
          <a:prstGeom prst="rect">
            <a:avLst/>
          </a:prstGeom>
          <a:ln w="9525">
            <a:noFill/>
          </a:ln>
        </p:spPr>
      </p:pic>
      <p:sp>
        <p:nvSpPr>
          <p:cNvPr id="106" name="Text Box 3"/>
          <p:cNvSpPr/>
          <p:nvPr/>
        </p:nvSpPr>
        <p:spPr>
          <a:xfrm>
            <a:off x="-474840" y="1486080"/>
            <a:ext cx="10360080" cy="862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shòu dào    kuā jiǎnɡ   dānɡ shí    ɡōnɡ kè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受   到         夸  奖          当   时       功   课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miáo hónɡ   liàn shú   zhào zhe    yāo qi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描   红          练   熟        照   着        要  求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zhè yànɡ      yònɡ ɡōnɡ      dènɡ xiǎo pínɡ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这  样                 用   功            邓   小   平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yònɡ zhǐ ménɡ z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用   纸  蒙   着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4"/>
          <p:cNvSpPr/>
          <p:nvPr/>
        </p:nvSpPr>
        <p:spPr>
          <a:xfrm>
            <a:off x="3419640" y="6093000"/>
            <a:ext cx="1080720" cy="360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行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hangye/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节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eri/           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下载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背景图片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图表下载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优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word/              Excel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教程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excel/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课件下载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01_9dPuleHEFTzM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9" name="Text Box 2"/>
          <p:cNvSpPr/>
          <p:nvPr/>
        </p:nvSpPr>
        <p:spPr>
          <a:xfrm>
            <a:off x="611280" y="2133720"/>
            <a:ext cx="7921440" cy="2426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经常    当时     夸奖   功课     每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要求    主要     蒙着     知道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手好字      字帖        用功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  <Words>891</Words>
  <Paragraphs>16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2007-03-28T10:44:46Z</dcterms:created>
  <dc:creator>第一PPT模板网-WWW.1PPT.COM</dc:creator>
  <dc:description>第一PPT模板网-WWW.1PPT.COM_x005F_x000d_
</dc:description>
  <cp:keywords>第一PPT模板网-WWW.1PPT.COM</cp:keywords>
  <dc:language>en-US</dc:language>
  <cp:lastModifiedBy>Windows 用户</cp:lastModifiedBy>
  <dcterms:modified xsi:type="dcterms:W3CDTF">2021-07-29T10:44:10Z</dcterms:modified>
  <cp:revision>6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5</vt:r8>
  </property>
  <property fmtid="{D5CDD505-2E9C-101B-9397-08002B2CF9AE}" pid="3" name="Notes">
    <vt:r8>16</vt:r8>
  </property>
  <property fmtid="{D5CDD505-2E9C-101B-9397-08002B2CF9AE}" pid="4" name="PresentationFormat">
    <vt:lpwstr>全屏显示(4:3)</vt:lpwstr>
  </property>
  <property fmtid="{D5CDD505-2E9C-101B-9397-08002B2CF9AE}" pid="5" name="Slides">
    <vt:r8>31</vt:r8>
  </property>
</Properties>
</file>