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D18-89E2-4081-B4FE-128E5EA9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0D11-9D9B-41AF-8610-83E5235C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549-F95D-45AA-A099-548AD9EE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85A-7EA5-47F7-8239-71A28449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FBB-9532-46ED-896A-D248208C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4AC-4B25-41E7-8509-14838D96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C0B-C2B9-4A87-89BF-E857B2FF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A337-8CF5-4C93-BBE7-68493C4C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C048-A014-4823-9BA0-427BACF2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53F-98D2-4039-A553-1D679430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02D-C0DF-497D-9507-1DA1CAD8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788-383B-4AF7-A8E8-3F66D6C7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9681-CBC0-4C9F-A46A-8F766AE3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4112-4F5B-4D20-B711-70EF0ACD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B7E2-B0BA-4A50-B8AE-33810F0A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7CAD-6E93-456C-851C-B52F7FDD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AD32-D4CE-4FB1-BF86-D8AA57A5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9782-6086-4A07-A98F-E791A81B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3FA5-F808-4CC8-86B9-0B874C1A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4FA5-D0B3-4842-9E19-C4033C37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E9DB-2515-48D8-A6E7-AF2B6274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EFC9-D4C4-462D-9189-122E4B3E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0DB3-E4D3-47BF-AA78-7C7EB2DA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83E9-C1A3-46D6-A9D2-4526ED8A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240" cy="58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1"/>
          </p:nvPr>
        </p:nvSpPr>
        <p:spPr>
          <a:xfrm>
            <a:off x="457200" y="62463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63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B18E163-C8A4-45E5-95DE-26212F653C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4"/>
          </p:nvPr>
        </p:nvSpPr>
        <p:spPr>
          <a:xfrm>
            <a:off x="457200" y="62463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6"/>
          </p:nvPr>
        </p:nvSpPr>
        <p:spPr>
          <a:xfrm>
            <a:off x="6553080" y="62463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462AEF4-BF86-438C-8598-9969F44AE5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4" descr="yy4.jpg"/>
          <p:cNvPicPr/>
          <p:nvPr/>
        </p:nvPicPr>
        <p:blipFill>
          <a:blip r:embed="rId1"/>
          <a:stretch/>
        </p:blipFill>
        <p:spPr>
          <a:xfrm>
            <a:off x="1440" y="0"/>
            <a:ext cx="9140400" cy="4952520"/>
          </a:xfrm>
          <a:prstGeom prst="rect">
            <a:avLst/>
          </a:prstGeom>
          <a:ln w="0">
            <a:noFill/>
          </a:ln>
        </p:spPr>
      </p:pic>
      <p:sp>
        <p:nvSpPr>
          <p:cNvPr id="159" name="副标题 2"/>
          <p:cNvSpPr/>
          <p:nvPr/>
        </p:nvSpPr>
        <p:spPr>
          <a:xfrm>
            <a:off x="1758960" y="5319360"/>
            <a:ext cx="53812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部编本人教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七年级下册语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标题 1"/>
          <p:cNvSpPr/>
          <p:nvPr/>
        </p:nvSpPr>
        <p:spPr>
          <a:xfrm>
            <a:off x="1751040" y="4317840"/>
            <a:ext cx="538128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台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直接连接符 9"/>
          <p:cNvCxnSpPr/>
          <p:nvPr/>
        </p:nvCxnSpPr>
        <p:spPr>
          <a:xfrm>
            <a:off x="2409480" y="5308560"/>
            <a:ext cx="4197960" cy="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sp>
        <p:nvSpPr>
          <p:cNvPr id="162" name="矩形 5"/>
          <p:cNvSpPr/>
          <p:nvPr/>
        </p:nvSpPr>
        <p:spPr>
          <a:xfrm>
            <a:off x="0" y="605916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1"/>
          <p:cNvSpPr/>
          <p:nvPr/>
        </p:nvSpPr>
        <p:spPr>
          <a:xfrm>
            <a:off x="743040" y="1136520"/>
            <a:ext cx="810072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开端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-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：写老实厚道的父亲为了自己和家人不低人一等，得到他人的尊重，想造一栋有高台阶的新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发展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-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：写父亲下决心开始漫长的准备，经过多年的辛苦劳作，终于开始造屋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高潮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7-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：写建造新屋和造九级台阶的全过程，以及全家人的喜悦心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局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6-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：写新屋落成，父亲为此付出了沉重的代价：人衰老了，身体也垮了，精神支柱也倒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9"/>
          <p:cNvSpPr/>
          <p:nvPr/>
        </p:nvSpPr>
        <p:spPr>
          <a:xfrm>
            <a:off x="611280" y="446760"/>
            <a:ext cx="494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可以分为四个部分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5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1316160" y="3121920"/>
            <a:ext cx="6905160" cy="1735200"/>
          </a:xfrm>
          <a:prstGeom prst="rect">
            <a:avLst/>
          </a:prstGeom>
          <a:noFill/>
          <a:ln w="12700">
            <a:noFill/>
          </a:ln>
          <a:effectLst>
            <a:outerShdw algn="bl" dir="2700000" dist="35638" kx="2115830" rotWithShape="0" sy="5000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再读课文，思考、讨论下面的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亲为什么要造有高台阶的新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屋、新台阶造好后，父亲怎么样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全文围绕“台阶”写了哪几件事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2"/>
          <p:cNvGrpSpPr/>
          <p:nvPr/>
        </p:nvGrpSpPr>
        <p:grpSpPr>
          <a:xfrm>
            <a:off x="162000" y="152280"/>
            <a:ext cx="2445840" cy="1231920"/>
            <a:chOff x="162000" y="152280"/>
            <a:chExt cx="2445840" cy="1231920"/>
          </a:xfrm>
        </p:grpSpPr>
        <p:pic>
          <p:nvPicPr>
            <p:cNvPr id="220" name="图片 1" descr=""/>
            <p:cNvPicPr/>
            <p:nvPr/>
          </p:nvPicPr>
          <p:blipFill>
            <a:blip r:embed="rId1"/>
            <a:stretch/>
          </p:blipFill>
          <p:spPr>
            <a:xfrm>
              <a:off x="162000" y="152280"/>
              <a:ext cx="2445840" cy="12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圆角矩形 2"/>
            <p:cNvSpPr/>
            <p:nvPr/>
          </p:nvSpPr>
          <p:spPr>
            <a:xfrm>
              <a:off x="427680" y="465840"/>
              <a:ext cx="1913040" cy="918360"/>
            </a:xfrm>
            <a:prstGeom prst="roundRect">
              <a:avLst>
                <a:gd name="adj" fmla="val 63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课文解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4"/>
          <p:cNvSpPr/>
          <p:nvPr/>
        </p:nvSpPr>
        <p:spPr>
          <a:xfrm>
            <a:off x="847800" y="1714320"/>
            <a:ext cx="2466720" cy="363600"/>
          </a:xfrm>
          <a:prstGeom prst="rect">
            <a:avLst/>
          </a:prstGeom>
          <a:noFill/>
          <a:ln w="12700">
            <a:noFill/>
          </a:ln>
          <a:effectLst>
            <a:outerShdw algn="bl" dir="2700000" dist="35638" kx="2115830" rotWithShape="0" sy="5000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理清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57360" y="442440"/>
            <a:ext cx="7489440" cy="446040"/>
          </a:xfrm>
          <a:prstGeom prst="rect">
            <a:avLst/>
          </a:prstGeom>
          <a:noFill/>
          <a:ln w="12700">
            <a:noFill/>
          </a:ln>
          <a:effectLst>
            <a:outerShdw algn="bl" dir="2700000" dist="35638" kx="2115830" rotWithShape="0" sy="5000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亲为什么要造有高台阶的新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657360" y="1291320"/>
            <a:ext cx="7846560" cy="418680"/>
          </a:xfrm>
          <a:prstGeom prst="rect">
            <a:avLst/>
          </a:prstGeom>
          <a:noFill/>
          <a:ln w="12700">
            <a:noFill/>
          </a:ln>
          <a:effectLst>
            <a:outerShdw algn="bl" dir="2700000" dist="35638" kx="2115830" rotWithShape="0" sy="5000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亲要造有高台阶的新屋的原因：想借高台阶提高自己的身份与地位；努力实现自己的人生价值；希望被人认同，被人尊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657360" y="3809880"/>
            <a:ext cx="7849800" cy="418680"/>
          </a:xfrm>
          <a:prstGeom prst="rect">
            <a:avLst/>
          </a:prstGeom>
          <a:noFill/>
          <a:ln w="12700">
            <a:noFill/>
          </a:ln>
          <a:effectLst>
            <a:outerShdw algn="bl" dir="2700000" dist="35638" kx="2115830" rotWithShape="0" sy="5000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亲终于建起了有九级台阶的新屋，一辈子的心愿得以实现，心头的喜悦真是无法形容。不过父亲为此付出的代价是沉重的：新屋落成了，人也衰老了，身体也累垮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57360" y="3126240"/>
            <a:ext cx="7492680" cy="446040"/>
          </a:xfrm>
          <a:prstGeom prst="rect">
            <a:avLst/>
          </a:prstGeom>
          <a:noFill/>
          <a:ln w="12700">
            <a:noFill/>
          </a:ln>
          <a:effectLst>
            <a:outerShdw algn="bl" dir="2700000" dist="35638" kx="2115830" rotWithShape="0" sy="5000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屋、新台阶造好后，父亲怎么样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757080" y="1805400"/>
            <a:ext cx="81324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回忆旧台阶→父亲觉得台阶低→父亲为造新台阶做准备→造新台阶→新台阶造成后父亲觉得不对劲，父亲老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757080" y="870120"/>
            <a:ext cx="7009920" cy="501120"/>
          </a:xfrm>
          <a:prstGeom prst="rect">
            <a:avLst/>
          </a:prstGeom>
          <a:noFill/>
          <a:ln w="12700">
            <a:noFill/>
          </a:ln>
          <a:effectLst>
            <a:outerShdw algn="bl" dir="2700000" dist="35638" kx="2115830" rotWithShape="0" sy="5000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全文围绕“台阶”写了哪几件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E:\孙巧灵\2016秋上\上课课件\制作\R八语上\人八语大课堂正文\CT21.TIF"/>
          <p:cNvPicPr/>
          <p:nvPr/>
        </p:nvPicPr>
        <p:blipFill>
          <a:blip r:embed="rId1"/>
          <a:stretch/>
        </p:blipFill>
        <p:spPr>
          <a:xfrm>
            <a:off x="2498760" y="3282840"/>
            <a:ext cx="3526920" cy="310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0" name="AutoShape 2"/>
          <p:cNvCxnSpPr/>
          <p:nvPr/>
        </p:nvCxnSpPr>
        <p:spPr>
          <a:xfrm flipV="1">
            <a:off x="1295280" y="5083920"/>
            <a:ext cx="1297440" cy="362520"/>
          </a:xfrm>
          <a:prstGeom prst="bentConnector2">
            <a:avLst/>
          </a:prstGeom>
          <a:ln w="76200">
            <a:solidFill>
              <a:srgbClr val="ffff66"/>
            </a:solidFill>
            <a:miter/>
          </a:ln>
        </p:spPr>
      </p:cxnSp>
      <p:cxnSp>
        <p:nvCxnSpPr>
          <p:cNvPr id="231" name="AutoShape 3"/>
          <p:cNvCxnSpPr/>
          <p:nvPr/>
        </p:nvCxnSpPr>
        <p:spPr>
          <a:xfrm flipV="1">
            <a:off x="1942920" y="4724280"/>
            <a:ext cx="1297440" cy="360000"/>
          </a:xfrm>
          <a:prstGeom prst="bentConnector2">
            <a:avLst/>
          </a:prstGeom>
          <a:ln w="76200">
            <a:solidFill>
              <a:srgbClr val="ffff66"/>
            </a:solidFill>
            <a:miter/>
          </a:ln>
        </p:spPr>
      </p:cxnSp>
      <p:cxnSp>
        <p:nvCxnSpPr>
          <p:cNvPr id="232" name="AutoShape 4"/>
          <p:cNvCxnSpPr/>
          <p:nvPr/>
        </p:nvCxnSpPr>
        <p:spPr>
          <a:xfrm flipV="1">
            <a:off x="2592360" y="4292280"/>
            <a:ext cx="1222560" cy="432360"/>
          </a:xfrm>
          <a:prstGeom prst="bentConnector2">
            <a:avLst/>
          </a:prstGeom>
          <a:ln w="76200">
            <a:solidFill>
              <a:srgbClr val="ffff66"/>
            </a:solidFill>
            <a:miter/>
          </a:ln>
        </p:spPr>
      </p:cxnSp>
      <p:cxnSp>
        <p:nvCxnSpPr>
          <p:cNvPr id="233" name="AutoShape 5"/>
          <p:cNvCxnSpPr/>
          <p:nvPr/>
        </p:nvCxnSpPr>
        <p:spPr>
          <a:xfrm flipV="1">
            <a:off x="3166920" y="3860640"/>
            <a:ext cx="1224360" cy="432000"/>
          </a:xfrm>
          <a:prstGeom prst="bentConnector2">
            <a:avLst/>
          </a:prstGeom>
          <a:ln w="76200">
            <a:solidFill>
              <a:srgbClr val="ffff66"/>
            </a:solidFill>
            <a:miter/>
          </a:ln>
        </p:spPr>
      </p:cxnSp>
      <p:cxnSp>
        <p:nvCxnSpPr>
          <p:cNvPr id="234" name="AutoShape 6"/>
          <p:cNvCxnSpPr/>
          <p:nvPr/>
        </p:nvCxnSpPr>
        <p:spPr>
          <a:xfrm flipV="1">
            <a:off x="3743280" y="3500640"/>
            <a:ext cx="1295640" cy="358200"/>
          </a:xfrm>
          <a:prstGeom prst="bentConnector2">
            <a:avLst/>
          </a:prstGeom>
          <a:ln w="76200">
            <a:solidFill>
              <a:srgbClr val="ffff66"/>
            </a:solidFill>
            <a:miter/>
          </a:ln>
        </p:spPr>
      </p:cxnSp>
      <p:cxnSp>
        <p:nvCxnSpPr>
          <p:cNvPr id="235" name="AutoShape 7"/>
          <p:cNvCxnSpPr/>
          <p:nvPr/>
        </p:nvCxnSpPr>
        <p:spPr>
          <a:xfrm flipV="1">
            <a:off x="4390920" y="3069000"/>
            <a:ext cx="1224360" cy="434160"/>
          </a:xfrm>
          <a:prstGeom prst="bentConnector2">
            <a:avLst/>
          </a:prstGeom>
          <a:ln w="76200">
            <a:solidFill>
              <a:srgbClr val="ffff66"/>
            </a:solidFill>
            <a:miter/>
          </a:ln>
        </p:spPr>
      </p:cxnSp>
      <p:cxnSp>
        <p:nvCxnSpPr>
          <p:cNvPr id="236" name="AutoShape 8"/>
          <p:cNvCxnSpPr/>
          <p:nvPr/>
        </p:nvCxnSpPr>
        <p:spPr>
          <a:xfrm flipV="1">
            <a:off x="4967280" y="2637360"/>
            <a:ext cx="1224000" cy="432000"/>
          </a:xfrm>
          <a:prstGeom prst="bentConnector2">
            <a:avLst/>
          </a:prstGeom>
          <a:ln w="76200">
            <a:solidFill>
              <a:srgbClr val="ffff66"/>
            </a:solidFill>
            <a:miter/>
          </a:ln>
        </p:spPr>
      </p:cxnSp>
      <p:cxnSp>
        <p:nvCxnSpPr>
          <p:cNvPr id="237" name="AutoShape 9"/>
          <p:cNvCxnSpPr/>
          <p:nvPr/>
        </p:nvCxnSpPr>
        <p:spPr>
          <a:xfrm flipV="1">
            <a:off x="5545080" y="2061360"/>
            <a:ext cx="1511640" cy="576360"/>
          </a:xfrm>
          <a:prstGeom prst="bentConnector2">
            <a:avLst/>
          </a:prstGeom>
          <a:ln w="76200">
            <a:solidFill>
              <a:srgbClr val="ffff66"/>
            </a:solidFill>
            <a:miter/>
          </a:ln>
        </p:spPr>
      </p:cxnSp>
      <p:sp>
        <p:nvSpPr>
          <p:cNvPr id="238" name="Text Box 10"/>
          <p:cNvSpPr/>
          <p:nvPr/>
        </p:nvSpPr>
        <p:spPr>
          <a:xfrm>
            <a:off x="1039680" y="4942440"/>
            <a:ext cx="116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捡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1616040" y="4525560"/>
            <a:ext cx="116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捡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3935520" y="2836440"/>
            <a:ext cx="161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捡石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2119320" y="4108320"/>
            <a:ext cx="161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存角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2925720" y="3645000"/>
            <a:ext cx="116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种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3506760" y="3244680"/>
            <a:ext cx="116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砍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4478400" y="2379240"/>
            <a:ext cx="161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草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5153040" y="1883880"/>
            <a:ext cx="161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踏黄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534960" y="5522400"/>
            <a:ext cx="285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台阶低　地位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843120" y="2563200"/>
            <a:ext cx="1843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MS Outlook"/>
              <a:ea typeface="宋体"/>
            </a:endParaRPr>
          </a:p>
        </p:txBody>
      </p:sp>
      <p:sp>
        <p:nvSpPr>
          <p:cNvPr id="248" name="Text Box 21"/>
          <p:cNvSpPr/>
          <p:nvPr/>
        </p:nvSpPr>
        <p:spPr>
          <a:xfrm>
            <a:off x="5799240" y="755640"/>
            <a:ext cx="280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台阶高：受人尊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　亲：人老体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679320" y="1369440"/>
            <a:ext cx="44906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亲做了哪些事情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2139840" y="2131560"/>
            <a:ext cx="1843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MS Outl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355680" y="1826640"/>
            <a:ext cx="84895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课文，找出最让你感动、最能表现父亲形象特点的语句，划出来。读一读，议一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84120" y="3568680"/>
            <a:ext cx="83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以“我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出父亲是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农民”为话题品评人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84120" y="1241280"/>
            <a:ext cx="4215960" cy="363600"/>
          </a:xfrm>
          <a:prstGeom prst="rect">
            <a:avLst/>
          </a:prstGeom>
          <a:noFill/>
          <a:ln w="12700">
            <a:noFill/>
          </a:ln>
          <a:effectLst>
            <a:outerShdw algn="bl" dir="2700000" dist="35638" kx="2115830" rotWithShape="0" sy="5000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品评人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517680" y="1756800"/>
            <a:ext cx="54734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亲是一个老实厚道的农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亲是一个谦卑的农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亲是一个要强的农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icture 4"/>
          <p:cNvSpPr/>
          <p:nvPr/>
        </p:nvSpPr>
        <p:spPr>
          <a:xfrm>
            <a:off x="5272920" y="1608120"/>
            <a:ext cx="3637800" cy="3198960"/>
          </a:xfrm>
          <a:prstGeom prst="snip2DiagRect">
            <a:avLst>
              <a:gd name="adj1" fmla="val 0"/>
              <a:gd name="adj2" fmla="val 16667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88920" rotWithShape="0">
              <a:srgbClr val="000000">
                <a:alpha val="45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80880" y="1362960"/>
            <a:ext cx="82386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亲老实厚道低眉顺眼累了一辈子，没人说过他有地位，父亲也从没觉得自己有地位。但他日夜盼着，准备着要造一栋有高台阶的新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80880" y="3594240"/>
            <a:ext cx="8238600" cy="19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眉顺眼”体现了父亲的老实厚道。“日夜盼着”说明父亲要自立于受人尊重之列的强烈愿望，用诚实的劳动兴家立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93840" y="690120"/>
            <a:ext cx="4215960" cy="363600"/>
          </a:xfrm>
          <a:prstGeom prst="rect">
            <a:avLst/>
          </a:prstGeom>
          <a:noFill/>
          <a:ln w="12700">
            <a:noFill/>
          </a:ln>
          <a:effectLst>
            <a:outerShdw algn="bl" dir="2700000" dist="35638" kx="2115830" rotWithShape="0" sy="5000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老实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1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80880" y="1509120"/>
            <a:ext cx="823860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亲的两手没处放似的，抄着不是，贴在胯骨上也不是。他仿佛觉得有许多目光在望他，就尽力把胸挺得高些，无奈，他的背是驼惯了的，胸无法挺得高。因而，父亲明明该高兴，却露出些尴尬的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93840" y="851040"/>
            <a:ext cx="3301560" cy="363600"/>
          </a:xfrm>
          <a:prstGeom prst="rect">
            <a:avLst/>
          </a:prstGeom>
          <a:noFill/>
          <a:ln w="12700">
            <a:noFill/>
          </a:ln>
          <a:effectLst>
            <a:outerShdw algn="bl" dir="2700000" dist="35638" kx="2115830" rotWithShape="0" sy="5000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谦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485640" y="4377240"/>
            <a:ext cx="845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当新台阶造好后，他却不好意思坐上去，体现了父亲的谦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452520" y="1682640"/>
            <a:ext cx="85323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亲的神情写得很有特色，他奋斗了大半辈子，高高的台阶就要砌起来，新屋就要完工，他心里的高兴是无法形容的。他一辈子低眉顺眼，高兴起来也自有他高兴的样子，作者微妙地写他左也不是右也不是、异乎平日而又与众不同的样子，折射出父亲的内向与厚道。他手足无措，想挺胸挺不直，笑也是尴尬的笑，这副喜悦的样子是非常个性化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395280" y="907920"/>
            <a:ext cx="58734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怎样理解父亲在放鞭炮时候的神情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9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yy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425520" y="1030680"/>
            <a:ext cx="8361000" cy="32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亲总觉得我们家的台阶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们家的台阶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亲又像是对我，又像是自言自语地感叹。这句话他不知说了多少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68280" y="4341240"/>
            <a:ext cx="8537040" cy="19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5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明了他是一个很有志气、非常要强的农民，不甘心低人一等，渴望受人尊重。“不知说了多少遍”表现他这种愿望很强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25520" y="499680"/>
            <a:ext cx="4215960" cy="363600"/>
          </a:xfrm>
          <a:prstGeom prst="rect">
            <a:avLst/>
          </a:prstGeom>
          <a:noFill/>
          <a:ln w="12700">
            <a:noFill/>
          </a:ln>
          <a:effectLst>
            <a:outerShdw algn="bl" dir="2700000" dist="35638" kx="2115830" rotWithShape="0" sy="5000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要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0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271680" y="1566360"/>
            <a:ext cx="2657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亲形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19160" y="2419200"/>
            <a:ext cx="358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勤劳、顽强、倔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19160" y="3151800"/>
            <a:ext cx="41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淳朴、善良、谦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1019160" y="4616280"/>
            <a:ext cx="7654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怕千辛万苦、愚公移山的精神、坚忍不拔的毅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1031760" y="5348880"/>
            <a:ext cx="4101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发展中国家农民的典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1019160" y="3884040"/>
            <a:ext cx="531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要强、有志气、不甘人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631800" y="692280"/>
            <a:ext cx="5422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亲具有哪些品质特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3"/>
          <p:cNvSpPr/>
          <p:nvPr/>
        </p:nvSpPr>
        <p:spPr>
          <a:xfrm>
            <a:off x="536400" y="1631880"/>
            <a:ext cx="8467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亲坐在绿荫里，……柳树枝老是摇来摇去，却摇不散父亲那专注的目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512640" y="3238560"/>
            <a:ext cx="851508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里运用了神态描写，“专注的目光”表现出父亲对高台阶的羡慕和向往，他在谋划怎样加快准备，争取能早日造起高台阶的新屋。“摇来摇去”“摇不散”极为传神，写出了父亲对追求目标的执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88880" y="951120"/>
            <a:ext cx="4215960" cy="363600"/>
          </a:xfrm>
          <a:prstGeom prst="rect">
            <a:avLst/>
          </a:prstGeom>
          <a:noFill/>
          <a:ln w="12700">
            <a:noFill/>
          </a:ln>
          <a:effectLst>
            <a:outerShdw algn="bl" dir="2700000" dist="35638" kx="2115830" rotWithShape="0" sy="5000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品味细节 感悟主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36680" y="910080"/>
            <a:ext cx="85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中父亲为什么会“若有所失”？表现了父亲怎样的心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58720" y="2527200"/>
            <a:ext cx="8319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亲干了一辈子，劳动就是生命，在他的精神世界里，劳动是创造，劳动才有收获，劳动才能体现自己的价值，一旦不能干活，就失去了一切，所以感觉若有所失。表现了父亲作为一个以劳动为天职的农民，对失去劳动能力的不甘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752400" y="2385360"/>
            <a:ext cx="8081640" cy="1311480"/>
          </a:xfrm>
          <a:prstGeom prst="rect">
            <a:avLst/>
          </a:prstGeom>
          <a:noFill/>
          <a:ln w="12700">
            <a:noFill/>
          </a:ln>
          <a:effectLst>
            <a:outerShdw algn="bl" dir="2700000" dist="35638" kx="2115830" rotWithShape="0" sy="5000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者对父亲的优秀品质表示敬仰和赞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父亲身上的中国传统农民所特有的谦卑表示同情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改变农村的面貌寄予希望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712800" y="1306080"/>
            <a:ext cx="6235200" cy="363960"/>
          </a:xfrm>
          <a:prstGeom prst="rect">
            <a:avLst/>
          </a:prstGeom>
          <a:noFill/>
          <a:ln w="12700">
            <a:noFill/>
          </a:ln>
          <a:effectLst>
            <a:outerShdw algn="bl" dir="2700000" dist="35638" kx="2115830" rotWithShape="0" sy="5000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者对父亲寄予了怎样的思想情感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6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58920" y="1595880"/>
            <a:ext cx="8461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文的主体是父亲造有高台阶的新屋，为什么作者在老屋的三级青石板上用了那么多笔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3560" y="3126240"/>
            <a:ext cx="846108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三块青石板的来历，可知当年的父亲力气很大，与后面造新屋时闪了腰形成对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石板的粗糙，暗示当年经济条件差，造屋艰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2"/>
          <p:cNvGrpSpPr/>
          <p:nvPr/>
        </p:nvGrpSpPr>
        <p:grpSpPr>
          <a:xfrm>
            <a:off x="149400" y="188280"/>
            <a:ext cx="2445840" cy="1231920"/>
            <a:chOff x="149400" y="188280"/>
            <a:chExt cx="2445840" cy="1231920"/>
          </a:xfrm>
        </p:grpSpPr>
        <p:pic>
          <p:nvPicPr>
            <p:cNvPr id="284" name="图片 1" descr=""/>
            <p:cNvPicPr/>
            <p:nvPr/>
          </p:nvPicPr>
          <p:blipFill>
            <a:blip r:embed="rId1"/>
            <a:stretch/>
          </p:blipFill>
          <p:spPr>
            <a:xfrm>
              <a:off x="149400" y="188280"/>
              <a:ext cx="2445840" cy="12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圆角矩形 2"/>
            <p:cNvSpPr/>
            <p:nvPr/>
          </p:nvSpPr>
          <p:spPr>
            <a:xfrm>
              <a:off x="415080" y="501840"/>
              <a:ext cx="1913040" cy="918360"/>
            </a:xfrm>
            <a:prstGeom prst="roundRect">
              <a:avLst>
                <a:gd name="adj" fmla="val 63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深入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5"/>
          <p:cNvSpPr/>
          <p:nvPr/>
        </p:nvSpPr>
        <p:spPr>
          <a:xfrm>
            <a:off x="639720" y="1098720"/>
            <a:ext cx="8235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年幼的“我”能在台阶上跳上跳下，可知台阶确实很低。新屋造好时“我”已是大人了，可见准备盖房前后时间之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父亲在青石台阶上的坐姿，可见台阶之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父亲在青石板上洗脚，写出了父亲终年辛劳的形象，也说明家庭的穷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1"/>
          <p:cNvSpPr/>
          <p:nvPr/>
        </p:nvSpPr>
        <p:spPr>
          <a:xfrm>
            <a:off x="247680" y="471960"/>
            <a:ext cx="8461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中的父亲不甘心自家的台阶低，经过大半辈子的努力，终于造成了一栋九级台阶的新屋，实现了自己一生的愿望，但他为此付出了沉重的代价，你认为这值得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E:\孙巧灵\2016秋上\上课课件\制作\R八语上\人八语大课堂正文\探究14.tif"/>
          <p:cNvPicPr/>
          <p:nvPr/>
        </p:nvPicPr>
        <p:blipFill>
          <a:blip r:embed="rId1"/>
          <a:stretch/>
        </p:blipFill>
        <p:spPr>
          <a:xfrm>
            <a:off x="804960" y="2721960"/>
            <a:ext cx="721476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E:\孙巧灵\2016秋上\上课课件\制作\R八语上\人八语大课堂正文\探究15.tif"/>
          <p:cNvPicPr/>
          <p:nvPr/>
        </p:nvPicPr>
        <p:blipFill>
          <a:blip r:embed="rId1"/>
          <a:stretch/>
        </p:blipFill>
        <p:spPr>
          <a:xfrm>
            <a:off x="685800" y="1240200"/>
            <a:ext cx="7822800" cy="434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E:\孙巧灵\2016秋上\上课课件\制作\R八语上\人八语大课堂正文\探究16.tif"/>
          <p:cNvPicPr/>
          <p:nvPr/>
        </p:nvPicPr>
        <p:blipFill>
          <a:blip r:embed="rId1"/>
          <a:stretch/>
        </p:blipFill>
        <p:spPr>
          <a:xfrm>
            <a:off x="771480" y="876240"/>
            <a:ext cx="7227360" cy="484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://m.tuniucdn.com/filebroker/cdn/olb/c2/c0/c2c0261ba41c6c917375b2baee550550_w370_h255_c1_t0.jpg"/>
          <p:cNvPicPr/>
          <p:nvPr/>
        </p:nvPicPr>
        <p:blipFill>
          <a:blip r:embed="rId1"/>
          <a:stretch/>
        </p:blipFill>
        <p:spPr>
          <a:xfrm rot="163800">
            <a:off x="4610160" y="622080"/>
            <a:ext cx="3524040" cy="3238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http://www.china.com.cn/chinese/hutong/photo/6.jpg"/>
          <p:cNvPicPr/>
          <p:nvPr/>
        </p:nvPicPr>
        <p:blipFill>
          <a:blip r:embed="rId2"/>
          <a:stretch/>
        </p:blipFill>
        <p:spPr>
          <a:xfrm rot="21371400">
            <a:off x="520560" y="218160"/>
            <a:ext cx="3936600" cy="4044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http://i0.sinaimg.cn/travel/2015/0716/U11410P704DT20150716141431.jpg"/>
          <p:cNvPicPr/>
          <p:nvPr/>
        </p:nvPicPr>
        <p:blipFill>
          <a:blip r:embed="rId3"/>
          <a:stretch/>
        </p:blipFill>
        <p:spPr>
          <a:xfrm>
            <a:off x="2266920" y="2770560"/>
            <a:ext cx="4330440" cy="3852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4"/>
          <p:cNvSpPr/>
          <p:nvPr/>
        </p:nvSpPr>
        <p:spPr>
          <a:xfrm>
            <a:off x="669960" y="1731600"/>
            <a:ext cx="68878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简要概括文章的主旨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"/>
          <p:cNvSpPr/>
          <p:nvPr/>
        </p:nvSpPr>
        <p:spPr>
          <a:xfrm>
            <a:off x="669960" y="2611800"/>
            <a:ext cx="80830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ts val="4201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文叙述了父亲为造新屋、砌台阶而拼命苦干的一生，侧面表现了劳动人民艰难困苦的生存状况，讴歌了父亲坚韧不拔的毅力和艰苦创业的精神，表达了作者对父亲的崇敬和怜悯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2"/>
          <p:cNvGrpSpPr/>
          <p:nvPr/>
        </p:nvGrpSpPr>
        <p:grpSpPr>
          <a:xfrm>
            <a:off x="162000" y="152280"/>
            <a:ext cx="2300040" cy="1170000"/>
            <a:chOff x="162000" y="152280"/>
            <a:chExt cx="2300040" cy="1170000"/>
          </a:xfrm>
        </p:grpSpPr>
        <p:pic>
          <p:nvPicPr>
            <p:cNvPr id="294" name="图片 1" descr=""/>
            <p:cNvPicPr/>
            <p:nvPr/>
          </p:nvPicPr>
          <p:blipFill>
            <a:blip r:embed="rId1"/>
            <a:stretch/>
          </p:blipFill>
          <p:spPr>
            <a:xfrm>
              <a:off x="162000" y="152280"/>
              <a:ext cx="23000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圆角矩形 2"/>
            <p:cNvSpPr/>
            <p:nvPr/>
          </p:nvSpPr>
          <p:spPr>
            <a:xfrm>
              <a:off x="394920" y="427680"/>
              <a:ext cx="1799640" cy="873000"/>
            </a:xfrm>
            <a:prstGeom prst="roundRect">
              <a:avLst>
                <a:gd name="adj" fmla="val 63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0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主旨概括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组合 2"/>
          <p:cNvGrpSpPr/>
          <p:nvPr/>
        </p:nvGrpSpPr>
        <p:grpSpPr>
          <a:xfrm>
            <a:off x="160200" y="139680"/>
            <a:ext cx="2445840" cy="1231560"/>
            <a:chOff x="160200" y="139680"/>
            <a:chExt cx="2445840" cy="1231560"/>
          </a:xfrm>
        </p:grpSpPr>
        <p:pic>
          <p:nvPicPr>
            <p:cNvPr id="297" name="图片 1" descr=""/>
            <p:cNvPicPr/>
            <p:nvPr/>
          </p:nvPicPr>
          <p:blipFill>
            <a:blip r:embed="rId1"/>
            <a:stretch/>
          </p:blipFill>
          <p:spPr>
            <a:xfrm>
              <a:off x="160200" y="139680"/>
              <a:ext cx="2445840" cy="12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圆角矩形 2"/>
            <p:cNvSpPr/>
            <p:nvPr/>
          </p:nvSpPr>
          <p:spPr>
            <a:xfrm>
              <a:off x="426240" y="452880"/>
              <a:ext cx="1913040" cy="918360"/>
            </a:xfrm>
            <a:prstGeom prst="roundRect">
              <a:avLst>
                <a:gd name="adj" fmla="val 63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结构梳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Box 1"/>
          <p:cNvSpPr/>
          <p:nvPr/>
        </p:nvSpPr>
        <p:spPr>
          <a:xfrm>
            <a:off x="307440" y="33526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台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2157480" y="5459040"/>
            <a:ext cx="141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旧台阶低（地位低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3037680" y="47602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捡砖捡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3287160" y="4068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积累角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3486960" y="33847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草鞋成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3579120" y="27306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早起踏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3783960" y="20743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腰闪抬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直接连接符 3"/>
          <p:cNvCxnSpPr/>
          <p:nvPr/>
        </p:nvCxnSpPr>
        <p:spPr>
          <a:xfrm>
            <a:off x="1350720" y="5458680"/>
            <a:ext cx="279288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307" name="直接连接符 14"/>
          <p:cNvCxnSpPr/>
          <p:nvPr/>
        </p:nvCxnSpPr>
        <p:spPr>
          <a:xfrm flipV="1">
            <a:off x="4143240" y="1972440"/>
            <a:ext cx="1001880" cy="348660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308" name="直接连接符 16"/>
          <p:cNvCxnSpPr/>
          <p:nvPr/>
        </p:nvCxnSpPr>
        <p:spPr>
          <a:xfrm>
            <a:off x="5144760" y="1972440"/>
            <a:ext cx="290232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309" name="TextBox 19"/>
          <p:cNvSpPr/>
          <p:nvPr/>
        </p:nvSpPr>
        <p:spPr>
          <a:xfrm>
            <a:off x="6037200" y="1301760"/>
            <a:ext cx="141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台阶高（地位高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1"/>
          <p:cNvSpPr/>
          <p:nvPr/>
        </p:nvSpPr>
        <p:spPr>
          <a:xfrm>
            <a:off x="5260320" y="3117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坚韧不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2"/>
          <p:cNvSpPr/>
          <p:nvPr/>
        </p:nvSpPr>
        <p:spPr>
          <a:xfrm>
            <a:off x="5002920" y="3744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执着追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左中括号 18"/>
          <p:cNvSpPr/>
          <p:nvPr/>
        </p:nvSpPr>
        <p:spPr>
          <a:xfrm>
            <a:off x="988920" y="1397160"/>
            <a:ext cx="723600" cy="4965480"/>
          </a:xfrm>
          <a:prstGeom prst="leftBracket">
            <a:avLst>
              <a:gd name="adj" fmla="val 361164"/>
            </a:avLst>
          </a:prstGeom>
          <a:noFill/>
          <a:ln w="28575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cxnSp>
        <p:nvCxnSpPr>
          <p:cNvPr id="313" name="直接箭头连接符 25"/>
          <p:cNvCxnSpPr/>
          <p:nvPr/>
        </p:nvCxnSpPr>
        <p:spPr>
          <a:xfrm flipV="1">
            <a:off x="8192880" y="1532160"/>
            <a:ext cx="360" cy="458928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14" name="TextBox 31"/>
          <p:cNvSpPr/>
          <p:nvPr/>
        </p:nvSpPr>
        <p:spPr>
          <a:xfrm>
            <a:off x="7621560" y="3067200"/>
            <a:ext cx="452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父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8"/>
          <p:cNvSpPr/>
          <p:nvPr/>
        </p:nvSpPr>
        <p:spPr>
          <a:xfrm>
            <a:off x="8193600" y="2541960"/>
            <a:ext cx="92304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希望受人尊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追求社会地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4"/>
          <p:cNvSpPr/>
          <p:nvPr/>
        </p:nvSpPr>
        <p:spPr>
          <a:xfrm>
            <a:off x="485640" y="1619280"/>
            <a:ext cx="8276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们在山顶上建了一座庙宇来供奉神佛。庙宇建好后，山民选择了一块非常大的花岗岩，切割后，一部分用来做庙宇门前的台阶，另一部分用来做佛像。寺庙建好后，前来供奉的人络绎不绝，香火极旺。一天夜里，台阶心里很不舒服，于是对佛像说“你我本都是一块石头上的，为什么我要做台阶让人每天踩踏，而你却高高在上，受人供拜？”佛像叹了口气对台阶说：“你只经历了四刀便成了台阶，而我却是经历了千刀万剐才被雕刻成佛像的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"/>
          <p:cNvSpPr/>
          <p:nvPr/>
        </p:nvSpPr>
        <p:spPr>
          <a:xfrm>
            <a:off x="2351160" y="977760"/>
            <a:ext cx="44431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佛像和台阶的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2"/>
          <p:cNvGrpSpPr/>
          <p:nvPr/>
        </p:nvGrpSpPr>
        <p:grpSpPr>
          <a:xfrm>
            <a:off x="162000" y="152280"/>
            <a:ext cx="2300040" cy="1170000"/>
            <a:chOff x="162000" y="152280"/>
            <a:chExt cx="2300040" cy="1170000"/>
          </a:xfrm>
        </p:grpSpPr>
        <p:pic>
          <p:nvPicPr>
            <p:cNvPr id="319" name="图片 1" descr=""/>
            <p:cNvPicPr/>
            <p:nvPr/>
          </p:nvPicPr>
          <p:blipFill>
            <a:blip r:embed="rId1"/>
            <a:stretch/>
          </p:blipFill>
          <p:spPr>
            <a:xfrm>
              <a:off x="162000" y="152280"/>
              <a:ext cx="23000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圆角矩形 2"/>
            <p:cNvSpPr/>
            <p:nvPr/>
          </p:nvSpPr>
          <p:spPr>
            <a:xfrm>
              <a:off x="394920" y="427680"/>
              <a:ext cx="1799640" cy="873000"/>
            </a:xfrm>
            <a:prstGeom prst="roundRect">
              <a:avLst>
                <a:gd name="adj" fmla="val 63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0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拓展迁移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C:\Documents and Settings\Administrator\桌面\shi.jpg"/>
          <p:cNvPicPr/>
          <p:nvPr/>
        </p:nvPicPr>
        <p:blipFill>
          <a:blip r:embed="rId1"/>
          <a:stretch/>
        </p:blipFill>
        <p:spPr>
          <a:xfrm>
            <a:off x="905040" y="587520"/>
            <a:ext cx="7486200" cy="60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组合 2"/>
          <p:cNvGrpSpPr/>
          <p:nvPr/>
        </p:nvGrpSpPr>
        <p:grpSpPr>
          <a:xfrm>
            <a:off x="123840" y="158760"/>
            <a:ext cx="2445840" cy="1231560"/>
            <a:chOff x="123840" y="158760"/>
            <a:chExt cx="2445840" cy="1231560"/>
          </a:xfrm>
        </p:grpSpPr>
        <p:pic>
          <p:nvPicPr>
            <p:cNvPr id="323" name="图片 1" descr=""/>
            <p:cNvPicPr/>
            <p:nvPr/>
          </p:nvPicPr>
          <p:blipFill>
            <a:blip r:embed="rId1"/>
            <a:stretch/>
          </p:blipFill>
          <p:spPr>
            <a:xfrm>
              <a:off x="123840" y="158760"/>
              <a:ext cx="2445840" cy="12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圆角矩形 2"/>
            <p:cNvSpPr/>
            <p:nvPr/>
          </p:nvSpPr>
          <p:spPr>
            <a:xfrm>
              <a:off x="389520" y="471960"/>
              <a:ext cx="1913040" cy="918360"/>
            </a:xfrm>
            <a:prstGeom prst="roundRect">
              <a:avLst>
                <a:gd name="adj" fmla="val 63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课后作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 Box 4"/>
          <p:cNvSpPr/>
          <p:nvPr/>
        </p:nvSpPr>
        <p:spPr>
          <a:xfrm>
            <a:off x="577800" y="1593720"/>
            <a:ext cx="80499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同学们从家居住房变化的角度，谈谈自己对社会发展引发的人们思想观念（如按揭买房）和生活方式的改变的独特感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图片 1"/>
          <p:cNvSpPr/>
          <p:nvPr/>
        </p:nvSpPr>
        <p:spPr>
          <a:xfrm>
            <a:off x="4718880" y="3345480"/>
            <a:ext cx="3595680" cy="3198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图片 1" descr="6.4.jpg"/>
          <p:cNvPicPr/>
          <p:nvPr/>
        </p:nvPicPr>
        <p:blipFill>
          <a:blip r:embed="rId1"/>
          <a:stretch/>
        </p:blipFill>
        <p:spPr>
          <a:xfrm>
            <a:off x="2457360" y="817200"/>
            <a:ext cx="422892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2"/>
          <p:cNvGrpSpPr/>
          <p:nvPr/>
        </p:nvGrpSpPr>
        <p:grpSpPr>
          <a:xfrm>
            <a:off x="162000" y="152280"/>
            <a:ext cx="2445840" cy="1231920"/>
            <a:chOff x="162000" y="152280"/>
            <a:chExt cx="2445840" cy="1231920"/>
          </a:xfrm>
        </p:grpSpPr>
        <p:pic>
          <p:nvPicPr>
            <p:cNvPr id="168" name="图片 1" descr=""/>
            <p:cNvPicPr/>
            <p:nvPr/>
          </p:nvPicPr>
          <p:blipFill>
            <a:blip r:embed="rId1"/>
            <a:stretch/>
          </p:blipFill>
          <p:spPr>
            <a:xfrm>
              <a:off x="162000" y="152280"/>
              <a:ext cx="2445840" cy="12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圆角矩形 2"/>
            <p:cNvSpPr/>
            <p:nvPr/>
          </p:nvSpPr>
          <p:spPr>
            <a:xfrm>
              <a:off x="427680" y="465840"/>
              <a:ext cx="1913040" cy="918360"/>
            </a:xfrm>
            <a:prstGeom prst="roundRect">
              <a:avLst>
                <a:gd name="adj" fmla="val 63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作者名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4"/>
          <p:cNvSpPr/>
          <p:nvPr/>
        </p:nvSpPr>
        <p:spPr>
          <a:xfrm>
            <a:off x="1987560" y="1500840"/>
            <a:ext cx="7036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李森祥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5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生，浙江衢州人。当代作家，中国作家协会会员。其小说以农村、军营生活为主要题材，塑造出一系列生动的普通人，尤其是农民的质朴形象。代表作有长篇小说《传世之鼓》，短篇小说集《台阶》，中篇小说《村野子弟》《屋脊丘陵》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E:\孙巧灵\2016秋上\上课课件\制作\R八语上\人八语大课堂正文\HZH9.tif"/>
          <p:cNvPicPr/>
          <p:nvPr/>
        </p:nvPicPr>
        <p:blipFill>
          <a:blip r:embed="rId2"/>
          <a:stretch/>
        </p:blipFill>
        <p:spPr>
          <a:xfrm>
            <a:off x="263520" y="1991880"/>
            <a:ext cx="15775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2"/>
          <p:cNvGrpSpPr/>
          <p:nvPr/>
        </p:nvGrpSpPr>
        <p:grpSpPr>
          <a:xfrm>
            <a:off x="162000" y="152280"/>
            <a:ext cx="2445840" cy="1231920"/>
            <a:chOff x="162000" y="152280"/>
            <a:chExt cx="2445840" cy="1231920"/>
          </a:xfrm>
        </p:grpSpPr>
        <p:pic>
          <p:nvPicPr>
            <p:cNvPr id="173" name="图片 1" descr=""/>
            <p:cNvPicPr/>
            <p:nvPr/>
          </p:nvPicPr>
          <p:blipFill>
            <a:blip r:embed="rId1"/>
            <a:stretch/>
          </p:blipFill>
          <p:spPr>
            <a:xfrm>
              <a:off x="162000" y="152280"/>
              <a:ext cx="2445840" cy="12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圆角矩形 2"/>
            <p:cNvSpPr/>
            <p:nvPr/>
          </p:nvSpPr>
          <p:spPr>
            <a:xfrm>
              <a:off x="427680" y="465840"/>
              <a:ext cx="1913040" cy="918360"/>
            </a:xfrm>
            <a:prstGeom prst="roundRect">
              <a:avLst>
                <a:gd name="adj" fmla="val 63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背景链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1"/>
          <p:cNvSpPr/>
          <p:nvPr/>
        </p:nvSpPr>
        <p:spPr>
          <a:xfrm>
            <a:off x="426960" y="1506960"/>
            <a:ext cx="8542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文选自小说集《台阶》（作家出版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9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版）。有删节。李森祥远离故乡、从戎军营，时空的距离，使他对故乡产生了一种极其亲切、真实的回忆。这种回忆成为李森祥小说创作的契机与灵感。他带着美学的思考，从容而艺术地审视故乡的人和事。李森祥以《台阶》为代表的前期小说，基本上侧重于“家族圈”的表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1"/>
          <p:cNvSpPr/>
          <p:nvPr/>
        </p:nvSpPr>
        <p:spPr>
          <a:xfrm>
            <a:off x="569880" y="1564200"/>
            <a:ext cx="83577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说三要素：人物、故事情节、环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物是小说的第一要素，塑造人物形象是小说反映社会生活的主要手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故事情节通常包括：开端、发展、高潮和结局几个部分，有时前面还有序幕，后面还有尾声。这几个部分组织在一起，形成完整的故事情节，用以展现人物性格，表达中心思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环境包括社会环境和自然环境，重点是社会环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2"/>
          <p:cNvGrpSpPr/>
          <p:nvPr/>
        </p:nvGrpSpPr>
        <p:grpSpPr>
          <a:xfrm>
            <a:off x="162000" y="152280"/>
            <a:ext cx="2445840" cy="1231920"/>
            <a:chOff x="162000" y="152280"/>
            <a:chExt cx="2445840" cy="1231920"/>
          </a:xfrm>
        </p:grpSpPr>
        <p:pic>
          <p:nvPicPr>
            <p:cNvPr id="178" name="图片 1" descr=""/>
            <p:cNvPicPr/>
            <p:nvPr/>
          </p:nvPicPr>
          <p:blipFill>
            <a:blip r:embed="rId1"/>
            <a:stretch/>
          </p:blipFill>
          <p:spPr>
            <a:xfrm>
              <a:off x="162000" y="152280"/>
              <a:ext cx="2445840" cy="12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圆角矩形 2"/>
            <p:cNvSpPr/>
            <p:nvPr/>
          </p:nvSpPr>
          <p:spPr>
            <a:xfrm>
              <a:off x="427680" y="465840"/>
              <a:ext cx="1913040" cy="918360"/>
            </a:xfrm>
            <a:prstGeom prst="roundRect">
              <a:avLst>
                <a:gd name="adj" fmla="val 63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文体知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矩形 5"/>
          <p:cNvSpPr/>
          <p:nvPr/>
        </p:nvSpPr>
        <p:spPr>
          <a:xfrm>
            <a:off x="4566960" y="692280"/>
            <a:ext cx="514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 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2"/>
          <p:cNvGrpSpPr/>
          <p:nvPr/>
        </p:nvGrpSpPr>
        <p:grpSpPr>
          <a:xfrm>
            <a:off x="162000" y="152280"/>
            <a:ext cx="2445840" cy="1231920"/>
            <a:chOff x="162000" y="152280"/>
            <a:chExt cx="2445840" cy="1231920"/>
          </a:xfrm>
        </p:grpSpPr>
        <p:pic>
          <p:nvPicPr>
            <p:cNvPr id="182" name="图片 1" descr=""/>
            <p:cNvPicPr/>
            <p:nvPr/>
          </p:nvPicPr>
          <p:blipFill>
            <a:blip r:embed="rId1"/>
            <a:stretch/>
          </p:blipFill>
          <p:spPr>
            <a:xfrm>
              <a:off x="162000" y="152280"/>
              <a:ext cx="2445840" cy="12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圆角矩形 2"/>
            <p:cNvSpPr/>
            <p:nvPr/>
          </p:nvSpPr>
          <p:spPr>
            <a:xfrm>
              <a:off x="427680" y="465840"/>
              <a:ext cx="1913040" cy="918360"/>
            </a:xfrm>
            <a:prstGeom prst="roundRect">
              <a:avLst>
                <a:gd name="adj" fmla="val 63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字词学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1"/>
          <p:cNvSpPr/>
          <p:nvPr/>
        </p:nvSpPr>
        <p:spPr>
          <a:xfrm>
            <a:off x="674640" y="1301760"/>
            <a:ext cx="8424360" cy="34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凹（     ）   凼（     ）    门槛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砌（     ）   揩（     ）    嘎叽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筹划（     ） 烦躁（     ）  尴尬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撬（     ）   涎水（     ）  晌午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唿嗒（     ） 黏性（     ）  嵌着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烟瘾（     ） 舀（     ）    大庭广众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硌（     ）  庄稼茬（     ） 微不足道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587960" y="131220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ā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7"/>
          <p:cNvSpPr/>
          <p:nvPr/>
        </p:nvSpPr>
        <p:spPr>
          <a:xfrm>
            <a:off x="3847680" y="1331280"/>
            <a:ext cx="68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à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9"/>
          <p:cNvSpPr/>
          <p:nvPr/>
        </p:nvSpPr>
        <p:spPr>
          <a:xfrm>
            <a:off x="6779160" y="1299600"/>
            <a:ext cx="548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0"/>
          <p:cNvSpPr/>
          <p:nvPr/>
        </p:nvSpPr>
        <p:spPr>
          <a:xfrm>
            <a:off x="1665360" y="2010960"/>
            <a:ext cx="3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1"/>
          <p:cNvSpPr/>
          <p:nvPr/>
        </p:nvSpPr>
        <p:spPr>
          <a:xfrm>
            <a:off x="3954960" y="2008800"/>
            <a:ext cx="47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ā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"/>
          <p:cNvSpPr/>
          <p:nvPr/>
        </p:nvSpPr>
        <p:spPr>
          <a:xfrm>
            <a:off x="6804360" y="1983240"/>
            <a:ext cx="61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ɡā j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3"/>
          <p:cNvSpPr/>
          <p:nvPr/>
        </p:nvSpPr>
        <p:spPr>
          <a:xfrm>
            <a:off x="1854720" y="2675520"/>
            <a:ext cx="675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ó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4"/>
          <p:cNvSpPr/>
          <p:nvPr/>
        </p:nvSpPr>
        <p:spPr>
          <a:xfrm>
            <a:off x="4259880" y="2666880"/>
            <a:ext cx="548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5"/>
          <p:cNvSpPr/>
          <p:nvPr/>
        </p:nvSpPr>
        <p:spPr>
          <a:xfrm>
            <a:off x="6647760" y="266688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ɡān ɡ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6"/>
          <p:cNvSpPr/>
          <p:nvPr/>
        </p:nvSpPr>
        <p:spPr>
          <a:xfrm>
            <a:off x="1537560" y="3369600"/>
            <a:ext cx="61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i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7"/>
          <p:cNvSpPr/>
          <p:nvPr/>
        </p:nvSpPr>
        <p:spPr>
          <a:xfrm>
            <a:off x="4234680" y="3363480"/>
            <a:ext cx="598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8"/>
          <p:cNvSpPr/>
          <p:nvPr/>
        </p:nvSpPr>
        <p:spPr>
          <a:xfrm>
            <a:off x="6697440" y="3380400"/>
            <a:ext cx="80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ǎ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9"/>
          <p:cNvSpPr/>
          <p:nvPr/>
        </p:nvSpPr>
        <p:spPr>
          <a:xfrm>
            <a:off x="1816920" y="4064040"/>
            <a:ext cx="750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ū d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0"/>
          <p:cNvSpPr/>
          <p:nvPr/>
        </p:nvSpPr>
        <p:spPr>
          <a:xfrm>
            <a:off x="4222080" y="4040640"/>
            <a:ext cx="61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1"/>
          <p:cNvSpPr/>
          <p:nvPr/>
        </p:nvSpPr>
        <p:spPr>
          <a:xfrm>
            <a:off x="6747840" y="4057560"/>
            <a:ext cx="61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i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2"/>
          <p:cNvSpPr/>
          <p:nvPr/>
        </p:nvSpPr>
        <p:spPr>
          <a:xfrm>
            <a:off x="1991160" y="4720320"/>
            <a:ext cx="47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ǐ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3"/>
          <p:cNvSpPr/>
          <p:nvPr/>
        </p:nvSpPr>
        <p:spPr>
          <a:xfrm>
            <a:off x="3917160" y="4762440"/>
            <a:ext cx="548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ǎ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4"/>
          <p:cNvSpPr/>
          <p:nvPr/>
        </p:nvSpPr>
        <p:spPr>
          <a:xfrm>
            <a:off x="7313400" y="4777200"/>
            <a:ext cx="56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í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25"/>
          <p:cNvSpPr/>
          <p:nvPr/>
        </p:nvSpPr>
        <p:spPr>
          <a:xfrm>
            <a:off x="1665720" y="541224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ɡ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6"/>
          <p:cNvSpPr/>
          <p:nvPr/>
        </p:nvSpPr>
        <p:spPr>
          <a:xfrm>
            <a:off x="4404600" y="5456880"/>
            <a:ext cx="548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7"/>
          <p:cNvSpPr/>
          <p:nvPr/>
        </p:nvSpPr>
        <p:spPr>
          <a:xfrm>
            <a:off x="7346160" y="5456880"/>
            <a:ext cx="522360" cy="363960"/>
          </a:xfrm>
          <a:prstGeom prst="rect">
            <a:avLst/>
          </a:prstGeom>
          <a:solidFill>
            <a:schemeClr val="bg1">
              <a:alpha val="49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ē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"/>
          <p:cNvSpPr/>
          <p:nvPr/>
        </p:nvSpPr>
        <p:spPr>
          <a:xfrm>
            <a:off x="412920" y="2271240"/>
            <a:ext cx="855936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凼】方言，水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低眉顺眼】默默无闻，任劳任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微不足道】非常渺小，不值得一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筹划】想办法；定计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尴尬】神色、态度不自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大庭广众】人很多的公开场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若有所失】感觉好像丢掉了什么，形容心情怅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"/>
          <p:cNvSpPr/>
          <p:nvPr/>
        </p:nvSpPr>
        <p:spPr>
          <a:xfrm>
            <a:off x="155520" y="-192600"/>
            <a:ext cx="3045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8" name="Picture 4"/>
          <p:cNvSpPr/>
          <p:nvPr/>
        </p:nvSpPr>
        <p:spPr>
          <a:xfrm>
            <a:off x="5570640" y="1463040"/>
            <a:ext cx="3436200" cy="34365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1114200" y="3726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词语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组合 2"/>
          <p:cNvGrpSpPr/>
          <p:nvPr/>
        </p:nvGrpSpPr>
        <p:grpSpPr>
          <a:xfrm>
            <a:off x="162000" y="152280"/>
            <a:ext cx="2445840" cy="1231920"/>
            <a:chOff x="162000" y="152280"/>
            <a:chExt cx="2445840" cy="1231920"/>
          </a:xfrm>
        </p:grpSpPr>
        <p:pic>
          <p:nvPicPr>
            <p:cNvPr id="211" name="图片 1" descr=""/>
            <p:cNvPicPr/>
            <p:nvPr/>
          </p:nvPicPr>
          <p:blipFill>
            <a:blip r:embed="rId1"/>
            <a:stretch/>
          </p:blipFill>
          <p:spPr>
            <a:xfrm>
              <a:off x="162000" y="152280"/>
              <a:ext cx="2445840" cy="12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圆角矩形 2"/>
            <p:cNvSpPr/>
            <p:nvPr/>
          </p:nvSpPr>
          <p:spPr>
            <a:xfrm>
              <a:off x="427680" y="465840"/>
              <a:ext cx="1913040" cy="918360"/>
            </a:xfrm>
            <a:prstGeom prst="roundRect">
              <a:avLst>
                <a:gd name="adj" fmla="val 63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整体感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文本框 1"/>
          <p:cNvSpPr/>
          <p:nvPr/>
        </p:nvSpPr>
        <p:spPr>
          <a:xfrm>
            <a:off x="347760" y="1735560"/>
            <a:ext cx="8496000" cy="62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4201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共有     段，可以分为哪几部分，每个部分主要讲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2689920" y="173556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1" descr=""/>
          <p:cNvPicPr/>
          <p:nvPr/>
        </p:nvPicPr>
        <p:blipFill>
          <a:blip r:embed="rId2"/>
          <a:stretch/>
        </p:blipFill>
        <p:spPr>
          <a:xfrm>
            <a:off x="3007080" y="3050640"/>
            <a:ext cx="3598920" cy="31989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4</TotalTime>
  <Application>LibreOffice/7.4.7.2$Linux_X86_64 LibreOffice_project/40$Build-2</Application>
  <AppVersion>15.0000</AppVersion>
  <Pages>0</Pages>
  <Words>3185</Words>
  <Characters>0</Characters>
  <CharactersWithSpaces>0</CharactersWithSpaces>
  <Paragraphs>1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>第一PPT模板网-WWW.1PPT.COM</dc:creator>
  <dc:description/>
  <cp:keywords>第一PPT模板网-WWW.1PPT.COM</cp:keywords>
  <dc:language>en-US</dc:language>
  <cp:lastModifiedBy/>
  <dcterms:modified xsi:type="dcterms:W3CDTF">2018-10-08T06:50:36Z</dcterms:modified>
  <cp:revision>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  <property fmtid="{D5CDD505-2E9C-101B-9397-08002B2CF9AE}" pid="3" name="Notes">
    <vt:r8>1</vt:r8>
  </property>
  <property fmtid="{D5CDD505-2E9C-101B-9397-08002B2CF9AE}" pid="4" name="PresentationFormat">
    <vt:lpwstr>全屏显示(4:3)</vt:lpwstr>
  </property>
  <property fmtid="{D5CDD505-2E9C-101B-9397-08002B2CF9AE}" pid="5" name="Slides">
    <vt:r8>36</vt:r8>
  </property>
</Properties>
</file>