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785B2C-F019-4FC6-8924-7E14A830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CE170-CCBA-48E9-A559-6BE79F868BF3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BB74F1E-30DA-4166-B171-16E75D7F2CA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302E377-3778-4FCE-9D93-FC9F16E3435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9B1285-288C-4F9F-8673-11F1E06039EB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27B38D3-5972-4400-9820-633ADC78B99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CCD34D-CB60-47AE-8743-00A748F8DEB8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图片包含 物体, 麦克风, 游戏机&#10;&#10;描述已自动生成"/>
          <p:cNvPicPr/>
          <p:nvPr/>
        </p:nvPicPr>
        <p:blipFill>
          <a:blip r:embed="rId2"/>
          <a:stretch/>
        </p:blipFill>
        <p:spPr>
          <a:xfrm flipH="1">
            <a:off x="7560" y="171720"/>
            <a:ext cx="737640" cy="4917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745200" y="297000"/>
            <a:ext cx="1615680" cy="337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1  </a:t>
            </a:r>
            <a:r>
              <a:rPr b="1" lang="zh-CN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矩形: 圆角 9"/>
          <p:cNvSpPr/>
          <p:nvPr/>
        </p:nvSpPr>
        <p:spPr>
          <a:xfrm>
            <a:off x="485640" y="952560"/>
            <a:ext cx="8172000" cy="3704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图片包含 物体, 麦克风, 游戏机&#10;&#10;描述已自动生成"/>
          <p:cNvPicPr/>
          <p:nvPr/>
        </p:nvPicPr>
        <p:blipFill>
          <a:blip r:embed="rId1"/>
          <a:stretch/>
        </p:blipFill>
        <p:spPr>
          <a:xfrm flipH="1">
            <a:off x="360" y="875520"/>
            <a:ext cx="5088600" cy="33922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4"/>
          <p:cNvGrpSpPr/>
          <p:nvPr/>
        </p:nvGrpSpPr>
        <p:grpSpPr>
          <a:xfrm>
            <a:off x="4051440" y="537120"/>
            <a:ext cx="5030640" cy="2525040"/>
            <a:chOff x="4051440" y="537120"/>
            <a:chExt cx="5030640" cy="2525040"/>
          </a:xfrm>
        </p:grpSpPr>
        <p:sp>
          <p:nvSpPr>
            <p:cNvPr id="86" name="文本框 5"/>
            <p:cNvSpPr/>
            <p:nvPr/>
          </p:nvSpPr>
          <p:spPr>
            <a:xfrm>
              <a:off x="4051440" y="537120"/>
              <a:ext cx="1998360" cy="23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9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口</a:t>
              </a:r>
              <a:endParaRPr b="0" lang="en-US" sz="1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7"/>
            <p:cNvSpPr/>
            <p:nvPr/>
          </p:nvSpPr>
          <p:spPr>
            <a:xfrm>
              <a:off x="5368680" y="1506600"/>
              <a:ext cx="130572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8600" spc="-1" strike="noStrike">
                  <a:solidFill>
                    <a:srgbClr val="f96d6d"/>
                  </a:solidFill>
                  <a:latin typeface="微软雅黑"/>
                  <a:ea typeface="微软雅黑"/>
                </a:rPr>
                <a:t>语</a:t>
              </a: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8"/>
            <p:cNvSpPr/>
            <p:nvPr/>
          </p:nvSpPr>
          <p:spPr>
            <a:xfrm>
              <a:off x="6254640" y="848880"/>
              <a:ext cx="132444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8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交</a:t>
              </a: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9"/>
            <p:cNvSpPr/>
            <p:nvPr/>
          </p:nvSpPr>
          <p:spPr>
            <a:xfrm>
              <a:off x="7083720" y="1067400"/>
              <a:ext cx="199836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500" spc="-1" strike="noStrike">
                  <a:solidFill>
                    <a:srgbClr val="f96d6d"/>
                  </a:solidFill>
                  <a:latin typeface="微软雅黑"/>
                  <a:ea typeface="微软雅黑"/>
                </a:rPr>
                <a:t>际</a:t>
              </a:r>
              <a:endParaRPr b="0" lang="en-US" sz="1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0"/>
          <p:cNvGrpSpPr/>
          <p:nvPr/>
        </p:nvGrpSpPr>
        <p:grpSpPr>
          <a:xfrm>
            <a:off x="4756680" y="2900880"/>
            <a:ext cx="3619440" cy="876960"/>
            <a:chOff x="4756680" y="2900880"/>
            <a:chExt cx="3619440" cy="876960"/>
          </a:xfrm>
        </p:grpSpPr>
        <p:sp>
          <p:nvSpPr>
            <p:cNvPr id="91" name="文本框 11"/>
            <p:cNvSpPr/>
            <p:nvPr/>
          </p:nvSpPr>
          <p:spPr>
            <a:xfrm>
              <a:off x="4757040" y="3551040"/>
              <a:ext cx="3619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语文精品课件 一年级上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2"/>
            <p:cNvSpPr/>
            <p:nvPr/>
          </p:nvSpPr>
          <p:spPr>
            <a:xfrm>
              <a:off x="4757040" y="2900880"/>
              <a:ext cx="36190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27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我们做朋友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: 圆角 13"/>
            <p:cNvSpPr/>
            <p:nvPr/>
          </p:nvSpPr>
          <p:spPr>
            <a:xfrm flipH="1">
              <a:off x="4756320" y="3438000"/>
              <a:ext cx="3619080" cy="140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800" spc="-1" strike="noStrike">
                <a:solidFill>
                  <a:srgbClr val="262626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4" name="矩形 15"/>
          <p:cNvSpPr/>
          <p:nvPr/>
        </p:nvSpPr>
        <p:spPr>
          <a:xfrm>
            <a:off x="4806000" y="4394880"/>
            <a:ext cx="37263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45200" y="297000"/>
            <a:ext cx="1615680" cy="337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710520" y="1333080"/>
            <a:ext cx="3914280" cy="29214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1362600" y="2528640"/>
            <a:ext cx="2680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做朋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45200" y="297000"/>
            <a:ext cx="1615680" cy="337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自我介绍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3948120" y="2029320"/>
            <a:ext cx="3273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喜欢唱歌，我给你唱首歌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9" descr="t013baffd36660f7707"/>
          <p:cNvPicPr/>
          <p:nvPr/>
        </p:nvPicPr>
        <p:blipFill>
          <a:blip r:embed="rId1"/>
          <a:stretch/>
        </p:blipFill>
        <p:spPr>
          <a:xfrm>
            <a:off x="1362240" y="1363320"/>
            <a:ext cx="2196360" cy="29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45200" y="297000"/>
            <a:ext cx="1615680" cy="337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自我介绍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082760" y="2189520"/>
            <a:ext cx="3861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小明，今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喜欢踢足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845280" y="1914480"/>
            <a:ext cx="2764440" cy="276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45200" y="297000"/>
            <a:ext cx="1615680" cy="337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注意事项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4949280" y="2810520"/>
            <a:ext cx="2142720" cy="2035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1627560" y="2864160"/>
            <a:ext cx="2677320" cy="1982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7" name="Freeform 4"/>
          <p:cNvSpPr/>
          <p:nvPr/>
        </p:nvSpPr>
        <p:spPr>
          <a:xfrm>
            <a:off x="3181320" y="2114280"/>
            <a:ext cx="677160" cy="930600"/>
          </a:xfrm>
          <a:custGeom>
            <a:avLst/>
            <a:gdLst>
              <a:gd name="textAreaLeft" fmla="*/ 0 w 677160"/>
              <a:gd name="textAreaRight" fmla="*/ 677520 w 677160"/>
              <a:gd name="textAreaTop" fmla="*/ 0 h 930600"/>
              <a:gd name="textAreaBottom" fmla="*/ 930960 h 9306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8" name="AutoShape 5"/>
          <p:cNvSpPr/>
          <p:nvPr/>
        </p:nvSpPr>
        <p:spPr>
          <a:xfrm flipH="1">
            <a:off x="4420800" y="2191680"/>
            <a:ext cx="68184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" name="Freeform 6"/>
          <p:cNvSpPr/>
          <p:nvPr/>
        </p:nvSpPr>
        <p:spPr>
          <a:xfrm flipH="1">
            <a:off x="5055840" y="2114280"/>
            <a:ext cx="677160" cy="930600"/>
          </a:xfrm>
          <a:custGeom>
            <a:avLst/>
            <a:gdLst>
              <a:gd name="textAreaLeft" fmla="*/ -360 w 677160"/>
              <a:gd name="textAreaRight" fmla="*/ 677160 w 677160"/>
              <a:gd name="textAreaTop" fmla="*/ 0 h 930600"/>
              <a:gd name="textAreaBottom" fmla="*/ 930960 h 9306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dd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3395520" y="1149840"/>
            <a:ext cx="2196360" cy="1124640"/>
            <a:chOff x="3395520" y="1149840"/>
            <a:chExt cx="2196360" cy="1124640"/>
          </a:xfrm>
        </p:grpSpPr>
        <p:grpSp>
          <p:nvGrpSpPr>
            <p:cNvPr id="111" name="Group 8"/>
            <p:cNvGrpSpPr/>
            <p:nvPr/>
          </p:nvGrpSpPr>
          <p:grpSpPr>
            <a:xfrm>
              <a:off x="3395520" y="1250280"/>
              <a:ext cx="2196360" cy="1024200"/>
              <a:chOff x="3395520" y="1250280"/>
              <a:chExt cx="2196360" cy="1024200"/>
            </a:xfrm>
          </p:grpSpPr>
          <p:sp>
            <p:nvSpPr>
              <p:cNvPr id="112" name="Oval 9"/>
              <p:cNvSpPr/>
              <p:nvPr/>
            </p:nvSpPr>
            <p:spPr>
              <a:xfrm>
                <a:off x="3419640" y="1283040"/>
                <a:ext cx="2172240" cy="9914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13" name="Oval 10"/>
              <p:cNvSpPr/>
              <p:nvPr/>
            </p:nvSpPr>
            <p:spPr>
              <a:xfrm>
                <a:off x="3395520" y="1250280"/>
                <a:ext cx="2172240" cy="991440"/>
              </a:xfrm>
              <a:prstGeom prst="ellipse">
                <a:avLst/>
              </a:prstGeom>
              <a:gradFill rotWithShape="0">
                <a:gsLst>
                  <a:gs pos="0">
                    <a:srgbClr val="8dd1d1"/>
                  </a:gs>
                  <a:gs pos="100000">
                    <a:srgbClr val="009999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14" name="Oval 11"/>
            <p:cNvSpPr/>
            <p:nvPr/>
          </p:nvSpPr>
          <p:spPr>
            <a:xfrm>
              <a:off x="3499200" y="1149840"/>
              <a:ext cx="1965960" cy="941760"/>
            </a:xfrm>
            <a:prstGeom prst="ellipse">
              <a:avLst/>
            </a:prstGeom>
            <a:gradFill rotWithShape="0">
              <a:gsLst>
                <a:gs pos="0">
                  <a:srgbClr val="566769"/>
                </a:gs>
                <a:gs pos="100000">
                  <a:srgbClr val="bbe0e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3524760" y="1155240"/>
              <a:ext cx="1918440" cy="9172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3544560" y="1164240"/>
              <a:ext cx="1825560" cy="858240"/>
            </a:xfrm>
            <a:prstGeom prst="ellipse">
              <a:avLst/>
            </a:prstGeom>
            <a:gradFill rotWithShape="0">
              <a:gsLst>
                <a:gs pos="0">
                  <a:srgbClr val="94b1b3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3641040" y="1183320"/>
              <a:ext cx="160668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3931560" y="1310400"/>
            <a:ext cx="27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 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627560" y="3239280"/>
            <a:ext cx="27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话时看着对方的眼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002920" y="3025080"/>
            <a:ext cx="27547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图片包含 物体, 麦克风, 游戏机&#10;&#10;描述已自动生成"/>
          <p:cNvPicPr/>
          <p:nvPr/>
        </p:nvPicPr>
        <p:blipFill>
          <a:blip r:embed="rId1"/>
          <a:stretch/>
        </p:blipFill>
        <p:spPr>
          <a:xfrm flipH="1">
            <a:off x="360" y="944640"/>
            <a:ext cx="5088600" cy="339228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4"/>
          <p:cNvGrpSpPr/>
          <p:nvPr/>
        </p:nvGrpSpPr>
        <p:grpSpPr>
          <a:xfrm>
            <a:off x="4015440" y="655920"/>
            <a:ext cx="4916160" cy="2406240"/>
            <a:chOff x="4015440" y="655920"/>
            <a:chExt cx="4916160" cy="2406240"/>
          </a:xfrm>
        </p:grpSpPr>
        <p:sp>
          <p:nvSpPr>
            <p:cNvPr id="123" name="文本框 5"/>
            <p:cNvSpPr/>
            <p:nvPr/>
          </p:nvSpPr>
          <p:spPr>
            <a:xfrm>
              <a:off x="4015440" y="655920"/>
              <a:ext cx="199836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5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谢</a:t>
              </a:r>
              <a:endParaRPr b="0" lang="en-US" sz="1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7"/>
            <p:cNvSpPr/>
            <p:nvPr/>
          </p:nvSpPr>
          <p:spPr>
            <a:xfrm>
              <a:off x="5368680" y="1506600"/>
              <a:ext cx="130572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8600" spc="-1" strike="noStrike">
                  <a:solidFill>
                    <a:srgbClr val="f96d6d"/>
                  </a:solidFill>
                  <a:latin typeface="微软雅黑"/>
                  <a:ea typeface="微软雅黑"/>
                </a:rPr>
                <a:t>谢</a:t>
              </a: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8"/>
            <p:cNvSpPr/>
            <p:nvPr/>
          </p:nvSpPr>
          <p:spPr>
            <a:xfrm>
              <a:off x="6352560" y="719280"/>
              <a:ext cx="13244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0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观</a:t>
              </a:r>
              <a:endParaRPr b="0" lang="en-US" sz="10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9"/>
            <p:cNvSpPr/>
            <p:nvPr/>
          </p:nvSpPr>
          <p:spPr>
            <a:xfrm>
              <a:off x="6933240" y="1067400"/>
              <a:ext cx="199836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500" spc="-1" strike="noStrike">
                  <a:solidFill>
                    <a:srgbClr val="f96d6d"/>
                  </a:solidFill>
                  <a:latin typeface="微软雅黑"/>
                  <a:ea typeface="微软雅黑"/>
                </a:rPr>
                <a:t>看</a:t>
              </a:r>
              <a:endParaRPr b="0" lang="en-US" sz="1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: 圆角 13"/>
          <p:cNvSpPr/>
          <p:nvPr/>
        </p:nvSpPr>
        <p:spPr>
          <a:xfrm flipH="1">
            <a:off x="4756320" y="3151800"/>
            <a:ext cx="3619080" cy="14040"/>
          </a:xfrm>
          <a:prstGeom prst="roundRect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262626"/>
              </a:solidFill>
              <a:latin typeface="微软雅黑"/>
              <a:ea typeface="微软雅黑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288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1:58:00Z</dcterms:created>
  <dc:creator>123</dc:creator>
  <dc:description/>
  <dc:language>en-US</dc:language>
  <cp:lastModifiedBy>123</cp:lastModifiedBy>
  <dcterms:modified xsi:type="dcterms:W3CDTF">2020-10-23T01:49:2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Notes">
    <vt:r8>6</vt:r8>
  </property>
  <property fmtid="{D5CDD505-2E9C-101B-9397-08002B2CF9AE}" pid="4" name="PresentationFormat">
    <vt:lpwstr>全屏显示(16:9)</vt:lpwstr>
  </property>
  <property fmtid="{D5CDD505-2E9C-101B-9397-08002B2CF9AE}" pid="5" name="Slides">
    <vt:r8>7</vt:r8>
  </property>
</Properties>
</file>