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8D6-5D73-499F-AE6D-2B34CD8A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DC9-299D-48AC-B190-6B121BB9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6B9-BB50-4B04-9E9B-FFD550CA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449-C3E0-4784-968D-0A1A1BC8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447-535F-495B-B8CA-22BA8B9B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161-D980-4117-892C-345664E7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DAB-60E8-4F7E-A885-DAA02B6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D5D-85A3-4A4C-A2AD-86429D1B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C4B-D7DC-419E-AB09-8542005F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937-8CD7-42E1-86AD-73F8D57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0DF-C5E1-4D48-809B-D1E3AF5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3D2-0C81-49FF-9D23-603B7A2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>
              <a:gd name="textAreaLeft" fmla="*/ 0 w 7957800"/>
              <a:gd name="textAreaRight" fmla="*/ 7958160 w 79578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" name="Line 5"/>
          <p:cNvSpPr/>
          <p:nvPr/>
        </p:nvSpPr>
        <p:spPr>
          <a:xfrm>
            <a:off x="609480" y="6172200"/>
            <a:ext cx="7924680" cy="360"/>
          </a:xfrm>
          <a:prstGeom prst="line">
            <a:avLst/>
          </a:prstGeom>
          <a:ln w="317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A7CC7C-209C-4594-9EED-D1B9ECBDBCC7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6" descr="090_JPG"/>
          <p:cNvPicPr/>
          <p:nvPr/>
        </p:nvPicPr>
        <p:blipFill>
          <a:blip r:embed="rId1"/>
          <a:srcRect l="0" t="38754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2743200" y="6353280"/>
            <a:ext cx="39621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37"/>
          <p:cNvSpPr txBox="1"/>
          <p:nvPr/>
        </p:nvSpPr>
        <p:spPr>
          <a:xfrm>
            <a:off x="3429000" y="1066680"/>
            <a:ext cx="5181120" cy="1477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晚上的“太阳”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0880" y="304920"/>
            <a:ext cx="5028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苏教版二年级语文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85800" y="1371600"/>
            <a:ext cx="7924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犹豫”是什么意思，那时医生会想些什么呢？小组内交流一下自己的意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2666880"/>
            <a:ext cx="4723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犹豫 ：拿不定主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371600" y="3429000"/>
            <a:ext cx="6400440" cy="363960"/>
          </a:xfrm>
          <a:prstGeom prst="rect">
            <a:avLst/>
          </a:prstGeom>
          <a:noFill/>
          <a:ln w="381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那时还没有电灯，油灯的光线很暗，用它照明做手术很危险，这个手术是做还是不做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143000" y="1523880"/>
            <a:ext cx="700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此时爱迪生的心情又是怎样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66680" y="2438280"/>
            <a:ext cx="7086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时间一分一秒地过去了，爱迪生的手心攥出了汗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914400" y="3733920"/>
            <a:ext cx="739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啊，我们每个人都在为妈妈的安危担心，谁来读一读这揪心的场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486400" y="5105520"/>
            <a:ext cx="2361960" cy="533160"/>
          </a:xfrm>
          <a:prstGeom prst="cloudCallout">
            <a:avLst>
              <a:gd name="adj1" fmla="val -109477"/>
              <a:gd name="adj2" fmla="val 86310"/>
            </a:avLst>
          </a:prstGeom>
          <a:solidFill>
            <a:srgbClr val="ffcc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指导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3"/>
          <p:cNvSpPr/>
          <p:nvPr/>
        </p:nvSpPr>
        <p:spPr>
          <a:xfrm>
            <a:off x="990720" y="1371600"/>
            <a:ext cx="739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突然之间，爱迪生想出了什么办法？这个办法怎么样？四人小组讨论一下各自的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3880" y="3200400"/>
            <a:ext cx="66290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集中油灯      搬来大镜子          油灯放在箱子上      镜子放在油灯后。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657600" y="3581280"/>
            <a:ext cx="914400" cy="360"/>
          </a:xfrm>
          <a:prstGeom prst="line">
            <a:avLst/>
          </a:prstGeom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7162560" y="3581280"/>
            <a:ext cx="914400" cy="360"/>
          </a:xfrm>
          <a:prstGeom prst="line">
            <a:avLst/>
          </a:prstGeom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029200" y="4114800"/>
            <a:ext cx="914400" cy="360"/>
          </a:xfrm>
          <a:prstGeom prst="line">
            <a:avLst/>
          </a:prstGeom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ftr" idx="1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3295080" y="1937160"/>
            <a:ext cx="188640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为什么要这么做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3000" y="2743200"/>
            <a:ext cx="716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油灯多才能有一定的亮度，镜子大反射的面才比较广，手术才得以进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53" name="Text Box 3"/>
          <p:cNvSpPr/>
          <p:nvPr/>
        </p:nvSpPr>
        <p:spPr>
          <a:xfrm>
            <a:off x="990720" y="1219320"/>
            <a:ext cx="7314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开始，医生不明白，还不住地摇头说……，而后来，手术台前一片光明。爱迪生急中生智，想出了好办法，使医生顺利地做完了手术，他高兴地说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676520" y="3429000"/>
            <a:ext cx="632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孩子，是你用智慧救了妈妈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371600" y="4129200"/>
            <a:ext cx="6933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医生为什么说是爱迪生用智慧救了妈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4952880" y="3962520"/>
            <a:ext cx="151920" cy="15192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4572000" y="3962520"/>
            <a:ext cx="151920" cy="15192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371600" y="4830840"/>
            <a:ext cx="739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因为爱迪生把当时的场面化险为夷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ftr" idx="1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61" name="Text Box 3"/>
          <p:cNvSpPr/>
          <p:nvPr/>
        </p:nvSpPr>
        <p:spPr>
          <a:xfrm>
            <a:off x="990720" y="1600200"/>
            <a:ext cx="7238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妈妈醒来了，苍白的脸上露出了自豪的笑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16"/>
          <p:cNvPicPr/>
          <p:nvPr/>
        </p:nvPicPr>
        <p:blipFill>
          <a:blip r:embed="rId2"/>
          <a:stretch/>
        </p:blipFill>
        <p:spPr>
          <a:xfrm>
            <a:off x="1143000" y="2743200"/>
            <a:ext cx="1123560" cy="875880"/>
          </a:xfrm>
          <a:prstGeom prst="rect">
            <a:avLst/>
          </a:prstGeom>
          <a:ln w="9525">
            <a:noFill/>
          </a:ln>
        </p:spPr>
      </p:pic>
      <p:sp>
        <p:nvSpPr>
          <p:cNvPr id="163" name="WordArt 5"/>
          <p:cNvSpPr txBox="1"/>
          <p:nvPr/>
        </p:nvSpPr>
        <p:spPr>
          <a:xfrm>
            <a:off x="2286000" y="2971800"/>
            <a:ext cx="1371240" cy="456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想一想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3581280"/>
            <a:ext cx="5105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、“自豪”是什么意思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58360" y="4298760"/>
            <a:ext cx="53136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、妈妈为什么自豪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362480" y="4984560"/>
            <a:ext cx="53136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、她心里会说些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69" name="Text Box 3"/>
          <p:cNvSpPr/>
          <p:nvPr/>
        </p:nvSpPr>
        <p:spPr>
          <a:xfrm>
            <a:off x="762120" y="1828800"/>
            <a:ext cx="769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拉着妈妈的手，一本正经地说：“妈妈，要是晚上也有太阳该多好哇，我要造一个晚上的‘太阳’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8"/>
          <p:cNvPicPr/>
          <p:nvPr/>
        </p:nvPicPr>
        <p:blipFill>
          <a:blip r:embed="rId2"/>
          <a:stretch/>
        </p:blipFill>
        <p:spPr>
          <a:xfrm>
            <a:off x="914400" y="1066680"/>
            <a:ext cx="1009440" cy="914040"/>
          </a:xfrm>
          <a:prstGeom prst="rect">
            <a:avLst/>
          </a:prstGeom>
          <a:ln w="9525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2133720" y="1295280"/>
            <a:ext cx="1828440" cy="456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分析句子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76520" y="3657600"/>
            <a:ext cx="4723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一本正经”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90720" y="4373640"/>
            <a:ext cx="746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一本正经：形容很规矩，很庄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640080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678168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716292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762012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80" name="Text Box 3"/>
          <p:cNvSpPr/>
          <p:nvPr/>
        </p:nvSpPr>
        <p:spPr>
          <a:xfrm>
            <a:off x="762120" y="1752480"/>
            <a:ext cx="769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拉着妈妈的手，一本正经地说：“妈妈，要是晚上也有太阳该多好哇，我要造一个晚上的‘太阳’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18"/>
          <p:cNvPicPr/>
          <p:nvPr/>
        </p:nvPicPr>
        <p:blipFill>
          <a:blip r:embed="rId2"/>
          <a:stretch/>
        </p:blipFill>
        <p:spPr>
          <a:xfrm>
            <a:off x="914400" y="1066680"/>
            <a:ext cx="761760" cy="690120"/>
          </a:xfrm>
          <a:prstGeom prst="rect">
            <a:avLst/>
          </a:prstGeom>
          <a:ln w="9525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1905120" y="1143000"/>
            <a:ext cx="1828440" cy="456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分析句子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838080" y="3352680"/>
            <a:ext cx="754344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大家注意到没有，爱迪生的这句话中有两个太阳，它们有什么不同？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6172200" y="2362320"/>
            <a:ext cx="837720" cy="38052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5334120" y="2819520"/>
            <a:ext cx="837720" cy="45684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914400" y="4343400"/>
            <a:ext cx="700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一个指真的太阳，一个指像太阳一样会发光的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1066680"/>
            <a:ext cx="6933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后来怎么样了呢？请同学们齐读课文第五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625280" y="2272320"/>
            <a:ext cx="40356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后来，爱迪生真的发明了电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3"/>
          <p:cNvPicPr/>
          <p:nvPr/>
        </p:nvPicPr>
        <p:blipFill>
          <a:blip r:embed="rId2"/>
          <a:stretch/>
        </p:blipFill>
        <p:spPr>
          <a:xfrm>
            <a:off x="914400" y="2819520"/>
            <a:ext cx="761760" cy="725040"/>
          </a:xfrm>
          <a:prstGeom prst="rect">
            <a:avLst/>
          </a:prstGeom>
          <a:ln w="9525">
            <a:noFill/>
          </a:ln>
        </p:spPr>
      </p:pic>
      <p:sp>
        <p:nvSpPr>
          <p:cNvPr id="192" name="WordArt 6"/>
          <p:cNvSpPr txBox="1"/>
          <p:nvPr/>
        </p:nvSpPr>
        <p:spPr>
          <a:xfrm>
            <a:off x="1828800" y="2895480"/>
            <a:ext cx="1218960" cy="536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考考你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579200" y="3384360"/>
            <a:ext cx="196416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怎么会发明电灯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62120" y="3886200"/>
            <a:ext cx="7619760" cy="363960"/>
          </a:xfrm>
          <a:prstGeom prst="rect">
            <a:avLst/>
          </a:prstGeom>
          <a:noFill/>
          <a:ln w="9525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因为爱迪生从小就善于动脑，积极思考，并且一直这样去做，长大后才有了伟大的发明创造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2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1143000" y="3429360"/>
            <a:ext cx="6857640" cy="97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课后去找一找爱迪生发明电灯的有关书籍读一读，相信大家一定会有所收获的。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26"/>
          <p:cNvPicPr/>
          <p:nvPr/>
        </p:nvPicPr>
        <p:blipFill>
          <a:blip r:embed="rId2"/>
          <a:stretch/>
        </p:blipFill>
        <p:spPr>
          <a:xfrm>
            <a:off x="914400" y="1219320"/>
            <a:ext cx="1096560" cy="1142640"/>
          </a:xfrm>
          <a:prstGeom prst="rect">
            <a:avLst/>
          </a:prstGeom>
          <a:ln w="9525">
            <a:noFill/>
          </a:ln>
        </p:spPr>
      </p:pic>
      <p:sp>
        <p:nvSpPr>
          <p:cNvPr id="199" name="WordArt 5"/>
          <p:cNvSpPr txBox="1"/>
          <p:nvPr/>
        </p:nvSpPr>
        <p:spPr>
          <a:xfrm>
            <a:off x="2362320" y="1676520"/>
            <a:ext cx="266652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课外搜一搜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1828800" y="2076480"/>
            <a:ext cx="1079280" cy="21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moban/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行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hangy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节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jieri/           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素材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背景图片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beijing/      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图表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优秀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xiazai/        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word/              Excel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教程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excel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ziliao/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课件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fanwen/      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shiti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www.1ppt.com/jiaoan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838720" cy="594324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4" descr="2007211112617357"/>
          <p:cNvPicPr/>
          <p:nvPr/>
        </p:nvPicPr>
        <p:blipFill>
          <a:blip r:embed="rId2"/>
          <a:stretch/>
        </p:blipFill>
        <p:spPr>
          <a:xfrm>
            <a:off x="1143000" y="2590920"/>
            <a:ext cx="1630080" cy="2133360"/>
          </a:xfrm>
          <a:prstGeom prst="rect">
            <a:avLst/>
          </a:prstGeom>
          <a:ln w="38100">
            <a:solidFill>
              <a:srgbClr val="a50021"/>
            </a:solidFill>
            <a:miter/>
          </a:ln>
        </p:spPr>
      </p:pic>
      <p:sp>
        <p:nvSpPr>
          <p:cNvPr id="51" name="Text Box 5"/>
          <p:cNvSpPr/>
          <p:nvPr/>
        </p:nvSpPr>
        <p:spPr>
          <a:xfrm>
            <a:off x="609480" y="685800"/>
            <a:ext cx="761976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你们知道他是谁吗？谁能给大家简单地介绍一下他呢？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76720" y="2438280"/>
            <a:ext cx="4723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847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日生于美国。他一生共有约两千项创造发明，为人类的文明和进步作出了巨大的贡献，人们称他为“发明之王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1600200" y="2666880"/>
            <a:ext cx="373356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谢谢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55" name="Text Box 3"/>
          <p:cNvSpPr/>
          <p:nvPr/>
        </p:nvSpPr>
        <p:spPr>
          <a:xfrm>
            <a:off x="914400" y="1295280"/>
            <a:ext cx="7314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学们，当你们看到这个课题时有什么疑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00200" y="2514600"/>
            <a:ext cx="708624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题目中的“太阳”为什么要加上引号？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3124080"/>
            <a:ext cx="495252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　晚上有太阳吗？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00200" y="3809880"/>
            <a:ext cx="563832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晚上的“太阳”指的是什么？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14400" y="4495680"/>
            <a:ext cx="723852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带着问题好好读课文，相信大家一定能够得到满意的答案。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1447920" y="2743200"/>
            <a:ext cx="151920" cy="151920"/>
          </a:xfrm>
          <a:prstGeom prst="ellipse">
            <a:avLst/>
          </a:prstGeom>
          <a:solidFill>
            <a:srgbClr val="0033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" name="Oval 9"/>
          <p:cNvSpPr/>
          <p:nvPr/>
        </p:nvSpPr>
        <p:spPr>
          <a:xfrm>
            <a:off x="1447920" y="3352680"/>
            <a:ext cx="151920" cy="151920"/>
          </a:xfrm>
          <a:prstGeom prst="ellipse">
            <a:avLst/>
          </a:prstGeom>
          <a:solidFill>
            <a:srgbClr val="0033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1447920" y="4038480"/>
            <a:ext cx="151920" cy="151920"/>
          </a:xfrm>
          <a:prstGeom prst="ellipse">
            <a:avLst/>
          </a:prstGeom>
          <a:solidFill>
            <a:srgbClr val="0033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4300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66688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19112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63868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16292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14300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请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74320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医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26708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急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571500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性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16292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炎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143000" y="2209680"/>
            <a:ext cx="167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qǐ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281952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y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434340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63868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xì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716292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1066680" y="3047760"/>
            <a:ext cx="723888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1066680" y="2133360"/>
            <a:ext cx="723888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990360" y="4267080"/>
            <a:ext cx="723924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2133720" y="121932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8" descr="1"/>
          <p:cNvPicPr/>
          <p:nvPr/>
        </p:nvPicPr>
        <p:blipFill>
          <a:blip r:embed="rId2"/>
          <a:stretch/>
        </p:blipFill>
        <p:spPr>
          <a:xfrm>
            <a:off x="1295280" y="1219320"/>
            <a:ext cx="685440" cy="58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delay="0" evt="onClick">
                    <p:tgtEl>
                      <p:spTgt spid="6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delay="0"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0"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67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delay="0"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0"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4300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9092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1480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162920" y="3124080"/>
            <a:ext cx="129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14300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算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66688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何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19112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秒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79132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阻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7238880" y="441972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简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219320" y="2209680"/>
            <a:ext cx="1066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h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74320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03848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mi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571500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dǎ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7162920" y="220968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j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066680" y="3047760"/>
            <a:ext cx="723888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066680" y="2133360"/>
            <a:ext cx="723888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990360" y="4267080"/>
            <a:ext cx="723924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2133720" y="121932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1"/>
          <p:cNvPicPr/>
          <p:nvPr/>
        </p:nvPicPr>
        <p:blipFill>
          <a:blip r:embed="rId2"/>
          <a:stretch/>
        </p:blipFill>
        <p:spPr>
          <a:xfrm>
            <a:off x="1295280" y="1219320"/>
            <a:ext cx="685440" cy="58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delay="0" evt="onClick">
                    <p:tgtEl>
                      <p:spTgt spid="87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delay="0"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delay="0"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0"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09" name="Text Box 3"/>
          <p:cNvSpPr/>
          <p:nvPr/>
        </p:nvSpPr>
        <p:spPr>
          <a:xfrm>
            <a:off x="762120" y="1219320"/>
            <a:ext cx="769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学们自由读课文第一段，想一想爱迪生的妈妈怎么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00200" y="2438280"/>
            <a:ext cx="6400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的妈妈得了急性阑尾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3230640"/>
            <a:ext cx="7924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在这种情况下，妈妈需要做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62120" y="3855960"/>
            <a:ext cx="7314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啊，妈妈得了急性阑尾炎，情况十分危急，需要马上做手术，让我们一起读读第一段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0720" y="2266920"/>
            <a:ext cx="7086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急性阑尾炎是腹部外科中最为常见的疾病之一，大多数病人能及时就医，获得良好的治疗效果。但是，有时诊断相当困难，处理不当时可发生一些严重的并发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3"/>
          <p:cNvPicPr/>
          <p:nvPr/>
        </p:nvPicPr>
        <p:blipFill>
          <a:blip r:embed="rId2"/>
          <a:stretch/>
        </p:blipFill>
        <p:spPr>
          <a:xfrm>
            <a:off x="1066680" y="1371600"/>
            <a:ext cx="620280" cy="685440"/>
          </a:xfrm>
          <a:prstGeom prst="rect">
            <a:avLst/>
          </a:prstGeom>
          <a:ln w="9525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1828800" y="1447920"/>
            <a:ext cx="2742840" cy="5331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课外小知识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20" name="Text Box 3"/>
          <p:cNvSpPr/>
          <p:nvPr/>
        </p:nvSpPr>
        <p:spPr>
          <a:xfrm>
            <a:off x="762120" y="1371600"/>
            <a:ext cx="7467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学们自读第二自然段，说说这段的主要内容是什么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47920" y="2819520"/>
            <a:ext cx="5943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爱迪生想办法解决了照明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523880" y="3581280"/>
            <a:ext cx="6933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当时情况怎样？在文中找一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85800" y="4343400"/>
            <a:ext cx="7619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那时还没有电灯，油灯的光线很暗，用它照明做手术很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ftr" idx="1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多特软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WWW.DUOT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219320" y="1981080"/>
            <a:ext cx="708624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没有电灯，光线很暗，做手术很危险，当时人们的表现怎样？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838080" y="1371600"/>
            <a:ext cx="159984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宋体"/>
              </a:rPr>
              <a:t>考考你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66680" y="3276720"/>
            <a:ext cx="7086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医生犹豫了。妈妈痛苦地呻吟着，爸爸无可奈何地搓着手，爱迪生站在一旁焦急地看着妈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ofile</Template>
  <TotalTime>466</TotalTime>
  <Application>LibreOffice/7.4.7.2$Linux_X86_64 LibreOffice_project/40$Build-2</Application>
  <AppVersion>15.0000</AppVersion>
  <Words>1208</Words>
  <Paragraphs>1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2:25:19Z</dcterms:modified>
  <cp:revision>1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1</vt:r8>
  </property>
  <property fmtid="{D5CDD505-2E9C-101B-9397-08002B2CF9AE}" pid="4" name="Version">
    <vt:r8>1</vt:r8>
  </property>
</Properties>
</file>