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747-03D1-4608-AFB9-686641AD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C57-1579-4505-A90C-DD1FA573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511-FD31-4867-B16A-BBD50C6A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1A2-57FF-4021-AD10-86D48BD8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90E3-7EDE-45E5-AC93-C82B6BA0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B180-2A00-4C82-9367-68193823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C59D-DDD7-457A-B7B5-2353E3DB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1ADE-9D98-485F-AE9F-AC958307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C289-11A5-4E0D-9026-46CE4CA3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A85E-01B5-4A92-A236-59134B51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A9AA-25E3-4DFE-90E1-23760018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C81-FD6F-4094-8F4B-FA2FC62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51C8-EFF9-4ECC-BDEB-16AC4757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0C14-6C2E-4F24-A72A-EEC73EE1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275E-F921-4CF9-BD4E-733B05C1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DE10-4C6E-4C50-9C34-F8B8F2ED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D88A-147C-447A-AEDA-E35FD790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CE03-B176-4B55-959E-18F2838F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7F2D8-EBD0-40E3-A7ED-3651742B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1B8C-DC09-4437-B56A-A6B736E0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EDBA-B08F-446C-A696-3C495B9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2DC65-2CF1-4DCC-81AA-C2E073F2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2FB-91AB-4441-8FEC-3EBACF6A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9208-9A61-4A65-A0A7-C070A9D3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F9C76-D840-494E-87B4-F8B48BD5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7BD9-F475-49D1-BBA9-30857E44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F0A8-50EE-41BB-A451-2E2242AE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B921-A017-48E4-8E4E-19C8CDD8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A697-5F38-4491-85CF-F2D37487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F2705-8E78-4295-AA2F-650E88DB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7CC-1525-4AE6-9FDB-01872A66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E98-45D4-4289-9F1B-C8FDDDB8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E14-A774-4F5C-9C03-18885619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FCE-1D3E-4E4A-8898-27098E7E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9A8-BB63-462E-BEC5-64C5A2F4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780-F873-4717-AA94-7C4E0759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645EDD-48EA-463D-BB62-B07E7F81F7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C41AD8-2C3E-4FD9-8AC4-E1F222395A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2D7C81-A164-407B-9208-82BCA37A4A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8"/>
          <p:cNvSpPr txBox="1"/>
          <p:nvPr/>
        </p:nvSpPr>
        <p:spPr>
          <a:xfrm>
            <a:off x="934560" y="1523880"/>
            <a:ext cx="7162560" cy="1599840"/>
          </a:xfrm>
          <a:prstGeom prst="rect">
            <a:avLst/>
          </a:prstGeom>
        </p:spPr>
        <p:txBody>
          <a:bodyPr wrap="none" lIns="90000" rIns="90000" tIns="45000" bIns="45000" anchor="t">
            <a:prstTxWarp prst="textSlantUp">
              <a:avLst>
                <a:gd name="adj" fmla="val 3472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15 </a:t>
            </a:r>
            <a:r>
              <a:rPr b="0" lang="zh-CN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晚上的“太阳”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691200" y="5638680"/>
            <a:ext cx="76503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026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360" cy="560160"/>
          </a:xfrm>
          <a:prstGeom prst="rect">
            <a:avLst/>
          </a:prstGeom>
          <a:ln w="9525">
            <a:noFill/>
          </a:ln>
        </p:spPr>
      </p:pic>
      <p:sp>
        <p:nvSpPr>
          <p:cNvPr id="158" name="Rectangle 1027"/>
          <p:cNvSpPr/>
          <p:nvPr/>
        </p:nvSpPr>
        <p:spPr>
          <a:xfrm>
            <a:off x="1295280" y="2574000"/>
            <a:ext cx="6697440" cy="102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4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医生犹豫了。妈妈痛苦地呻吟着，爸爸无可奈何地搓着手，爱迪生站在一旁焦急地看着妈妈。时间一分一秒地过去了，爱迪生的手心攥出了汗水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28"/>
          <p:cNvSpPr/>
          <p:nvPr/>
        </p:nvSpPr>
        <p:spPr>
          <a:xfrm>
            <a:off x="2133720" y="4487760"/>
            <a:ext cx="5997240" cy="1831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3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爱迪生当时会想些什么，心情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143000" y="1523880"/>
            <a:ext cx="70099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此时爱迪生的心情又是怎样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66680" y="2438280"/>
            <a:ext cx="70862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时间一分一秒地过去了，爱迪生的手心攥出了汗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14400" y="3733920"/>
            <a:ext cx="73911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是啊，我们每个人都在为妈妈的安危担心，谁来读一读这揪心的场面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5486400" y="5105520"/>
            <a:ext cx="2361960" cy="533160"/>
          </a:xfrm>
          <a:prstGeom prst="cloudCallout">
            <a:avLst>
              <a:gd name="adj1" fmla="val -109477"/>
              <a:gd name="adj2" fmla="val 86310"/>
            </a:avLst>
          </a:prstGeom>
          <a:solidFill>
            <a:srgbClr val="ffcc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指导朗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说说关键词的意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犹豫：拿不定主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呻吟：因痛苦而发出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可奈何：没有办法；没有什么办法可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焦急：很着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360" cy="560160"/>
          </a:xfrm>
          <a:prstGeom prst="rect">
            <a:avLst/>
          </a:prstGeom>
          <a:ln w="9525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3348000" y="2908800"/>
            <a:ext cx="5040000" cy="960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3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突然，他眼睛一亮：“医生，我有办法了。”说完，爱迪生把所有的油灯都端了出来。医生看了看，摇摇头说：“这些灯围一圈挡手呀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图片2"/>
          <p:cNvPicPr/>
          <p:nvPr/>
        </p:nvPicPr>
        <p:blipFill>
          <a:blip r:embed="rId2"/>
          <a:stretch/>
        </p:blipFill>
        <p:spPr>
          <a:xfrm>
            <a:off x="685800" y="3276720"/>
            <a:ext cx="2711160" cy="28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26" descr="小学语文(记叙文）03"/>
          <p:cNvPicPr/>
          <p:nvPr/>
        </p:nvPicPr>
        <p:blipFill>
          <a:blip r:embed="rId1"/>
          <a:stretch/>
        </p:blipFill>
        <p:spPr>
          <a:xfrm>
            <a:off x="1143000" y="990720"/>
            <a:ext cx="2079360" cy="560160"/>
          </a:xfrm>
          <a:prstGeom prst="rect">
            <a:avLst/>
          </a:prstGeom>
          <a:ln w="9525">
            <a:noFill/>
          </a:ln>
        </p:spPr>
      </p:pic>
      <p:sp>
        <p:nvSpPr>
          <p:cNvPr id="172" name="Rectangle 1027"/>
          <p:cNvSpPr/>
          <p:nvPr/>
        </p:nvSpPr>
        <p:spPr>
          <a:xfrm>
            <a:off x="3505320" y="3232440"/>
            <a:ext cx="4876560" cy="960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3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谁知，爱迪生又搬来一面大镜子，把油灯放在箱子上，镜子放在油灯的后面，顿时，简易的“手术台”前一片光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28" descr="课文插图（1）"/>
          <p:cNvPicPr/>
          <p:nvPr/>
        </p:nvPicPr>
        <p:blipFill>
          <a:blip r:embed="rId2"/>
          <a:srcRect l="0" t="19173" r="0" b="0"/>
          <a:stretch/>
        </p:blipFill>
        <p:spPr>
          <a:xfrm>
            <a:off x="762120" y="2362320"/>
            <a:ext cx="2655360" cy="28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然之间，爱迪生想出了什么办法？这个办法怎样？四人小组讨论交流自己的观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集中油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搬来大镜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油灯放在桌子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镜子放在油灯的后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片光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1219320" y="609480"/>
            <a:ext cx="1828440" cy="1028520"/>
          </a:xfrm>
          <a:prstGeom prst="rect">
            <a:avLst/>
          </a:prstGeom>
        </p:spPr>
        <p:txBody>
          <a:bodyPr wrap="none" lIns="90000" rIns="90000" tIns="45000" bIns="45000" anchor="t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细读品味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432080" y="4343400"/>
            <a:ext cx="61876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爱迪生急中生智，利用油灯和镜子使手术台前一片光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说说关键词的意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然，眼睛一亮：突然有了办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挡手：挡住手，影响医生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谁知：谁都不知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顿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立刻，立即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读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生顺利的做完了手术。他高兴地说：“孩子，是你用智慧救了妈妈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组讨论：医生为什么说是爱迪生用智慧救了妈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1447920" y="380880"/>
            <a:ext cx="2057040" cy="1028520"/>
          </a:xfrm>
          <a:prstGeom prst="rect">
            <a:avLst/>
          </a:prstGeom>
        </p:spPr>
        <p:txBody>
          <a:bodyPr wrap="none" lIns="90000" rIns="90000" tIns="45000" bIns="45000" anchor="t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细读品味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84" name="Text Box 3"/>
          <p:cNvSpPr/>
          <p:nvPr/>
        </p:nvSpPr>
        <p:spPr>
          <a:xfrm>
            <a:off x="1066680" y="1219320"/>
            <a:ext cx="7238520" cy="30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爱迪生急中生智，想出了好办法，使医生顺利地做完了手术，救了妈妈，所以医生高兴地说——“孩子，是你用智慧救了妈妈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371600" y="4129200"/>
            <a:ext cx="7238520" cy="64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27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87" name="Text Box 3"/>
          <p:cNvSpPr/>
          <p:nvPr/>
        </p:nvSpPr>
        <p:spPr>
          <a:xfrm>
            <a:off x="990720" y="1905120"/>
            <a:ext cx="72385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妈妈醒来了，苍白的脸上露出了自豪的笑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16"/>
          <p:cNvPicPr/>
          <p:nvPr/>
        </p:nvPicPr>
        <p:blipFill>
          <a:blip r:embed="rId2"/>
          <a:stretch/>
        </p:blipFill>
        <p:spPr>
          <a:xfrm>
            <a:off x="1143000" y="3505320"/>
            <a:ext cx="1123560" cy="875880"/>
          </a:xfrm>
          <a:prstGeom prst="rect">
            <a:avLst/>
          </a:prstGeom>
          <a:ln w="9525">
            <a:noFill/>
          </a:ln>
        </p:spPr>
      </p:pic>
      <p:sp>
        <p:nvSpPr>
          <p:cNvPr id="189" name="WordArt 5"/>
          <p:cNvSpPr txBox="1"/>
          <p:nvPr/>
        </p:nvSpPr>
        <p:spPr>
          <a:xfrm>
            <a:off x="3276720" y="2971800"/>
            <a:ext cx="1371240" cy="4568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想一想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362320" y="3581280"/>
            <a:ext cx="51051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、妈妈为什么自豪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4114800" y="4786920"/>
            <a:ext cx="1026720" cy="75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、她心里会说些什么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660680" y="750960"/>
            <a:ext cx="183960" cy="76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1495800" y="1143000"/>
            <a:ext cx="64598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妈妈醒来后怎样？请同学们读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51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学会默读课文，会复述这个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学习爱迪生从小遇到问题就积极动脑动手，解决问题的爱动脑筋、善于发明创造的精神，激发学生从小爱科学的思想感情。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95" name="Text Box 3"/>
          <p:cNvSpPr/>
          <p:nvPr/>
        </p:nvSpPr>
        <p:spPr>
          <a:xfrm>
            <a:off x="762120" y="1828800"/>
            <a:ext cx="7695720" cy="265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爱迪生拉着妈妈的手，一本正经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说：“妈妈，要是晚上也有太阳该多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哇，我要造一个晚上的‘太阳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18"/>
          <p:cNvPicPr/>
          <p:nvPr/>
        </p:nvPicPr>
        <p:blipFill>
          <a:blip r:embed="rId2"/>
          <a:stretch/>
        </p:blipFill>
        <p:spPr>
          <a:xfrm>
            <a:off x="914400" y="1066680"/>
            <a:ext cx="1009440" cy="914040"/>
          </a:xfrm>
          <a:prstGeom prst="rect">
            <a:avLst/>
          </a:prstGeom>
          <a:ln w="9525">
            <a:noFill/>
          </a:ln>
        </p:spPr>
      </p:pic>
      <p:sp>
        <p:nvSpPr>
          <p:cNvPr id="197" name="WordArt 5"/>
          <p:cNvSpPr txBox="1"/>
          <p:nvPr/>
        </p:nvSpPr>
        <p:spPr>
          <a:xfrm>
            <a:off x="2133720" y="1295280"/>
            <a:ext cx="1828440" cy="4568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分析句子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676520" y="4114800"/>
            <a:ext cx="47239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本正经”是什么意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990720" y="4876920"/>
            <a:ext cx="74671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本正经：形容很规矩，很庄重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6400800" y="2362320"/>
            <a:ext cx="75960" cy="7596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6781680" y="2362320"/>
            <a:ext cx="75960" cy="7596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7162920" y="2362320"/>
            <a:ext cx="75960" cy="7596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7620120" y="2362320"/>
            <a:ext cx="75960" cy="7596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18"/>
          <p:cNvPicPr/>
          <p:nvPr/>
        </p:nvPicPr>
        <p:blipFill>
          <a:blip r:embed="rId1"/>
          <a:stretch/>
        </p:blipFill>
        <p:spPr>
          <a:xfrm>
            <a:off x="914400" y="1066680"/>
            <a:ext cx="761760" cy="690120"/>
          </a:xfrm>
          <a:prstGeom prst="rect">
            <a:avLst/>
          </a:prstGeom>
          <a:ln w="9525">
            <a:noFill/>
          </a:ln>
        </p:spPr>
      </p:pic>
      <p:sp>
        <p:nvSpPr>
          <p:cNvPr id="205" name="WordArt 5"/>
          <p:cNvSpPr txBox="1"/>
          <p:nvPr/>
        </p:nvSpPr>
        <p:spPr>
          <a:xfrm>
            <a:off x="1905120" y="1143000"/>
            <a:ext cx="1828440" cy="4568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分析句子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609480" y="1752480"/>
            <a:ext cx="7772040" cy="203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大家注意到没有，爱迪生的这句话中有两个太阳，它们有什么不同？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914400" y="4343400"/>
            <a:ext cx="70099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个指真的太阳，一个指像太阳一样会发光的东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026" descr="小学语文(记叙文）03"/>
          <p:cNvPicPr/>
          <p:nvPr/>
        </p:nvPicPr>
        <p:blipFill>
          <a:blip r:embed="rId1"/>
          <a:stretch/>
        </p:blipFill>
        <p:spPr>
          <a:xfrm>
            <a:off x="380880" y="609480"/>
            <a:ext cx="2661840" cy="717120"/>
          </a:xfrm>
          <a:prstGeom prst="rect">
            <a:avLst/>
          </a:prstGeom>
          <a:ln w="9525">
            <a:noFill/>
          </a:ln>
        </p:spPr>
      </p:pic>
      <p:sp>
        <p:nvSpPr>
          <p:cNvPr id="209" name="Rectangle 1027"/>
          <p:cNvSpPr/>
          <p:nvPr/>
        </p:nvSpPr>
        <p:spPr>
          <a:xfrm>
            <a:off x="609480" y="3421800"/>
            <a:ext cx="3733560" cy="75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后来，爱迪生真的发明了电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28" descr="课文插图（2）"/>
          <p:cNvPicPr/>
          <p:nvPr/>
        </p:nvPicPr>
        <p:blipFill>
          <a:blip r:embed="rId2"/>
          <a:stretch/>
        </p:blipFill>
        <p:spPr>
          <a:xfrm>
            <a:off x="4114800" y="2209680"/>
            <a:ext cx="4416120" cy="3885840"/>
          </a:xfrm>
          <a:prstGeom prst="rect">
            <a:avLst/>
          </a:prstGeom>
          <a:ln w="9525">
            <a:noFill/>
          </a:ln>
        </p:spPr>
      </p:pic>
      <p:sp>
        <p:nvSpPr>
          <p:cNvPr id="211" name="Text Box 3"/>
          <p:cNvSpPr/>
          <p:nvPr/>
        </p:nvSpPr>
        <p:spPr>
          <a:xfrm>
            <a:off x="1371600" y="1219320"/>
            <a:ext cx="693396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爱迪生后来怎么样了呢？请同学们齐读课文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3"/>
          <p:cNvPicPr/>
          <p:nvPr/>
        </p:nvPicPr>
        <p:blipFill>
          <a:blip r:embed="rId1"/>
          <a:stretch/>
        </p:blipFill>
        <p:spPr>
          <a:xfrm>
            <a:off x="838080" y="2133720"/>
            <a:ext cx="1009440" cy="961560"/>
          </a:xfrm>
          <a:prstGeom prst="rect">
            <a:avLst/>
          </a:prstGeom>
          <a:ln w="9525">
            <a:noFill/>
          </a:ln>
        </p:spPr>
      </p:pic>
      <p:sp>
        <p:nvSpPr>
          <p:cNvPr id="213" name="WordArt 6"/>
          <p:cNvSpPr txBox="1"/>
          <p:nvPr/>
        </p:nvSpPr>
        <p:spPr>
          <a:xfrm>
            <a:off x="2057400" y="914400"/>
            <a:ext cx="2285640" cy="1526760"/>
          </a:xfrm>
          <a:prstGeom prst="rect">
            <a:avLst/>
          </a:prstGeom>
        </p:spPr>
        <p:txBody>
          <a:bodyPr wrap="none" lIns="90000" rIns="90000" tIns="45000" bIns="45000" anchor="t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考考你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2719800" y="2424600"/>
            <a:ext cx="4875120" cy="75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什么爱迪生能发明电灯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62120" y="3429000"/>
            <a:ext cx="7619760" cy="759960"/>
          </a:xfrm>
          <a:prstGeom prst="rect">
            <a:avLst/>
          </a:prstGeom>
          <a:noFill/>
          <a:ln w="9525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因为爱迪生从小就善于动脑，积极思考，并且一直这样去做，长大后才有了伟大的发明创造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350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请同学们有感情的、完整的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关于爱迪生的故事还很多很多，课后，请你搜集关于爱迪生的故事，下一节课与大家一起分享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希望同学们向爱迪生学习，从小爱动脑筋、积极思考， 相信你会有很多收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914400" y="533520"/>
            <a:ext cx="1828440" cy="1028520"/>
          </a:xfrm>
          <a:prstGeom prst="rect">
            <a:avLst/>
          </a:prstGeom>
        </p:spPr>
        <p:txBody>
          <a:bodyPr wrap="none" lIns="90000" rIns="90000" tIns="45000" bIns="45000" anchor="t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细读品味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8"/>
          <p:cNvSpPr/>
          <p:nvPr/>
        </p:nvSpPr>
        <p:spPr>
          <a:xfrm>
            <a:off x="1417680" y="3048120"/>
            <a:ext cx="1080720" cy="36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007211112617357"/>
          <p:cNvPicPr/>
          <p:nvPr/>
        </p:nvPicPr>
        <p:blipFill>
          <a:blip r:embed="rId1"/>
          <a:stretch/>
        </p:blipFill>
        <p:spPr>
          <a:xfrm>
            <a:off x="1143000" y="2590920"/>
            <a:ext cx="1630080" cy="2133360"/>
          </a:xfrm>
          <a:prstGeom prst="rect">
            <a:avLst/>
          </a:prstGeom>
          <a:ln w="38100">
            <a:solidFill>
              <a:srgbClr val="a50021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762120" y="1143000"/>
            <a:ext cx="7619760" cy="124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们知道他是谁吗？谁能给大家简单地介绍一下他呢？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76720" y="2438280"/>
            <a:ext cx="47239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爱迪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84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日生于美国。他一生共有约两千项创造发明，为人类的文明和进步作出了巨大的贡献，人们称他为“发明之王”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52120" y="765000"/>
            <a:ext cx="3366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留声机"/>
          <p:cNvPicPr/>
          <p:nvPr/>
        </p:nvPicPr>
        <p:blipFill>
          <a:blip r:embed="rId1"/>
          <a:stretch/>
        </p:blipFill>
        <p:spPr>
          <a:xfrm>
            <a:off x="685800" y="685800"/>
            <a:ext cx="4098600" cy="307476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5" descr="电话"/>
          <p:cNvPicPr/>
          <p:nvPr/>
        </p:nvPicPr>
        <p:blipFill>
          <a:blip r:embed="rId2"/>
          <a:srcRect l="0" t="0" r="0" b="5230"/>
          <a:stretch/>
        </p:blipFill>
        <p:spPr>
          <a:xfrm>
            <a:off x="685800" y="3814920"/>
            <a:ext cx="3657240" cy="2128320"/>
          </a:xfrm>
          <a:prstGeom prst="rect">
            <a:avLst/>
          </a:prstGeom>
          <a:ln w="9525">
            <a:noFill/>
          </a:ln>
        </p:spPr>
      </p:pic>
      <p:pic>
        <p:nvPicPr>
          <p:cNvPr id="134" name="Picture 6" descr="电灯"/>
          <p:cNvPicPr/>
          <p:nvPr/>
        </p:nvPicPr>
        <p:blipFill>
          <a:blip r:embed="rId3"/>
          <a:srcRect l="0" t="21528" r="0" b="15399"/>
          <a:stretch/>
        </p:blipFill>
        <p:spPr>
          <a:xfrm>
            <a:off x="4495680" y="685800"/>
            <a:ext cx="4011120" cy="2530080"/>
          </a:xfrm>
          <a:prstGeom prst="rect">
            <a:avLst/>
          </a:prstGeom>
          <a:ln w="9525">
            <a:noFill/>
          </a:ln>
        </p:spPr>
      </p:pic>
      <p:sp>
        <p:nvSpPr>
          <p:cNvPr id="135" name="Text Box 8"/>
          <p:cNvSpPr/>
          <p:nvPr/>
        </p:nvSpPr>
        <p:spPr>
          <a:xfrm>
            <a:off x="4800600" y="3809880"/>
            <a:ext cx="37335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267080" y="3124080"/>
            <a:ext cx="46479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943600" y="2438280"/>
            <a:ext cx="9903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电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838080" y="4038480"/>
            <a:ext cx="549000" cy="1066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914400" y="1447920"/>
            <a:ext cx="12189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留声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电影"/>
          <p:cNvPicPr/>
          <p:nvPr/>
        </p:nvPicPr>
        <p:blipFill>
          <a:blip r:embed="rId4"/>
          <a:stretch/>
        </p:blipFill>
        <p:spPr>
          <a:xfrm>
            <a:off x="4343400" y="3276720"/>
            <a:ext cx="4079520" cy="2798280"/>
          </a:xfrm>
          <a:prstGeom prst="rect">
            <a:avLst/>
          </a:prstGeom>
          <a:ln w="9525">
            <a:noFill/>
          </a:ln>
        </p:spPr>
      </p:pic>
      <p:sp>
        <p:nvSpPr>
          <p:cNvPr id="141" name="Text Box 14"/>
          <p:cNvSpPr/>
          <p:nvPr/>
        </p:nvSpPr>
        <p:spPr>
          <a:xfrm>
            <a:off x="4648320" y="3276720"/>
            <a:ext cx="6091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电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38080" y="1023120"/>
            <a:ext cx="7086240" cy="149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认一认，读一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219320" y="2362320"/>
            <a:ext cx="71625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62120" y="1981080"/>
            <a:ext cx="7695720" cy="277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晚上  突然   请来   医生   急性    发炎  手术   油灯   危险   犹豫    痛苦  呻吟   焦急   挡手   简易   顺利  智慧   苍白   自豪   发明                       无可奈何   一本正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学们，自由读课文第一自然段，说说爱迪生的妈妈怎么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用一句话说一说读完这一段知道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说出这一段的关键词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在这种情况下，妈妈需要做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1676520" y="609480"/>
            <a:ext cx="1828440" cy="1028520"/>
          </a:xfrm>
          <a:prstGeom prst="rect">
            <a:avLst/>
          </a:prstGeom>
        </p:spPr>
        <p:txBody>
          <a:bodyPr wrap="none" lIns="90000" rIns="90000" tIns="45000" bIns="45000" anchor="t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细读品味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0" y="0"/>
          <a:ext cx="9143640" cy="6629040"/>
        </p:xfrm>
        <a:graphic>
          <a:graphicData uri="http://schemas.openxmlformats.org/presentationml/2006/ole">
            <p:oleObj progId="PowerPoint.Slide.8"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3640" cy="66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8720" cy="5943240"/>
          </a:xfrm>
          <a:prstGeom prst="rect">
            <a:avLst/>
          </a:prstGeom>
          <a:ln w="9525">
            <a:noFill/>
          </a:ln>
        </p:spPr>
      </p:pic>
      <p:sp>
        <p:nvSpPr>
          <p:cNvPr id="151" name="Text Box 3"/>
          <p:cNvSpPr/>
          <p:nvPr/>
        </p:nvSpPr>
        <p:spPr>
          <a:xfrm>
            <a:off x="762120" y="1219320"/>
            <a:ext cx="76957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、     同学们齐读课文第一段，边读边想爱迪生的妈妈怎么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838080" y="2514600"/>
            <a:ext cx="79243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、在这种情况下，妈妈需要做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914400" y="3429000"/>
            <a:ext cx="73148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是啊，妈妈得了急性阑尾炎，情况十分危急，需要马上做手术，让我们一起再读第一段吧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说说当时的情况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没有电灯  油灯光线很暗  做手术很危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这时情况危急，人们的表现怎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爱迪生在想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这时爱迪生的心情怎样？朗读时要读出什么样的感觉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838080" y="533520"/>
            <a:ext cx="2057040" cy="1028520"/>
          </a:xfrm>
          <a:prstGeom prst="rect">
            <a:avLst/>
          </a:prstGeom>
        </p:spPr>
        <p:txBody>
          <a:bodyPr wrap="none" lIns="90000" rIns="90000" tIns="45000" bIns="45000" anchor="t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4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细读品味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345120" y="838080"/>
            <a:ext cx="37774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同学们读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  <Words>1219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1601-01-01T00:00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cp:lastPrinted>1601-01-01T00:00:00Z</cp:lastPrinted>
  <dcterms:modified xsi:type="dcterms:W3CDTF">2021-07-29T12:25:22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5</vt:r8>
  </property>
  <property fmtid="{D5CDD505-2E9C-101B-9397-08002B2CF9AE}" pid="4" name="Version">
    <vt:r8>1</vt:r8>
  </property>
</Properties>
</file>