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1C2E-2D0C-4C70-9885-43586D97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D668-FC64-4677-A55C-8D1DEA53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2186-CE40-4012-B59E-C7B31552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F921-96E5-4997-B146-A6C1C8F8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1B9F-766E-4FC5-9696-C1DE23D4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3332-4138-47F7-9D33-8B7CB7D7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9432-7C05-4BCF-8EF7-D6BC278A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921B-5FE4-4C67-A1E7-BB3254C2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24E1-C995-4B07-A20E-64CA3E1D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18A-38AC-4689-A73D-A0EC785A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F601-93E8-4148-A7F2-3987A4A5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FC5A-8D8D-4898-AEBA-A29CC312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6CC6-B0EA-4922-8222-588611DC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9E7F-8A5F-4D0A-BC80-C073A7F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8F77-F79D-49D6-8DD8-3B8B91BE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4EC-940E-4FC7-A70B-28635088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462B-1BB5-4518-8BB4-15F18D87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E673-24D7-4D3A-95D1-CD75B256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B203-7FFB-4EC1-B4B4-1F0DA413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29C2-86A8-45E1-A767-FE96FAF8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D24E-F7E1-482C-B450-53BD6C7D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0D99-3589-4F58-A30A-BC28252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693A-8858-40A2-A7CB-D73229E6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BBEC-A00E-481A-9D20-8ABEED7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285840" y="2803680"/>
            <a:ext cx="1080" cy="3034800"/>
          </a:xfrm>
          <a:custGeom>
            <a:avLst/>
            <a:gdLst>
              <a:gd name="textAreaLeft" fmla="*/ 0 w 1080"/>
              <a:gd name="textAreaRight" fmla="*/ 1440 w 1080"/>
              <a:gd name="textAreaTop" fmla="*/ 0 h 3034800"/>
              <a:gd name="textAreaBottom" fmla="*/ 3035160 h 303480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04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6CBFDB-CCDE-43D4-B6C9-ACC1E990C68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第二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宋体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宋体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"/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宋体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2429FF-0700-4661-B621-90B07009221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007160" y="333360"/>
            <a:ext cx="1046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20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学会看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3780000" y="5373720"/>
            <a:ext cx="647280" cy="14256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模板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moban/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行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hangy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节日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jieri/           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素材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背景图片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beijing/      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图表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优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xiazai/        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ord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word/              Excel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教程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excel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ziliao/                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课件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fanwen/        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shiti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www.1ppt.com/jiaoan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2106000" y="2493000"/>
            <a:ext cx="4643640" cy="3097080"/>
          </a:xfrm>
          <a:prstGeom prst="rect">
            <a:avLst/>
          </a:prstGeom>
          <a:ln cap="sq" w="190500">
            <a:solidFill>
              <a:srgbClr val="c8c6bd"/>
            </a:solidFill>
            <a:miter/>
          </a:ln>
          <a:effectLst>
            <a:outerShdw algn="bl" blurRad="254160" rotWithShape="0">
              <a:srgbClr val="000000">
                <a:alpha val="43000"/>
              </a:srgbClr>
            </a:outerShdw>
          </a:effectLst>
          <a:scene3d>
            <a:camera fov="5400000" prst="perspectiveFront"/>
            <a:lightRig dir="t" rig="threePt">
              <a:rot lat="0" lon="0" rev="21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</p:pic>
      <p:sp>
        <p:nvSpPr>
          <p:cNvPr id="86" name="矩形 8"/>
          <p:cNvSpPr/>
          <p:nvPr/>
        </p:nvSpPr>
        <p:spPr>
          <a:xfrm>
            <a:off x="2642760" y="6021360"/>
            <a:ext cx="35690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生字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打蔫   噢  怔住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喋喋不休   艰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坠入   忐忑不安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拖沓   倚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思考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>
            <a:hlinkClick r:id="rId1" action="ppaction://hlinksldjump"/>
          </p:cNvPr>
          <p:cNvSpPr/>
          <p:nvPr/>
        </p:nvSpPr>
        <p:spPr>
          <a:xfrm>
            <a:off x="4083480" y="1989000"/>
            <a:ext cx="47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、妈妈为什么这样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>
            <a:hlinkClick r:id="rId2" action="ppaction://hlinksldjump"/>
          </p:cNvPr>
          <p:cNvSpPr/>
          <p:nvPr/>
        </p:nvSpPr>
        <p:spPr>
          <a:xfrm>
            <a:off x="4156560" y="3068640"/>
            <a:ext cx="47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、妈妈的心里好受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>
            <a:hlinkClick r:id="rId3" action="ppaction://hlinksldjump"/>
          </p:cNvPr>
          <p:cNvSpPr/>
          <p:nvPr/>
        </p:nvSpPr>
        <p:spPr>
          <a:xfrm>
            <a:off x="3952800" y="4365720"/>
            <a:ext cx="10220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、作者这样写目的是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645720" y="907920"/>
            <a:ext cx="1827000" cy="1827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妈妈这样做的目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锻炼儿子独自面对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活的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>
            <a:hlinkClick r:id="rId1" action="ppaction://hlinksldjump"/>
          </p:cNvPr>
          <p:cNvSpPr/>
          <p:nvPr/>
        </p:nvSpPr>
        <p:spPr>
          <a:xfrm>
            <a:off x="7811280" y="5877000"/>
            <a:ext cx="310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544200" y="260280"/>
            <a:ext cx="182700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表现妈妈心理变化的词语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怔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咬着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心立刻软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后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忐忑不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勇气又渐渐回到心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>
            <a:hlinkClick r:id="rId1" action="ppaction://hlinksldjump"/>
          </p:cNvPr>
          <p:cNvSpPr/>
          <p:nvPr/>
        </p:nvSpPr>
        <p:spPr>
          <a:xfrm>
            <a:off x="8439840" y="6251400"/>
            <a:ext cx="310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333240" y="1268280"/>
            <a:ext cx="1689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这样写体现了母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浓浓的爱子深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>
            <a:hlinkClick r:id="rId1" action="ppaction://hlinksldjump"/>
          </p:cNvPr>
          <p:cNvSpPr/>
          <p:nvPr/>
        </p:nvSpPr>
        <p:spPr>
          <a:xfrm>
            <a:off x="8079480" y="5964120"/>
            <a:ext cx="310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593160" y="189000"/>
            <a:ext cx="1515960" cy="210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四字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喋喋不休    雪上加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按图索骥    忐忑不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毫无疑义    聊胜于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cean">
  <a:themeElements>
    <a:clrScheme name="Ocean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cean">
  <a:themeElements>
    <a:clrScheme name="Ocean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cean</Template>
  <TotalTime>62</TotalTime>
  <Application>LibreOffice/7.4.7.2$Linux_X86_64 LibreOffice_project/40$Build-2</Application>
  <AppVersion>15.0000</AppVersion>
  <Words>346</Words>
  <Paragraphs>57</Paragraphs>
  <Company>fx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7:22:25Z</dcterms:created>
  <dc:creator>第一PPT模板网-WWW.1PPT.COM</dc:creator>
  <dc:description>第一PPT模板网-WWW.1PPT.COM_x005F_x000d_
</dc:description>
  <dc:language>en-US</dc:language>
  <cp:lastModifiedBy>Windows 用户</cp:lastModifiedBy>
  <dcterms:modified xsi:type="dcterms:W3CDTF">2021-07-29T11:34:55Z</dcterms:modified>
  <cp:revision>6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