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CF1-795E-4B89-974E-1AA7757E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52F-5CAB-4F74-B30E-411D7F3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DD3-9CB8-4027-849A-2B8BAF2A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B39-5CA2-422A-9CEC-AB5FF16C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3415-A23D-482C-AFFB-4CDDA5F9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FDDF-A5D7-450C-8DE1-9EDC585E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52D-35D1-4AAC-9186-FB109FF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72D-24FB-4C4E-A22B-0D63703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BFE1-5D6C-462C-9543-04FEE23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B1E-DA9C-4CB8-9D48-DFA55682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702-58BB-4B42-B8E0-E7CCDEA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6D5-4EDB-4D66-9075-C6A64892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B659-0F16-4044-81EA-9100A5C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CA2-1729-4AFC-8306-F1F1D03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FADE-9124-4CC2-AB8B-2099EAA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3524-96A5-43E4-A246-49B8A20D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43F8-0DC5-47DD-823C-FE540B53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86D-82E9-4C44-8B8F-A52034CF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BDA-F036-4A3C-9FA1-C65374B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379-FDFE-4554-A740-695F97D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02E-C976-40E7-B2D7-9AF51D21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A15-6585-4F1B-A1F5-8F250F9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FD1-5F65-430C-B79E-7284A5E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B13-7009-4729-9312-A9A40BC4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6A58D5-0BF9-4029-9E55-1929CE59871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4B02D-3196-43D8-B768-0D1D1E2162C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5148360" y="5589720"/>
            <a:ext cx="647280" cy="14256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moban/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行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hangy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节日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jieri/     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素材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背景图片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beijing/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图表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优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xiazai/  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ord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word/              Excel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程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excel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ziliao/          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课件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fanwen/       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shiti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jiaoan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 rot="5400000">
            <a:off x="-1596960" y="2828880"/>
            <a:ext cx="4914720" cy="121896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学会看病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ic_228556"/>
          <p:cNvPicPr/>
          <p:nvPr/>
        </p:nvPicPr>
        <p:blipFill>
          <a:blip r:embed="rId1"/>
          <a:stretch/>
        </p:blipFill>
        <p:spPr>
          <a:xfrm>
            <a:off x="1763640" y="0"/>
            <a:ext cx="738000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2721960" y="6308640"/>
            <a:ext cx="35690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　           妈妈的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240" cy="525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一个很热很热的夜晚　我从梦中醒来　妈妈正在给我扇扇子　汗水湿透了她的衣衫　啊，妈妈的爱是清凉的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一个很凉很凉的雨天　妈妈到学校接我　　一把雨伞遮在我的头顶　雨水打在妈妈的身上　啊，妈妈的爱是遮雨的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有一回我病了　妈妈抱着我去医院　摸着我很烫很烫的额头　她着急地哭了　　啊，妈妈的爱是滴落的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三八妇女节那天　我给妈妈献上一束鲜花　　妈妈把我抱在怀里　轻轻地亲吻我的脸颊　　啊，妈妈的爱是甜甜的吻　我在妈妈的爱里一天天长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学习目标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有感情的地朗读课文，体会母亲对儿子的爱。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 rot="20412600">
            <a:off x="361800" y="645840"/>
            <a:ext cx="2639520" cy="114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我会认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03280" y="2781360"/>
            <a:ext cx="61923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19280" y="3213000"/>
            <a:ext cx="612108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258920" y="4076640"/>
            <a:ext cx="633708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403280" y="3645000"/>
            <a:ext cx="1584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39640" y="2276640"/>
            <a:ext cx="4608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忐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826920" y="3429000"/>
            <a:ext cx="224748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忐忑不安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3635280" y="3357720"/>
            <a:ext cx="224748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喋喋不休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6443640" y="3357720"/>
            <a:ext cx="112356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艰涩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7524720" y="4869000"/>
            <a:ext cx="112356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拖沓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900000" y="4941720"/>
            <a:ext cx="112356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怔住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9"/>
          <p:cNvSpPr txBox="1"/>
          <p:nvPr/>
        </p:nvSpPr>
        <p:spPr>
          <a:xfrm>
            <a:off x="2556000" y="4941720"/>
            <a:ext cx="112356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打蔫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0"/>
          <p:cNvSpPr txBox="1"/>
          <p:nvPr/>
        </p:nvSpPr>
        <p:spPr>
          <a:xfrm>
            <a:off x="4284720" y="4941720"/>
            <a:ext cx="112356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坠落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21"/>
          <p:cNvSpPr txBox="1"/>
          <p:nvPr/>
        </p:nvSpPr>
        <p:spPr>
          <a:xfrm>
            <a:off x="5867280" y="4869000"/>
            <a:ext cx="1123560" cy="561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倚靠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铃铛3"/>
          <p:cNvPicPr/>
          <p:nvPr/>
        </p:nvPicPr>
        <p:blipFill>
          <a:blip r:embed="rId1"/>
          <a:stretch/>
        </p:blipFill>
        <p:spPr>
          <a:xfrm>
            <a:off x="4788000" y="0"/>
            <a:ext cx="435564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755640" y="3815280"/>
            <a:ext cx="716400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　这一句话用了＿＿＿＿描写，体现了（写出了）母亲＿＿＿＿心理（感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 rot="20335800">
            <a:off x="394920" y="691920"/>
            <a:ext cx="2742840" cy="923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我会说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铃铛3"/>
          <p:cNvPicPr/>
          <p:nvPr/>
        </p:nvPicPr>
        <p:blipFill>
          <a:blip r:embed="rId1"/>
          <a:stretch/>
        </p:blipFill>
        <p:spPr>
          <a:xfrm>
            <a:off x="4788000" y="0"/>
            <a:ext cx="435564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cean">
  <a:themeElements>
    <a:clrScheme name="Ocean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cean">
  <a:themeElements>
    <a:clrScheme name="Ocean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ESIGNK</Template>
  <TotalTime>381</TotalTime>
  <Application>LibreOffice/7.4.7.2$Linux_X86_64 LibreOffice_project/40$Build-2</Application>
  <AppVersion>15.0000</AppVersion>
  <Words>277</Words>
  <Paragraphs>45</Paragraphs>
  <Company>soft.netnest.com.c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6:44:10Z</dcterms:created>
  <dc:creator>第一PPT模板网-WWW.1PPT.COM</dc:creator>
  <dc:description>第一PPT模板网-WWW.1PPT.COM_x005F_x000d_
</dc:description>
  <dc:language>en-US</dc:language>
  <cp:lastModifiedBy>Windows 用户</cp:lastModifiedBy>
  <dcterms:modified xsi:type="dcterms:W3CDTF">2021-07-29T11:34:56Z</dcterms:modified>
  <cp:revision>1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