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C3E10C-635B-42F1-8C59-14E7455A2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11DF2A-16E4-4954-B2F8-3D62F8388AE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38A205-A3AA-4E9E-B98A-3B29ED6EEAE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7306E2-0E4F-4C8B-953A-58A3A74F4BA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81FCEC-AF50-4BB4-9D58-D23A68A96C1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976B23-E4A8-4C96-8D1C-FB261136109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07A147-7102-4493-9D95-819DE5DE4D9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8A9F60-E128-4054-B4F0-3B27671DDFF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76886C-CBBB-4B8E-A31D-8A8F2547946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52BDE4-76EF-4D1B-B24E-D0ECC9E23FA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FB1C59-8F98-441A-919B-944C275430A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D95F82-AC67-493E-AE09-3D0D735CBAA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57E4AD-C116-426A-859A-3555B114D09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C3C223-3075-44A6-8141-926269D0EFD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35E8B1-5673-4210-B95E-AF4DF065FCC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702906-12F6-4C53-9C31-67565C40D7D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9E08C4-3A0B-4EB2-9250-33C5428C0A7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1BDA87-3EC3-41FB-A235-AEEDCFA823D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CD83AC-A374-4B72-97AD-AABABC2F56C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C207AB-399F-47F8-B1D7-24DD80411B8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24999B-26EA-4FF3-90C9-FD1587F8C98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7D6E3D-EF32-4C32-8A36-57CEB98212C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AB59B3-ACA5-40F9-A07D-AD1084E13FC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496621-99DD-4204-91C9-0D12C6C71DC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C5BBEE-EB8E-4EE9-8C2E-60CBE3B12EB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AB04B4-F400-46F1-B543-D4407CC9A13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F232D5-4873-4B44-B5CE-EBFFFF980B3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B0E539-760B-460A-B69C-FF1E91E8516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7A57-B796-428B-8D81-3E04F4FB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AC65-6E38-448B-83EF-B4E03837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D165-B403-435C-A95F-ECE75C74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3910-CFFB-4FC6-BC6D-82493D29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788B-BDEF-481C-8C9D-7C600CE2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0B06-9718-442C-8AE3-F76895DB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687B-57E7-4618-994C-581FF3AF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21DC-8475-40D3-8183-B3373F83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B3C6-DBDB-486D-AB8B-8CC577B8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AB84-1B95-4C3E-B0F3-88FE4C7F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1B07-6656-4F17-AD1A-65A514B8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9A31-542D-4208-AFB1-C3B878B0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C9C6-D9A5-46EB-A044-7FB9339D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9DFB-8614-4D78-8247-C7943ABA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F2D3-7F6C-45AC-B917-1A98339C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3D48-2621-4B85-A60C-4E7583BD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C752-DE98-447B-8722-FB53E966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FF12-65FE-49A0-92C3-22A5BD38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8E54-9AA6-46D4-AA9F-52A05A7C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48C8-8A4E-47E8-90CA-EE61F8BC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A16B-7925-481E-B35B-FDF0CE40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7A59-4A30-4AC9-AE9D-2E9BE0F3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6F8-587F-4EAB-98E3-C2B17A9C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92BA-337F-4215-A235-49E9C2F0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bed"/>
            </a:gs>
            <a:gs pos="100000">
              <a:srgbClr val="7b796a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A837A5-3D82-43BB-99FA-986AEAA9822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bed"/>
            </a:gs>
            <a:gs pos="100000">
              <a:srgbClr val="7b796a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F0CEDA-AE3E-4449-895A-1C94B69ECAB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5"/>
          <p:cNvSpPr/>
          <p:nvPr/>
        </p:nvSpPr>
        <p:spPr>
          <a:xfrm>
            <a:off x="0" y="172368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小露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2892960" y="5601960"/>
            <a:ext cx="33573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4"/>
          <p:cNvSpPr/>
          <p:nvPr/>
        </p:nvSpPr>
        <p:spPr>
          <a:xfrm>
            <a:off x="703800" y="2060280"/>
            <a:ext cx="642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1314360" y="1657440"/>
            <a:ext cx="3042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ｚ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ｎ（钻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ｚ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ｎ（钻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739440" y="3323880"/>
            <a:ext cx="642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1314360" y="2985120"/>
            <a:ext cx="27856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ｌ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落后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落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739440" y="4604040"/>
            <a:ext cx="642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5"/>
          <p:cNvSpPr/>
          <p:nvPr/>
        </p:nvSpPr>
        <p:spPr>
          <a:xfrm>
            <a:off x="1382400" y="4501440"/>
            <a:ext cx="27856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ｙ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音乐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乐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4100400" y="1558440"/>
            <a:ext cx="50432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运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ｚ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石的价格很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们在学习中要有刻苦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ｚ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研的精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4168440" y="3141720"/>
            <a:ext cx="5043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运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需要补习请假所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à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的课程，否则会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ｌ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ò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后于别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4168440" y="4604040"/>
            <a:ext cx="4714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运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些音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ｙ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è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听了可以让人的心情变得快乐（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左大括号 11"/>
          <p:cNvSpPr/>
          <p:nvPr/>
        </p:nvSpPr>
        <p:spPr>
          <a:xfrm>
            <a:off x="1268640" y="3038040"/>
            <a:ext cx="45360" cy="117648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左大括号 13"/>
          <p:cNvSpPr/>
          <p:nvPr/>
        </p:nvSpPr>
        <p:spPr>
          <a:xfrm>
            <a:off x="1178640" y="1828800"/>
            <a:ext cx="135360" cy="102852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左大括号 14"/>
          <p:cNvSpPr/>
          <p:nvPr/>
        </p:nvSpPr>
        <p:spPr>
          <a:xfrm>
            <a:off x="1268640" y="4501440"/>
            <a:ext cx="45360" cy="119988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357120" y="1042920"/>
            <a:ext cx="2042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音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6"/>
          <p:cNvSpPr/>
          <p:nvPr/>
        </p:nvSpPr>
        <p:spPr>
          <a:xfrm>
            <a:off x="1028880" y="1295640"/>
            <a:ext cx="744336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降临：来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露珠：指凝聚像珠子的露水。也叫露水珠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黎明：天亮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钻石：经过琢磨的金刚石，是贵重的首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水晶：纯粹的石英，无色透明，用来制光学仪器、无线电器材和装饰品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圆润：饱满而润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光彩熠熠：闪闪发光的样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装点：打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3236040" y="524880"/>
            <a:ext cx="2671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重难点词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0"/>
          <p:cNvSpPr/>
          <p:nvPr/>
        </p:nvSpPr>
        <p:spPr>
          <a:xfrm>
            <a:off x="1014480" y="1271520"/>
            <a:ext cx="701496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俊俏：（相貌）好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机勃勃：有生命力，有活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渐渐：副词，表示程度或数量的逐步增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散发：向四处散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动情：情绪激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吹奏：泛指演奏各种乐器。文中运用了拟人的手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告别：说声再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笑盈盈：高兴的样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5"/>
          <p:cNvSpPr/>
          <p:nvPr/>
        </p:nvSpPr>
        <p:spPr>
          <a:xfrm>
            <a:off x="449280" y="1371600"/>
            <a:ext cx="83516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一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乡间的（     ）让人感到一种舒服的安静，太阳（     ）地从东方升起来，（     ）在碧绿的叶子上滚来滚去，如（     ）一般晶莹透亮。一切都显得那么（      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2347200" y="23821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黎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026200" y="23821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渐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3475800" y="30780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露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991440" y="38322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水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780960" y="381132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机勃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7"/>
          <p:cNvSpPr/>
          <p:nvPr/>
        </p:nvSpPr>
        <p:spPr>
          <a:xfrm>
            <a:off x="485640" y="1743120"/>
            <a:ext cx="7914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是一篇优美的（         ）。写小露珠由形成到消失的过程，以及小动物和植物对小露珠的（      ），赞美了大自然的（         ）、（        ）和美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14280" y="1071720"/>
            <a:ext cx="2128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心思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4686480" y="2032920"/>
            <a:ext cx="99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童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0"/>
          <p:cNvSpPr/>
          <p:nvPr/>
        </p:nvSpPr>
        <p:spPr>
          <a:xfrm>
            <a:off x="1630440" y="3757680"/>
            <a:ext cx="107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喜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1"/>
          <p:cNvSpPr/>
          <p:nvPr/>
        </p:nvSpPr>
        <p:spPr>
          <a:xfrm>
            <a:off x="6415200" y="3757680"/>
            <a:ext cx="99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和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1065960" y="4583160"/>
            <a:ext cx="107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融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7"/>
          <p:cNvSpPr/>
          <p:nvPr/>
        </p:nvSpPr>
        <p:spPr>
          <a:xfrm>
            <a:off x="542880" y="1567080"/>
            <a:ext cx="7943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她感到有一股热气袭来。渐渐地，太阳公公散发的热量越来越大，小露珠的身子也越来越轻了。她渐渐地变成了水蒸气，向空中飘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314280" y="914400"/>
            <a:ext cx="3328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精彩词句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1275840" y="3599640"/>
            <a:ext cx="58021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赏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一句主要描写小露珠逐渐消失的过程。可爱活泼、大家都喜欢的露珠就这么消失了，这多么令人遗憾啊！为后一句的依依惜别埋下伏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6"/>
          <p:cNvSpPr/>
          <p:nvPr/>
        </p:nvSpPr>
        <p:spPr>
          <a:xfrm>
            <a:off x="285840" y="3152160"/>
            <a:ext cx="135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露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314280" y="914400"/>
            <a:ext cx="3328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图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1643040" y="2059560"/>
            <a:ext cx="328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形成     爬、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1643040" y="2953080"/>
            <a:ext cx="227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受动物喜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3614760" y="2590200"/>
            <a:ext cx="4493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青蛙（蹦）——闪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蟋蟀（爬）——透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蝴蝶（落）——圆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1650240" y="3907080"/>
            <a:ext cx="414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装点植物     格外精神、生机勃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1707480" y="4968720"/>
            <a:ext cx="5636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消失       越来越轻——水蒸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6929280" y="3073320"/>
            <a:ext cx="1777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自然的和谐、融洽、美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左大括号 9"/>
          <p:cNvSpPr/>
          <p:nvPr/>
        </p:nvSpPr>
        <p:spPr>
          <a:xfrm>
            <a:off x="1400040" y="2059560"/>
            <a:ext cx="45360" cy="337068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左大括号 10"/>
          <p:cNvSpPr/>
          <p:nvPr/>
        </p:nvSpPr>
        <p:spPr>
          <a:xfrm>
            <a:off x="3486240" y="2590200"/>
            <a:ext cx="45360" cy="115452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右大括号 11"/>
          <p:cNvSpPr/>
          <p:nvPr/>
        </p:nvSpPr>
        <p:spPr>
          <a:xfrm>
            <a:off x="6772320" y="1914480"/>
            <a:ext cx="156960" cy="351576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5"/>
          <p:cNvSpPr/>
          <p:nvPr/>
        </p:nvSpPr>
        <p:spPr>
          <a:xfrm>
            <a:off x="800280" y="1973880"/>
            <a:ext cx="7143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 第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段运用了什么修辞手法？写出了小露珠的什么特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314280" y="914400"/>
            <a:ext cx="3328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再读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800280" y="3629160"/>
            <a:ext cx="7286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析：第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段运用了比喻的修辞手法，把小露珠分别比喻成钻石、水晶、珍珠。写出了小露珠闪亮、透明、圆润的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4"/>
          <p:cNvSpPr/>
          <p:nvPr/>
        </p:nvSpPr>
        <p:spPr>
          <a:xfrm>
            <a:off x="835920" y="1538280"/>
            <a:ext cx="5071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第⑤段在文中有什么作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835920" y="2511360"/>
            <a:ext cx="7293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析： 这是第二部分的中心句，概括了②、③、④三个自然段的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471600" y="1295280"/>
            <a:ext cx="714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花草树木为什么也喜欢小露珠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585720" y="2214720"/>
            <a:ext cx="83293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析： 小露珠使所有植物变得格外“精神”，显得“更加生机勃勃”。正所谓“雨露滋润禾苗壮”，小露珠有着滋润万物的作用，所以花草树木都喜欢小露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f:\sha\360\360se\360se6\User Data\temp\240385-1301260ZH658.jpg"/>
          <p:cNvPicPr/>
          <p:nvPr/>
        </p:nvPicPr>
        <p:blipFill>
          <a:blip r:embed="rId1"/>
          <a:stretch/>
        </p:blipFill>
        <p:spPr>
          <a:xfrm>
            <a:off x="828720" y="1300320"/>
            <a:ext cx="6051960" cy="397152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sp>
        <p:nvSpPr>
          <p:cNvPr id="91" name="TextBox 2"/>
          <p:cNvSpPr/>
          <p:nvPr/>
        </p:nvSpPr>
        <p:spPr>
          <a:xfrm>
            <a:off x="7629480" y="2114640"/>
            <a:ext cx="556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小露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628560" y="1431000"/>
            <a:ext cx="7214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“小露珠向大伙一一告别，她笑盈盈地说：‘我明天还会来的。’”从中你体会出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957240" y="3597120"/>
            <a:ext cx="6786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析： 体会出小露珠无私奉献、乐观向上的精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4"/>
          <p:cNvSpPr/>
          <p:nvPr/>
        </p:nvSpPr>
        <p:spPr>
          <a:xfrm>
            <a:off x="557280" y="1476360"/>
            <a:ext cx="700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文是按照什么顺序来写作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785880" y="2171880"/>
            <a:ext cx="7929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析：本文是按时间顺序来写的。先写小露珠从夜幕降临到黎明时的形成过程，再写黎明之初小动物对小露珠的赞美，接着写太阳出来后植物因小露珠而更显生机与美丽，最后写小露珠在阳光下逐渐消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614520" y="1271520"/>
            <a:ext cx="714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第⑥段中，作者是怎样表达对小露珠的喜爱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721440" y="2549160"/>
            <a:ext cx="7893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析：  “装点得格外精神”这句话运用拟人的修辞手法，突出了小露珠的光彩熠熠，同时表达了作者对小露珠的喜爱之情。此外，还运用了比喻的修辞手法，把向日葵、白杨树、喇叭花，还有数不尽的鲜花嫩草，比作俊俏的小姑娘，把小露珠比作美丽的珠宝，以表达对小露珠的喜爱之情，也写出了植物因小露珠而更加美丽、更加生机勃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6"/>
          <p:cNvSpPr/>
          <p:nvPr/>
        </p:nvSpPr>
        <p:spPr>
          <a:xfrm>
            <a:off x="314280" y="2443320"/>
            <a:ext cx="81435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露珠，多么平常的事物啊，但在作者笔下却那么可爱，那么富有朝气、活力。课文在向我们传递大自然中动植物之间的和谐、融洽和美丽的同时，也在委婉地告诉我们“世界上并非缺少美，而是缺少发现”这一道理，教我们做生活的有心人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314280" y="1085760"/>
            <a:ext cx="3328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互动感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1613520" y="19198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心灵感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6"/>
          <p:cNvSpPr/>
          <p:nvPr/>
        </p:nvSpPr>
        <p:spPr>
          <a:xfrm>
            <a:off x="750240" y="1620360"/>
            <a:ext cx="7429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会儿，太阳公公披着云霞，爬上了东山，染红了天空，照亮了大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314280" y="957240"/>
            <a:ext cx="3328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仿写训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78520" y="2472120"/>
            <a:ext cx="807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赏析：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披”“爬”“染”“照”一系列动词，用形象生动的拟人手法描写了太阳出来时的情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642960" y="3733920"/>
            <a:ext cx="2999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仿写拟人句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1415520" y="4257000"/>
            <a:ext cx="6397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示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姑娘迈着轻盈的脚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撒下一片繁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夏姐姐带着火辣的热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染着我们的心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秋阿姨送来果实类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她的礼物十里飘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冬奶奶布置好凛冽的寒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锻炼着我们的身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6"/>
          <p:cNvSpPr/>
          <p:nvPr/>
        </p:nvSpPr>
        <p:spPr>
          <a:xfrm>
            <a:off x="500040" y="1428840"/>
            <a:ext cx="835776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带“珠”字的成语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珠光宝气    珠圆玉润     珠玉在侧      鱼目混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字珠玑    妙语连珠     买椟还珠      有眼无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关露珠的诗句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露从今夜白，月是故乡明。——《长歌行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道狭草木长，夕露沾我衣。——白居易《暮江吟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青青园中葵，朝露待日。——陶渊明《归园田居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怜九月初三夜，露似珍珠月似弓。——杜甫《月夜忆舍弟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314280" y="782280"/>
            <a:ext cx="2442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词语积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5"/>
          <p:cNvSpPr/>
          <p:nvPr/>
        </p:nvSpPr>
        <p:spPr>
          <a:xfrm>
            <a:off x="457200" y="1800360"/>
            <a:ext cx="8000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、写出近义词或反义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近义词：黎明——（       ）    格外——（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反义词：喜欢——（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机勃勃——（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314280" y="939600"/>
            <a:ext cx="2442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随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3328920" y="2795400"/>
            <a:ext cx="856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清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6829560" y="2795400"/>
            <a:ext cx="92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特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3328920" y="3621960"/>
            <a:ext cx="856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讨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3843360" y="4268160"/>
            <a:ext cx="1571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死气沉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5"/>
          <p:cNvSpPr/>
          <p:nvPr/>
        </p:nvSpPr>
        <p:spPr>
          <a:xfrm>
            <a:off x="457200" y="1676160"/>
            <a:ext cx="7400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二、默读课文，说说为什么大家都喜欢小露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965880" y="2453040"/>
            <a:ext cx="7443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析：因为在小动物们的眼中，小露珠“像钻石那么闪亮”“像水晶那么透明”“像珍珠那么圆润”，她是那么的漂亮，所以大家都喜欢她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f:\sha\360\360se\360se6\User Data\temp\300000876508127960024519156_950.jpg"/>
          <p:cNvPicPr/>
          <p:nvPr/>
        </p:nvPicPr>
        <p:blipFill>
          <a:blip r:embed="rId1"/>
          <a:stretch/>
        </p:blipFill>
        <p:spPr>
          <a:xfrm>
            <a:off x="357120" y="1360440"/>
            <a:ext cx="4914720" cy="381708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sp>
        <p:nvSpPr>
          <p:cNvPr id="93" name="TextBox 6"/>
          <p:cNvSpPr/>
          <p:nvPr/>
        </p:nvSpPr>
        <p:spPr>
          <a:xfrm>
            <a:off x="5143680" y="1506600"/>
            <a:ext cx="38001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透明圆润的小露珠，从夜晚到黎明，它认识了那么多好朋友，多好哇！虽然早晨它会蒸发，可是，明天它还会出现。来，让我们跟随小露珠，一起去感受它的历程吧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3"/>
          <p:cNvSpPr/>
          <p:nvPr/>
        </p:nvSpPr>
        <p:spPr>
          <a:xfrm>
            <a:off x="819000" y="1705680"/>
            <a:ext cx="185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露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236520" y="2290680"/>
            <a:ext cx="873576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夜晚，由于地面的花草、石头等物体散热比空气快，所以表面温度比空气低。当较热的空气碰到地面这些物体时，便会凝结成小水珠滞留在这些物体上面，这就是露水。露水对作物生长很有利。因为在炎夏，白天作物的光合作用很强，会蒸发掉大量的水分，发生轻度的枯萎。到了夜间，由于露水的滋润，又使作物恢复了生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3"/>
          <p:cNvSpPr/>
          <p:nvPr/>
        </p:nvSpPr>
        <p:spPr>
          <a:xfrm>
            <a:off x="887040" y="1027440"/>
            <a:ext cx="7297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初读感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1156320"/>
            <a:ext cx="5311440" cy="297144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sp>
        <p:nvSpPr>
          <p:cNvPr id="98" name="TextBox 4"/>
          <p:cNvSpPr/>
          <p:nvPr/>
        </p:nvSpPr>
        <p:spPr>
          <a:xfrm>
            <a:off x="479520" y="4098960"/>
            <a:ext cx="83214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亦称“朝阳花”“葵花”。茎直立，圆形多棱角，质硬长粗毛；叶通常互生，广卵形，两面粗糙；花序单生于茎顶，能结实，种子富含油脂。生长时其花盘始终面向太阳，故名“向日葵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5614920" y="2257560"/>
            <a:ext cx="235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向日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Group 5"/>
          <p:cNvGraphicFramePr/>
          <p:nvPr/>
        </p:nvGraphicFramePr>
        <p:xfrm>
          <a:off x="749880" y="1913760"/>
          <a:ext cx="6428880" cy="2689920"/>
        </p:xfrm>
        <a:graphic>
          <a:graphicData uri="http://schemas.openxmlformats.org/drawingml/2006/table">
            <a:tbl>
              <a:tblPr/>
              <a:tblGrid>
                <a:gridCol w="951840"/>
                <a:gridCol w="871920"/>
                <a:gridCol w="947520"/>
                <a:gridCol w="677520"/>
                <a:gridCol w="2979720"/>
              </a:tblGrid>
              <a:tr h="51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"/>
                          <a:ea typeface="楷体"/>
                        </a:rPr>
                        <a:t>ｌ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楷体"/>
                          <a:ea typeface="楷体"/>
                        </a:rPr>
                        <a:t>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音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英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楷体"/>
                        <a:ea typeface="楷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部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字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①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小圆珠形或小碎块形的东西；②量词，用于粒状的东西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笔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扩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米粒  饭粒  颗粒  两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结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左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运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小妹妹把饭粒掉在地上了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文本框 3"/>
          <p:cNvSpPr/>
          <p:nvPr/>
        </p:nvSpPr>
        <p:spPr>
          <a:xfrm>
            <a:off x="724680" y="1027440"/>
            <a:ext cx="5925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生难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Group 4"/>
          <p:cNvGraphicFramePr/>
          <p:nvPr/>
        </p:nvGraphicFramePr>
        <p:xfrm>
          <a:off x="671400" y="1585800"/>
          <a:ext cx="7214760" cy="3257280"/>
        </p:xfrm>
        <a:graphic>
          <a:graphicData uri="http://schemas.openxmlformats.org/drawingml/2006/table">
            <a:tbl>
              <a:tblPr/>
              <a:tblGrid>
                <a:gridCol w="1122120"/>
                <a:gridCol w="924480"/>
                <a:gridCol w="1063440"/>
                <a:gridCol w="760680"/>
                <a:gridCol w="3343680"/>
              </a:tblGrid>
              <a:tr h="81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"/>
                          <a:ea typeface="楷体"/>
                        </a:rPr>
                        <a:t>ｚｈ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楷体"/>
                          <a:ea typeface="楷体"/>
                        </a:rPr>
                        <a:t>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音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英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楷体"/>
                        <a:ea typeface="楷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部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字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①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指植物；②栽种；③树立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笔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扩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种植  植树  植物  培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结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左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运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星期天，同学们到河边去植树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Group 35"/>
          <p:cNvGraphicFramePr/>
          <p:nvPr/>
        </p:nvGraphicFramePr>
        <p:xfrm>
          <a:off x="743040" y="1714680"/>
          <a:ext cx="7657920" cy="3542760"/>
        </p:xfrm>
        <a:graphic>
          <a:graphicData uri="http://schemas.openxmlformats.org/drawingml/2006/table">
            <a:tbl>
              <a:tblPr/>
              <a:tblGrid>
                <a:gridCol w="1191240"/>
                <a:gridCol w="981360"/>
                <a:gridCol w="1128600"/>
                <a:gridCol w="807120"/>
                <a:gridCol w="3548880"/>
              </a:tblGrid>
              <a:tr h="79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"/>
                          <a:ea typeface="楷体"/>
                        </a:rPr>
                        <a:t>ｚ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楷体"/>
                          <a:ea typeface="楷体"/>
                        </a:rPr>
                        <a:t>ò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"/>
                          <a:ea typeface="楷体"/>
                        </a:rPr>
                        <a:t>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音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英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楷体"/>
                        <a:ea typeface="楷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12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部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字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①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演奏；②发生，取得；③臣子对帝王陈述意见或说明事情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笔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扩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奏效  独奏  伴奏  奏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结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上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运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小燕子谱出了一首正待演奏的春天的赞歌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5"/>
          <p:cNvSpPr/>
          <p:nvPr/>
        </p:nvSpPr>
        <p:spPr>
          <a:xfrm>
            <a:off x="1038960" y="2625480"/>
            <a:ext cx="785772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个小姑娘模样俊俏，十分讨人喜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张家界群峰挺拔俊秀，让人流连忘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357120" y="1042920"/>
            <a:ext cx="254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近义词辨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"/>
          <p:cNvSpPr/>
          <p:nvPr/>
        </p:nvSpPr>
        <p:spPr>
          <a:xfrm>
            <a:off x="3913200" y="1771560"/>
            <a:ext cx="114588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俊俏       俊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"/>
          <p:cNvSpPr/>
          <p:nvPr/>
        </p:nvSpPr>
        <p:spPr>
          <a:xfrm>
            <a:off x="1332720" y="4146480"/>
            <a:ext cx="6477840" cy="9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俊俏”与“俊秀”都可以形容事物好看、美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区别在于：“俊俏”多形容面貌好看，多用于俏皮、伶俐的人或事；“俊秀”多形容看了使心情舒畅的人或事物，适用范围较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848</Words>
  <Paragraphs>22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4T03:12:26Z</dcterms:created>
  <dc:creator/>
  <dc:description/>
  <cp:keywords>第一PPT模板网-WWW.1PPT.COM</cp:keywords>
  <dc:language>en-US</dc:language>
  <cp:lastModifiedBy/>
  <dcterms:modified xsi:type="dcterms:W3CDTF">2019-07-07T01:48:41Z</dcterms:modified>
  <cp:revision>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8</vt:r8>
  </property>
  <property fmtid="{D5CDD505-2E9C-101B-9397-08002B2CF9AE}" pid="3" name="PresentationFormat">
    <vt:lpwstr>全屏显示(4:3)</vt:lpwstr>
  </property>
  <property fmtid="{D5CDD505-2E9C-101B-9397-08002B2CF9AE}" pid="4" name="Slides">
    <vt:r8>28</vt:r8>
  </property>
</Properties>
</file>