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AEBF91-3DDD-4ECC-A34C-B28487D70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B6705F4-94DF-489C-BFBC-D61B0F72659D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68D71D7-0BEC-4564-93DD-D3B616CDA655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49C977C-65C6-4B0B-A71D-529A2B8E5109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0628802-E521-4086-9DC9-DCAA4389D667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87117DB-6A9C-4650-A5E1-7B65B30ECF49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ECB63BA-989F-4CFE-A00C-510F5A5E1E70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3EEDAB9-4C09-4E3B-B050-1D2442175320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CEE4DDF-7BAD-4C2F-85BB-62CCDF48A582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CB7B8FB-6A30-496C-9617-0E64A78F4419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AFB09D4-91FC-405C-833D-D715849BFB21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5D6F205-4FEB-4A39-89ED-21BB125491F7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65EC3F6-6CC2-4D41-A6B2-30F73F854D4C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E82A9C9-946E-4D07-831D-52777508A135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E493E03-407B-4211-8FB7-0B35BBF39AD7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3194F4A-EF74-43D0-A0D0-EBAE7B080CDF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A78B578-ADEE-404E-AE6D-F894DA3BD667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5C03D4B-922D-4E5D-9D28-8F5FB6DFD8D6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B079B74-A7BA-42EE-819D-683091E902E6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6082C33-3672-4CFA-B9C8-53D1E8B94CC2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7BE0C4F-0F96-4C0F-9A47-B55427945973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F0D3A98-AB35-4201-A620-C592044D28AD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4E4E282-36EB-4612-AEF7-0FBF0002AD1F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9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9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FC23488-7284-4DBF-A795-05D936BF3713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18915BE-1A1A-4479-86B3-14B7EB1B50B5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7F8F0C3-5486-4141-B799-D25DE89DE839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4198835-568F-42B5-9E45-8E8762E1ADEA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1C82EBF-0CF1-4629-AE24-93D72020AA7F}" type="slidenum">
              <a:rPr b="0" lang="en-US" sz="1200" spc="-1" strike="noStrike">
                <a:solidFill>
                  <a:srgbClr val="000000"/>
                </a:solidFill>
                <a:latin typeface="思源黑体 CN Bold"/>
                <a:ea typeface="思源黑体 CN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等线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等线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Oval 10"/>
          <p:cNvSpPr/>
          <p:nvPr/>
        </p:nvSpPr>
        <p:spPr>
          <a:xfrm flipH="1">
            <a:off x="-490320" y="-438840"/>
            <a:ext cx="979920" cy="980640"/>
          </a:xfrm>
          <a:prstGeom prst="ellipse">
            <a:avLst/>
          </a:prstGeom>
          <a:gradFill rotWithShape="0">
            <a:gsLst>
              <a:gs pos="0">
                <a:srgbClr val="f5ad14"/>
              </a:gs>
              <a:gs pos="100000">
                <a:srgbClr val="f01d06"/>
              </a:gs>
            </a:gsLst>
            <a:lin ang="81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Light"/>
              <a:ea typeface="宋体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90320" y="286560"/>
            <a:ext cx="2379600" cy="303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1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输入标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矩形: 圆角 44"/>
          <p:cNvSpPr/>
          <p:nvPr/>
        </p:nvSpPr>
        <p:spPr>
          <a:xfrm>
            <a:off x="485640" y="952560"/>
            <a:ext cx="8172000" cy="3704760"/>
          </a:xfrm>
          <a:prstGeom prst="roundRect">
            <a:avLst>
              <a:gd name="adj" fmla="val 6851"/>
            </a:avLst>
          </a:prstGeom>
          <a:noFill/>
          <a:ln>
            <a:solidFill>
              <a:srgbClr val="f37f1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思源黑体 CN Bold"/>
              <a:ea typeface="思源黑体 CN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" descr="图片包含 户外, 水, 狗, 动物&#10;&#10;描述已自动生成"/>
          <p:cNvPicPr/>
          <p:nvPr/>
        </p:nvPicPr>
        <p:blipFill>
          <a:blip r:embed="rId1"/>
          <a:stretch/>
        </p:blipFill>
        <p:spPr>
          <a:xfrm flipH="1">
            <a:off x="360" y="0"/>
            <a:ext cx="4730400" cy="5142960"/>
          </a:xfrm>
          <a:prstGeom prst="rect">
            <a:avLst/>
          </a:prstGeom>
          <a:ln w="0">
            <a:noFill/>
          </a:ln>
        </p:spPr>
      </p:pic>
      <p:sp>
        <p:nvSpPr>
          <p:cNvPr id="86" name="任意多边形 8"/>
          <p:cNvSpPr/>
          <p:nvPr/>
        </p:nvSpPr>
        <p:spPr>
          <a:xfrm>
            <a:off x="3510360" y="0"/>
            <a:ext cx="5510880" cy="5143320"/>
          </a:xfrm>
          <a:custGeom>
            <a:avLst/>
            <a:gdLst>
              <a:gd name="textAreaLeft" fmla="*/ 0 w 5510880"/>
              <a:gd name="textAreaRight" fmla="*/ 5511240 w 551088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7538266" h="6858000">
                <a:moveTo>
                  <a:pt x="0" y="0"/>
                </a:moveTo>
                <a:lnTo>
                  <a:pt x="7538266" y="0"/>
                </a:lnTo>
                <a:lnTo>
                  <a:pt x="7538266" y="6858000"/>
                </a:lnTo>
                <a:lnTo>
                  <a:pt x="693537" y="6858000"/>
                </a:lnTo>
                <a:lnTo>
                  <a:pt x="703596" y="6836266"/>
                </a:lnTo>
                <a:cubicBezTo>
                  <a:pt x="1234611" y="5616365"/>
                  <a:pt x="1382502" y="4063556"/>
                  <a:pt x="1021405" y="2466986"/>
                </a:cubicBezTo>
                <a:cubicBezTo>
                  <a:pt x="818288" y="1568916"/>
                  <a:pt x="475756" y="752647"/>
                  <a:pt x="36177" y="54994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bfbfb"/>
              </a:solidFill>
              <a:latin typeface="思源黑体 CN Bold"/>
              <a:ea typeface="思源黑体 CN Bold"/>
            </a:endParaRPr>
          </a:p>
        </p:txBody>
      </p:sp>
      <p:sp>
        <p:nvSpPr>
          <p:cNvPr id="87" name="任意多边形 7"/>
          <p:cNvSpPr/>
          <p:nvPr/>
        </p:nvSpPr>
        <p:spPr>
          <a:xfrm>
            <a:off x="3892680" y="0"/>
            <a:ext cx="5250960" cy="5143320"/>
          </a:xfrm>
          <a:custGeom>
            <a:avLst/>
            <a:gdLst>
              <a:gd name="textAreaLeft" fmla="*/ 0 w 5250960"/>
              <a:gd name="textAreaRight" fmla="*/ 5251320 w 525096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7028428" h="6858000">
                <a:moveTo>
                  <a:pt x="0" y="0"/>
                </a:moveTo>
                <a:lnTo>
                  <a:pt x="7028428" y="0"/>
                </a:lnTo>
                <a:lnTo>
                  <a:pt x="7028428" y="6858000"/>
                </a:lnTo>
                <a:lnTo>
                  <a:pt x="227908" y="6858000"/>
                </a:lnTo>
                <a:lnTo>
                  <a:pt x="232152" y="6848557"/>
                </a:lnTo>
                <a:cubicBezTo>
                  <a:pt x="627018" y="5921543"/>
                  <a:pt x="854405" y="4833313"/>
                  <a:pt x="854405" y="3669323"/>
                </a:cubicBezTo>
                <a:cubicBezTo>
                  <a:pt x="854405" y="2293699"/>
                  <a:pt x="536815" y="1023887"/>
                  <a:pt x="521" y="947"/>
                </a:cubicBezTo>
                <a:close/>
              </a:path>
            </a:pathLst>
          </a:custGeom>
          <a:gradFill rotWithShape="0">
            <a:gsLst>
              <a:gs pos="0">
                <a:srgbClr val="f5ad14"/>
              </a:gs>
              <a:gs pos="100000">
                <a:srgbClr val="f01d06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Light"/>
              <a:ea typeface="宋体"/>
            </a:endParaRPr>
          </a:p>
        </p:txBody>
      </p:sp>
      <p:pic>
        <p:nvPicPr>
          <p:cNvPr id="88" name="图片 7" descr=""/>
          <p:cNvPicPr/>
          <p:nvPr/>
        </p:nvPicPr>
        <p:blipFill>
          <a:blip r:embed="rId2"/>
          <a:stretch/>
        </p:blipFill>
        <p:spPr>
          <a:xfrm>
            <a:off x="8568720" y="1412280"/>
            <a:ext cx="574920" cy="2331720"/>
          </a:xfrm>
          <a:prstGeom prst="rect">
            <a:avLst/>
          </a:prstGeom>
          <a:ln w="0">
            <a:noFill/>
          </a:ln>
        </p:spPr>
      </p:pic>
      <p:sp>
        <p:nvSpPr>
          <p:cNvPr id="89" name="椭圆 10"/>
          <p:cNvSpPr/>
          <p:nvPr/>
        </p:nvSpPr>
        <p:spPr>
          <a:xfrm>
            <a:off x="460440" y="549000"/>
            <a:ext cx="303480" cy="303480"/>
          </a:xfrm>
          <a:prstGeom prst="ellipse">
            <a:avLst/>
          </a:prstGeom>
          <a:solidFill>
            <a:schemeClr val="bg1"/>
          </a:soli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Light"/>
              <a:ea typeface="宋体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-603720" y="3744360"/>
            <a:ext cx="2015280" cy="2015280"/>
          </a:xfrm>
          <a:prstGeom prst="ellipse">
            <a:avLst/>
          </a:prstGeom>
          <a:gradFill rotWithShape="0">
            <a:gsLst>
              <a:gs pos="0">
                <a:srgbClr val="f5ad14"/>
              </a:gs>
              <a:gs pos="100000">
                <a:srgbClr val="f01d06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Light"/>
              <a:ea typeface="宋体"/>
            </a:endParaRPr>
          </a:p>
        </p:txBody>
      </p:sp>
      <p:grpSp>
        <p:nvGrpSpPr>
          <p:cNvPr id="91" name="组合 29"/>
          <p:cNvGrpSpPr/>
          <p:nvPr/>
        </p:nvGrpSpPr>
        <p:grpSpPr>
          <a:xfrm>
            <a:off x="7488000" y="168120"/>
            <a:ext cx="1489320" cy="713880"/>
            <a:chOff x="7488000" y="168120"/>
            <a:chExt cx="1489320" cy="713880"/>
          </a:xfrm>
        </p:grpSpPr>
        <p:grpSp>
          <p:nvGrpSpPr>
            <p:cNvPr id="92" name="组合 30"/>
            <p:cNvGrpSpPr/>
            <p:nvPr/>
          </p:nvGrpSpPr>
          <p:grpSpPr>
            <a:xfrm>
              <a:off x="8263080" y="168120"/>
              <a:ext cx="714240" cy="713880"/>
              <a:chOff x="8263080" y="168120"/>
              <a:chExt cx="714240" cy="713880"/>
            </a:xfrm>
          </p:grpSpPr>
          <p:sp>
            <p:nvSpPr>
              <p:cNvPr id="93" name="Oval 5"/>
              <p:cNvSpPr/>
              <p:nvPr/>
            </p:nvSpPr>
            <p:spPr>
              <a:xfrm rot="2700000">
                <a:off x="8668440" y="571320"/>
                <a:ext cx="3564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94" name="Freeform 6"/>
              <p:cNvSpPr/>
              <p:nvPr/>
            </p:nvSpPr>
            <p:spPr>
              <a:xfrm rot="2700000">
                <a:off x="8798400" y="70272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4" y="0"/>
                      <a:pt x="1" y="3"/>
                      <a:pt x="1" y="8"/>
                    </a:cubicBezTo>
                    <a:cubicBezTo>
                      <a:pt x="0" y="12"/>
                      <a:pt x="4" y="15"/>
                      <a:pt x="8" y="16"/>
                    </a:cubicBezTo>
                    <a:cubicBezTo>
                      <a:pt x="13" y="16"/>
                      <a:pt x="16" y="12"/>
                      <a:pt x="16" y="8"/>
                    </a:cubicBezTo>
                    <a:cubicBezTo>
                      <a:pt x="16" y="4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95" name="Oval 7"/>
              <p:cNvSpPr/>
              <p:nvPr/>
            </p:nvSpPr>
            <p:spPr>
              <a:xfrm rot="2700000">
                <a:off x="8930520" y="834840"/>
                <a:ext cx="3852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96" name="Oval 8"/>
              <p:cNvSpPr/>
              <p:nvPr/>
            </p:nvSpPr>
            <p:spPr>
              <a:xfrm rot="2700000">
                <a:off x="8270640" y="308160"/>
                <a:ext cx="3852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97" name="Freeform 9"/>
              <p:cNvSpPr/>
              <p:nvPr/>
            </p:nvSpPr>
            <p:spPr>
              <a:xfrm rot="2700000">
                <a:off x="8402760" y="440280"/>
                <a:ext cx="38520" cy="367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98" name="Freeform 10"/>
              <p:cNvSpPr/>
              <p:nvPr/>
            </p:nvSpPr>
            <p:spPr>
              <a:xfrm rot="2700000">
                <a:off x="8534880" y="572400"/>
                <a:ext cx="38520" cy="367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4" y="15"/>
                      <a:pt x="8" y="15"/>
                    </a:cubicBez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99" name="Freeform 11"/>
              <p:cNvSpPr/>
              <p:nvPr/>
            </p:nvSpPr>
            <p:spPr>
              <a:xfrm rot="2700000">
                <a:off x="8667360" y="7034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1"/>
                    </a:moveTo>
                    <a:cubicBezTo>
                      <a:pt x="4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3"/>
                      <a:pt x="15" y="9"/>
                    </a:cubicBezTo>
                    <a:cubicBezTo>
                      <a:pt x="16" y="4"/>
                      <a:pt x="13" y="1"/>
                      <a:pt x="8" y="1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00" name="Oval 12"/>
              <p:cNvSpPr/>
              <p:nvPr/>
            </p:nvSpPr>
            <p:spPr>
              <a:xfrm rot="2700000">
                <a:off x="8799480" y="836280"/>
                <a:ext cx="3564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01" name="Oval 13"/>
              <p:cNvSpPr/>
              <p:nvPr/>
            </p:nvSpPr>
            <p:spPr>
              <a:xfrm rot="2700000">
                <a:off x="8272800" y="439560"/>
                <a:ext cx="3564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02" name="Freeform 14"/>
              <p:cNvSpPr/>
              <p:nvPr/>
            </p:nvSpPr>
            <p:spPr>
              <a:xfrm rot="2700000">
                <a:off x="8404200" y="57132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0" y="7"/>
                    </a:moveTo>
                    <a:cubicBezTo>
                      <a:pt x="0" y="12"/>
                      <a:pt x="3" y="15"/>
                      <a:pt x="7" y="15"/>
                    </a:cubicBezTo>
                    <a:cubicBezTo>
                      <a:pt x="11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03" name="Freeform 15"/>
              <p:cNvSpPr/>
              <p:nvPr/>
            </p:nvSpPr>
            <p:spPr>
              <a:xfrm rot="2700000">
                <a:off x="8536320" y="7038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04" name="Freeform 16"/>
              <p:cNvSpPr/>
              <p:nvPr/>
            </p:nvSpPr>
            <p:spPr>
              <a:xfrm rot="2700000">
                <a:off x="8666280" y="8348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4" y="0"/>
                      <a:pt x="0" y="3"/>
                      <a:pt x="1" y="8"/>
                    </a:cubicBezTo>
                    <a:cubicBezTo>
                      <a:pt x="1" y="12"/>
                      <a:pt x="4" y="16"/>
                      <a:pt x="8" y="15"/>
                    </a:cubicBezTo>
                    <a:cubicBezTo>
                      <a:pt x="13" y="15"/>
                      <a:pt x="16" y="12"/>
                      <a:pt x="16" y="8"/>
                    </a:cubicBezTo>
                    <a:cubicBezTo>
                      <a:pt x="16" y="3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05" name="Freeform 17"/>
              <p:cNvSpPr/>
              <p:nvPr/>
            </p:nvSpPr>
            <p:spPr>
              <a:xfrm rot="2700000">
                <a:off x="8271000" y="57132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16"/>
                    </a:moveTo>
                    <a:cubicBezTo>
                      <a:pt x="12" y="16"/>
                      <a:pt x="16" y="13"/>
                      <a:pt x="16" y="8"/>
                    </a:cubicBez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06" name="Freeform 18"/>
              <p:cNvSpPr/>
              <p:nvPr/>
            </p:nvSpPr>
            <p:spPr>
              <a:xfrm rot="2700000">
                <a:off x="8403120" y="7034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1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  <a:cubicBezTo>
                      <a:pt x="13" y="16"/>
                      <a:pt x="16" y="13"/>
                      <a:pt x="16" y="8"/>
                    </a:cubicBezTo>
                    <a:cubicBezTo>
                      <a:pt x="16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07" name="Freeform 19"/>
              <p:cNvSpPr/>
              <p:nvPr/>
            </p:nvSpPr>
            <p:spPr>
              <a:xfrm rot="2700000">
                <a:off x="8535240" y="83556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8" y="16"/>
                    </a:cubicBezTo>
                    <a:cubicBezTo>
                      <a:pt x="12" y="16"/>
                      <a:pt x="15" y="13"/>
                      <a:pt x="15" y="8"/>
                    </a:cubicBezTo>
                    <a:cubicBezTo>
                      <a:pt x="16" y="4"/>
                      <a:pt x="12" y="1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08" name="Freeform 20"/>
              <p:cNvSpPr/>
              <p:nvPr/>
            </p:nvSpPr>
            <p:spPr>
              <a:xfrm rot="2700000">
                <a:off x="8272440" y="704520"/>
                <a:ext cx="35640" cy="356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15"/>
                    </a:moveTo>
                    <a:cubicBezTo>
                      <a:pt x="12" y="15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09" name="Freeform 21"/>
              <p:cNvSpPr/>
              <p:nvPr/>
            </p:nvSpPr>
            <p:spPr>
              <a:xfrm rot="2700000">
                <a:off x="8404560" y="836640"/>
                <a:ext cx="35640" cy="356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10" name="Freeform 22"/>
              <p:cNvSpPr/>
              <p:nvPr/>
            </p:nvSpPr>
            <p:spPr>
              <a:xfrm rot="2700000">
                <a:off x="8271000" y="83556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  <a:cubicBezTo>
                      <a:pt x="12" y="16"/>
                      <a:pt x="16" y="12"/>
                      <a:pt x="16" y="8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11" name="Freeform 23"/>
              <p:cNvSpPr/>
              <p:nvPr/>
            </p:nvSpPr>
            <p:spPr>
              <a:xfrm rot="2700000">
                <a:off x="8667360" y="17640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3" y="15"/>
                      <a:pt x="16" y="12"/>
                      <a:pt x="16" y="7"/>
                    </a:cubicBezTo>
                    <a:cubicBezTo>
                      <a:pt x="16" y="3"/>
                      <a:pt x="12" y="0"/>
                      <a:pt x="8" y="0"/>
                    </a:cubicBezTo>
                    <a:cubicBezTo>
                      <a:pt x="4" y="0"/>
                      <a:pt x="0" y="3"/>
                      <a:pt x="0" y="8"/>
                    </a:cubicBezTo>
                    <a:cubicBezTo>
                      <a:pt x="0" y="12"/>
                      <a:pt x="4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12" name="Freeform 24"/>
              <p:cNvSpPr/>
              <p:nvPr/>
            </p:nvSpPr>
            <p:spPr>
              <a:xfrm rot="2700000">
                <a:off x="879948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13" name="Freeform 25"/>
              <p:cNvSpPr/>
              <p:nvPr/>
            </p:nvSpPr>
            <p:spPr>
              <a:xfrm rot="2700000">
                <a:off x="8931600" y="44064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  <a:cubicBezTo>
                      <a:pt x="12" y="15"/>
                      <a:pt x="15" y="12"/>
                      <a:pt x="15" y="8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14" name="Freeform 26"/>
              <p:cNvSpPr/>
              <p:nvPr/>
            </p:nvSpPr>
            <p:spPr>
              <a:xfrm rot="2700000">
                <a:off x="8536320" y="17496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16"/>
                    </a:move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7" y="0"/>
                    </a:cubicBezTo>
                    <a:cubicBezTo>
                      <a:pt x="3" y="0"/>
                      <a:pt x="0" y="4"/>
                      <a:pt x="0" y="8"/>
                    </a:cubicBezTo>
                    <a:cubicBezTo>
                      <a:pt x="0" y="13"/>
                      <a:pt x="3" y="16"/>
                      <a:pt x="8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15" name="Freeform 27"/>
              <p:cNvSpPr/>
              <p:nvPr/>
            </p:nvSpPr>
            <p:spPr>
              <a:xfrm rot="2700000">
                <a:off x="8668440" y="30708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16" name="Freeform 28"/>
              <p:cNvSpPr/>
              <p:nvPr/>
            </p:nvSpPr>
            <p:spPr>
              <a:xfrm rot="2700000">
                <a:off x="8800560" y="4392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4"/>
                      <a:pt x="12" y="0"/>
                      <a:pt x="7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17" name="Freeform 29"/>
              <p:cNvSpPr/>
              <p:nvPr/>
            </p:nvSpPr>
            <p:spPr>
              <a:xfrm rot="2700000">
                <a:off x="8932680" y="57132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7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18" name="Oval 30"/>
              <p:cNvSpPr/>
              <p:nvPr/>
            </p:nvSpPr>
            <p:spPr>
              <a:xfrm rot="2700000">
                <a:off x="8403120" y="176400"/>
                <a:ext cx="3852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 rot="2700000">
                <a:off x="853524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4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 rot="2700000">
                <a:off x="8667360" y="44064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  <a:cubicBezTo>
                      <a:pt x="12" y="15"/>
                      <a:pt x="15" y="12"/>
                      <a:pt x="16" y="8"/>
                    </a:cubicBezTo>
                    <a:cubicBezTo>
                      <a:pt x="16" y="3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21" name="Oval 33"/>
              <p:cNvSpPr/>
              <p:nvPr/>
            </p:nvSpPr>
            <p:spPr>
              <a:xfrm rot="2700000">
                <a:off x="8799840" y="571680"/>
                <a:ext cx="3564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22" name="Oval 34"/>
              <p:cNvSpPr/>
              <p:nvPr/>
            </p:nvSpPr>
            <p:spPr>
              <a:xfrm rot="2700000">
                <a:off x="8931960" y="704160"/>
                <a:ext cx="3564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23" name="Oval 35"/>
              <p:cNvSpPr/>
              <p:nvPr/>
            </p:nvSpPr>
            <p:spPr>
              <a:xfrm rot="2700000">
                <a:off x="8272080" y="174960"/>
                <a:ext cx="3564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 rot="2700000">
                <a:off x="8404200" y="30708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16"/>
                    </a:moveTo>
                    <a:cubicBezTo>
                      <a:pt x="12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5"/>
                      <a:pt x="7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 rot="2700000">
                <a:off x="8536320" y="4392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26" name="Freeform 24"/>
              <p:cNvSpPr/>
              <p:nvPr/>
            </p:nvSpPr>
            <p:spPr>
              <a:xfrm rot="2700000">
                <a:off x="892656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27" name="Freeform 24"/>
              <p:cNvSpPr/>
              <p:nvPr/>
            </p:nvSpPr>
            <p:spPr>
              <a:xfrm rot="2700000">
                <a:off x="8926560" y="1771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 rot="2700000">
                <a:off x="8799480" y="1771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</p:grpSp>
        <p:grpSp>
          <p:nvGrpSpPr>
            <p:cNvPr id="129" name="组合 31"/>
            <p:cNvGrpSpPr/>
            <p:nvPr/>
          </p:nvGrpSpPr>
          <p:grpSpPr>
            <a:xfrm>
              <a:off x="7488000" y="168120"/>
              <a:ext cx="714240" cy="713880"/>
              <a:chOff x="7488000" y="168120"/>
              <a:chExt cx="714240" cy="713880"/>
            </a:xfrm>
          </p:grpSpPr>
          <p:sp>
            <p:nvSpPr>
              <p:cNvPr id="130" name="Oval 5"/>
              <p:cNvSpPr/>
              <p:nvPr/>
            </p:nvSpPr>
            <p:spPr>
              <a:xfrm rot="2700000">
                <a:off x="7893360" y="571320"/>
                <a:ext cx="3564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rot="2700000">
                <a:off x="8023320" y="70272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4" y="0"/>
                      <a:pt x="1" y="3"/>
                      <a:pt x="1" y="8"/>
                    </a:cubicBezTo>
                    <a:cubicBezTo>
                      <a:pt x="0" y="12"/>
                      <a:pt x="4" y="15"/>
                      <a:pt x="8" y="16"/>
                    </a:cubicBezTo>
                    <a:cubicBezTo>
                      <a:pt x="13" y="16"/>
                      <a:pt x="16" y="12"/>
                      <a:pt x="16" y="8"/>
                    </a:cubicBezTo>
                    <a:cubicBezTo>
                      <a:pt x="16" y="4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32" name="Oval 7"/>
              <p:cNvSpPr/>
              <p:nvPr/>
            </p:nvSpPr>
            <p:spPr>
              <a:xfrm rot="2700000">
                <a:off x="8155440" y="834840"/>
                <a:ext cx="3852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33" name="Oval 8"/>
              <p:cNvSpPr/>
              <p:nvPr/>
            </p:nvSpPr>
            <p:spPr>
              <a:xfrm rot="2700000">
                <a:off x="7495560" y="308160"/>
                <a:ext cx="3852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rot="2700000">
                <a:off x="7627680" y="440280"/>
                <a:ext cx="38520" cy="367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rot="2700000">
                <a:off x="7759800" y="572400"/>
                <a:ext cx="38520" cy="367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4" y="15"/>
                      <a:pt x="8" y="15"/>
                    </a:cubicBez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36" name="Freeform 11"/>
              <p:cNvSpPr/>
              <p:nvPr/>
            </p:nvSpPr>
            <p:spPr>
              <a:xfrm rot="2700000">
                <a:off x="7892280" y="7034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1"/>
                    </a:moveTo>
                    <a:cubicBezTo>
                      <a:pt x="4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3"/>
                      <a:pt x="15" y="9"/>
                    </a:cubicBezTo>
                    <a:cubicBezTo>
                      <a:pt x="16" y="4"/>
                      <a:pt x="13" y="1"/>
                      <a:pt x="8" y="1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37" name="Oval 12"/>
              <p:cNvSpPr/>
              <p:nvPr/>
            </p:nvSpPr>
            <p:spPr>
              <a:xfrm rot="2700000">
                <a:off x="8024400" y="836280"/>
                <a:ext cx="3564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38" name="Oval 13"/>
              <p:cNvSpPr/>
              <p:nvPr/>
            </p:nvSpPr>
            <p:spPr>
              <a:xfrm rot="2700000">
                <a:off x="7497720" y="439560"/>
                <a:ext cx="3564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 rot="2700000">
                <a:off x="7629120" y="57132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0" y="7"/>
                    </a:moveTo>
                    <a:cubicBezTo>
                      <a:pt x="0" y="12"/>
                      <a:pt x="3" y="15"/>
                      <a:pt x="7" y="15"/>
                    </a:cubicBezTo>
                    <a:cubicBezTo>
                      <a:pt x="11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 rot="2700000">
                <a:off x="7761240" y="7038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 rot="2700000">
                <a:off x="7891200" y="8348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4" y="0"/>
                      <a:pt x="0" y="3"/>
                      <a:pt x="1" y="8"/>
                    </a:cubicBezTo>
                    <a:cubicBezTo>
                      <a:pt x="1" y="12"/>
                      <a:pt x="4" y="16"/>
                      <a:pt x="8" y="15"/>
                    </a:cubicBezTo>
                    <a:cubicBezTo>
                      <a:pt x="13" y="15"/>
                      <a:pt x="16" y="12"/>
                      <a:pt x="16" y="8"/>
                    </a:cubicBezTo>
                    <a:cubicBezTo>
                      <a:pt x="16" y="3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 rot="2700000">
                <a:off x="7495920" y="57132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16"/>
                    </a:moveTo>
                    <a:cubicBezTo>
                      <a:pt x="12" y="16"/>
                      <a:pt x="16" y="13"/>
                      <a:pt x="16" y="8"/>
                    </a:cubicBez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43" name="Freeform 18"/>
              <p:cNvSpPr/>
              <p:nvPr/>
            </p:nvSpPr>
            <p:spPr>
              <a:xfrm rot="2700000">
                <a:off x="7628040" y="7034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1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  <a:cubicBezTo>
                      <a:pt x="13" y="16"/>
                      <a:pt x="16" y="13"/>
                      <a:pt x="16" y="8"/>
                    </a:cubicBezTo>
                    <a:cubicBezTo>
                      <a:pt x="16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2700000">
                <a:off x="7760160" y="83556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8" y="16"/>
                    </a:cubicBezTo>
                    <a:cubicBezTo>
                      <a:pt x="12" y="16"/>
                      <a:pt x="15" y="13"/>
                      <a:pt x="15" y="8"/>
                    </a:cubicBezTo>
                    <a:cubicBezTo>
                      <a:pt x="16" y="4"/>
                      <a:pt x="12" y="1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2700000">
                <a:off x="7497360" y="704520"/>
                <a:ext cx="35640" cy="356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15"/>
                    </a:moveTo>
                    <a:cubicBezTo>
                      <a:pt x="12" y="15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46" name="Freeform 21"/>
              <p:cNvSpPr/>
              <p:nvPr/>
            </p:nvSpPr>
            <p:spPr>
              <a:xfrm rot="2700000">
                <a:off x="7629480" y="836640"/>
                <a:ext cx="35640" cy="356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47" name="Freeform 22"/>
              <p:cNvSpPr/>
              <p:nvPr/>
            </p:nvSpPr>
            <p:spPr>
              <a:xfrm rot="2700000">
                <a:off x="7495920" y="83556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  <a:cubicBezTo>
                      <a:pt x="12" y="16"/>
                      <a:pt x="16" y="12"/>
                      <a:pt x="16" y="8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2700000">
                <a:off x="7892280" y="17640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3" y="15"/>
                      <a:pt x="16" y="12"/>
                      <a:pt x="16" y="7"/>
                    </a:cubicBezTo>
                    <a:cubicBezTo>
                      <a:pt x="16" y="3"/>
                      <a:pt x="12" y="0"/>
                      <a:pt x="8" y="0"/>
                    </a:cubicBezTo>
                    <a:cubicBezTo>
                      <a:pt x="4" y="0"/>
                      <a:pt x="0" y="3"/>
                      <a:pt x="0" y="8"/>
                    </a:cubicBezTo>
                    <a:cubicBezTo>
                      <a:pt x="0" y="12"/>
                      <a:pt x="4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2700000">
                <a:off x="802440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50" name="Freeform 25"/>
              <p:cNvSpPr/>
              <p:nvPr/>
            </p:nvSpPr>
            <p:spPr>
              <a:xfrm rot="2700000">
                <a:off x="8156520" y="44064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  <a:cubicBezTo>
                      <a:pt x="12" y="15"/>
                      <a:pt x="15" y="12"/>
                      <a:pt x="15" y="8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51" name="Freeform 26"/>
              <p:cNvSpPr/>
              <p:nvPr/>
            </p:nvSpPr>
            <p:spPr>
              <a:xfrm rot="2700000">
                <a:off x="7761240" y="17496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16"/>
                    </a:move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7" y="0"/>
                    </a:cubicBezTo>
                    <a:cubicBezTo>
                      <a:pt x="3" y="0"/>
                      <a:pt x="0" y="4"/>
                      <a:pt x="0" y="8"/>
                    </a:cubicBezTo>
                    <a:cubicBezTo>
                      <a:pt x="0" y="13"/>
                      <a:pt x="3" y="16"/>
                      <a:pt x="8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2700000">
                <a:off x="7893360" y="30708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2700000">
                <a:off x="8025480" y="4392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4"/>
                      <a:pt x="12" y="0"/>
                      <a:pt x="7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54" name="Freeform 29"/>
              <p:cNvSpPr/>
              <p:nvPr/>
            </p:nvSpPr>
            <p:spPr>
              <a:xfrm rot="2700000">
                <a:off x="8157600" y="57132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7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55" name="Oval 30"/>
              <p:cNvSpPr/>
              <p:nvPr/>
            </p:nvSpPr>
            <p:spPr>
              <a:xfrm rot="2700000">
                <a:off x="7628040" y="176400"/>
                <a:ext cx="3852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rot="2700000">
                <a:off x="776016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4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rot="2700000">
                <a:off x="7892280" y="44064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  <a:cubicBezTo>
                      <a:pt x="12" y="15"/>
                      <a:pt x="15" y="12"/>
                      <a:pt x="16" y="8"/>
                    </a:cubicBezTo>
                    <a:cubicBezTo>
                      <a:pt x="16" y="3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58" name="Oval 33"/>
              <p:cNvSpPr/>
              <p:nvPr/>
            </p:nvSpPr>
            <p:spPr>
              <a:xfrm rot="2700000">
                <a:off x="8024760" y="571680"/>
                <a:ext cx="3564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59" name="Oval 34"/>
              <p:cNvSpPr/>
              <p:nvPr/>
            </p:nvSpPr>
            <p:spPr>
              <a:xfrm rot="2700000">
                <a:off x="8156880" y="704160"/>
                <a:ext cx="3564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60" name="Oval 35"/>
              <p:cNvSpPr/>
              <p:nvPr/>
            </p:nvSpPr>
            <p:spPr>
              <a:xfrm rot="2700000">
                <a:off x="7497000" y="174960"/>
                <a:ext cx="3564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rot="2700000">
                <a:off x="7629120" y="30708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16"/>
                    </a:moveTo>
                    <a:cubicBezTo>
                      <a:pt x="12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5"/>
                      <a:pt x="7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62" name="Freeform 37"/>
              <p:cNvSpPr/>
              <p:nvPr/>
            </p:nvSpPr>
            <p:spPr>
              <a:xfrm rot="2700000">
                <a:off x="7761240" y="4392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63" name="Freeform 24"/>
              <p:cNvSpPr/>
              <p:nvPr/>
            </p:nvSpPr>
            <p:spPr>
              <a:xfrm rot="2700000">
                <a:off x="815148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64" name="Freeform 24"/>
              <p:cNvSpPr/>
              <p:nvPr/>
            </p:nvSpPr>
            <p:spPr>
              <a:xfrm rot="2700000">
                <a:off x="8151480" y="1771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165" name="Freeform 24"/>
              <p:cNvSpPr/>
              <p:nvPr/>
            </p:nvSpPr>
            <p:spPr>
              <a:xfrm rot="2700000">
                <a:off x="8024400" y="1771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</p:grpSp>
      </p:grpSp>
      <p:grpSp>
        <p:nvGrpSpPr>
          <p:cNvPr id="166" name="组合 11"/>
          <p:cNvGrpSpPr/>
          <p:nvPr/>
        </p:nvGrpSpPr>
        <p:grpSpPr>
          <a:xfrm>
            <a:off x="3892680" y="4111560"/>
            <a:ext cx="848160" cy="848160"/>
            <a:chOff x="3892680" y="4111560"/>
            <a:chExt cx="848160" cy="848160"/>
          </a:xfrm>
        </p:grpSpPr>
        <p:sp>
          <p:nvSpPr>
            <p:cNvPr id="167" name="Freeform 41"/>
            <p:cNvSpPr/>
            <p:nvPr/>
          </p:nvSpPr>
          <p:spPr>
            <a:xfrm flipH="1">
              <a:off x="4528080" y="4166640"/>
              <a:ext cx="158040" cy="159840"/>
            </a:xfrm>
            <a:custGeom>
              <a:avLst/>
              <a:gdLst>
                <a:gd name="textAreaLeft" fmla="*/ -360 w 158040"/>
                <a:gd name="textAreaRight" fmla="*/ 158040 w 1580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66" h="67">
                  <a:moveTo>
                    <a:pt x="0" y="67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55" y="7"/>
                    <a:pt x="44" y="15"/>
                    <a:pt x="34" y="2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15" y="44"/>
                    <a:pt x="7" y="55"/>
                    <a:pt x="0" y="6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68" name="Freeform 42"/>
            <p:cNvSpPr/>
            <p:nvPr/>
          </p:nvSpPr>
          <p:spPr>
            <a:xfrm flipH="1">
              <a:off x="4401000" y="4121280"/>
              <a:ext cx="332280" cy="329760"/>
            </a:xfrm>
            <a:custGeom>
              <a:avLst/>
              <a:gdLst>
                <a:gd name="textAreaLeft" fmla="*/ -360 w 332280"/>
                <a:gd name="textAreaRight" fmla="*/ 332280 w 33228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139" h="138">
                  <a:moveTo>
                    <a:pt x="0" y="138"/>
                  </a:moveTo>
                  <a:cubicBezTo>
                    <a:pt x="139" y="0"/>
                    <a:pt x="139" y="0"/>
                    <a:pt x="139" y="0"/>
                  </a:cubicBezTo>
                  <a:cubicBezTo>
                    <a:pt x="135" y="0"/>
                    <a:pt x="131" y="1"/>
                    <a:pt x="128" y="2"/>
                  </a:cubicBezTo>
                  <a:cubicBezTo>
                    <a:pt x="3" y="127"/>
                    <a:pt x="3" y="127"/>
                    <a:pt x="3" y="127"/>
                  </a:cubicBezTo>
                  <a:cubicBezTo>
                    <a:pt x="2" y="131"/>
                    <a:pt x="1" y="135"/>
                    <a:pt x="0" y="138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69" name="Freeform 43"/>
            <p:cNvSpPr/>
            <p:nvPr/>
          </p:nvSpPr>
          <p:spPr>
            <a:xfrm flipH="1">
              <a:off x="4316040" y="4111560"/>
              <a:ext cx="424800" cy="427320"/>
            </a:xfrm>
            <a:custGeom>
              <a:avLst/>
              <a:gdLst>
                <a:gd name="textAreaLeft" fmla="*/ 360 w 424800"/>
                <a:gd name="textAreaRight" fmla="*/ 425520 w 42480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78" h="179">
                  <a:moveTo>
                    <a:pt x="0" y="178"/>
                  </a:moveTo>
                  <a:cubicBezTo>
                    <a:pt x="0" y="178"/>
                    <a:pt x="0" y="178"/>
                    <a:pt x="0" y="179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78" y="0"/>
                    <a:pt x="178" y="0"/>
                    <a:pt x="177" y="0"/>
                  </a:cubicBezTo>
                  <a:cubicBezTo>
                    <a:pt x="175" y="0"/>
                    <a:pt x="172" y="0"/>
                    <a:pt x="170" y="0"/>
                  </a:cubicBezTo>
                  <a:cubicBezTo>
                    <a:pt x="0" y="170"/>
                    <a:pt x="0" y="170"/>
                    <a:pt x="0" y="170"/>
                  </a:cubicBezTo>
                  <a:cubicBezTo>
                    <a:pt x="0" y="172"/>
                    <a:pt x="0" y="175"/>
                    <a:pt x="0" y="178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70" name="Freeform 44"/>
            <p:cNvSpPr/>
            <p:nvPr/>
          </p:nvSpPr>
          <p:spPr>
            <a:xfrm flipH="1">
              <a:off x="4240800" y="4115880"/>
              <a:ext cx="495000" cy="495000"/>
            </a:xfrm>
            <a:custGeom>
              <a:avLst/>
              <a:gdLst>
                <a:gd name="textAreaLeft" fmla="*/ -360 w 495000"/>
                <a:gd name="textAreaRight" fmla="*/ 495000 w 4950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07" h="207">
                  <a:moveTo>
                    <a:pt x="1" y="207"/>
                  </a:moveTo>
                  <a:cubicBezTo>
                    <a:pt x="207" y="1"/>
                    <a:pt x="207" y="1"/>
                    <a:pt x="207" y="1"/>
                  </a:cubicBezTo>
                  <a:cubicBezTo>
                    <a:pt x="204" y="1"/>
                    <a:pt x="202" y="0"/>
                    <a:pt x="199" y="0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0" y="204"/>
                    <a:pt x="1" y="20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71" name="Freeform 45"/>
            <p:cNvSpPr/>
            <p:nvPr/>
          </p:nvSpPr>
          <p:spPr>
            <a:xfrm flipH="1">
              <a:off x="4179240" y="4130280"/>
              <a:ext cx="545760" cy="543240"/>
            </a:xfrm>
            <a:custGeom>
              <a:avLst/>
              <a:gdLst>
                <a:gd name="textAreaLeft" fmla="*/ 360 w 545760"/>
                <a:gd name="textAreaRight" fmla="*/ 546480 w 54576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228" h="227">
                  <a:moveTo>
                    <a:pt x="2" y="227"/>
                  </a:moveTo>
                  <a:cubicBezTo>
                    <a:pt x="228" y="2"/>
                    <a:pt x="228" y="2"/>
                    <a:pt x="228" y="2"/>
                  </a:cubicBezTo>
                  <a:cubicBezTo>
                    <a:pt x="226" y="1"/>
                    <a:pt x="223" y="0"/>
                    <a:pt x="221" y="0"/>
                  </a:cubicBezTo>
                  <a:cubicBezTo>
                    <a:pt x="0" y="220"/>
                    <a:pt x="0" y="220"/>
                    <a:pt x="0" y="220"/>
                  </a:cubicBezTo>
                  <a:cubicBezTo>
                    <a:pt x="1" y="223"/>
                    <a:pt x="2" y="225"/>
                    <a:pt x="2" y="22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72" name="Freeform 46"/>
            <p:cNvSpPr/>
            <p:nvPr/>
          </p:nvSpPr>
          <p:spPr>
            <a:xfrm flipH="1">
              <a:off x="4123440" y="4151520"/>
              <a:ext cx="578520" cy="576000"/>
            </a:xfrm>
            <a:custGeom>
              <a:avLst/>
              <a:gdLst>
                <a:gd name="textAreaLeft" fmla="*/ -360 w 578520"/>
                <a:gd name="textAreaRight" fmla="*/ 578520 w 57852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242" h="241">
                  <a:moveTo>
                    <a:pt x="3" y="241"/>
                  </a:moveTo>
                  <a:cubicBezTo>
                    <a:pt x="242" y="2"/>
                    <a:pt x="242" y="2"/>
                    <a:pt x="242" y="2"/>
                  </a:cubicBezTo>
                  <a:cubicBezTo>
                    <a:pt x="240" y="1"/>
                    <a:pt x="238" y="1"/>
                    <a:pt x="236" y="0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1" y="237"/>
                    <a:pt x="2" y="239"/>
                    <a:pt x="3" y="241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73" name="Freeform 47"/>
            <p:cNvSpPr/>
            <p:nvPr/>
          </p:nvSpPr>
          <p:spPr>
            <a:xfrm flipH="1">
              <a:off x="4076280" y="4178160"/>
              <a:ext cx="597240" cy="600120"/>
            </a:xfrm>
            <a:custGeom>
              <a:avLst/>
              <a:gdLst>
                <a:gd name="textAreaLeft" fmla="*/ -360 w 597240"/>
                <a:gd name="textAreaRight" fmla="*/ 597240 w 59724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250" h="251">
                  <a:moveTo>
                    <a:pt x="4" y="251"/>
                  </a:moveTo>
                  <a:cubicBezTo>
                    <a:pt x="250" y="4"/>
                    <a:pt x="250" y="4"/>
                    <a:pt x="250" y="4"/>
                  </a:cubicBezTo>
                  <a:cubicBezTo>
                    <a:pt x="249" y="3"/>
                    <a:pt x="247" y="1"/>
                    <a:pt x="245" y="0"/>
                  </a:cubicBezTo>
                  <a:cubicBezTo>
                    <a:pt x="0" y="245"/>
                    <a:pt x="0" y="245"/>
                    <a:pt x="0" y="245"/>
                  </a:cubicBezTo>
                  <a:cubicBezTo>
                    <a:pt x="1" y="247"/>
                    <a:pt x="2" y="249"/>
                    <a:pt x="4" y="251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74" name="Freeform 48"/>
            <p:cNvSpPr/>
            <p:nvPr/>
          </p:nvSpPr>
          <p:spPr>
            <a:xfrm flipH="1">
              <a:off x="4030920" y="4212000"/>
              <a:ext cx="608760" cy="608760"/>
            </a:xfrm>
            <a:custGeom>
              <a:avLst/>
              <a:gdLst>
                <a:gd name="textAreaLeft" fmla="*/ -360 w 608760"/>
                <a:gd name="textAreaRight" fmla="*/ 608760 w 60876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255" h="255">
                  <a:moveTo>
                    <a:pt x="4" y="255"/>
                  </a:moveTo>
                  <a:cubicBezTo>
                    <a:pt x="255" y="4"/>
                    <a:pt x="255" y="4"/>
                    <a:pt x="255" y="4"/>
                  </a:cubicBezTo>
                  <a:cubicBezTo>
                    <a:pt x="253" y="3"/>
                    <a:pt x="252" y="2"/>
                    <a:pt x="250" y="0"/>
                  </a:cubicBezTo>
                  <a:cubicBezTo>
                    <a:pt x="0" y="250"/>
                    <a:pt x="0" y="250"/>
                    <a:pt x="0" y="250"/>
                  </a:cubicBezTo>
                  <a:cubicBezTo>
                    <a:pt x="1" y="252"/>
                    <a:pt x="3" y="253"/>
                    <a:pt x="4" y="255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75" name="Freeform 49"/>
            <p:cNvSpPr/>
            <p:nvPr/>
          </p:nvSpPr>
          <p:spPr>
            <a:xfrm flipH="1">
              <a:off x="3992400" y="4250160"/>
              <a:ext cx="608760" cy="608760"/>
            </a:xfrm>
            <a:custGeom>
              <a:avLst/>
              <a:gdLst>
                <a:gd name="textAreaLeft" fmla="*/ -360 w 608760"/>
                <a:gd name="textAreaRight" fmla="*/ 608760 w 60876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255" h="255">
                  <a:moveTo>
                    <a:pt x="5" y="255"/>
                  </a:moveTo>
                  <a:cubicBezTo>
                    <a:pt x="255" y="5"/>
                    <a:pt x="255" y="5"/>
                    <a:pt x="255" y="5"/>
                  </a:cubicBezTo>
                  <a:cubicBezTo>
                    <a:pt x="253" y="4"/>
                    <a:pt x="252" y="2"/>
                    <a:pt x="251" y="0"/>
                  </a:cubicBezTo>
                  <a:cubicBezTo>
                    <a:pt x="0" y="251"/>
                    <a:pt x="0" y="251"/>
                    <a:pt x="0" y="251"/>
                  </a:cubicBezTo>
                  <a:cubicBezTo>
                    <a:pt x="2" y="252"/>
                    <a:pt x="3" y="254"/>
                    <a:pt x="5" y="255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76" name="Freeform 50"/>
            <p:cNvSpPr/>
            <p:nvPr/>
          </p:nvSpPr>
          <p:spPr>
            <a:xfrm flipH="1">
              <a:off x="3958920" y="4295520"/>
              <a:ext cx="597240" cy="597240"/>
            </a:xfrm>
            <a:custGeom>
              <a:avLst/>
              <a:gdLst>
                <a:gd name="textAreaLeft" fmla="*/ -360 w 597240"/>
                <a:gd name="textAreaRight" fmla="*/ 597240 w 597240"/>
                <a:gd name="textAreaTop" fmla="*/ 0 h 597240"/>
                <a:gd name="textAreaBottom" fmla="*/ 597600 h 597240"/>
              </a:gdLst>
              <a:ahLst/>
              <a:rect l="textAreaLeft" t="textAreaTop" r="textAreaRight" b="textAreaBottom"/>
              <a:pathLst>
                <a:path w="250" h="250">
                  <a:moveTo>
                    <a:pt x="5" y="250"/>
                  </a:moveTo>
                  <a:cubicBezTo>
                    <a:pt x="250" y="5"/>
                    <a:pt x="250" y="5"/>
                    <a:pt x="250" y="5"/>
                  </a:cubicBezTo>
                  <a:cubicBezTo>
                    <a:pt x="249" y="3"/>
                    <a:pt x="247" y="2"/>
                    <a:pt x="246" y="0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1" y="248"/>
                    <a:pt x="3" y="249"/>
                    <a:pt x="5" y="25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77" name="Freeform 51"/>
            <p:cNvSpPr/>
            <p:nvPr/>
          </p:nvSpPr>
          <p:spPr>
            <a:xfrm flipH="1">
              <a:off x="3931920" y="4343760"/>
              <a:ext cx="577080" cy="577800"/>
            </a:xfrm>
            <a:custGeom>
              <a:avLst/>
              <a:gdLst>
                <a:gd name="textAreaLeft" fmla="*/ -360 w 577080"/>
                <a:gd name="textAreaRight" fmla="*/ 577080 w 5770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241" h="242">
                  <a:moveTo>
                    <a:pt x="6" y="242"/>
                  </a:moveTo>
                  <a:cubicBezTo>
                    <a:pt x="241" y="6"/>
                    <a:pt x="241" y="6"/>
                    <a:pt x="241" y="6"/>
                  </a:cubicBezTo>
                  <a:cubicBezTo>
                    <a:pt x="241" y="4"/>
                    <a:pt x="240" y="2"/>
                    <a:pt x="239" y="0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2" y="240"/>
                    <a:pt x="4" y="241"/>
                    <a:pt x="6" y="242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78" name="Freeform 52"/>
            <p:cNvSpPr/>
            <p:nvPr/>
          </p:nvSpPr>
          <p:spPr>
            <a:xfrm flipH="1">
              <a:off x="3910680" y="4400640"/>
              <a:ext cx="543240" cy="542160"/>
            </a:xfrm>
            <a:custGeom>
              <a:avLst/>
              <a:gdLst>
                <a:gd name="textAreaLeft" fmla="*/ -360 w 543240"/>
                <a:gd name="textAreaRight" fmla="*/ 543240 w 543240"/>
                <a:gd name="textAreaTop" fmla="*/ 0 h 542160"/>
                <a:gd name="textAreaBottom" fmla="*/ 542520 h 542160"/>
              </a:gdLst>
              <a:ahLst/>
              <a:rect l="textAreaLeft" t="textAreaTop" r="textAreaRight" b="textAreaBottom"/>
              <a:pathLst>
                <a:path w="227" h="227">
                  <a:moveTo>
                    <a:pt x="7" y="227"/>
                  </a:moveTo>
                  <a:cubicBezTo>
                    <a:pt x="227" y="6"/>
                    <a:pt x="227" y="6"/>
                    <a:pt x="227" y="6"/>
                  </a:cubicBezTo>
                  <a:cubicBezTo>
                    <a:pt x="227" y="4"/>
                    <a:pt x="226" y="2"/>
                    <a:pt x="225" y="0"/>
                  </a:cubicBezTo>
                  <a:cubicBezTo>
                    <a:pt x="0" y="225"/>
                    <a:pt x="0" y="225"/>
                    <a:pt x="0" y="225"/>
                  </a:cubicBezTo>
                  <a:cubicBezTo>
                    <a:pt x="2" y="225"/>
                    <a:pt x="5" y="226"/>
                    <a:pt x="7" y="22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79" name="Freeform 53"/>
            <p:cNvSpPr/>
            <p:nvPr/>
          </p:nvSpPr>
          <p:spPr>
            <a:xfrm flipH="1">
              <a:off x="3896640" y="4462920"/>
              <a:ext cx="495000" cy="492480"/>
            </a:xfrm>
            <a:custGeom>
              <a:avLst/>
              <a:gdLst>
                <a:gd name="textAreaLeft" fmla="*/ -360 w 495000"/>
                <a:gd name="textAreaRight" fmla="*/ 495000 w 495000"/>
                <a:gd name="textAreaTop" fmla="*/ 0 h 492480"/>
                <a:gd name="textAreaBottom" fmla="*/ 492840 h 492480"/>
              </a:gdLst>
              <a:ahLst/>
              <a:rect l="textAreaLeft" t="textAreaTop" r="textAreaRight" b="textAreaBottom"/>
              <a:pathLst>
                <a:path w="207" h="206">
                  <a:moveTo>
                    <a:pt x="8" y="206"/>
                  </a:moveTo>
                  <a:cubicBezTo>
                    <a:pt x="207" y="7"/>
                    <a:pt x="207" y="7"/>
                    <a:pt x="207" y="7"/>
                  </a:cubicBezTo>
                  <a:cubicBezTo>
                    <a:pt x="207" y="5"/>
                    <a:pt x="206" y="2"/>
                    <a:pt x="206" y="0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3" y="206"/>
                    <a:pt x="5" y="206"/>
                    <a:pt x="8" y="206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80" name="Freeform 54"/>
            <p:cNvSpPr/>
            <p:nvPr/>
          </p:nvSpPr>
          <p:spPr>
            <a:xfrm flipH="1">
              <a:off x="3892680" y="4534920"/>
              <a:ext cx="424800" cy="424800"/>
            </a:xfrm>
            <a:custGeom>
              <a:avLst/>
              <a:gdLst>
                <a:gd name="textAreaLeft" fmla="*/ 360 w 424800"/>
                <a:gd name="textAreaRight" fmla="*/ 425520 w 42480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78" h="178">
                  <a:moveTo>
                    <a:pt x="0" y="178"/>
                  </a:moveTo>
                  <a:cubicBezTo>
                    <a:pt x="3" y="178"/>
                    <a:pt x="6" y="178"/>
                    <a:pt x="9" y="178"/>
                  </a:cubicBezTo>
                  <a:cubicBezTo>
                    <a:pt x="178" y="9"/>
                    <a:pt x="178" y="9"/>
                    <a:pt x="178" y="9"/>
                  </a:cubicBezTo>
                  <a:cubicBezTo>
                    <a:pt x="178" y="6"/>
                    <a:pt x="178" y="3"/>
                    <a:pt x="178" y="1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0" y="178"/>
                    <a:pt x="0" y="178"/>
                    <a:pt x="0" y="178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81" name="Freeform 55"/>
            <p:cNvSpPr/>
            <p:nvPr/>
          </p:nvSpPr>
          <p:spPr>
            <a:xfrm flipH="1">
              <a:off x="3901680" y="462024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38" h="138">
                  <a:moveTo>
                    <a:pt x="12" y="136"/>
                  </a:moveTo>
                  <a:cubicBezTo>
                    <a:pt x="135" y="12"/>
                    <a:pt x="135" y="12"/>
                    <a:pt x="135" y="12"/>
                  </a:cubicBezTo>
                  <a:cubicBezTo>
                    <a:pt x="136" y="8"/>
                    <a:pt x="137" y="4"/>
                    <a:pt x="138" y="0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4" y="138"/>
                    <a:pt x="8" y="137"/>
                    <a:pt x="12" y="136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182" name="Freeform 56"/>
            <p:cNvSpPr/>
            <p:nvPr/>
          </p:nvSpPr>
          <p:spPr>
            <a:xfrm flipH="1">
              <a:off x="3948840" y="4750200"/>
              <a:ext cx="155160" cy="15264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5" h="64">
                  <a:moveTo>
                    <a:pt x="65" y="0"/>
                  </a:moveTo>
                  <a:cubicBezTo>
                    <a:pt x="0" y="64"/>
                    <a:pt x="0" y="64"/>
                    <a:pt x="0" y="64"/>
                  </a:cubicBezTo>
                  <a:cubicBezTo>
                    <a:pt x="27" y="49"/>
                    <a:pt x="49" y="26"/>
                    <a:pt x="65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</p:grpSp>
      <p:sp>
        <p:nvSpPr>
          <p:cNvPr id="183" name="椭圆 104"/>
          <p:cNvSpPr/>
          <p:nvPr/>
        </p:nvSpPr>
        <p:spPr>
          <a:xfrm>
            <a:off x="4214880" y="4360320"/>
            <a:ext cx="870120" cy="870120"/>
          </a:xfrm>
          <a:prstGeom prst="ellipse">
            <a:avLst/>
          </a:prstGeom>
          <a:noFill/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bfbfb"/>
              </a:solidFill>
              <a:latin typeface="思源黑体 CN Bold"/>
              <a:ea typeface="思源黑体 CN Bold"/>
            </a:endParaRPr>
          </a:p>
        </p:txBody>
      </p:sp>
      <p:sp>
        <p:nvSpPr>
          <p:cNvPr id="184" name="椭圆 105"/>
          <p:cNvSpPr/>
          <p:nvPr/>
        </p:nvSpPr>
        <p:spPr>
          <a:xfrm>
            <a:off x="8484840" y="-475200"/>
            <a:ext cx="1073160" cy="1073160"/>
          </a:xfrm>
          <a:prstGeom prst="ellipse">
            <a:avLst/>
          </a:prstGeom>
          <a:noFill/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bfbfb"/>
              </a:solidFill>
              <a:latin typeface="思源黑体 CN Bold"/>
              <a:ea typeface="思源黑体 CN Bold"/>
            </a:endParaRPr>
          </a:p>
        </p:txBody>
      </p:sp>
      <p:sp>
        <p:nvSpPr>
          <p:cNvPr id="185" name="文本框 3" hidden="1"/>
          <p:cNvSpPr/>
          <p:nvPr/>
        </p:nvSpPr>
        <p:spPr>
          <a:xfrm>
            <a:off x="0" y="112320"/>
            <a:ext cx="1571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Y YUS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126"/>
          <p:cNvGrpSpPr/>
          <p:nvPr/>
        </p:nvGrpSpPr>
        <p:grpSpPr>
          <a:xfrm>
            <a:off x="4674240" y="1281960"/>
            <a:ext cx="3853080" cy="2014920"/>
            <a:chOff x="4674240" y="1281960"/>
            <a:chExt cx="3853080" cy="2014920"/>
          </a:xfrm>
        </p:grpSpPr>
        <p:sp>
          <p:nvSpPr>
            <p:cNvPr id="187" name="文本框 127"/>
            <p:cNvSpPr/>
            <p:nvPr/>
          </p:nvSpPr>
          <p:spPr>
            <a:xfrm>
              <a:off x="4674960" y="1281960"/>
              <a:ext cx="196128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300" spc="-114" strike="noStrike">
                  <a:solidFill>
                    <a:srgbClr val="ffffff"/>
                  </a:solidFill>
                  <a:latin typeface="胡晓波真帅体"/>
                  <a:ea typeface="胡晓波真帅体"/>
                </a:rPr>
                <a:t>二年级下册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128"/>
            <p:cNvSpPr/>
            <p:nvPr/>
          </p:nvSpPr>
          <p:spPr>
            <a:xfrm>
              <a:off x="4674240" y="1760040"/>
              <a:ext cx="385308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7200" spc="-1" strike="noStrike">
                  <a:solidFill>
                    <a:srgbClr val="ffffff"/>
                  </a:solidFill>
                  <a:latin typeface="胡晓波真帅体"/>
                  <a:ea typeface="胡晓波真帅体"/>
                </a:rPr>
                <a:t>小马过河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129"/>
            <p:cNvSpPr/>
            <p:nvPr/>
          </p:nvSpPr>
          <p:spPr>
            <a:xfrm>
              <a:off x="4684320" y="2979000"/>
              <a:ext cx="220212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部编版语文课件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直接连接符 130"/>
            <p:cNvCxnSpPr/>
            <p:nvPr/>
          </p:nvCxnSpPr>
          <p:spPr>
            <a:xfrm>
              <a:off x="4752360" y="2936160"/>
              <a:ext cx="37681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191" name="矩形 113"/>
          <p:cNvSpPr/>
          <p:nvPr/>
        </p:nvSpPr>
        <p:spPr>
          <a:xfrm>
            <a:off x="5233680" y="4026240"/>
            <a:ext cx="29732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文本框 38"/>
          <p:cNvSpPr/>
          <p:nvPr/>
        </p:nvSpPr>
        <p:spPr>
          <a:xfrm>
            <a:off x="7007400" y="1082520"/>
            <a:ext cx="1035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10"/>
          <p:cNvSpPr/>
          <p:nvPr/>
        </p:nvSpPr>
        <p:spPr>
          <a:xfrm>
            <a:off x="354960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3"/>
          <p:cNvSpPr/>
          <p:nvPr/>
        </p:nvSpPr>
        <p:spPr>
          <a:xfrm>
            <a:off x="4352400" y="1714680"/>
            <a:ext cx="44316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上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意思   心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知道这个词的意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立”最后一横长，“日”稍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心”三点呼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75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49"/>
          <p:cNvSpPr/>
          <p:nvPr/>
        </p:nvSpPr>
        <p:spPr>
          <a:xfrm>
            <a:off x="1657800" y="3084840"/>
            <a:ext cx="137880" cy="337680"/>
          </a:xfrm>
          <a:custGeom>
            <a:avLst/>
            <a:gdLst>
              <a:gd name="textAreaLeft" fmla="*/ 0 w 137880"/>
              <a:gd name="textAreaRight" fmla="*/ 138240 w 137880"/>
              <a:gd name="textAreaTop" fmla="*/ 0 h 337680"/>
              <a:gd name="textAreaBottom" fmla="*/ 338040 h 337680"/>
            </a:gdLst>
            <a:ahLst/>
            <a:rect l="textAreaLeft" t="textAreaTop" r="textAreaRight" b="textAreaBottom"/>
            <a:pathLst>
              <a:path w="288" h="710">
                <a:moveTo>
                  <a:pt x="288" y="51"/>
                </a:moveTo>
                <a:lnTo>
                  <a:pt x="288" y="85"/>
                </a:lnTo>
                <a:lnTo>
                  <a:pt x="288" y="119"/>
                </a:lnTo>
                <a:lnTo>
                  <a:pt x="288" y="169"/>
                </a:lnTo>
                <a:lnTo>
                  <a:pt x="288" y="237"/>
                </a:lnTo>
                <a:lnTo>
                  <a:pt x="288" y="372"/>
                </a:lnTo>
                <a:lnTo>
                  <a:pt x="272" y="423"/>
                </a:lnTo>
                <a:lnTo>
                  <a:pt x="255" y="490"/>
                </a:lnTo>
                <a:lnTo>
                  <a:pt x="204" y="575"/>
                </a:lnTo>
                <a:lnTo>
                  <a:pt x="187" y="626"/>
                </a:lnTo>
                <a:lnTo>
                  <a:pt x="153" y="659"/>
                </a:lnTo>
                <a:lnTo>
                  <a:pt x="136" y="676"/>
                </a:lnTo>
                <a:lnTo>
                  <a:pt x="102" y="693"/>
                </a:lnTo>
                <a:lnTo>
                  <a:pt x="85" y="710"/>
                </a:lnTo>
                <a:lnTo>
                  <a:pt x="68" y="710"/>
                </a:lnTo>
                <a:lnTo>
                  <a:pt x="51" y="693"/>
                </a:lnTo>
                <a:lnTo>
                  <a:pt x="51" y="676"/>
                </a:lnTo>
                <a:lnTo>
                  <a:pt x="34" y="642"/>
                </a:lnTo>
                <a:lnTo>
                  <a:pt x="17" y="609"/>
                </a:lnTo>
                <a:lnTo>
                  <a:pt x="17" y="575"/>
                </a:lnTo>
                <a:lnTo>
                  <a:pt x="0" y="541"/>
                </a:lnTo>
                <a:lnTo>
                  <a:pt x="0" y="507"/>
                </a:lnTo>
                <a:lnTo>
                  <a:pt x="0" y="490"/>
                </a:lnTo>
                <a:lnTo>
                  <a:pt x="17" y="457"/>
                </a:lnTo>
                <a:lnTo>
                  <a:pt x="51" y="406"/>
                </a:lnTo>
                <a:lnTo>
                  <a:pt x="85" y="372"/>
                </a:lnTo>
                <a:lnTo>
                  <a:pt x="119" y="321"/>
                </a:lnTo>
                <a:lnTo>
                  <a:pt x="136" y="254"/>
                </a:lnTo>
                <a:lnTo>
                  <a:pt x="170" y="169"/>
                </a:lnTo>
                <a:lnTo>
                  <a:pt x="204" y="85"/>
                </a:lnTo>
                <a:lnTo>
                  <a:pt x="221" y="34"/>
                </a:lnTo>
                <a:lnTo>
                  <a:pt x="238" y="0"/>
                </a:lnTo>
                <a:lnTo>
                  <a:pt x="255" y="0"/>
                </a:lnTo>
                <a:lnTo>
                  <a:pt x="272" y="0"/>
                </a:lnTo>
                <a:lnTo>
                  <a:pt x="272" y="17"/>
                </a:lnTo>
                <a:lnTo>
                  <a:pt x="288" y="5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1108800" y="1714320"/>
            <a:ext cx="2160000" cy="2160000"/>
            <a:chOff x="1108800" y="1714320"/>
            <a:chExt cx="2160000" cy="2160000"/>
          </a:xfrm>
        </p:grpSpPr>
        <p:sp>
          <p:nvSpPr>
            <p:cNvPr id="278" name="Rectangle 5"/>
            <p:cNvSpPr/>
            <p:nvPr/>
          </p:nvSpPr>
          <p:spPr>
            <a:xfrm>
              <a:off x="2188800" y="278568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>
              <a:off x="1108800" y="278568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>
              <a:off x="2188800" y="171468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>
              <a:off x="1108800" y="171468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282" name="Line 9"/>
            <p:cNvSpPr/>
            <p:nvPr/>
          </p:nvSpPr>
          <p:spPr>
            <a:xfrm>
              <a:off x="1108800" y="171432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0"/>
            <p:cNvSpPr/>
            <p:nvPr/>
          </p:nvSpPr>
          <p:spPr>
            <a:xfrm>
              <a:off x="1108800" y="387396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1"/>
            <p:cNvSpPr/>
            <p:nvPr/>
          </p:nvSpPr>
          <p:spPr>
            <a:xfrm>
              <a:off x="1108800" y="171432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3268440" y="171432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1108800" y="2785320"/>
              <a:ext cx="215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2188440" y="1714320"/>
              <a:ext cx="360" cy="215964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Freeform 47"/>
          <p:cNvSpPr/>
          <p:nvPr/>
        </p:nvSpPr>
        <p:spPr>
          <a:xfrm>
            <a:off x="1795680" y="2707560"/>
            <a:ext cx="177120" cy="361440"/>
          </a:xfrm>
          <a:custGeom>
            <a:avLst/>
            <a:gdLst>
              <a:gd name="textAreaLeft" fmla="*/ 0 w 177120"/>
              <a:gd name="textAreaRight" fmla="*/ 177480 w 177120"/>
              <a:gd name="textAreaTop" fmla="*/ 0 h 361440"/>
              <a:gd name="textAreaBottom" fmla="*/ 361800 h 361440"/>
            </a:gdLst>
            <a:ahLst/>
            <a:rect l="textAreaLeft" t="textAreaTop" r="textAreaRight" b="textAreaBottom"/>
            <a:pathLst>
              <a:path w="373" h="761">
                <a:moveTo>
                  <a:pt x="322" y="761"/>
                </a:moveTo>
                <a:lnTo>
                  <a:pt x="305" y="761"/>
                </a:lnTo>
                <a:lnTo>
                  <a:pt x="305" y="744"/>
                </a:lnTo>
                <a:lnTo>
                  <a:pt x="288" y="727"/>
                </a:lnTo>
                <a:lnTo>
                  <a:pt x="272" y="693"/>
                </a:lnTo>
                <a:lnTo>
                  <a:pt x="255" y="642"/>
                </a:lnTo>
                <a:lnTo>
                  <a:pt x="221" y="592"/>
                </a:lnTo>
                <a:lnTo>
                  <a:pt x="204" y="524"/>
                </a:lnTo>
                <a:lnTo>
                  <a:pt x="170" y="440"/>
                </a:lnTo>
                <a:lnTo>
                  <a:pt x="153" y="372"/>
                </a:lnTo>
                <a:lnTo>
                  <a:pt x="119" y="304"/>
                </a:lnTo>
                <a:lnTo>
                  <a:pt x="102" y="237"/>
                </a:lnTo>
                <a:lnTo>
                  <a:pt x="85" y="186"/>
                </a:lnTo>
                <a:lnTo>
                  <a:pt x="68" y="136"/>
                </a:lnTo>
                <a:lnTo>
                  <a:pt x="51" y="102"/>
                </a:lnTo>
                <a:lnTo>
                  <a:pt x="34" y="85"/>
                </a:lnTo>
                <a:lnTo>
                  <a:pt x="17" y="68"/>
                </a:lnTo>
                <a:lnTo>
                  <a:pt x="0" y="34"/>
                </a:lnTo>
                <a:lnTo>
                  <a:pt x="0" y="17"/>
                </a:lnTo>
                <a:lnTo>
                  <a:pt x="0" y="0"/>
                </a:lnTo>
                <a:lnTo>
                  <a:pt x="34" y="0"/>
                </a:lnTo>
                <a:lnTo>
                  <a:pt x="68" y="0"/>
                </a:lnTo>
                <a:lnTo>
                  <a:pt x="119" y="0"/>
                </a:lnTo>
                <a:lnTo>
                  <a:pt x="204" y="17"/>
                </a:lnTo>
                <a:lnTo>
                  <a:pt x="238" y="152"/>
                </a:lnTo>
                <a:lnTo>
                  <a:pt x="272" y="271"/>
                </a:lnTo>
                <a:lnTo>
                  <a:pt x="305" y="389"/>
                </a:lnTo>
                <a:lnTo>
                  <a:pt x="322" y="473"/>
                </a:lnTo>
                <a:lnTo>
                  <a:pt x="339" y="541"/>
                </a:lnTo>
                <a:lnTo>
                  <a:pt x="356" y="609"/>
                </a:lnTo>
                <a:lnTo>
                  <a:pt x="373" y="642"/>
                </a:lnTo>
                <a:lnTo>
                  <a:pt x="373" y="676"/>
                </a:lnTo>
                <a:lnTo>
                  <a:pt x="373" y="710"/>
                </a:lnTo>
                <a:lnTo>
                  <a:pt x="356" y="727"/>
                </a:lnTo>
                <a:lnTo>
                  <a:pt x="356" y="744"/>
                </a:lnTo>
                <a:lnTo>
                  <a:pt x="322" y="76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89" name="Freeform 48"/>
          <p:cNvSpPr/>
          <p:nvPr/>
        </p:nvSpPr>
        <p:spPr>
          <a:xfrm>
            <a:off x="1883880" y="3084840"/>
            <a:ext cx="766440" cy="402120"/>
          </a:xfrm>
          <a:custGeom>
            <a:avLst/>
            <a:gdLst>
              <a:gd name="textAreaLeft" fmla="*/ 0 w 766440"/>
              <a:gd name="textAreaRight" fmla="*/ 766800 w 766440"/>
              <a:gd name="textAreaTop" fmla="*/ 0 h 402120"/>
              <a:gd name="textAreaBottom" fmla="*/ 402480 h 402120"/>
            </a:gdLst>
            <a:ahLst/>
            <a:rect l="textAreaLeft" t="textAreaTop" r="textAreaRight" b="textAreaBottom"/>
            <a:pathLst>
              <a:path w="1609" h="845">
                <a:moveTo>
                  <a:pt x="1304" y="372"/>
                </a:moveTo>
                <a:lnTo>
                  <a:pt x="1372" y="423"/>
                </a:lnTo>
                <a:lnTo>
                  <a:pt x="1440" y="474"/>
                </a:lnTo>
                <a:lnTo>
                  <a:pt x="1508" y="524"/>
                </a:lnTo>
                <a:lnTo>
                  <a:pt x="1542" y="541"/>
                </a:lnTo>
                <a:lnTo>
                  <a:pt x="1592" y="558"/>
                </a:lnTo>
                <a:lnTo>
                  <a:pt x="1609" y="592"/>
                </a:lnTo>
                <a:lnTo>
                  <a:pt x="1609" y="609"/>
                </a:lnTo>
                <a:lnTo>
                  <a:pt x="1592" y="659"/>
                </a:lnTo>
                <a:lnTo>
                  <a:pt x="1592" y="676"/>
                </a:lnTo>
                <a:lnTo>
                  <a:pt x="1559" y="693"/>
                </a:lnTo>
                <a:lnTo>
                  <a:pt x="1525" y="710"/>
                </a:lnTo>
                <a:lnTo>
                  <a:pt x="1474" y="727"/>
                </a:lnTo>
                <a:lnTo>
                  <a:pt x="1406" y="761"/>
                </a:lnTo>
                <a:lnTo>
                  <a:pt x="1338" y="795"/>
                </a:lnTo>
                <a:lnTo>
                  <a:pt x="1254" y="811"/>
                </a:lnTo>
                <a:lnTo>
                  <a:pt x="1169" y="828"/>
                </a:lnTo>
                <a:lnTo>
                  <a:pt x="1067" y="845"/>
                </a:lnTo>
                <a:lnTo>
                  <a:pt x="982" y="845"/>
                </a:lnTo>
                <a:lnTo>
                  <a:pt x="796" y="811"/>
                </a:lnTo>
                <a:lnTo>
                  <a:pt x="711" y="795"/>
                </a:lnTo>
                <a:lnTo>
                  <a:pt x="644" y="778"/>
                </a:lnTo>
                <a:lnTo>
                  <a:pt x="559" y="744"/>
                </a:lnTo>
                <a:lnTo>
                  <a:pt x="474" y="693"/>
                </a:lnTo>
                <a:lnTo>
                  <a:pt x="406" y="642"/>
                </a:lnTo>
                <a:lnTo>
                  <a:pt x="322" y="575"/>
                </a:lnTo>
                <a:lnTo>
                  <a:pt x="254" y="507"/>
                </a:lnTo>
                <a:lnTo>
                  <a:pt x="186" y="423"/>
                </a:lnTo>
                <a:lnTo>
                  <a:pt x="118" y="338"/>
                </a:lnTo>
                <a:lnTo>
                  <a:pt x="68" y="237"/>
                </a:lnTo>
                <a:lnTo>
                  <a:pt x="51" y="186"/>
                </a:lnTo>
                <a:lnTo>
                  <a:pt x="34" y="136"/>
                </a:lnTo>
                <a:lnTo>
                  <a:pt x="17" y="68"/>
                </a:lnTo>
                <a:lnTo>
                  <a:pt x="0" y="34"/>
                </a:lnTo>
                <a:lnTo>
                  <a:pt x="17" y="0"/>
                </a:lnTo>
                <a:lnTo>
                  <a:pt x="51" y="34"/>
                </a:lnTo>
                <a:lnTo>
                  <a:pt x="85" y="68"/>
                </a:lnTo>
                <a:lnTo>
                  <a:pt x="118" y="136"/>
                </a:lnTo>
                <a:lnTo>
                  <a:pt x="203" y="271"/>
                </a:lnTo>
                <a:lnTo>
                  <a:pt x="271" y="321"/>
                </a:lnTo>
                <a:lnTo>
                  <a:pt x="322" y="372"/>
                </a:lnTo>
                <a:lnTo>
                  <a:pt x="389" y="440"/>
                </a:lnTo>
                <a:lnTo>
                  <a:pt x="457" y="474"/>
                </a:lnTo>
                <a:lnTo>
                  <a:pt x="525" y="524"/>
                </a:lnTo>
                <a:lnTo>
                  <a:pt x="610" y="541"/>
                </a:lnTo>
                <a:lnTo>
                  <a:pt x="745" y="592"/>
                </a:lnTo>
                <a:lnTo>
                  <a:pt x="898" y="626"/>
                </a:lnTo>
                <a:lnTo>
                  <a:pt x="949" y="626"/>
                </a:lnTo>
                <a:lnTo>
                  <a:pt x="1016" y="626"/>
                </a:lnTo>
                <a:lnTo>
                  <a:pt x="1135" y="609"/>
                </a:lnTo>
                <a:lnTo>
                  <a:pt x="1169" y="609"/>
                </a:lnTo>
                <a:lnTo>
                  <a:pt x="1203" y="592"/>
                </a:lnTo>
                <a:lnTo>
                  <a:pt x="1237" y="575"/>
                </a:lnTo>
                <a:lnTo>
                  <a:pt x="1254" y="558"/>
                </a:lnTo>
                <a:lnTo>
                  <a:pt x="1254" y="541"/>
                </a:lnTo>
                <a:lnTo>
                  <a:pt x="1237" y="507"/>
                </a:lnTo>
                <a:lnTo>
                  <a:pt x="1220" y="440"/>
                </a:lnTo>
                <a:lnTo>
                  <a:pt x="1186" y="372"/>
                </a:lnTo>
                <a:lnTo>
                  <a:pt x="1152" y="288"/>
                </a:lnTo>
                <a:lnTo>
                  <a:pt x="1118" y="254"/>
                </a:lnTo>
                <a:lnTo>
                  <a:pt x="1118" y="220"/>
                </a:lnTo>
                <a:lnTo>
                  <a:pt x="1118" y="203"/>
                </a:lnTo>
                <a:lnTo>
                  <a:pt x="1135" y="220"/>
                </a:lnTo>
                <a:lnTo>
                  <a:pt x="1169" y="254"/>
                </a:lnTo>
                <a:lnTo>
                  <a:pt x="1220" y="288"/>
                </a:lnTo>
                <a:lnTo>
                  <a:pt x="1304" y="37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0" name="Freeform 53"/>
          <p:cNvSpPr/>
          <p:nvPr/>
        </p:nvSpPr>
        <p:spPr>
          <a:xfrm>
            <a:off x="2069640" y="2039400"/>
            <a:ext cx="209160" cy="160200"/>
          </a:xfrm>
          <a:custGeom>
            <a:avLst/>
            <a:gdLst>
              <a:gd name="textAreaLeft" fmla="*/ 0 w 209160"/>
              <a:gd name="textAreaRight" fmla="*/ 209520 w 2091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441" h="338">
                <a:moveTo>
                  <a:pt x="0" y="34"/>
                </a:moveTo>
                <a:lnTo>
                  <a:pt x="17" y="17"/>
                </a:lnTo>
                <a:lnTo>
                  <a:pt x="34" y="17"/>
                </a:lnTo>
                <a:lnTo>
                  <a:pt x="68" y="0"/>
                </a:lnTo>
                <a:lnTo>
                  <a:pt x="102" y="0"/>
                </a:lnTo>
                <a:lnTo>
                  <a:pt x="136" y="0"/>
                </a:lnTo>
                <a:lnTo>
                  <a:pt x="187" y="17"/>
                </a:lnTo>
                <a:lnTo>
                  <a:pt x="238" y="34"/>
                </a:lnTo>
                <a:lnTo>
                  <a:pt x="305" y="51"/>
                </a:lnTo>
                <a:lnTo>
                  <a:pt x="356" y="84"/>
                </a:lnTo>
                <a:lnTo>
                  <a:pt x="390" y="118"/>
                </a:lnTo>
                <a:lnTo>
                  <a:pt x="424" y="152"/>
                </a:lnTo>
                <a:lnTo>
                  <a:pt x="441" y="169"/>
                </a:lnTo>
                <a:lnTo>
                  <a:pt x="441" y="203"/>
                </a:lnTo>
                <a:lnTo>
                  <a:pt x="441" y="237"/>
                </a:lnTo>
                <a:lnTo>
                  <a:pt x="424" y="287"/>
                </a:lnTo>
                <a:lnTo>
                  <a:pt x="373" y="321"/>
                </a:lnTo>
                <a:lnTo>
                  <a:pt x="339" y="338"/>
                </a:lnTo>
                <a:lnTo>
                  <a:pt x="322" y="321"/>
                </a:lnTo>
                <a:lnTo>
                  <a:pt x="289" y="304"/>
                </a:lnTo>
                <a:lnTo>
                  <a:pt x="255" y="287"/>
                </a:lnTo>
                <a:lnTo>
                  <a:pt x="221" y="237"/>
                </a:lnTo>
                <a:lnTo>
                  <a:pt x="136" y="169"/>
                </a:lnTo>
                <a:lnTo>
                  <a:pt x="68" y="101"/>
                </a:lnTo>
                <a:lnTo>
                  <a:pt x="34" y="84"/>
                </a:lnTo>
                <a:lnTo>
                  <a:pt x="17" y="51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1" name="Freeform 54"/>
          <p:cNvSpPr/>
          <p:nvPr/>
        </p:nvSpPr>
        <p:spPr>
          <a:xfrm>
            <a:off x="1795680" y="2192040"/>
            <a:ext cx="741240" cy="144720"/>
          </a:xfrm>
          <a:custGeom>
            <a:avLst/>
            <a:gdLst>
              <a:gd name="textAreaLeft" fmla="*/ 0 w 741240"/>
              <a:gd name="textAreaRight" fmla="*/ 741600 w 7412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1559" h="304">
                <a:moveTo>
                  <a:pt x="1373" y="135"/>
                </a:moveTo>
                <a:lnTo>
                  <a:pt x="1271" y="152"/>
                </a:lnTo>
                <a:lnTo>
                  <a:pt x="1169" y="169"/>
                </a:lnTo>
                <a:lnTo>
                  <a:pt x="1051" y="186"/>
                </a:lnTo>
                <a:lnTo>
                  <a:pt x="915" y="203"/>
                </a:lnTo>
                <a:lnTo>
                  <a:pt x="780" y="237"/>
                </a:lnTo>
                <a:lnTo>
                  <a:pt x="661" y="253"/>
                </a:lnTo>
                <a:lnTo>
                  <a:pt x="543" y="270"/>
                </a:lnTo>
                <a:lnTo>
                  <a:pt x="441" y="270"/>
                </a:lnTo>
                <a:lnTo>
                  <a:pt x="339" y="287"/>
                </a:lnTo>
                <a:lnTo>
                  <a:pt x="255" y="304"/>
                </a:lnTo>
                <a:lnTo>
                  <a:pt x="204" y="287"/>
                </a:lnTo>
                <a:lnTo>
                  <a:pt x="153" y="287"/>
                </a:lnTo>
                <a:lnTo>
                  <a:pt x="119" y="270"/>
                </a:lnTo>
                <a:lnTo>
                  <a:pt x="85" y="253"/>
                </a:lnTo>
                <a:lnTo>
                  <a:pt x="51" y="237"/>
                </a:lnTo>
                <a:lnTo>
                  <a:pt x="0" y="203"/>
                </a:lnTo>
                <a:lnTo>
                  <a:pt x="424" y="152"/>
                </a:lnTo>
                <a:lnTo>
                  <a:pt x="543" y="135"/>
                </a:lnTo>
                <a:lnTo>
                  <a:pt x="661" y="118"/>
                </a:lnTo>
                <a:lnTo>
                  <a:pt x="797" y="101"/>
                </a:lnTo>
                <a:lnTo>
                  <a:pt x="932" y="68"/>
                </a:lnTo>
                <a:lnTo>
                  <a:pt x="1068" y="34"/>
                </a:lnTo>
                <a:lnTo>
                  <a:pt x="1169" y="17"/>
                </a:lnTo>
                <a:lnTo>
                  <a:pt x="1254" y="0"/>
                </a:lnTo>
                <a:lnTo>
                  <a:pt x="1322" y="0"/>
                </a:lnTo>
                <a:lnTo>
                  <a:pt x="1407" y="0"/>
                </a:lnTo>
                <a:lnTo>
                  <a:pt x="1491" y="17"/>
                </a:lnTo>
                <a:lnTo>
                  <a:pt x="1542" y="68"/>
                </a:lnTo>
                <a:lnTo>
                  <a:pt x="1559" y="84"/>
                </a:lnTo>
                <a:lnTo>
                  <a:pt x="1542" y="101"/>
                </a:lnTo>
                <a:lnTo>
                  <a:pt x="1508" y="118"/>
                </a:lnTo>
                <a:lnTo>
                  <a:pt x="1457" y="135"/>
                </a:lnTo>
                <a:lnTo>
                  <a:pt x="1373" y="13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2" name="Freeform 55"/>
          <p:cNvSpPr/>
          <p:nvPr/>
        </p:nvSpPr>
        <p:spPr>
          <a:xfrm>
            <a:off x="2473200" y="3013560"/>
            <a:ext cx="290160" cy="184320"/>
          </a:xfrm>
          <a:custGeom>
            <a:avLst/>
            <a:gdLst>
              <a:gd name="textAreaLeft" fmla="*/ 0 w 290160"/>
              <a:gd name="textAreaRight" fmla="*/ 290520 w 290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610" h="389">
                <a:moveTo>
                  <a:pt x="474" y="102"/>
                </a:moveTo>
                <a:lnTo>
                  <a:pt x="525" y="119"/>
                </a:lnTo>
                <a:lnTo>
                  <a:pt x="559" y="152"/>
                </a:lnTo>
                <a:lnTo>
                  <a:pt x="576" y="169"/>
                </a:lnTo>
                <a:lnTo>
                  <a:pt x="593" y="169"/>
                </a:lnTo>
                <a:lnTo>
                  <a:pt x="593" y="220"/>
                </a:lnTo>
                <a:lnTo>
                  <a:pt x="610" y="288"/>
                </a:lnTo>
                <a:lnTo>
                  <a:pt x="593" y="338"/>
                </a:lnTo>
                <a:lnTo>
                  <a:pt x="593" y="355"/>
                </a:lnTo>
                <a:lnTo>
                  <a:pt x="576" y="372"/>
                </a:lnTo>
                <a:lnTo>
                  <a:pt x="559" y="389"/>
                </a:lnTo>
                <a:lnTo>
                  <a:pt x="508" y="372"/>
                </a:lnTo>
                <a:lnTo>
                  <a:pt x="440" y="338"/>
                </a:lnTo>
                <a:lnTo>
                  <a:pt x="355" y="288"/>
                </a:lnTo>
                <a:lnTo>
                  <a:pt x="254" y="220"/>
                </a:lnTo>
                <a:lnTo>
                  <a:pt x="186" y="169"/>
                </a:lnTo>
                <a:lnTo>
                  <a:pt x="135" y="136"/>
                </a:lnTo>
                <a:lnTo>
                  <a:pt x="101" y="102"/>
                </a:lnTo>
                <a:lnTo>
                  <a:pt x="67" y="68"/>
                </a:lnTo>
                <a:lnTo>
                  <a:pt x="33" y="51"/>
                </a:lnTo>
                <a:lnTo>
                  <a:pt x="17" y="34"/>
                </a:lnTo>
                <a:lnTo>
                  <a:pt x="0" y="17"/>
                </a:lnTo>
                <a:lnTo>
                  <a:pt x="0" y="0"/>
                </a:lnTo>
                <a:lnTo>
                  <a:pt x="17" y="0"/>
                </a:lnTo>
                <a:lnTo>
                  <a:pt x="50" y="0"/>
                </a:lnTo>
                <a:lnTo>
                  <a:pt x="101" y="0"/>
                </a:lnTo>
                <a:lnTo>
                  <a:pt x="203" y="0"/>
                </a:lnTo>
                <a:lnTo>
                  <a:pt x="305" y="17"/>
                </a:lnTo>
                <a:lnTo>
                  <a:pt x="389" y="51"/>
                </a:lnTo>
                <a:lnTo>
                  <a:pt x="474" y="10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3" name="Freeform 56"/>
          <p:cNvSpPr/>
          <p:nvPr/>
        </p:nvSpPr>
        <p:spPr>
          <a:xfrm>
            <a:off x="2118600" y="3101400"/>
            <a:ext cx="168840" cy="151920"/>
          </a:xfrm>
          <a:custGeom>
            <a:avLst/>
            <a:gdLst>
              <a:gd name="textAreaLeft" fmla="*/ 0 w 168840"/>
              <a:gd name="textAreaRight" fmla="*/ 169200 w 168840"/>
              <a:gd name="textAreaTop" fmla="*/ 0 h 151920"/>
              <a:gd name="textAreaBottom" fmla="*/ 152280 h 151920"/>
            </a:gdLst>
            <a:ahLst/>
            <a:rect l="textAreaLeft" t="textAreaTop" r="textAreaRight" b="textAreaBottom"/>
            <a:pathLst>
              <a:path w="356" h="321">
                <a:moveTo>
                  <a:pt x="34" y="118"/>
                </a:moveTo>
                <a:lnTo>
                  <a:pt x="17" y="85"/>
                </a:lnTo>
                <a:lnTo>
                  <a:pt x="0" y="51"/>
                </a:lnTo>
                <a:lnTo>
                  <a:pt x="0" y="34"/>
                </a:lnTo>
                <a:lnTo>
                  <a:pt x="0" y="17"/>
                </a:lnTo>
                <a:lnTo>
                  <a:pt x="17" y="0"/>
                </a:lnTo>
                <a:lnTo>
                  <a:pt x="34" y="0"/>
                </a:lnTo>
                <a:lnTo>
                  <a:pt x="68" y="0"/>
                </a:lnTo>
                <a:lnTo>
                  <a:pt x="119" y="17"/>
                </a:lnTo>
                <a:lnTo>
                  <a:pt x="203" y="34"/>
                </a:lnTo>
                <a:lnTo>
                  <a:pt x="237" y="51"/>
                </a:lnTo>
                <a:lnTo>
                  <a:pt x="271" y="85"/>
                </a:lnTo>
                <a:lnTo>
                  <a:pt x="322" y="135"/>
                </a:lnTo>
                <a:lnTo>
                  <a:pt x="356" y="203"/>
                </a:lnTo>
                <a:lnTo>
                  <a:pt x="339" y="254"/>
                </a:lnTo>
                <a:lnTo>
                  <a:pt x="322" y="271"/>
                </a:lnTo>
                <a:lnTo>
                  <a:pt x="305" y="304"/>
                </a:lnTo>
                <a:lnTo>
                  <a:pt x="271" y="321"/>
                </a:lnTo>
                <a:lnTo>
                  <a:pt x="254" y="321"/>
                </a:lnTo>
                <a:lnTo>
                  <a:pt x="237" y="304"/>
                </a:lnTo>
                <a:lnTo>
                  <a:pt x="203" y="287"/>
                </a:lnTo>
                <a:lnTo>
                  <a:pt x="170" y="271"/>
                </a:lnTo>
                <a:lnTo>
                  <a:pt x="102" y="203"/>
                </a:lnTo>
                <a:lnTo>
                  <a:pt x="68" y="169"/>
                </a:lnTo>
                <a:lnTo>
                  <a:pt x="34" y="11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4" name="Freeform 44"/>
          <p:cNvSpPr/>
          <p:nvPr/>
        </p:nvSpPr>
        <p:spPr>
          <a:xfrm>
            <a:off x="1836360" y="2634840"/>
            <a:ext cx="692640" cy="418680"/>
          </a:xfrm>
          <a:custGeom>
            <a:avLst/>
            <a:gdLst>
              <a:gd name="textAreaLeft" fmla="*/ 0 w 692640"/>
              <a:gd name="textAreaRight" fmla="*/ 693000 w 692640"/>
              <a:gd name="textAreaTop" fmla="*/ 0 h 418680"/>
              <a:gd name="textAreaBottom" fmla="*/ 419040 h 418680"/>
            </a:gdLst>
            <a:ahLst/>
            <a:rect l="textAreaLeft" t="textAreaTop" r="textAreaRight" b="textAreaBottom"/>
            <a:pathLst>
              <a:path w="1457" h="879">
                <a:moveTo>
                  <a:pt x="1152" y="777"/>
                </a:moveTo>
                <a:lnTo>
                  <a:pt x="1135" y="828"/>
                </a:lnTo>
                <a:lnTo>
                  <a:pt x="1118" y="862"/>
                </a:lnTo>
                <a:lnTo>
                  <a:pt x="1101" y="879"/>
                </a:lnTo>
                <a:lnTo>
                  <a:pt x="1084" y="879"/>
                </a:lnTo>
                <a:lnTo>
                  <a:pt x="1051" y="862"/>
                </a:lnTo>
                <a:lnTo>
                  <a:pt x="1034" y="828"/>
                </a:lnTo>
                <a:lnTo>
                  <a:pt x="1017" y="811"/>
                </a:lnTo>
                <a:lnTo>
                  <a:pt x="1017" y="794"/>
                </a:lnTo>
                <a:lnTo>
                  <a:pt x="1017" y="777"/>
                </a:lnTo>
                <a:lnTo>
                  <a:pt x="1017" y="727"/>
                </a:lnTo>
                <a:lnTo>
                  <a:pt x="1034" y="710"/>
                </a:lnTo>
                <a:lnTo>
                  <a:pt x="1051" y="676"/>
                </a:lnTo>
                <a:lnTo>
                  <a:pt x="1068" y="642"/>
                </a:lnTo>
                <a:lnTo>
                  <a:pt x="1084" y="575"/>
                </a:lnTo>
                <a:lnTo>
                  <a:pt x="1101" y="490"/>
                </a:lnTo>
                <a:lnTo>
                  <a:pt x="1135" y="406"/>
                </a:lnTo>
                <a:lnTo>
                  <a:pt x="1152" y="338"/>
                </a:lnTo>
                <a:lnTo>
                  <a:pt x="1152" y="288"/>
                </a:lnTo>
                <a:lnTo>
                  <a:pt x="1152" y="254"/>
                </a:lnTo>
                <a:lnTo>
                  <a:pt x="1152" y="203"/>
                </a:lnTo>
                <a:lnTo>
                  <a:pt x="1135" y="169"/>
                </a:lnTo>
                <a:lnTo>
                  <a:pt x="1118" y="169"/>
                </a:lnTo>
                <a:lnTo>
                  <a:pt x="1101" y="152"/>
                </a:lnTo>
                <a:lnTo>
                  <a:pt x="1034" y="152"/>
                </a:lnTo>
                <a:lnTo>
                  <a:pt x="1000" y="152"/>
                </a:lnTo>
                <a:lnTo>
                  <a:pt x="932" y="169"/>
                </a:lnTo>
                <a:lnTo>
                  <a:pt x="847" y="169"/>
                </a:lnTo>
                <a:lnTo>
                  <a:pt x="746" y="186"/>
                </a:lnTo>
                <a:lnTo>
                  <a:pt x="593" y="203"/>
                </a:lnTo>
                <a:lnTo>
                  <a:pt x="441" y="237"/>
                </a:lnTo>
                <a:lnTo>
                  <a:pt x="254" y="254"/>
                </a:lnTo>
                <a:lnTo>
                  <a:pt x="34" y="288"/>
                </a:lnTo>
                <a:lnTo>
                  <a:pt x="0" y="169"/>
                </a:lnTo>
                <a:lnTo>
                  <a:pt x="136" y="169"/>
                </a:lnTo>
                <a:lnTo>
                  <a:pt x="271" y="152"/>
                </a:lnTo>
                <a:lnTo>
                  <a:pt x="390" y="135"/>
                </a:lnTo>
                <a:lnTo>
                  <a:pt x="491" y="119"/>
                </a:lnTo>
                <a:lnTo>
                  <a:pt x="678" y="85"/>
                </a:lnTo>
                <a:lnTo>
                  <a:pt x="864" y="51"/>
                </a:lnTo>
                <a:lnTo>
                  <a:pt x="966" y="51"/>
                </a:lnTo>
                <a:lnTo>
                  <a:pt x="1034" y="34"/>
                </a:lnTo>
                <a:lnTo>
                  <a:pt x="1084" y="17"/>
                </a:lnTo>
                <a:lnTo>
                  <a:pt x="1101" y="0"/>
                </a:lnTo>
                <a:lnTo>
                  <a:pt x="1152" y="0"/>
                </a:lnTo>
                <a:lnTo>
                  <a:pt x="1203" y="0"/>
                </a:lnTo>
                <a:lnTo>
                  <a:pt x="1220" y="0"/>
                </a:lnTo>
                <a:lnTo>
                  <a:pt x="1254" y="17"/>
                </a:lnTo>
                <a:lnTo>
                  <a:pt x="1305" y="51"/>
                </a:lnTo>
                <a:lnTo>
                  <a:pt x="1356" y="85"/>
                </a:lnTo>
                <a:lnTo>
                  <a:pt x="1389" y="119"/>
                </a:lnTo>
                <a:lnTo>
                  <a:pt x="1423" y="152"/>
                </a:lnTo>
                <a:lnTo>
                  <a:pt x="1440" y="169"/>
                </a:lnTo>
                <a:lnTo>
                  <a:pt x="1457" y="186"/>
                </a:lnTo>
                <a:lnTo>
                  <a:pt x="1440" y="220"/>
                </a:lnTo>
                <a:lnTo>
                  <a:pt x="1423" y="237"/>
                </a:lnTo>
                <a:lnTo>
                  <a:pt x="1406" y="271"/>
                </a:lnTo>
                <a:lnTo>
                  <a:pt x="1372" y="321"/>
                </a:lnTo>
                <a:lnTo>
                  <a:pt x="1339" y="389"/>
                </a:lnTo>
                <a:lnTo>
                  <a:pt x="1305" y="473"/>
                </a:lnTo>
                <a:lnTo>
                  <a:pt x="1254" y="575"/>
                </a:lnTo>
                <a:lnTo>
                  <a:pt x="1220" y="659"/>
                </a:lnTo>
                <a:lnTo>
                  <a:pt x="1186" y="727"/>
                </a:lnTo>
                <a:lnTo>
                  <a:pt x="1152" y="77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5" name="Freeform 45"/>
          <p:cNvSpPr/>
          <p:nvPr/>
        </p:nvSpPr>
        <p:spPr>
          <a:xfrm>
            <a:off x="1941120" y="2956320"/>
            <a:ext cx="418680" cy="97200"/>
          </a:xfrm>
          <a:custGeom>
            <a:avLst/>
            <a:gdLst>
              <a:gd name="textAreaLeft" fmla="*/ 0 w 418680"/>
              <a:gd name="textAreaRight" fmla="*/ 419040 w 418680"/>
              <a:gd name="textAreaTop" fmla="*/ 0 h 97200"/>
              <a:gd name="textAreaBottom" fmla="*/ 97560 h 97200"/>
            </a:gdLst>
            <a:ahLst/>
            <a:rect l="textAreaLeft" t="textAreaTop" r="textAreaRight" b="textAreaBottom"/>
            <a:pathLst>
              <a:path w="881" h="203">
                <a:moveTo>
                  <a:pt x="848" y="17"/>
                </a:moveTo>
                <a:lnTo>
                  <a:pt x="881" y="118"/>
                </a:lnTo>
                <a:lnTo>
                  <a:pt x="797" y="118"/>
                </a:lnTo>
                <a:lnTo>
                  <a:pt x="712" y="135"/>
                </a:lnTo>
                <a:lnTo>
                  <a:pt x="593" y="135"/>
                </a:lnTo>
                <a:lnTo>
                  <a:pt x="458" y="152"/>
                </a:lnTo>
                <a:lnTo>
                  <a:pt x="322" y="169"/>
                </a:lnTo>
                <a:lnTo>
                  <a:pt x="204" y="186"/>
                </a:lnTo>
                <a:lnTo>
                  <a:pt x="102" y="186"/>
                </a:lnTo>
                <a:lnTo>
                  <a:pt x="0" y="203"/>
                </a:lnTo>
                <a:lnTo>
                  <a:pt x="0" y="101"/>
                </a:lnTo>
                <a:lnTo>
                  <a:pt x="51" y="101"/>
                </a:lnTo>
                <a:lnTo>
                  <a:pt x="102" y="85"/>
                </a:lnTo>
                <a:lnTo>
                  <a:pt x="170" y="85"/>
                </a:lnTo>
                <a:lnTo>
                  <a:pt x="238" y="68"/>
                </a:lnTo>
                <a:lnTo>
                  <a:pt x="407" y="34"/>
                </a:lnTo>
                <a:lnTo>
                  <a:pt x="576" y="17"/>
                </a:lnTo>
                <a:lnTo>
                  <a:pt x="712" y="0"/>
                </a:lnTo>
                <a:lnTo>
                  <a:pt x="848" y="1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6" name="Freeform 46"/>
          <p:cNvSpPr/>
          <p:nvPr/>
        </p:nvSpPr>
        <p:spPr>
          <a:xfrm>
            <a:off x="1892160" y="2795760"/>
            <a:ext cx="394920" cy="104400"/>
          </a:xfrm>
          <a:custGeom>
            <a:avLst/>
            <a:gdLst>
              <a:gd name="textAreaLeft" fmla="*/ 0 w 394920"/>
              <a:gd name="textAreaRight" fmla="*/ 395280 w 394920"/>
              <a:gd name="textAreaTop" fmla="*/ 0 h 104400"/>
              <a:gd name="textAreaBottom" fmla="*/ 104760 h 104400"/>
            </a:gdLst>
            <a:ahLst/>
            <a:rect l="textAreaLeft" t="textAreaTop" r="textAreaRight" b="textAreaBottom"/>
            <a:pathLst>
              <a:path w="830" h="220">
                <a:moveTo>
                  <a:pt x="389" y="68"/>
                </a:moveTo>
                <a:lnTo>
                  <a:pt x="508" y="34"/>
                </a:lnTo>
                <a:lnTo>
                  <a:pt x="610" y="17"/>
                </a:lnTo>
                <a:lnTo>
                  <a:pt x="677" y="0"/>
                </a:lnTo>
                <a:lnTo>
                  <a:pt x="711" y="0"/>
                </a:lnTo>
                <a:lnTo>
                  <a:pt x="745" y="0"/>
                </a:lnTo>
                <a:lnTo>
                  <a:pt x="762" y="0"/>
                </a:lnTo>
                <a:lnTo>
                  <a:pt x="796" y="17"/>
                </a:lnTo>
                <a:lnTo>
                  <a:pt x="813" y="51"/>
                </a:lnTo>
                <a:lnTo>
                  <a:pt x="830" y="68"/>
                </a:lnTo>
                <a:lnTo>
                  <a:pt x="830" y="85"/>
                </a:lnTo>
                <a:lnTo>
                  <a:pt x="830" y="102"/>
                </a:lnTo>
                <a:lnTo>
                  <a:pt x="813" y="102"/>
                </a:lnTo>
                <a:lnTo>
                  <a:pt x="796" y="102"/>
                </a:lnTo>
                <a:lnTo>
                  <a:pt x="745" y="118"/>
                </a:lnTo>
                <a:lnTo>
                  <a:pt x="677" y="135"/>
                </a:lnTo>
                <a:lnTo>
                  <a:pt x="593" y="135"/>
                </a:lnTo>
                <a:lnTo>
                  <a:pt x="474" y="152"/>
                </a:lnTo>
                <a:lnTo>
                  <a:pt x="339" y="169"/>
                </a:lnTo>
                <a:lnTo>
                  <a:pt x="186" y="203"/>
                </a:lnTo>
                <a:lnTo>
                  <a:pt x="0" y="220"/>
                </a:lnTo>
                <a:lnTo>
                  <a:pt x="0" y="135"/>
                </a:lnTo>
                <a:lnTo>
                  <a:pt x="84" y="118"/>
                </a:lnTo>
                <a:lnTo>
                  <a:pt x="169" y="102"/>
                </a:lnTo>
                <a:lnTo>
                  <a:pt x="288" y="85"/>
                </a:lnTo>
                <a:lnTo>
                  <a:pt x="389" y="6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7" name="Freeform 51"/>
          <p:cNvSpPr/>
          <p:nvPr/>
        </p:nvSpPr>
        <p:spPr>
          <a:xfrm>
            <a:off x="1964880" y="2328840"/>
            <a:ext cx="120960" cy="160200"/>
          </a:xfrm>
          <a:custGeom>
            <a:avLst/>
            <a:gdLst>
              <a:gd name="textAreaLeft" fmla="*/ 0 w 120960"/>
              <a:gd name="textAreaRight" fmla="*/ 121320 w 120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54" h="338">
                <a:moveTo>
                  <a:pt x="0" y="17"/>
                </a:moveTo>
                <a:lnTo>
                  <a:pt x="0" y="0"/>
                </a:lnTo>
                <a:lnTo>
                  <a:pt x="34" y="0"/>
                </a:lnTo>
                <a:lnTo>
                  <a:pt x="68" y="0"/>
                </a:lnTo>
                <a:lnTo>
                  <a:pt x="119" y="34"/>
                </a:lnTo>
                <a:lnTo>
                  <a:pt x="170" y="51"/>
                </a:lnTo>
                <a:lnTo>
                  <a:pt x="204" y="85"/>
                </a:lnTo>
                <a:lnTo>
                  <a:pt x="237" y="135"/>
                </a:lnTo>
                <a:lnTo>
                  <a:pt x="237" y="169"/>
                </a:lnTo>
                <a:lnTo>
                  <a:pt x="254" y="220"/>
                </a:lnTo>
                <a:lnTo>
                  <a:pt x="254" y="254"/>
                </a:lnTo>
                <a:lnTo>
                  <a:pt x="237" y="287"/>
                </a:lnTo>
                <a:lnTo>
                  <a:pt x="220" y="321"/>
                </a:lnTo>
                <a:lnTo>
                  <a:pt x="187" y="338"/>
                </a:lnTo>
                <a:lnTo>
                  <a:pt x="170" y="338"/>
                </a:lnTo>
                <a:lnTo>
                  <a:pt x="136" y="321"/>
                </a:lnTo>
                <a:lnTo>
                  <a:pt x="102" y="287"/>
                </a:lnTo>
                <a:lnTo>
                  <a:pt x="51" y="220"/>
                </a:lnTo>
                <a:lnTo>
                  <a:pt x="34" y="186"/>
                </a:lnTo>
                <a:lnTo>
                  <a:pt x="17" y="135"/>
                </a:lnTo>
                <a:lnTo>
                  <a:pt x="17" y="85"/>
                </a:lnTo>
                <a:lnTo>
                  <a:pt x="0" y="51"/>
                </a:lnTo>
                <a:lnTo>
                  <a:pt x="0" y="34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8" name="Freeform 52"/>
          <p:cNvSpPr/>
          <p:nvPr/>
        </p:nvSpPr>
        <p:spPr>
          <a:xfrm>
            <a:off x="2199600" y="2281320"/>
            <a:ext cx="168840" cy="248400"/>
          </a:xfrm>
          <a:custGeom>
            <a:avLst/>
            <a:gdLst>
              <a:gd name="textAreaLeft" fmla="*/ 0 w 168840"/>
              <a:gd name="textAreaRight" fmla="*/ 169200 w 168840"/>
              <a:gd name="textAreaTop" fmla="*/ 0 h 248400"/>
              <a:gd name="textAreaBottom" fmla="*/ 248760 h 248400"/>
            </a:gdLst>
            <a:ahLst/>
            <a:rect l="textAreaLeft" t="textAreaTop" r="textAreaRight" b="textAreaBottom"/>
            <a:pathLst>
              <a:path w="355" h="524">
                <a:moveTo>
                  <a:pt x="271" y="67"/>
                </a:moveTo>
                <a:lnTo>
                  <a:pt x="305" y="84"/>
                </a:lnTo>
                <a:lnTo>
                  <a:pt x="338" y="118"/>
                </a:lnTo>
                <a:lnTo>
                  <a:pt x="355" y="152"/>
                </a:lnTo>
                <a:lnTo>
                  <a:pt x="355" y="169"/>
                </a:lnTo>
                <a:lnTo>
                  <a:pt x="355" y="186"/>
                </a:lnTo>
                <a:lnTo>
                  <a:pt x="338" y="220"/>
                </a:lnTo>
                <a:lnTo>
                  <a:pt x="305" y="253"/>
                </a:lnTo>
                <a:lnTo>
                  <a:pt x="271" y="287"/>
                </a:lnTo>
                <a:lnTo>
                  <a:pt x="237" y="338"/>
                </a:lnTo>
                <a:lnTo>
                  <a:pt x="186" y="388"/>
                </a:lnTo>
                <a:lnTo>
                  <a:pt x="135" y="456"/>
                </a:lnTo>
                <a:lnTo>
                  <a:pt x="67" y="524"/>
                </a:lnTo>
                <a:lnTo>
                  <a:pt x="0" y="524"/>
                </a:lnTo>
                <a:lnTo>
                  <a:pt x="50" y="422"/>
                </a:lnTo>
                <a:lnTo>
                  <a:pt x="84" y="338"/>
                </a:lnTo>
                <a:lnTo>
                  <a:pt x="101" y="270"/>
                </a:lnTo>
                <a:lnTo>
                  <a:pt x="118" y="203"/>
                </a:lnTo>
                <a:lnTo>
                  <a:pt x="135" y="152"/>
                </a:lnTo>
                <a:lnTo>
                  <a:pt x="152" y="118"/>
                </a:lnTo>
                <a:lnTo>
                  <a:pt x="152" y="84"/>
                </a:lnTo>
                <a:lnTo>
                  <a:pt x="152" y="67"/>
                </a:lnTo>
                <a:lnTo>
                  <a:pt x="135" y="51"/>
                </a:lnTo>
                <a:lnTo>
                  <a:pt x="118" y="17"/>
                </a:lnTo>
                <a:lnTo>
                  <a:pt x="135" y="17"/>
                </a:lnTo>
                <a:lnTo>
                  <a:pt x="152" y="0"/>
                </a:lnTo>
                <a:lnTo>
                  <a:pt x="169" y="0"/>
                </a:lnTo>
                <a:lnTo>
                  <a:pt x="186" y="0"/>
                </a:lnTo>
                <a:lnTo>
                  <a:pt x="220" y="34"/>
                </a:lnTo>
                <a:lnTo>
                  <a:pt x="271" y="6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99" name="Freeform 50"/>
          <p:cNvSpPr/>
          <p:nvPr/>
        </p:nvSpPr>
        <p:spPr>
          <a:xfrm>
            <a:off x="1529280" y="2433600"/>
            <a:ext cx="1298520" cy="224640"/>
          </a:xfrm>
          <a:custGeom>
            <a:avLst/>
            <a:gdLst>
              <a:gd name="textAreaLeft" fmla="*/ 0 w 1298520"/>
              <a:gd name="textAreaRight" fmla="*/ 1298880 w 1298520"/>
              <a:gd name="textAreaTop" fmla="*/ 0 h 224640"/>
              <a:gd name="textAreaBottom" fmla="*/ 225000 h 224640"/>
            </a:gdLst>
            <a:ahLst/>
            <a:rect l="textAreaLeft" t="textAreaTop" r="textAreaRight" b="textAreaBottom"/>
            <a:pathLst>
              <a:path w="2728" h="473">
                <a:moveTo>
                  <a:pt x="1847" y="67"/>
                </a:moveTo>
                <a:lnTo>
                  <a:pt x="1949" y="51"/>
                </a:lnTo>
                <a:lnTo>
                  <a:pt x="2050" y="34"/>
                </a:lnTo>
                <a:lnTo>
                  <a:pt x="2135" y="17"/>
                </a:lnTo>
                <a:lnTo>
                  <a:pt x="2203" y="17"/>
                </a:lnTo>
                <a:lnTo>
                  <a:pt x="2271" y="0"/>
                </a:lnTo>
                <a:lnTo>
                  <a:pt x="2321" y="0"/>
                </a:lnTo>
                <a:lnTo>
                  <a:pt x="2355" y="0"/>
                </a:lnTo>
                <a:lnTo>
                  <a:pt x="2389" y="0"/>
                </a:lnTo>
                <a:lnTo>
                  <a:pt x="2440" y="0"/>
                </a:lnTo>
                <a:lnTo>
                  <a:pt x="2491" y="0"/>
                </a:lnTo>
                <a:lnTo>
                  <a:pt x="2542" y="17"/>
                </a:lnTo>
                <a:lnTo>
                  <a:pt x="2609" y="51"/>
                </a:lnTo>
                <a:lnTo>
                  <a:pt x="2660" y="67"/>
                </a:lnTo>
                <a:lnTo>
                  <a:pt x="2694" y="101"/>
                </a:lnTo>
                <a:lnTo>
                  <a:pt x="2711" y="118"/>
                </a:lnTo>
                <a:lnTo>
                  <a:pt x="2728" y="118"/>
                </a:lnTo>
                <a:lnTo>
                  <a:pt x="2711" y="152"/>
                </a:lnTo>
                <a:lnTo>
                  <a:pt x="2694" y="169"/>
                </a:lnTo>
                <a:lnTo>
                  <a:pt x="2677" y="169"/>
                </a:lnTo>
                <a:lnTo>
                  <a:pt x="2660" y="186"/>
                </a:lnTo>
                <a:lnTo>
                  <a:pt x="2626" y="186"/>
                </a:lnTo>
                <a:lnTo>
                  <a:pt x="2593" y="186"/>
                </a:lnTo>
                <a:lnTo>
                  <a:pt x="2559" y="203"/>
                </a:lnTo>
                <a:lnTo>
                  <a:pt x="2508" y="203"/>
                </a:lnTo>
                <a:lnTo>
                  <a:pt x="2457" y="203"/>
                </a:lnTo>
                <a:lnTo>
                  <a:pt x="2389" y="203"/>
                </a:lnTo>
                <a:lnTo>
                  <a:pt x="2305" y="203"/>
                </a:lnTo>
                <a:lnTo>
                  <a:pt x="2152" y="203"/>
                </a:lnTo>
                <a:lnTo>
                  <a:pt x="2033" y="203"/>
                </a:lnTo>
                <a:lnTo>
                  <a:pt x="1915" y="203"/>
                </a:lnTo>
                <a:lnTo>
                  <a:pt x="1830" y="220"/>
                </a:lnTo>
                <a:lnTo>
                  <a:pt x="1779" y="220"/>
                </a:lnTo>
                <a:lnTo>
                  <a:pt x="1728" y="236"/>
                </a:lnTo>
                <a:lnTo>
                  <a:pt x="1661" y="236"/>
                </a:lnTo>
                <a:lnTo>
                  <a:pt x="1576" y="253"/>
                </a:lnTo>
                <a:lnTo>
                  <a:pt x="1474" y="270"/>
                </a:lnTo>
                <a:lnTo>
                  <a:pt x="1373" y="287"/>
                </a:lnTo>
                <a:lnTo>
                  <a:pt x="1254" y="304"/>
                </a:lnTo>
                <a:lnTo>
                  <a:pt x="1119" y="321"/>
                </a:lnTo>
                <a:lnTo>
                  <a:pt x="983" y="338"/>
                </a:lnTo>
                <a:lnTo>
                  <a:pt x="864" y="372"/>
                </a:lnTo>
                <a:lnTo>
                  <a:pt x="763" y="388"/>
                </a:lnTo>
                <a:lnTo>
                  <a:pt x="661" y="405"/>
                </a:lnTo>
                <a:lnTo>
                  <a:pt x="576" y="422"/>
                </a:lnTo>
                <a:lnTo>
                  <a:pt x="509" y="422"/>
                </a:lnTo>
                <a:lnTo>
                  <a:pt x="458" y="439"/>
                </a:lnTo>
                <a:lnTo>
                  <a:pt x="407" y="439"/>
                </a:lnTo>
                <a:lnTo>
                  <a:pt x="322" y="456"/>
                </a:lnTo>
                <a:lnTo>
                  <a:pt x="271" y="473"/>
                </a:lnTo>
                <a:lnTo>
                  <a:pt x="238" y="473"/>
                </a:lnTo>
                <a:lnTo>
                  <a:pt x="221" y="473"/>
                </a:lnTo>
                <a:lnTo>
                  <a:pt x="204" y="473"/>
                </a:lnTo>
                <a:lnTo>
                  <a:pt x="170" y="456"/>
                </a:lnTo>
                <a:lnTo>
                  <a:pt x="136" y="439"/>
                </a:lnTo>
                <a:lnTo>
                  <a:pt x="85" y="422"/>
                </a:lnTo>
                <a:lnTo>
                  <a:pt x="34" y="388"/>
                </a:lnTo>
                <a:lnTo>
                  <a:pt x="0" y="372"/>
                </a:lnTo>
                <a:lnTo>
                  <a:pt x="0" y="355"/>
                </a:lnTo>
                <a:lnTo>
                  <a:pt x="17" y="355"/>
                </a:lnTo>
                <a:lnTo>
                  <a:pt x="34" y="355"/>
                </a:lnTo>
                <a:lnTo>
                  <a:pt x="85" y="338"/>
                </a:lnTo>
                <a:lnTo>
                  <a:pt x="136" y="338"/>
                </a:lnTo>
                <a:lnTo>
                  <a:pt x="221" y="321"/>
                </a:lnTo>
                <a:lnTo>
                  <a:pt x="322" y="304"/>
                </a:lnTo>
                <a:lnTo>
                  <a:pt x="441" y="287"/>
                </a:lnTo>
                <a:lnTo>
                  <a:pt x="576" y="270"/>
                </a:lnTo>
                <a:lnTo>
                  <a:pt x="746" y="236"/>
                </a:lnTo>
                <a:lnTo>
                  <a:pt x="915" y="220"/>
                </a:lnTo>
                <a:lnTo>
                  <a:pt x="1068" y="203"/>
                </a:lnTo>
                <a:lnTo>
                  <a:pt x="1220" y="169"/>
                </a:lnTo>
                <a:lnTo>
                  <a:pt x="1356" y="152"/>
                </a:lnTo>
                <a:lnTo>
                  <a:pt x="1491" y="135"/>
                </a:lnTo>
                <a:lnTo>
                  <a:pt x="1627" y="118"/>
                </a:lnTo>
                <a:lnTo>
                  <a:pt x="1745" y="84"/>
                </a:lnTo>
                <a:lnTo>
                  <a:pt x="1847" y="6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文本框 38"/>
          <p:cNvSpPr/>
          <p:nvPr/>
        </p:nvSpPr>
        <p:spPr>
          <a:xfrm>
            <a:off x="6928920" y="1082520"/>
            <a:ext cx="983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mà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0"/>
          <p:cNvSpPr/>
          <p:nvPr/>
        </p:nvSpPr>
        <p:spPr>
          <a:xfrm>
            <a:off x="354960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13"/>
          <p:cNvSpPr/>
          <p:nvPr/>
        </p:nvSpPr>
        <p:spPr>
          <a:xfrm>
            <a:off x="4264920" y="1697400"/>
            <a:ext cx="44316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上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麦   麦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麦是北方的主要农作物。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第三横长托上盖下，下部撇捺舒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05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1096560" y="1665720"/>
            <a:ext cx="2160000" cy="2160000"/>
            <a:chOff x="1096560" y="1665720"/>
            <a:chExt cx="2160000" cy="2160000"/>
          </a:xfrm>
        </p:grpSpPr>
        <p:sp>
          <p:nvSpPr>
            <p:cNvPr id="307" name="Rectangle 5"/>
            <p:cNvSpPr/>
            <p:nvPr/>
          </p:nvSpPr>
          <p:spPr>
            <a:xfrm>
              <a:off x="2176560" y="273708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1096560" y="273708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2176560" y="166608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1096560" y="166608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11" name="Line 9"/>
            <p:cNvSpPr/>
            <p:nvPr/>
          </p:nvSpPr>
          <p:spPr>
            <a:xfrm>
              <a:off x="1096560" y="166572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0"/>
            <p:cNvSpPr/>
            <p:nvPr/>
          </p:nvSpPr>
          <p:spPr>
            <a:xfrm>
              <a:off x="1096560" y="382536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1"/>
            <p:cNvSpPr/>
            <p:nvPr/>
          </p:nvSpPr>
          <p:spPr>
            <a:xfrm>
              <a:off x="1096560" y="166572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2"/>
            <p:cNvSpPr/>
            <p:nvPr/>
          </p:nvSpPr>
          <p:spPr>
            <a:xfrm>
              <a:off x="3256200" y="166572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3"/>
            <p:cNvSpPr/>
            <p:nvPr/>
          </p:nvSpPr>
          <p:spPr>
            <a:xfrm>
              <a:off x="1096560" y="2736720"/>
              <a:ext cx="215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4"/>
            <p:cNvSpPr/>
            <p:nvPr/>
          </p:nvSpPr>
          <p:spPr>
            <a:xfrm>
              <a:off x="2176200" y="1665720"/>
              <a:ext cx="360" cy="215964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Freeform 30"/>
          <p:cNvSpPr/>
          <p:nvPr/>
        </p:nvSpPr>
        <p:spPr>
          <a:xfrm>
            <a:off x="1838520" y="2216160"/>
            <a:ext cx="710280" cy="136440"/>
          </a:xfrm>
          <a:custGeom>
            <a:avLst/>
            <a:gdLst>
              <a:gd name="textAreaLeft" fmla="*/ 0 w 710280"/>
              <a:gd name="textAreaRight" fmla="*/ 710640 w 71028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491" h="287">
                <a:moveTo>
                  <a:pt x="271" y="287"/>
                </a:moveTo>
                <a:lnTo>
                  <a:pt x="186" y="287"/>
                </a:lnTo>
                <a:lnTo>
                  <a:pt x="118" y="270"/>
                </a:lnTo>
                <a:lnTo>
                  <a:pt x="51" y="237"/>
                </a:lnTo>
                <a:lnTo>
                  <a:pt x="0" y="203"/>
                </a:lnTo>
                <a:lnTo>
                  <a:pt x="51" y="203"/>
                </a:lnTo>
                <a:lnTo>
                  <a:pt x="101" y="186"/>
                </a:lnTo>
                <a:lnTo>
                  <a:pt x="186" y="186"/>
                </a:lnTo>
                <a:lnTo>
                  <a:pt x="254" y="169"/>
                </a:lnTo>
                <a:lnTo>
                  <a:pt x="288" y="169"/>
                </a:lnTo>
                <a:lnTo>
                  <a:pt x="305" y="169"/>
                </a:lnTo>
                <a:lnTo>
                  <a:pt x="322" y="169"/>
                </a:lnTo>
                <a:lnTo>
                  <a:pt x="355" y="169"/>
                </a:lnTo>
                <a:lnTo>
                  <a:pt x="406" y="152"/>
                </a:lnTo>
                <a:lnTo>
                  <a:pt x="423" y="152"/>
                </a:lnTo>
                <a:lnTo>
                  <a:pt x="457" y="152"/>
                </a:lnTo>
                <a:lnTo>
                  <a:pt x="491" y="135"/>
                </a:lnTo>
                <a:lnTo>
                  <a:pt x="542" y="118"/>
                </a:lnTo>
                <a:lnTo>
                  <a:pt x="593" y="118"/>
                </a:lnTo>
                <a:lnTo>
                  <a:pt x="660" y="101"/>
                </a:lnTo>
                <a:lnTo>
                  <a:pt x="728" y="85"/>
                </a:lnTo>
                <a:lnTo>
                  <a:pt x="813" y="68"/>
                </a:lnTo>
                <a:lnTo>
                  <a:pt x="898" y="51"/>
                </a:lnTo>
                <a:lnTo>
                  <a:pt x="965" y="34"/>
                </a:lnTo>
                <a:lnTo>
                  <a:pt x="1084" y="17"/>
                </a:lnTo>
                <a:lnTo>
                  <a:pt x="1186" y="0"/>
                </a:lnTo>
                <a:lnTo>
                  <a:pt x="1270" y="0"/>
                </a:lnTo>
                <a:lnTo>
                  <a:pt x="1321" y="0"/>
                </a:lnTo>
                <a:lnTo>
                  <a:pt x="1372" y="0"/>
                </a:lnTo>
                <a:lnTo>
                  <a:pt x="1406" y="0"/>
                </a:lnTo>
                <a:lnTo>
                  <a:pt x="1440" y="17"/>
                </a:lnTo>
                <a:lnTo>
                  <a:pt x="1457" y="17"/>
                </a:lnTo>
                <a:lnTo>
                  <a:pt x="1474" y="34"/>
                </a:lnTo>
                <a:lnTo>
                  <a:pt x="1491" y="51"/>
                </a:lnTo>
                <a:lnTo>
                  <a:pt x="1491" y="68"/>
                </a:lnTo>
                <a:lnTo>
                  <a:pt x="1474" y="85"/>
                </a:lnTo>
                <a:lnTo>
                  <a:pt x="1440" y="101"/>
                </a:lnTo>
                <a:lnTo>
                  <a:pt x="1372" y="118"/>
                </a:lnTo>
                <a:lnTo>
                  <a:pt x="1287" y="135"/>
                </a:lnTo>
                <a:lnTo>
                  <a:pt x="1186" y="152"/>
                </a:lnTo>
                <a:lnTo>
                  <a:pt x="1067" y="169"/>
                </a:lnTo>
                <a:lnTo>
                  <a:pt x="932" y="203"/>
                </a:lnTo>
                <a:lnTo>
                  <a:pt x="779" y="220"/>
                </a:lnTo>
                <a:lnTo>
                  <a:pt x="627" y="254"/>
                </a:lnTo>
                <a:lnTo>
                  <a:pt x="474" y="270"/>
                </a:lnTo>
                <a:lnTo>
                  <a:pt x="372" y="287"/>
                </a:lnTo>
                <a:lnTo>
                  <a:pt x="271" y="28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18" name="Freeform 32"/>
          <p:cNvSpPr/>
          <p:nvPr/>
        </p:nvSpPr>
        <p:spPr>
          <a:xfrm>
            <a:off x="1934640" y="2417040"/>
            <a:ext cx="492480" cy="104400"/>
          </a:xfrm>
          <a:custGeom>
            <a:avLst/>
            <a:gdLst>
              <a:gd name="textAreaLeft" fmla="*/ 0 w 492480"/>
              <a:gd name="textAreaRight" fmla="*/ 492840 w 492480"/>
              <a:gd name="textAreaTop" fmla="*/ 0 h 104400"/>
              <a:gd name="textAreaBottom" fmla="*/ 104760 h 104400"/>
            </a:gdLst>
            <a:ahLst/>
            <a:rect l="textAreaLeft" t="textAreaTop" r="textAreaRight" b="textAreaBottom"/>
            <a:pathLst>
              <a:path w="1033" h="220">
                <a:moveTo>
                  <a:pt x="457" y="68"/>
                </a:moveTo>
                <a:lnTo>
                  <a:pt x="576" y="34"/>
                </a:lnTo>
                <a:lnTo>
                  <a:pt x="678" y="17"/>
                </a:lnTo>
                <a:lnTo>
                  <a:pt x="762" y="0"/>
                </a:lnTo>
                <a:lnTo>
                  <a:pt x="830" y="0"/>
                </a:lnTo>
                <a:lnTo>
                  <a:pt x="915" y="0"/>
                </a:lnTo>
                <a:lnTo>
                  <a:pt x="983" y="17"/>
                </a:lnTo>
                <a:lnTo>
                  <a:pt x="1017" y="17"/>
                </a:lnTo>
                <a:lnTo>
                  <a:pt x="1033" y="34"/>
                </a:lnTo>
                <a:lnTo>
                  <a:pt x="1033" y="51"/>
                </a:lnTo>
                <a:lnTo>
                  <a:pt x="1033" y="68"/>
                </a:lnTo>
                <a:lnTo>
                  <a:pt x="1017" y="85"/>
                </a:lnTo>
                <a:lnTo>
                  <a:pt x="983" y="85"/>
                </a:lnTo>
                <a:lnTo>
                  <a:pt x="932" y="102"/>
                </a:lnTo>
                <a:lnTo>
                  <a:pt x="881" y="119"/>
                </a:lnTo>
                <a:lnTo>
                  <a:pt x="813" y="119"/>
                </a:lnTo>
                <a:lnTo>
                  <a:pt x="745" y="136"/>
                </a:lnTo>
                <a:lnTo>
                  <a:pt x="644" y="153"/>
                </a:lnTo>
                <a:lnTo>
                  <a:pt x="559" y="169"/>
                </a:lnTo>
                <a:lnTo>
                  <a:pt x="474" y="186"/>
                </a:lnTo>
                <a:lnTo>
                  <a:pt x="390" y="186"/>
                </a:lnTo>
                <a:lnTo>
                  <a:pt x="322" y="203"/>
                </a:lnTo>
                <a:lnTo>
                  <a:pt x="271" y="203"/>
                </a:lnTo>
                <a:lnTo>
                  <a:pt x="237" y="220"/>
                </a:lnTo>
                <a:lnTo>
                  <a:pt x="203" y="220"/>
                </a:lnTo>
                <a:lnTo>
                  <a:pt x="186" y="220"/>
                </a:lnTo>
                <a:lnTo>
                  <a:pt x="119" y="203"/>
                </a:lnTo>
                <a:lnTo>
                  <a:pt x="51" y="186"/>
                </a:lnTo>
                <a:lnTo>
                  <a:pt x="34" y="186"/>
                </a:lnTo>
                <a:lnTo>
                  <a:pt x="17" y="169"/>
                </a:lnTo>
                <a:lnTo>
                  <a:pt x="0" y="153"/>
                </a:lnTo>
                <a:lnTo>
                  <a:pt x="0" y="136"/>
                </a:lnTo>
                <a:lnTo>
                  <a:pt x="102" y="136"/>
                </a:lnTo>
                <a:lnTo>
                  <a:pt x="203" y="119"/>
                </a:lnTo>
                <a:lnTo>
                  <a:pt x="322" y="85"/>
                </a:lnTo>
                <a:lnTo>
                  <a:pt x="457" y="6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19" name="Freeform 31"/>
          <p:cNvSpPr/>
          <p:nvPr/>
        </p:nvSpPr>
        <p:spPr>
          <a:xfrm>
            <a:off x="2064600" y="1990800"/>
            <a:ext cx="168840" cy="676080"/>
          </a:xfrm>
          <a:custGeom>
            <a:avLst/>
            <a:gdLst>
              <a:gd name="textAreaLeft" fmla="*/ 0 w 168840"/>
              <a:gd name="textAreaRight" fmla="*/ 169200 w 16884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356" h="1419">
                <a:moveTo>
                  <a:pt x="34" y="84"/>
                </a:moveTo>
                <a:lnTo>
                  <a:pt x="17" y="68"/>
                </a:lnTo>
                <a:lnTo>
                  <a:pt x="17" y="51"/>
                </a:lnTo>
                <a:lnTo>
                  <a:pt x="0" y="34"/>
                </a:lnTo>
                <a:lnTo>
                  <a:pt x="17" y="17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53" y="17"/>
                </a:lnTo>
                <a:lnTo>
                  <a:pt x="203" y="34"/>
                </a:lnTo>
                <a:lnTo>
                  <a:pt x="254" y="51"/>
                </a:lnTo>
                <a:lnTo>
                  <a:pt x="288" y="68"/>
                </a:lnTo>
                <a:lnTo>
                  <a:pt x="322" y="84"/>
                </a:lnTo>
                <a:lnTo>
                  <a:pt x="356" y="101"/>
                </a:lnTo>
                <a:lnTo>
                  <a:pt x="356" y="135"/>
                </a:lnTo>
                <a:lnTo>
                  <a:pt x="356" y="152"/>
                </a:lnTo>
                <a:lnTo>
                  <a:pt x="356" y="186"/>
                </a:lnTo>
                <a:lnTo>
                  <a:pt x="339" y="203"/>
                </a:lnTo>
                <a:lnTo>
                  <a:pt x="339" y="237"/>
                </a:lnTo>
                <a:lnTo>
                  <a:pt x="322" y="270"/>
                </a:lnTo>
                <a:lnTo>
                  <a:pt x="322" y="321"/>
                </a:lnTo>
                <a:lnTo>
                  <a:pt x="322" y="372"/>
                </a:lnTo>
                <a:lnTo>
                  <a:pt x="305" y="439"/>
                </a:lnTo>
                <a:lnTo>
                  <a:pt x="305" y="507"/>
                </a:lnTo>
                <a:lnTo>
                  <a:pt x="305" y="591"/>
                </a:lnTo>
                <a:lnTo>
                  <a:pt x="288" y="760"/>
                </a:lnTo>
                <a:lnTo>
                  <a:pt x="288" y="963"/>
                </a:lnTo>
                <a:lnTo>
                  <a:pt x="288" y="1166"/>
                </a:lnTo>
                <a:lnTo>
                  <a:pt x="288" y="1385"/>
                </a:lnTo>
                <a:lnTo>
                  <a:pt x="136" y="1419"/>
                </a:lnTo>
                <a:lnTo>
                  <a:pt x="136" y="1166"/>
                </a:lnTo>
                <a:lnTo>
                  <a:pt x="136" y="946"/>
                </a:lnTo>
                <a:lnTo>
                  <a:pt x="136" y="760"/>
                </a:lnTo>
                <a:lnTo>
                  <a:pt x="136" y="608"/>
                </a:lnTo>
                <a:lnTo>
                  <a:pt x="136" y="473"/>
                </a:lnTo>
                <a:lnTo>
                  <a:pt x="136" y="355"/>
                </a:lnTo>
                <a:lnTo>
                  <a:pt x="119" y="287"/>
                </a:lnTo>
                <a:lnTo>
                  <a:pt x="119" y="237"/>
                </a:lnTo>
                <a:lnTo>
                  <a:pt x="102" y="169"/>
                </a:lnTo>
                <a:lnTo>
                  <a:pt x="85" y="135"/>
                </a:lnTo>
                <a:lnTo>
                  <a:pt x="68" y="101"/>
                </a:lnTo>
                <a:lnTo>
                  <a:pt x="34" y="8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20" name="Freeform 33"/>
          <p:cNvSpPr/>
          <p:nvPr/>
        </p:nvSpPr>
        <p:spPr>
          <a:xfrm>
            <a:off x="1556280" y="2562480"/>
            <a:ext cx="1217520" cy="21636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216360"/>
              <a:gd name="textAreaBottom" fmla="*/ 216720 h 216360"/>
            </a:gdLst>
            <a:ahLst/>
            <a:rect l="textAreaLeft" t="textAreaTop" r="textAreaRight" b="textAreaBottom"/>
            <a:pathLst>
              <a:path w="2558" h="456">
                <a:moveTo>
                  <a:pt x="2202" y="0"/>
                </a:moveTo>
                <a:lnTo>
                  <a:pt x="2287" y="0"/>
                </a:lnTo>
                <a:lnTo>
                  <a:pt x="2372" y="0"/>
                </a:lnTo>
                <a:lnTo>
                  <a:pt x="2422" y="16"/>
                </a:lnTo>
                <a:lnTo>
                  <a:pt x="2473" y="50"/>
                </a:lnTo>
                <a:lnTo>
                  <a:pt x="2507" y="67"/>
                </a:lnTo>
                <a:lnTo>
                  <a:pt x="2541" y="101"/>
                </a:lnTo>
                <a:lnTo>
                  <a:pt x="2558" y="118"/>
                </a:lnTo>
                <a:lnTo>
                  <a:pt x="2558" y="135"/>
                </a:lnTo>
                <a:lnTo>
                  <a:pt x="2558" y="152"/>
                </a:lnTo>
                <a:lnTo>
                  <a:pt x="2541" y="152"/>
                </a:lnTo>
                <a:lnTo>
                  <a:pt x="2507" y="152"/>
                </a:lnTo>
                <a:lnTo>
                  <a:pt x="2473" y="169"/>
                </a:lnTo>
                <a:lnTo>
                  <a:pt x="2439" y="169"/>
                </a:lnTo>
                <a:lnTo>
                  <a:pt x="2372" y="169"/>
                </a:lnTo>
                <a:lnTo>
                  <a:pt x="2304" y="169"/>
                </a:lnTo>
                <a:lnTo>
                  <a:pt x="2236" y="169"/>
                </a:lnTo>
                <a:lnTo>
                  <a:pt x="1914" y="185"/>
                </a:lnTo>
                <a:lnTo>
                  <a:pt x="1609" y="219"/>
                </a:lnTo>
                <a:lnTo>
                  <a:pt x="1541" y="219"/>
                </a:lnTo>
                <a:lnTo>
                  <a:pt x="1457" y="236"/>
                </a:lnTo>
                <a:lnTo>
                  <a:pt x="1355" y="253"/>
                </a:lnTo>
                <a:lnTo>
                  <a:pt x="1270" y="270"/>
                </a:lnTo>
                <a:lnTo>
                  <a:pt x="1152" y="287"/>
                </a:lnTo>
                <a:lnTo>
                  <a:pt x="1050" y="304"/>
                </a:lnTo>
                <a:lnTo>
                  <a:pt x="932" y="321"/>
                </a:lnTo>
                <a:lnTo>
                  <a:pt x="796" y="338"/>
                </a:lnTo>
                <a:lnTo>
                  <a:pt x="677" y="371"/>
                </a:lnTo>
                <a:lnTo>
                  <a:pt x="559" y="388"/>
                </a:lnTo>
                <a:lnTo>
                  <a:pt x="474" y="405"/>
                </a:lnTo>
                <a:lnTo>
                  <a:pt x="389" y="422"/>
                </a:lnTo>
                <a:lnTo>
                  <a:pt x="339" y="439"/>
                </a:lnTo>
                <a:lnTo>
                  <a:pt x="288" y="439"/>
                </a:lnTo>
                <a:lnTo>
                  <a:pt x="254" y="456"/>
                </a:lnTo>
                <a:lnTo>
                  <a:pt x="220" y="456"/>
                </a:lnTo>
                <a:lnTo>
                  <a:pt x="203" y="439"/>
                </a:lnTo>
                <a:lnTo>
                  <a:pt x="169" y="439"/>
                </a:lnTo>
                <a:lnTo>
                  <a:pt x="135" y="422"/>
                </a:lnTo>
                <a:lnTo>
                  <a:pt x="101" y="405"/>
                </a:lnTo>
                <a:lnTo>
                  <a:pt x="51" y="371"/>
                </a:lnTo>
                <a:lnTo>
                  <a:pt x="34" y="354"/>
                </a:lnTo>
                <a:lnTo>
                  <a:pt x="17" y="338"/>
                </a:lnTo>
                <a:lnTo>
                  <a:pt x="0" y="321"/>
                </a:lnTo>
                <a:lnTo>
                  <a:pt x="34" y="321"/>
                </a:lnTo>
                <a:lnTo>
                  <a:pt x="84" y="304"/>
                </a:lnTo>
                <a:lnTo>
                  <a:pt x="135" y="304"/>
                </a:lnTo>
                <a:lnTo>
                  <a:pt x="203" y="287"/>
                </a:lnTo>
                <a:lnTo>
                  <a:pt x="271" y="287"/>
                </a:lnTo>
                <a:lnTo>
                  <a:pt x="355" y="270"/>
                </a:lnTo>
                <a:lnTo>
                  <a:pt x="474" y="253"/>
                </a:lnTo>
                <a:lnTo>
                  <a:pt x="610" y="236"/>
                </a:lnTo>
                <a:lnTo>
                  <a:pt x="677" y="236"/>
                </a:lnTo>
                <a:lnTo>
                  <a:pt x="762" y="219"/>
                </a:lnTo>
                <a:lnTo>
                  <a:pt x="847" y="202"/>
                </a:lnTo>
                <a:lnTo>
                  <a:pt x="948" y="185"/>
                </a:lnTo>
                <a:lnTo>
                  <a:pt x="1067" y="169"/>
                </a:lnTo>
                <a:lnTo>
                  <a:pt x="1186" y="152"/>
                </a:lnTo>
                <a:lnTo>
                  <a:pt x="1321" y="118"/>
                </a:lnTo>
                <a:lnTo>
                  <a:pt x="1457" y="101"/>
                </a:lnTo>
                <a:lnTo>
                  <a:pt x="1592" y="67"/>
                </a:lnTo>
                <a:lnTo>
                  <a:pt x="1728" y="50"/>
                </a:lnTo>
                <a:lnTo>
                  <a:pt x="1829" y="33"/>
                </a:lnTo>
                <a:lnTo>
                  <a:pt x="1931" y="16"/>
                </a:lnTo>
                <a:lnTo>
                  <a:pt x="2016" y="0"/>
                </a:lnTo>
                <a:lnTo>
                  <a:pt x="2101" y="0"/>
                </a:lnTo>
                <a:lnTo>
                  <a:pt x="2151" y="0"/>
                </a:lnTo>
                <a:lnTo>
                  <a:pt x="2202" y="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21" name="Freeform 34"/>
          <p:cNvSpPr/>
          <p:nvPr/>
        </p:nvSpPr>
        <p:spPr>
          <a:xfrm>
            <a:off x="1523880" y="2682720"/>
            <a:ext cx="612720" cy="659160"/>
          </a:xfrm>
          <a:custGeom>
            <a:avLst/>
            <a:gdLst>
              <a:gd name="textAreaLeft" fmla="*/ 0 w 612720"/>
              <a:gd name="textAreaRight" fmla="*/ 613080 w 612720"/>
              <a:gd name="textAreaTop" fmla="*/ 0 h 659160"/>
              <a:gd name="textAreaBottom" fmla="*/ 659520 h 659160"/>
            </a:gdLst>
            <a:ahLst/>
            <a:rect l="textAreaLeft" t="textAreaTop" r="textAreaRight" b="textAreaBottom"/>
            <a:pathLst>
              <a:path w="1288" h="1385">
                <a:moveTo>
                  <a:pt x="1152" y="34"/>
                </a:moveTo>
                <a:lnTo>
                  <a:pt x="1203" y="51"/>
                </a:lnTo>
                <a:lnTo>
                  <a:pt x="1254" y="85"/>
                </a:lnTo>
                <a:lnTo>
                  <a:pt x="1288" y="118"/>
                </a:lnTo>
                <a:lnTo>
                  <a:pt x="1288" y="152"/>
                </a:lnTo>
                <a:lnTo>
                  <a:pt x="1288" y="186"/>
                </a:lnTo>
                <a:lnTo>
                  <a:pt x="1271" y="203"/>
                </a:lnTo>
                <a:lnTo>
                  <a:pt x="1237" y="237"/>
                </a:lnTo>
                <a:lnTo>
                  <a:pt x="1220" y="287"/>
                </a:lnTo>
                <a:lnTo>
                  <a:pt x="1186" y="338"/>
                </a:lnTo>
                <a:lnTo>
                  <a:pt x="1135" y="406"/>
                </a:lnTo>
                <a:lnTo>
                  <a:pt x="1084" y="473"/>
                </a:lnTo>
                <a:lnTo>
                  <a:pt x="1033" y="558"/>
                </a:lnTo>
                <a:lnTo>
                  <a:pt x="966" y="659"/>
                </a:lnTo>
                <a:lnTo>
                  <a:pt x="881" y="760"/>
                </a:lnTo>
                <a:lnTo>
                  <a:pt x="779" y="862"/>
                </a:lnTo>
                <a:lnTo>
                  <a:pt x="678" y="963"/>
                </a:lnTo>
                <a:lnTo>
                  <a:pt x="542" y="1064"/>
                </a:lnTo>
                <a:lnTo>
                  <a:pt x="440" y="1166"/>
                </a:lnTo>
                <a:lnTo>
                  <a:pt x="322" y="1233"/>
                </a:lnTo>
                <a:lnTo>
                  <a:pt x="220" y="1301"/>
                </a:lnTo>
                <a:lnTo>
                  <a:pt x="119" y="1352"/>
                </a:lnTo>
                <a:lnTo>
                  <a:pt x="51" y="1369"/>
                </a:lnTo>
                <a:lnTo>
                  <a:pt x="17" y="1385"/>
                </a:lnTo>
                <a:lnTo>
                  <a:pt x="0" y="1385"/>
                </a:lnTo>
                <a:lnTo>
                  <a:pt x="0" y="1369"/>
                </a:lnTo>
                <a:lnTo>
                  <a:pt x="17" y="1335"/>
                </a:lnTo>
                <a:lnTo>
                  <a:pt x="68" y="1301"/>
                </a:lnTo>
                <a:lnTo>
                  <a:pt x="119" y="1250"/>
                </a:lnTo>
                <a:lnTo>
                  <a:pt x="203" y="1200"/>
                </a:lnTo>
                <a:lnTo>
                  <a:pt x="288" y="1132"/>
                </a:lnTo>
                <a:lnTo>
                  <a:pt x="390" y="1048"/>
                </a:lnTo>
                <a:lnTo>
                  <a:pt x="474" y="963"/>
                </a:lnTo>
                <a:lnTo>
                  <a:pt x="644" y="794"/>
                </a:lnTo>
                <a:lnTo>
                  <a:pt x="779" y="608"/>
                </a:lnTo>
                <a:lnTo>
                  <a:pt x="847" y="524"/>
                </a:lnTo>
                <a:lnTo>
                  <a:pt x="898" y="439"/>
                </a:lnTo>
                <a:lnTo>
                  <a:pt x="949" y="372"/>
                </a:lnTo>
                <a:lnTo>
                  <a:pt x="1000" y="287"/>
                </a:lnTo>
                <a:lnTo>
                  <a:pt x="1033" y="220"/>
                </a:lnTo>
                <a:lnTo>
                  <a:pt x="1050" y="152"/>
                </a:lnTo>
                <a:lnTo>
                  <a:pt x="1067" y="101"/>
                </a:lnTo>
                <a:lnTo>
                  <a:pt x="1067" y="68"/>
                </a:lnTo>
                <a:lnTo>
                  <a:pt x="1050" y="34"/>
                </a:lnTo>
                <a:lnTo>
                  <a:pt x="1050" y="17"/>
                </a:lnTo>
                <a:lnTo>
                  <a:pt x="1067" y="0"/>
                </a:lnTo>
                <a:lnTo>
                  <a:pt x="1101" y="17"/>
                </a:lnTo>
                <a:lnTo>
                  <a:pt x="1152" y="3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22" name="Freeform 35"/>
          <p:cNvSpPr/>
          <p:nvPr/>
        </p:nvSpPr>
        <p:spPr>
          <a:xfrm>
            <a:off x="1789560" y="2795760"/>
            <a:ext cx="669960" cy="554400"/>
          </a:xfrm>
          <a:custGeom>
            <a:avLst/>
            <a:gdLst>
              <a:gd name="textAreaLeft" fmla="*/ 0 w 669960"/>
              <a:gd name="textAreaRight" fmla="*/ 670320 w 669960"/>
              <a:gd name="textAreaTop" fmla="*/ 0 h 554400"/>
              <a:gd name="textAreaBottom" fmla="*/ 554760 h 554400"/>
            </a:gdLst>
            <a:ahLst/>
            <a:rect l="textAreaLeft" t="textAreaTop" r="textAreaRight" b="textAreaBottom"/>
            <a:pathLst>
              <a:path w="1406" h="1165">
                <a:moveTo>
                  <a:pt x="1118" y="608"/>
                </a:moveTo>
                <a:lnTo>
                  <a:pt x="1084" y="675"/>
                </a:lnTo>
                <a:lnTo>
                  <a:pt x="1017" y="726"/>
                </a:lnTo>
                <a:lnTo>
                  <a:pt x="949" y="794"/>
                </a:lnTo>
                <a:lnTo>
                  <a:pt x="864" y="861"/>
                </a:lnTo>
                <a:lnTo>
                  <a:pt x="762" y="929"/>
                </a:lnTo>
                <a:lnTo>
                  <a:pt x="678" y="980"/>
                </a:lnTo>
                <a:lnTo>
                  <a:pt x="576" y="1030"/>
                </a:lnTo>
                <a:lnTo>
                  <a:pt x="491" y="1064"/>
                </a:lnTo>
                <a:lnTo>
                  <a:pt x="322" y="1132"/>
                </a:lnTo>
                <a:lnTo>
                  <a:pt x="237" y="1148"/>
                </a:lnTo>
                <a:lnTo>
                  <a:pt x="169" y="1165"/>
                </a:lnTo>
                <a:lnTo>
                  <a:pt x="102" y="1165"/>
                </a:lnTo>
                <a:lnTo>
                  <a:pt x="51" y="1165"/>
                </a:lnTo>
                <a:lnTo>
                  <a:pt x="17" y="1165"/>
                </a:lnTo>
                <a:lnTo>
                  <a:pt x="0" y="1165"/>
                </a:lnTo>
                <a:lnTo>
                  <a:pt x="0" y="1148"/>
                </a:lnTo>
                <a:lnTo>
                  <a:pt x="17" y="1148"/>
                </a:lnTo>
                <a:lnTo>
                  <a:pt x="34" y="1132"/>
                </a:lnTo>
                <a:lnTo>
                  <a:pt x="68" y="1115"/>
                </a:lnTo>
                <a:lnTo>
                  <a:pt x="102" y="1098"/>
                </a:lnTo>
                <a:lnTo>
                  <a:pt x="153" y="1081"/>
                </a:lnTo>
                <a:lnTo>
                  <a:pt x="203" y="1047"/>
                </a:lnTo>
                <a:lnTo>
                  <a:pt x="271" y="1013"/>
                </a:lnTo>
                <a:lnTo>
                  <a:pt x="407" y="963"/>
                </a:lnTo>
                <a:lnTo>
                  <a:pt x="525" y="912"/>
                </a:lnTo>
                <a:lnTo>
                  <a:pt x="627" y="844"/>
                </a:lnTo>
                <a:lnTo>
                  <a:pt x="729" y="777"/>
                </a:lnTo>
                <a:lnTo>
                  <a:pt x="796" y="709"/>
                </a:lnTo>
                <a:lnTo>
                  <a:pt x="864" y="642"/>
                </a:lnTo>
                <a:lnTo>
                  <a:pt x="915" y="574"/>
                </a:lnTo>
                <a:lnTo>
                  <a:pt x="966" y="506"/>
                </a:lnTo>
                <a:lnTo>
                  <a:pt x="1034" y="405"/>
                </a:lnTo>
                <a:lnTo>
                  <a:pt x="1050" y="354"/>
                </a:lnTo>
                <a:lnTo>
                  <a:pt x="1067" y="304"/>
                </a:lnTo>
                <a:lnTo>
                  <a:pt x="1084" y="270"/>
                </a:lnTo>
                <a:lnTo>
                  <a:pt x="1084" y="236"/>
                </a:lnTo>
                <a:lnTo>
                  <a:pt x="1084" y="202"/>
                </a:lnTo>
                <a:lnTo>
                  <a:pt x="1067" y="185"/>
                </a:lnTo>
                <a:lnTo>
                  <a:pt x="1050" y="185"/>
                </a:lnTo>
                <a:lnTo>
                  <a:pt x="1017" y="185"/>
                </a:lnTo>
                <a:lnTo>
                  <a:pt x="949" y="185"/>
                </a:lnTo>
                <a:lnTo>
                  <a:pt x="898" y="202"/>
                </a:lnTo>
                <a:lnTo>
                  <a:pt x="847" y="219"/>
                </a:lnTo>
                <a:lnTo>
                  <a:pt x="779" y="236"/>
                </a:lnTo>
                <a:lnTo>
                  <a:pt x="695" y="253"/>
                </a:lnTo>
                <a:lnTo>
                  <a:pt x="593" y="253"/>
                </a:lnTo>
                <a:lnTo>
                  <a:pt x="474" y="253"/>
                </a:lnTo>
                <a:lnTo>
                  <a:pt x="474" y="152"/>
                </a:lnTo>
                <a:lnTo>
                  <a:pt x="576" y="152"/>
                </a:lnTo>
                <a:lnTo>
                  <a:pt x="678" y="152"/>
                </a:lnTo>
                <a:lnTo>
                  <a:pt x="762" y="135"/>
                </a:lnTo>
                <a:lnTo>
                  <a:pt x="847" y="101"/>
                </a:lnTo>
                <a:lnTo>
                  <a:pt x="932" y="84"/>
                </a:lnTo>
                <a:lnTo>
                  <a:pt x="983" y="67"/>
                </a:lnTo>
                <a:lnTo>
                  <a:pt x="1034" y="50"/>
                </a:lnTo>
                <a:lnTo>
                  <a:pt x="1067" y="33"/>
                </a:lnTo>
                <a:lnTo>
                  <a:pt x="1101" y="0"/>
                </a:lnTo>
                <a:lnTo>
                  <a:pt x="1152" y="0"/>
                </a:lnTo>
                <a:lnTo>
                  <a:pt x="1169" y="16"/>
                </a:lnTo>
                <a:lnTo>
                  <a:pt x="1203" y="33"/>
                </a:lnTo>
                <a:lnTo>
                  <a:pt x="1254" y="50"/>
                </a:lnTo>
                <a:lnTo>
                  <a:pt x="1305" y="84"/>
                </a:lnTo>
                <a:lnTo>
                  <a:pt x="1338" y="101"/>
                </a:lnTo>
                <a:lnTo>
                  <a:pt x="1372" y="135"/>
                </a:lnTo>
                <a:lnTo>
                  <a:pt x="1406" y="169"/>
                </a:lnTo>
                <a:lnTo>
                  <a:pt x="1406" y="185"/>
                </a:lnTo>
                <a:lnTo>
                  <a:pt x="1406" y="202"/>
                </a:lnTo>
                <a:lnTo>
                  <a:pt x="1389" y="219"/>
                </a:lnTo>
                <a:lnTo>
                  <a:pt x="1372" y="219"/>
                </a:lnTo>
                <a:lnTo>
                  <a:pt x="1355" y="236"/>
                </a:lnTo>
                <a:lnTo>
                  <a:pt x="1322" y="253"/>
                </a:lnTo>
                <a:lnTo>
                  <a:pt x="1305" y="270"/>
                </a:lnTo>
                <a:lnTo>
                  <a:pt x="1288" y="321"/>
                </a:lnTo>
                <a:lnTo>
                  <a:pt x="1271" y="371"/>
                </a:lnTo>
                <a:lnTo>
                  <a:pt x="1203" y="490"/>
                </a:lnTo>
                <a:lnTo>
                  <a:pt x="1169" y="557"/>
                </a:lnTo>
                <a:lnTo>
                  <a:pt x="1118" y="60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23" name="Freeform 36"/>
          <p:cNvSpPr/>
          <p:nvPr/>
        </p:nvSpPr>
        <p:spPr>
          <a:xfrm>
            <a:off x="1951560" y="2948400"/>
            <a:ext cx="992520" cy="490320"/>
          </a:xfrm>
          <a:custGeom>
            <a:avLst/>
            <a:gdLst>
              <a:gd name="textAreaLeft" fmla="*/ 0 w 992520"/>
              <a:gd name="textAreaRight" fmla="*/ 992880 w 99252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2084" h="1030">
                <a:moveTo>
                  <a:pt x="1304" y="1030"/>
                </a:moveTo>
                <a:lnTo>
                  <a:pt x="1271" y="1013"/>
                </a:lnTo>
                <a:lnTo>
                  <a:pt x="1237" y="996"/>
                </a:lnTo>
                <a:lnTo>
                  <a:pt x="1203" y="980"/>
                </a:lnTo>
                <a:lnTo>
                  <a:pt x="1169" y="946"/>
                </a:lnTo>
                <a:lnTo>
                  <a:pt x="1118" y="912"/>
                </a:lnTo>
                <a:lnTo>
                  <a:pt x="1050" y="861"/>
                </a:lnTo>
                <a:lnTo>
                  <a:pt x="999" y="811"/>
                </a:lnTo>
                <a:lnTo>
                  <a:pt x="932" y="743"/>
                </a:lnTo>
                <a:lnTo>
                  <a:pt x="847" y="675"/>
                </a:lnTo>
                <a:lnTo>
                  <a:pt x="762" y="608"/>
                </a:lnTo>
                <a:lnTo>
                  <a:pt x="661" y="540"/>
                </a:lnTo>
                <a:lnTo>
                  <a:pt x="542" y="456"/>
                </a:lnTo>
                <a:lnTo>
                  <a:pt x="423" y="354"/>
                </a:lnTo>
                <a:lnTo>
                  <a:pt x="305" y="270"/>
                </a:lnTo>
                <a:lnTo>
                  <a:pt x="152" y="169"/>
                </a:lnTo>
                <a:lnTo>
                  <a:pt x="0" y="67"/>
                </a:lnTo>
                <a:lnTo>
                  <a:pt x="51" y="0"/>
                </a:lnTo>
                <a:lnTo>
                  <a:pt x="271" y="135"/>
                </a:lnTo>
                <a:lnTo>
                  <a:pt x="474" y="253"/>
                </a:lnTo>
                <a:lnTo>
                  <a:pt x="661" y="354"/>
                </a:lnTo>
                <a:lnTo>
                  <a:pt x="813" y="456"/>
                </a:lnTo>
                <a:lnTo>
                  <a:pt x="881" y="490"/>
                </a:lnTo>
                <a:lnTo>
                  <a:pt x="966" y="540"/>
                </a:lnTo>
                <a:lnTo>
                  <a:pt x="1050" y="574"/>
                </a:lnTo>
                <a:lnTo>
                  <a:pt x="1135" y="608"/>
                </a:lnTo>
                <a:lnTo>
                  <a:pt x="1237" y="659"/>
                </a:lnTo>
                <a:lnTo>
                  <a:pt x="1355" y="692"/>
                </a:lnTo>
                <a:lnTo>
                  <a:pt x="1457" y="726"/>
                </a:lnTo>
                <a:lnTo>
                  <a:pt x="1592" y="760"/>
                </a:lnTo>
                <a:lnTo>
                  <a:pt x="1694" y="794"/>
                </a:lnTo>
                <a:lnTo>
                  <a:pt x="1796" y="811"/>
                </a:lnTo>
                <a:lnTo>
                  <a:pt x="1880" y="844"/>
                </a:lnTo>
                <a:lnTo>
                  <a:pt x="1948" y="861"/>
                </a:lnTo>
                <a:lnTo>
                  <a:pt x="2016" y="878"/>
                </a:lnTo>
                <a:lnTo>
                  <a:pt x="2050" y="895"/>
                </a:lnTo>
                <a:lnTo>
                  <a:pt x="2067" y="912"/>
                </a:lnTo>
                <a:lnTo>
                  <a:pt x="2084" y="912"/>
                </a:lnTo>
                <a:lnTo>
                  <a:pt x="2067" y="929"/>
                </a:lnTo>
                <a:lnTo>
                  <a:pt x="2050" y="946"/>
                </a:lnTo>
                <a:lnTo>
                  <a:pt x="2016" y="946"/>
                </a:lnTo>
                <a:lnTo>
                  <a:pt x="1982" y="963"/>
                </a:lnTo>
                <a:lnTo>
                  <a:pt x="1931" y="963"/>
                </a:lnTo>
                <a:lnTo>
                  <a:pt x="1880" y="980"/>
                </a:lnTo>
                <a:lnTo>
                  <a:pt x="1813" y="996"/>
                </a:lnTo>
                <a:lnTo>
                  <a:pt x="1728" y="996"/>
                </a:lnTo>
                <a:lnTo>
                  <a:pt x="1643" y="1013"/>
                </a:lnTo>
                <a:lnTo>
                  <a:pt x="1575" y="1013"/>
                </a:lnTo>
                <a:lnTo>
                  <a:pt x="1508" y="1030"/>
                </a:lnTo>
                <a:lnTo>
                  <a:pt x="1457" y="1030"/>
                </a:lnTo>
                <a:lnTo>
                  <a:pt x="1406" y="1030"/>
                </a:lnTo>
                <a:lnTo>
                  <a:pt x="1372" y="1030"/>
                </a:lnTo>
                <a:lnTo>
                  <a:pt x="1321" y="1030"/>
                </a:lnTo>
                <a:lnTo>
                  <a:pt x="1304" y="103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文本框 38"/>
          <p:cNvSpPr/>
          <p:nvPr/>
        </p:nvSpPr>
        <p:spPr>
          <a:xfrm>
            <a:off x="6908040" y="1082520"/>
            <a:ext cx="754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ɡā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0"/>
          <p:cNvSpPr/>
          <p:nvPr/>
        </p:nvSpPr>
        <p:spPr>
          <a:xfrm>
            <a:off x="354960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3"/>
          <p:cNvSpPr/>
          <p:nvPr/>
        </p:nvSpPr>
        <p:spPr>
          <a:xfrm>
            <a:off x="4322520" y="1714680"/>
            <a:ext cx="44316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应该  本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们到底应该怎么办？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右边第三笔是撇折，第四笔撇穿插在左边言字旁下面，最后一笔是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29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7"/>
          <p:cNvSpPr/>
          <p:nvPr/>
        </p:nvSpPr>
        <p:spPr>
          <a:xfrm>
            <a:off x="1689480" y="2162520"/>
            <a:ext cx="201960" cy="200880"/>
          </a:xfrm>
          <a:custGeom>
            <a:avLst/>
            <a:gdLst>
              <a:gd name="textAreaLeft" fmla="*/ 0 w 201960"/>
              <a:gd name="textAreaRight" fmla="*/ 202320 w 201960"/>
              <a:gd name="textAreaTop" fmla="*/ 0 h 200880"/>
              <a:gd name="textAreaBottom" fmla="*/ 201240 h 200880"/>
            </a:gdLst>
            <a:ahLst/>
            <a:rect l="textAreaLeft" t="textAreaTop" r="textAreaRight" b="textAreaBottom"/>
            <a:pathLst>
              <a:path w="424" h="423">
                <a:moveTo>
                  <a:pt x="102" y="203"/>
                </a:moveTo>
                <a:lnTo>
                  <a:pt x="51" y="135"/>
                </a:lnTo>
                <a:lnTo>
                  <a:pt x="34" y="85"/>
                </a:lnTo>
                <a:lnTo>
                  <a:pt x="17" y="51"/>
                </a:lnTo>
                <a:lnTo>
                  <a:pt x="0" y="17"/>
                </a:lnTo>
                <a:lnTo>
                  <a:pt x="17" y="0"/>
                </a:lnTo>
                <a:lnTo>
                  <a:pt x="34" y="0"/>
                </a:lnTo>
                <a:lnTo>
                  <a:pt x="51" y="0"/>
                </a:lnTo>
                <a:lnTo>
                  <a:pt x="119" y="0"/>
                </a:lnTo>
                <a:lnTo>
                  <a:pt x="153" y="0"/>
                </a:lnTo>
                <a:lnTo>
                  <a:pt x="203" y="17"/>
                </a:lnTo>
                <a:lnTo>
                  <a:pt x="237" y="34"/>
                </a:lnTo>
                <a:lnTo>
                  <a:pt x="271" y="51"/>
                </a:lnTo>
                <a:lnTo>
                  <a:pt x="356" y="101"/>
                </a:lnTo>
                <a:lnTo>
                  <a:pt x="390" y="135"/>
                </a:lnTo>
                <a:lnTo>
                  <a:pt x="407" y="186"/>
                </a:lnTo>
                <a:lnTo>
                  <a:pt x="424" y="237"/>
                </a:lnTo>
                <a:lnTo>
                  <a:pt x="424" y="287"/>
                </a:lnTo>
                <a:lnTo>
                  <a:pt x="424" y="338"/>
                </a:lnTo>
                <a:lnTo>
                  <a:pt x="407" y="389"/>
                </a:lnTo>
                <a:lnTo>
                  <a:pt x="407" y="406"/>
                </a:lnTo>
                <a:lnTo>
                  <a:pt x="390" y="423"/>
                </a:lnTo>
                <a:lnTo>
                  <a:pt x="373" y="423"/>
                </a:lnTo>
                <a:lnTo>
                  <a:pt x="339" y="406"/>
                </a:lnTo>
                <a:lnTo>
                  <a:pt x="322" y="389"/>
                </a:lnTo>
                <a:lnTo>
                  <a:pt x="271" y="372"/>
                </a:lnTo>
                <a:lnTo>
                  <a:pt x="237" y="338"/>
                </a:lnTo>
                <a:lnTo>
                  <a:pt x="186" y="287"/>
                </a:lnTo>
                <a:lnTo>
                  <a:pt x="136" y="254"/>
                </a:lnTo>
                <a:lnTo>
                  <a:pt x="102" y="20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078560" y="1692000"/>
            <a:ext cx="2160360" cy="2160000"/>
            <a:chOff x="1078560" y="1692000"/>
            <a:chExt cx="2160360" cy="2160000"/>
          </a:xfrm>
        </p:grpSpPr>
        <p:sp>
          <p:nvSpPr>
            <p:cNvPr id="332" name="Rectangle 5"/>
            <p:cNvSpPr/>
            <p:nvPr/>
          </p:nvSpPr>
          <p:spPr>
            <a:xfrm>
              <a:off x="2158560" y="276336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33" name="Rectangle 6"/>
            <p:cNvSpPr/>
            <p:nvPr/>
          </p:nvSpPr>
          <p:spPr>
            <a:xfrm>
              <a:off x="1078920" y="276336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2158560" y="169200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1078920" y="169200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36" name="Line 9"/>
            <p:cNvSpPr/>
            <p:nvPr/>
          </p:nvSpPr>
          <p:spPr>
            <a:xfrm>
              <a:off x="1078560" y="1692000"/>
              <a:ext cx="216000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0"/>
            <p:cNvSpPr/>
            <p:nvPr/>
          </p:nvSpPr>
          <p:spPr>
            <a:xfrm>
              <a:off x="1078560" y="3851640"/>
              <a:ext cx="216000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1"/>
            <p:cNvSpPr/>
            <p:nvPr/>
          </p:nvSpPr>
          <p:spPr>
            <a:xfrm>
              <a:off x="1078560" y="169200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2"/>
            <p:cNvSpPr/>
            <p:nvPr/>
          </p:nvSpPr>
          <p:spPr>
            <a:xfrm>
              <a:off x="3238560" y="169200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1078560" y="2763000"/>
              <a:ext cx="216000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4"/>
            <p:cNvSpPr/>
            <p:nvPr/>
          </p:nvSpPr>
          <p:spPr>
            <a:xfrm>
              <a:off x="2158560" y="1692000"/>
              <a:ext cx="360" cy="215964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Freeform 38"/>
          <p:cNvSpPr/>
          <p:nvPr/>
        </p:nvSpPr>
        <p:spPr>
          <a:xfrm>
            <a:off x="1415880" y="2516040"/>
            <a:ext cx="531720" cy="787680"/>
          </a:xfrm>
          <a:custGeom>
            <a:avLst/>
            <a:gdLst>
              <a:gd name="textAreaLeft" fmla="*/ 0 w 531720"/>
              <a:gd name="textAreaRight" fmla="*/ 532080 w 53172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w="1118" h="1655">
                <a:moveTo>
                  <a:pt x="898" y="1013"/>
                </a:moveTo>
                <a:lnTo>
                  <a:pt x="1000" y="946"/>
                </a:lnTo>
                <a:lnTo>
                  <a:pt x="1067" y="912"/>
                </a:lnTo>
                <a:lnTo>
                  <a:pt x="1101" y="895"/>
                </a:lnTo>
                <a:lnTo>
                  <a:pt x="1118" y="895"/>
                </a:lnTo>
                <a:lnTo>
                  <a:pt x="1118" y="912"/>
                </a:lnTo>
                <a:lnTo>
                  <a:pt x="1101" y="946"/>
                </a:lnTo>
                <a:lnTo>
                  <a:pt x="1084" y="979"/>
                </a:lnTo>
                <a:lnTo>
                  <a:pt x="1050" y="1013"/>
                </a:lnTo>
                <a:lnTo>
                  <a:pt x="1000" y="1081"/>
                </a:lnTo>
                <a:lnTo>
                  <a:pt x="949" y="1132"/>
                </a:lnTo>
                <a:lnTo>
                  <a:pt x="898" y="1199"/>
                </a:lnTo>
                <a:lnTo>
                  <a:pt x="779" y="1334"/>
                </a:lnTo>
                <a:lnTo>
                  <a:pt x="729" y="1402"/>
                </a:lnTo>
                <a:lnTo>
                  <a:pt x="678" y="1453"/>
                </a:lnTo>
                <a:lnTo>
                  <a:pt x="644" y="1486"/>
                </a:lnTo>
                <a:lnTo>
                  <a:pt x="610" y="1537"/>
                </a:lnTo>
                <a:lnTo>
                  <a:pt x="593" y="1554"/>
                </a:lnTo>
                <a:lnTo>
                  <a:pt x="576" y="1588"/>
                </a:lnTo>
                <a:lnTo>
                  <a:pt x="559" y="1622"/>
                </a:lnTo>
                <a:lnTo>
                  <a:pt x="542" y="1638"/>
                </a:lnTo>
                <a:lnTo>
                  <a:pt x="525" y="1655"/>
                </a:lnTo>
                <a:lnTo>
                  <a:pt x="508" y="1655"/>
                </a:lnTo>
                <a:lnTo>
                  <a:pt x="491" y="1655"/>
                </a:lnTo>
                <a:lnTo>
                  <a:pt x="474" y="1655"/>
                </a:lnTo>
                <a:lnTo>
                  <a:pt x="458" y="1638"/>
                </a:lnTo>
                <a:lnTo>
                  <a:pt x="458" y="1605"/>
                </a:lnTo>
                <a:lnTo>
                  <a:pt x="424" y="1554"/>
                </a:lnTo>
                <a:lnTo>
                  <a:pt x="407" y="1486"/>
                </a:lnTo>
                <a:lnTo>
                  <a:pt x="390" y="1419"/>
                </a:lnTo>
                <a:lnTo>
                  <a:pt x="373" y="1368"/>
                </a:lnTo>
                <a:lnTo>
                  <a:pt x="373" y="1351"/>
                </a:lnTo>
                <a:lnTo>
                  <a:pt x="390" y="1334"/>
                </a:lnTo>
                <a:lnTo>
                  <a:pt x="424" y="1300"/>
                </a:lnTo>
                <a:lnTo>
                  <a:pt x="458" y="1267"/>
                </a:lnTo>
                <a:lnTo>
                  <a:pt x="474" y="1250"/>
                </a:lnTo>
                <a:lnTo>
                  <a:pt x="474" y="1216"/>
                </a:lnTo>
                <a:lnTo>
                  <a:pt x="491" y="1165"/>
                </a:lnTo>
                <a:lnTo>
                  <a:pt x="508" y="1115"/>
                </a:lnTo>
                <a:lnTo>
                  <a:pt x="525" y="1047"/>
                </a:lnTo>
                <a:lnTo>
                  <a:pt x="542" y="963"/>
                </a:lnTo>
                <a:lnTo>
                  <a:pt x="559" y="878"/>
                </a:lnTo>
                <a:lnTo>
                  <a:pt x="576" y="777"/>
                </a:lnTo>
                <a:lnTo>
                  <a:pt x="576" y="692"/>
                </a:lnTo>
                <a:lnTo>
                  <a:pt x="593" y="608"/>
                </a:lnTo>
                <a:lnTo>
                  <a:pt x="610" y="523"/>
                </a:lnTo>
                <a:lnTo>
                  <a:pt x="610" y="456"/>
                </a:lnTo>
                <a:lnTo>
                  <a:pt x="610" y="405"/>
                </a:lnTo>
                <a:lnTo>
                  <a:pt x="610" y="371"/>
                </a:lnTo>
                <a:lnTo>
                  <a:pt x="627" y="337"/>
                </a:lnTo>
                <a:lnTo>
                  <a:pt x="627" y="321"/>
                </a:lnTo>
                <a:lnTo>
                  <a:pt x="627" y="287"/>
                </a:lnTo>
                <a:lnTo>
                  <a:pt x="627" y="270"/>
                </a:lnTo>
                <a:lnTo>
                  <a:pt x="610" y="253"/>
                </a:lnTo>
                <a:lnTo>
                  <a:pt x="593" y="236"/>
                </a:lnTo>
                <a:lnTo>
                  <a:pt x="542" y="253"/>
                </a:lnTo>
                <a:lnTo>
                  <a:pt x="491" y="270"/>
                </a:lnTo>
                <a:lnTo>
                  <a:pt x="424" y="287"/>
                </a:lnTo>
                <a:lnTo>
                  <a:pt x="356" y="321"/>
                </a:lnTo>
                <a:lnTo>
                  <a:pt x="288" y="337"/>
                </a:lnTo>
                <a:lnTo>
                  <a:pt x="237" y="337"/>
                </a:lnTo>
                <a:lnTo>
                  <a:pt x="186" y="337"/>
                </a:lnTo>
                <a:lnTo>
                  <a:pt x="153" y="337"/>
                </a:lnTo>
                <a:lnTo>
                  <a:pt x="119" y="337"/>
                </a:lnTo>
                <a:lnTo>
                  <a:pt x="85" y="321"/>
                </a:lnTo>
                <a:lnTo>
                  <a:pt x="51" y="287"/>
                </a:lnTo>
                <a:lnTo>
                  <a:pt x="34" y="253"/>
                </a:lnTo>
                <a:lnTo>
                  <a:pt x="17" y="236"/>
                </a:lnTo>
                <a:lnTo>
                  <a:pt x="0" y="219"/>
                </a:lnTo>
                <a:lnTo>
                  <a:pt x="0" y="202"/>
                </a:lnTo>
                <a:lnTo>
                  <a:pt x="17" y="202"/>
                </a:lnTo>
                <a:lnTo>
                  <a:pt x="51" y="202"/>
                </a:lnTo>
                <a:lnTo>
                  <a:pt x="85" y="202"/>
                </a:lnTo>
                <a:lnTo>
                  <a:pt x="136" y="202"/>
                </a:lnTo>
                <a:lnTo>
                  <a:pt x="186" y="202"/>
                </a:lnTo>
                <a:lnTo>
                  <a:pt x="271" y="185"/>
                </a:lnTo>
                <a:lnTo>
                  <a:pt x="356" y="152"/>
                </a:lnTo>
                <a:lnTo>
                  <a:pt x="424" y="135"/>
                </a:lnTo>
                <a:lnTo>
                  <a:pt x="491" y="118"/>
                </a:lnTo>
                <a:lnTo>
                  <a:pt x="542" y="84"/>
                </a:lnTo>
                <a:lnTo>
                  <a:pt x="576" y="50"/>
                </a:lnTo>
                <a:lnTo>
                  <a:pt x="610" y="33"/>
                </a:lnTo>
                <a:lnTo>
                  <a:pt x="627" y="16"/>
                </a:lnTo>
                <a:lnTo>
                  <a:pt x="661" y="0"/>
                </a:lnTo>
                <a:lnTo>
                  <a:pt x="678" y="0"/>
                </a:lnTo>
                <a:lnTo>
                  <a:pt x="695" y="0"/>
                </a:lnTo>
                <a:lnTo>
                  <a:pt x="712" y="16"/>
                </a:lnTo>
                <a:lnTo>
                  <a:pt x="762" y="16"/>
                </a:lnTo>
                <a:lnTo>
                  <a:pt x="796" y="33"/>
                </a:lnTo>
                <a:lnTo>
                  <a:pt x="847" y="67"/>
                </a:lnTo>
                <a:lnTo>
                  <a:pt x="864" y="84"/>
                </a:lnTo>
                <a:lnTo>
                  <a:pt x="881" y="101"/>
                </a:lnTo>
                <a:lnTo>
                  <a:pt x="898" y="118"/>
                </a:lnTo>
                <a:lnTo>
                  <a:pt x="881" y="168"/>
                </a:lnTo>
                <a:lnTo>
                  <a:pt x="864" y="185"/>
                </a:lnTo>
                <a:lnTo>
                  <a:pt x="847" y="219"/>
                </a:lnTo>
                <a:lnTo>
                  <a:pt x="830" y="253"/>
                </a:lnTo>
                <a:lnTo>
                  <a:pt x="813" y="287"/>
                </a:lnTo>
                <a:lnTo>
                  <a:pt x="796" y="337"/>
                </a:lnTo>
                <a:lnTo>
                  <a:pt x="779" y="388"/>
                </a:lnTo>
                <a:lnTo>
                  <a:pt x="762" y="456"/>
                </a:lnTo>
                <a:lnTo>
                  <a:pt x="746" y="540"/>
                </a:lnTo>
                <a:lnTo>
                  <a:pt x="746" y="625"/>
                </a:lnTo>
                <a:lnTo>
                  <a:pt x="729" y="726"/>
                </a:lnTo>
                <a:lnTo>
                  <a:pt x="712" y="811"/>
                </a:lnTo>
                <a:lnTo>
                  <a:pt x="695" y="895"/>
                </a:lnTo>
                <a:lnTo>
                  <a:pt x="695" y="979"/>
                </a:lnTo>
                <a:lnTo>
                  <a:pt x="695" y="1030"/>
                </a:lnTo>
                <a:lnTo>
                  <a:pt x="695" y="1081"/>
                </a:lnTo>
                <a:lnTo>
                  <a:pt x="695" y="1115"/>
                </a:lnTo>
                <a:lnTo>
                  <a:pt x="695" y="1132"/>
                </a:lnTo>
                <a:lnTo>
                  <a:pt x="695" y="1148"/>
                </a:lnTo>
                <a:lnTo>
                  <a:pt x="712" y="1148"/>
                </a:lnTo>
                <a:lnTo>
                  <a:pt x="762" y="1132"/>
                </a:lnTo>
                <a:lnTo>
                  <a:pt x="830" y="1081"/>
                </a:lnTo>
                <a:lnTo>
                  <a:pt x="898" y="101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43" name="Freeform 39"/>
          <p:cNvSpPr/>
          <p:nvPr/>
        </p:nvSpPr>
        <p:spPr>
          <a:xfrm>
            <a:off x="2214720" y="2113560"/>
            <a:ext cx="232920" cy="177120"/>
          </a:xfrm>
          <a:custGeom>
            <a:avLst/>
            <a:gdLst>
              <a:gd name="textAreaLeft" fmla="*/ 0 w 232920"/>
              <a:gd name="textAreaRight" fmla="*/ 233280 w 232920"/>
              <a:gd name="textAreaTop" fmla="*/ 0 h 177120"/>
              <a:gd name="textAreaBottom" fmla="*/ 177480 h 177120"/>
            </a:gdLst>
            <a:ahLst/>
            <a:rect l="textAreaLeft" t="textAreaTop" r="textAreaRight" b="textAreaBottom"/>
            <a:pathLst>
              <a:path w="492" h="371">
                <a:moveTo>
                  <a:pt x="0" y="17"/>
                </a:moveTo>
                <a:lnTo>
                  <a:pt x="17" y="17"/>
                </a:lnTo>
                <a:lnTo>
                  <a:pt x="34" y="0"/>
                </a:lnTo>
                <a:lnTo>
                  <a:pt x="68" y="0"/>
                </a:lnTo>
                <a:lnTo>
                  <a:pt x="136" y="0"/>
                </a:lnTo>
                <a:lnTo>
                  <a:pt x="238" y="0"/>
                </a:lnTo>
                <a:lnTo>
                  <a:pt x="339" y="17"/>
                </a:lnTo>
                <a:lnTo>
                  <a:pt x="407" y="67"/>
                </a:lnTo>
                <a:lnTo>
                  <a:pt x="458" y="118"/>
                </a:lnTo>
                <a:lnTo>
                  <a:pt x="475" y="169"/>
                </a:lnTo>
                <a:lnTo>
                  <a:pt x="492" y="236"/>
                </a:lnTo>
                <a:lnTo>
                  <a:pt x="475" y="270"/>
                </a:lnTo>
                <a:lnTo>
                  <a:pt x="475" y="304"/>
                </a:lnTo>
                <a:lnTo>
                  <a:pt x="475" y="321"/>
                </a:lnTo>
                <a:lnTo>
                  <a:pt x="458" y="338"/>
                </a:lnTo>
                <a:lnTo>
                  <a:pt x="441" y="355"/>
                </a:lnTo>
                <a:lnTo>
                  <a:pt x="424" y="371"/>
                </a:lnTo>
                <a:lnTo>
                  <a:pt x="390" y="371"/>
                </a:lnTo>
                <a:lnTo>
                  <a:pt x="373" y="355"/>
                </a:lnTo>
                <a:lnTo>
                  <a:pt x="339" y="355"/>
                </a:lnTo>
                <a:lnTo>
                  <a:pt x="305" y="321"/>
                </a:lnTo>
                <a:lnTo>
                  <a:pt x="254" y="287"/>
                </a:lnTo>
                <a:lnTo>
                  <a:pt x="204" y="236"/>
                </a:lnTo>
                <a:lnTo>
                  <a:pt x="153" y="202"/>
                </a:lnTo>
                <a:lnTo>
                  <a:pt x="102" y="169"/>
                </a:lnTo>
                <a:lnTo>
                  <a:pt x="68" y="135"/>
                </a:lnTo>
                <a:lnTo>
                  <a:pt x="51" y="101"/>
                </a:lnTo>
                <a:lnTo>
                  <a:pt x="17" y="50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44" name="Freeform 40"/>
          <p:cNvSpPr/>
          <p:nvPr/>
        </p:nvSpPr>
        <p:spPr>
          <a:xfrm>
            <a:off x="1947960" y="2363760"/>
            <a:ext cx="854640" cy="167400"/>
          </a:xfrm>
          <a:custGeom>
            <a:avLst/>
            <a:gdLst>
              <a:gd name="textAreaLeft" fmla="*/ 0 w 854640"/>
              <a:gd name="textAreaRight" fmla="*/ 855000 w 854640"/>
              <a:gd name="textAreaTop" fmla="*/ 0 h 167400"/>
              <a:gd name="textAreaBottom" fmla="*/ 167760 h 167400"/>
            </a:gdLst>
            <a:ahLst/>
            <a:rect l="textAreaLeft" t="textAreaTop" r="textAreaRight" b="textAreaBottom"/>
            <a:pathLst>
              <a:path w="1796" h="354">
                <a:moveTo>
                  <a:pt x="102" y="354"/>
                </a:moveTo>
                <a:lnTo>
                  <a:pt x="51" y="337"/>
                </a:lnTo>
                <a:lnTo>
                  <a:pt x="34" y="321"/>
                </a:lnTo>
                <a:lnTo>
                  <a:pt x="17" y="287"/>
                </a:lnTo>
                <a:lnTo>
                  <a:pt x="0" y="270"/>
                </a:lnTo>
                <a:lnTo>
                  <a:pt x="0" y="253"/>
                </a:lnTo>
                <a:lnTo>
                  <a:pt x="0" y="236"/>
                </a:lnTo>
                <a:lnTo>
                  <a:pt x="17" y="236"/>
                </a:lnTo>
                <a:lnTo>
                  <a:pt x="34" y="219"/>
                </a:lnTo>
                <a:lnTo>
                  <a:pt x="85" y="219"/>
                </a:lnTo>
                <a:lnTo>
                  <a:pt x="153" y="219"/>
                </a:lnTo>
                <a:lnTo>
                  <a:pt x="254" y="202"/>
                </a:lnTo>
                <a:lnTo>
                  <a:pt x="356" y="185"/>
                </a:lnTo>
                <a:lnTo>
                  <a:pt x="492" y="168"/>
                </a:lnTo>
                <a:lnTo>
                  <a:pt x="661" y="135"/>
                </a:lnTo>
                <a:lnTo>
                  <a:pt x="830" y="118"/>
                </a:lnTo>
                <a:lnTo>
                  <a:pt x="932" y="101"/>
                </a:lnTo>
                <a:lnTo>
                  <a:pt x="1017" y="84"/>
                </a:lnTo>
                <a:lnTo>
                  <a:pt x="1085" y="67"/>
                </a:lnTo>
                <a:lnTo>
                  <a:pt x="1152" y="67"/>
                </a:lnTo>
                <a:lnTo>
                  <a:pt x="1220" y="50"/>
                </a:lnTo>
                <a:lnTo>
                  <a:pt x="1271" y="33"/>
                </a:lnTo>
                <a:lnTo>
                  <a:pt x="1322" y="33"/>
                </a:lnTo>
                <a:lnTo>
                  <a:pt x="1356" y="16"/>
                </a:lnTo>
                <a:lnTo>
                  <a:pt x="1406" y="16"/>
                </a:lnTo>
                <a:lnTo>
                  <a:pt x="1457" y="0"/>
                </a:lnTo>
                <a:lnTo>
                  <a:pt x="1491" y="0"/>
                </a:lnTo>
                <a:lnTo>
                  <a:pt x="1508" y="0"/>
                </a:lnTo>
                <a:lnTo>
                  <a:pt x="1525" y="0"/>
                </a:lnTo>
                <a:lnTo>
                  <a:pt x="1542" y="0"/>
                </a:lnTo>
                <a:lnTo>
                  <a:pt x="1576" y="16"/>
                </a:lnTo>
                <a:lnTo>
                  <a:pt x="1627" y="16"/>
                </a:lnTo>
                <a:lnTo>
                  <a:pt x="1694" y="67"/>
                </a:lnTo>
                <a:lnTo>
                  <a:pt x="1762" y="118"/>
                </a:lnTo>
                <a:lnTo>
                  <a:pt x="1779" y="135"/>
                </a:lnTo>
                <a:lnTo>
                  <a:pt x="1796" y="152"/>
                </a:lnTo>
                <a:lnTo>
                  <a:pt x="1796" y="168"/>
                </a:lnTo>
                <a:lnTo>
                  <a:pt x="1796" y="185"/>
                </a:lnTo>
                <a:lnTo>
                  <a:pt x="1779" y="185"/>
                </a:lnTo>
                <a:lnTo>
                  <a:pt x="1728" y="202"/>
                </a:lnTo>
                <a:lnTo>
                  <a:pt x="1661" y="202"/>
                </a:lnTo>
                <a:lnTo>
                  <a:pt x="1627" y="202"/>
                </a:lnTo>
                <a:lnTo>
                  <a:pt x="1576" y="202"/>
                </a:lnTo>
                <a:lnTo>
                  <a:pt x="1356" y="202"/>
                </a:lnTo>
                <a:lnTo>
                  <a:pt x="1152" y="219"/>
                </a:lnTo>
                <a:lnTo>
                  <a:pt x="1017" y="236"/>
                </a:lnTo>
                <a:lnTo>
                  <a:pt x="881" y="253"/>
                </a:lnTo>
                <a:lnTo>
                  <a:pt x="712" y="270"/>
                </a:lnTo>
                <a:lnTo>
                  <a:pt x="542" y="287"/>
                </a:lnTo>
                <a:lnTo>
                  <a:pt x="458" y="304"/>
                </a:lnTo>
                <a:lnTo>
                  <a:pt x="373" y="321"/>
                </a:lnTo>
                <a:lnTo>
                  <a:pt x="305" y="337"/>
                </a:lnTo>
                <a:lnTo>
                  <a:pt x="237" y="337"/>
                </a:lnTo>
                <a:lnTo>
                  <a:pt x="187" y="354"/>
                </a:lnTo>
                <a:lnTo>
                  <a:pt x="153" y="354"/>
                </a:lnTo>
                <a:lnTo>
                  <a:pt x="119" y="354"/>
                </a:lnTo>
                <a:lnTo>
                  <a:pt x="102" y="35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45" name="Freeform 41"/>
          <p:cNvSpPr/>
          <p:nvPr/>
        </p:nvSpPr>
        <p:spPr>
          <a:xfrm>
            <a:off x="1964520" y="2837520"/>
            <a:ext cx="651960" cy="562680"/>
          </a:xfrm>
          <a:custGeom>
            <a:avLst/>
            <a:gdLst>
              <a:gd name="textAreaLeft" fmla="*/ 0 w 651960"/>
              <a:gd name="textAreaRight" fmla="*/ 652320 w 651960"/>
              <a:gd name="textAreaTop" fmla="*/ 0 h 562680"/>
              <a:gd name="textAreaBottom" fmla="*/ 563040 h 562680"/>
            </a:gdLst>
            <a:ahLst/>
            <a:rect l="textAreaLeft" t="textAreaTop" r="textAreaRight" b="textAreaBottom"/>
            <a:pathLst>
              <a:path w="1372" h="1183">
                <a:moveTo>
                  <a:pt x="746" y="625"/>
                </a:moveTo>
                <a:lnTo>
                  <a:pt x="864" y="524"/>
                </a:lnTo>
                <a:lnTo>
                  <a:pt x="949" y="423"/>
                </a:lnTo>
                <a:lnTo>
                  <a:pt x="1017" y="338"/>
                </a:lnTo>
                <a:lnTo>
                  <a:pt x="1067" y="271"/>
                </a:lnTo>
                <a:lnTo>
                  <a:pt x="1118" y="203"/>
                </a:lnTo>
                <a:lnTo>
                  <a:pt x="1152" y="152"/>
                </a:lnTo>
                <a:lnTo>
                  <a:pt x="1152" y="102"/>
                </a:lnTo>
                <a:lnTo>
                  <a:pt x="1169" y="68"/>
                </a:lnTo>
                <a:lnTo>
                  <a:pt x="1169" y="51"/>
                </a:lnTo>
                <a:lnTo>
                  <a:pt x="1169" y="17"/>
                </a:lnTo>
                <a:lnTo>
                  <a:pt x="1186" y="17"/>
                </a:lnTo>
                <a:lnTo>
                  <a:pt x="1220" y="0"/>
                </a:lnTo>
                <a:lnTo>
                  <a:pt x="1237" y="17"/>
                </a:lnTo>
                <a:lnTo>
                  <a:pt x="1271" y="34"/>
                </a:lnTo>
                <a:lnTo>
                  <a:pt x="1288" y="51"/>
                </a:lnTo>
                <a:lnTo>
                  <a:pt x="1322" y="102"/>
                </a:lnTo>
                <a:lnTo>
                  <a:pt x="1339" y="136"/>
                </a:lnTo>
                <a:lnTo>
                  <a:pt x="1356" y="186"/>
                </a:lnTo>
                <a:lnTo>
                  <a:pt x="1372" y="203"/>
                </a:lnTo>
                <a:lnTo>
                  <a:pt x="1356" y="237"/>
                </a:lnTo>
                <a:lnTo>
                  <a:pt x="1356" y="254"/>
                </a:lnTo>
                <a:lnTo>
                  <a:pt x="1339" y="288"/>
                </a:lnTo>
                <a:lnTo>
                  <a:pt x="1305" y="304"/>
                </a:lnTo>
                <a:lnTo>
                  <a:pt x="1271" y="355"/>
                </a:lnTo>
                <a:lnTo>
                  <a:pt x="1237" y="389"/>
                </a:lnTo>
                <a:lnTo>
                  <a:pt x="1186" y="440"/>
                </a:lnTo>
                <a:lnTo>
                  <a:pt x="1135" y="507"/>
                </a:lnTo>
                <a:lnTo>
                  <a:pt x="1067" y="575"/>
                </a:lnTo>
                <a:lnTo>
                  <a:pt x="915" y="710"/>
                </a:lnTo>
                <a:lnTo>
                  <a:pt x="746" y="828"/>
                </a:lnTo>
                <a:lnTo>
                  <a:pt x="576" y="930"/>
                </a:lnTo>
                <a:lnTo>
                  <a:pt x="390" y="1031"/>
                </a:lnTo>
                <a:lnTo>
                  <a:pt x="305" y="1065"/>
                </a:lnTo>
                <a:lnTo>
                  <a:pt x="220" y="1099"/>
                </a:lnTo>
                <a:lnTo>
                  <a:pt x="153" y="1132"/>
                </a:lnTo>
                <a:lnTo>
                  <a:pt x="102" y="1149"/>
                </a:lnTo>
                <a:lnTo>
                  <a:pt x="68" y="1166"/>
                </a:lnTo>
                <a:lnTo>
                  <a:pt x="34" y="1183"/>
                </a:lnTo>
                <a:lnTo>
                  <a:pt x="17" y="1183"/>
                </a:lnTo>
                <a:lnTo>
                  <a:pt x="0" y="1183"/>
                </a:lnTo>
                <a:lnTo>
                  <a:pt x="17" y="1166"/>
                </a:lnTo>
                <a:lnTo>
                  <a:pt x="34" y="1149"/>
                </a:lnTo>
                <a:lnTo>
                  <a:pt x="51" y="1132"/>
                </a:lnTo>
                <a:lnTo>
                  <a:pt x="102" y="1099"/>
                </a:lnTo>
                <a:lnTo>
                  <a:pt x="136" y="1065"/>
                </a:lnTo>
                <a:lnTo>
                  <a:pt x="203" y="1031"/>
                </a:lnTo>
                <a:lnTo>
                  <a:pt x="254" y="997"/>
                </a:lnTo>
                <a:lnTo>
                  <a:pt x="390" y="913"/>
                </a:lnTo>
                <a:lnTo>
                  <a:pt x="508" y="828"/>
                </a:lnTo>
                <a:lnTo>
                  <a:pt x="627" y="727"/>
                </a:lnTo>
                <a:lnTo>
                  <a:pt x="746" y="62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46" name="Freeform 42"/>
          <p:cNvSpPr/>
          <p:nvPr/>
        </p:nvSpPr>
        <p:spPr>
          <a:xfrm>
            <a:off x="2012400" y="2475720"/>
            <a:ext cx="371160" cy="410400"/>
          </a:xfrm>
          <a:custGeom>
            <a:avLst/>
            <a:gdLst>
              <a:gd name="textAreaLeft" fmla="*/ 0 w 371160"/>
              <a:gd name="textAreaRight" fmla="*/ 371520 w 371160"/>
              <a:gd name="textAreaTop" fmla="*/ 0 h 410400"/>
              <a:gd name="textAreaBottom" fmla="*/ 410760 h 410400"/>
            </a:gdLst>
            <a:ahLst/>
            <a:rect l="textAreaLeft" t="textAreaTop" r="textAreaRight" b="textAreaBottom"/>
            <a:pathLst>
              <a:path w="779" h="862">
                <a:moveTo>
                  <a:pt x="491" y="439"/>
                </a:moveTo>
                <a:lnTo>
                  <a:pt x="440" y="490"/>
                </a:lnTo>
                <a:lnTo>
                  <a:pt x="406" y="524"/>
                </a:lnTo>
                <a:lnTo>
                  <a:pt x="373" y="558"/>
                </a:lnTo>
                <a:lnTo>
                  <a:pt x="339" y="591"/>
                </a:lnTo>
                <a:lnTo>
                  <a:pt x="322" y="608"/>
                </a:lnTo>
                <a:lnTo>
                  <a:pt x="322" y="625"/>
                </a:lnTo>
                <a:lnTo>
                  <a:pt x="305" y="642"/>
                </a:lnTo>
                <a:lnTo>
                  <a:pt x="322" y="659"/>
                </a:lnTo>
                <a:lnTo>
                  <a:pt x="356" y="659"/>
                </a:lnTo>
                <a:lnTo>
                  <a:pt x="406" y="659"/>
                </a:lnTo>
                <a:lnTo>
                  <a:pt x="474" y="642"/>
                </a:lnTo>
                <a:lnTo>
                  <a:pt x="627" y="642"/>
                </a:lnTo>
                <a:lnTo>
                  <a:pt x="779" y="642"/>
                </a:lnTo>
                <a:lnTo>
                  <a:pt x="779" y="743"/>
                </a:lnTo>
                <a:lnTo>
                  <a:pt x="677" y="743"/>
                </a:lnTo>
                <a:lnTo>
                  <a:pt x="576" y="760"/>
                </a:lnTo>
                <a:lnTo>
                  <a:pt x="474" y="777"/>
                </a:lnTo>
                <a:lnTo>
                  <a:pt x="356" y="811"/>
                </a:lnTo>
                <a:lnTo>
                  <a:pt x="271" y="828"/>
                </a:lnTo>
                <a:lnTo>
                  <a:pt x="203" y="845"/>
                </a:lnTo>
                <a:lnTo>
                  <a:pt x="152" y="862"/>
                </a:lnTo>
                <a:lnTo>
                  <a:pt x="118" y="862"/>
                </a:lnTo>
                <a:lnTo>
                  <a:pt x="84" y="862"/>
                </a:lnTo>
                <a:lnTo>
                  <a:pt x="68" y="845"/>
                </a:lnTo>
                <a:lnTo>
                  <a:pt x="51" y="828"/>
                </a:lnTo>
                <a:lnTo>
                  <a:pt x="34" y="794"/>
                </a:lnTo>
                <a:lnTo>
                  <a:pt x="0" y="727"/>
                </a:lnTo>
                <a:lnTo>
                  <a:pt x="0" y="710"/>
                </a:lnTo>
                <a:lnTo>
                  <a:pt x="0" y="693"/>
                </a:lnTo>
                <a:lnTo>
                  <a:pt x="34" y="659"/>
                </a:lnTo>
                <a:lnTo>
                  <a:pt x="84" y="642"/>
                </a:lnTo>
                <a:lnTo>
                  <a:pt x="101" y="625"/>
                </a:lnTo>
                <a:lnTo>
                  <a:pt x="135" y="608"/>
                </a:lnTo>
                <a:lnTo>
                  <a:pt x="169" y="575"/>
                </a:lnTo>
                <a:lnTo>
                  <a:pt x="203" y="524"/>
                </a:lnTo>
                <a:lnTo>
                  <a:pt x="254" y="490"/>
                </a:lnTo>
                <a:lnTo>
                  <a:pt x="288" y="439"/>
                </a:lnTo>
                <a:lnTo>
                  <a:pt x="339" y="372"/>
                </a:lnTo>
                <a:lnTo>
                  <a:pt x="389" y="287"/>
                </a:lnTo>
                <a:lnTo>
                  <a:pt x="440" y="220"/>
                </a:lnTo>
                <a:lnTo>
                  <a:pt x="474" y="135"/>
                </a:lnTo>
                <a:lnTo>
                  <a:pt x="508" y="68"/>
                </a:lnTo>
                <a:lnTo>
                  <a:pt x="525" y="0"/>
                </a:lnTo>
                <a:lnTo>
                  <a:pt x="610" y="51"/>
                </a:lnTo>
                <a:lnTo>
                  <a:pt x="644" y="85"/>
                </a:lnTo>
                <a:lnTo>
                  <a:pt x="677" y="101"/>
                </a:lnTo>
                <a:lnTo>
                  <a:pt x="694" y="118"/>
                </a:lnTo>
                <a:lnTo>
                  <a:pt x="711" y="152"/>
                </a:lnTo>
                <a:lnTo>
                  <a:pt x="711" y="169"/>
                </a:lnTo>
                <a:lnTo>
                  <a:pt x="694" y="220"/>
                </a:lnTo>
                <a:lnTo>
                  <a:pt x="644" y="270"/>
                </a:lnTo>
                <a:lnTo>
                  <a:pt x="593" y="338"/>
                </a:lnTo>
                <a:lnTo>
                  <a:pt x="491" y="43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47" name="Freeform 43"/>
          <p:cNvSpPr/>
          <p:nvPr/>
        </p:nvSpPr>
        <p:spPr>
          <a:xfrm>
            <a:off x="2359800" y="3160080"/>
            <a:ext cx="337680" cy="224640"/>
          </a:xfrm>
          <a:custGeom>
            <a:avLst/>
            <a:gdLst>
              <a:gd name="textAreaLeft" fmla="*/ 0 w 337680"/>
              <a:gd name="textAreaRight" fmla="*/ 338040 w 337680"/>
              <a:gd name="textAreaTop" fmla="*/ 0 h 224640"/>
              <a:gd name="textAreaBottom" fmla="*/ 225000 h 224640"/>
            </a:gdLst>
            <a:ahLst/>
            <a:rect l="textAreaLeft" t="textAreaTop" r="textAreaRight" b="textAreaBottom"/>
            <a:pathLst>
              <a:path w="712" h="473">
                <a:moveTo>
                  <a:pt x="0" y="17"/>
                </a:moveTo>
                <a:lnTo>
                  <a:pt x="17" y="17"/>
                </a:lnTo>
                <a:lnTo>
                  <a:pt x="34" y="0"/>
                </a:lnTo>
                <a:lnTo>
                  <a:pt x="85" y="0"/>
                </a:lnTo>
                <a:lnTo>
                  <a:pt x="136" y="0"/>
                </a:lnTo>
                <a:lnTo>
                  <a:pt x="204" y="0"/>
                </a:lnTo>
                <a:lnTo>
                  <a:pt x="271" y="17"/>
                </a:lnTo>
                <a:lnTo>
                  <a:pt x="373" y="34"/>
                </a:lnTo>
                <a:lnTo>
                  <a:pt x="458" y="68"/>
                </a:lnTo>
                <a:lnTo>
                  <a:pt x="559" y="118"/>
                </a:lnTo>
                <a:lnTo>
                  <a:pt x="627" y="186"/>
                </a:lnTo>
                <a:lnTo>
                  <a:pt x="678" y="254"/>
                </a:lnTo>
                <a:lnTo>
                  <a:pt x="712" y="321"/>
                </a:lnTo>
                <a:lnTo>
                  <a:pt x="712" y="389"/>
                </a:lnTo>
                <a:lnTo>
                  <a:pt x="712" y="439"/>
                </a:lnTo>
                <a:lnTo>
                  <a:pt x="712" y="473"/>
                </a:lnTo>
                <a:lnTo>
                  <a:pt x="678" y="473"/>
                </a:lnTo>
                <a:lnTo>
                  <a:pt x="661" y="473"/>
                </a:lnTo>
                <a:lnTo>
                  <a:pt x="627" y="456"/>
                </a:lnTo>
                <a:lnTo>
                  <a:pt x="593" y="439"/>
                </a:lnTo>
                <a:lnTo>
                  <a:pt x="559" y="423"/>
                </a:lnTo>
                <a:lnTo>
                  <a:pt x="492" y="372"/>
                </a:lnTo>
                <a:lnTo>
                  <a:pt x="424" y="321"/>
                </a:lnTo>
                <a:lnTo>
                  <a:pt x="339" y="271"/>
                </a:lnTo>
                <a:lnTo>
                  <a:pt x="237" y="186"/>
                </a:lnTo>
                <a:lnTo>
                  <a:pt x="136" y="118"/>
                </a:lnTo>
                <a:lnTo>
                  <a:pt x="85" y="102"/>
                </a:lnTo>
                <a:lnTo>
                  <a:pt x="51" y="68"/>
                </a:lnTo>
                <a:lnTo>
                  <a:pt x="34" y="51"/>
                </a:lnTo>
                <a:lnTo>
                  <a:pt x="17" y="34"/>
                </a:lnTo>
                <a:lnTo>
                  <a:pt x="0" y="34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48" name="Freeform 44"/>
          <p:cNvSpPr/>
          <p:nvPr/>
        </p:nvSpPr>
        <p:spPr>
          <a:xfrm>
            <a:off x="1819440" y="2556360"/>
            <a:ext cx="749880" cy="723600"/>
          </a:xfrm>
          <a:custGeom>
            <a:avLst/>
            <a:gdLst>
              <a:gd name="textAreaLeft" fmla="*/ 0 w 749880"/>
              <a:gd name="textAreaRight" fmla="*/ 750240 w 74988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1576" h="1521">
                <a:moveTo>
                  <a:pt x="1237" y="372"/>
                </a:moveTo>
                <a:lnTo>
                  <a:pt x="1288" y="270"/>
                </a:lnTo>
                <a:lnTo>
                  <a:pt x="1339" y="203"/>
                </a:lnTo>
                <a:lnTo>
                  <a:pt x="1356" y="135"/>
                </a:lnTo>
                <a:lnTo>
                  <a:pt x="1356" y="84"/>
                </a:lnTo>
                <a:lnTo>
                  <a:pt x="1356" y="68"/>
                </a:lnTo>
                <a:lnTo>
                  <a:pt x="1356" y="34"/>
                </a:lnTo>
                <a:lnTo>
                  <a:pt x="1372" y="17"/>
                </a:lnTo>
                <a:lnTo>
                  <a:pt x="1389" y="0"/>
                </a:lnTo>
                <a:lnTo>
                  <a:pt x="1406" y="17"/>
                </a:lnTo>
                <a:lnTo>
                  <a:pt x="1440" y="34"/>
                </a:lnTo>
                <a:lnTo>
                  <a:pt x="1474" y="51"/>
                </a:lnTo>
                <a:lnTo>
                  <a:pt x="1508" y="101"/>
                </a:lnTo>
                <a:lnTo>
                  <a:pt x="1542" y="152"/>
                </a:lnTo>
                <a:lnTo>
                  <a:pt x="1559" y="186"/>
                </a:lnTo>
                <a:lnTo>
                  <a:pt x="1576" y="220"/>
                </a:lnTo>
                <a:lnTo>
                  <a:pt x="1576" y="237"/>
                </a:lnTo>
                <a:lnTo>
                  <a:pt x="1576" y="253"/>
                </a:lnTo>
                <a:lnTo>
                  <a:pt x="1559" y="287"/>
                </a:lnTo>
                <a:lnTo>
                  <a:pt x="1542" y="321"/>
                </a:lnTo>
                <a:lnTo>
                  <a:pt x="1508" y="372"/>
                </a:lnTo>
                <a:lnTo>
                  <a:pt x="1457" y="422"/>
                </a:lnTo>
                <a:lnTo>
                  <a:pt x="1406" y="473"/>
                </a:lnTo>
                <a:lnTo>
                  <a:pt x="1356" y="541"/>
                </a:lnTo>
                <a:lnTo>
                  <a:pt x="1288" y="625"/>
                </a:lnTo>
                <a:lnTo>
                  <a:pt x="1152" y="777"/>
                </a:lnTo>
                <a:lnTo>
                  <a:pt x="1000" y="929"/>
                </a:lnTo>
                <a:lnTo>
                  <a:pt x="864" y="1048"/>
                </a:lnTo>
                <a:lnTo>
                  <a:pt x="712" y="1166"/>
                </a:lnTo>
                <a:lnTo>
                  <a:pt x="593" y="1250"/>
                </a:lnTo>
                <a:lnTo>
                  <a:pt x="458" y="1335"/>
                </a:lnTo>
                <a:lnTo>
                  <a:pt x="356" y="1402"/>
                </a:lnTo>
                <a:lnTo>
                  <a:pt x="237" y="1453"/>
                </a:lnTo>
                <a:lnTo>
                  <a:pt x="153" y="1487"/>
                </a:lnTo>
                <a:lnTo>
                  <a:pt x="68" y="1521"/>
                </a:lnTo>
                <a:lnTo>
                  <a:pt x="34" y="1521"/>
                </a:lnTo>
                <a:lnTo>
                  <a:pt x="0" y="1521"/>
                </a:lnTo>
                <a:lnTo>
                  <a:pt x="17" y="1504"/>
                </a:lnTo>
                <a:lnTo>
                  <a:pt x="34" y="1487"/>
                </a:lnTo>
                <a:lnTo>
                  <a:pt x="85" y="1453"/>
                </a:lnTo>
                <a:lnTo>
                  <a:pt x="170" y="1402"/>
                </a:lnTo>
                <a:lnTo>
                  <a:pt x="254" y="1352"/>
                </a:lnTo>
                <a:lnTo>
                  <a:pt x="339" y="1284"/>
                </a:lnTo>
                <a:lnTo>
                  <a:pt x="441" y="1216"/>
                </a:lnTo>
                <a:lnTo>
                  <a:pt x="542" y="1132"/>
                </a:lnTo>
                <a:lnTo>
                  <a:pt x="746" y="946"/>
                </a:lnTo>
                <a:lnTo>
                  <a:pt x="932" y="760"/>
                </a:lnTo>
                <a:lnTo>
                  <a:pt x="1084" y="574"/>
                </a:lnTo>
                <a:lnTo>
                  <a:pt x="1237" y="37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文本框 38"/>
          <p:cNvSpPr/>
          <p:nvPr/>
        </p:nvSpPr>
        <p:spPr>
          <a:xfrm>
            <a:off x="6936480" y="1044720"/>
            <a:ext cx="586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0"/>
          <p:cNvSpPr/>
          <p:nvPr/>
        </p:nvSpPr>
        <p:spPr>
          <a:xfrm>
            <a:off x="3278160" y="169776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13"/>
          <p:cNvSpPr/>
          <p:nvPr/>
        </p:nvSpPr>
        <p:spPr>
          <a:xfrm>
            <a:off x="3958200" y="1700640"/>
            <a:ext cx="44316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伯父   伯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的伯父是教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窄右宽，“白”稍窄，竖笔压在竖中线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54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931680" y="1649160"/>
            <a:ext cx="2160000" cy="2160000"/>
            <a:chOff x="931680" y="1649160"/>
            <a:chExt cx="2160000" cy="2160000"/>
          </a:xfrm>
        </p:grpSpPr>
        <p:sp>
          <p:nvSpPr>
            <p:cNvPr id="356" name="Rectangle 5"/>
            <p:cNvSpPr/>
            <p:nvPr/>
          </p:nvSpPr>
          <p:spPr>
            <a:xfrm>
              <a:off x="2011680" y="272052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57" name="Rectangle 6"/>
            <p:cNvSpPr/>
            <p:nvPr/>
          </p:nvSpPr>
          <p:spPr>
            <a:xfrm>
              <a:off x="931680" y="272052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2011680" y="164916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59" name="Rectangle 8"/>
            <p:cNvSpPr/>
            <p:nvPr/>
          </p:nvSpPr>
          <p:spPr>
            <a:xfrm>
              <a:off x="931680" y="164916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931680" y="164916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0"/>
            <p:cNvSpPr/>
            <p:nvPr/>
          </p:nvSpPr>
          <p:spPr>
            <a:xfrm>
              <a:off x="931680" y="380880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1"/>
            <p:cNvSpPr/>
            <p:nvPr/>
          </p:nvSpPr>
          <p:spPr>
            <a:xfrm>
              <a:off x="931680" y="164916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3091320" y="164916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3"/>
            <p:cNvSpPr/>
            <p:nvPr/>
          </p:nvSpPr>
          <p:spPr>
            <a:xfrm>
              <a:off x="931680" y="2720160"/>
              <a:ext cx="215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4"/>
            <p:cNvSpPr/>
            <p:nvPr/>
          </p:nvSpPr>
          <p:spPr>
            <a:xfrm>
              <a:off x="2011680" y="1649160"/>
              <a:ext cx="360" cy="215964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Freeform 6"/>
          <p:cNvSpPr/>
          <p:nvPr/>
        </p:nvSpPr>
        <p:spPr>
          <a:xfrm>
            <a:off x="1150920" y="1974240"/>
            <a:ext cx="711720" cy="890280"/>
          </a:xfrm>
          <a:custGeom>
            <a:avLst/>
            <a:gdLst>
              <a:gd name="textAreaLeft" fmla="*/ 0 w 711720"/>
              <a:gd name="textAreaRight" fmla="*/ 712080 w 711720"/>
              <a:gd name="textAreaTop" fmla="*/ 0 h 890280"/>
              <a:gd name="textAreaBottom" fmla="*/ 890640 h 890280"/>
            </a:gdLst>
            <a:ahLst/>
            <a:rect l="textAreaLeft" t="textAreaTop" r="textAreaRight" b="textAreaBottom"/>
            <a:pathLst>
              <a:path w="1196" h="1494">
                <a:moveTo>
                  <a:pt x="551" y="1111"/>
                </a:moveTo>
                <a:lnTo>
                  <a:pt x="509" y="1151"/>
                </a:lnTo>
                <a:lnTo>
                  <a:pt x="467" y="1192"/>
                </a:lnTo>
                <a:lnTo>
                  <a:pt x="424" y="1230"/>
                </a:lnTo>
                <a:lnTo>
                  <a:pt x="380" y="1266"/>
                </a:lnTo>
                <a:lnTo>
                  <a:pt x="336" y="1301"/>
                </a:lnTo>
                <a:lnTo>
                  <a:pt x="292" y="1335"/>
                </a:lnTo>
                <a:lnTo>
                  <a:pt x="248" y="1366"/>
                </a:lnTo>
                <a:lnTo>
                  <a:pt x="202" y="1397"/>
                </a:lnTo>
                <a:lnTo>
                  <a:pt x="181" y="1412"/>
                </a:lnTo>
                <a:lnTo>
                  <a:pt x="159" y="1425"/>
                </a:lnTo>
                <a:lnTo>
                  <a:pt x="140" y="1437"/>
                </a:lnTo>
                <a:lnTo>
                  <a:pt x="121" y="1448"/>
                </a:lnTo>
                <a:lnTo>
                  <a:pt x="104" y="1458"/>
                </a:lnTo>
                <a:lnTo>
                  <a:pt x="88" y="1466"/>
                </a:lnTo>
                <a:lnTo>
                  <a:pt x="73" y="1473"/>
                </a:lnTo>
                <a:lnTo>
                  <a:pt x="62" y="1481"/>
                </a:lnTo>
                <a:lnTo>
                  <a:pt x="48" y="1485"/>
                </a:lnTo>
                <a:lnTo>
                  <a:pt x="38" y="1491"/>
                </a:lnTo>
                <a:lnTo>
                  <a:pt x="29" y="1492"/>
                </a:lnTo>
                <a:lnTo>
                  <a:pt x="21" y="1494"/>
                </a:lnTo>
                <a:lnTo>
                  <a:pt x="14" y="1494"/>
                </a:lnTo>
                <a:lnTo>
                  <a:pt x="10" y="1494"/>
                </a:lnTo>
                <a:lnTo>
                  <a:pt x="4" y="1492"/>
                </a:lnTo>
                <a:lnTo>
                  <a:pt x="2" y="1491"/>
                </a:lnTo>
                <a:lnTo>
                  <a:pt x="0" y="1489"/>
                </a:lnTo>
                <a:lnTo>
                  <a:pt x="0" y="1487"/>
                </a:lnTo>
                <a:lnTo>
                  <a:pt x="0" y="1485"/>
                </a:lnTo>
                <a:lnTo>
                  <a:pt x="2" y="1481"/>
                </a:lnTo>
                <a:lnTo>
                  <a:pt x="2" y="1479"/>
                </a:lnTo>
                <a:lnTo>
                  <a:pt x="4" y="1475"/>
                </a:lnTo>
                <a:lnTo>
                  <a:pt x="6" y="1471"/>
                </a:lnTo>
                <a:lnTo>
                  <a:pt x="8" y="1466"/>
                </a:lnTo>
                <a:lnTo>
                  <a:pt x="12" y="1462"/>
                </a:lnTo>
                <a:lnTo>
                  <a:pt x="15" y="1456"/>
                </a:lnTo>
                <a:lnTo>
                  <a:pt x="19" y="1450"/>
                </a:lnTo>
                <a:lnTo>
                  <a:pt x="25" y="1445"/>
                </a:lnTo>
                <a:lnTo>
                  <a:pt x="29" y="1439"/>
                </a:lnTo>
                <a:lnTo>
                  <a:pt x="35" y="1431"/>
                </a:lnTo>
                <a:lnTo>
                  <a:pt x="40" y="1424"/>
                </a:lnTo>
                <a:lnTo>
                  <a:pt x="48" y="1416"/>
                </a:lnTo>
                <a:lnTo>
                  <a:pt x="56" y="1408"/>
                </a:lnTo>
                <a:lnTo>
                  <a:pt x="63" y="1401"/>
                </a:lnTo>
                <a:lnTo>
                  <a:pt x="71" y="1391"/>
                </a:lnTo>
                <a:lnTo>
                  <a:pt x="81" y="1381"/>
                </a:lnTo>
                <a:lnTo>
                  <a:pt x="90" y="1372"/>
                </a:lnTo>
                <a:lnTo>
                  <a:pt x="100" y="1362"/>
                </a:lnTo>
                <a:lnTo>
                  <a:pt x="110" y="1353"/>
                </a:lnTo>
                <a:lnTo>
                  <a:pt x="121" y="1341"/>
                </a:lnTo>
                <a:lnTo>
                  <a:pt x="133" y="1330"/>
                </a:lnTo>
                <a:lnTo>
                  <a:pt x="144" y="1318"/>
                </a:lnTo>
                <a:lnTo>
                  <a:pt x="158" y="1307"/>
                </a:lnTo>
                <a:lnTo>
                  <a:pt x="169" y="1295"/>
                </a:lnTo>
                <a:lnTo>
                  <a:pt x="182" y="1282"/>
                </a:lnTo>
                <a:lnTo>
                  <a:pt x="198" y="1268"/>
                </a:lnTo>
                <a:lnTo>
                  <a:pt x="211" y="1255"/>
                </a:lnTo>
                <a:lnTo>
                  <a:pt x="227" y="1241"/>
                </a:lnTo>
                <a:lnTo>
                  <a:pt x="257" y="1213"/>
                </a:lnTo>
                <a:lnTo>
                  <a:pt x="286" y="1184"/>
                </a:lnTo>
                <a:lnTo>
                  <a:pt x="315" y="1157"/>
                </a:lnTo>
                <a:lnTo>
                  <a:pt x="344" y="1127"/>
                </a:lnTo>
                <a:lnTo>
                  <a:pt x="371" y="1098"/>
                </a:lnTo>
                <a:lnTo>
                  <a:pt x="397" y="1069"/>
                </a:lnTo>
                <a:lnTo>
                  <a:pt x="424" y="1038"/>
                </a:lnTo>
                <a:lnTo>
                  <a:pt x="451" y="1010"/>
                </a:lnTo>
                <a:lnTo>
                  <a:pt x="476" y="979"/>
                </a:lnTo>
                <a:lnTo>
                  <a:pt x="499" y="948"/>
                </a:lnTo>
                <a:lnTo>
                  <a:pt x="524" y="918"/>
                </a:lnTo>
                <a:lnTo>
                  <a:pt x="547" y="887"/>
                </a:lnTo>
                <a:lnTo>
                  <a:pt x="570" y="856"/>
                </a:lnTo>
                <a:lnTo>
                  <a:pt x="591" y="824"/>
                </a:lnTo>
                <a:lnTo>
                  <a:pt x="612" y="793"/>
                </a:lnTo>
                <a:lnTo>
                  <a:pt x="634" y="761"/>
                </a:lnTo>
                <a:lnTo>
                  <a:pt x="653" y="730"/>
                </a:lnTo>
                <a:lnTo>
                  <a:pt x="672" y="699"/>
                </a:lnTo>
                <a:lnTo>
                  <a:pt x="691" y="669"/>
                </a:lnTo>
                <a:lnTo>
                  <a:pt x="708" y="640"/>
                </a:lnTo>
                <a:lnTo>
                  <a:pt x="726" y="613"/>
                </a:lnTo>
                <a:lnTo>
                  <a:pt x="741" y="586"/>
                </a:lnTo>
                <a:lnTo>
                  <a:pt x="756" y="559"/>
                </a:lnTo>
                <a:lnTo>
                  <a:pt x="772" y="534"/>
                </a:lnTo>
                <a:lnTo>
                  <a:pt x="785" y="511"/>
                </a:lnTo>
                <a:lnTo>
                  <a:pt x="799" y="488"/>
                </a:lnTo>
                <a:lnTo>
                  <a:pt x="812" y="465"/>
                </a:lnTo>
                <a:lnTo>
                  <a:pt x="824" y="444"/>
                </a:lnTo>
                <a:lnTo>
                  <a:pt x="835" y="423"/>
                </a:lnTo>
                <a:lnTo>
                  <a:pt x="845" y="404"/>
                </a:lnTo>
                <a:lnTo>
                  <a:pt x="854" y="385"/>
                </a:lnTo>
                <a:lnTo>
                  <a:pt x="864" y="368"/>
                </a:lnTo>
                <a:lnTo>
                  <a:pt x="872" y="351"/>
                </a:lnTo>
                <a:lnTo>
                  <a:pt x="881" y="335"/>
                </a:lnTo>
                <a:lnTo>
                  <a:pt x="887" y="320"/>
                </a:lnTo>
                <a:lnTo>
                  <a:pt x="895" y="305"/>
                </a:lnTo>
                <a:lnTo>
                  <a:pt x="902" y="291"/>
                </a:lnTo>
                <a:lnTo>
                  <a:pt x="908" y="278"/>
                </a:lnTo>
                <a:lnTo>
                  <a:pt x="914" y="264"/>
                </a:lnTo>
                <a:lnTo>
                  <a:pt x="920" y="253"/>
                </a:lnTo>
                <a:lnTo>
                  <a:pt x="923" y="241"/>
                </a:lnTo>
                <a:lnTo>
                  <a:pt x="929" y="230"/>
                </a:lnTo>
                <a:lnTo>
                  <a:pt x="933" y="220"/>
                </a:lnTo>
                <a:lnTo>
                  <a:pt x="937" y="211"/>
                </a:lnTo>
                <a:lnTo>
                  <a:pt x="939" y="203"/>
                </a:lnTo>
                <a:lnTo>
                  <a:pt x="943" y="193"/>
                </a:lnTo>
                <a:lnTo>
                  <a:pt x="945" y="188"/>
                </a:lnTo>
                <a:lnTo>
                  <a:pt x="947" y="180"/>
                </a:lnTo>
                <a:lnTo>
                  <a:pt x="948" y="169"/>
                </a:lnTo>
                <a:lnTo>
                  <a:pt x="950" y="155"/>
                </a:lnTo>
                <a:lnTo>
                  <a:pt x="950" y="142"/>
                </a:lnTo>
                <a:lnTo>
                  <a:pt x="948" y="128"/>
                </a:lnTo>
                <a:lnTo>
                  <a:pt x="947" y="115"/>
                </a:lnTo>
                <a:lnTo>
                  <a:pt x="943" y="100"/>
                </a:lnTo>
                <a:lnTo>
                  <a:pt x="939" y="84"/>
                </a:lnTo>
                <a:lnTo>
                  <a:pt x="933" y="69"/>
                </a:lnTo>
                <a:lnTo>
                  <a:pt x="929" y="61"/>
                </a:lnTo>
                <a:lnTo>
                  <a:pt x="927" y="54"/>
                </a:lnTo>
                <a:lnTo>
                  <a:pt x="925" y="48"/>
                </a:lnTo>
                <a:lnTo>
                  <a:pt x="925" y="40"/>
                </a:lnTo>
                <a:lnTo>
                  <a:pt x="923" y="34"/>
                </a:lnTo>
                <a:lnTo>
                  <a:pt x="923" y="29"/>
                </a:lnTo>
                <a:lnTo>
                  <a:pt x="925" y="25"/>
                </a:lnTo>
                <a:lnTo>
                  <a:pt x="925" y="21"/>
                </a:lnTo>
                <a:lnTo>
                  <a:pt x="927" y="15"/>
                </a:lnTo>
                <a:lnTo>
                  <a:pt x="929" y="11"/>
                </a:lnTo>
                <a:lnTo>
                  <a:pt x="931" y="9"/>
                </a:lnTo>
                <a:lnTo>
                  <a:pt x="935" y="6"/>
                </a:lnTo>
                <a:lnTo>
                  <a:pt x="939" y="4"/>
                </a:lnTo>
                <a:lnTo>
                  <a:pt x="943" y="2"/>
                </a:lnTo>
                <a:lnTo>
                  <a:pt x="947" y="2"/>
                </a:lnTo>
                <a:lnTo>
                  <a:pt x="952" y="0"/>
                </a:lnTo>
                <a:lnTo>
                  <a:pt x="964" y="0"/>
                </a:lnTo>
                <a:lnTo>
                  <a:pt x="973" y="0"/>
                </a:lnTo>
                <a:lnTo>
                  <a:pt x="985" y="2"/>
                </a:lnTo>
                <a:lnTo>
                  <a:pt x="996" y="4"/>
                </a:lnTo>
                <a:lnTo>
                  <a:pt x="1010" y="9"/>
                </a:lnTo>
                <a:lnTo>
                  <a:pt x="1021" y="15"/>
                </a:lnTo>
                <a:lnTo>
                  <a:pt x="1033" y="23"/>
                </a:lnTo>
                <a:lnTo>
                  <a:pt x="1046" y="31"/>
                </a:lnTo>
                <a:lnTo>
                  <a:pt x="1058" y="40"/>
                </a:lnTo>
                <a:lnTo>
                  <a:pt x="1071" y="52"/>
                </a:lnTo>
                <a:lnTo>
                  <a:pt x="1083" y="63"/>
                </a:lnTo>
                <a:lnTo>
                  <a:pt x="1096" y="75"/>
                </a:lnTo>
                <a:lnTo>
                  <a:pt x="1108" y="88"/>
                </a:lnTo>
                <a:lnTo>
                  <a:pt x="1121" y="101"/>
                </a:lnTo>
                <a:lnTo>
                  <a:pt x="1133" y="115"/>
                </a:lnTo>
                <a:lnTo>
                  <a:pt x="1146" y="130"/>
                </a:lnTo>
                <a:lnTo>
                  <a:pt x="1158" y="146"/>
                </a:lnTo>
                <a:lnTo>
                  <a:pt x="1167" y="159"/>
                </a:lnTo>
                <a:lnTo>
                  <a:pt x="1177" y="170"/>
                </a:lnTo>
                <a:lnTo>
                  <a:pt x="1183" y="182"/>
                </a:lnTo>
                <a:lnTo>
                  <a:pt x="1188" y="192"/>
                </a:lnTo>
                <a:lnTo>
                  <a:pt x="1192" y="199"/>
                </a:lnTo>
                <a:lnTo>
                  <a:pt x="1196" y="207"/>
                </a:lnTo>
                <a:lnTo>
                  <a:pt x="1196" y="213"/>
                </a:lnTo>
                <a:lnTo>
                  <a:pt x="1196" y="214"/>
                </a:lnTo>
                <a:lnTo>
                  <a:pt x="1196" y="218"/>
                </a:lnTo>
                <a:lnTo>
                  <a:pt x="1194" y="222"/>
                </a:lnTo>
                <a:lnTo>
                  <a:pt x="1194" y="226"/>
                </a:lnTo>
                <a:lnTo>
                  <a:pt x="1190" y="234"/>
                </a:lnTo>
                <a:lnTo>
                  <a:pt x="1185" y="245"/>
                </a:lnTo>
                <a:lnTo>
                  <a:pt x="1179" y="259"/>
                </a:lnTo>
                <a:lnTo>
                  <a:pt x="1171" y="272"/>
                </a:lnTo>
                <a:lnTo>
                  <a:pt x="1162" y="289"/>
                </a:lnTo>
                <a:lnTo>
                  <a:pt x="1152" y="306"/>
                </a:lnTo>
                <a:lnTo>
                  <a:pt x="1146" y="316"/>
                </a:lnTo>
                <a:lnTo>
                  <a:pt x="1138" y="328"/>
                </a:lnTo>
                <a:lnTo>
                  <a:pt x="1131" y="341"/>
                </a:lnTo>
                <a:lnTo>
                  <a:pt x="1121" y="356"/>
                </a:lnTo>
                <a:lnTo>
                  <a:pt x="1110" y="374"/>
                </a:lnTo>
                <a:lnTo>
                  <a:pt x="1098" y="391"/>
                </a:lnTo>
                <a:lnTo>
                  <a:pt x="1085" y="412"/>
                </a:lnTo>
                <a:lnTo>
                  <a:pt x="1071" y="433"/>
                </a:lnTo>
                <a:lnTo>
                  <a:pt x="1056" y="456"/>
                </a:lnTo>
                <a:lnTo>
                  <a:pt x="1039" y="481"/>
                </a:lnTo>
                <a:lnTo>
                  <a:pt x="1021" y="506"/>
                </a:lnTo>
                <a:lnTo>
                  <a:pt x="1002" y="534"/>
                </a:lnTo>
                <a:lnTo>
                  <a:pt x="981" y="563"/>
                </a:lnTo>
                <a:lnTo>
                  <a:pt x="960" y="594"/>
                </a:lnTo>
                <a:lnTo>
                  <a:pt x="937" y="626"/>
                </a:lnTo>
                <a:lnTo>
                  <a:pt x="914" y="661"/>
                </a:lnTo>
                <a:lnTo>
                  <a:pt x="891" y="695"/>
                </a:lnTo>
                <a:lnTo>
                  <a:pt x="866" y="730"/>
                </a:lnTo>
                <a:lnTo>
                  <a:pt x="843" y="762"/>
                </a:lnTo>
                <a:lnTo>
                  <a:pt x="820" y="795"/>
                </a:lnTo>
                <a:lnTo>
                  <a:pt x="795" y="826"/>
                </a:lnTo>
                <a:lnTo>
                  <a:pt x="772" y="856"/>
                </a:lnTo>
                <a:lnTo>
                  <a:pt x="749" y="885"/>
                </a:lnTo>
                <a:lnTo>
                  <a:pt x="728" y="914"/>
                </a:lnTo>
                <a:lnTo>
                  <a:pt x="705" y="943"/>
                </a:lnTo>
                <a:lnTo>
                  <a:pt x="682" y="969"/>
                </a:lnTo>
                <a:lnTo>
                  <a:pt x="660" y="994"/>
                </a:lnTo>
                <a:lnTo>
                  <a:pt x="637" y="1019"/>
                </a:lnTo>
                <a:lnTo>
                  <a:pt x="616" y="1044"/>
                </a:lnTo>
                <a:lnTo>
                  <a:pt x="593" y="1067"/>
                </a:lnTo>
                <a:lnTo>
                  <a:pt x="572" y="1090"/>
                </a:lnTo>
                <a:lnTo>
                  <a:pt x="551" y="1111"/>
                </a:lnTo>
              </a:path>
            </a:pathLst>
          </a:custGeom>
          <a:solidFill>
            <a:srgbClr val="ff0000"/>
          </a:solidFill>
          <a:ln w="1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67" name="Freeform 7"/>
          <p:cNvSpPr/>
          <p:nvPr/>
        </p:nvSpPr>
        <p:spPr>
          <a:xfrm>
            <a:off x="1548360" y="2401560"/>
            <a:ext cx="142560" cy="1092600"/>
          </a:xfrm>
          <a:custGeom>
            <a:avLst/>
            <a:gdLst>
              <a:gd name="textAreaLeft" fmla="*/ 0 w 142560"/>
              <a:gd name="textAreaRight" fmla="*/ 142920 w 142560"/>
              <a:gd name="textAreaTop" fmla="*/ 0 h 1092600"/>
              <a:gd name="textAreaBottom" fmla="*/ 1092960 h 1092600"/>
            </a:gdLst>
            <a:ahLst/>
            <a:rect l="textAreaLeft" t="textAreaTop" r="textAreaRight" b="textAreaBottom"/>
            <a:pathLst>
              <a:path w="242" h="1836">
                <a:moveTo>
                  <a:pt x="125" y="1836"/>
                </a:moveTo>
                <a:lnTo>
                  <a:pt x="121" y="1836"/>
                </a:lnTo>
                <a:lnTo>
                  <a:pt x="115" y="1834"/>
                </a:lnTo>
                <a:lnTo>
                  <a:pt x="111" y="1832"/>
                </a:lnTo>
                <a:lnTo>
                  <a:pt x="106" y="1828"/>
                </a:lnTo>
                <a:lnTo>
                  <a:pt x="102" y="1825"/>
                </a:lnTo>
                <a:lnTo>
                  <a:pt x="96" y="1819"/>
                </a:lnTo>
                <a:lnTo>
                  <a:pt x="90" y="1813"/>
                </a:lnTo>
                <a:lnTo>
                  <a:pt x="86" y="1805"/>
                </a:lnTo>
                <a:lnTo>
                  <a:pt x="81" y="1798"/>
                </a:lnTo>
                <a:lnTo>
                  <a:pt x="75" y="1790"/>
                </a:lnTo>
                <a:lnTo>
                  <a:pt x="71" y="1780"/>
                </a:lnTo>
                <a:lnTo>
                  <a:pt x="65" y="1769"/>
                </a:lnTo>
                <a:lnTo>
                  <a:pt x="60" y="1757"/>
                </a:lnTo>
                <a:lnTo>
                  <a:pt x="56" y="1744"/>
                </a:lnTo>
                <a:lnTo>
                  <a:pt x="50" y="1731"/>
                </a:lnTo>
                <a:lnTo>
                  <a:pt x="44" y="1717"/>
                </a:lnTo>
                <a:lnTo>
                  <a:pt x="38" y="1704"/>
                </a:lnTo>
                <a:lnTo>
                  <a:pt x="35" y="1689"/>
                </a:lnTo>
                <a:lnTo>
                  <a:pt x="29" y="1677"/>
                </a:lnTo>
                <a:lnTo>
                  <a:pt x="25" y="1664"/>
                </a:lnTo>
                <a:lnTo>
                  <a:pt x="21" y="1652"/>
                </a:lnTo>
                <a:lnTo>
                  <a:pt x="17" y="1641"/>
                </a:lnTo>
                <a:lnTo>
                  <a:pt x="14" y="1631"/>
                </a:lnTo>
                <a:lnTo>
                  <a:pt x="12" y="1621"/>
                </a:lnTo>
                <a:lnTo>
                  <a:pt x="10" y="1612"/>
                </a:lnTo>
                <a:lnTo>
                  <a:pt x="6" y="1604"/>
                </a:lnTo>
                <a:lnTo>
                  <a:pt x="4" y="1597"/>
                </a:lnTo>
                <a:lnTo>
                  <a:pt x="4" y="1589"/>
                </a:lnTo>
                <a:lnTo>
                  <a:pt x="2" y="1583"/>
                </a:lnTo>
                <a:lnTo>
                  <a:pt x="0" y="1577"/>
                </a:lnTo>
                <a:lnTo>
                  <a:pt x="0" y="1572"/>
                </a:lnTo>
                <a:lnTo>
                  <a:pt x="0" y="1568"/>
                </a:lnTo>
                <a:lnTo>
                  <a:pt x="0" y="1564"/>
                </a:lnTo>
                <a:lnTo>
                  <a:pt x="0" y="1558"/>
                </a:lnTo>
                <a:lnTo>
                  <a:pt x="2" y="1552"/>
                </a:lnTo>
                <a:lnTo>
                  <a:pt x="2" y="1545"/>
                </a:lnTo>
                <a:lnTo>
                  <a:pt x="4" y="1537"/>
                </a:lnTo>
                <a:lnTo>
                  <a:pt x="4" y="1529"/>
                </a:lnTo>
                <a:lnTo>
                  <a:pt x="6" y="1520"/>
                </a:lnTo>
                <a:lnTo>
                  <a:pt x="8" y="1510"/>
                </a:lnTo>
                <a:lnTo>
                  <a:pt x="12" y="1499"/>
                </a:lnTo>
                <a:lnTo>
                  <a:pt x="14" y="1487"/>
                </a:lnTo>
                <a:lnTo>
                  <a:pt x="15" y="1474"/>
                </a:lnTo>
                <a:lnTo>
                  <a:pt x="19" y="1461"/>
                </a:lnTo>
                <a:lnTo>
                  <a:pt x="21" y="1447"/>
                </a:lnTo>
                <a:lnTo>
                  <a:pt x="25" y="1432"/>
                </a:lnTo>
                <a:lnTo>
                  <a:pt x="29" y="1416"/>
                </a:lnTo>
                <a:lnTo>
                  <a:pt x="33" y="1399"/>
                </a:lnTo>
                <a:lnTo>
                  <a:pt x="35" y="1390"/>
                </a:lnTo>
                <a:lnTo>
                  <a:pt x="37" y="1380"/>
                </a:lnTo>
                <a:lnTo>
                  <a:pt x="38" y="1370"/>
                </a:lnTo>
                <a:lnTo>
                  <a:pt x="40" y="1361"/>
                </a:lnTo>
                <a:lnTo>
                  <a:pt x="42" y="1349"/>
                </a:lnTo>
                <a:lnTo>
                  <a:pt x="44" y="1338"/>
                </a:lnTo>
                <a:lnTo>
                  <a:pt x="44" y="1326"/>
                </a:lnTo>
                <a:lnTo>
                  <a:pt x="46" y="1313"/>
                </a:lnTo>
                <a:lnTo>
                  <a:pt x="48" y="1300"/>
                </a:lnTo>
                <a:lnTo>
                  <a:pt x="50" y="1286"/>
                </a:lnTo>
                <a:lnTo>
                  <a:pt x="52" y="1273"/>
                </a:lnTo>
                <a:lnTo>
                  <a:pt x="54" y="1257"/>
                </a:lnTo>
                <a:lnTo>
                  <a:pt x="56" y="1242"/>
                </a:lnTo>
                <a:lnTo>
                  <a:pt x="56" y="1227"/>
                </a:lnTo>
                <a:lnTo>
                  <a:pt x="58" y="1210"/>
                </a:lnTo>
                <a:lnTo>
                  <a:pt x="60" y="1194"/>
                </a:lnTo>
                <a:lnTo>
                  <a:pt x="61" y="1175"/>
                </a:lnTo>
                <a:lnTo>
                  <a:pt x="63" y="1158"/>
                </a:lnTo>
                <a:lnTo>
                  <a:pt x="65" y="1139"/>
                </a:lnTo>
                <a:lnTo>
                  <a:pt x="65" y="1119"/>
                </a:lnTo>
                <a:lnTo>
                  <a:pt x="67" y="1100"/>
                </a:lnTo>
                <a:lnTo>
                  <a:pt x="69" y="1081"/>
                </a:lnTo>
                <a:lnTo>
                  <a:pt x="71" y="1060"/>
                </a:lnTo>
                <a:lnTo>
                  <a:pt x="71" y="1039"/>
                </a:lnTo>
                <a:lnTo>
                  <a:pt x="73" y="1018"/>
                </a:lnTo>
                <a:lnTo>
                  <a:pt x="75" y="995"/>
                </a:lnTo>
                <a:lnTo>
                  <a:pt x="77" y="972"/>
                </a:lnTo>
                <a:lnTo>
                  <a:pt x="77" y="949"/>
                </a:lnTo>
                <a:lnTo>
                  <a:pt x="79" y="924"/>
                </a:lnTo>
                <a:lnTo>
                  <a:pt x="81" y="899"/>
                </a:lnTo>
                <a:lnTo>
                  <a:pt x="81" y="874"/>
                </a:lnTo>
                <a:lnTo>
                  <a:pt x="83" y="849"/>
                </a:lnTo>
                <a:lnTo>
                  <a:pt x="85" y="799"/>
                </a:lnTo>
                <a:lnTo>
                  <a:pt x="86" y="750"/>
                </a:lnTo>
                <a:lnTo>
                  <a:pt x="88" y="704"/>
                </a:lnTo>
                <a:lnTo>
                  <a:pt x="88" y="660"/>
                </a:lnTo>
                <a:lnTo>
                  <a:pt x="90" y="616"/>
                </a:lnTo>
                <a:lnTo>
                  <a:pt x="90" y="575"/>
                </a:lnTo>
                <a:lnTo>
                  <a:pt x="90" y="535"/>
                </a:lnTo>
                <a:lnTo>
                  <a:pt x="92" y="499"/>
                </a:lnTo>
                <a:lnTo>
                  <a:pt x="90" y="464"/>
                </a:lnTo>
                <a:lnTo>
                  <a:pt x="90" y="430"/>
                </a:lnTo>
                <a:lnTo>
                  <a:pt x="90" y="399"/>
                </a:lnTo>
                <a:lnTo>
                  <a:pt x="88" y="368"/>
                </a:lnTo>
                <a:lnTo>
                  <a:pt x="88" y="342"/>
                </a:lnTo>
                <a:lnTo>
                  <a:pt x="86" y="315"/>
                </a:lnTo>
                <a:lnTo>
                  <a:pt x="85" y="292"/>
                </a:lnTo>
                <a:lnTo>
                  <a:pt x="83" y="269"/>
                </a:lnTo>
                <a:lnTo>
                  <a:pt x="81" y="248"/>
                </a:lnTo>
                <a:lnTo>
                  <a:pt x="79" y="229"/>
                </a:lnTo>
                <a:lnTo>
                  <a:pt x="77" y="209"/>
                </a:lnTo>
                <a:lnTo>
                  <a:pt x="75" y="190"/>
                </a:lnTo>
                <a:lnTo>
                  <a:pt x="73" y="171"/>
                </a:lnTo>
                <a:lnTo>
                  <a:pt x="73" y="152"/>
                </a:lnTo>
                <a:lnTo>
                  <a:pt x="71" y="135"/>
                </a:lnTo>
                <a:lnTo>
                  <a:pt x="71" y="117"/>
                </a:lnTo>
                <a:lnTo>
                  <a:pt x="71" y="102"/>
                </a:lnTo>
                <a:lnTo>
                  <a:pt x="71" y="85"/>
                </a:lnTo>
                <a:lnTo>
                  <a:pt x="71" y="69"/>
                </a:lnTo>
                <a:lnTo>
                  <a:pt x="71" y="56"/>
                </a:lnTo>
                <a:lnTo>
                  <a:pt x="71" y="41"/>
                </a:lnTo>
                <a:lnTo>
                  <a:pt x="73" y="27"/>
                </a:lnTo>
                <a:lnTo>
                  <a:pt x="73" y="14"/>
                </a:lnTo>
                <a:lnTo>
                  <a:pt x="75" y="0"/>
                </a:lnTo>
                <a:lnTo>
                  <a:pt x="88" y="6"/>
                </a:lnTo>
                <a:lnTo>
                  <a:pt x="102" y="14"/>
                </a:lnTo>
                <a:lnTo>
                  <a:pt x="113" y="20"/>
                </a:lnTo>
                <a:lnTo>
                  <a:pt x="127" y="25"/>
                </a:lnTo>
                <a:lnTo>
                  <a:pt x="136" y="31"/>
                </a:lnTo>
                <a:lnTo>
                  <a:pt x="148" y="37"/>
                </a:lnTo>
                <a:lnTo>
                  <a:pt x="157" y="43"/>
                </a:lnTo>
                <a:lnTo>
                  <a:pt x="167" y="48"/>
                </a:lnTo>
                <a:lnTo>
                  <a:pt x="177" y="54"/>
                </a:lnTo>
                <a:lnTo>
                  <a:pt x="184" y="58"/>
                </a:lnTo>
                <a:lnTo>
                  <a:pt x="192" y="64"/>
                </a:lnTo>
                <a:lnTo>
                  <a:pt x="198" y="69"/>
                </a:lnTo>
                <a:lnTo>
                  <a:pt x="204" y="73"/>
                </a:lnTo>
                <a:lnTo>
                  <a:pt x="209" y="79"/>
                </a:lnTo>
                <a:lnTo>
                  <a:pt x="215" y="85"/>
                </a:lnTo>
                <a:lnTo>
                  <a:pt x="219" y="89"/>
                </a:lnTo>
                <a:lnTo>
                  <a:pt x="223" y="94"/>
                </a:lnTo>
                <a:lnTo>
                  <a:pt x="227" y="102"/>
                </a:lnTo>
                <a:lnTo>
                  <a:pt x="229" y="110"/>
                </a:lnTo>
                <a:lnTo>
                  <a:pt x="232" y="119"/>
                </a:lnTo>
                <a:lnTo>
                  <a:pt x="234" y="131"/>
                </a:lnTo>
                <a:lnTo>
                  <a:pt x="236" y="144"/>
                </a:lnTo>
                <a:lnTo>
                  <a:pt x="238" y="160"/>
                </a:lnTo>
                <a:lnTo>
                  <a:pt x="240" y="177"/>
                </a:lnTo>
                <a:lnTo>
                  <a:pt x="240" y="194"/>
                </a:lnTo>
                <a:lnTo>
                  <a:pt x="242" y="213"/>
                </a:lnTo>
                <a:lnTo>
                  <a:pt x="242" y="234"/>
                </a:lnTo>
                <a:lnTo>
                  <a:pt x="242" y="257"/>
                </a:lnTo>
                <a:lnTo>
                  <a:pt x="242" y="280"/>
                </a:lnTo>
                <a:lnTo>
                  <a:pt x="240" y="307"/>
                </a:lnTo>
                <a:lnTo>
                  <a:pt x="240" y="334"/>
                </a:lnTo>
                <a:lnTo>
                  <a:pt x="238" y="363"/>
                </a:lnTo>
                <a:lnTo>
                  <a:pt x="236" y="393"/>
                </a:lnTo>
                <a:lnTo>
                  <a:pt x="236" y="424"/>
                </a:lnTo>
                <a:lnTo>
                  <a:pt x="234" y="455"/>
                </a:lnTo>
                <a:lnTo>
                  <a:pt x="232" y="487"/>
                </a:lnTo>
                <a:lnTo>
                  <a:pt x="230" y="522"/>
                </a:lnTo>
                <a:lnTo>
                  <a:pt x="230" y="554"/>
                </a:lnTo>
                <a:lnTo>
                  <a:pt x="229" y="589"/>
                </a:lnTo>
                <a:lnTo>
                  <a:pt x="227" y="625"/>
                </a:lnTo>
                <a:lnTo>
                  <a:pt x="227" y="660"/>
                </a:lnTo>
                <a:lnTo>
                  <a:pt x="225" y="696"/>
                </a:lnTo>
                <a:lnTo>
                  <a:pt x="223" y="734"/>
                </a:lnTo>
                <a:lnTo>
                  <a:pt x="223" y="773"/>
                </a:lnTo>
                <a:lnTo>
                  <a:pt x="221" y="811"/>
                </a:lnTo>
                <a:lnTo>
                  <a:pt x="221" y="851"/>
                </a:lnTo>
                <a:lnTo>
                  <a:pt x="219" y="891"/>
                </a:lnTo>
                <a:lnTo>
                  <a:pt x="219" y="932"/>
                </a:lnTo>
                <a:lnTo>
                  <a:pt x="217" y="1014"/>
                </a:lnTo>
                <a:lnTo>
                  <a:pt x="215" y="1095"/>
                </a:lnTo>
                <a:lnTo>
                  <a:pt x="211" y="1173"/>
                </a:lnTo>
                <a:lnTo>
                  <a:pt x="209" y="1252"/>
                </a:lnTo>
                <a:lnTo>
                  <a:pt x="205" y="1328"/>
                </a:lnTo>
                <a:lnTo>
                  <a:pt x="200" y="1403"/>
                </a:lnTo>
                <a:lnTo>
                  <a:pt x="194" y="1476"/>
                </a:lnTo>
                <a:lnTo>
                  <a:pt x="188" y="1549"/>
                </a:lnTo>
                <a:lnTo>
                  <a:pt x="186" y="1566"/>
                </a:lnTo>
                <a:lnTo>
                  <a:pt x="184" y="1583"/>
                </a:lnTo>
                <a:lnTo>
                  <a:pt x="182" y="1600"/>
                </a:lnTo>
                <a:lnTo>
                  <a:pt x="182" y="1616"/>
                </a:lnTo>
                <a:lnTo>
                  <a:pt x="181" y="1631"/>
                </a:lnTo>
                <a:lnTo>
                  <a:pt x="179" y="1646"/>
                </a:lnTo>
                <a:lnTo>
                  <a:pt x="177" y="1660"/>
                </a:lnTo>
                <a:lnTo>
                  <a:pt x="175" y="1675"/>
                </a:lnTo>
                <a:lnTo>
                  <a:pt x="173" y="1689"/>
                </a:lnTo>
                <a:lnTo>
                  <a:pt x="171" y="1700"/>
                </a:lnTo>
                <a:lnTo>
                  <a:pt x="169" y="1712"/>
                </a:lnTo>
                <a:lnTo>
                  <a:pt x="167" y="1723"/>
                </a:lnTo>
                <a:lnTo>
                  <a:pt x="165" y="1734"/>
                </a:lnTo>
                <a:lnTo>
                  <a:pt x="163" y="1746"/>
                </a:lnTo>
                <a:lnTo>
                  <a:pt x="161" y="1756"/>
                </a:lnTo>
                <a:lnTo>
                  <a:pt x="159" y="1765"/>
                </a:lnTo>
                <a:lnTo>
                  <a:pt x="157" y="1773"/>
                </a:lnTo>
                <a:lnTo>
                  <a:pt x="156" y="1780"/>
                </a:lnTo>
                <a:lnTo>
                  <a:pt x="154" y="1788"/>
                </a:lnTo>
                <a:lnTo>
                  <a:pt x="152" y="1796"/>
                </a:lnTo>
                <a:lnTo>
                  <a:pt x="150" y="1802"/>
                </a:lnTo>
                <a:lnTo>
                  <a:pt x="148" y="1807"/>
                </a:lnTo>
                <a:lnTo>
                  <a:pt x="146" y="1813"/>
                </a:lnTo>
                <a:lnTo>
                  <a:pt x="142" y="1819"/>
                </a:lnTo>
                <a:lnTo>
                  <a:pt x="140" y="1823"/>
                </a:lnTo>
                <a:lnTo>
                  <a:pt x="138" y="1826"/>
                </a:lnTo>
                <a:lnTo>
                  <a:pt x="136" y="1828"/>
                </a:lnTo>
                <a:lnTo>
                  <a:pt x="134" y="1832"/>
                </a:lnTo>
                <a:lnTo>
                  <a:pt x="133" y="1834"/>
                </a:lnTo>
                <a:lnTo>
                  <a:pt x="129" y="1834"/>
                </a:lnTo>
                <a:lnTo>
                  <a:pt x="127" y="1836"/>
                </a:lnTo>
                <a:lnTo>
                  <a:pt x="125" y="1836"/>
                </a:lnTo>
              </a:path>
            </a:pathLst>
          </a:custGeom>
          <a:solidFill>
            <a:srgbClr val="ff0000"/>
          </a:solidFill>
          <a:ln w="1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68" name="Freeform 8"/>
          <p:cNvSpPr/>
          <p:nvPr/>
        </p:nvSpPr>
        <p:spPr>
          <a:xfrm>
            <a:off x="2115360" y="2007720"/>
            <a:ext cx="342720" cy="498600"/>
          </a:xfrm>
          <a:custGeom>
            <a:avLst/>
            <a:gdLst>
              <a:gd name="textAreaLeft" fmla="*/ 0 w 342720"/>
              <a:gd name="textAreaRight" fmla="*/ 343080 w 3427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576" h="838">
                <a:moveTo>
                  <a:pt x="532" y="276"/>
                </a:moveTo>
                <a:lnTo>
                  <a:pt x="526" y="284"/>
                </a:lnTo>
                <a:lnTo>
                  <a:pt x="521" y="294"/>
                </a:lnTo>
                <a:lnTo>
                  <a:pt x="515" y="301"/>
                </a:lnTo>
                <a:lnTo>
                  <a:pt x="507" y="311"/>
                </a:lnTo>
                <a:lnTo>
                  <a:pt x="499" y="322"/>
                </a:lnTo>
                <a:lnTo>
                  <a:pt x="492" y="332"/>
                </a:lnTo>
                <a:lnTo>
                  <a:pt x="484" y="345"/>
                </a:lnTo>
                <a:lnTo>
                  <a:pt x="476" y="357"/>
                </a:lnTo>
                <a:lnTo>
                  <a:pt x="467" y="370"/>
                </a:lnTo>
                <a:lnTo>
                  <a:pt x="457" y="384"/>
                </a:lnTo>
                <a:lnTo>
                  <a:pt x="448" y="397"/>
                </a:lnTo>
                <a:lnTo>
                  <a:pt x="438" y="410"/>
                </a:lnTo>
                <a:lnTo>
                  <a:pt x="428" y="426"/>
                </a:lnTo>
                <a:lnTo>
                  <a:pt x="417" y="443"/>
                </a:lnTo>
                <a:lnTo>
                  <a:pt x="405" y="458"/>
                </a:lnTo>
                <a:lnTo>
                  <a:pt x="394" y="476"/>
                </a:lnTo>
                <a:lnTo>
                  <a:pt x="371" y="510"/>
                </a:lnTo>
                <a:lnTo>
                  <a:pt x="346" y="543"/>
                </a:lnTo>
                <a:lnTo>
                  <a:pt x="323" y="575"/>
                </a:lnTo>
                <a:lnTo>
                  <a:pt x="298" y="606"/>
                </a:lnTo>
                <a:lnTo>
                  <a:pt x="273" y="637"/>
                </a:lnTo>
                <a:lnTo>
                  <a:pt x="246" y="667"/>
                </a:lnTo>
                <a:lnTo>
                  <a:pt x="221" y="696"/>
                </a:lnTo>
                <a:lnTo>
                  <a:pt x="194" y="725"/>
                </a:lnTo>
                <a:lnTo>
                  <a:pt x="181" y="738"/>
                </a:lnTo>
                <a:lnTo>
                  <a:pt x="167" y="752"/>
                </a:lnTo>
                <a:lnTo>
                  <a:pt x="156" y="763"/>
                </a:lnTo>
                <a:lnTo>
                  <a:pt x="142" y="775"/>
                </a:lnTo>
                <a:lnTo>
                  <a:pt x="129" y="784"/>
                </a:lnTo>
                <a:lnTo>
                  <a:pt x="117" y="794"/>
                </a:lnTo>
                <a:lnTo>
                  <a:pt x="106" y="801"/>
                </a:lnTo>
                <a:lnTo>
                  <a:pt x="92" y="809"/>
                </a:lnTo>
                <a:lnTo>
                  <a:pt x="81" y="817"/>
                </a:lnTo>
                <a:lnTo>
                  <a:pt x="69" y="822"/>
                </a:lnTo>
                <a:lnTo>
                  <a:pt x="58" y="826"/>
                </a:lnTo>
                <a:lnTo>
                  <a:pt x="46" y="830"/>
                </a:lnTo>
                <a:lnTo>
                  <a:pt x="35" y="834"/>
                </a:lnTo>
                <a:lnTo>
                  <a:pt x="23" y="836"/>
                </a:lnTo>
                <a:lnTo>
                  <a:pt x="12" y="838"/>
                </a:lnTo>
                <a:lnTo>
                  <a:pt x="0" y="838"/>
                </a:lnTo>
                <a:lnTo>
                  <a:pt x="27" y="788"/>
                </a:lnTo>
                <a:lnTo>
                  <a:pt x="54" y="742"/>
                </a:lnTo>
                <a:lnTo>
                  <a:pt x="79" y="696"/>
                </a:lnTo>
                <a:lnTo>
                  <a:pt x="102" y="652"/>
                </a:lnTo>
                <a:lnTo>
                  <a:pt x="123" y="612"/>
                </a:lnTo>
                <a:lnTo>
                  <a:pt x="144" y="571"/>
                </a:lnTo>
                <a:lnTo>
                  <a:pt x="163" y="533"/>
                </a:lnTo>
                <a:lnTo>
                  <a:pt x="181" y="497"/>
                </a:lnTo>
                <a:lnTo>
                  <a:pt x="198" y="464"/>
                </a:lnTo>
                <a:lnTo>
                  <a:pt x="213" y="432"/>
                </a:lnTo>
                <a:lnTo>
                  <a:pt x="227" y="401"/>
                </a:lnTo>
                <a:lnTo>
                  <a:pt x="238" y="372"/>
                </a:lnTo>
                <a:lnTo>
                  <a:pt x="250" y="345"/>
                </a:lnTo>
                <a:lnTo>
                  <a:pt x="259" y="320"/>
                </a:lnTo>
                <a:lnTo>
                  <a:pt x="267" y="297"/>
                </a:lnTo>
                <a:lnTo>
                  <a:pt x="275" y="276"/>
                </a:lnTo>
                <a:lnTo>
                  <a:pt x="281" y="257"/>
                </a:lnTo>
                <a:lnTo>
                  <a:pt x="286" y="238"/>
                </a:lnTo>
                <a:lnTo>
                  <a:pt x="292" y="219"/>
                </a:lnTo>
                <a:lnTo>
                  <a:pt x="296" y="202"/>
                </a:lnTo>
                <a:lnTo>
                  <a:pt x="300" y="184"/>
                </a:lnTo>
                <a:lnTo>
                  <a:pt x="302" y="169"/>
                </a:lnTo>
                <a:lnTo>
                  <a:pt x="304" y="154"/>
                </a:lnTo>
                <a:lnTo>
                  <a:pt x="306" y="140"/>
                </a:lnTo>
                <a:lnTo>
                  <a:pt x="306" y="127"/>
                </a:lnTo>
                <a:lnTo>
                  <a:pt x="306" y="114"/>
                </a:lnTo>
                <a:lnTo>
                  <a:pt x="306" y="102"/>
                </a:lnTo>
                <a:lnTo>
                  <a:pt x="306" y="92"/>
                </a:lnTo>
                <a:lnTo>
                  <a:pt x="304" y="83"/>
                </a:lnTo>
                <a:lnTo>
                  <a:pt x="300" y="73"/>
                </a:lnTo>
                <a:lnTo>
                  <a:pt x="298" y="66"/>
                </a:lnTo>
                <a:lnTo>
                  <a:pt x="294" y="58"/>
                </a:lnTo>
                <a:lnTo>
                  <a:pt x="290" y="50"/>
                </a:lnTo>
                <a:lnTo>
                  <a:pt x="288" y="45"/>
                </a:lnTo>
                <a:lnTo>
                  <a:pt x="284" y="39"/>
                </a:lnTo>
                <a:lnTo>
                  <a:pt x="284" y="33"/>
                </a:lnTo>
                <a:lnTo>
                  <a:pt x="282" y="27"/>
                </a:lnTo>
                <a:lnTo>
                  <a:pt x="282" y="23"/>
                </a:lnTo>
                <a:lnTo>
                  <a:pt x="282" y="20"/>
                </a:lnTo>
                <a:lnTo>
                  <a:pt x="284" y="16"/>
                </a:lnTo>
                <a:lnTo>
                  <a:pt x="284" y="12"/>
                </a:lnTo>
                <a:lnTo>
                  <a:pt x="286" y="8"/>
                </a:lnTo>
                <a:lnTo>
                  <a:pt x="290" y="6"/>
                </a:lnTo>
                <a:lnTo>
                  <a:pt x="294" y="4"/>
                </a:lnTo>
                <a:lnTo>
                  <a:pt x="298" y="2"/>
                </a:lnTo>
                <a:lnTo>
                  <a:pt x="302" y="0"/>
                </a:lnTo>
                <a:lnTo>
                  <a:pt x="307" y="0"/>
                </a:lnTo>
                <a:lnTo>
                  <a:pt x="313" y="0"/>
                </a:lnTo>
                <a:lnTo>
                  <a:pt x="319" y="0"/>
                </a:lnTo>
                <a:lnTo>
                  <a:pt x="327" y="2"/>
                </a:lnTo>
                <a:lnTo>
                  <a:pt x="334" y="2"/>
                </a:lnTo>
                <a:lnTo>
                  <a:pt x="342" y="4"/>
                </a:lnTo>
                <a:lnTo>
                  <a:pt x="350" y="8"/>
                </a:lnTo>
                <a:lnTo>
                  <a:pt x="357" y="10"/>
                </a:lnTo>
                <a:lnTo>
                  <a:pt x="367" y="14"/>
                </a:lnTo>
                <a:lnTo>
                  <a:pt x="377" y="18"/>
                </a:lnTo>
                <a:lnTo>
                  <a:pt x="386" y="22"/>
                </a:lnTo>
                <a:lnTo>
                  <a:pt x="398" y="27"/>
                </a:lnTo>
                <a:lnTo>
                  <a:pt x="407" y="33"/>
                </a:lnTo>
                <a:lnTo>
                  <a:pt x="419" y="39"/>
                </a:lnTo>
                <a:lnTo>
                  <a:pt x="430" y="46"/>
                </a:lnTo>
                <a:lnTo>
                  <a:pt x="444" y="54"/>
                </a:lnTo>
                <a:lnTo>
                  <a:pt x="455" y="62"/>
                </a:lnTo>
                <a:lnTo>
                  <a:pt x="469" y="69"/>
                </a:lnTo>
                <a:lnTo>
                  <a:pt x="482" y="77"/>
                </a:lnTo>
                <a:lnTo>
                  <a:pt x="494" y="87"/>
                </a:lnTo>
                <a:lnTo>
                  <a:pt x="505" y="94"/>
                </a:lnTo>
                <a:lnTo>
                  <a:pt x="515" y="102"/>
                </a:lnTo>
                <a:lnTo>
                  <a:pt x="524" y="110"/>
                </a:lnTo>
                <a:lnTo>
                  <a:pt x="534" y="117"/>
                </a:lnTo>
                <a:lnTo>
                  <a:pt x="542" y="123"/>
                </a:lnTo>
                <a:lnTo>
                  <a:pt x="549" y="131"/>
                </a:lnTo>
                <a:lnTo>
                  <a:pt x="555" y="137"/>
                </a:lnTo>
                <a:lnTo>
                  <a:pt x="561" y="142"/>
                </a:lnTo>
                <a:lnTo>
                  <a:pt x="565" y="148"/>
                </a:lnTo>
                <a:lnTo>
                  <a:pt x="569" y="154"/>
                </a:lnTo>
                <a:lnTo>
                  <a:pt x="572" y="159"/>
                </a:lnTo>
                <a:lnTo>
                  <a:pt x="574" y="165"/>
                </a:lnTo>
                <a:lnTo>
                  <a:pt x="576" y="171"/>
                </a:lnTo>
                <a:lnTo>
                  <a:pt x="576" y="175"/>
                </a:lnTo>
                <a:lnTo>
                  <a:pt x="576" y="184"/>
                </a:lnTo>
                <a:lnTo>
                  <a:pt x="574" y="196"/>
                </a:lnTo>
                <a:lnTo>
                  <a:pt x="570" y="207"/>
                </a:lnTo>
                <a:lnTo>
                  <a:pt x="565" y="221"/>
                </a:lnTo>
                <a:lnTo>
                  <a:pt x="559" y="232"/>
                </a:lnTo>
                <a:lnTo>
                  <a:pt x="551" y="246"/>
                </a:lnTo>
                <a:lnTo>
                  <a:pt x="542" y="261"/>
                </a:lnTo>
                <a:lnTo>
                  <a:pt x="532" y="276"/>
                </a:lnTo>
              </a:path>
            </a:pathLst>
          </a:custGeom>
          <a:solidFill>
            <a:srgbClr val="ff0000"/>
          </a:solidFill>
          <a:ln w="1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69" name="Freeform 9"/>
          <p:cNvSpPr/>
          <p:nvPr/>
        </p:nvSpPr>
        <p:spPr>
          <a:xfrm>
            <a:off x="1946160" y="2492280"/>
            <a:ext cx="131760" cy="942480"/>
          </a:xfrm>
          <a:custGeom>
            <a:avLst/>
            <a:gdLst>
              <a:gd name="textAreaLeft" fmla="*/ 0 w 131760"/>
              <a:gd name="textAreaRight" fmla="*/ 132120 w 131760"/>
              <a:gd name="textAreaTop" fmla="*/ 0 h 942480"/>
              <a:gd name="textAreaBottom" fmla="*/ 942840 h 942480"/>
            </a:gdLst>
            <a:ahLst/>
            <a:rect l="textAreaLeft" t="textAreaTop" r="textAreaRight" b="textAreaBottom"/>
            <a:pathLst>
              <a:path w="223" h="1582">
                <a:moveTo>
                  <a:pt x="21" y="84"/>
                </a:moveTo>
                <a:lnTo>
                  <a:pt x="17" y="80"/>
                </a:lnTo>
                <a:lnTo>
                  <a:pt x="14" y="78"/>
                </a:lnTo>
                <a:lnTo>
                  <a:pt x="10" y="75"/>
                </a:lnTo>
                <a:lnTo>
                  <a:pt x="8" y="71"/>
                </a:lnTo>
                <a:lnTo>
                  <a:pt x="4" y="69"/>
                </a:lnTo>
                <a:lnTo>
                  <a:pt x="2" y="65"/>
                </a:lnTo>
                <a:lnTo>
                  <a:pt x="2" y="61"/>
                </a:lnTo>
                <a:lnTo>
                  <a:pt x="2" y="57"/>
                </a:lnTo>
                <a:lnTo>
                  <a:pt x="0" y="53"/>
                </a:lnTo>
                <a:lnTo>
                  <a:pt x="2" y="50"/>
                </a:lnTo>
                <a:lnTo>
                  <a:pt x="2" y="46"/>
                </a:lnTo>
                <a:lnTo>
                  <a:pt x="4" y="40"/>
                </a:lnTo>
                <a:lnTo>
                  <a:pt x="6" y="36"/>
                </a:lnTo>
                <a:lnTo>
                  <a:pt x="8" y="32"/>
                </a:lnTo>
                <a:lnTo>
                  <a:pt x="12" y="27"/>
                </a:lnTo>
                <a:lnTo>
                  <a:pt x="16" y="23"/>
                </a:lnTo>
                <a:lnTo>
                  <a:pt x="19" y="19"/>
                </a:lnTo>
                <a:lnTo>
                  <a:pt x="25" y="15"/>
                </a:lnTo>
                <a:lnTo>
                  <a:pt x="33" y="11"/>
                </a:lnTo>
                <a:lnTo>
                  <a:pt x="41" y="7"/>
                </a:lnTo>
                <a:lnTo>
                  <a:pt x="50" y="6"/>
                </a:lnTo>
                <a:lnTo>
                  <a:pt x="60" y="4"/>
                </a:lnTo>
                <a:lnTo>
                  <a:pt x="71" y="2"/>
                </a:lnTo>
                <a:lnTo>
                  <a:pt x="83" y="0"/>
                </a:lnTo>
                <a:lnTo>
                  <a:pt x="96" y="0"/>
                </a:lnTo>
                <a:lnTo>
                  <a:pt x="112" y="0"/>
                </a:lnTo>
                <a:lnTo>
                  <a:pt x="127" y="0"/>
                </a:lnTo>
                <a:lnTo>
                  <a:pt x="144" y="0"/>
                </a:lnTo>
                <a:lnTo>
                  <a:pt x="161" y="2"/>
                </a:lnTo>
                <a:lnTo>
                  <a:pt x="181" y="4"/>
                </a:lnTo>
                <a:lnTo>
                  <a:pt x="202" y="6"/>
                </a:lnTo>
                <a:lnTo>
                  <a:pt x="223" y="9"/>
                </a:lnTo>
                <a:lnTo>
                  <a:pt x="223" y="97"/>
                </a:lnTo>
                <a:lnTo>
                  <a:pt x="223" y="184"/>
                </a:lnTo>
                <a:lnTo>
                  <a:pt x="223" y="266"/>
                </a:lnTo>
                <a:lnTo>
                  <a:pt x="223" y="347"/>
                </a:lnTo>
                <a:lnTo>
                  <a:pt x="223" y="425"/>
                </a:lnTo>
                <a:lnTo>
                  <a:pt x="223" y="500"/>
                </a:lnTo>
                <a:lnTo>
                  <a:pt x="221" y="571"/>
                </a:lnTo>
                <a:lnTo>
                  <a:pt x="221" y="642"/>
                </a:lnTo>
                <a:lnTo>
                  <a:pt x="221" y="709"/>
                </a:lnTo>
                <a:lnTo>
                  <a:pt x="221" y="772"/>
                </a:lnTo>
                <a:lnTo>
                  <a:pt x="219" y="835"/>
                </a:lnTo>
                <a:lnTo>
                  <a:pt x="219" y="893"/>
                </a:lnTo>
                <a:lnTo>
                  <a:pt x="219" y="950"/>
                </a:lnTo>
                <a:lnTo>
                  <a:pt x="217" y="1004"/>
                </a:lnTo>
                <a:lnTo>
                  <a:pt x="217" y="1054"/>
                </a:lnTo>
                <a:lnTo>
                  <a:pt x="217" y="1103"/>
                </a:lnTo>
                <a:lnTo>
                  <a:pt x="215" y="1147"/>
                </a:lnTo>
                <a:lnTo>
                  <a:pt x="215" y="1192"/>
                </a:lnTo>
                <a:lnTo>
                  <a:pt x="213" y="1232"/>
                </a:lnTo>
                <a:lnTo>
                  <a:pt x="213" y="1270"/>
                </a:lnTo>
                <a:lnTo>
                  <a:pt x="211" y="1305"/>
                </a:lnTo>
                <a:lnTo>
                  <a:pt x="211" y="1337"/>
                </a:lnTo>
                <a:lnTo>
                  <a:pt x="209" y="1366"/>
                </a:lnTo>
                <a:lnTo>
                  <a:pt x="208" y="1393"/>
                </a:lnTo>
                <a:lnTo>
                  <a:pt x="208" y="1418"/>
                </a:lnTo>
                <a:lnTo>
                  <a:pt x="206" y="1439"/>
                </a:lnTo>
                <a:lnTo>
                  <a:pt x="206" y="1458"/>
                </a:lnTo>
                <a:lnTo>
                  <a:pt x="204" y="1475"/>
                </a:lnTo>
                <a:lnTo>
                  <a:pt x="202" y="1489"/>
                </a:lnTo>
                <a:lnTo>
                  <a:pt x="200" y="1500"/>
                </a:lnTo>
                <a:lnTo>
                  <a:pt x="200" y="1508"/>
                </a:lnTo>
                <a:lnTo>
                  <a:pt x="198" y="1513"/>
                </a:lnTo>
                <a:lnTo>
                  <a:pt x="194" y="1521"/>
                </a:lnTo>
                <a:lnTo>
                  <a:pt x="192" y="1529"/>
                </a:lnTo>
                <a:lnTo>
                  <a:pt x="188" y="1536"/>
                </a:lnTo>
                <a:lnTo>
                  <a:pt x="184" y="1544"/>
                </a:lnTo>
                <a:lnTo>
                  <a:pt x="183" y="1550"/>
                </a:lnTo>
                <a:lnTo>
                  <a:pt x="179" y="1556"/>
                </a:lnTo>
                <a:lnTo>
                  <a:pt x="177" y="1561"/>
                </a:lnTo>
                <a:lnTo>
                  <a:pt x="173" y="1565"/>
                </a:lnTo>
                <a:lnTo>
                  <a:pt x="171" y="1569"/>
                </a:lnTo>
                <a:lnTo>
                  <a:pt x="169" y="1573"/>
                </a:lnTo>
                <a:lnTo>
                  <a:pt x="165" y="1577"/>
                </a:lnTo>
                <a:lnTo>
                  <a:pt x="163" y="1579"/>
                </a:lnTo>
                <a:lnTo>
                  <a:pt x="161" y="1580"/>
                </a:lnTo>
                <a:lnTo>
                  <a:pt x="158" y="1580"/>
                </a:lnTo>
                <a:lnTo>
                  <a:pt x="156" y="1582"/>
                </a:lnTo>
                <a:lnTo>
                  <a:pt x="154" y="1582"/>
                </a:lnTo>
                <a:lnTo>
                  <a:pt x="152" y="1582"/>
                </a:lnTo>
                <a:lnTo>
                  <a:pt x="148" y="1580"/>
                </a:lnTo>
                <a:lnTo>
                  <a:pt x="146" y="1579"/>
                </a:lnTo>
                <a:lnTo>
                  <a:pt x="142" y="1577"/>
                </a:lnTo>
                <a:lnTo>
                  <a:pt x="138" y="1573"/>
                </a:lnTo>
                <a:lnTo>
                  <a:pt x="135" y="1567"/>
                </a:lnTo>
                <a:lnTo>
                  <a:pt x="133" y="1563"/>
                </a:lnTo>
                <a:lnTo>
                  <a:pt x="129" y="1558"/>
                </a:lnTo>
                <a:lnTo>
                  <a:pt x="123" y="1550"/>
                </a:lnTo>
                <a:lnTo>
                  <a:pt x="119" y="1542"/>
                </a:lnTo>
                <a:lnTo>
                  <a:pt x="115" y="1535"/>
                </a:lnTo>
                <a:lnTo>
                  <a:pt x="112" y="1525"/>
                </a:lnTo>
                <a:lnTo>
                  <a:pt x="106" y="1515"/>
                </a:lnTo>
                <a:lnTo>
                  <a:pt x="100" y="1504"/>
                </a:lnTo>
                <a:lnTo>
                  <a:pt x="96" y="1492"/>
                </a:lnTo>
                <a:lnTo>
                  <a:pt x="90" y="1481"/>
                </a:lnTo>
                <a:lnTo>
                  <a:pt x="85" y="1467"/>
                </a:lnTo>
                <a:lnTo>
                  <a:pt x="81" y="1454"/>
                </a:lnTo>
                <a:lnTo>
                  <a:pt x="77" y="1439"/>
                </a:lnTo>
                <a:lnTo>
                  <a:pt x="73" y="1421"/>
                </a:lnTo>
                <a:lnTo>
                  <a:pt x="69" y="1402"/>
                </a:lnTo>
                <a:lnTo>
                  <a:pt x="67" y="1383"/>
                </a:lnTo>
                <a:lnTo>
                  <a:pt x="65" y="1362"/>
                </a:lnTo>
                <a:lnTo>
                  <a:pt x="64" y="1341"/>
                </a:lnTo>
                <a:lnTo>
                  <a:pt x="64" y="1316"/>
                </a:lnTo>
                <a:lnTo>
                  <a:pt x="64" y="1291"/>
                </a:lnTo>
                <a:lnTo>
                  <a:pt x="64" y="1264"/>
                </a:lnTo>
                <a:lnTo>
                  <a:pt x="64" y="1238"/>
                </a:lnTo>
                <a:lnTo>
                  <a:pt x="65" y="1209"/>
                </a:lnTo>
                <a:lnTo>
                  <a:pt x="67" y="1178"/>
                </a:lnTo>
                <a:lnTo>
                  <a:pt x="69" y="1146"/>
                </a:lnTo>
                <a:lnTo>
                  <a:pt x="71" y="1113"/>
                </a:lnTo>
                <a:lnTo>
                  <a:pt x="75" y="1078"/>
                </a:lnTo>
                <a:lnTo>
                  <a:pt x="77" y="1044"/>
                </a:lnTo>
                <a:lnTo>
                  <a:pt x="79" y="1010"/>
                </a:lnTo>
                <a:lnTo>
                  <a:pt x="81" y="973"/>
                </a:lnTo>
                <a:lnTo>
                  <a:pt x="83" y="937"/>
                </a:lnTo>
                <a:lnTo>
                  <a:pt x="85" y="898"/>
                </a:lnTo>
                <a:lnTo>
                  <a:pt x="85" y="860"/>
                </a:lnTo>
                <a:lnTo>
                  <a:pt x="87" y="820"/>
                </a:lnTo>
                <a:lnTo>
                  <a:pt x="87" y="780"/>
                </a:lnTo>
                <a:lnTo>
                  <a:pt x="87" y="739"/>
                </a:lnTo>
                <a:lnTo>
                  <a:pt x="87" y="697"/>
                </a:lnTo>
                <a:lnTo>
                  <a:pt x="85" y="655"/>
                </a:lnTo>
                <a:lnTo>
                  <a:pt x="85" y="611"/>
                </a:lnTo>
                <a:lnTo>
                  <a:pt x="83" y="567"/>
                </a:lnTo>
                <a:lnTo>
                  <a:pt x="81" y="523"/>
                </a:lnTo>
                <a:lnTo>
                  <a:pt x="79" y="477"/>
                </a:lnTo>
                <a:lnTo>
                  <a:pt x="77" y="454"/>
                </a:lnTo>
                <a:lnTo>
                  <a:pt x="77" y="433"/>
                </a:lnTo>
                <a:lnTo>
                  <a:pt x="75" y="412"/>
                </a:lnTo>
                <a:lnTo>
                  <a:pt x="73" y="391"/>
                </a:lnTo>
                <a:lnTo>
                  <a:pt x="73" y="370"/>
                </a:lnTo>
                <a:lnTo>
                  <a:pt x="71" y="350"/>
                </a:lnTo>
                <a:lnTo>
                  <a:pt x="69" y="333"/>
                </a:lnTo>
                <a:lnTo>
                  <a:pt x="67" y="314"/>
                </a:lnTo>
                <a:lnTo>
                  <a:pt x="65" y="297"/>
                </a:lnTo>
                <a:lnTo>
                  <a:pt x="65" y="281"/>
                </a:lnTo>
                <a:lnTo>
                  <a:pt x="64" y="264"/>
                </a:lnTo>
                <a:lnTo>
                  <a:pt x="62" y="249"/>
                </a:lnTo>
                <a:lnTo>
                  <a:pt x="60" y="235"/>
                </a:lnTo>
                <a:lnTo>
                  <a:pt x="58" y="220"/>
                </a:lnTo>
                <a:lnTo>
                  <a:pt x="56" y="207"/>
                </a:lnTo>
                <a:lnTo>
                  <a:pt x="54" y="195"/>
                </a:lnTo>
                <a:lnTo>
                  <a:pt x="52" y="184"/>
                </a:lnTo>
                <a:lnTo>
                  <a:pt x="50" y="172"/>
                </a:lnTo>
                <a:lnTo>
                  <a:pt x="48" y="161"/>
                </a:lnTo>
                <a:lnTo>
                  <a:pt x="46" y="151"/>
                </a:lnTo>
                <a:lnTo>
                  <a:pt x="44" y="142"/>
                </a:lnTo>
                <a:lnTo>
                  <a:pt x="42" y="134"/>
                </a:lnTo>
                <a:lnTo>
                  <a:pt x="41" y="126"/>
                </a:lnTo>
                <a:lnTo>
                  <a:pt x="39" y="119"/>
                </a:lnTo>
                <a:lnTo>
                  <a:pt x="37" y="111"/>
                </a:lnTo>
                <a:lnTo>
                  <a:pt x="35" y="105"/>
                </a:lnTo>
                <a:lnTo>
                  <a:pt x="33" y="101"/>
                </a:lnTo>
                <a:lnTo>
                  <a:pt x="31" y="96"/>
                </a:lnTo>
                <a:lnTo>
                  <a:pt x="29" y="92"/>
                </a:lnTo>
                <a:lnTo>
                  <a:pt x="25" y="88"/>
                </a:lnTo>
                <a:lnTo>
                  <a:pt x="23" y="86"/>
                </a:lnTo>
                <a:lnTo>
                  <a:pt x="21" y="84"/>
                </a:lnTo>
              </a:path>
            </a:pathLst>
          </a:custGeom>
          <a:solidFill>
            <a:srgbClr val="ff0000"/>
          </a:solidFill>
          <a:ln w="1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70" name="Freeform 10"/>
          <p:cNvSpPr/>
          <p:nvPr/>
        </p:nvSpPr>
        <p:spPr>
          <a:xfrm>
            <a:off x="2034360" y="2376720"/>
            <a:ext cx="739080" cy="1117800"/>
          </a:xfrm>
          <a:custGeom>
            <a:avLst/>
            <a:gdLst>
              <a:gd name="textAreaLeft" fmla="*/ 0 w 739080"/>
              <a:gd name="textAreaRight" fmla="*/ 739440 w 739080"/>
              <a:gd name="textAreaTop" fmla="*/ 0 h 1117800"/>
              <a:gd name="textAreaBottom" fmla="*/ 1118160 h 1117800"/>
            </a:gdLst>
            <a:ahLst/>
            <a:rect l="textAreaLeft" t="textAreaTop" r="textAreaRight" b="textAreaBottom"/>
            <a:pathLst>
              <a:path w="1242" h="1878">
                <a:moveTo>
                  <a:pt x="737" y="1441"/>
                </a:moveTo>
                <a:lnTo>
                  <a:pt x="754" y="1443"/>
                </a:lnTo>
                <a:lnTo>
                  <a:pt x="772" y="1447"/>
                </a:lnTo>
                <a:lnTo>
                  <a:pt x="789" y="1449"/>
                </a:lnTo>
                <a:lnTo>
                  <a:pt x="804" y="1451"/>
                </a:lnTo>
                <a:lnTo>
                  <a:pt x="818" y="1453"/>
                </a:lnTo>
                <a:lnTo>
                  <a:pt x="829" y="1453"/>
                </a:lnTo>
                <a:lnTo>
                  <a:pt x="841" y="1455"/>
                </a:lnTo>
                <a:lnTo>
                  <a:pt x="852" y="1455"/>
                </a:lnTo>
                <a:lnTo>
                  <a:pt x="862" y="1455"/>
                </a:lnTo>
                <a:lnTo>
                  <a:pt x="870" y="1455"/>
                </a:lnTo>
                <a:lnTo>
                  <a:pt x="877" y="1455"/>
                </a:lnTo>
                <a:lnTo>
                  <a:pt x="885" y="1455"/>
                </a:lnTo>
                <a:lnTo>
                  <a:pt x="889" y="1453"/>
                </a:lnTo>
                <a:lnTo>
                  <a:pt x="893" y="1451"/>
                </a:lnTo>
                <a:lnTo>
                  <a:pt x="896" y="1449"/>
                </a:lnTo>
                <a:lnTo>
                  <a:pt x="898" y="1447"/>
                </a:lnTo>
                <a:lnTo>
                  <a:pt x="900" y="1445"/>
                </a:lnTo>
                <a:lnTo>
                  <a:pt x="902" y="1441"/>
                </a:lnTo>
                <a:lnTo>
                  <a:pt x="904" y="1437"/>
                </a:lnTo>
                <a:lnTo>
                  <a:pt x="906" y="1434"/>
                </a:lnTo>
                <a:lnTo>
                  <a:pt x="908" y="1430"/>
                </a:lnTo>
                <a:lnTo>
                  <a:pt x="910" y="1424"/>
                </a:lnTo>
                <a:lnTo>
                  <a:pt x="912" y="1418"/>
                </a:lnTo>
                <a:lnTo>
                  <a:pt x="914" y="1412"/>
                </a:lnTo>
                <a:lnTo>
                  <a:pt x="916" y="1405"/>
                </a:lnTo>
                <a:lnTo>
                  <a:pt x="918" y="1397"/>
                </a:lnTo>
                <a:lnTo>
                  <a:pt x="920" y="1389"/>
                </a:lnTo>
                <a:lnTo>
                  <a:pt x="921" y="1380"/>
                </a:lnTo>
                <a:lnTo>
                  <a:pt x="923" y="1372"/>
                </a:lnTo>
                <a:lnTo>
                  <a:pt x="925" y="1363"/>
                </a:lnTo>
                <a:lnTo>
                  <a:pt x="929" y="1353"/>
                </a:lnTo>
                <a:lnTo>
                  <a:pt x="931" y="1342"/>
                </a:lnTo>
                <a:lnTo>
                  <a:pt x="933" y="1330"/>
                </a:lnTo>
                <a:lnTo>
                  <a:pt x="935" y="1319"/>
                </a:lnTo>
                <a:lnTo>
                  <a:pt x="937" y="1305"/>
                </a:lnTo>
                <a:lnTo>
                  <a:pt x="939" y="1294"/>
                </a:lnTo>
                <a:lnTo>
                  <a:pt x="941" y="1280"/>
                </a:lnTo>
                <a:lnTo>
                  <a:pt x="943" y="1265"/>
                </a:lnTo>
                <a:lnTo>
                  <a:pt x="944" y="1252"/>
                </a:lnTo>
                <a:lnTo>
                  <a:pt x="946" y="1236"/>
                </a:lnTo>
                <a:lnTo>
                  <a:pt x="948" y="1221"/>
                </a:lnTo>
                <a:lnTo>
                  <a:pt x="950" y="1206"/>
                </a:lnTo>
                <a:lnTo>
                  <a:pt x="950" y="1188"/>
                </a:lnTo>
                <a:lnTo>
                  <a:pt x="952" y="1171"/>
                </a:lnTo>
                <a:lnTo>
                  <a:pt x="954" y="1154"/>
                </a:lnTo>
                <a:lnTo>
                  <a:pt x="954" y="1137"/>
                </a:lnTo>
                <a:lnTo>
                  <a:pt x="956" y="1117"/>
                </a:lnTo>
                <a:lnTo>
                  <a:pt x="956" y="1098"/>
                </a:lnTo>
                <a:lnTo>
                  <a:pt x="958" y="1058"/>
                </a:lnTo>
                <a:lnTo>
                  <a:pt x="960" y="1018"/>
                </a:lnTo>
                <a:lnTo>
                  <a:pt x="962" y="976"/>
                </a:lnTo>
                <a:lnTo>
                  <a:pt x="964" y="932"/>
                </a:lnTo>
                <a:lnTo>
                  <a:pt x="966" y="887"/>
                </a:lnTo>
                <a:lnTo>
                  <a:pt x="968" y="843"/>
                </a:lnTo>
                <a:lnTo>
                  <a:pt x="971" y="795"/>
                </a:lnTo>
                <a:lnTo>
                  <a:pt x="973" y="748"/>
                </a:lnTo>
                <a:lnTo>
                  <a:pt x="977" y="700"/>
                </a:lnTo>
                <a:lnTo>
                  <a:pt x="979" y="654"/>
                </a:lnTo>
                <a:lnTo>
                  <a:pt x="981" y="610"/>
                </a:lnTo>
                <a:lnTo>
                  <a:pt x="981" y="566"/>
                </a:lnTo>
                <a:lnTo>
                  <a:pt x="981" y="523"/>
                </a:lnTo>
                <a:lnTo>
                  <a:pt x="979" y="483"/>
                </a:lnTo>
                <a:lnTo>
                  <a:pt x="977" y="443"/>
                </a:lnTo>
                <a:lnTo>
                  <a:pt x="973" y="405"/>
                </a:lnTo>
                <a:lnTo>
                  <a:pt x="971" y="387"/>
                </a:lnTo>
                <a:lnTo>
                  <a:pt x="969" y="370"/>
                </a:lnTo>
                <a:lnTo>
                  <a:pt x="969" y="353"/>
                </a:lnTo>
                <a:lnTo>
                  <a:pt x="968" y="338"/>
                </a:lnTo>
                <a:lnTo>
                  <a:pt x="966" y="322"/>
                </a:lnTo>
                <a:lnTo>
                  <a:pt x="964" y="309"/>
                </a:lnTo>
                <a:lnTo>
                  <a:pt x="962" y="297"/>
                </a:lnTo>
                <a:lnTo>
                  <a:pt x="960" y="286"/>
                </a:lnTo>
                <a:lnTo>
                  <a:pt x="958" y="274"/>
                </a:lnTo>
                <a:lnTo>
                  <a:pt x="956" y="265"/>
                </a:lnTo>
                <a:lnTo>
                  <a:pt x="954" y="255"/>
                </a:lnTo>
                <a:lnTo>
                  <a:pt x="952" y="248"/>
                </a:lnTo>
                <a:lnTo>
                  <a:pt x="950" y="240"/>
                </a:lnTo>
                <a:lnTo>
                  <a:pt x="948" y="234"/>
                </a:lnTo>
                <a:lnTo>
                  <a:pt x="944" y="228"/>
                </a:lnTo>
                <a:lnTo>
                  <a:pt x="943" y="225"/>
                </a:lnTo>
                <a:lnTo>
                  <a:pt x="937" y="217"/>
                </a:lnTo>
                <a:lnTo>
                  <a:pt x="931" y="209"/>
                </a:lnTo>
                <a:lnTo>
                  <a:pt x="923" y="203"/>
                </a:lnTo>
                <a:lnTo>
                  <a:pt x="914" y="198"/>
                </a:lnTo>
                <a:lnTo>
                  <a:pt x="902" y="192"/>
                </a:lnTo>
                <a:lnTo>
                  <a:pt x="891" y="188"/>
                </a:lnTo>
                <a:lnTo>
                  <a:pt x="877" y="184"/>
                </a:lnTo>
                <a:lnTo>
                  <a:pt x="862" y="180"/>
                </a:lnTo>
                <a:lnTo>
                  <a:pt x="858" y="180"/>
                </a:lnTo>
                <a:lnTo>
                  <a:pt x="850" y="180"/>
                </a:lnTo>
                <a:lnTo>
                  <a:pt x="843" y="180"/>
                </a:lnTo>
                <a:lnTo>
                  <a:pt x="835" y="180"/>
                </a:lnTo>
                <a:lnTo>
                  <a:pt x="824" y="180"/>
                </a:lnTo>
                <a:lnTo>
                  <a:pt x="812" y="182"/>
                </a:lnTo>
                <a:lnTo>
                  <a:pt x="799" y="182"/>
                </a:lnTo>
                <a:lnTo>
                  <a:pt x="785" y="184"/>
                </a:lnTo>
                <a:lnTo>
                  <a:pt x="768" y="186"/>
                </a:lnTo>
                <a:lnTo>
                  <a:pt x="751" y="188"/>
                </a:lnTo>
                <a:lnTo>
                  <a:pt x="731" y="192"/>
                </a:lnTo>
                <a:lnTo>
                  <a:pt x="710" y="194"/>
                </a:lnTo>
                <a:lnTo>
                  <a:pt x="689" y="198"/>
                </a:lnTo>
                <a:lnTo>
                  <a:pt x="666" y="202"/>
                </a:lnTo>
                <a:lnTo>
                  <a:pt x="641" y="205"/>
                </a:lnTo>
                <a:lnTo>
                  <a:pt x="614" y="209"/>
                </a:lnTo>
                <a:lnTo>
                  <a:pt x="587" y="213"/>
                </a:lnTo>
                <a:lnTo>
                  <a:pt x="559" y="219"/>
                </a:lnTo>
                <a:lnTo>
                  <a:pt x="528" y="225"/>
                </a:lnTo>
                <a:lnTo>
                  <a:pt x="495" y="228"/>
                </a:lnTo>
                <a:lnTo>
                  <a:pt x="463" y="234"/>
                </a:lnTo>
                <a:lnTo>
                  <a:pt x="426" y="240"/>
                </a:lnTo>
                <a:lnTo>
                  <a:pt x="392" y="248"/>
                </a:lnTo>
                <a:lnTo>
                  <a:pt x="353" y="253"/>
                </a:lnTo>
                <a:lnTo>
                  <a:pt x="315" y="261"/>
                </a:lnTo>
                <a:lnTo>
                  <a:pt x="273" y="269"/>
                </a:lnTo>
                <a:lnTo>
                  <a:pt x="232" y="276"/>
                </a:lnTo>
                <a:lnTo>
                  <a:pt x="188" y="284"/>
                </a:lnTo>
                <a:lnTo>
                  <a:pt x="144" y="292"/>
                </a:lnTo>
                <a:lnTo>
                  <a:pt x="96" y="301"/>
                </a:lnTo>
                <a:lnTo>
                  <a:pt x="50" y="309"/>
                </a:lnTo>
                <a:lnTo>
                  <a:pt x="0" y="318"/>
                </a:lnTo>
                <a:lnTo>
                  <a:pt x="0" y="205"/>
                </a:lnTo>
                <a:lnTo>
                  <a:pt x="6" y="205"/>
                </a:lnTo>
                <a:lnTo>
                  <a:pt x="13" y="205"/>
                </a:lnTo>
                <a:lnTo>
                  <a:pt x="21" y="205"/>
                </a:lnTo>
                <a:lnTo>
                  <a:pt x="29" y="203"/>
                </a:lnTo>
                <a:lnTo>
                  <a:pt x="36" y="203"/>
                </a:lnTo>
                <a:lnTo>
                  <a:pt x="46" y="203"/>
                </a:lnTo>
                <a:lnTo>
                  <a:pt x="56" y="202"/>
                </a:lnTo>
                <a:lnTo>
                  <a:pt x="65" y="202"/>
                </a:lnTo>
                <a:lnTo>
                  <a:pt x="75" y="200"/>
                </a:lnTo>
                <a:lnTo>
                  <a:pt x="86" y="198"/>
                </a:lnTo>
                <a:lnTo>
                  <a:pt x="98" y="196"/>
                </a:lnTo>
                <a:lnTo>
                  <a:pt x="109" y="196"/>
                </a:lnTo>
                <a:lnTo>
                  <a:pt x="121" y="194"/>
                </a:lnTo>
                <a:lnTo>
                  <a:pt x="134" y="192"/>
                </a:lnTo>
                <a:lnTo>
                  <a:pt x="148" y="188"/>
                </a:lnTo>
                <a:lnTo>
                  <a:pt x="161" y="186"/>
                </a:lnTo>
                <a:lnTo>
                  <a:pt x="175" y="184"/>
                </a:lnTo>
                <a:lnTo>
                  <a:pt x="190" y="182"/>
                </a:lnTo>
                <a:lnTo>
                  <a:pt x="205" y="179"/>
                </a:lnTo>
                <a:lnTo>
                  <a:pt x="221" y="177"/>
                </a:lnTo>
                <a:lnTo>
                  <a:pt x="238" y="173"/>
                </a:lnTo>
                <a:lnTo>
                  <a:pt x="255" y="171"/>
                </a:lnTo>
                <a:lnTo>
                  <a:pt x="273" y="167"/>
                </a:lnTo>
                <a:lnTo>
                  <a:pt x="290" y="163"/>
                </a:lnTo>
                <a:lnTo>
                  <a:pt x="307" y="159"/>
                </a:lnTo>
                <a:lnTo>
                  <a:pt x="326" y="156"/>
                </a:lnTo>
                <a:lnTo>
                  <a:pt x="346" y="152"/>
                </a:lnTo>
                <a:lnTo>
                  <a:pt x="365" y="148"/>
                </a:lnTo>
                <a:lnTo>
                  <a:pt x="386" y="144"/>
                </a:lnTo>
                <a:lnTo>
                  <a:pt x="407" y="140"/>
                </a:lnTo>
                <a:lnTo>
                  <a:pt x="428" y="134"/>
                </a:lnTo>
                <a:lnTo>
                  <a:pt x="449" y="131"/>
                </a:lnTo>
                <a:lnTo>
                  <a:pt x="470" y="127"/>
                </a:lnTo>
                <a:lnTo>
                  <a:pt x="491" y="121"/>
                </a:lnTo>
                <a:lnTo>
                  <a:pt x="513" y="117"/>
                </a:lnTo>
                <a:lnTo>
                  <a:pt x="532" y="113"/>
                </a:lnTo>
                <a:lnTo>
                  <a:pt x="551" y="108"/>
                </a:lnTo>
                <a:lnTo>
                  <a:pt x="570" y="104"/>
                </a:lnTo>
                <a:lnTo>
                  <a:pt x="587" y="100"/>
                </a:lnTo>
                <a:lnTo>
                  <a:pt x="605" y="96"/>
                </a:lnTo>
                <a:lnTo>
                  <a:pt x="622" y="92"/>
                </a:lnTo>
                <a:lnTo>
                  <a:pt x="639" y="88"/>
                </a:lnTo>
                <a:lnTo>
                  <a:pt x="655" y="85"/>
                </a:lnTo>
                <a:lnTo>
                  <a:pt x="670" y="83"/>
                </a:lnTo>
                <a:lnTo>
                  <a:pt x="683" y="79"/>
                </a:lnTo>
                <a:lnTo>
                  <a:pt x="697" y="75"/>
                </a:lnTo>
                <a:lnTo>
                  <a:pt x="710" y="71"/>
                </a:lnTo>
                <a:lnTo>
                  <a:pt x="724" y="69"/>
                </a:lnTo>
                <a:lnTo>
                  <a:pt x="735" y="65"/>
                </a:lnTo>
                <a:lnTo>
                  <a:pt x="747" y="64"/>
                </a:lnTo>
                <a:lnTo>
                  <a:pt x="756" y="60"/>
                </a:lnTo>
                <a:lnTo>
                  <a:pt x="768" y="58"/>
                </a:lnTo>
                <a:lnTo>
                  <a:pt x="777" y="54"/>
                </a:lnTo>
                <a:lnTo>
                  <a:pt x="785" y="52"/>
                </a:lnTo>
                <a:lnTo>
                  <a:pt x="795" y="50"/>
                </a:lnTo>
                <a:lnTo>
                  <a:pt x="802" y="46"/>
                </a:lnTo>
                <a:lnTo>
                  <a:pt x="810" y="44"/>
                </a:lnTo>
                <a:lnTo>
                  <a:pt x="816" y="42"/>
                </a:lnTo>
                <a:lnTo>
                  <a:pt x="822" y="41"/>
                </a:lnTo>
                <a:lnTo>
                  <a:pt x="827" y="39"/>
                </a:lnTo>
                <a:lnTo>
                  <a:pt x="831" y="37"/>
                </a:lnTo>
                <a:lnTo>
                  <a:pt x="837" y="35"/>
                </a:lnTo>
                <a:lnTo>
                  <a:pt x="839" y="33"/>
                </a:lnTo>
                <a:lnTo>
                  <a:pt x="843" y="31"/>
                </a:lnTo>
                <a:lnTo>
                  <a:pt x="854" y="25"/>
                </a:lnTo>
                <a:lnTo>
                  <a:pt x="864" y="20"/>
                </a:lnTo>
                <a:lnTo>
                  <a:pt x="873" y="16"/>
                </a:lnTo>
                <a:lnTo>
                  <a:pt x="883" y="10"/>
                </a:lnTo>
                <a:lnTo>
                  <a:pt x="893" y="8"/>
                </a:lnTo>
                <a:lnTo>
                  <a:pt x="900" y="4"/>
                </a:lnTo>
                <a:lnTo>
                  <a:pt x="910" y="2"/>
                </a:lnTo>
                <a:lnTo>
                  <a:pt x="918" y="0"/>
                </a:lnTo>
                <a:lnTo>
                  <a:pt x="921" y="0"/>
                </a:lnTo>
                <a:lnTo>
                  <a:pt x="927" y="0"/>
                </a:lnTo>
                <a:lnTo>
                  <a:pt x="933" y="0"/>
                </a:lnTo>
                <a:lnTo>
                  <a:pt x="939" y="0"/>
                </a:lnTo>
                <a:lnTo>
                  <a:pt x="946" y="2"/>
                </a:lnTo>
                <a:lnTo>
                  <a:pt x="954" y="4"/>
                </a:lnTo>
                <a:lnTo>
                  <a:pt x="964" y="6"/>
                </a:lnTo>
                <a:lnTo>
                  <a:pt x="973" y="8"/>
                </a:lnTo>
                <a:lnTo>
                  <a:pt x="983" y="10"/>
                </a:lnTo>
                <a:lnTo>
                  <a:pt x="994" y="14"/>
                </a:lnTo>
                <a:lnTo>
                  <a:pt x="1006" y="18"/>
                </a:lnTo>
                <a:lnTo>
                  <a:pt x="1017" y="21"/>
                </a:lnTo>
                <a:lnTo>
                  <a:pt x="1031" y="27"/>
                </a:lnTo>
                <a:lnTo>
                  <a:pt x="1044" y="31"/>
                </a:lnTo>
                <a:lnTo>
                  <a:pt x="1060" y="37"/>
                </a:lnTo>
                <a:lnTo>
                  <a:pt x="1075" y="42"/>
                </a:lnTo>
                <a:lnTo>
                  <a:pt x="1090" y="48"/>
                </a:lnTo>
                <a:lnTo>
                  <a:pt x="1104" y="56"/>
                </a:lnTo>
                <a:lnTo>
                  <a:pt x="1119" y="62"/>
                </a:lnTo>
                <a:lnTo>
                  <a:pt x="1131" y="67"/>
                </a:lnTo>
                <a:lnTo>
                  <a:pt x="1144" y="73"/>
                </a:lnTo>
                <a:lnTo>
                  <a:pt x="1156" y="79"/>
                </a:lnTo>
                <a:lnTo>
                  <a:pt x="1165" y="85"/>
                </a:lnTo>
                <a:lnTo>
                  <a:pt x="1177" y="90"/>
                </a:lnTo>
                <a:lnTo>
                  <a:pt x="1184" y="96"/>
                </a:lnTo>
                <a:lnTo>
                  <a:pt x="1194" y="100"/>
                </a:lnTo>
                <a:lnTo>
                  <a:pt x="1202" y="106"/>
                </a:lnTo>
                <a:lnTo>
                  <a:pt x="1209" y="111"/>
                </a:lnTo>
                <a:lnTo>
                  <a:pt x="1215" y="115"/>
                </a:lnTo>
                <a:lnTo>
                  <a:pt x="1221" y="121"/>
                </a:lnTo>
                <a:lnTo>
                  <a:pt x="1227" y="127"/>
                </a:lnTo>
                <a:lnTo>
                  <a:pt x="1231" y="131"/>
                </a:lnTo>
                <a:lnTo>
                  <a:pt x="1234" y="134"/>
                </a:lnTo>
                <a:lnTo>
                  <a:pt x="1236" y="140"/>
                </a:lnTo>
                <a:lnTo>
                  <a:pt x="1240" y="144"/>
                </a:lnTo>
                <a:lnTo>
                  <a:pt x="1242" y="150"/>
                </a:lnTo>
                <a:lnTo>
                  <a:pt x="1242" y="154"/>
                </a:lnTo>
                <a:lnTo>
                  <a:pt x="1242" y="159"/>
                </a:lnTo>
                <a:lnTo>
                  <a:pt x="1242" y="163"/>
                </a:lnTo>
                <a:lnTo>
                  <a:pt x="1242" y="169"/>
                </a:lnTo>
                <a:lnTo>
                  <a:pt x="1240" y="173"/>
                </a:lnTo>
                <a:lnTo>
                  <a:pt x="1238" y="177"/>
                </a:lnTo>
                <a:lnTo>
                  <a:pt x="1236" y="182"/>
                </a:lnTo>
                <a:lnTo>
                  <a:pt x="1232" y="186"/>
                </a:lnTo>
                <a:lnTo>
                  <a:pt x="1229" y="192"/>
                </a:lnTo>
                <a:lnTo>
                  <a:pt x="1223" y="196"/>
                </a:lnTo>
                <a:lnTo>
                  <a:pt x="1217" y="202"/>
                </a:lnTo>
                <a:lnTo>
                  <a:pt x="1211" y="205"/>
                </a:lnTo>
                <a:lnTo>
                  <a:pt x="1207" y="207"/>
                </a:lnTo>
                <a:lnTo>
                  <a:pt x="1206" y="211"/>
                </a:lnTo>
                <a:lnTo>
                  <a:pt x="1202" y="215"/>
                </a:lnTo>
                <a:lnTo>
                  <a:pt x="1200" y="219"/>
                </a:lnTo>
                <a:lnTo>
                  <a:pt x="1198" y="225"/>
                </a:lnTo>
                <a:lnTo>
                  <a:pt x="1194" y="230"/>
                </a:lnTo>
                <a:lnTo>
                  <a:pt x="1192" y="236"/>
                </a:lnTo>
                <a:lnTo>
                  <a:pt x="1190" y="244"/>
                </a:lnTo>
                <a:lnTo>
                  <a:pt x="1188" y="251"/>
                </a:lnTo>
                <a:lnTo>
                  <a:pt x="1184" y="259"/>
                </a:lnTo>
                <a:lnTo>
                  <a:pt x="1183" y="269"/>
                </a:lnTo>
                <a:lnTo>
                  <a:pt x="1181" y="276"/>
                </a:lnTo>
                <a:lnTo>
                  <a:pt x="1179" y="288"/>
                </a:lnTo>
                <a:lnTo>
                  <a:pt x="1177" y="297"/>
                </a:lnTo>
                <a:lnTo>
                  <a:pt x="1175" y="309"/>
                </a:lnTo>
                <a:lnTo>
                  <a:pt x="1175" y="320"/>
                </a:lnTo>
                <a:lnTo>
                  <a:pt x="1173" y="334"/>
                </a:lnTo>
                <a:lnTo>
                  <a:pt x="1171" y="345"/>
                </a:lnTo>
                <a:lnTo>
                  <a:pt x="1169" y="359"/>
                </a:lnTo>
                <a:lnTo>
                  <a:pt x="1169" y="374"/>
                </a:lnTo>
                <a:lnTo>
                  <a:pt x="1167" y="389"/>
                </a:lnTo>
                <a:lnTo>
                  <a:pt x="1167" y="405"/>
                </a:lnTo>
                <a:lnTo>
                  <a:pt x="1165" y="420"/>
                </a:lnTo>
                <a:lnTo>
                  <a:pt x="1165" y="437"/>
                </a:lnTo>
                <a:lnTo>
                  <a:pt x="1163" y="454"/>
                </a:lnTo>
                <a:lnTo>
                  <a:pt x="1163" y="472"/>
                </a:lnTo>
                <a:lnTo>
                  <a:pt x="1163" y="491"/>
                </a:lnTo>
                <a:lnTo>
                  <a:pt x="1161" y="510"/>
                </a:lnTo>
                <a:lnTo>
                  <a:pt x="1161" y="529"/>
                </a:lnTo>
                <a:lnTo>
                  <a:pt x="1161" y="550"/>
                </a:lnTo>
                <a:lnTo>
                  <a:pt x="1161" y="571"/>
                </a:lnTo>
                <a:lnTo>
                  <a:pt x="1161" y="592"/>
                </a:lnTo>
                <a:lnTo>
                  <a:pt x="1161" y="679"/>
                </a:lnTo>
                <a:lnTo>
                  <a:pt x="1159" y="765"/>
                </a:lnTo>
                <a:lnTo>
                  <a:pt x="1158" y="849"/>
                </a:lnTo>
                <a:lnTo>
                  <a:pt x="1156" y="933"/>
                </a:lnTo>
                <a:lnTo>
                  <a:pt x="1152" y="1016"/>
                </a:lnTo>
                <a:lnTo>
                  <a:pt x="1148" y="1096"/>
                </a:lnTo>
                <a:lnTo>
                  <a:pt x="1142" y="1175"/>
                </a:lnTo>
                <a:lnTo>
                  <a:pt x="1136" y="1253"/>
                </a:lnTo>
                <a:lnTo>
                  <a:pt x="1133" y="1292"/>
                </a:lnTo>
                <a:lnTo>
                  <a:pt x="1129" y="1330"/>
                </a:lnTo>
                <a:lnTo>
                  <a:pt x="1125" y="1365"/>
                </a:lnTo>
                <a:lnTo>
                  <a:pt x="1121" y="1401"/>
                </a:lnTo>
                <a:lnTo>
                  <a:pt x="1117" y="1434"/>
                </a:lnTo>
                <a:lnTo>
                  <a:pt x="1113" y="1466"/>
                </a:lnTo>
                <a:lnTo>
                  <a:pt x="1108" y="1497"/>
                </a:lnTo>
                <a:lnTo>
                  <a:pt x="1104" y="1527"/>
                </a:lnTo>
                <a:lnTo>
                  <a:pt x="1098" y="1556"/>
                </a:lnTo>
                <a:lnTo>
                  <a:pt x="1092" y="1583"/>
                </a:lnTo>
                <a:lnTo>
                  <a:pt x="1087" y="1608"/>
                </a:lnTo>
                <a:lnTo>
                  <a:pt x="1081" y="1633"/>
                </a:lnTo>
                <a:lnTo>
                  <a:pt x="1075" y="1658"/>
                </a:lnTo>
                <a:lnTo>
                  <a:pt x="1069" y="1681"/>
                </a:lnTo>
                <a:lnTo>
                  <a:pt x="1064" y="1702"/>
                </a:lnTo>
                <a:lnTo>
                  <a:pt x="1056" y="1721"/>
                </a:lnTo>
                <a:lnTo>
                  <a:pt x="1048" y="1740"/>
                </a:lnTo>
                <a:lnTo>
                  <a:pt x="1042" y="1757"/>
                </a:lnTo>
                <a:lnTo>
                  <a:pt x="1035" y="1775"/>
                </a:lnTo>
                <a:lnTo>
                  <a:pt x="1029" y="1790"/>
                </a:lnTo>
                <a:lnTo>
                  <a:pt x="1021" y="1803"/>
                </a:lnTo>
                <a:lnTo>
                  <a:pt x="1016" y="1817"/>
                </a:lnTo>
                <a:lnTo>
                  <a:pt x="1010" y="1828"/>
                </a:lnTo>
                <a:lnTo>
                  <a:pt x="1004" y="1840"/>
                </a:lnTo>
                <a:lnTo>
                  <a:pt x="998" y="1847"/>
                </a:lnTo>
                <a:lnTo>
                  <a:pt x="992" y="1857"/>
                </a:lnTo>
                <a:lnTo>
                  <a:pt x="987" y="1863"/>
                </a:lnTo>
                <a:lnTo>
                  <a:pt x="981" y="1868"/>
                </a:lnTo>
                <a:lnTo>
                  <a:pt x="977" y="1872"/>
                </a:lnTo>
                <a:lnTo>
                  <a:pt x="971" y="1876"/>
                </a:lnTo>
                <a:lnTo>
                  <a:pt x="966" y="1878"/>
                </a:lnTo>
                <a:lnTo>
                  <a:pt x="962" y="1878"/>
                </a:lnTo>
                <a:lnTo>
                  <a:pt x="958" y="1878"/>
                </a:lnTo>
                <a:lnTo>
                  <a:pt x="952" y="1876"/>
                </a:lnTo>
                <a:lnTo>
                  <a:pt x="948" y="1874"/>
                </a:lnTo>
                <a:lnTo>
                  <a:pt x="944" y="1870"/>
                </a:lnTo>
                <a:lnTo>
                  <a:pt x="941" y="1867"/>
                </a:lnTo>
                <a:lnTo>
                  <a:pt x="937" y="1863"/>
                </a:lnTo>
                <a:lnTo>
                  <a:pt x="933" y="1857"/>
                </a:lnTo>
                <a:lnTo>
                  <a:pt x="929" y="1851"/>
                </a:lnTo>
                <a:lnTo>
                  <a:pt x="925" y="1844"/>
                </a:lnTo>
                <a:lnTo>
                  <a:pt x="921" y="1836"/>
                </a:lnTo>
                <a:lnTo>
                  <a:pt x="920" y="1826"/>
                </a:lnTo>
                <a:lnTo>
                  <a:pt x="916" y="1817"/>
                </a:lnTo>
                <a:lnTo>
                  <a:pt x="914" y="1807"/>
                </a:lnTo>
                <a:lnTo>
                  <a:pt x="910" y="1796"/>
                </a:lnTo>
                <a:lnTo>
                  <a:pt x="908" y="1784"/>
                </a:lnTo>
                <a:lnTo>
                  <a:pt x="906" y="1771"/>
                </a:lnTo>
                <a:lnTo>
                  <a:pt x="902" y="1757"/>
                </a:lnTo>
                <a:lnTo>
                  <a:pt x="898" y="1742"/>
                </a:lnTo>
                <a:lnTo>
                  <a:pt x="895" y="1727"/>
                </a:lnTo>
                <a:lnTo>
                  <a:pt x="889" y="1711"/>
                </a:lnTo>
                <a:lnTo>
                  <a:pt x="881" y="1692"/>
                </a:lnTo>
                <a:lnTo>
                  <a:pt x="873" y="1675"/>
                </a:lnTo>
                <a:lnTo>
                  <a:pt x="864" y="1656"/>
                </a:lnTo>
                <a:lnTo>
                  <a:pt x="854" y="1635"/>
                </a:lnTo>
                <a:lnTo>
                  <a:pt x="843" y="1614"/>
                </a:lnTo>
                <a:lnTo>
                  <a:pt x="831" y="1593"/>
                </a:lnTo>
                <a:lnTo>
                  <a:pt x="818" y="1570"/>
                </a:lnTo>
                <a:lnTo>
                  <a:pt x="804" y="1547"/>
                </a:lnTo>
                <a:lnTo>
                  <a:pt x="789" y="1522"/>
                </a:lnTo>
                <a:lnTo>
                  <a:pt x="772" y="1495"/>
                </a:lnTo>
                <a:lnTo>
                  <a:pt x="756" y="1468"/>
                </a:lnTo>
                <a:lnTo>
                  <a:pt x="737" y="1441"/>
                </a:lnTo>
              </a:path>
            </a:pathLst>
          </a:custGeom>
          <a:solidFill>
            <a:srgbClr val="ff0000"/>
          </a:solidFill>
          <a:ln w="1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2055600" y="2790000"/>
            <a:ext cx="432000" cy="131760"/>
          </a:xfrm>
          <a:custGeom>
            <a:avLst/>
            <a:gdLst>
              <a:gd name="textAreaLeft" fmla="*/ 0 w 432000"/>
              <a:gd name="textAreaRight" fmla="*/ 432360 w 432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26" h="220">
                <a:moveTo>
                  <a:pt x="0" y="121"/>
                </a:moveTo>
                <a:lnTo>
                  <a:pt x="33" y="113"/>
                </a:lnTo>
                <a:lnTo>
                  <a:pt x="66" y="103"/>
                </a:lnTo>
                <a:lnTo>
                  <a:pt x="96" y="96"/>
                </a:lnTo>
                <a:lnTo>
                  <a:pt x="127" y="88"/>
                </a:lnTo>
                <a:lnTo>
                  <a:pt x="158" y="82"/>
                </a:lnTo>
                <a:lnTo>
                  <a:pt x="185" y="75"/>
                </a:lnTo>
                <a:lnTo>
                  <a:pt x="214" y="69"/>
                </a:lnTo>
                <a:lnTo>
                  <a:pt x="240" y="61"/>
                </a:lnTo>
                <a:lnTo>
                  <a:pt x="265" y="55"/>
                </a:lnTo>
                <a:lnTo>
                  <a:pt x="290" y="50"/>
                </a:lnTo>
                <a:lnTo>
                  <a:pt x="313" y="44"/>
                </a:lnTo>
                <a:lnTo>
                  <a:pt x="336" y="40"/>
                </a:lnTo>
                <a:lnTo>
                  <a:pt x="359" y="34"/>
                </a:lnTo>
                <a:lnTo>
                  <a:pt x="381" y="31"/>
                </a:lnTo>
                <a:lnTo>
                  <a:pt x="400" y="27"/>
                </a:lnTo>
                <a:lnTo>
                  <a:pt x="419" y="23"/>
                </a:lnTo>
                <a:lnTo>
                  <a:pt x="438" y="19"/>
                </a:lnTo>
                <a:lnTo>
                  <a:pt x="455" y="15"/>
                </a:lnTo>
                <a:lnTo>
                  <a:pt x="473" y="13"/>
                </a:lnTo>
                <a:lnTo>
                  <a:pt x="488" y="9"/>
                </a:lnTo>
                <a:lnTo>
                  <a:pt x="502" y="8"/>
                </a:lnTo>
                <a:lnTo>
                  <a:pt x="515" y="6"/>
                </a:lnTo>
                <a:lnTo>
                  <a:pt x="528" y="4"/>
                </a:lnTo>
                <a:lnTo>
                  <a:pt x="540" y="2"/>
                </a:lnTo>
                <a:lnTo>
                  <a:pt x="551" y="2"/>
                </a:lnTo>
                <a:lnTo>
                  <a:pt x="561" y="0"/>
                </a:lnTo>
                <a:lnTo>
                  <a:pt x="571" y="0"/>
                </a:lnTo>
                <a:lnTo>
                  <a:pt x="578" y="0"/>
                </a:lnTo>
                <a:lnTo>
                  <a:pt x="586" y="0"/>
                </a:lnTo>
                <a:lnTo>
                  <a:pt x="592" y="0"/>
                </a:lnTo>
                <a:lnTo>
                  <a:pt x="598" y="2"/>
                </a:lnTo>
                <a:lnTo>
                  <a:pt x="601" y="2"/>
                </a:lnTo>
                <a:lnTo>
                  <a:pt x="617" y="8"/>
                </a:lnTo>
                <a:lnTo>
                  <a:pt x="630" y="13"/>
                </a:lnTo>
                <a:lnTo>
                  <a:pt x="644" y="19"/>
                </a:lnTo>
                <a:lnTo>
                  <a:pt x="657" y="25"/>
                </a:lnTo>
                <a:lnTo>
                  <a:pt x="669" y="31"/>
                </a:lnTo>
                <a:lnTo>
                  <a:pt x="680" y="38"/>
                </a:lnTo>
                <a:lnTo>
                  <a:pt x="692" y="44"/>
                </a:lnTo>
                <a:lnTo>
                  <a:pt x="701" y="52"/>
                </a:lnTo>
                <a:lnTo>
                  <a:pt x="709" y="59"/>
                </a:lnTo>
                <a:lnTo>
                  <a:pt x="717" y="67"/>
                </a:lnTo>
                <a:lnTo>
                  <a:pt x="720" y="73"/>
                </a:lnTo>
                <a:lnTo>
                  <a:pt x="724" y="80"/>
                </a:lnTo>
                <a:lnTo>
                  <a:pt x="726" y="86"/>
                </a:lnTo>
                <a:lnTo>
                  <a:pt x="724" y="92"/>
                </a:lnTo>
                <a:lnTo>
                  <a:pt x="722" y="98"/>
                </a:lnTo>
                <a:lnTo>
                  <a:pt x="718" y="101"/>
                </a:lnTo>
                <a:lnTo>
                  <a:pt x="717" y="103"/>
                </a:lnTo>
                <a:lnTo>
                  <a:pt x="713" y="107"/>
                </a:lnTo>
                <a:lnTo>
                  <a:pt x="709" y="109"/>
                </a:lnTo>
                <a:lnTo>
                  <a:pt x="703" y="113"/>
                </a:lnTo>
                <a:lnTo>
                  <a:pt x="697" y="115"/>
                </a:lnTo>
                <a:lnTo>
                  <a:pt x="690" y="119"/>
                </a:lnTo>
                <a:lnTo>
                  <a:pt x="682" y="121"/>
                </a:lnTo>
                <a:lnTo>
                  <a:pt x="672" y="124"/>
                </a:lnTo>
                <a:lnTo>
                  <a:pt x="663" y="128"/>
                </a:lnTo>
                <a:lnTo>
                  <a:pt x="651" y="130"/>
                </a:lnTo>
                <a:lnTo>
                  <a:pt x="640" y="134"/>
                </a:lnTo>
                <a:lnTo>
                  <a:pt x="628" y="138"/>
                </a:lnTo>
                <a:lnTo>
                  <a:pt x="615" y="142"/>
                </a:lnTo>
                <a:lnTo>
                  <a:pt x="599" y="144"/>
                </a:lnTo>
                <a:lnTo>
                  <a:pt x="584" y="147"/>
                </a:lnTo>
                <a:lnTo>
                  <a:pt x="569" y="151"/>
                </a:lnTo>
                <a:lnTo>
                  <a:pt x="536" y="159"/>
                </a:lnTo>
                <a:lnTo>
                  <a:pt x="503" y="165"/>
                </a:lnTo>
                <a:lnTo>
                  <a:pt x="469" y="170"/>
                </a:lnTo>
                <a:lnTo>
                  <a:pt x="434" y="176"/>
                </a:lnTo>
                <a:lnTo>
                  <a:pt x="398" y="180"/>
                </a:lnTo>
                <a:lnTo>
                  <a:pt x="361" y="182"/>
                </a:lnTo>
                <a:lnTo>
                  <a:pt x="325" y="184"/>
                </a:lnTo>
                <a:lnTo>
                  <a:pt x="288" y="184"/>
                </a:lnTo>
                <a:lnTo>
                  <a:pt x="252" y="184"/>
                </a:lnTo>
                <a:lnTo>
                  <a:pt x="214" y="186"/>
                </a:lnTo>
                <a:lnTo>
                  <a:pt x="177" y="190"/>
                </a:lnTo>
                <a:lnTo>
                  <a:pt x="143" y="193"/>
                </a:lnTo>
                <a:lnTo>
                  <a:pt x="106" y="197"/>
                </a:lnTo>
                <a:lnTo>
                  <a:pt x="70" y="205"/>
                </a:lnTo>
                <a:lnTo>
                  <a:pt x="35" y="211"/>
                </a:lnTo>
                <a:lnTo>
                  <a:pt x="0" y="220"/>
                </a:lnTo>
                <a:lnTo>
                  <a:pt x="0" y="121"/>
                </a:lnTo>
              </a:path>
            </a:pathLst>
          </a:custGeom>
          <a:solidFill>
            <a:srgbClr val="ff0000"/>
          </a:solidFill>
          <a:ln w="1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72" name="Freeform 12"/>
          <p:cNvSpPr/>
          <p:nvPr/>
        </p:nvSpPr>
        <p:spPr>
          <a:xfrm>
            <a:off x="2034360" y="3183840"/>
            <a:ext cx="556920" cy="116280"/>
          </a:xfrm>
          <a:custGeom>
            <a:avLst/>
            <a:gdLst>
              <a:gd name="textAreaLeft" fmla="*/ 0 w 556920"/>
              <a:gd name="textAreaRight" fmla="*/ 557280 w 556920"/>
              <a:gd name="textAreaTop" fmla="*/ 0 h 116280"/>
              <a:gd name="textAreaBottom" fmla="*/ 116640 h 116280"/>
            </a:gdLst>
            <a:ahLst/>
            <a:rect l="textAreaLeft" t="textAreaTop" r="textAreaRight" b="textAreaBottom"/>
            <a:pathLst>
              <a:path w="937" h="195">
                <a:moveTo>
                  <a:pt x="574" y="2"/>
                </a:moveTo>
                <a:lnTo>
                  <a:pt x="589" y="0"/>
                </a:lnTo>
                <a:lnTo>
                  <a:pt x="607" y="0"/>
                </a:lnTo>
                <a:lnTo>
                  <a:pt x="624" y="0"/>
                </a:lnTo>
                <a:lnTo>
                  <a:pt x="643" y="4"/>
                </a:lnTo>
                <a:lnTo>
                  <a:pt x="662" y="6"/>
                </a:lnTo>
                <a:lnTo>
                  <a:pt x="683" y="11"/>
                </a:lnTo>
                <a:lnTo>
                  <a:pt x="705" y="17"/>
                </a:lnTo>
                <a:lnTo>
                  <a:pt x="728" y="23"/>
                </a:lnTo>
                <a:lnTo>
                  <a:pt x="751" y="31"/>
                </a:lnTo>
                <a:lnTo>
                  <a:pt x="774" y="40"/>
                </a:lnTo>
                <a:lnTo>
                  <a:pt x="799" y="52"/>
                </a:lnTo>
                <a:lnTo>
                  <a:pt x="825" y="63"/>
                </a:lnTo>
                <a:lnTo>
                  <a:pt x="850" y="75"/>
                </a:lnTo>
                <a:lnTo>
                  <a:pt x="879" y="90"/>
                </a:lnTo>
                <a:lnTo>
                  <a:pt x="908" y="105"/>
                </a:lnTo>
                <a:lnTo>
                  <a:pt x="937" y="121"/>
                </a:lnTo>
                <a:lnTo>
                  <a:pt x="916" y="121"/>
                </a:lnTo>
                <a:lnTo>
                  <a:pt x="895" y="121"/>
                </a:lnTo>
                <a:lnTo>
                  <a:pt x="872" y="121"/>
                </a:lnTo>
                <a:lnTo>
                  <a:pt x="849" y="123"/>
                </a:lnTo>
                <a:lnTo>
                  <a:pt x="825" y="123"/>
                </a:lnTo>
                <a:lnTo>
                  <a:pt x="801" y="123"/>
                </a:lnTo>
                <a:lnTo>
                  <a:pt x="777" y="124"/>
                </a:lnTo>
                <a:lnTo>
                  <a:pt x="753" y="124"/>
                </a:lnTo>
                <a:lnTo>
                  <a:pt x="726" y="126"/>
                </a:lnTo>
                <a:lnTo>
                  <a:pt x="701" y="128"/>
                </a:lnTo>
                <a:lnTo>
                  <a:pt x="674" y="130"/>
                </a:lnTo>
                <a:lnTo>
                  <a:pt x="647" y="132"/>
                </a:lnTo>
                <a:lnTo>
                  <a:pt x="620" y="132"/>
                </a:lnTo>
                <a:lnTo>
                  <a:pt x="591" y="134"/>
                </a:lnTo>
                <a:lnTo>
                  <a:pt x="562" y="138"/>
                </a:lnTo>
                <a:lnTo>
                  <a:pt x="534" y="140"/>
                </a:lnTo>
                <a:lnTo>
                  <a:pt x="505" y="142"/>
                </a:lnTo>
                <a:lnTo>
                  <a:pt x="474" y="144"/>
                </a:lnTo>
                <a:lnTo>
                  <a:pt x="443" y="147"/>
                </a:lnTo>
                <a:lnTo>
                  <a:pt x="413" y="149"/>
                </a:lnTo>
                <a:lnTo>
                  <a:pt x="382" y="153"/>
                </a:lnTo>
                <a:lnTo>
                  <a:pt x="349" y="155"/>
                </a:lnTo>
                <a:lnTo>
                  <a:pt x="317" y="159"/>
                </a:lnTo>
                <a:lnTo>
                  <a:pt x="284" y="163"/>
                </a:lnTo>
                <a:lnTo>
                  <a:pt x="250" y="167"/>
                </a:lnTo>
                <a:lnTo>
                  <a:pt x="215" y="170"/>
                </a:lnTo>
                <a:lnTo>
                  <a:pt x="180" y="174"/>
                </a:lnTo>
                <a:lnTo>
                  <a:pt x="146" y="178"/>
                </a:lnTo>
                <a:lnTo>
                  <a:pt x="109" y="182"/>
                </a:lnTo>
                <a:lnTo>
                  <a:pt x="73" y="186"/>
                </a:lnTo>
                <a:lnTo>
                  <a:pt x="36" y="191"/>
                </a:lnTo>
                <a:lnTo>
                  <a:pt x="0" y="195"/>
                </a:lnTo>
                <a:lnTo>
                  <a:pt x="0" y="84"/>
                </a:lnTo>
                <a:lnTo>
                  <a:pt x="27" y="80"/>
                </a:lnTo>
                <a:lnTo>
                  <a:pt x="56" y="77"/>
                </a:lnTo>
                <a:lnTo>
                  <a:pt x="81" y="73"/>
                </a:lnTo>
                <a:lnTo>
                  <a:pt x="108" y="69"/>
                </a:lnTo>
                <a:lnTo>
                  <a:pt x="132" y="65"/>
                </a:lnTo>
                <a:lnTo>
                  <a:pt x="157" y="61"/>
                </a:lnTo>
                <a:lnTo>
                  <a:pt x="180" y="59"/>
                </a:lnTo>
                <a:lnTo>
                  <a:pt x="205" y="55"/>
                </a:lnTo>
                <a:lnTo>
                  <a:pt x="227" y="52"/>
                </a:lnTo>
                <a:lnTo>
                  <a:pt x="250" y="50"/>
                </a:lnTo>
                <a:lnTo>
                  <a:pt x="271" y="46"/>
                </a:lnTo>
                <a:lnTo>
                  <a:pt x="292" y="44"/>
                </a:lnTo>
                <a:lnTo>
                  <a:pt x="311" y="40"/>
                </a:lnTo>
                <a:lnTo>
                  <a:pt x="332" y="38"/>
                </a:lnTo>
                <a:lnTo>
                  <a:pt x="349" y="34"/>
                </a:lnTo>
                <a:lnTo>
                  <a:pt x="369" y="32"/>
                </a:lnTo>
                <a:lnTo>
                  <a:pt x="386" y="31"/>
                </a:lnTo>
                <a:lnTo>
                  <a:pt x="403" y="27"/>
                </a:lnTo>
                <a:lnTo>
                  <a:pt x="418" y="25"/>
                </a:lnTo>
                <a:lnTo>
                  <a:pt x="436" y="23"/>
                </a:lnTo>
                <a:lnTo>
                  <a:pt x="451" y="21"/>
                </a:lnTo>
                <a:lnTo>
                  <a:pt x="465" y="19"/>
                </a:lnTo>
                <a:lnTo>
                  <a:pt x="478" y="17"/>
                </a:lnTo>
                <a:lnTo>
                  <a:pt x="491" y="15"/>
                </a:lnTo>
                <a:lnTo>
                  <a:pt x="505" y="13"/>
                </a:lnTo>
                <a:lnTo>
                  <a:pt x="516" y="11"/>
                </a:lnTo>
                <a:lnTo>
                  <a:pt x="528" y="9"/>
                </a:lnTo>
                <a:lnTo>
                  <a:pt x="538" y="8"/>
                </a:lnTo>
                <a:lnTo>
                  <a:pt x="547" y="6"/>
                </a:lnTo>
                <a:lnTo>
                  <a:pt x="557" y="4"/>
                </a:lnTo>
                <a:lnTo>
                  <a:pt x="566" y="4"/>
                </a:lnTo>
                <a:lnTo>
                  <a:pt x="574" y="2"/>
                </a:lnTo>
              </a:path>
            </a:pathLst>
          </a:custGeom>
          <a:solidFill>
            <a:srgbClr val="ff0000"/>
          </a:solidFill>
          <a:ln w="1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文本框 38"/>
          <p:cNvSpPr/>
          <p:nvPr/>
        </p:nvSpPr>
        <p:spPr>
          <a:xfrm>
            <a:off x="7043400" y="1082520"/>
            <a:ext cx="754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k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0"/>
          <p:cNvSpPr/>
          <p:nvPr/>
        </p:nvSpPr>
        <p:spPr>
          <a:xfrm>
            <a:off x="354960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3"/>
          <p:cNvSpPr/>
          <p:nvPr/>
        </p:nvSpPr>
        <p:spPr>
          <a:xfrm>
            <a:off x="4322520" y="1714680"/>
            <a:ext cx="44316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刻苦   立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听到这个消息，她立刻站了起来。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宽右窄，左部撇平行，“刂”的竖钩挺立有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78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34"/>
          <p:cNvSpPr/>
          <p:nvPr/>
        </p:nvSpPr>
        <p:spPr>
          <a:xfrm>
            <a:off x="1972800" y="2104200"/>
            <a:ext cx="210240" cy="167400"/>
          </a:xfrm>
          <a:custGeom>
            <a:avLst/>
            <a:gdLst>
              <a:gd name="textAreaLeft" fmla="*/ 0 w 210240"/>
              <a:gd name="textAreaRight" fmla="*/ 210600 w 210240"/>
              <a:gd name="textAreaTop" fmla="*/ 0 h 167400"/>
              <a:gd name="textAreaBottom" fmla="*/ 167760 h 167400"/>
            </a:gdLst>
            <a:ahLst/>
            <a:rect l="textAreaLeft" t="textAreaTop" r="textAreaRight" b="textAreaBottom"/>
            <a:pathLst>
              <a:path w="441" h="354">
                <a:moveTo>
                  <a:pt x="390" y="118"/>
                </a:moveTo>
                <a:lnTo>
                  <a:pt x="407" y="152"/>
                </a:lnTo>
                <a:lnTo>
                  <a:pt x="424" y="168"/>
                </a:lnTo>
                <a:lnTo>
                  <a:pt x="441" y="236"/>
                </a:lnTo>
                <a:lnTo>
                  <a:pt x="441" y="270"/>
                </a:lnTo>
                <a:lnTo>
                  <a:pt x="441" y="304"/>
                </a:lnTo>
                <a:lnTo>
                  <a:pt x="424" y="321"/>
                </a:lnTo>
                <a:lnTo>
                  <a:pt x="424" y="337"/>
                </a:lnTo>
                <a:lnTo>
                  <a:pt x="390" y="354"/>
                </a:lnTo>
                <a:lnTo>
                  <a:pt x="373" y="354"/>
                </a:lnTo>
                <a:lnTo>
                  <a:pt x="339" y="354"/>
                </a:lnTo>
                <a:lnTo>
                  <a:pt x="322" y="337"/>
                </a:lnTo>
                <a:lnTo>
                  <a:pt x="271" y="304"/>
                </a:lnTo>
                <a:lnTo>
                  <a:pt x="220" y="270"/>
                </a:lnTo>
                <a:lnTo>
                  <a:pt x="170" y="219"/>
                </a:lnTo>
                <a:lnTo>
                  <a:pt x="119" y="185"/>
                </a:lnTo>
                <a:lnTo>
                  <a:pt x="85" y="152"/>
                </a:lnTo>
                <a:lnTo>
                  <a:pt x="51" y="118"/>
                </a:lnTo>
                <a:lnTo>
                  <a:pt x="34" y="101"/>
                </a:lnTo>
                <a:lnTo>
                  <a:pt x="17" y="84"/>
                </a:lnTo>
                <a:lnTo>
                  <a:pt x="0" y="50"/>
                </a:lnTo>
                <a:lnTo>
                  <a:pt x="0" y="33"/>
                </a:lnTo>
                <a:lnTo>
                  <a:pt x="34" y="0"/>
                </a:lnTo>
                <a:lnTo>
                  <a:pt x="51" y="0"/>
                </a:lnTo>
                <a:lnTo>
                  <a:pt x="102" y="0"/>
                </a:lnTo>
                <a:lnTo>
                  <a:pt x="119" y="0"/>
                </a:lnTo>
                <a:lnTo>
                  <a:pt x="153" y="0"/>
                </a:lnTo>
                <a:lnTo>
                  <a:pt x="237" y="16"/>
                </a:lnTo>
                <a:lnTo>
                  <a:pt x="322" y="67"/>
                </a:lnTo>
                <a:lnTo>
                  <a:pt x="390" y="11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1166760" y="1665720"/>
            <a:ext cx="2160000" cy="2160000"/>
            <a:chOff x="1166760" y="1665720"/>
            <a:chExt cx="2160000" cy="2160000"/>
          </a:xfrm>
        </p:grpSpPr>
        <p:sp>
          <p:nvSpPr>
            <p:cNvPr id="381" name="Rectangle 5"/>
            <p:cNvSpPr/>
            <p:nvPr/>
          </p:nvSpPr>
          <p:spPr>
            <a:xfrm>
              <a:off x="2246760" y="273708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1166760" y="273708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2246760" y="166608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1166760" y="166608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1166760" y="166572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>
              <a:off x="1166760" y="382536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1166760" y="166572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>
              <a:off x="3326400" y="166572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1166760" y="2736720"/>
              <a:ext cx="215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>
              <a:off x="2246400" y="1665720"/>
              <a:ext cx="360" cy="215964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Freeform 30"/>
          <p:cNvSpPr/>
          <p:nvPr/>
        </p:nvSpPr>
        <p:spPr>
          <a:xfrm>
            <a:off x="1698840" y="2329200"/>
            <a:ext cx="709200" cy="151920"/>
          </a:xfrm>
          <a:custGeom>
            <a:avLst/>
            <a:gdLst>
              <a:gd name="textAreaLeft" fmla="*/ 0 w 709200"/>
              <a:gd name="textAreaRight" fmla="*/ 709560 w 709200"/>
              <a:gd name="textAreaTop" fmla="*/ 0 h 151920"/>
              <a:gd name="textAreaBottom" fmla="*/ 152280 h 151920"/>
            </a:gdLst>
            <a:ahLst/>
            <a:rect l="textAreaLeft" t="textAreaTop" r="textAreaRight" b="textAreaBottom"/>
            <a:pathLst>
              <a:path w="1491" h="321">
                <a:moveTo>
                  <a:pt x="220" y="202"/>
                </a:moveTo>
                <a:lnTo>
                  <a:pt x="339" y="185"/>
                </a:lnTo>
                <a:lnTo>
                  <a:pt x="475" y="152"/>
                </a:lnTo>
                <a:lnTo>
                  <a:pt x="644" y="118"/>
                </a:lnTo>
                <a:lnTo>
                  <a:pt x="830" y="67"/>
                </a:lnTo>
                <a:lnTo>
                  <a:pt x="932" y="50"/>
                </a:lnTo>
                <a:lnTo>
                  <a:pt x="1017" y="33"/>
                </a:lnTo>
                <a:lnTo>
                  <a:pt x="1084" y="17"/>
                </a:lnTo>
                <a:lnTo>
                  <a:pt x="1169" y="17"/>
                </a:lnTo>
                <a:lnTo>
                  <a:pt x="1220" y="0"/>
                </a:lnTo>
                <a:lnTo>
                  <a:pt x="1271" y="0"/>
                </a:lnTo>
                <a:lnTo>
                  <a:pt x="1305" y="0"/>
                </a:lnTo>
                <a:lnTo>
                  <a:pt x="1339" y="0"/>
                </a:lnTo>
                <a:lnTo>
                  <a:pt x="1423" y="0"/>
                </a:lnTo>
                <a:lnTo>
                  <a:pt x="1457" y="17"/>
                </a:lnTo>
                <a:lnTo>
                  <a:pt x="1474" y="17"/>
                </a:lnTo>
                <a:lnTo>
                  <a:pt x="1491" y="33"/>
                </a:lnTo>
                <a:lnTo>
                  <a:pt x="1491" y="67"/>
                </a:lnTo>
                <a:lnTo>
                  <a:pt x="1491" y="84"/>
                </a:lnTo>
                <a:lnTo>
                  <a:pt x="1474" y="101"/>
                </a:lnTo>
                <a:lnTo>
                  <a:pt x="1457" y="118"/>
                </a:lnTo>
                <a:lnTo>
                  <a:pt x="1440" y="118"/>
                </a:lnTo>
                <a:lnTo>
                  <a:pt x="1406" y="135"/>
                </a:lnTo>
                <a:lnTo>
                  <a:pt x="1373" y="135"/>
                </a:lnTo>
                <a:lnTo>
                  <a:pt x="1322" y="152"/>
                </a:lnTo>
                <a:lnTo>
                  <a:pt x="1271" y="169"/>
                </a:lnTo>
                <a:lnTo>
                  <a:pt x="1203" y="185"/>
                </a:lnTo>
                <a:lnTo>
                  <a:pt x="1135" y="202"/>
                </a:lnTo>
                <a:lnTo>
                  <a:pt x="847" y="253"/>
                </a:lnTo>
                <a:lnTo>
                  <a:pt x="559" y="270"/>
                </a:lnTo>
                <a:lnTo>
                  <a:pt x="424" y="287"/>
                </a:lnTo>
                <a:lnTo>
                  <a:pt x="322" y="304"/>
                </a:lnTo>
                <a:lnTo>
                  <a:pt x="237" y="321"/>
                </a:lnTo>
                <a:lnTo>
                  <a:pt x="187" y="321"/>
                </a:lnTo>
                <a:lnTo>
                  <a:pt x="102" y="304"/>
                </a:lnTo>
                <a:lnTo>
                  <a:pt x="34" y="270"/>
                </a:lnTo>
                <a:lnTo>
                  <a:pt x="17" y="253"/>
                </a:lnTo>
                <a:lnTo>
                  <a:pt x="0" y="236"/>
                </a:lnTo>
                <a:lnTo>
                  <a:pt x="0" y="219"/>
                </a:lnTo>
                <a:lnTo>
                  <a:pt x="17" y="219"/>
                </a:lnTo>
                <a:lnTo>
                  <a:pt x="68" y="202"/>
                </a:lnTo>
                <a:lnTo>
                  <a:pt x="136" y="202"/>
                </a:lnTo>
                <a:lnTo>
                  <a:pt x="220" y="20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92" name="Freeform 31"/>
          <p:cNvSpPr/>
          <p:nvPr/>
        </p:nvSpPr>
        <p:spPr>
          <a:xfrm>
            <a:off x="1788480" y="2779200"/>
            <a:ext cx="531720" cy="515160"/>
          </a:xfrm>
          <a:custGeom>
            <a:avLst/>
            <a:gdLst>
              <a:gd name="textAreaLeft" fmla="*/ 0 w 531720"/>
              <a:gd name="textAreaRight" fmla="*/ 532080 w 531720"/>
              <a:gd name="textAreaTop" fmla="*/ 0 h 515160"/>
              <a:gd name="textAreaBottom" fmla="*/ 515520 h 515160"/>
            </a:gdLst>
            <a:ahLst/>
            <a:rect l="textAreaLeft" t="textAreaTop" r="textAreaRight" b="textAreaBottom"/>
            <a:pathLst>
              <a:path w="1118" h="1081">
                <a:moveTo>
                  <a:pt x="830" y="287"/>
                </a:moveTo>
                <a:lnTo>
                  <a:pt x="864" y="219"/>
                </a:lnTo>
                <a:lnTo>
                  <a:pt x="897" y="152"/>
                </a:lnTo>
                <a:lnTo>
                  <a:pt x="914" y="101"/>
                </a:lnTo>
                <a:lnTo>
                  <a:pt x="914" y="67"/>
                </a:lnTo>
                <a:lnTo>
                  <a:pt x="897" y="34"/>
                </a:lnTo>
                <a:lnTo>
                  <a:pt x="914" y="0"/>
                </a:lnTo>
                <a:lnTo>
                  <a:pt x="931" y="0"/>
                </a:lnTo>
                <a:lnTo>
                  <a:pt x="982" y="17"/>
                </a:lnTo>
                <a:lnTo>
                  <a:pt x="1033" y="67"/>
                </a:lnTo>
                <a:lnTo>
                  <a:pt x="1067" y="118"/>
                </a:lnTo>
                <a:lnTo>
                  <a:pt x="1101" y="169"/>
                </a:lnTo>
                <a:lnTo>
                  <a:pt x="1118" y="186"/>
                </a:lnTo>
                <a:lnTo>
                  <a:pt x="1101" y="203"/>
                </a:lnTo>
                <a:lnTo>
                  <a:pt x="1084" y="219"/>
                </a:lnTo>
                <a:lnTo>
                  <a:pt x="1067" y="253"/>
                </a:lnTo>
                <a:lnTo>
                  <a:pt x="1050" y="287"/>
                </a:lnTo>
                <a:lnTo>
                  <a:pt x="965" y="388"/>
                </a:lnTo>
                <a:lnTo>
                  <a:pt x="881" y="507"/>
                </a:lnTo>
                <a:lnTo>
                  <a:pt x="745" y="625"/>
                </a:lnTo>
                <a:lnTo>
                  <a:pt x="609" y="743"/>
                </a:lnTo>
                <a:lnTo>
                  <a:pt x="474" y="845"/>
                </a:lnTo>
                <a:lnTo>
                  <a:pt x="321" y="929"/>
                </a:lnTo>
                <a:lnTo>
                  <a:pt x="237" y="980"/>
                </a:lnTo>
                <a:lnTo>
                  <a:pt x="186" y="1014"/>
                </a:lnTo>
                <a:lnTo>
                  <a:pt x="118" y="1047"/>
                </a:lnTo>
                <a:lnTo>
                  <a:pt x="84" y="1064"/>
                </a:lnTo>
                <a:lnTo>
                  <a:pt x="50" y="1081"/>
                </a:lnTo>
                <a:lnTo>
                  <a:pt x="16" y="1081"/>
                </a:lnTo>
                <a:lnTo>
                  <a:pt x="0" y="1081"/>
                </a:lnTo>
                <a:lnTo>
                  <a:pt x="0" y="1064"/>
                </a:lnTo>
                <a:lnTo>
                  <a:pt x="16" y="1030"/>
                </a:lnTo>
                <a:lnTo>
                  <a:pt x="67" y="997"/>
                </a:lnTo>
                <a:lnTo>
                  <a:pt x="135" y="946"/>
                </a:lnTo>
                <a:lnTo>
                  <a:pt x="220" y="895"/>
                </a:lnTo>
                <a:lnTo>
                  <a:pt x="321" y="811"/>
                </a:lnTo>
                <a:lnTo>
                  <a:pt x="406" y="726"/>
                </a:lnTo>
                <a:lnTo>
                  <a:pt x="525" y="642"/>
                </a:lnTo>
                <a:lnTo>
                  <a:pt x="609" y="540"/>
                </a:lnTo>
                <a:lnTo>
                  <a:pt x="694" y="439"/>
                </a:lnTo>
                <a:lnTo>
                  <a:pt x="762" y="355"/>
                </a:lnTo>
                <a:lnTo>
                  <a:pt x="830" y="28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93" name="Freeform 32"/>
          <p:cNvSpPr/>
          <p:nvPr/>
        </p:nvSpPr>
        <p:spPr>
          <a:xfrm>
            <a:off x="2094480" y="3069720"/>
            <a:ext cx="258120" cy="232920"/>
          </a:xfrm>
          <a:custGeom>
            <a:avLst/>
            <a:gdLst>
              <a:gd name="textAreaLeft" fmla="*/ 0 w 258120"/>
              <a:gd name="textAreaRight" fmla="*/ 258480 w 258120"/>
              <a:gd name="textAreaTop" fmla="*/ 0 h 232920"/>
              <a:gd name="textAreaBottom" fmla="*/ 233280 h 232920"/>
            </a:gdLst>
            <a:ahLst/>
            <a:rect l="textAreaLeft" t="textAreaTop" r="textAreaRight" b="textAreaBottom"/>
            <a:pathLst>
              <a:path w="543" h="490">
                <a:moveTo>
                  <a:pt x="339" y="101"/>
                </a:moveTo>
                <a:lnTo>
                  <a:pt x="424" y="169"/>
                </a:lnTo>
                <a:lnTo>
                  <a:pt x="492" y="237"/>
                </a:lnTo>
                <a:lnTo>
                  <a:pt x="526" y="270"/>
                </a:lnTo>
                <a:lnTo>
                  <a:pt x="526" y="321"/>
                </a:lnTo>
                <a:lnTo>
                  <a:pt x="543" y="389"/>
                </a:lnTo>
                <a:lnTo>
                  <a:pt x="543" y="439"/>
                </a:lnTo>
                <a:lnTo>
                  <a:pt x="543" y="473"/>
                </a:lnTo>
                <a:lnTo>
                  <a:pt x="526" y="490"/>
                </a:lnTo>
                <a:lnTo>
                  <a:pt x="492" y="490"/>
                </a:lnTo>
                <a:lnTo>
                  <a:pt x="475" y="490"/>
                </a:lnTo>
                <a:lnTo>
                  <a:pt x="458" y="473"/>
                </a:lnTo>
                <a:lnTo>
                  <a:pt x="424" y="456"/>
                </a:lnTo>
                <a:lnTo>
                  <a:pt x="407" y="422"/>
                </a:lnTo>
                <a:lnTo>
                  <a:pt x="322" y="355"/>
                </a:lnTo>
                <a:lnTo>
                  <a:pt x="238" y="253"/>
                </a:lnTo>
                <a:lnTo>
                  <a:pt x="136" y="152"/>
                </a:lnTo>
                <a:lnTo>
                  <a:pt x="68" y="84"/>
                </a:lnTo>
                <a:lnTo>
                  <a:pt x="17" y="34"/>
                </a:lnTo>
                <a:lnTo>
                  <a:pt x="0" y="17"/>
                </a:lnTo>
                <a:lnTo>
                  <a:pt x="0" y="0"/>
                </a:lnTo>
                <a:lnTo>
                  <a:pt x="17" y="0"/>
                </a:lnTo>
                <a:lnTo>
                  <a:pt x="34" y="0"/>
                </a:lnTo>
                <a:lnTo>
                  <a:pt x="68" y="0"/>
                </a:lnTo>
                <a:lnTo>
                  <a:pt x="136" y="0"/>
                </a:lnTo>
                <a:lnTo>
                  <a:pt x="187" y="17"/>
                </a:lnTo>
                <a:lnTo>
                  <a:pt x="238" y="34"/>
                </a:lnTo>
                <a:lnTo>
                  <a:pt x="339" y="10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94" name="Freeform 33"/>
          <p:cNvSpPr/>
          <p:nvPr/>
        </p:nvSpPr>
        <p:spPr>
          <a:xfrm>
            <a:off x="2449080" y="2417040"/>
            <a:ext cx="112680" cy="571320"/>
          </a:xfrm>
          <a:custGeom>
            <a:avLst/>
            <a:gdLst>
              <a:gd name="textAreaLeft" fmla="*/ 0 w 112680"/>
              <a:gd name="textAreaRight" fmla="*/ 113040 w 11268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37" h="1200">
                <a:moveTo>
                  <a:pt x="17" y="102"/>
                </a:moveTo>
                <a:lnTo>
                  <a:pt x="0" y="51"/>
                </a:lnTo>
                <a:lnTo>
                  <a:pt x="0" y="17"/>
                </a:lnTo>
                <a:lnTo>
                  <a:pt x="17" y="17"/>
                </a:lnTo>
                <a:lnTo>
                  <a:pt x="34" y="0"/>
                </a:lnTo>
                <a:lnTo>
                  <a:pt x="51" y="0"/>
                </a:lnTo>
                <a:lnTo>
                  <a:pt x="101" y="0"/>
                </a:lnTo>
                <a:lnTo>
                  <a:pt x="135" y="17"/>
                </a:lnTo>
                <a:lnTo>
                  <a:pt x="186" y="51"/>
                </a:lnTo>
                <a:lnTo>
                  <a:pt x="203" y="68"/>
                </a:lnTo>
                <a:lnTo>
                  <a:pt x="220" y="85"/>
                </a:lnTo>
                <a:lnTo>
                  <a:pt x="237" y="102"/>
                </a:lnTo>
                <a:lnTo>
                  <a:pt x="237" y="136"/>
                </a:lnTo>
                <a:lnTo>
                  <a:pt x="237" y="186"/>
                </a:lnTo>
                <a:lnTo>
                  <a:pt x="237" y="254"/>
                </a:lnTo>
                <a:lnTo>
                  <a:pt x="220" y="321"/>
                </a:lnTo>
                <a:lnTo>
                  <a:pt x="220" y="406"/>
                </a:lnTo>
                <a:lnTo>
                  <a:pt x="203" y="524"/>
                </a:lnTo>
                <a:lnTo>
                  <a:pt x="203" y="643"/>
                </a:lnTo>
                <a:lnTo>
                  <a:pt x="203" y="795"/>
                </a:lnTo>
                <a:lnTo>
                  <a:pt x="203" y="930"/>
                </a:lnTo>
                <a:lnTo>
                  <a:pt x="203" y="997"/>
                </a:lnTo>
                <a:lnTo>
                  <a:pt x="186" y="1048"/>
                </a:lnTo>
                <a:lnTo>
                  <a:pt x="186" y="1082"/>
                </a:lnTo>
                <a:lnTo>
                  <a:pt x="186" y="1116"/>
                </a:lnTo>
                <a:lnTo>
                  <a:pt x="169" y="1149"/>
                </a:lnTo>
                <a:lnTo>
                  <a:pt x="169" y="1166"/>
                </a:lnTo>
                <a:lnTo>
                  <a:pt x="152" y="1200"/>
                </a:lnTo>
                <a:lnTo>
                  <a:pt x="118" y="1200"/>
                </a:lnTo>
                <a:lnTo>
                  <a:pt x="101" y="1183"/>
                </a:lnTo>
                <a:lnTo>
                  <a:pt x="85" y="1149"/>
                </a:lnTo>
                <a:lnTo>
                  <a:pt x="68" y="1082"/>
                </a:lnTo>
                <a:lnTo>
                  <a:pt x="68" y="1014"/>
                </a:lnTo>
                <a:lnTo>
                  <a:pt x="68" y="913"/>
                </a:lnTo>
                <a:lnTo>
                  <a:pt x="68" y="795"/>
                </a:lnTo>
                <a:lnTo>
                  <a:pt x="85" y="659"/>
                </a:lnTo>
                <a:lnTo>
                  <a:pt x="85" y="541"/>
                </a:lnTo>
                <a:lnTo>
                  <a:pt x="85" y="440"/>
                </a:lnTo>
                <a:lnTo>
                  <a:pt x="68" y="338"/>
                </a:lnTo>
                <a:lnTo>
                  <a:pt x="68" y="254"/>
                </a:lnTo>
                <a:lnTo>
                  <a:pt x="51" y="186"/>
                </a:lnTo>
                <a:lnTo>
                  <a:pt x="34" y="136"/>
                </a:lnTo>
                <a:lnTo>
                  <a:pt x="17" y="10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95" name="Freeform 36"/>
          <p:cNvSpPr/>
          <p:nvPr/>
        </p:nvSpPr>
        <p:spPr>
          <a:xfrm>
            <a:off x="2553840" y="2046960"/>
            <a:ext cx="258120" cy="1391400"/>
          </a:xfrm>
          <a:custGeom>
            <a:avLst/>
            <a:gdLst>
              <a:gd name="textAreaLeft" fmla="*/ 0 w 258120"/>
              <a:gd name="textAreaRight" fmla="*/ 258480 w 258120"/>
              <a:gd name="textAreaTop" fmla="*/ 0 h 1391400"/>
              <a:gd name="textAreaBottom" fmla="*/ 1391760 h 1391400"/>
            </a:gdLst>
            <a:ahLst/>
            <a:rect l="textAreaLeft" t="textAreaTop" r="textAreaRight" b="textAreaBottom"/>
            <a:pathLst>
              <a:path w="542" h="2923">
                <a:moveTo>
                  <a:pt x="254" y="2822"/>
                </a:moveTo>
                <a:lnTo>
                  <a:pt x="237" y="2771"/>
                </a:lnTo>
                <a:lnTo>
                  <a:pt x="220" y="2704"/>
                </a:lnTo>
                <a:lnTo>
                  <a:pt x="169" y="2653"/>
                </a:lnTo>
                <a:lnTo>
                  <a:pt x="119" y="2585"/>
                </a:lnTo>
                <a:lnTo>
                  <a:pt x="68" y="2518"/>
                </a:lnTo>
                <a:lnTo>
                  <a:pt x="17" y="2467"/>
                </a:lnTo>
                <a:lnTo>
                  <a:pt x="0" y="2433"/>
                </a:lnTo>
                <a:lnTo>
                  <a:pt x="0" y="2416"/>
                </a:lnTo>
                <a:lnTo>
                  <a:pt x="34" y="2416"/>
                </a:lnTo>
                <a:lnTo>
                  <a:pt x="85" y="2433"/>
                </a:lnTo>
                <a:lnTo>
                  <a:pt x="153" y="2467"/>
                </a:lnTo>
                <a:lnTo>
                  <a:pt x="203" y="2484"/>
                </a:lnTo>
                <a:lnTo>
                  <a:pt x="254" y="2501"/>
                </a:lnTo>
                <a:lnTo>
                  <a:pt x="288" y="2501"/>
                </a:lnTo>
                <a:lnTo>
                  <a:pt x="322" y="2467"/>
                </a:lnTo>
                <a:lnTo>
                  <a:pt x="322" y="2450"/>
                </a:lnTo>
                <a:lnTo>
                  <a:pt x="339" y="2399"/>
                </a:lnTo>
                <a:lnTo>
                  <a:pt x="339" y="2315"/>
                </a:lnTo>
                <a:lnTo>
                  <a:pt x="339" y="2214"/>
                </a:lnTo>
                <a:lnTo>
                  <a:pt x="339" y="2095"/>
                </a:lnTo>
                <a:lnTo>
                  <a:pt x="339" y="1943"/>
                </a:lnTo>
                <a:lnTo>
                  <a:pt x="339" y="1774"/>
                </a:lnTo>
                <a:lnTo>
                  <a:pt x="339" y="1572"/>
                </a:lnTo>
                <a:lnTo>
                  <a:pt x="339" y="1369"/>
                </a:lnTo>
                <a:lnTo>
                  <a:pt x="339" y="1183"/>
                </a:lnTo>
                <a:lnTo>
                  <a:pt x="339" y="1014"/>
                </a:lnTo>
                <a:lnTo>
                  <a:pt x="339" y="879"/>
                </a:lnTo>
                <a:lnTo>
                  <a:pt x="339" y="744"/>
                </a:lnTo>
                <a:lnTo>
                  <a:pt x="322" y="625"/>
                </a:lnTo>
                <a:lnTo>
                  <a:pt x="322" y="524"/>
                </a:lnTo>
                <a:lnTo>
                  <a:pt x="322" y="440"/>
                </a:lnTo>
                <a:lnTo>
                  <a:pt x="322" y="372"/>
                </a:lnTo>
                <a:lnTo>
                  <a:pt x="305" y="304"/>
                </a:lnTo>
                <a:lnTo>
                  <a:pt x="305" y="254"/>
                </a:lnTo>
                <a:lnTo>
                  <a:pt x="288" y="203"/>
                </a:lnTo>
                <a:lnTo>
                  <a:pt x="288" y="169"/>
                </a:lnTo>
                <a:lnTo>
                  <a:pt x="271" y="135"/>
                </a:lnTo>
                <a:lnTo>
                  <a:pt x="237" y="85"/>
                </a:lnTo>
                <a:lnTo>
                  <a:pt x="220" y="68"/>
                </a:lnTo>
                <a:lnTo>
                  <a:pt x="203" y="51"/>
                </a:lnTo>
                <a:lnTo>
                  <a:pt x="186" y="34"/>
                </a:lnTo>
                <a:lnTo>
                  <a:pt x="203" y="0"/>
                </a:lnTo>
                <a:lnTo>
                  <a:pt x="237" y="0"/>
                </a:lnTo>
                <a:lnTo>
                  <a:pt x="271" y="0"/>
                </a:lnTo>
                <a:lnTo>
                  <a:pt x="305" y="0"/>
                </a:lnTo>
                <a:lnTo>
                  <a:pt x="390" y="34"/>
                </a:lnTo>
                <a:lnTo>
                  <a:pt x="457" y="85"/>
                </a:lnTo>
                <a:lnTo>
                  <a:pt x="508" y="135"/>
                </a:lnTo>
                <a:lnTo>
                  <a:pt x="542" y="169"/>
                </a:lnTo>
                <a:lnTo>
                  <a:pt x="525" y="203"/>
                </a:lnTo>
                <a:lnTo>
                  <a:pt x="525" y="254"/>
                </a:lnTo>
                <a:lnTo>
                  <a:pt x="508" y="304"/>
                </a:lnTo>
                <a:lnTo>
                  <a:pt x="508" y="338"/>
                </a:lnTo>
                <a:lnTo>
                  <a:pt x="491" y="406"/>
                </a:lnTo>
                <a:lnTo>
                  <a:pt x="491" y="473"/>
                </a:lnTo>
                <a:lnTo>
                  <a:pt x="474" y="541"/>
                </a:lnTo>
                <a:lnTo>
                  <a:pt x="474" y="609"/>
                </a:lnTo>
                <a:lnTo>
                  <a:pt x="474" y="693"/>
                </a:lnTo>
                <a:lnTo>
                  <a:pt x="474" y="811"/>
                </a:lnTo>
                <a:lnTo>
                  <a:pt x="491" y="946"/>
                </a:lnTo>
                <a:lnTo>
                  <a:pt x="491" y="1098"/>
                </a:lnTo>
                <a:lnTo>
                  <a:pt x="491" y="1267"/>
                </a:lnTo>
                <a:lnTo>
                  <a:pt x="491" y="1453"/>
                </a:lnTo>
                <a:lnTo>
                  <a:pt x="508" y="1656"/>
                </a:lnTo>
                <a:lnTo>
                  <a:pt x="508" y="1842"/>
                </a:lnTo>
                <a:lnTo>
                  <a:pt x="508" y="1994"/>
                </a:lnTo>
                <a:lnTo>
                  <a:pt x="508" y="2146"/>
                </a:lnTo>
                <a:lnTo>
                  <a:pt x="508" y="2264"/>
                </a:lnTo>
                <a:lnTo>
                  <a:pt x="508" y="2366"/>
                </a:lnTo>
                <a:lnTo>
                  <a:pt x="508" y="2450"/>
                </a:lnTo>
                <a:lnTo>
                  <a:pt x="508" y="2518"/>
                </a:lnTo>
                <a:lnTo>
                  <a:pt x="491" y="2619"/>
                </a:lnTo>
                <a:lnTo>
                  <a:pt x="474" y="2704"/>
                </a:lnTo>
                <a:lnTo>
                  <a:pt x="457" y="2771"/>
                </a:lnTo>
                <a:lnTo>
                  <a:pt x="441" y="2839"/>
                </a:lnTo>
                <a:lnTo>
                  <a:pt x="407" y="2873"/>
                </a:lnTo>
                <a:lnTo>
                  <a:pt x="373" y="2906"/>
                </a:lnTo>
                <a:lnTo>
                  <a:pt x="339" y="2923"/>
                </a:lnTo>
                <a:lnTo>
                  <a:pt x="322" y="2923"/>
                </a:lnTo>
                <a:lnTo>
                  <a:pt x="305" y="2923"/>
                </a:lnTo>
                <a:lnTo>
                  <a:pt x="288" y="2906"/>
                </a:lnTo>
                <a:lnTo>
                  <a:pt x="271" y="2873"/>
                </a:lnTo>
                <a:lnTo>
                  <a:pt x="254" y="282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96" name="Freeform 37"/>
          <p:cNvSpPr/>
          <p:nvPr/>
        </p:nvSpPr>
        <p:spPr>
          <a:xfrm>
            <a:off x="1763280" y="2441160"/>
            <a:ext cx="330480" cy="394920"/>
          </a:xfrm>
          <a:custGeom>
            <a:avLst/>
            <a:gdLst>
              <a:gd name="textAreaLeft" fmla="*/ 0 w 330480"/>
              <a:gd name="textAreaRight" fmla="*/ 330840 w 330480"/>
              <a:gd name="textAreaTop" fmla="*/ 0 h 394920"/>
              <a:gd name="textAreaBottom" fmla="*/ 395280 h 394920"/>
            </a:gdLst>
            <a:ahLst/>
            <a:rect l="textAreaLeft" t="textAreaTop" r="textAreaRight" b="textAreaBottom"/>
            <a:pathLst>
              <a:path w="694" h="828">
                <a:moveTo>
                  <a:pt x="322" y="254"/>
                </a:moveTo>
                <a:lnTo>
                  <a:pt x="339" y="203"/>
                </a:lnTo>
                <a:lnTo>
                  <a:pt x="356" y="169"/>
                </a:lnTo>
                <a:lnTo>
                  <a:pt x="356" y="135"/>
                </a:lnTo>
                <a:lnTo>
                  <a:pt x="339" y="102"/>
                </a:lnTo>
                <a:lnTo>
                  <a:pt x="339" y="68"/>
                </a:lnTo>
                <a:lnTo>
                  <a:pt x="322" y="51"/>
                </a:lnTo>
                <a:lnTo>
                  <a:pt x="339" y="17"/>
                </a:lnTo>
                <a:lnTo>
                  <a:pt x="356" y="0"/>
                </a:lnTo>
                <a:lnTo>
                  <a:pt x="372" y="0"/>
                </a:lnTo>
                <a:lnTo>
                  <a:pt x="406" y="0"/>
                </a:lnTo>
                <a:lnTo>
                  <a:pt x="457" y="34"/>
                </a:lnTo>
                <a:lnTo>
                  <a:pt x="491" y="51"/>
                </a:lnTo>
                <a:lnTo>
                  <a:pt x="525" y="85"/>
                </a:lnTo>
                <a:lnTo>
                  <a:pt x="542" y="118"/>
                </a:lnTo>
                <a:lnTo>
                  <a:pt x="559" y="135"/>
                </a:lnTo>
                <a:lnTo>
                  <a:pt x="559" y="169"/>
                </a:lnTo>
                <a:lnTo>
                  <a:pt x="525" y="203"/>
                </a:lnTo>
                <a:lnTo>
                  <a:pt x="508" y="254"/>
                </a:lnTo>
                <a:lnTo>
                  <a:pt x="457" y="304"/>
                </a:lnTo>
                <a:lnTo>
                  <a:pt x="406" y="372"/>
                </a:lnTo>
                <a:lnTo>
                  <a:pt x="372" y="439"/>
                </a:lnTo>
                <a:lnTo>
                  <a:pt x="322" y="473"/>
                </a:lnTo>
                <a:lnTo>
                  <a:pt x="288" y="507"/>
                </a:lnTo>
                <a:lnTo>
                  <a:pt x="271" y="541"/>
                </a:lnTo>
                <a:lnTo>
                  <a:pt x="254" y="558"/>
                </a:lnTo>
                <a:lnTo>
                  <a:pt x="237" y="575"/>
                </a:lnTo>
                <a:lnTo>
                  <a:pt x="237" y="592"/>
                </a:lnTo>
                <a:lnTo>
                  <a:pt x="254" y="592"/>
                </a:lnTo>
                <a:lnTo>
                  <a:pt x="288" y="608"/>
                </a:lnTo>
                <a:lnTo>
                  <a:pt x="322" y="608"/>
                </a:lnTo>
                <a:lnTo>
                  <a:pt x="372" y="608"/>
                </a:lnTo>
                <a:lnTo>
                  <a:pt x="423" y="608"/>
                </a:lnTo>
                <a:lnTo>
                  <a:pt x="508" y="625"/>
                </a:lnTo>
                <a:lnTo>
                  <a:pt x="593" y="625"/>
                </a:lnTo>
                <a:lnTo>
                  <a:pt x="694" y="625"/>
                </a:lnTo>
                <a:lnTo>
                  <a:pt x="694" y="693"/>
                </a:lnTo>
                <a:lnTo>
                  <a:pt x="593" y="710"/>
                </a:lnTo>
                <a:lnTo>
                  <a:pt x="508" y="710"/>
                </a:lnTo>
                <a:lnTo>
                  <a:pt x="423" y="727"/>
                </a:lnTo>
                <a:lnTo>
                  <a:pt x="356" y="744"/>
                </a:lnTo>
                <a:lnTo>
                  <a:pt x="305" y="760"/>
                </a:lnTo>
                <a:lnTo>
                  <a:pt x="254" y="777"/>
                </a:lnTo>
                <a:lnTo>
                  <a:pt x="220" y="777"/>
                </a:lnTo>
                <a:lnTo>
                  <a:pt x="203" y="794"/>
                </a:lnTo>
                <a:lnTo>
                  <a:pt x="135" y="828"/>
                </a:lnTo>
                <a:lnTo>
                  <a:pt x="101" y="828"/>
                </a:lnTo>
                <a:lnTo>
                  <a:pt x="67" y="828"/>
                </a:lnTo>
                <a:lnTo>
                  <a:pt x="51" y="811"/>
                </a:lnTo>
                <a:lnTo>
                  <a:pt x="51" y="794"/>
                </a:lnTo>
                <a:lnTo>
                  <a:pt x="34" y="760"/>
                </a:lnTo>
                <a:lnTo>
                  <a:pt x="0" y="710"/>
                </a:lnTo>
                <a:lnTo>
                  <a:pt x="0" y="659"/>
                </a:lnTo>
                <a:lnTo>
                  <a:pt x="0" y="642"/>
                </a:lnTo>
                <a:lnTo>
                  <a:pt x="17" y="625"/>
                </a:lnTo>
                <a:lnTo>
                  <a:pt x="34" y="592"/>
                </a:lnTo>
                <a:lnTo>
                  <a:pt x="67" y="575"/>
                </a:lnTo>
                <a:lnTo>
                  <a:pt x="101" y="558"/>
                </a:lnTo>
                <a:lnTo>
                  <a:pt x="135" y="524"/>
                </a:lnTo>
                <a:lnTo>
                  <a:pt x="169" y="490"/>
                </a:lnTo>
                <a:lnTo>
                  <a:pt x="203" y="439"/>
                </a:lnTo>
                <a:lnTo>
                  <a:pt x="271" y="355"/>
                </a:lnTo>
                <a:lnTo>
                  <a:pt x="322" y="25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97" name="Freeform 35"/>
          <p:cNvSpPr/>
          <p:nvPr/>
        </p:nvSpPr>
        <p:spPr>
          <a:xfrm>
            <a:off x="1594080" y="2530440"/>
            <a:ext cx="660600" cy="650880"/>
          </a:xfrm>
          <a:custGeom>
            <a:avLst/>
            <a:gdLst>
              <a:gd name="textAreaLeft" fmla="*/ 0 w 660600"/>
              <a:gd name="textAreaRight" fmla="*/ 660960 w 6606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1389" h="1369">
                <a:moveTo>
                  <a:pt x="271" y="1132"/>
                </a:moveTo>
                <a:lnTo>
                  <a:pt x="407" y="1031"/>
                </a:lnTo>
                <a:lnTo>
                  <a:pt x="542" y="929"/>
                </a:lnTo>
                <a:lnTo>
                  <a:pt x="678" y="811"/>
                </a:lnTo>
                <a:lnTo>
                  <a:pt x="796" y="676"/>
                </a:lnTo>
                <a:lnTo>
                  <a:pt x="915" y="558"/>
                </a:lnTo>
                <a:lnTo>
                  <a:pt x="1000" y="439"/>
                </a:lnTo>
                <a:lnTo>
                  <a:pt x="1067" y="355"/>
                </a:lnTo>
                <a:lnTo>
                  <a:pt x="1118" y="270"/>
                </a:lnTo>
                <a:lnTo>
                  <a:pt x="1135" y="203"/>
                </a:lnTo>
                <a:lnTo>
                  <a:pt x="1152" y="152"/>
                </a:lnTo>
                <a:lnTo>
                  <a:pt x="1169" y="118"/>
                </a:lnTo>
                <a:lnTo>
                  <a:pt x="1169" y="84"/>
                </a:lnTo>
                <a:lnTo>
                  <a:pt x="1152" y="34"/>
                </a:lnTo>
                <a:lnTo>
                  <a:pt x="1169" y="17"/>
                </a:lnTo>
                <a:lnTo>
                  <a:pt x="1186" y="0"/>
                </a:lnTo>
                <a:lnTo>
                  <a:pt x="1220" y="0"/>
                </a:lnTo>
                <a:lnTo>
                  <a:pt x="1254" y="17"/>
                </a:lnTo>
                <a:lnTo>
                  <a:pt x="1288" y="51"/>
                </a:lnTo>
                <a:lnTo>
                  <a:pt x="1338" y="101"/>
                </a:lnTo>
                <a:lnTo>
                  <a:pt x="1355" y="135"/>
                </a:lnTo>
                <a:lnTo>
                  <a:pt x="1372" y="169"/>
                </a:lnTo>
                <a:lnTo>
                  <a:pt x="1389" y="186"/>
                </a:lnTo>
                <a:lnTo>
                  <a:pt x="1372" y="220"/>
                </a:lnTo>
                <a:lnTo>
                  <a:pt x="1355" y="270"/>
                </a:lnTo>
                <a:lnTo>
                  <a:pt x="1321" y="304"/>
                </a:lnTo>
                <a:lnTo>
                  <a:pt x="1288" y="372"/>
                </a:lnTo>
                <a:lnTo>
                  <a:pt x="1220" y="439"/>
                </a:lnTo>
                <a:lnTo>
                  <a:pt x="1135" y="541"/>
                </a:lnTo>
                <a:lnTo>
                  <a:pt x="1050" y="642"/>
                </a:lnTo>
                <a:lnTo>
                  <a:pt x="932" y="777"/>
                </a:lnTo>
                <a:lnTo>
                  <a:pt x="796" y="895"/>
                </a:lnTo>
                <a:lnTo>
                  <a:pt x="661" y="1014"/>
                </a:lnTo>
                <a:lnTo>
                  <a:pt x="508" y="1115"/>
                </a:lnTo>
                <a:lnTo>
                  <a:pt x="356" y="1216"/>
                </a:lnTo>
                <a:lnTo>
                  <a:pt x="271" y="1250"/>
                </a:lnTo>
                <a:lnTo>
                  <a:pt x="203" y="1301"/>
                </a:lnTo>
                <a:lnTo>
                  <a:pt x="135" y="1318"/>
                </a:lnTo>
                <a:lnTo>
                  <a:pt x="85" y="1352"/>
                </a:lnTo>
                <a:lnTo>
                  <a:pt x="51" y="1369"/>
                </a:lnTo>
                <a:lnTo>
                  <a:pt x="34" y="1369"/>
                </a:lnTo>
                <a:lnTo>
                  <a:pt x="0" y="1369"/>
                </a:lnTo>
                <a:lnTo>
                  <a:pt x="0" y="1352"/>
                </a:lnTo>
                <a:lnTo>
                  <a:pt x="17" y="1335"/>
                </a:lnTo>
                <a:lnTo>
                  <a:pt x="34" y="1318"/>
                </a:lnTo>
                <a:lnTo>
                  <a:pt x="68" y="1284"/>
                </a:lnTo>
                <a:lnTo>
                  <a:pt x="102" y="1250"/>
                </a:lnTo>
                <a:lnTo>
                  <a:pt x="152" y="1216"/>
                </a:lnTo>
                <a:lnTo>
                  <a:pt x="203" y="1183"/>
                </a:lnTo>
                <a:lnTo>
                  <a:pt x="271" y="113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文本框 38"/>
          <p:cNvSpPr/>
          <p:nvPr/>
        </p:nvSpPr>
        <p:spPr>
          <a:xfrm>
            <a:off x="7043400" y="1082520"/>
            <a:ext cx="754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10"/>
          <p:cNvSpPr/>
          <p:nvPr/>
        </p:nvSpPr>
        <p:spPr>
          <a:xfrm>
            <a:off x="3616560" y="185616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13"/>
          <p:cNvSpPr/>
          <p:nvPr/>
        </p:nvSpPr>
        <p:spPr>
          <a:xfrm>
            <a:off x="4419360" y="1856160"/>
            <a:ext cx="44316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上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突然   突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天空突然间就下起了大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穴”要宽，“犬”捺画舒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403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42"/>
          <p:cNvSpPr/>
          <p:nvPr/>
        </p:nvSpPr>
        <p:spPr>
          <a:xfrm>
            <a:off x="2292840" y="2553120"/>
            <a:ext cx="209160" cy="177120"/>
          </a:xfrm>
          <a:custGeom>
            <a:avLst/>
            <a:gdLst>
              <a:gd name="textAreaLeft" fmla="*/ 0 w 209160"/>
              <a:gd name="textAreaRight" fmla="*/ 209520 w 209160"/>
              <a:gd name="textAreaTop" fmla="*/ 0 h 177120"/>
              <a:gd name="textAreaBottom" fmla="*/ 177480 h 177120"/>
            </a:gdLst>
            <a:ahLst/>
            <a:rect l="textAreaLeft" t="textAreaTop" r="textAreaRight" b="textAreaBottom"/>
            <a:pathLst>
              <a:path w="440" h="372">
                <a:moveTo>
                  <a:pt x="0" y="34"/>
                </a:moveTo>
                <a:lnTo>
                  <a:pt x="17" y="17"/>
                </a:lnTo>
                <a:lnTo>
                  <a:pt x="34" y="0"/>
                </a:lnTo>
                <a:lnTo>
                  <a:pt x="51" y="0"/>
                </a:lnTo>
                <a:lnTo>
                  <a:pt x="85" y="0"/>
                </a:lnTo>
                <a:lnTo>
                  <a:pt x="135" y="0"/>
                </a:lnTo>
                <a:lnTo>
                  <a:pt x="186" y="17"/>
                </a:lnTo>
                <a:lnTo>
                  <a:pt x="254" y="34"/>
                </a:lnTo>
                <a:lnTo>
                  <a:pt x="322" y="68"/>
                </a:lnTo>
                <a:lnTo>
                  <a:pt x="373" y="118"/>
                </a:lnTo>
                <a:lnTo>
                  <a:pt x="406" y="152"/>
                </a:lnTo>
                <a:lnTo>
                  <a:pt x="440" y="203"/>
                </a:lnTo>
                <a:lnTo>
                  <a:pt x="440" y="253"/>
                </a:lnTo>
                <a:lnTo>
                  <a:pt x="423" y="304"/>
                </a:lnTo>
                <a:lnTo>
                  <a:pt x="406" y="338"/>
                </a:lnTo>
                <a:lnTo>
                  <a:pt x="390" y="355"/>
                </a:lnTo>
                <a:lnTo>
                  <a:pt x="390" y="372"/>
                </a:lnTo>
                <a:lnTo>
                  <a:pt x="356" y="355"/>
                </a:lnTo>
                <a:lnTo>
                  <a:pt x="322" y="338"/>
                </a:lnTo>
                <a:lnTo>
                  <a:pt x="288" y="321"/>
                </a:lnTo>
                <a:lnTo>
                  <a:pt x="237" y="270"/>
                </a:lnTo>
                <a:lnTo>
                  <a:pt x="186" y="237"/>
                </a:lnTo>
                <a:lnTo>
                  <a:pt x="135" y="186"/>
                </a:lnTo>
                <a:lnTo>
                  <a:pt x="68" y="101"/>
                </a:lnTo>
                <a:lnTo>
                  <a:pt x="17" y="51"/>
                </a:lnTo>
                <a:lnTo>
                  <a:pt x="17" y="34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grpSp>
        <p:nvGrpSpPr>
          <p:cNvPr id="405" name="Group 4"/>
          <p:cNvGrpSpPr/>
          <p:nvPr/>
        </p:nvGrpSpPr>
        <p:grpSpPr>
          <a:xfrm>
            <a:off x="1175760" y="1842120"/>
            <a:ext cx="2160000" cy="2160000"/>
            <a:chOff x="1175760" y="1842120"/>
            <a:chExt cx="2160000" cy="2160000"/>
          </a:xfrm>
        </p:grpSpPr>
        <p:sp>
          <p:nvSpPr>
            <p:cNvPr id="406" name="Rectangle 5"/>
            <p:cNvSpPr/>
            <p:nvPr/>
          </p:nvSpPr>
          <p:spPr>
            <a:xfrm>
              <a:off x="2255760" y="291348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07" name="Rectangle 6"/>
            <p:cNvSpPr/>
            <p:nvPr/>
          </p:nvSpPr>
          <p:spPr>
            <a:xfrm>
              <a:off x="1175760" y="291348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08" name="Rectangle 7"/>
            <p:cNvSpPr/>
            <p:nvPr/>
          </p:nvSpPr>
          <p:spPr>
            <a:xfrm>
              <a:off x="2255760" y="184248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1175760" y="184248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10" name="Line 9"/>
            <p:cNvSpPr/>
            <p:nvPr/>
          </p:nvSpPr>
          <p:spPr>
            <a:xfrm>
              <a:off x="1175760" y="184212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>
              <a:off x="1175760" y="400176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1"/>
            <p:cNvSpPr/>
            <p:nvPr/>
          </p:nvSpPr>
          <p:spPr>
            <a:xfrm>
              <a:off x="1175760" y="184212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3335400" y="184212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3"/>
            <p:cNvSpPr/>
            <p:nvPr/>
          </p:nvSpPr>
          <p:spPr>
            <a:xfrm>
              <a:off x="1175760" y="2913120"/>
              <a:ext cx="215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4"/>
            <p:cNvSpPr/>
            <p:nvPr/>
          </p:nvSpPr>
          <p:spPr>
            <a:xfrm>
              <a:off x="2255760" y="1842120"/>
              <a:ext cx="360" cy="215964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Freeform 38"/>
          <p:cNvSpPr/>
          <p:nvPr/>
        </p:nvSpPr>
        <p:spPr>
          <a:xfrm>
            <a:off x="1703520" y="2417400"/>
            <a:ext cx="153360" cy="328320"/>
          </a:xfrm>
          <a:custGeom>
            <a:avLst/>
            <a:gdLst>
              <a:gd name="textAreaLeft" fmla="*/ 0 w 153360"/>
              <a:gd name="textAreaRight" fmla="*/ 153720 w 15336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322" h="692">
                <a:moveTo>
                  <a:pt x="203" y="557"/>
                </a:moveTo>
                <a:lnTo>
                  <a:pt x="170" y="625"/>
                </a:lnTo>
                <a:lnTo>
                  <a:pt x="153" y="659"/>
                </a:lnTo>
                <a:lnTo>
                  <a:pt x="119" y="676"/>
                </a:lnTo>
                <a:lnTo>
                  <a:pt x="102" y="692"/>
                </a:lnTo>
                <a:lnTo>
                  <a:pt x="85" y="676"/>
                </a:lnTo>
                <a:lnTo>
                  <a:pt x="68" y="642"/>
                </a:lnTo>
                <a:lnTo>
                  <a:pt x="51" y="608"/>
                </a:lnTo>
                <a:lnTo>
                  <a:pt x="17" y="574"/>
                </a:lnTo>
                <a:lnTo>
                  <a:pt x="0" y="540"/>
                </a:lnTo>
                <a:lnTo>
                  <a:pt x="0" y="524"/>
                </a:lnTo>
                <a:lnTo>
                  <a:pt x="0" y="507"/>
                </a:lnTo>
                <a:lnTo>
                  <a:pt x="0" y="490"/>
                </a:lnTo>
                <a:lnTo>
                  <a:pt x="17" y="456"/>
                </a:lnTo>
                <a:lnTo>
                  <a:pt x="34" y="439"/>
                </a:lnTo>
                <a:lnTo>
                  <a:pt x="68" y="388"/>
                </a:lnTo>
                <a:lnTo>
                  <a:pt x="68" y="371"/>
                </a:lnTo>
                <a:lnTo>
                  <a:pt x="85" y="355"/>
                </a:lnTo>
                <a:lnTo>
                  <a:pt x="119" y="304"/>
                </a:lnTo>
                <a:lnTo>
                  <a:pt x="136" y="270"/>
                </a:lnTo>
                <a:lnTo>
                  <a:pt x="153" y="219"/>
                </a:lnTo>
                <a:lnTo>
                  <a:pt x="186" y="152"/>
                </a:lnTo>
                <a:lnTo>
                  <a:pt x="203" y="84"/>
                </a:lnTo>
                <a:lnTo>
                  <a:pt x="237" y="0"/>
                </a:lnTo>
                <a:lnTo>
                  <a:pt x="254" y="0"/>
                </a:lnTo>
                <a:lnTo>
                  <a:pt x="271" y="17"/>
                </a:lnTo>
                <a:lnTo>
                  <a:pt x="288" y="34"/>
                </a:lnTo>
                <a:lnTo>
                  <a:pt x="305" y="50"/>
                </a:lnTo>
                <a:lnTo>
                  <a:pt x="305" y="101"/>
                </a:lnTo>
                <a:lnTo>
                  <a:pt x="322" y="135"/>
                </a:lnTo>
                <a:lnTo>
                  <a:pt x="322" y="203"/>
                </a:lnTo>
                <a:lnTo>
                  <a:pt x="305" y="253"/>
                </a:lnTo>
                <a:lnTo>
                  <a:pt x="305" y="338"/>
                </a:lnTo>
                <a:lnTo>
                  <a:pt x="271" y="405"/>
                </a:lnTo>
                <a:lnTo>
                  <a:pt x="254" y="490"/>
                </a:lnTo>
                <a:lnTo>
                  <a:pt x="203" y="55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17" name="Freeform 39"/>
          <p:cNvSpPr/>
          <p:nvPr/>
        </p:nvSpPr>
        <p:spPr>
          <a:xfrm>
            <a:off x="1848600" y="2577960"/>
            <a:ext cx="298440" cy="297360"/>
          </a:xfrm>
          <a:custGeom>
            <a:avLst/>
            <a:gdLst>
              <a:gd name="textAreaLeft" fmla="*/ 0 w 298440"/>
              <a:gd name="textAreaRight" fmla="*/ 298800 w 298440"/>
              <a:gd name="textAreaTop" fmla="*/ 0 h 297360"/>
              <a:gd name="textAreaBottom" fmla="*/ 297720 h 297360"/>
            </a:gdLst>
            <a:ahLst/>
            <a:rect l="textAreaLeft" t="textAreaTop" r="textAreaRight" b="textAreaBottom"/>
            <a:pathLst>
              <a:path w="627" h="625">
                <a:moveTo>
                  <a:pt x="0" y="625"/>
                </a:moveTo>
                <a:lnTo>
                  <a:pt x="17" y="608"/>
                </a:lnTo>
                <a:lnTo>
                  <a:pt x="34" y="557"/>
                </a:lnTo>
                <a:lnTo>
                  <a:pt x="85" y="507"/>
                </a:lnTo>
                <a:lnTo>
                  <a:pt x="153" y="439"/>
                </a:lnTo>
                <a:lnTo>
                  <a:pt x="220" y="354"/>
                </a:lnTo>
                <a:lnTo>
                  <a:pt x="288" y="287"/>
                </a:lnTo>
                <a:lnTo>
                  <a:pt x="322" y="236"/>
                </a:lnTo>
                <a:lnTo>
                  <a:pt x="356" y="186"/>
                </a:lnTo>
                <a:lnTo>
                  <a:pt x="373" y="135"/>
                </a:lnTo>
                <a:lnTo>
                  <a:pt x="373" y="101"/>
                </a:lnTo>
                <a:lnTo>
                  <a:pt x="373" y="84"/>
                </a:lnTo>
                <a:lnTo>
                  <a:pt x="356" y="67"/>
                </a:lnTo>
                <a:lnTo>
                  <a:pt x="339" y="67"/>
                </a:lnTo>
                <a:lnTo>
                  <a:pt x="322" y="50"/>
                </a:lnTo>
                <a:lnTo>
                  <a:pt x="322" y="33"/>
                </a:lnTo>
                <a:lnTo>
                  <a:pt x="339" y="17"/>
                </a:lnTo>
                <a:lnTo>
                  <a:pt x="356" y="0"/>
                </a:lnTo>
                <a:lnTo>
                  <a:pt x="373" y="0"/>
                </a:lnTo>
                <a:lnTo>
                  <a:pt x="407" y="0"/>
                </a:lnTo>
                <a:lnTo>
                  <a:pt x="457" y="0"/>
                </a:lnTo>
                <a:lnTo>
                  <a:pt x="542" y="33"/>
                </a:lnTo>
                <a:lnTo>
                  <a:pt x="576" y="50"/>
                </a:lnTo>
                <a:lnTo>
                  <a:pt x="593" y="50"/>
                </a:lnTo>
                <a:lnTo>
                  <a:pt x="627" y="101"/>
                </a:lnTo>
                <a:lnTo>
                  <a:pt x="627" y="118"/>
                </a:lnTo>
                <a:lnTo>
                  <a:pt x="627" y="135"/>
                </a:lnTo>
                <a:lnTo>
                  <a:pt x="610" y="169"/>
                </a:lnTo>
                <a:lnTo>
                  <a:pt x="576" y="202"/>
                </a:lnTo>
                <a:lnTo>
                  <a:pt x="542" y="236"/>
                </a:lnTo>
                <a:lnTo>
                  <a:pt x="491" y="304"/>
                </a:lnTo>
                <a:lnTo>
                  <a:pt x="356" y="422"/>
                </a:lnTo>
                <a:lnTo>
                  <a:pt x="271" y="473"/>
                </a:lnTo>
                <a:lnTo>
                  <a:pt x="186" y="523"/>
                </a:lnTo>
                <a:lnTo>
                  <a:pt x="119" y="574"/>
                </a:lnTo>
                <a:lnTo>
                  <a:pt x="68" y="608"/>
                </a:lnTo>
                <a:lnTo>
                  <a:pt x="17" y="625"/>
                </a:lnTo>
                <a:lnTo>
                  <a:pt x="0" y="62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18" name="Freeform 41"/>
          <p:cNvSpPr/>
          <p:nvPr/>
        </p:nvSpPr>
        <p:spPr>
          <a:xfrm>
            <a:off x="2526120" y="2811600"/>
            <a:ext cx="201960" cy="167400"/>
          </a:xfrm>
          <a:custGeom>
            <a:avLst/>
            <a:gdLst>
              <a:gd name="textAreaLeft" fmla="*/ 0 w 201960"/>
              <a:gd name="textAreaRight" fmla="*/ 202320 w 201960"/>
              <a:gd name="textAreaTop" fmla="*/ 0 h 167400"/>
              <a:gd name="textAreaBottom" fmla="*/ 167760 h 167400"/>
            </a:gdLst>
            <a:ahLst/>
            <a:rect l="textAreaLeft" t="textAreaTop" r="textAreaRight" b="textAreaBottom"/>
            <a:pathLst>
              <a:path w="424" h="354">
                <a:moveTo>
                  <a:pt x="0" y="50"/>
                </a:moveTo>
                <a:lnTo>
                  <a:pt x="0" y="33"/>
                </a:lnTo>
                <a:lnTo>
                  <a:pt x="0" y="17"/>
                </a:lnTo>
                <a:lnTo>
                  <a:pt x="34" y="0"/>
                </a:lnTo>
                <a:lnTo>
                  <a:pt x="85" y="0"/>
                </a:lnTo>
                <a:lnTo>
                  <a:pt x="170" y="0"/>
                </a:lnTo>
                <a:lnTo>
                  <a:pt x="271" y="33"/>
                </a:lnTo>
                <a:lnTo>
                  <a:pt x="339" y="67"/>
                </a:lnTo>
                <a:lnTo>
                  <a:pt x="390" y="118"/>
                </a:lnTo>
                <a:lnTo>
                  <a:pt x="407" y="186"/>
                </a:lnTo>
                <a:lnTo>
                  <a:pt x="424" y="253"/>
                </a:lnTo>
                <a:lnTo>
                  <a:pt x="407" y="304"/>
                </a:lnTo>
                <a:lnTo>
                  <a:pt x="407" y="321"/>
                </a:lnTo>
                <a:lnTo>
                  <a:pt x="390" y="338"/>
                </a:lnTo>
                <a:lnTo>
                  <a:pt x="390" y="354"/>
                </a:lnTo>
                <a:lnTo>
                  <a:pt x="356" y="354"/>
                </a:lnTo>
                <a:lnTo>
                  <a:pt x="322" y="321"/>
                </a:lnTo>
                <a:lnTo>
                  <a:pt x="254" y="287"/>
                </a:lnTo>
                <a:lnTo>
                  <a:pt x="187" y="219"/>
                </a:lnTo>
                <a:lnTo>
                  <a:pt x="102" y="169"/>
                </a:lnTo>
                <a:lnTo>
                  <a:pt x="51" y="118"/>
                </a:lnTo>
                <a:lnTo>
                  <a:pt x="17" y="84"/>
                </a:lnTo>
                <a:lnTo>
                  <a:pt x="0" y="5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19" name="Freeform 43"/>
          <p:cNvSpPr/>
          <p:nvPr/>
        </p:nvSpPr>
        <p:spPr>
          <a:xfrm>
            <a:off x="2130840" y="2167200"/>
            <a:ext cx="210240" cy="177120"/>
          </a:xfrm>
          <a:custGeom>
            <a:avLst/>
            <a:gdLst>
              <a:gd name="textAreaLeft" fmla="*/ 0 w 210240"/>
              <a:gd name="textAreaRight" fmla="*/ 210600 w 210240"/>
              <a:gd name="textAreaTop" fmla="*/ 0 h 177120"/>
              <a:gd name="textAreaBottom" fmla="*/ 177480 h 177120"/>
            </a:gdLst>
            <a:ahLst/>
            <a:rect l="textAreaLeft" t="textAreaTop" r="textAreaRight" b="textAreaBottom"/>
            <a:pathLst>
              <a:path w="441" h="372">
                <a:moveTo>
                  <a:pt x="186" y="17"/>
                </a:moveTo>
                <a:lnTo>
                  <a:pt x="305" y="51"/>
                </a:lnTo>
                <a:lnTo>
                  <a:pt x="390" y="101"/>
                </a:lnTo>
                <a:lnTo>
                  <a:pt x="424" y="152"/>
                </a:lnTo>
                <a:lnTo>
                  <a:pt x="441" y="186"/>
                </a:lnTo>
                <a:lnTo>
                  <a:pt x="441" y="220"/>
                </a:lnTo>
                <a:lnTo>
                  <a:pt x="441" y="270"/>
                </a:lnTo>
                <a:lnTo>
                  <a:pt x="424" y="321"/>
                </a:lnTo>
                <a:lnTo>
                  <a:pt x="424" y="355"/>
                </a:lnTo>
                <a:lnTo>
                  <a:pt x="407" y="372"/>
                </a:lnTo>
                <a:lnTo>
                  <a:pt x="390" y="372"/>
                </a:lnTo>
                <a:lnTo>
                  <a:pt x="356" y="372"/>
                </a:lnTo>
                <a:lnTo>
                  <a:pt x="322" y="355"/>
                </a:lnTo>
                <a:lnTo>
                  <a:pt x="288" y="321"/>
                </a:lnTo>
                <a:lnTo>
                  <a:pt x="237" y="287"/>
                </a:lnTo>
                <a:lnTo>
                  <a:pt x="169" y="237"/>
                </a:lnTo>
                <a:lnTo>
                  <a:pt x="119" y="203"/>
                </a:lnTo>
                <a:lnTo>
                  <a:pt x="85" y="169"/>
                </a:lnTo>
                <a:lnTo>
                  <a:pt x="51" y="135"/>
                </a:lnTo>
                <a:lnTo>
                  <a:pt x="34" y="101"/>
                </a:lnTo>
                <a:lnTo>
                  <a:pt x="17" y="84"/>
                </a:lnTo>
                <a:lnTo>
                  <a:pt x="0" y="51"/>
                </a:lnTo>
                <a:lnTo>
                  <a:pt x="17" y="34"/>
                </a:lnTo>
                <a:lnTo>
                  <a:pt x="34" y="17"/>
                </a:lnTo>
                <a:lnTo>
                  <a:pt x="51" y="17"/>
                </a:lnTo>
                <a:lnTo>
                  <a:pt x="85" y="0"/>
                </a:lnTo>
                <a:lnTo>
                  <a:pt x="102" y="0"/>
                </a:lnTo>
                <a:lnTo>
                  <a:pt x="186" y="1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20" name="Freeform 45"/>
          <p:cNvSpPr/>
          <p:nvPr/>
        </p:nvSpPr>
        <p:spPr>
          <a:xfrm>
            <a:off x="1816560" y="2344680"/>
            <a:ext cx="1024920" cy="265320"/>
          </a:xfrm>
          <a:custGeom>
            <a:avLst/>
            <a:gdLst>
              <a:gd name="textAreaLeft" fmla="*/ 0 w 1024920"/>
              <a:gd name="textAreaRight" fmla="*/ 1025280 w 10249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152" h="557">
                <a:moveTo>
                  <a:pt x="1678" y="33"/>
                </a:moveTo>
                <a:lnTo>
                  <a:pt x="1711" y="0"/>
                </a:lnTo>
                <a:lnTo>
                  <a:pt x="1745" y="0"/>
                </a:lnTo>
                <a:lnTo>
                  <a:pt x="1779" y="0"/>
                </a:lnTo>
                <a:lnTo>
                  <a:pt x="1813" y="17"/>
                </a:lnTo>
                <a:lnTo>
                  <a:pt x="1864" y="33"/>
                </a:lnTo>
                <a:lnTo>
                  <a:pt x="1915" y="67"/>
                </a:lnTo>
                <a:lnTo>
                  <a:pt x="1983" y="101"/>
                </a:lnTo>
                <a:lnTo>
                  <a:pt x="2033" y="135"/>
                </a:lnTo>
                <a:lnTo>
                  <a:pt x="2067" y="169"/>
                </a:lnTo>
                <a:lnTo>
                  <a:pt x="2101" y="202"/>
                </a:lnTo>
                <a:lnTo>
                  <a:pt x="2118" y="219"/>
                </a:lnTo>
                <a:lnTo>
                  <a:pt x="2135" y="253"/>
                </a:lnTo>
                <a:lnTo>
                  <a:pt x="2152" y="270"/>
                </a:lnTo>
                <a:lnTo>
                  <a:pt x="2135" y="287"/>
                </a:lnTo>
                <a:lnTo>
                  <a:pt x="2118" y="304"/>
                </a:lnTo>
                <a:lnTo>
                  <a:pt x="2084" y="321"/>
                </a:lnTo>
                <a:lnTo>
                  <a:pt x="2050" y="321"/>
                </a:lnTo>
                <a:lnTo>
                  <a:pt x="1999" y="338"/>
                </a:lnTo>
                <a:lnTo>
                  <a:pt x="1949" y="355"/>
                </a:lnTo>
                <a:lnTo>
                  <a:pt x="1881" y="405"/>
                </a:lnTo>
                <a:lnTo>
                  <a:pt x="1830" y="456"/>
                </a:lnTo>
                <a:lnTo>
                  <a:pt x="1762" y="507"/>
                </a:lnTo>
                <a:lnTo>
                  <a:pt x="1711" y="540"/>
                </a:lnTo>
                <a:lnTo>
                  <a:pt x="1694" y="557"/>
                </a:lnTo>
                <a:lnTo>
                  <a:pt x="1678" y="557"/>
                </a:lnTo>
                <a:lnTo>
                  <a:pt x="1661" y="540"/>
                </a:lnTo>
                <a:lnTo>
                  <a:pt x="1678" y="507"/>
                </a:lnTo>
                <a:lnTo>
                  <a:pt x="1678" y="456"/>
                </a:lnTo>
                <a:lnTo>
                  <a:pt x="1711" y="388"/>
                </a:lnTo>
                <a:lnTo>
                  <a:pt x="1728" y="304"/>
                </a:lnTo>
                <a:lnTo>
                  <a:pt x="1745" y="253"/>
                </a:lnTo>
                <a:lnTo>
                  <a:pt x="1762" y="219"/>
                </a:lnTo>
                <a:lnTo>
                  <a:pt x="1762" y="202"/>
                </a:lnTo>
                <a:lnTo>
                  <a:pt x="1745" y="186"/>
                </a:lnTo>
                <a:lnTo>
                  <a:pt x="1728" y="186"/>
                </a:lnTo>
                <a:lnTo>
                  <a:pt x="1678" y="186"/>
                </a:lnTo>
                <a:lnTo>
                  <a:pt x="1627" y="186"/>
                </a:lnTo>
                <a:lnTo>
                  <a:pt x="1559" y="186"/>
                </a:lnTo>
                <a:lnTo>
                  <a:pt x="1457" y="202"/>
                </a:lnTo>
                <a:lnTo>
                  <a:pt x="1339" y="219"/>
                </a:lnTo>
                <a:lnTo>
                  <a:pt x="1186" y="236"/>
                </a:lnTo>
                <a:lnTo>
                  <a:pt x="847" y="287"/>
                </a:lnTo>
                <a:lnTo>
                  <a:pt x="525" y="338"/>
                </a:lnTo>
                <a:lnTo>
                  <a:pt x="373" y="371"/>
                </a:lnTo>
                <a:lnTo>
                  <a:pt x="237" y="388"/>
                </a:lnTo>
                <a:lnTo>
                  <a:pt x="102" y="388"/>
                </a:lnTo>
                <a:lnTo>
                  <a:pt x="0" y="405"/>
                </a:lnTo>
                <a:lnTo>
                  <a:pt x="0" y="304"/>
                </a:lnTo>
                <a:lnTo>
                  <a:pt x="68" y="304"/>
                </a:lnTo>
                <a:lnTo>
                  <a:pt x="170" y="287"/>
                </a:lnTo>
                <a:lnTo>
                  <a:pt x="288" y="270"/>
                </a:lnTo>
                <a:lnTo>
                  <a:pt x="407" y="253"/>
                </a:lnTo>
                <a:lnTo>
                  <a:pt x="678" y="202"/>
                </a:lnTo>
                <a:lnTo>
                  <a:pt x="966" y="152"/>
                </a:lnTo>
                <a:lnTo>
                  <a:pt x="1102" y="135"/>
                </a:lnTo>
                <a:lnTo>
                  <a:pt x="1237" y="101"/>
                </a:lnTo>
                <a:lnTo>
                  <a:pt x="1356" y="84"/>
                </a:lnTo>
                <a:lnTo>
                  <a:pt x="1457" y="67"/>
                </a:lnTo>
                <a:lnTo>
                  <a:pt x="1542" y="67"/>
                </a:lnTo>
                <a:lnTo>
                  <a:pt x="1610" y="50"/>
                </a:lnTo>
                <a:lnTo>
                  <a:pt x="1644" y="50"/>
                </a:lnTo>
                <a:lnTo>
                  <a:pt x="1678" y="3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21" name="Freeform 46"/>
          <p:cNvSpPr/>
          <p:nvPr/>
        </p:nvSpPr>
        <p:spPr>
          <a:xfrm>
            <a:off x="1808280" y="2914920"/>
            <a:ext cx="734400" cy="177120"/>
          </a:xfrm>
          <a:custGeom>
            <a:avLst/>
            <a:gdLst>
              <a:gd name="textAreaLeft" fmla="*/ 0 w 734400"/>
              <a:gd name="textAreaRight" fmla="*/ 734760 w 734400"/>
              <a:gd name="textAreaTop" fmla="*/ 0 h 177120"/>
              <a:gd name="textAreaBottom" fmla="*/ 177480 h 177120"/>
            </a:gdLst>
            <a:ahLst/>
            <a:rect l="textAreaLeft" t="textAreaTop" r="textAreaRight" b="textAreaBottom"/>
            <a:pathLst>
              <a:path w="1542" h="372">
                <a:moveTo>
                  <a:pt x="814" y="102"/>
                </a:moveTo>
                <a:lnTo>
                  <a:pt x="915" y="85"/>
                </a:lnTo>
                <a:lnTo>
                  <a:pt x="1000" y="51"/>
                </a:lnTo>
                <a:lnTo>
                  <a:pt x="1068" y="34"/>
                </a:lnTo>
                <a:lnTo>
                  <a:pt x="1135" y="17"/>
                </a:lnTo>
                <a:lnTo>
                  <a:pt x="1203" y="17"/>
                </a:lnTo>
                <a:lnTo>
                  <a:pt x="1237" y="0"/>
                </a:lnTo>
                <a:lnTo>
                  <a:pt x="1288" y="0"/>
                </a:lnTo>
                <a:lnTo>
                  <a:pt x="1305" y="0"/>
                </a:lnTo>
                <a:lnTo>
                  <a:pt x="1390" y="0"/>
                </a:lnTo>
                <a:lnTo>
                  <a:pt x="1474" y="17"/>
                </a:lnTo>
                <a:lnTo>
                  <a:pt x="1508" y="34"/>
                </a:lnTo>
                <a:lnTo>
                  <a:pt x="1525" y="68"/>
                </a:lnTo>
                <a:lnTo>
                  <a:pt x="1542" y="85"/>
                </a:lnTo>
                <a:lnTo>
                  <a:pt x="1542" y="102"/>
                </a:lnTo>
                <a:lnTo>
                  <a:pt x="1542" y="119"/>
                </a:lnTo>
                <a:lnTo>
                  <a:pt x="1525" y="135"/>
                </a:lnTo>
                <a:lnTo>
                  <a:pt x="1491" y="152"/>
                </a:lnTo>
                <a:lnTo>
                  <a:pt x="1457" y="152"/>
                </a:lnTo>
                <a:lnTo>
                  <a:pt x="1390" y="169"/>
                </a:lnTo>
                <a:lnTo>
                  <a:pt x="1322" y="186"/>
                </a:lnTo>
                <a:lnTo>
                  <a:pt x="1237" y="186"/>
                </a:lnTo>
                <a:lnTo>
                  <a:pt x="1152" y="203"/>
                </a:lnTo>
                <a:lnTo>
                  <a:pt x="1034" y="237"/>
                </a:lnTo>
                <a:lnTo>
                  <a:pt x="898" y="254"/>
                </a:lnTo>
                <a:lnTo>
                  <a:pt x="746" y="288"/>
                </a:lnTo>
                <a:lnTo>
                  <a:pt x="576" y="321"/>
                </a:lnTo>
                <a:lnTo>
                  <a:pt x="475" y="338"/>
                </a:lnTo>
                <a:lnTo>
                  <a:pt x="390" y="338"/>
                </a:lnTo>
                <a:lnTo>
                  <a:pt x="322" y="355"/>
                </a:lnTo>
                <a:lnTo>
                  <a:pt x="254" y="372"/>
                </a:lnTo>
                <a:lnTo>
                  <a:pt x="204" y="372"/>
                </a:lnTo>
                <a:lnTo>
                  <a:pt x="170" y="372"/>
                </a:lnTo>
                <a:lnTo>
                  <a:pt x="136" y="372"/>
                </a:lnTo>
                <a:lnTo>
                  <a:pt x="119" y="372"/>
                </a:lnTo>
                <a:lnTo>
                  <a:pt x="51" y="355"/>
                </a:lnTo>
                <a:lnTo>
                  <a:pt x="34" y="338"/>
                </a:lnTo>
                <a:lnTo>
                  <a:pt x="17" y="321"/>
                </a:lnTo>
                <a:lnTo>
                  <a:pt x="0" y="304"/>
                </a:lnTo>
                <a:lnTo>
                  <a:pt x="0" y="288"/>
                </a:lnTo>
                <a:lnTo>
                  <a:pt x="0" y="271"/>
                </a:lnTo>
                <a:lnTo>
                  <a:pt x="17" y="254"/>
                </a:lnTo>
                <a:lnTo>
                  <a:pt x="68" y="237"/>
                </a:lnTo>
                <a:lnTo>
                  <a:pt x="136" y="237"/>
                </a:lnTo>
                <a:lnTo>
                  <a:pt x="238" y="220"/>
                </a:lnTo>
                <a:lnTo>
                  <a:pt x="339" y="203"/>
                </a:lnTo>
                <a:lnTo>
                  <a:pt x="475" y="186"/>
                </a:lnTo>
                <a:lnTo>
                  <a:pt x="627" y="152"/>
                </a:lnTo>
                <a:lnTo>
                  <a:pt x="814" y="10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22" name="Freeform 40"/>
          <p:cNvSpPr/>
          <p:nvPr/>
        </p:nvSpPr>
        <p:spPr>
          <a:xfrm>
            <a:off x="1686600" y="2754360"/>
            <a:ext cx="556920" cy="836640"/>
          </a:xfrm>
          <a:custGeom>
            <a:avLst/>
            <a:gdLst>
              <a:gd name="textAreaLeft" fmla="*/ 0 w 556920"/>
              <a:gd name="textAreaRight" fmla="*/ 557280 w 55692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169" h="1758">
                <a:moveTo>
                  <a:pt x="271" y="1673"/>
                </a:moveTo>
                <a:lnTo>
                  <a:pt x="204" y="1707"/>
                </a:lnTo>
                <a:lnTo>
                  <a:pt x="153" y="1724"/>
                </a:lnTo>
                <a:lnTo>
                  <a:pt x="102" y="1741"/>
                </a:lnTo>
                <a:lnTo>
                  <a:pt x="68" y="1758"/>
                </a:lnTo>
                <a:lnTo>
                  <a:pt x="51" y="1758"/>
                </a:lnTo>
                <a:lnTo>
                  <a:pt x="17" y="1758"/>
                </a:lnTo>
                <a:lnTo>
                  <a:pt x="0" y="1758"/>
                </a:lnTo>
                <a:lnTo>
                  <a:pt x="17" y="1741"/>
                </a:lnTo>
                <a:lnTo>
                  <a:pt x="34" y="1724"/>
                </a:lnTo>
                <a:lnTo>
                  <a:pt x="51" y="1707"/>
                </a:lnTo>
                <a:lnTo>
                  <a:pt x="85" y="1673"/>
                </a:lnTo>
                <a:lnTo>
                  <a:pt x="119" y="1656"/>
                </a:lnTo>
                <a:lnTo>
                  <a:pt x="170" y="1622"/>
                </a:lnTo>
                <a:lnTo>
                  <a:pt x="220" y="1589"/>
                </a:lnTo>
                <a:lnTo>
                  <a:pt x="322" y="1504"/>
                </a:lnTo>
                <a:lnTo>
                  <a:pt x="424" y="1437"/>
                </a:lnTo>
                <a:lnTo>
                  <a:pt x="525" y="1352"/>
                </a:lnTo>
                <a:lnTo>
                  <a:pt x="627" y="1251"/>
                </a:lnTo>
                <a:lnTo>
                  <a:pt x="712" y="1149"/>
                </a:lnTo>
                <a:lnTo>
                  <a:pt x="780" y="1048"/>
                </a:lnTo>
                <a:lnTo>
                  <a:pt x="847" y="930"/>
                </a:lnTo>
                <a:lnTo>
                  <a:pt x="881" y="811"/>
                </a:lnTo>
                <a:lnTo>
                  <a:pt x="915" y="676"/>
                </a:lnTo>
                <a:lnTo>
                  <a:pt x="949" y="558"/>
                </a:lnTo>
                <a:lnTo>
                  <a:pt x="949" y="440"/>
                </a:lnTo>
                <a:lnTo>
                  <a:pt x="966" y="338"/>
                </a:lnTo>
                <a:lnTo>
                  <a:pt x="966" y="237"/>
                </a:lnTo>
                <a:lnTo>
                  <a:pt x="949" y="169"/>
                </a:lnTo>
                <a:lnTo>
                  <a:pt x="932" y="119"/>
                </a:lnTo>
                <a:lnTo>
                  <a:pt x="932" y="85"/>
                </a:lnTo>
                <a:lnTo>
                  <a:pt x="915" y="85"/>
                </a:lnTo>
                <a:lnTo>
                  <a:pt x="898" y="68"/>
                </a:lnTo>
                <a:lnTo>
                  <a:pt x="915" y="17"/>
                </a:lnTo>
                <a:lnTo>
                  <a:pt x="932" y="0"/>
                </a:lnTo>
                <a:lnTo>
                  <a:pt x="949" y="0"/>
                </a:lnTo>
                <a:lnTo>
                  <a:pt x="1000" y="0"/>
                </a:lnTo>
                <a:lnTo>
                  <a:pt x="1051" y="17"/>
                </a:lnTo>
                <a:lnTo>
                  <a:pt x="1101" y="51"/>
                </a:lnTo>
                <a:lnTo>
                  <a:pt x="1135" y="68"/>
                </a:lnTo>
                <a:lnTo>
                  <a:pt x="1169" y="102"/>
                </a:lnTo>
                <a:lnTo>
                  <a:pt x="1169" y="119"/>
                </a:lnTo>
                <a:lnTo>
                  <a:pt x="1169" y="152"/>
                </a:lnTo>
                <a:lnTo>
                  <a:pt x="1169" y="220"/>
                </a:lnTo>
                <a:lnTo>
                  <a:pt x="1152" y="305"/>
                </a:lnTo>
                <a:lnTo>
                  <a:pt x="1152" y="372"/>
                </a:lnTo>
                <a:lnTo>
                  <a:pt x="1152" y="423"/>
                </a:lnTo>
                <a:lnTo>
                  <a:pt x="1101" y="676"/>
                </a:lnTo>
                <a:lnTo>
                  <a:pt x="1034" y="913"/>
                </a:lnTo>
                <a:lnTo>
                  <a:pt x="983" y="1031"/>
                </a:lnTo>
                <a:lnTo>
                  <a:pt x="915" y="1149"/>
                </a:lnTo>
                <a:lnTo>
                  <a:pt x="847" y="1251"/>
                </a:lnTo>
                <a:lnTo>
                  <a:pt x="746" y="1352"/>
                </a:lnTo>
                <a:lnTo>
                  <a:pt x="644" y="1453"/>
                </a:lnTo>
                <a:lnTo>
                  <a:pt x="525" y="1538"/>
                </a:lnTo>
                <a:lnTo>
                  <a:pt x="407" y="1622"/>
                </a:lnTo>
                <a:lnTo>
                  <a:pt x="271" y="167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23" name="Freeform 44"/>
          <p:cNvSpPr/>
          <p:nvPr/>
        </p:nvSpPr>
        <p:spPr>
          <a:xfrm>
            <a:off x="2162880" y="3044880"/>
            <a:ext cx="798480" cy="554400"/>
          </a:xfrm>
          <a:custGeom>
            <a:avLst/>
            <a:gdLst>
              <a:gd name="textAreaLeft" fmla="*/ 0 w 798480"/>
              <a:gd name="textAreaRight" fmla="*/ 798840 w 798480"/>
              <a:gd name="textAreaTop" fmla="*/ 0 h 554400"/>
              <a:gd name="textAreaBottom" fmla="*/ 554760 h 554400"/>
            </a:gdLst>
            <a:ahLst/>
            <a:rect l="textAreaLeft" t="textAreaTop" r="textAreaRight" b="textAreaBottom"/>
            <a:pathLst>
              <a:path w="1677" h="1165">
                <a:moveTo>
                  <a:pt x="1677" y="1064"/>
                </a:moveTo>
                <a:lnTo>
                  <a:pt x="1660" y="1064"/>
                </a:lnTo>
                <a:lnTo>
                  <a:pt x="1643" y="1081"/>
                </a:lnTo>
                <a:lnTo>
                  <a:pt x="1592" y="1098"/>
                </a:lnTo>
                <a:lnTo>
                  <a:pt x="1542" y="1115"/>
                </a:lnTo>
                <a:lnTo>
                  <a:pt x="1389" y="1132"/>
                </a:lnTo>
                <a:lnTo>
                  <a:pt x="1237" y="1149"/>
                </a:lnTo>
                <a:lnTo>
                  <a:pt x="1152" y="1165"/>
                </a:lnTo>
                <a:lnTo>
                  <a:pt x="1084" y="1165"/>
                </a:lnTo>
                <a:lnTo>
                  <a:pt x="1033" y="1165"/>
                </a:lnTo>
                <a:lnTo>
                  <a:pt x="999" y="1165"/>
                </a:lnTo>
                <a:lnTo>
                  <a:pt x="949" y="1149"/>
                </a:lnTo>
                <a:lnTo>
                  <a:pt x="915" y="1132"/>
                </a:lnTo>
                <a:lnTo>
                  <a:pt x="881" y="1115"/>
                </a:lnTo>
                <a:lnTo>
                  <a:pt x="847" y="1064"/>
                </a:lnTo>
                <a:lnTo>
                  <a:pt x="813" y="1030"/>
                </a:lnTo>
                <a:lnTo>
                  <a:pt x="762" y="980"/>
                </a:lnTo>
                <a:lnTo>
                  <a:pt x="677" y="895"/>
                </a:lnTo>
                <a:lnTo>
                  <a:pt x="576" y="777"/>
                </a:lnTo>
                <a:lnTo>
                  <a:pt x="474" y="642"/>
                </a:lnTo>
                <a:lnTo>
                  <a:pt x="339" y="473"/>
                </a:lnTo>
                <a:lnTo>
                  <a:pt x="169" y="287"/>
                </a:lnTo>
                <a:lnTo>
                  <a:pt x="0" y="67"/>
                </a:lnTo>
                <a:lnTo>
                  <a:pt x="34" y="0"/>
                </a:lnTo>
                <a:lnTo>
                  <a:pt x="220" y="169"/>
                </a:lnTo>
                <a:lnTo>
                  <a:pt x="389" y="338"/>
                </a:lnTo>
                <a:lnTo>
                  <a:pt x="542" y="473"/>
                </a:lnTo>
                <a:lnTo>
                  <a:pt x="661" y="591"/>
                </a:lnTo>
                <a:lnTo>
                  <a:pt x="796" y="675"/>
                </a:lnTo>
                <a:lnTo>
                  <a:pt x="949" y="760"/>
                </a:lnTo>
                <a:lnTo>
                  <a:pt x="1118" y="844"/>
                </a:lnTo>
                <a:lnTo>
                  <a:pt x="1287" y="912"/>
                </a:lnTo>
                <a:lnTo>
                  <a:pt x="1389" y="946"/>
                </a:lnTo>
                <a:lnTo>
                  <a:pt x="1457" y="963"/>
                </a:lnTo>
                <a:lnTo>
                  <a:pt x="1525" y="996"/>
                </a:lnTo>
                <a:lnTo>
                  <a:pt x="1575" y="1013"/>
                </a:lnTo>
                <a:lnTo>
                  <a:pt x="1626" y="1030"/>
                </a:lnTo>
                <a:lnTo>
                  <a:pt x="1643" y="1047"/>
                </a:lnTo>
                <a:lnTo>
                  <a:pt x="1660" y="1047"/>
                </a:lnTo>
                <a:lnTo>
                  <a:pt x="1677" y="106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8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3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8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文本框 38"/>
          <p:cNvSpPr/>
          <p:nvPr/>
        </p:nvSpPr>
        <p:spPr>
          <a:xfrm>
            <a:off x="6869880" y="1082520"/>
            <a:ext cx="983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dià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0"/>
          <p:cNvSpPr/>
          <p:nvPr/>
        </p:nvSpPr>
        <p:spPr>
          <a:xfrm>
            <a:off x="3549600" y="171468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"/>
          <p:cNvSpPr/>
          <p:nvPr/>
        </p:nvSpPr>
        <p:spPr>
          <a:xfrm>
            <a:off x="4356360" y="1719360"/>
            <a:ext cx="44316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丢掉    掉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已经腐烂的水果，一定要丢掉。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左窄右宽，右部“日”稍扁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十”笔画舒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429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4"/>
          <p:cNvGrpSpPr/>
          <p:nvPr/>
        </p:nvGrpSpPr>
        <p:grpSpPr>
          <a:xfrm>
            <a:off x="1112400" y="1665720"/>
            <a:ext cx="2160360" cy="2160000"/>
            <a:chOff x="1112400" y="1665720"/>
            <a:chExt cx="2160360" cy="2160000"/>
          </a:xfrm>
        </p:grpSpPr>
        <p:sp>
          <p:nvSpPr>
            <p:cNvPr id="431" name="Rectangle 5"/>
            <p:cNvSpPr/>
            <p:nvPr/>
          </p:nvSpPr>
          <p:spPr>
            <a:xfrm>
              <a:off x="2192400" y="273708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32" name="Rectangle 6"/>
            <p:cNvSpPr/>
            <p:nvPr/>
          </p:nvSpPr>
          <p:spPr>
            <a:xfrm>
              <a:off x="1112760" y="273708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33" name="Rectangle 7"/>
            <p:cNvSpPr/>
            <p:nvPr/>
          </p:nvSpPr>
          <p:spPr>
            <a:xfrm>
              <a:off x="2192400" y="166608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34" name="Rectangle 8"/>
            <p:cNvSpPr/>
            <p:nvPr/>
          </p:nvSpPr>
          <p:spPr>
            <a:xfrm>
              <a:off x="1112760" y="166608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35" name="Line 9"/>
            <p:cNvSpPr/>
            <p:nvPr/>
          </p:nvSpPr>
          <p:spPr>
            <a:xfrm>
              <a:off x="1112400" y="1665720"/>
              <a:ext cx="216000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0"/>
            <p:cNvSpPr/>
            <p:nvPr/>
          </p:nvSpPr>
          <p:spPr>
            <a:xfrm>
              <a:off x="1112400" y="3825360"/>
              <a:ext cx="216000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1"/>
            <p:cNvSpPr/>
            <p:nvPr/>
          </p:nvSpPr>
          <p:spPr>
            <a:xfrm>
              <a:off x="1112400" y="166572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12"/>
            <p:cNvSpPr/>
            <p:nvPr/>
          </p:nvSpPr>
          <p:spPr>
            <a:xfrm>
              <a:off x="3272400" y="1665720"/>
              <a:ext cx="360" cy="215964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13"/>
            <p:cNvSpPr/>
            <p:nvPr/>
          </p:nvSpPr>
          <p:spPr>
            <a:xfrm>
              <a:off x="1112400" y="2736720"/>
              <a:ext cx="216000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4"/>
            <p:cNvSpPr/>
            <p:nvPr/>
          </p:nvSpPr>
          <p:spPr>
            <a:xfrm>
              <a:off x="2192400" y="1665720"/>
              <a:ext cx="360" cy="215964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Freeform 31"/>
          <p:cNvSpPr/>
          <p:nvPr/>
        </p:nvSpPr>
        <p:spPr>
          <a:xfrm>
            <a:off x="1574640" y="2503080"/>
            <a:ext cx="443880" cy="119880"/>
          </a:xfrm>
          <a:custGeom>
            <a:avLst/>
            <a:gdLst>
              <a:gd name="textAreaLeft" fmla="*/ 0 w 443880"/>
              <a:gd name="textAreaRight" fmla="*/ 444240 w 443880"/>
              <a:gd name="textAreaTop" fmla="*/ 0 h 119880"/>
              <a:gd name="textAreaBottom" fmla="*/ 120240 h 119880"/>
            </a:gdLst>
            <a:ahLst/>
            <a:rect l="textAreaLeft" t="textAreaTop" r="textAreaRight" b="textAreaBottom"/>
            <a:pathLst>
              <a:path w="932" h="253">
                <a:moveTo>
                  <a:pt x="51" y="220"/>
                </a:moveTo>
                <a:lnTo>
                  <a:pt x="34" y="203"/>
                </a:lnTo>
                <a:lnTo>
                  <a:pt x="17" y="169"/>
                </a:lnTo>
                <a:lnTo>
                  <a:pt x="0" y="152"/>
                </a:lnTo>
                <a:lnTo>
                  <a:pt x="17" y="152"/>
                </a:lnTo>
                <a:lnTo>
                  <a:pt x="34" y="135"/>
                </a:lnTo>
                <a:lnTo>
                  <a:pt x="68" y="135"/>
                </a:lnTo>
                <a:lnTo>
                  <a:pt x="119" y="118"/>
                </a:lnTo>
                <a:lnTo>
                  <a:pt x="170" y="101"/>
                </a:lnTo>
                <a:lnTo>
                  <a:pt x="237" y="101"/>
                </a:lnTo>
                <a:lnTo>
                  <a:pt x="339" y="85"/>
                </a:lnTo>
                <a:lnTo>
                  <a:pt x="424" y="51"/>
                </a:lnTo>
                <a:lnTo>
                  <a:pt x="526" y="34"/>
                </a:lnTo>
                <a:lnTo>
                  <a:pt x="610" y="17"/>
                </a:lnTo>
                <a:lnTo>
                  <a:pt x="695" y="17"/>
                </a:lnTo>
                <a:lnTo>
                  <a:pt x="746" y="0"/>
                </a:lnTo>
                <a:lnTo>
                  <a:pt x="797" y="0"/>
                </a:lnTo>
                <a:lnTo>
                  <a:pt x="847" y="0"/>
                </a:lnTo>
                <a:lnTo>
                  <a:pt x="864" y="0"/>
                </a:lnTo>
                <a:lnTo>
                  <a:pt x="898" y="0"/>
                </a:lnTo>
                <a:lnTo>
                  <a:pt x="915" y="17"/>
                </a:lnTo>
                <a:lnTo>
                  <a:pt x="932" y="34"/>
                </a:lnTo>
                <a:lnTo>
                  <a:pt x="932" y="51"/>
                </a:lnTo>
                <a:lnTo>
                  <a:pt x="932" y="68"/>
                </a:lnTo>
                <a:lnTo>
                  <a:pt x="915" y="85"/>
                </a:lnTo>
                <a:lnTo>
                  <a:pt x="881" y="101"/>
                </a:lnTo>
                <a:lnTo>
                  <a:pt x="847" y="118"/>
                </a:lnTo>
                <a:lnTo>
                  <a:pt x="746" y="152"/>
                </a:lnTo>
                <a:lnTo>
                  <a:pt x="644" y="169"/>
                </a:lnTo>
                <a:lnTo>
                  <a:pt x="509" y="186"/>
                </a:lnTo>
                <a:lnTo>
                  <a:pt x="441" y="203"/>
                </a:lnTo>
                <a:lnTo>
                  <a:pt x="373" y="220"/>
                </a:lnTo>
                <a:lnTo>
                  <a:pt x="288" y="237"/>
                </a:lnTo>
                <a:lnTo>
                  <a:pt x="237" y="237"/>
                </a:lnTo>
                <a:lnTo>
                  <a:pt x="187" y="253"/>
                </a:lnTo>
                <a:lnTo>
                  <a:pt x="153" y="253"/>
                </a:lnTo>
                <a:lnTo>
                  <a:pt x="102" y="237"/>
                </a:lnTo>
                <a:lnTo>
                  <a:pt x="51" y="22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42" name="Freeform 33"/>
          <p:cNvSpPr/>
          <p:nvPr/>
        </p:nvSpPr>
        <p:spPr>
          <a:xfrm>
            <a:off x="2285280" y="2092320"/>
            <a:ext cx="128160" cy="354600"/>
          </a:xfrm>
          <a:custGeom>
            <a:avLst/>
            <a:gdLst>
              <a:gd name="textAreaLeft" fmla="*/ 0 w 128160"/>
              <a:gd name="textAreaRight" fmla="*/ 128520 w 128160"/>
              <a:gd name="textAreaTop" fmla="*/ 0 h 354600"/>
              <a:gd name="textAreaBottom" fmla="*/ 354960 h 354600"/>
            </a:gdLst>
            <a:ahLst/>
            <a:rect l="textAreaLeft" t="textAreaTop" r="textAreaRight" b="textAreaBottom"/>
            <a:pathLst>
              <a:path w="271" h="744">
                <a:moveTo>
                  <a:pt x="34" y="119"/>
                </a:moveTo>
                <a:lnTo>
                  <a:pt x="17" y="85"/>
                </a:lnTo>
                <a:lnTo>
                  <a:pt x="0" y="51"/>
                </a:lnTo>
                <a:lnTo>
                  <a:pt x="0" y="34"/>
                </a:lnTo>
                <a:lnTo>
                  <a:pt x="0" y="17"/>
                </a:lnTo>
                <a:lnTo>
                  <a:pt x="17" y="0"/>
                </a:lnTo>
                <a:lnTo>
                  <a:pt x="51" y="0"/>
                </a:lnTo>
                <a:lnTo>
                  <a:pt x="85" y="0"/>
                </a:lnTo>
                <a:lnTo>
                  <a:pt x="153" y="17"/>
                </a:lnTo>
                <a:lnTo>
                  <a:pt x="220" y="34"/>
                </a:lnTo>
                <a:lnTo>
                  <a:pt x="237" y="51"/>
                </a:lnTo>
                <a:lnTo>
                  <a:pt x="254" y="102"/>
                </a:lnTo>
                <a:lnTo>
                  <a:pt x="271" y="152"/>
                </a:lnTo>
                <a:lnTo>
                  <a:pt x="271" y="220"/>
                </a:lnTo>
                <a:lnTo>
                  <a:pt x="271" y="304"/>
                </a:lnTo>
                <a:lnTo>
                  <a:pt x="271" y="355"/>
                </a:lnTo>
                <a:lnTo>
                  <a:pt x="271" y="423"/>
                </a:lnTo>
                <a:lnTo>
                  <a:pt x="254" y="490"/>
                </a:lnTo>
                <a:lnTo>
                  <a:pt x="254" y="558"/>
                </a:lnTo>
                <a:lnTo>
                  <a:pt x="254" y="642"/>
                </a:lnTo>
                <a:lnTo>
                  <a:pt x="254" y="744"/>
                </a:lnTo>
                <a:lnTo>
                  <a:pt x="119" y="744"/>
                </a:lnTo>
                <a:lnTo>
                  <a:pt x="119" y="558"/>
                </a:lnTo>
                <a:lnTo>
                  <a:pt x="119" y="372"/>
                </a:lnTo>
                <a:lnTo>
                  <a:pt x="102" y="288"/>
                </a:lnTo>
                <a:lnTo>
                  <a:pt x="85" y="220"/>
                </a:lnTo>
                <a:lnTo>
                  <a:pt x="68" y="169"/>
                </a:lnTo>
                <a:lnTo>
                  <a:pt x="34" y="11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43" name="Freeform 39"/>
          <p:cNvSpPr/>
          <p:nvPr/>
        </p:nvSpPr>
        <p:spPr>
          <a:xfrm>
            <a:off x="2075760" y="2446920"/>
            <a:ext cx="151920" cy="370080"/>
          </a:xfrm>
          <a:custGeom>
            <a:avLst/>
            <a:gdLst>
              <a:gd name="textAreaLeft" fmla="*/ 0 w 151920"/>
              <a:gd name="textAreaRight" fmla="*/ 152280 w 1519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322" h="777">
                <a:moveTo>
                  <a:pt x="34" y="169"/>
                </a:moveTo>
                <a:lnTo>
                  <a:pt x="17" y="152"/>
                </a:lnTo>
                <a:lnTo>
                  <a:pt x="0" y="135"/>
                </a:lnTo>
                <a:lnTo>
                  <a:pt x="0" y="84"/>
                </a:lnTo>
                <a:lnTo>
                  <a:pt x="0" y="50"/>
                </a:lnTo>
                <a:lnTo>
                  <a:pt x="0" y="34"/>
                </a:lnTo>
                <a:lnTo>
                  <a:pt x="17" y="0"/>
                </a:lnTo>
                <a:lnTo>
                  <a:pt x="51" y="0"/>
                </a:lnTo>
                <a:lnTo>
                  <a:pt x="84" y="17"/>
                </a:lnTo>
                <a:lnTo>
                  <a:pt x="135" y="17"/>
                </a:lnTo>
                <a:lnTo>
                  <a:pt x="186" y="34"/>
                </a:lnTo>
                <a:lnTo>
                  <a:pt x="220" y="203"/>
                </a:lnTo>
                <a:lnTo>
                  <a:pt x="254" y="355"/>
                </a:lnTo>
                <a:lnTo>
                  <a:pt x="288" y="473"/>
                </a:lnTo>
                <a:lnTo>
                  <a:pt x="305" y="574"/>
                </a:lnTo>
                <a:lnTo>
                  <a:pt x="305" y="659"/>
                </a:lnTo>
                <a:lnTo>
                  <a:pt x="322" y="709"/>
                </a:lnTo>
                <a:lnTo>
                  <a:pt x="322" y="743"/>
                </a:lnTo>
                <a:lnTo>
                  <a:pt x="305" y="760"/>
                </a:lnTo>
                <a:lnTo>
                  <a:pt x="288" y="777"/>
                </a:lnTo>
                <a:lnTo>
                  <a:pt x="271" y="760"/>
                </a:lnTo>
                <a:lnTo>
                  <a:pt x="254" y="760"/>
                </a:lnTo>
                <a:lnTo>
                  <a:pt x="220" y="726"/>
                </a:lnTo>
                <a:lnTo>
                  <a:pt x="203" y="693"/>
                </a:lnTo>
                <a:lnTo>
                  <a:pt x="186" y="625"/>
                </a:lnTo>
                <a:lnTo>
                  <a:pt x="152" y="540"/>
                </a:lnTo>
                <a:lnTo>
                  <a:pt x="135" y="422"/>
                </a:lnTo>
                <a:lnTo>
                  <a:pt x="101" y="321"/>
                </a:lnTo>
                <a:lnTo>
                  <a:pt x="84" y="236"/>
                </a:lnTo>
                <a:lnTo>
                  <a:pt x="67" y="203"/>
                </a:lnTo>
                <a:lnTo>
                  <a:pt x="51" y="186"/>
                </a:lnTo>
                <a:lnTo>
                  <a:pt x="51" y="169"/>
                </a:lnTo>
                <a:lnTo>
                  <a:pt x="34" y="16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44" name="Freeform 30"/>
          <p:cNvSpPr/>
          <p:nvPr/>
        </p:nvSpPr>
        <p:spPr>
          <a:xfrm>
            <a:off x="1655640" y="2149200"/>
            <a:ext cx="274680" cy="1207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7080"/>
              <a:gd name="textAreaBottom" fmla="*/ 1207440 h 1207080"/>
            </a:gdLst>
            <a:ahLst/>
            <a:rect l="textAreaLeft" t="textAreaTop" r="textAreaRight" b="textAreaBottom"/>
            <a:pathLst>
              <a:path w="576" h="2534">
                <a:moveTo>
                  <a:pt x="508" y="405"/>
                </a:moveTo>
                <a:lnTo>
                  <a:pt x="491" y="456"/>
                </a:lnTo>
                <a:lnTo>
                  <a:pt x="491" y="523"/>
                </a:lnTo>
                <a:lnTo>
                  <a:pt x="491" y="625"/>
                </a:lnTo>
                <a:lnTo>
                  <a:pt x="491" y="726"/>
                </a:lnTo>
                <a:lnTo>
                  <a:pt x="491" y="878"/>
                </a:lnTo>
                <a:lnTo>
                  <a:pt x="491" y="1047"/>
                </a:lnTo>
                <a:lnTo>
                  <a:pt x="491" y="1233"/>
                </a:lnTo>
                <a:lnTo>
                  <a:pt x="491" y="1436"/>
                </a:lnTo>
                <a:lnTo>
                  <a:pt x="491" y="1655"/>
                </a:lnTo>
                <a:lnTo>
                  <a:pt x="491" y="1841"/>
                </a:lnTo>
                <a:lnTo>
                  <a:pt x="474" y="1993"/>
                </a:lnTo>
                <a:lnTo>
                  <a:pt x="474" y="2128"/>
                </a:lnTo>
                <a:lnTo>
                  <a:pt x="457" y="2247"/>
                </a:lnTo>
                <a:lnTo>
                  <a:pt x="440" y="2331"/>
                </a:lnTo>
                <a:lnTo>
                  <a:pt x="440" y="2399"/>
                </a:lnTo>
                <a:lnTo>
                  <a:pt x="423" y="2450"/>
                </a:lnTo>
                <a:lnTo>
                  <a:pt x="389" y="2483"/>
                </a:lnTo>
                <a:lnTo>
                  <a:pt x="356" y="2517"/>
                </a:lnTo>
                <a:lnTo>
                  <a:pt x="322" y="2534"/>
                </a:lnTo>
                <a:lnTo>
                  <a:pt x="305" y="2534"/>
                </a:lnTo>
                <a:lnTo>
                  <a:pt x="288" y="2534"/>
                </a:lnTo>
                <a:lnTo>
                  <a:pt x="271" y="2517"/>
                </a:lnTo>
                <a:lnTo>
                  <a:pt x="254" y="2483"/>
                </a:lnTo>
                <a:lnTo>
                  <a:pt x="237" y="2450"/>
                </a:lnTo>
                <a:lnTo>
                  <a:pt x="169" y="2348"/>
                </a:lnTo>
                <a:lnTo>
                  <a:pt x="135" y="2314"/>
                </a:lnTo>
                <a:lnTo>
                  <a:pt x="101" y="2281"/>
                </a:lnTo>
                <a:lnTo>
                  <a:pt x="67" y="2247"/>
                </a:lnTo>
                <a:lnTo>
                  <a:pt x="34" y="2213"/>
                </a:lnTo>
                <a:lnTo>
                  <a:pt x="17" y="2196"/>
                </a:lnTo>
                <a:lnTo>
                  <a:pt x="0" y="2179"/>
                </a:lnTo>
                <a:lnTo>
                  <a:pt x="17" y="2162"/>
                </a:lnTo>
                <a:lnTo>
                  <a:pt x="34" y="2162"/>
                </a:lnTo>
                <a:lnTo>
                  <a:pt x="67" y="2162"/>
                </a:lnTo>
                <a:lnTo>
                  <a:pt x="118" y="2179"/>
                </a:lnTo>
                <a:lnTo>
                  <a:pt x="186" y="2196"/>
                </a:lnTo>
                <a:lnTo>
                  <a:pt x="220" y="2196"/>
                </a:lnTo>
                <a:lnTo>
                  <a:pt x="254" y="2196"/>
                </a:lnTo>
                <a:lnTo>
                  <a:pt x="288" y="2179"/>
                </a:lnTo>
                <a:lnTo>
                  <a:pt x="288" y="2162"/>
                </a:lnTo>
                <a:lnTo>
                  <a:pt x="288" y="2145"/>
                </a:lnTo>
                <a:lnTo>
                  <a:pt x="305" y="2128"/>
                </a:lnTo>
                <a:lnTo>
                  <a:pt x="305" y="2095"/>
                </a:lnTo>
                <a:lnTo>
                  <a:pt x="322" y="2010"/>
                </a:lnTo>
                <a:lnTo>
                  <a:pt x="339" y="1909"/>
                </a:lnTo>
                <a:lnTo>
                  <a:pt x="339" y="1841"/>
                </a:lnTo>
                <a:lnTo>
                  <a:pt x="339" y="1757"/>
                </a:lnTo>
                <a:lnTo>
                  <a:pt x="339" y="1672"/>
                </a:lnTo>
                <a:lnTo>
                  <a:pt x="339" y="1554"/>
                </a:lnTo>
                <a:lnTo>
                  <a:pt x="339" y="1436"/>
                </a:lnTo>
                <a:lnTo>
                  <a:pt x="339" y="1284"/>
                </a:lnTo>
                <a:lnTo>
                  <a:pt x="339" y="1132"/>
                </a:lnTo>
                <a:lnTo>
                  <a:pt x="339" y="963"/>
                </a:lnTo>
                <a:lnTo>
                  <a:pt x="339" y="794"/>
                </a:lnTo>
                <a:lnTo>
                  <a:pt x="339" y="659"/>
                </a:lnTo>
                <a:lnTo>
                  <a:pt x="339" y="523"/>
                </a:lnTo>
                <a:lnTo>
                  <a:pt x="339" y="422"/>
                </a:lnTo>
                <a:lnTo>
                  <a:pt x="339" y="338"/>
                </a:lnTo>
                <a:lnTo>
                  <a:pt x="339" y="270"/>
                </a:lnTo>
                <a:lnTo>
                  <a:pt x="339" y="219"/>
                </a:lnTo>
                <a:lnTo>
                  <a:pt x="339" y="185"/>
                </a:lnTo>
                <a:lnTo>
                  <a:pt x="322" y="118"/>
                </a:lnTo>
                <a:lnTo>
                  <a:pt x="288" y="67"/>
                </a:lnTo>
                <a:lnTo>
                  <a:pt x="288" y="50"/>
                </a:lnTo>
                <a:lnTo>
                  <a:pt x="271" y="33"/>
                </a:lnTo>
                <a:lnTo>
                  <a:pt x="288" y="17"/>
                </a:lnTo>
                <a:lnTo>
                  <a:pt x="305" y="0"/>
                </a:lnTo>
                <a:lnTo>
                  <a:pt x="339" y="0"/>
                </a:lnTo>
                <a:lnTo>
                  <a:pt x="372" y="0"/>
                </a:lnTo>
                <a:lnTo>
                  <a:pt x="406" y="17"/>
                </a:lnTo>
                <a:lnTo>
                  <a:pt x="440" y="33"/>
                </a:lnTo>
                <a:lnTo>
                  <a:pt x="474" y="50"/>
                </a:lnTo>
                <a:lnTo>
                  <a:pt x="542" y="84"/>
                </a:lnTo>
                <a:lnTo>
                  <a:pt x="559" y="118"/>
                </a:lnTo>
                <a:lnTo>
                  <a:pt x="576" y="152"/>
                </a:lnTo>
                <a:lnTo>
                  <a:pt x="576" y="185"/>
                </a:lnTo>
                <a:lnTo>
                  <a:pt x="559" y="236"/>
                </a:lnTo>
                <a:lnTo>
                  <a:pt x="559" y="270"/>
                </a:lnTo>
                <a:lnTo>
                  <a:pt x="542" y="304"/>
                </a:lnTo>
                <a:lnTo>
                  <a:pt x="525" y="354"/>
                </a:lnTo>
                <a:lnTo>
                  <a:pt x="508" y="40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45" name="Freeform 32"/>
          <p:cNvSpPr/>
          <p:nvPr/>
        </p:nvSpPr>
        <p:spPr>
          <a:xfrm>
            <a:off x="1478160" y="2680200"/>
            <a:ext cx="540360" cy="393840"/>
          </a:xfrm>
          <a:custGeom>
            <a:avLst/>
            <a:gdLst>
              <a:gd name="textAreaLeft" fmla="*/ 0 w 540360"/>
              <a:gd name="textAreaRight" fmla="*/ 540720 w 54036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135" h="828">
                <a:moveTo>
                  <a:pt x="949" y="219"/>
                </a:moveTo>
                <a:lnTo>
                  <a:pt x="847" y="321"/>
                </a:lnTo>
                <a:lnTo>
                  <a:pt x="729" y="405"/>
                </a:lnTo>
                <a:lnTo>
                  <a:pt x="491" y="608"/>
                </a:lnTo>
                <a:lnTo>
                  <a:pt x="390" y="709"/>
                </a:lnTo>
                <a:lnTo>
                  <a:pt x="305" y="777"/>
                </a:lnTo>
                <a:lnTo>
                  <a:pt x="254" y="811"/>
                </a:lnTo>
                <a:lnTo>
                  <a:pt x="203" y="828"/>
                </a:lnTo>
                <a:lnTo>
                  <a:pt x="186" y="828"/>
                </a:lnTo>
                <a:lnTo>
                  <a:pt x="152" y="811"/>
                </a:lnTo>
                <a:lnTo>
                  <a:pt x="119" y="794"/>
                </a:lnTo>
                <a:lnTo>
                  <a:pt x="85" y="760"/>
                </a:lnTo>
                <a:lnTo>
                  <a:pt x="51" y="726"/>
                </a:lnTo>
                <a:lnTo>
                  <a:pt x="17" y="709"/>
                </a:lnTo>
                <a:lnTo>
                  <a:pt x="0" y="676"/>
                </a:lnTo>
                <a:lnTo>
                  <a:pt x="0" y="659"/>
                </a:lnTo>
                <a:lnTo>
                  <a:pt x="0" y="625"/>
                </a:lnTo>
                <a:lnTo>
                  <a:pt x="17" y="608"/>
                </a:lnTo>
                <a:lnTo>
                  <a:pt x="51" y="608"/>
                </a:lnTo>
                <a:lnTo>
                  <a:pt x="85" y="591"/>
                </a:lnTo>
                <a:lnTo>
                  <a:pt x="169" y="574"/>
                </a:lnTo>
                <a:lnTo>
                  <a:pt x="237" y="574"/>
                </a:lnTo>
                <a:lnTo>
                  <a:pt x="254" y="557"/>
                </a:lnTo>
                <a:lnTo>
                  <a:pt x="288" y="540"/>
                </a:lnTo>
                <a:lnTo>
                  <a:pt x="322" y="507"/>
                </a:lnTo>
                <a:lnTo>
                  <a:pt x="373" y="473"/>
                </a:lnTo>
                <a:lnTo>
                  <a:pt x="440" y="439"/>
                </a:lnTo>
                <a:lnTo>
                  <a:pt x="525" y="388"/>
                </a:lnTo>
                <a:lnTo>
                  <a:pt x="610" y="321"/>
                </a:lnTo>
                <a:lnTo>
                  <a:pt x="712" y="253"/>
                </a:lnTo>
                <a:lnTo>
                  <a:pt x="796" y="186"/>
                </a:lnTo>
                <a:lnTo>
                  <a:pt x="881" y="135"/>
                </a:lnTo>
                <a:lnTo>
                  <a:pt x="966" y="84"/>
                </a:lnTo>
                <a:lnTo>
                  <a:pt x="1017" y="50"/>
                </a:lnTo>
                <a:lnTo>
                  <a:pt x="1067" y="34"/>
                </a:lnTo>
                <a:lnTo>
                  <a:pt x="1101" y="17"/>
                </a:lnTo>
                <a:lnTo>
                  <a:pt x="1135" y="0"/>
                </a:lnTo>
                <a:lnTo>
                  <a:pt x="1135" y="17"/>
                </a:lnTo>
                <a:lnTo>
                  <a:pt x="1135" y="34"/>
                </a:lnTo>
                <a:lnTo>
                  <a:pt x="1118" y="50"/>
                </a:lnTo>
                <a:lnTo>
                  <a:pt x="1101" y="84"/>
                </a:lnTo>
                <a:lnTo>
                  <a:pt x="1033" y="152"/>
                </a:lnTo>
                <a:lnTo>
                  <a:pt x="949" y="21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46" name="Freeform 38"/>
          <p:cNvSpPr/>
          <p:nvPr/>
        </p:nvSpPr>
        <p:spPr>
          <a:xfrm>
            <a:off x="2381760" y="2189880"/>
            <a:ext cx="258120" cy="70920"/>
          </a:xfrm>
          <a:custGeom>
            <a:avLst/>
            <a:gdLst>
              <a:gd name="textAreaLeft" fmla="*/ 0 w 258120"/>
              <a:gd name="textAreaRight" fmla="*/ 258480 w 258120"/>
              <a:gd name="textAreaTop" fmla="*/ 0 h 70920"/>
              <a:gd name="textAreaBottom" fmla="*/ 71280 h 70920"/>
            </a:gdLst>
            <a:ahLst/>
            <a:rect l="textAreaLeft" t="textAreaTop" r="textAreaRight" b="textAreaBottom"/>
            <a:pathLst>
              <a:path w="542" h="152">
                <a:moveTo>
                  <a:pt x="220" y="34"/>
                </a:moveTo>
                <a:lnTo>
                  <a:pt x="271" y="17"/>
                </a:lnTo>
                <a:lnTo>
                  <a:pt x="321" y="17"/>
                </a:lnTo>
                <a:lnTo>
                  <a:pt x="372" y="0"/>
                </a:lnTo>
                <a:lnTo>
                  <a:pt x="389" y="0"/>
                </a:lnTo>
                <a:lnTo>
                  <a:pt x="457" y="17"/>
                </a:lnTo>
                <a:lnTo>
                  <a:pt x="542" y="34"/>
                </a:lnTo>
                <a:lnTo>
                  <a:pt x="542" y="68"/>
                </a:lnTo>
                <a:lnTo>
                  <a:pt x="525" y="101"/>
                </a:lnTo>
                <a:lnTo>
                  <a:pt x="508" y="101"/>
                </a:lnTo>
                <a:lnTo>
                  <a:pt x="474" y="118"/>
                </a:lnTo>
                <a:lnTo>
                  <a:pt x="423" y="118"/>
                </a:lnTo>
                <a:lnTo>
                  <a:pt x="372" y="135"/>
                </a:lnTo>
                <a:lnTo>
                  <a:pt x="304" y="135"/>
                </a:lnTo>
                <a:lnTo>
                  <a:pt x="220" y="152"/>
                </a:lnTo>
                <a:lnTo>
                  <a:pt x="118" y="152"/>
                </a:lnTo>
                <a:lnTo>
                  <a:pt x="0" y="152"/>
                </a:lnTo>
                <a:lnTo>
                  <a:pt x="0" y="68"/>
                </a:lnTo>
                <a:lnTo>
                  <a:pt x="101" y="51"/>
                </a:lnTo>
                <a:lnTo>
                  <a:pt x="220" y="3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47" name="Freeform 34"/>
          <p:cNvSpPr/>
          <p:nvPr/>
        </p:nvSpPr>
        <p:spPr>
          <a:xfrm>
            <a:off x="2123640" y="2374200"/>
            <a:ext cx="597240" cy="393840"/>
          </a:xfrm>
          <a:custGeom>
            <a:avLst/>
            <a:gdLst>
              <a:gd name="textAreaLeft" fmla="*/ 0 w 597240"/>
              <a:gd name="textAreaRight" fmla="*/ 597600 w 5972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254" h="828">
                <a:moveTo>
                  <a:pt x="932" y="17"/>
                </a:moveTo>
                <a:lnTo>
                  <a:pt x="966" y="0"/>
                </a:lnTo>
                <a:lnTo>
                  <a:pt x="1000" y="0"/>
                </a:lnTo>
                <a:lnTo>
                  <a:pt x="1017" y="17"/>
                </a:lnTo>
                <a:lnTo>
                  <a:pt x="1051" y="34"/>
                </a:lnTo>
                <a:lnTo>
                  <a:pt x="1102" y="50"/>
                </a:lnTo>
                <a:lnTo>
                  <a:pt x="1152" y="84"/>
                </a:lnTo>
                <a:lnTo>
                  <a:pt x="1186" y="118"/>
                </a:lnTo>
                <a:lnTo>
                  <a:pt x="1220" y="152"/>
                </a:lnTo>
                <a:lnTo>
                  <a:pt x="1254" y="186"/>
                </a:lnTo>
                <a:lnTo>
                  <a:pt x="1237" y="219"/>
                </a:lnTo>
                <a:lnTo>
                  <a:pt x="1220" y="236"/>
                </a:lnTo>
                <a:lnTo>
                  <a:pt x="1186" y="236"/>
                </a:lnTo>
                <a:lnTo>
                  <a:pt x="1169" y="270"/>
                </a:lnTo>
                <a:lnTo>
                  <a:pt x="1135" y="338"/>
                </a:lnTo>
                <a:lnTo>
                  <a:pt x="1102" y="422"/>
                </a:lnTo>
                <a:lnTo>
                  <a:pt x="1068" y="523"/>
                </a:lnTo>
                <a:lnTo>
                  <a:pt x="1017" y="642"/>
                </a:lnTo>
                <a:lnTo>
                  <a:pt x="1000" y="692"/>
                </a:lnTo>
                <a:lnTo>
                  <a:pt x="1000" y="726"/>
                </a:lnTo>
                <a:lnTo>
                  <a:pt x="983" y="760"/>
                </a:lnTo>
                <a:lnTo>
                  <a:pt x="983" y="777"/>
                </a:lnTo>
                <a:lnTo>
                  <a:pt x="966" y="794"/>
                </a:lnTo>
                <a:lnTo>
                  <a:pt x="966" y="811"/>
                </a:lnTo>
                <a:lnTo>
                  <a:pt x="949" y="811"/>
                </a:lnTo>
                <a:lnTo>
                  <a:pt x="932" y="828"/>
                </a:lnTo>
                <a:lnTo>
                  <a:pt x="898" y="828"/>
                </a:lnTo>
                <a:lnTo>
                  <a:pt x="847" y="828"/>
                </a:lnTo>
                <a:lnTo>
                  <a:pt x="847" y="743"/>
                </a:lnTo>
                <a:lnTo>
                  <a:pt x="864" y="659"/>
                </a:lnTo>
                <a:lnTo>
                  <a:pt x="898" y="540"/>
                </a:lnTo>
                <a:lnTo>
                  <a:pt x="915" y="439"/>
                </a:lnTo>
                <a:lnTo>
                  <a:pt x="932" y="338"/>
                </a:lnTo>
                <a:lnTo>
                  <a:pt x="949" y="253"/>
                </a:lnTo>
                <a:lnTo>
                  <a:pt x="949" y="202"/>
                </a:lnTo>
                <a:lnTo>
                  <a:pt x="932" y="186"/>
                </a:lnTo>
                <a:lnTo>
                  <a:pt x="898" y="169"/>
                </a:lnTo>
                <a:lnTo>
                  <a:pt x="847" y="152"/>
                </a:lnTo>
                <a:lnTo>
                  <a:pt x="814" y="152"/>
                </a:lnTo>
                <a:lnTo>
                  <a:pt x="797" y="152"/>
                </a:lnTo>
                <a:lnTo>
                  <a:pt x="746" y="169"/>
                </a:lnTo>
                <a:lnTo>
                  <a:pt x="712" y="169"/>
                </a:lnTo>
                <a:lnTo>
                  <a:pt x="661" y="186"/>
                </a:lnTo>
                <a:lnTo>
                  <a:pt x="593" y="186"/>
                </a:lnTo>
                <a:lnTo>
                  <a:pt x="458" y="219"/>
                </a:lnTo>
                <a:lnTo>
                  <a:pt x="305" y="236"/>
                </a:lnTo>
                <a:lnTo>
                  <a:pt x="170" y="253"/>
                </a:lnTo>
                <a:lnTo>
                  <a:pt x="68" y="270"/>
                </a:lnTo>
                <a:lnTo>
                  <a:pt x="0" y="270"/>
                </a:lnTo>
                <a:lnTo>
                  <a:pt x="0" y="169"/>
                </a:lnTo>
                <a:lnTo>
                  <a:pt x="85" y="169"/>
                </a:lnTo>
                <a:lnTo>
                  <a:pt x="153" y="152"/>
                </a:lnTo>
                <a:lnTo>
                  <a:pt x="204" y="152"/>
                </a:lnTo>
                <a:lnTo>
                  <a:pt x="271" y="135"/>
                </a:lnTo>
                <a:lnTo>
                  <a:pt x="356" y="135"/>
                </a:lnTo>
                <a:lnTo>
                  <a:pt x="441" y="118"/>
                </a:lnTo>
                <a:lnTo>
                  <a:pt x="526" y="101"/>
                </a:lnTo>
                <a:lnTo>
                  <a:pt x="610" y="101"/>
                </a:lnTo>
                <a:lnTo>
                  <a:pt x="695" y="84"/>
                </a:lnTo>
                <a:lnTo>
                  <a:pt x="746" y="67"/>
                </a:lnTo>
                <a:lnTo>
                  <a:pt x="814" y="50"/>
                </a:lnTo>
                <a:lnTo>
                  <a:pt x="847" y="50"/>
                </a:lnTo>
                <a:lnTo>
                  <a:pt x="881" y="34"/>
                </a:lnTo>
                <a:lnTo>
                  <a:pt x="915" y="34"/>
                </a:lnTo>
                <a:lnTo>
                  <a:pt x="932" y="1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48" name="Freeform 35"/>
          <p:cNvSpPr/>
          <p:nvPr/>
        </p:nvSpPr>
        <p:spPr>
          <a:xfrm>
            <a:off x="2163960" y="2558880"/>
            <a:ext cx="322200" cy="88920"/>
          </a:xfrm>
          <a:custGeom>
            <a:avLst/>
            <a:gdLst>
              <a:gd name="textAreaLeft" fmla="*/ 0 w 322200"/>
              <a:gd name="textAreaRight" fmla="*/ 322560 w 322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78" h="186">
                <a:moveTo>
                  <a:pt x="0" y="102"/>
                </a:moveTo>
                <a:lnTo>
                  <a:pt x="153" y="68"/>
                </a:lnTo>
                <a:lnTo>
                  <a:pt x="237" y="51"/>
                </a:lnTo>
                <a:lnTo>
                  <a:pt x="322" y="34"/>
                </a:lnTo>
                <a:lnTo>
                  <a:pt x="390" y="17"/>
                </a:lnTo>
                <a:lnTo>
                  <a:pt x="458" y="0"/>
                </a:lnTo>
                <a:lnTo>
                  <a:pt x="508" y="0"/>
                </a:lnTo>
                <a:lnTo>
                  <a:pt x="542" y="0"/>
                </a:lnTo>
                <a:lnTo>
                  <a:pt x="593" y="0"/>
                </a:lnTo>
                <a:lnTo>
                  <a:pt x="644" y="17"/>
                </a:lnTo>
                <a:lnTo>
                  <a:pt x="661" y="34"/>
                </a:lnTo>
                <a:lnTo>
                  <a:pt x="678" y="34"/>
                </a:lnTo>
                <a:lnTo>
                  <a:pt x="678" y="51"/>
                </a:lnTo>
                <a:lnTo>
                  <a:pt x="678" y="68"/>
                </a:lnTo>
                <a:lnTo>
                  <a:pt x="661" y="68"/>
                </a:lnTo>
                <a:lnTo>
                  <a:pt x="644" y="85"/>
                </a:lnTo>
                <a:lnTo>
                  <a:pt x="627" y="85"/>
                </a:lnTo>
                <a:lnTo>
                  <a:pt x="593" y="102"/>
                </a:lnTo>
                <a:lnTo>
                  <a:pt x="542" y="102"/>
                </a:lnTo>
                <a:lnTo>
                  <a:pt x="441" y="135"/>
                </a:lnTo>
                <a:lnTo>
                  <a:pt x="322" y="152"/>
                </a:lnTo>
                <a:lnTo>
                  <a:pt x="220" y="169"/>
                </a:lnTo>
                <a:lnTo>
                  <a:pt x="0" y="186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49" name="Freeform 36"/>
          <p:cNvSpPr/>
          <p:nvPr/>
        </p:nvSpPr>
        <p:spPr>
          <a:xfrm>
            <a:off x="2204280" y="2712600"/>
            <a:ext cx="345960" cy="79560"/>
          </a:xfrm>
          <a:custGeom>
            <a:avLst/>
            <a:gdLst>
              <a:gd name="textAreaLeft" fmla="*/ 0 w 345960"/>
              <a:gd name="textAreaRight" fmla="*/ 346320 w 3459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728" h="169">
                <a:moveTo>
                  <a:pt x="0" y="68"/>
                </a:moveTo>
                <a:lnTo>
                  <a:pt x="203" y="51"/>
                </a:lnTo>
                <a:lnTo>
                  <a:pt x="406" y="34"/>
                </a:lnTo>
                <a:lnTo>
                  <a:pt x="576" y="17"/>
                </a:lnTo>
                <a:lnTo>
                  <a:pt x="728" y="0"/>
                </a:lnTo>
                <a:lnTo>
                  <a:pt x="728" y="119"/>
                </a:lnTo>
                <a:lnTo>
                  <a:pt x="576" y="119"/>
                </a:lnTo>
                <a:lnTo>
                  <a:pt x="406" y="136"/>
                </a:lnTo>
                <a:lnTo>
                  <a:pt x="220" y="152"/>
                </a:lnTo>
                <a:lnTo>
                  <a:pt x="0" y="169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50" name="Freeform 37"/>
          <p:cNvSpPr/>
          <p:nvPr/>
        </p:nvSpPr>
        <p:spPr>
          <a:xfrm>
            <a:off x="1946160" y="2864880"/>
            <a:ext cx="927000" cy="153360"/>
          </a:xfrm>
          <a:custGeom>
            <a:avLst/>
            <a:gdLst>
              <a:gd name="textAreaLeft" fmla="*/ 0 w 927000"/>
              <a:gd name="textAreaRight" fmla="*/ 927360 w 927000"/>
              <a:gd name="textAreaTop" fmla="*/ 0 h 153360"/>
              <a:gd name="textAreaBottom" fmla="*/ 153720 h 153360"/>
            </a:gdLst>
            <a:ahLst/>
            <a:rect l="textAreaLeft" t="textAreaTop" r="textAreaRight" b="textAreaBottom"/>
            <a:pathLst>
              <a:path w="1948" h="321">
                <a:moveTo>
                  <a:pt x="1846" y="51"/>
                </a:moveTo>
                <a:lnTo>
                  <a:pt x="1897" y="68"/>
                </a:lnTo>
                <a:lnTo>
                  <a:pt x="1931" y="85"/>
                </a:lnTo>
                <a:lnTo>
                  <a:pt x="1948" y="102"/>
                </a:lnTo>
                <a:lnTo>
                  <a:pt x="1948" y="119"/>
                </a:lnTo>
                <a:lnTo>
                  <a:pt x="1948" y="152"/>
                </a:lnTo>
                <a:lnTo>
                  <a:pt x="1931" y="152"/>
                </a:lnTo>
                <a:lnTo>
                  <a:pt x="1914" y="169"/>
                </a:lnTo>
                <a:lnTo>
                  <a:pt x="1880" y="169"/>
                </a:lnTo>
                <a:lnTo>
                  <a:pt x="1863" y="169"/>
                </a:lnTo>
                <a:lnTo>
                  <a:pt x="1829" y="186"/>
                </a:lnTo>
                <a:lnTo>
                  <a:pt x="1779" y="186"/>
                </a:lnTo>
                <a:lnTo>
                  <a:pt x="1728" y="186"/>
                </a:lnTo>
                <a:lnTo>
                  <a:pt x="1677" y="186"/>
                </a:lnTo>
                <a:lnTo>
                  <a:pt x="1609" y="186"/>
                </a:lnTo>
                <a:lnTo>
                  <a:pt x="1524" y="186"/>
                </a:lnTo>
                <a:lnTo>
                  <a:pt x="1372" y="186"/>
                </a:lnTo>
                <a:lnTo>
                  <a:pt x="1219" y="203"/>
                </a:lnTo>
                <a:lnTo>
                  <a:pt x="931" y="220"/>
                </a:lnTo>
                <a:lnTo>
                  <a:pt x="660" y="254"/>
                </a:lnTo>
                <a:lnTo>
                  <a:pt x="542" y="271"/>
                </a:lnTo>
                <a:lnTo>
                  <a:pt x="406" y="288"/>
                </a:lnTo>
                <a:lnTo>
                  <a:pt x="305" y="304"/>
                </a:lnTo>
                <a:lnTo>
                  <a:pt x="220" y="304"/>
                </a:lnTo>
                <a:lnTo>
                  <a:pt x="152" y="321"/>
                </a:lnTo>
                <a:lnTo>
                  <a:pt x="118" y="304"/>
                </a:lnTo>
                <a:lnTo>
                  <a:pt x="84" y="304"/>
                </a:lnTo>
                <a:lnTo>
                  <a:pt x="50" y="288"/>
                </a:lnTo>
                <a:lnTo>
                  <a:pt x="17" y="254"/>
                </a:lnTo>
                <a:lnTo>
                  <a:pt x="0" y="220"/>
                </a:lnTo>
                <a:lnTo>
                  <a:pt x="0" y="203"/>
                </a:lnTo>
                <a:lnTo>
                  <a:pt x="0" y="186"/>
                </a:lnTo>
                <a:lnTo>
                  <a:pt x="17" y="186"/>
                </a:lnTo>
                <a:lnTo>
                  <a:pt x="34" y="186"/>
                </a:lnTo>
                <a:lnTo>
                  <a:pt x="50" y="186"/>
                </a:lnTo>
                <a:lnTo>
                  <a:pt x="84" y="186"/>
                </a:lnTo>
                <a:lnTo>
                  <a:pt x="135" y="186"/>
                </a:lnTo>
                <a:lnTo>
                  <a:pt x="186" y="169"/>
                </a:lnTo>
                <a:lnTo>
                  <a:pt x="237" y="169"/>
                </a:lnTo>
                <a:lnTo>
                  <a:pt x="322" y="169"/>
                </a:lnTo>
                <a:lnTo>
                  <a:pt x="491" y="152"/>
                </a:lnTo>
                <a:lnTo>
                  <a:pt x="677" y="136"/>
                </a:lnTo>
                <a:lnTo>
                  <a:pt x="779" y="119"/>
                </a:lnTo>
                <a:lnTo>
                  <a:pt x="898" y="102"/>
                </a:lnTo>
                <a:lnTo>
                  <a:pt x="1016" y="85"/>
                </a:lnTo>
                <a:lnTo>
                  <a:pt x="1135" y="68"/>
                </a:lnTo>
                <a:lnTo>
                  <a:pt x="1270" y="51"/>
                </a:lnTo>
                <a:lnTo>
                  <a:pt x="1372" y="34"/>
                </a:lnTo>
                <a:lnTo>
                  <a:pt x="1474" y="17"/>
                </a:lnTo>
                <a:lnTo>
                  <a:pt x="1541" y="17"/>
                </a:lnTo>
                <a:lnTo>
                  <a:pt x="1609" y="0"/>
                </a:lnTo>
                <a:lnTo>
                  <a:pt x="1660" y="0"/>
                </a:lnTo>
                <a:lnTo>
                  <a:pt x="1677" y="0"/>
                </a:lnTo>
                <a:lnTo>
                  <a:pt x="1694" y="0"/>
                </a:lnTo>
                <a:lnTo>
                  <a:pt x="1728" y="0"/>
                </a:lnTo>
                <a:lnTo>
                  <a:pt x="1762" y="0"/>
                </a:lnTo>
                <a:lnTo>
                  <a:pt x="1796" y="17"/>
                </a:lnTo>
                <a:lnTo>
                  <a:pt x="1846" y="5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51" name="Freeform 40"/>
          <p:cNvSpPr/>
          <p:nvPr/>
        </p:nvSpPr>
        <p:spPr>
          <a:xfrm>
            <a:off x="2300760" y="2768400"/>
            <a:ext cx="136440" cy="723600"/>
          </a:xfrm>
          <a:custGeom>
            <a:avLst/>
            <a:gdLst>
              <a:gd name="textAreaLeft" fmla="*/ 0 w 136440"/>
              <a:gd name="textAreaRight" fmla="*/ 136800 w 1364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288" h="1520">
                <a:moveTo>
                  <a:pt x="0" y="0"/>
                </a:moveTo>
                <a:lnTo>
                  <a:pt x="68" y="17"/>
                </a:lnTo>
                <a:lnTo>
                  <a:pt x="119" y="33"/>
                </a:lnTo>
                <a:lnTo>
                  <a:pt x="170" y="50"/>
                </a:lnTo>
                <a:lnTo>
                  <a:pt x="203" y="67"/>
                </a:lnTo>
                <a:lnTo>
                  <a:pt x="237" y="84"/>
                </a:lnTo>
                <a:lnTo>
                  <a:pt x="271" y="101"/>
                </a:lnTo>
                <a:lnTo>
                  <a:pt x="271" y="118"/>
                </a:lnTo>
                <a:lnTo>
                  <a:pt x="288" y="118"/>
                </a:lnTo>
                <a:lnTo>
                  <a:pt x="288" y="152"/>
                </a:lnTo>
                <a:lnTo>
                  <a:pt x="288" y="169"/>
                </a:lnTo>
                <a:lnTo>
                  <a:pt x="288" y="202"/>
                </a:lnTo>
                <a:lnTo>
                  <a:pt x="288" y="253"/>
                </a:lnTo>
                <a:lnTo>
                  <a:pt x="288" y="304"/>
                </a:lnTo>
                <a:lnTo>
                  <a:pt x="288" y="371"/>
                </a:lnTo>
                <a:lnTo>
                  <a:pt x="288" y="456"/>
                </a:lnTo>
                <a:lnTo>
                  <a:pt x="288" y="540"/>
                </a:lnTo>
                <a:lnTo>
                  <a:pt x="288" y="726"/>
                </a:lnTo>
                <a:lnTo>
                  <a:pt x="271" y="895"/>
                </a:lnTo>
                <a:lnTo>
                  <a:pt x="271" y="1064"/>
                </a:lnTo>
                <a:lnTo>
                  <a:pt x="271" y="1216"/>
                </a:lnTo>
                <a:lnTo>
                  <a:pt x="254" y="1284"/>
                </a:lnTo>
                <a:lnTo>
                  <a:pt x="254" y="1351"/>
                </a:lnTo>
                <a:lnTo>
                  <a:pt x="254" y="1402"/>
                </a:lnTo>
                <a:lnTo>
                  <a:pt x="237" y="1436"/>
                </a:lnTo>
                <a:lnTo>
                  <a:pt x="237" y="1470"/>
                </a:lnTo>
                <a:lnTo>
                  <a:pt x="220" y="1503"/>
                </a:lnTo>
                <a:lnTo>
                  <a:pt x="220" y="1520"/>
                </a:lnTo>
                <a:lnTo>
                  <a:pt x="203" y="1520"/>
                </a:lnTo>
                <a:lnTo>
                  <a:pt x="186" y="1503"/>
                </a:lnTo>
                <a:lnTo>
                  <a:pt x="170" y="1470"/>
                </a:lnTo>
                <a:lnTo>
                  <a:pt x="153" y="1436"/>
                </a:lnTo>
                <a:lnTo>
                  <a:pt x="136" y="1419"/>
                </a:lnTo>
                <a:lnTo>
                  <a:pt x="136" y="1368"/>
                </a:lnTo>
                <a:lnTo>
                  <a:pt x="119" y="1301"/>
                </a:lnTo>
                <a:lnTo>
                  <a:pt x="119" y="1233"/>
                </a:lnTo>
                <a:lnTo>
                  <a:pt x="119" y="1132"/>
                </a:lnTo>
                <a:lnTo>
                  <a:pt x="102" y="1030"/>
                </a:lnTo>
                <a:lnTo>
                  <a:pt x="102" y="895"/>
                </a:lnTo>
                <a:lnTo>
                  <a:pt x="102" y="760"/>
                </a:lnTo>
                <a:lnTo>
                  <a:pt x="102" y="608"/>
                </a:lnTo>
                <a:lnTo>
                  <a:pt x="102" y="490"/>
                </a:lnTo>
                <a:lnTo>
                  <a:pt x="85" y="371"/>
                </a:lnTo>
                <a:lnTo>
                  <a:pt x="85" y="270"/>
                </a:lnTo>
                <a:lnTo>
                  <a:pt x="68" y="185"/>
                </a:lnTo>
                <a:lnTo>
                  <a:pt x="51" y="101"/>
                </a:lnTo>
                <a:lnTo>
                  <a:pt x="34" y="5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7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2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7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2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矩形 25"/>
          <p:cNvSpPr/>
          <p:nvPr/>
        </p:nvSpPr>
        <p:spPr>
          <a:xfrm>
            <a:off x="930240" y="1396800"/>
            <a:ext cx="3501360" cy="398520"/>
          </a:xfrm>
          <a:prstGeom prst="flowChartTerminator">
            <a:avLst/>
          </a:prstGeom>
          <a:solidFill>
            <a:schemeClr val="bg1"/>
          </a:solidFill>
          <a:ln w="9525">
            <a:solidFill>
              <a:srgbClr val="f37f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课文主要讲了一件什么事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7"/>
          <p:cNvSpPr/>
          <p:nvPr/>
        </p:nvSpPr>
        <p:spPr>
          <a:xfrm>
            <a:off x="946800" y="2199240"/>
            <a:ext cx="74242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这篇课文叙述了小马驮麦子去磨坊，路上要过一条小河，老牛说水很浅，可以过去，松鼠说水很深，他的伙伴昨天刚被淹死，不能过。小马没了主意，只好跑回去问妈妈，妈妈要他亲自去试一试。小马又回到了河边自己过了河。原来河水既不像老牛说的那样浅，也不像松鼠说得那样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云形 1"/>
          <p:cNvSpPr/>
          <p:nvPr/>
        </p:nvSpPr>
        <p:spPr>
          <a:xfrm>
            <a:off x="1324080" y="1563120"/>
            <a:ext cx="1079640" cy="486000"/>
          </a:xfrm>
          <a:prstGeom prst="cloud">
            <a:avLst/>
          </a:prstGeom>
          <a:noFill/>
          <a:ln>
            <a:solidFill>
              <a:srgbClr val="f37f1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457" name="圆角矩形 8"/>
          <p:cNvSpPr/>
          <p:nvPr/>
        </p:nvSpPr>
        <p:spPr>
          <a:xfrm>
            <a:off x="840240" y="1102680"/>
            <a:ext cx="7463520" cy="417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45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有一天，老马对小马说：“你已经长大了，能帮妈妈做点儿事吗？”小马连蹦带跳地说：“怎么不能？我很愿意帮您做事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"/>
          <p:cNvSpPr/>
          <p:nvPr/>
        </p:nvSpPr>
        <p:spPr>
          <a:xfrm>
            <a:off x="840240" y="2192760"/>
            <a:ext cx="7521120" cy="387720"/>
          </a:xfrm>
          <a:prstGeom prst="plaque">
            <a:avLst>
              <a:gd name="adj" fmla="val 0"/>
            </a:avLst>
          </a:prstGeom>
          <a:noFill/>
          <a:ln w="0">
            <a:solidFill>
              <a:srgbClr val="f37f1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连蹦带跳”表明小马非常的乐意帮妈妈做事情，也可以看出它是一个非常懂事的孩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0" name="缺角矩形 45"/>
          <p:cNvSpPr/>
          <p:nvPr/>
        </p:nvSpPr>
        <p:spPr>
          <a:xfrm>
            <a:off x="3663000" y="2664720"/>
            <a:ext cx="3333240" cy="515520"/>
          </a:xfrm>
          <a:prstGeom prst="plaque">
            <a:avLst>
              <a:gd name="adj" fmla="val 16667"/>
            </a:avLst>
          </a:prstGeom>
          <a:noFill/>
          <a:ln>
            <a:solidFill>
              <a:srgbClr val="f37f1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461" name="矩形 46"/>
          <p:cNvSpPr/>
          <p:nvPr/>
        </p:nvSpPr>
        <p:spPr>
          <a:xfrm>
            <a:off x="848880" y="2749320"/>
            <a:ext cx="65739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老马高兴地说：“那好啊，你把这半口袋麦子驮到磨坊去吧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47"/>
          <p:cNvSpPr/>
          <p:nvPr/>
        </p:nvSpPr>
        <p:spPr>
          <a:xfrm>
            <a:off x="848880" y="3358080"/>
            <a:ext cx="3824640" cy="43020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f37f1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16000">
              <a:lnSpc>
                <a:spcPct val="150000"/>
              </a:lnSpc>
              <a:buSzPct val="100058"/>
              <a:buBlip>
                <a:blip r:embed="rId1"/>
              </a:buBlip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高兴”说明妈妈因小马乐意帮妈妈做事，她感到非常的欣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50"/>
          <p:cNvSpPr/>
          <p:nvPr/>
        </p:nvSpPr>
        <p:spPr>
          <a:xfrm>
            <a:off x="7315920" y="2749320"/>
            <a:ext cx="1256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语言描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78"/>
          <p:cNvSpPr/>
          <p:nvPr/>
        </p:nvSpPr>
        <p:spPr>
          <a:xfrm>
            <a:off x="4790520" y="3442320"/>
            <a:ext cx="3503880" cy="430200"/>
          </a:xfrm>
          <a:prstGeom prst="wedgeRoundRectCallout">
            <a:avLst>
              <a:gd name="adj1" fmla="val -25935"/>
              <a:gd name="adj2" fmla="val -128619"/>
              <a:gd name="adj3" fmla="val 16667"/>
            </a:avLst>
          </a:prstGeom>
          <a:noFill/>
          <a:ln w="38100">
            <a:solidFill>
              <a:srgbClr val="f37f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这句话概括地写出了小马过河的原因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8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2"/>
          <p:cNvSpPr/>
          <p:nvPr/>
        </p:nvSpPr>
        <p:spPr>
          <a:xfrm>
            <a:off x="3963240" y="1338480"/>
            <a:ext cx="2336760" cy="344880"/>
          </a:xfrm>
          <a:prstGeom prst="rect">
            <a:avLst/>
          </a:prstGeom>
          <a:noFill/>
          <a:ln>
            <a:solidFill>
              <a:srgbClr val="f37f10"/>
            </a:solidFill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等线"/>
              </a:rPr>
              <a:t>一条小河挡住了去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7"/>
          <p:cNvGrpSpPr/>
          <p:nvPr/>
        </p:nvGrpSpPr>
        <p:grpSpPr>
          <a:xfrm>
            <a:off x="666720" y="1244880"/>
            <a:ext cx="3078720" cy="1186560"/>
            <a:chOff x="666720" y="1244880"/>
            <a:chExt cx="3078720" cy="1186560"/>
          </a:xfrm>
        </p:grpSpPr>
        <p:sp>
          <p:nvSpPr>
            <p:cNvPr id="467" name="云形标注 8"/>
            <p:cNvSpPr/>
            <p:nvPr/>
          </p:nvSpPr>
          <p:spPr>
            <a:xfrm>
              <a:off x="666720" y="1244880"/>
              <a:ext cx="3078720" cy="1186560"/>
            </a:xfrm>
            <a:prstGeom prst="cloudCallout">
              <a:avLst>
                <a:gd name="adj1" fmla="val 65192"/>
                <a:gd name="adj2" fmla="val -13604"/>
              </a:avLst>
            </a:prstGeom>
            <a:noFill/>
            <a:ln>
              <a:solidFill>
                <a:srgbClr val="f37f10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68" name="TextBox 4"/>
            <p:cNvSpPr/>
            <p:nvPr/>
          </p:nvSpPr>
          <p:spPr>
            <a:xfrm>
              <a:off x="1127880" y="1338480"/>
              <a:ext cx="2617560" cy="69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我能不能过去呢？如果妈妈在身边，问问她该怎么办，那多好啊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TextBox 6"/>
          <p:cNvSpPr/>
          <p:nvPr/>
        </p:nvSpPr>
        <p:spPr>
          <a:xfrm>
            <a:off x="3963240" y="1825200"/>
            <a:ext cx="4621320" cy="344880"/>
          </a:xfrm>
          <a:prstGeom prst="rect">
            <a:avLst/>
          </a:prstGeom>
          <a:noFill/>
          <a:ln w="9525">
            <a:solidFill>
              <a:srgbClr val="f37f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心理描写，小马依赖妈妈，做事情没主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71" name="组合 47"/>
          <p:cNvGrpSpPr/>
          <p:nvPr/>
        </p:nvGrpSpPr>
        <p:grpSpPr>
          <a:xfrm>
            <a:off x="3851280" y="2965680"/>
            <a:ext cx="2919600" cy="1071720"/>
            <a:chOff x="3851280" y="2965680"/>
            <a:chExt cx="2919600" cy="1071720"/>
          </a:xfrm>
        </p:grpSpPr>
        <p:sp>
          <p:nvSpPr>
            <p:cNvPr id="472" name="圆角矩形标注 10"/>
            <p:cNvSpPr/>
            <p:nvPr/>
          </p:nvSpPr>
          <p:spPr>
            <a:xfrm>
              <a:off x="3851280" y="2965680"/>
              <a:ext cx="2919600" cy="1071720"/>
            </a:xfrm>
            <a:prstGeom prst="wedgeRoundRectCallout">
              <a:avLst>
                <a:gd name="adj1" fmla="val -14123"/>
                <a:gd name="adj2" fmla="val 76148"/>
                <a:gd name="adj3" fmla="val 16667"/>
              </a:avLst>
            </a:prstGeom>
            <a:noFill/>
            <a:ln>
              <a:solidFill>
                <a:srgbClr val="f37f10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5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73" name="TextBox 11"/>
            <p:cNvSpPr/>
            <p:nvPr/>
          </p:nvSpPr>
          <p:spPr>
            <a:xfrm>
              <a:off x="3912120" y="3011400"/>
              <a:ext cx="279792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牛伯伯，请您告诉我，这条河，我能蹚过去吗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组合 50"/>
          <p:cNvGrpSpPr/>
          <p:nvPr/>
        </p:nvGrpSpPr>
        <p:grpSpPr>
          <a:xfrm>
            <a:off x="791640" y="3029760"/>
            <a:ext cx="2592720" cy="917640"/>
            <a:chOff x="791640" y="3029760"/>
            <a:chExt cx="2592720" cy="917640"/>
          </a:xfrm>
        </p:grpSpPr>
        <p:sp>
          <p:nvSpPr>
            <p:cNvPr id="475" name="圆角矩形标注 13"/>
            <p:cNvSpPr/>
            <p:nvPr/>
          </p:nvSpPr>
          <p:spPr>
            <a:xfrm>
              <a:off x="791640" y="3029760"/>
              <a:ext cx="2592720" cy="917640"/>
            </a:xfrm>
            <a:prstGeom prst="wedgeRoundRectCallout">
              <a:avLst>
                <a:gd name="adj1" fmla="val -7414"/>
                <a:gd name="adj2" fmla="val 64815"/>
                <a:gd name="adj3" fmla="val 16667"/>
              </a:avLst>
            </a:prstGeom>
            <a:noFill/>
            <a:ln w="38100">
              <a:solidFill>
                <a:srgbClr val="f37f10"/>
              </a:solidFill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76" name="TextBox 14"/>
            <p:cNvSpPr/>
            <p:nvPr/>
          </p:nvSpPr>
          <p:spPr>
            <a:xfrm>
              <a:off x="904320" y="3029760"/>
              <a:ext cx="2198520" cy="501120"/>
            </a:xfrm>
            <a:prstGeom prst="rect">
              <a:avLst/>
            </a:prstGeom>
            <a:noFill/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水很浅，刚没小腿，能蹚过去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Box 15"/>
          <p:cNvSpPr/>
          <p:nvPr/>
        </p:nvSpPr>
        <p:spPr>
          <a:xfrm>
            <a:off x="7025400" y="3153960"/>
            <a:ext cx="1388880" cy="52956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525">
            <a:solidFill>
              <a:srgbClr val="f37f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有礼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8" name="直接连接符 81"/>
          <p:cNvCxnSpPr/>
          <p:nvPr/>
        </p:nvCxnSpPr>
        <p:spPr>
          <a:xfrm>
            <a:off x="904320" y="3497760"/>
            <a:ext cx="2059560" cy="7920"/>
          </a:xfrm>
          <a:prstGeom prst="straightConnector1">
            <a:avLst/>
          </a:prstGeom>
          <a:ln w="28575">
            <a:solidFill>
              <a:srgbClr val="f37f10"/>
            </a:solidFill>
          </a:ln>
        </p:spPr>
      </p:cxnSp>
    </p:spTree>
  </p:cSld>
  <p:transition spd="slow">
    <p:fade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5"/>
          <p:cNvSpPr/>
          <p:nvPr/>
        </p:nvSpPr>
        <p:spPr>
          <a:xfrm>
            <a:off x="922680" y="1773720"/>
            <a:ext cx="41234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同学们，这匹小马想要过河，可是有个问题难住他了——这条河水深不深？你们猜猜看，小马最后解决这个问题了没有？他成功地过河了吗？让我们一起去课文中看一看吧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0320" y="286560"/>
            <a:ext cx="2379600" cy="303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1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前导读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4" name="图片 58" descr="图片包含 户外, 水, 狗, 动物&#10;&#10;描述已自动生成"/>
          <p:cNvPicPr/>
          <p:nvPr/>
        </p:nvPicPr>
        <p:blipFill>
          <a:blip r:embed="rId1"/>
          <a:stretch/>
        </p:blipFill>
        <p:spPr>
          <a:xfrm>
            <a:off x="5208840" y="1142640"/>
            <a:ext cx="3078720" cy="336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圆角矩形标注 1"/>
          <p:cNvSpPr/>
          <p:nvPr/>
        </p:nvSpPr>
        <p:spPr>
          <a:xfrm>
            <a:off x="952200" y="1200600"/>
            <a:ext cx="6436080" cy="312120"/>
          </a:xfrm>
          <a:prstGeom prst="wedgeRoundRectCallout">
            <a:avLst>
              <a:gd name="adj1" fmla="val -38102"/>
              <a:gd name="adj2" fmla="val 86721"/>
              <a:gd name="adj3" fmla="val 16667"/>
            </a:avLst>
          </a:prstGeom>
          <a:noFill/>
          <a:ln w="38100">
            <a:solidFill>
              <a:srgbClr val="f37f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突然”可以看出松鼠看到小马要过河很着急，急于要拦住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椭圆形标注 2"/>
          <p:cNvSpPr/>
          <p:nvPr/>
        </p:nvSpPr>
        <p:spPr>
          <a:xfrm>
            <a:off x="4589280" y="2298960"/>
            <a:ext cx="2808720" cy="579600"/>
          </a:xfrm>
          <a:prstGeom prst="wedgeEllipseCallout">
            <a:avLst>
              <a:gd name="adj1" fmla="val -38503"/>
              <a:gd name="adj2" fmla="val -63957"/>
            </a:avLst>
          </a:prstGeom>
          <a:noFill/>
          <a:ln>
            <a:solidFill>
              <a:srgbClr val="f37f10"/>
            </a:solidFill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等线"/>
              </a:rPr>
              <a:t>动作、语言描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3"/>
          <p:cNvSpPr/>
          <p:nvPr/>
        </p:nvSpPr>
        <p:spPr>
          <a:xfrm>
            <a:off x="864720" y="1752120"/>
            <a:ext cx="741384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突然从树上跳下一只松鼠，拦住他大叫：“小马！别过河，别过河，河水会淹死你的！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7"/>
          <p:cNvSpPr/>
          <p:nvPr/>
        </p:nvSpPr>
        <p:spPr>
          <a:xfrm>
            <a:off x="952200" y="3105360"/>
            <a:ext cx="7575480" cy="387720"/>
          </a:xfrm>
          <a:prstGeom prst="borderCallout1">
            <a:avLst>
              <a:gd name="adj1" fmla="val -5455"/>
              <a:gd name="adj2" fmla="val 20352"/>
              <a:gd name="adj3" fmla="val -232920"/>
              <a:gd name="adj4" fmla="val 24844"/>
            </a:avLst>
          </a:prstGeom>
          <a:noFill/>
          <a:ln w="38100">
            <a:solidFill>
              <a:srgbClr val="f37f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跳下、拦住”这是描写松鼠动作的词语，生动地写出了松鼠的急切、担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直接连接符 8"/>
          <p:cNvCxnSpPr/>
          <p:nvPr/>
        </p:nvCxnSpPr>
        <p:spPr>
          <a:xfrm flipH="1">
            <a:off x="2750400" y="2134440"/>
            <a:ext cx="1623960" cy="908280"/>
          </a:xfrm>
          <a:prstGeom prst="straightConnector1">
            <a:avLst/>
          </a:prstGeom>
          <a:ln w="38100">
            <a:solidFill>
              <a:srgbClr val="f37f10"/>
            </a:solidFill>
          </a:ln>
        </p:spPr>
      </p:cxnSp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85" name="组合 47"/>
          <p:cNvGrpSpPr/>
          <p:nvPr/>
        </p:nvGrpSpPr>
        <p:grpSpPr>
          <a:xfrm>
            <a:off x="5379120" y="3837240"/>
            <a:ext cx="1784160" cy="495360"/>
            <a:chOff x="5379120" y="3837240"/>
            <a:chExt cx="1784160" cy="495360"/>
          </a:xfrm>
        </p:grpSpPr>
        <p:sp>
          <p:nvSpPr>
            <p:cNvPr id="486" name="圆角矩形标注 5"/>
            <p:cNvSpPr/>
            <p:nvPr/>
          </p:nvSpPr>
          <p:spPr>
            <a:xfrm>
              <a:off x="5379120" y="3837240"/>
              <a:ext cx="1784160" cy="471960"/>
            </a:xfrm>
            <a:prstGeom prst="wedgeRoundRectCallout">
              <a:avLst>
                <a:gd name="adj1" fmla="val -13885"/>
                <a:gd name="adj2" fmla="val 88493"/>
                <a:gd name="adj3" fmla="val 16667"/>
              </a:avLst>
            </a:prstGeom>
            <a:noFill/>
            <a:ln>
              <a:solidFill>
                <a:srgbClr val="f37f10"/>
              </a:solidFill>
            </a:ln>
          </p:spPr>
          <p:style>
            <a:lnRef idx="1">
              <a:schemeClr val="accent5"/>
            </a:lnRef>
            <a:fillRef idx="2">
              <a:schemeClr val="accent5"/>
            </a:fillRef>
            <a:effectRef idx="1">
              <a:schemeClr val="accent5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87" name="TextBox 6"/>
            <p:cNvSpPr/>
            <p:nvPr/>
          </p:nvSpPr>
          <p:spPr>
            <a:xfrm>
              <a:off x="5440680" y="3891240"/>
              <a:ext cx="1599480" cy="441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10000"/>
                </a:lnSpc>
              </a:pPr>
              <a:r>
                <a:rPr b="0" lang="zh-CN" sz="21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水很深吗？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50"/>
          <p:cNvGrpSpPr/>
          <p:nvPr/>
        </p:nvGrpSpPr>
        <p:grpSpPr>
          <a:xfrm>
            <a:off x="1338120" y="3683160"/>
            <a:ext cx="3065400" cy="830520"/>
            <a:chOff x="1338120" y="3683160"/>
            <a:chExt cx="3065400" cy="830520"/>
          </a:xfrm>
        </p:grpSpPr>
        <p:sp>
          <p:nvSpPr>
            <p:cNvPr id="489" name="圆角矩形标注 8"/>
            <p:cNvSpPr/>
            <p:nvPr/>
          </p:nvSpPr>
          <p:spPr>
            <a:xfrm>
              <a:off x="1338120" y="3683160"/>
              <a:ext cx="3065400" cy="830520"/>
            </a:xfrm>
            <a:prstGeom prst="wedgeRoundRectCallout">
              <a:avLst>
                <a:gd name="adj1" fmla="val 64486"/>
                <a:gd name="adj2" fmla="val 9184"/>
                <a:gd name="adj3" fmla="val 16667"/>
              </a:avLst>
            </a:prstGeom>
            <a:noFill/>
            <a:ln>
              <a:solidFill>
                <a:srgbClr val="f37f10"/>
              </a:solidFill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490" name="TextBox 9"/>
            <p:cNvSpPr/>
            <p:nvPr/>
          </p:nvSpPr>
          <p:spPr>
            <a:xfrm>
              <a:off x="1461240" y="3735720"/>
              <a:ext cx="2847240" cy="432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500" spc="-1" strike="noStrike">
                  <a:solidFill>
                    <a:srgbClr val="000000"/>
                  </a:solidFill>
                  <a:latin typeface="思源黑体 CN Bold"/>
                  <a:ea typeface="思源黑体 CN Bold"/>
                </a:rPr>
                <a:t>深得很哩！昨天，我的一个伙伴就是掉在这条河里淹死的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文本框 2"/>
          <p:cNvSpPr/>
          <p:nvPr/>
        </p:nvSpPr>
        <p:spPr>
          <a:xfrm>
            <a:off x="957600" y="1253880"/>
            <a:ext cx="6288120" cy="367560"/>
          </a:xfrm>
          <a:prstGeom prst="plaque">
            <a:avLst>
              <a:gd name="adj" fmla="val 16667"/>
            </a:avLst>
          </a:prstGeom>
          <a:noFill/>
          <a:ln w="0">
            <a:solidFill>
              <a:srgbClr val="f37f1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思考：听了老牛和小松鼠完全相反的话，小马是什么反应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823320" y="1744200"/>
            <a:ext cx="752508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马连忙收住脚步，不知道怎么办才好。他叹了口气，说：“唉！还是回家问问妈妈吧！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直接连接符 1"/>
          <p:cNvCxnSpPr/>
          <p:nvPr/>
        </p:nvCxnSpPr>
        <p:spPr>
          <a:xfrm>
            <a:off x="1609560" y="2193840"/>
            <a:ext cx="4959360" cy="360"/>
          </a:xfrm>
          <a:prstGeom prst="straightConnector1">
            <a:avLst/>
          </a:prstGeom>
          <a:ln w="28575">
            <a:solidFill>
              <a:srgbClr val="ff0066"/>
            </a:solidFill>
          </a:ln>
        </p:spPr>
      </p:cxnSp>
      <p:sp>
        <p:nvSpPr>
          <p:cNvPr id="494" name="TextBox 10"/>
          <p:cNvSpPr/>
          <p:nvPr/>
        </p:nvSpPr>
        <p:spPr>
          <a:xfrm>
            <a:off x="3453120" y="2243880"/>
            <a:ext cx="2524680" cy="344880"/>
          </a:xfrm>
          <a:prstGeom prst="homePlate">
            <a:avLst>
              <a:gd name="adj" fmla="val 50000"/>
            </a:avLst>
          </a:prstGeom>
          <a:noFill/>
          <a:ln w="9525">
            <a:solidFill>
              <a:srgbClr val="f37f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犹豫不决、十分无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6" name="矩形 46"/>
          <p:cNvSpPr/>
          <p:nvPr/>
        </p:nvSpPr>
        <p:spPr>
          <a:xfrm>
            <a:off x="1251720" y="3818880"/>
            <a:ext cx="55854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难为情”说明小马回家见到妈妈自己也不好意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47"/>
          <p:cNvSpPr/>
          <p:nvPr/>
        </p:nvSpPr>
        <p:spPr>
          <a:xfrm>
            <a:off x="876240" y="3355560"/>
            <a:ext cx="4938480" cy="53352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68760" rIns="68760" tIns="68760" bIns="68760" anchor="b">
            <a:noAutofit/>
          </a:bodyPr>
          <a:p>
            <a:pPr indent="-216000">
              <a:lnSpc>
                <a:spcPct val="100000"/>
              </a:lnSpc>
              <a:buSzPct val="100058"/>
              <a:buBlip>
                <a:blip r:embed="rId1"/>
              </a:buBlip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难为情”说明了什么？省略号表明了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1"/>
          <p:cNvSpPr/>
          <p:nvPr/>
        </p:nvSpPr>
        <p:spPr>
          <a:xfrm>
            <a:off x="823320" y="2638440"/>
            <a:ext cx="7525080" cy="38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马甩甩尾巴，跑回家去。妈妈问他：“怎么回来啦？”小马难为情地说，“一条河挡住了去路，我……我过不去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49"/>
          <p:cNvSpPr/>
          <p:nvPr/>
        </p:nvSpPr>
        <p:spPr>
          <a:xfrm>
            <a:off x="3186720" y="4205880"/>
            <a:ext cx="2253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省略号表现了小马在回答妈妈的话时，吞吞吐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文本框 2"/>
          <p:cNvSpPr/>
          <p:nvPr/>
        </p:nvSpPr>
        <p:spPr>
          <a:xfrm>
            <a:off x="922320" y="1244880"/>
            <a:ext cx="7363800" cy="784440"/>
          </a:xfrm>
          <a:prstGeom prst="round2DiagRect">
            <a:avLst>
              <a:gd name="adj1" fmla="val 16667"/>
              <a:gd name="adj2" fmla="val 0"/>
            </a:avLst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妈妈说：“那么河水到底是深是浅呢？你仔细想过他们的话吗？”小马低下了头，说：“没……没想过。”妈妈亲切地对小马说：“孩子，光听别人说，自己不动脑筋，不去试试，是不行的。河水是深是浅，你去试一试就知道了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棱台 5"/>
          <p:cNvSpPr/>
          <p:nvPr/>
        </p:nvSpPr>
        <p:spPr>
          <a:xfrm>
            <a:off x="922320" y="2712960"/>
            <a:ext cx="2806200" cy="605520"/>
          </a:xfrm>
          <a:prstGeom prst="bevel">
            <a:avLst>
              <a:gd name="adj" fmla="val 12500"/>
            </a:avLst>
          </a:prstGeom>
          <a:noFill/>
          <a:ln w="0">
            <a:solidFill>
              <a:srgbClr val="f37f10"/>
            </a:solidFill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68760" rIns="68760" tIns="68760" bIns="68760" anchor="b">
            <a:noAutofit/>
          </a:bodyPr>
          <a:p>
            <a:pPr marL="257040" indent="-257040">
              <a:lnSpc>
                <a:spcPct val="90000"/>
              </a:lnSpc>
              <a:spcAft>
                <a:spcPts val="490"/>
              </a:spcAft>
              <a:buSzPct val="100058"/>
              <a:buBlip>
                <a:blip r:embed="rId1"/>
              </a:buBlip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妈妈的话是什么意思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3" name="文本框 45"/>
          <p:cNvSpPr/>
          <p:nvPr/>
        </p:nvSpPr>
        <p:spPr>
          <a:xfrm>
            <a:off x="893880" y="3477600"/>
            <a:ext cx="6451920" cy="784440"/>
          </a:xfrm>
          <a:prstGeom prst="roundRect">
            <a:avLst>
              <a:gd name="adj" fmla="val 16667"/>
            </a:avLst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是对别人说的话，要动脑筋思考，不能人云亦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二是当拿不定主意时，要去试一试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0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5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3"/>
          <p:cNvGrpSpPr/>
          <p:nvPr/>
        </p:nvGrpSpPr>
        <p:grpSpPr>
          <a:xfrm>
            <a:off x="958680" y="1085400"/>
            <a:ext cx="4630320" cy="946800"/>
            <a:chOff x="958680" y="1085400"/>
            <a:chExt cx="4630320" cy="946800"/>
          </a:xfrm>
        </p:grpSpPr>
        <p:pic>
          <p:nvPicPr>
            <p:cNvPr id="505" name="图片 2" descr="图片11"/>
            <p:cNvPicPr/>
            <p:nvPr/>
          </p:nvPicPr>
          <p:blipFill>
            <a:blip r:embed="rId1"/>
            <a:stretch/>
          </p:blipFill>
          <p:spPr>
            <a:xfrm>
              <a:off x="958680" y="1085400"/>
              <a:ext cx="4630320" cy="9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文本框 1"/>
            <p:cNvSpPr/>
            <p:nvPr/>
          </p:nvSpPr>
          <p:spPr>
            <a:xfrm>
              <a:off x="958680" y="1451160"/>
              <a:ext cx="33372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100" spc="-1" strike="noStrike">
                  <a:solidFill>
                    <a:srgbClr val="ffffff"/>
                  </a:solidFill>
                  <a:latin typeface="思源黑体 CN Bold"/>
                  <a:ea typeface="思源黑体 CN Bold"/>
                </a:rPr>
                <a:t>结果河水到底是深还是浅？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文本框 5"/>
          <p:cNvSpPr/>
          <p:nvPr/>
        </p:nvSpPr>
        <p:spPr>
          <a:xfrm>
            <a:off x="1013760" y="1963080"/>
            <a:ext cx="7226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他下了河，小心地蹚到了对岸。原来河水既不像老牛说的那样浅，也不像松鼠说的那样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对角圆角矩形 7"/>
          <p:cNvSpPr/>
          <p:nvPr/>
        </p:nvSpPr>
        <p:spPr>
          <a:xfrm>
            <a:off x="1013760" y="3503520"/>
            <a:ext cx="7226640" cy="430200"/>
          </a:xfrm>
          <a:prstGeom prst="round2DiagRect">
            <a:avLst>
              <a:gd name="adj1" fmla="val 16667"/>
              <a:gd name="adj2" fmla="val 0"/>
            </a:avLst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马真正明白了老牛和松鼠说的话不同的原因，因为他们都是站在自己的立场上，根据自己的身高来说的。这说明凡事不能只听别人说，要亲自试一试才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8"/>
          <p:cNvSpPr/>
          <p:nvPr/>
        </p:nvSpPr>
        <p:spPr>
          <a:xfrm>
            <a:off x="1718640" y="2977560"/>
            <a:ext cx="1500480" cy="375480"/>
          </a:xfrm>
          <a:prstGeom prst="frame">
            <a:avLst>
              <a:gd name="adj1" fmla="val 12500"/>
            </a:avLst>
          </a:prstGeom>
          <a:solidFill>
            <a:srgbClr val="ec67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马最后明白了什么道理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3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文精讲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文本框 99"/>
          <p:cNvSpPr/>
          <p:nvPr/>
        </p:nvSpPr>
        <p:spPr>
          <a:xfrm>
            <a:off x="694800" y="943560"/>
            <a:ext cx="3194640" cy="2599200"/>
          </a:xfrm>
          <a:prstGeom prst="plaque">
            <a:avLst>
              <a:gd name="adj" fmla="val 16667"/>
            </a:avLst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冬夜读书示子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陆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古人学问无遗力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少壮工夫老始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纸上得来终觉浅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绝知此事要躬行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90320" y="286560"/>
            <a:ext cx="2379600" cy="303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4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3" name="文本框 42"/>
          <p:cNvSpPr/>
          <p:nvPr/>
        </p:nvSpPr>
        <p:spPr>
          <a:xfrm>
            <a:off x="4116600" y="1662840"/>
            <a:ext cx="3941280" cy="430200"/>
          </a:xfrm>
          <a:prstGeom prst="round2DiagRect">
            <a:avLst>
              <a:gd name="adj1" fmla="val 16667"/>
              <a:gd name="adj2" fmla="val 0"/>
            </a:avLst>
          </a:prstGeom>
          <a:noFill/>
          <a:ln w="0">
            <a:solidFill>
              <a:srgbClr val="f37f1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spcBef>
                <a:spcPts val="281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本文讲的是小马要帮妈妈把麦子驮到磨坊，可是路上遇到了一条河，因不知水的深浅而不敢过河，后来他在老马的教导下过了河的故事，告诉我们：遇事要自己动脑筋，想办法，亲自去尝试，才会有正确的认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文本框 99"/>
          <p:cNvSpPr/>
          <p:nvPr/>
        </p:nvSpPr>
        <p:spPr>
          <a:xfrm>
            <a:off x="4638240" y="2028960"/>
            <a:ext cx="4505400" cy="134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路遥知马力，日久见人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人怕理，马怕鞭，蚊虫怕火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马不打不奔，人不激不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好马不吃回头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1"/>
          <p:cNvSpPr/>
          <p:nvPr/>
        </p:nvSpPr>
        <p:spPr>
          <a:xfrm>
            <a:off x="5626080" y="1637640"/>
            <a:ext cx="3488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【与马有关的谚语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4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7" name="文本框 45"/>
          <p:cNvSpPr/>
          <p:nvPr/>
        </p:nvSpPr>
        <p:spPr>
          <a:xfrm>
            <a:off x="865440" y="1907280"/>
            <a:ext cx="3430800" cy="387720"/>
          </a:xfrm>
          <a:prstGeom prst="rect">
            <a:avLst/>
          </a:prstGeom>
          <a:noFill/>
          <a:ln w="9525">
            <a:solidFill>
              <a:srgbClr val="f37f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一条小河，一句鼓励，一次尝试，小马在实践中获得了宝贵的经验。生活中，我们也会遇到无数条这样的小河，我们应该： 学着多动脑筋，多想办法，不要只听信他人，自己要勇于实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6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左大括号 7"/>
          <p:cNvSpPr/>
          <p:nvPr/>
        </p:nvSpPr>
        <p:spPr>
          <a:xfrm>
            <a:off x="2754720" y="1679400"/>
            <a:ext cx="280800" cy="2256480"/>
          </a:xfrm>
          <a:prstGeom prst="leftBrace">
            <a:avLst>
              <a:gd name="adj1" fmla="val 80725"/>
              <a:gd name="adj2" fmla="val 50000"/>
            </a:avLst>
          </a:prstGeom>
          <a:noFill/>
          <a:ln w="38100">
            <a:solidFill>
              <a:srgbClr val="f37f10"/>
            </a:solidFill>
          </a:ln>
        </p:spPr>
        <p:style>
          <a:lnRef idx="1">
            <a:schemeClr val="accent3"/>
          </a:lnRef>
          <a:fillRef idx="0">
            <a:schemeClr val="accent3"/>
          </a:fillRef>
          <a:effectRef idx="0">
            <a:schemeClr val="accent3"/>
          </a:effectRef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519" name="TextBox 2"/>
          <p:cNvSpPr/>
          <p:nvPr/>
        </p:nvSpPr>
        <p:spPr>
          <a:xfrm>
            <a:off x="3139920" y="1887120"/>
            <a:ext cx="752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老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右箭头 10"/>
          <p:cNvSpPr/>
          <p:nvPr/>
        </p:nvSpPr>
        <p:spPr>
          <a:xfrm>
            <a:off x="3970080" y="1998000"/>
            <a:ext cx="593640" cy="20196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f37f1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4679280" y="1902240"/>
            <a:ext cx="995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水很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5"/>
          <p:cNvSpPr/>
          <p:nvPr/>
        </p:nvSpPr>
        <p:spPr>
          <a:xfrm>
            <a:off x="3180240" y="2631240"/>
            <a:ext cx="7534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松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右箭头 13"/>
          <p:cNvSpPr/>
          <p:nvPr/>
        </p:nvSpPr>
        <p:spPr>
          <a:xfrm>
            <a:off x="3970080" y="2752560"/>
            <a:ext cx="593640" cy="20088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f37f1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524" name="TextBox 7"/>
          <p:cNvSpPr/>
          <p:nvPr/>
        </p:nvSpPr>
        <p:spPr>
          <a:xfrm>
            <a:off x="4636440" y="2646720"/>
            <a:ext cx="9950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水很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8"/>
          <p:cNvSpPr/>
          <p:nvPr/>
        </p:nvSpPr>
        <p:spPr>
          <a:xfrm>
            <a:off x="3155760" y="3360240"/>
            <a:ext cx="75348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妈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右箭头 24"/>
          <p:cNvSpPr/>
          <p:nvPr/>
        </p:nvSpPr>
        <p:spPr>
          <a:xfrm>
            <a:off x="3970080" y="3481920"/>
            <a:ext cx="593640" cy="20088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f37f1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sp>
        <p:nvSpPr>
          <p:cNvPr id="527" name="TextBox 10"/>
          <p:cNvSpPr/>
          <p:nvPr/>
        </p:nvSpPr>
        <p:spPr>
          <a:xfrm>
            <a:off x="4476600" y="3400920"/>
            <a:ext cx="133416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去试一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左大括号 28"/>
          <p:cNvSpPr/>
          <p:nvPr/>
        </p:nvSpPr>
        <p:spPr>
          <a:xfrm rot="10800000">
            <a:off x="5895000" y="1714680"/>
            <a:ext cx="242640" cy="2187000"/>
          </a:xfrm>
          <a:prstGeom prst="leftBrace">
            <a:avLst>
              <a:gd name="adj1" fmla="val 80725"/>
              <a:gd name="adj2" fmla="val 50000"/>
            </a:avLst>
          </a:prstGeom>
          <a:noFill/>
          <a:ln w="44450">
            <a:solidFill>
              <a:srgbClr val="f37f10"/>
            </a:solidFill>
          </a:ln>
        </p:spPr>
        <p:style>
          <a:lnRef idx="1">
            <a:schemeClr val="accent3"/>
          </a:lnRef>
          <a:fillRef idx="0">
            <a:schemeClr val="accent3"/>
          </a:fillRef>
          <a:effectRef idx="0">
            <a:schemeClr val="accent3"/>
          </a:effectRef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529" name="TextBox 5"/>
          <p:cNvSpPr/>
          <p:nvPr/>
        </p:nvSpPr>
        <p:spPr>
          <a:xfrm>
            <a:off x="1179000" y="2599560"/>
            <a:ext cx="136152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小马过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5"/>
          <p:cNvSpPr/>
          <p:nvPr/>
        </p:nvSpPr>
        <p:spPr>
          <a:xfrm>
            <a:off x="6481800" y="2412720"/>
            <a:ext cx="1361520" cy="477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遇事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动脑思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4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0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17"/>
          <p:cNvSpPr/>
          <p:nvPr/>
        </p:nvSpPr>
        <p:spPr>
          <a:xfrm>
            <a:off x="726120" y="1499400"/>
            <a:ext cx="8251200" cy="22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、根据课文内容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河水既不像老牛说的那样（   ），也不像松鼠说的那样（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小马驮着口袋，（      ）地往磨坊跑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小马听了松鼠的话，（    ）收住脚步。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"/>
          <p:cNvSpPr/>
          <p:nvPr/>
        </p:nvSpPr>
        <p:spPr>
          <a:xfrm>
            <a:off x="4606560" y="2367720"/>
            <a:ext cx="333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2"/>
          <p:cNvSpPr/>
          <p:nvPr/>
        </p:nvSpPr>
        <p:spPr>
          <a:xfrm>
            <a:off x="8030520" y="236772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3"/>
          <p:cNvSpPr/>
          <p:nvPr/>
        </p:nvSpPr>
        <p:spPr>
          <a:xfrm>
            <a:off x="3637800" y="300996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飞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5"/>
          <p:cNvSpPr/>
          <p:nvPr/>
        </p:nvSpPr>
        <p:spPr>
          <a:xfrm>
            <a:off x="3976200" y="3422880"/>
            <a:ext cx="8398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连忙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90320" y="286560"/>
            <a:ext cx="2379600" cy="303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5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堂练习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17"/>
          <p:cNvSpPr/>
          <p:nvPr/>
        </p:nvSpPr>
        <p:spPr>
          <a:xfrm>
            <a:off x="838440" y="1359720"/>
            <a:ext cx="749736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二、选词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突然    虽然     果然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天气预报说下午有雨，刚吃完午饭，大雨（       ）哗哗地下起来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弟弟（        ）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岁，可他自己的事情自己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草丛中（         ）钻出一只野鸡，吓了妹妹一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"/>
          <p:cNvSpPr/>
          <p:nvPr/>
        </p:nvSpPr>
        <p:spPr>
          <a:xfrm>
            <a:off x="6725520" y="242388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果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2"/>
          <p:cNvSpPr/>
          <p:nvPr/>
        </p:nvSpPr>
        <p:spPr>
          <a:xfrm>
            <a:off x="2415240" y="3364920"/>
            <a:ext cx="352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虽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9"/>
          <p:cNvSpPr/>
          <p:nvPr/>
        </p:nvSpPr>
        <p:spPr>
          <a:xfrm>
            <a:off x="2792880" y="3737520"/>
            <a:ext cx="352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突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5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堂练习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2" descr="图片包含 户外, 水, 狗, 动物&#10;&#10;描述已自动生成"/>
          <p:cNvPicPr/>
          <p:nvPr/>
        </p:nvPicPr>
        <p:blipFill>
          <a:blip r:embed="rId1"/>
          <a:stretch/>
        </p:blipFill>
        <p:spPr>
          <a:xfrm flipH="1">
            <a:off x="360" y="-12960"/>
            <a:ext cx="4730400" cy="5169240"/>
          </a:xfrm>
          <a:prstGeom prst="rect">
            <a:avLst/>
          </a:prstGeom>
          <a:ln w="0">
            <a:noFill/>
          </a:ln>
        </p:spPr>
      </p:pic>
      <p:sp>
        <p:nvSpPr>
          <p:cNvPr id="544" name="任意多边形 8"/>
          <p:cNvSpPr/>
          <p:nvPr/>
        </p:nvSpPr>
        <p:spPr>
          <a:xfrm>
            <a:off x="3510360" y="0"/>
            <a:ext cx="5653440" cy="5156280"/>
          </a:xfrm>
          <a:custGeom>
            <a:avLst/>
            <a:gdLst>
              <a:gd name="textAreaLeft" fmla="*/ 0 w 5653440"/>
              <a:gd name="textAreaRight" fmla="*/ 5653800 w 5653440"/>
              <a:gd name="textAreaTop" fmla="*/ 0 h 5156280"/>
              <a:gd name="textAreaBottom" fmla="*/ 5156640 h 5156280"/>
            </a:gdLst>
            <a:ahLst/>
            <a:rect l="textAreaLeft" t="textAreaTop" r="textAreaRight" b="textAreaBottom"/>
            <a:pathLst>
              <a:path w="7538266" h="6858000">
                <a:moveTo>
                  <a:pt x="0" y="0"/>
                </a:moveTo>
                <a:lnTo>
                  <a:pt x="7538266" y="0"/>
                </a:lnTo>
                <a:lnTo>
                  <a:pt x="7538266" y="6858000"/>
                </a:lnTo>
                <a:lnTo>
                  <a:pt x="693537" y="6858000"/>
                </a:lnTo>
                <a:lnTo>
                  <a:pt x="703596" y="6836266"/>
                </a:lnTo>
                <a:cubicBezTo>
                  <a:pt x="1234611" y="5616365"/>
                  <a:pt x="1382502" y="4063556"/>
                  <a:pt x="1021405" y="2466986"/>
                </a:cubicBezTo>
                <a:cubicBezTo>
                  <a:pt x="818288" y="1568916"/>
                  <a:pt x="475756" y="752647"/>
                  <a:pt x="36177" y="54994"/>
                </a:cubicBezTo>
                <a:close/>
              </a:path>
            </a:pathLst>
          </a:custGeom>
          <a:solidFill>
            <a:schemeClr val="tx1">
              <a:lumMod val="85000"/>
              <a:lumOff val="15000"/>
            </a:schemeClr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bfbfb"/>
              </a:solidFill>
              <a:latin typeface="思源黑体 CN Bold"/>
              <a:ea typeface="思源黑体 CN Bold"/>
            </a:endParaRPr>
          </a:p>
        </p:txBody>
      </p:sp>
      <p:sp>
        <p:nvSpPr>
          <p:cNvPr id="545" name="任意多边形 7"/>
          <p:cNvSpPr/>
          <p:nvPr/>
        </p:nvSpPr>
        <p:spPr>
          <a:xfrm>
            <a:off x="3892680" y="0"/>
            <a:ext cx="5271120" cy="5143320"/>
          </a:xfrm>
          <a:custGeom>
            <a:avLst/>
            <a:gdLst>
              <a:gd name="textAreaLeft" fmla="*/ 0 w 5271120"/>
              <a:gd name="textAreaRight" fmla="*/ 5271480 w 527112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7028428" h="6858000">
                <a:moveTo>
                  <a:pt x="0" y="0"/>
                </a:moveTo>
                <a:lnTo>
                  <a:pt x="7028428" y="0"/>
                </a:lnTo>
                <a:lnTo>
                  <a:pt x="7028428" y="6858000"/>
                </a:lnTo>
                <a:lnTo>
                  <a:pt x="227908" y="6858000"/>
                </a:lnTo>
                <a:lnTo>
                  <a:pt x="232152" y="6848557"/>
                </a:lnTo>
                <a:cubicBezTo>
                  <a:pt x="627018" y="5921543"/>
                  <a:pt x="854405" y="4833313"/>
                  <a:pt x="854405" y="3669323"/>
                </a:cubicBezTo>
                <a:cubicBezTo>
                  <a:pt x="854405" y="2293699"/>
                  <a:pt x="536815" y="1023887"/>
                  <a:pt x="521" y="947"/>
                </a:cubicBezTo>
                <a:close/>
              </a:path>
            </a:pathLst>
          </a:custGeom>
          <a:gradFill rotWithShape="0">
            <a:gsLst>
              <a:gs pos="0">
                <a:srgbClr val="f5ad14"/>
              </a:gs>
              <a:gs pos="100000">
                <a:srgbClr val="f01d06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Light"/>
              <a:ea typeface="宋体"/>
            </a:endParaRPr>
          </a:p>
        </p:txBody>
      </p:sp>
      <p:pic>
        <p:nvPicPr>
          <p:cNvPr id="546" name="图片 7" descr=""/>
          <p:cNvPicPr/>
          <p:nvPr/>
        </p:nvPicPr>
        <p:blipFill>
          <a:blip r:embed="rId2"/>
          <a:stretch/>
        </p:blipFill>
        <p:spPr>
          <a:xfrm>
            <a:off x="8568720" y="1412280"/>
            <a:ext cx="595080" cy="2331720"/>
          </a:xfrm>
          <a:prstGeom prst="rect">
            <a:avLst/>
          </a:prstGeom>
          <a:ln w="0">
            <a:noFill/>
          </a:ln>
        </p:spPr>
      </p:pic>
      <p:grpSp>
        <p:nvGrpSpPr>
          <p:cNvPr id="547" name="组合 8"/>
          <p:cNvGrpSpPr/>
          <p:nvPr/>
        </p:nvGrpSpPr>
        <p:grpSpPr>
          <a:xfrm>
            <a:off x="-609120" y="-830160"/>
            <a:ext cx="1430640" cy="1682640"/>
            <a:chOff x="-609120" y="-830160"/>
            <a:chExt cx="1430640" cy="1682640"/>
          </a:xfrm>
        </p:grpSpPr>
        <p:sp>
          <p:nvSpPr>
            <p:cNvPr id="548" name="椭圆 9"/>
            <p:cNvSpPr/>
            <p:nvPr/>
          </p:nvSpPr>
          <p:spPr>
            <a:xfrm>
              <a:off x="-609120" y="-830160"/>
              <a:ext cx="1430640" cy="1430640"/>
            </a:xfrm>
            <a:prstGeom prst="ellipse">
              <a:avLst/>
            </a:prstGeom>
            <a:solidFill>
              <a:schemeClr val="bg1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思源黑体 CN Light"/>
                <a:ea typeface="宋体"/>
              </a:endParaRPr>
            </a:p>
          </p:txBody>
        </p:sp>
        <p:sp>
          <p:nvSpPr>
            <p:cNvPr id="549" name="椭圆 10"/>
            <p:cNvSpPr/>
            <p:nvPr/>
          </p:nvSpPr>
          <p:spPr>
            <a:xfrm>
              <a:off x="460440" y="549000"/>
              <a:ext cx="303480" cy="303480"/>
            </a:xfrm>
            <a:prstGeom prst="ellipse">
              <a:avLst/>
            </a:prstGeom>
            <a:solidFill>
              <a:schemeClr val="bg1"/>
            </a:solidFill>
            <a:ln w="381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思源黑体 CN Light"/>
                <a:ea typeface="宋体"/>
              </a:endParaRPr>
            </a:p>
          </p:txBody>
        </p:sp>
      </p:grpSp>
      <p:sp>
        <p:nvSpPr>
          <p:cNvPr id="550" name="椭圆 28"/>
          <p:cNvSpPr/>
          <p:nvPr/>
        </p:nvSpPr>
        <p:spPr>
          <a:xfrm>
            <a:off x="-603720" y="3744360"/>
            <a:ext cx="2015280" cy="2015280"/>
          </a:xfrm>
          <a:prstGeom prst="ellipse">
            <a:avLst/>
          </a:prstGeom>
          <a:gradFill rotWithShape="0">
            <a:gsLst>
              <a:gs pos="0">
                <a:srgbClr val="f5ad14"/>
              </a:gs>
              <a:gs pos="100000">
                <a:srgbClr val="f01d06"/>
              </a:gs>
            </a:gsLst>
            <a:lin ang="2700000"/>
          </a:gradFill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Light"/>
              <a:ea typeface="宋体"/>
            </a:endParaRPr>
          </a:p>
        </p:txBody>
      </p:sp>
      <p:grpSp>
        <p:nvGrpSpPr>
          <p:cNvPr id="551" name="组合 29"/>
          <p:cNvGrpSpPr/>
          <p:nvPr/>
        </p:nvGrpSpPr>
        <p:grpSpPr>
          <a:xfrm>
            <a:off x="7488000" y="168120"/>
            <a:ext cx="1489320" cy="713880"/>
            <a:chOff x="7488000" y="168120"/>
            <a:chExt cx="1489320" cy="713880"/>
          </a:xfrm>
        </p:grpSpPr>
        <p:grpSp>
          <p:nvGrpSpPr>
            <p:cNvPr id="552" name="组合 30"/>
            <p:cNvGrpSpPr/>
            <p:nvPr/>
          </p:nvGrpSpPr>
          <p:grpSpPr>
            <a:xfrm>
              <a:off x="8263080" y="168120"/>
              <a:ext cx="714240" cy="713880"/>
              <a:chOff x="8263080" y="168120"/>
              <a:chExt cx="714240" cy="713880"/>
            </a:xfrm>
          </p:grpSpPr>
          <p:sp>
            <p:nvSpPr>
              <p:cNvPr id="553" name="Oval 5"/>
              <p:cNvSpPr/>
              <p:nvPr/>
            </p:nvSpPr>
            <p:spPr>
              <a:xfrm rot="2700000">
                <a:off x="8668440" y="571320"/>
                <a:ext cx="3564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54" name="Freeform 6"/>
              <p:cNvSpPr/>
              <p:nvPr/>
            </p:nvSpPr>
            <p:spPr>
              <a:xfrm rot="2700000">
                <a:off x="8798400" y="70272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4" y="0"/>
                      <a:pt x="1" y="3"/>
                      <a:pt x="1" y="8"/>
                    </a:cubicBezTo>
                    <a:cubicBezTo>
                      <a:pt x="0" y="12"/>
                      <a:pt x="4" y="15"/>
                      <a:pt x="8" y="16"/>
                    </a:cubicBezTo>
                    <a:cubicBezTo>
                      <a:pt x="13" y="16"/>
                      <a:pt x="16" y="12"/>
                      <a:pt x="16" y="8"/>
                    </a:cubicBezTo>
                    <a:cubicBezTo>
                      <a:pt x="16" y="4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55" name="Oval 7"/>
              <p:cNvSpPr/>
              <p:nvPr/>
            </p:nvSpPr>
            <p:spPr>
              <a:xfrm rot="2700000">
                <a:off x="8930520" y="834840"/>
                <a:ext cx="3852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56" name="Oval 8"/>
              <p:cNvSpPr/>
              <p:nvPr/>
            </p:nvSpPr>
            <p:spPr>
              <a:xfrm rot="2700000">
                <a:off x="8270640" y="308160"/>
                <a:ext cx="3852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57" name="Freeform 9"/>
              <p:cNvSpPr/>
              <p:nvPr/>
            </p:nvSpPr>
            <p:spPr>
              <a:xfrm rot="2700000">
                <a:off x="8402760" y="440280"/>
                <a:ext cx="38520" cy="367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58" name="Freeform 10"/>
              <p:cNvSpPr/>
              <p:nvPr/>
            </p:nvSpPr>
            <p:spPr>
              <a:xfrm rot="2700000">
                <a:off x="8534880" y="572400"/>
                <a:ext cx="38520" cy="367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4" y="15"/>
                      <a:pt x="8" y="15"/>
                    </a:cubicBez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59" name="Freeform 11"/>
              <p:cNvSpPr/>
              <p:nvPr/>
            </p:nvSpPr>
            <p:spPr>
              <a:xfrm rot="2700000">
                <a:off x="8667360" y="7034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1"/>
                    </a:moveTo>
                    <a:cubicBezTo>
                      <a:pt x="4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3"/>
                      <a:pt x="15" y="9"/>
                    </a:cubicBezTo>
                    <a:cubicBezTo>
                      <a:pt x="16" y="4"/>
                      <a:pt x="13" y="1"/>
                      <a:pt x="8" y="1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60" name="Oval 12"/>
              <p:cNvSpPr/>
              <p:nvPr/>
            </p:nvSpPr>
            <p:spPr>
              <a:xfrm rot="2700000">
                <a:off x="8799480" y="836280"/>
                <a:ext cx="3564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 rot="2700000">
                <a:off x="8272800" y="439560"/>
                <a:ext cx="3564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62" name="Freeform 14"/>
              <p:cNvSpPr/>
              <p:nvPr/>
            </p:nvSpPr>
            <p:spPr>
              <a:xfrm rot="2700000">
                <a:off x="8404200" y="57132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0" y="7"/>
                    </a:moveTo>
                    <a:cubicBezTo>
                      <a:pt x="0" y="12"/>
                      <a:pt x="3" y="15"/>
                      <a:pt x="7" y="15"/>
                    </a:cubicBezTo>
                    <a:cubicBezTo>
                      <a:pt x="11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63" name="Freeform 15"/>
              <p:cNvSpPr/>
              <p:nvPr/>
            </p:nvSpPr>
            <p:spPr>
              <a:xfrm rot="2700000">
                <a:off x="8536320" y="7038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64" name="Freeform 16"/>
              <p:cNvSpPr/>
              <p:nvPr/>
            </p:nvSpPr>
            <p:spPr>
              <a:xfrm rot="2700000">
                <a:off x="8666280" y="8348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4" y="0"/>
                      <a:pt x="0" y="3"/>
                      <a:pt x="1" y="8"/>
                    </a:cubicBezTo>
                    <a:cubicBezTo>
                      <a:pt x="1" y="12"/>
                      <a:pt x="4" y="16"/>
                      <a:pt x="8" y="15"/>
                    </a:cubicBezTo>
                    <a:cubicBezTo>
                      <a:pt x="13" y="15"/>
                      <a:pt x="16" y="12"/>
                      <a:pt x="16" y="8"/>
                    </a:cubicBezTo>
                    <a:cubicBezTo>
                      <a:pt x="16" y="3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65" name="Freeform 17"/>
              <p:cNvSpPr/>
              <p:nvPr/>
            </p:nvSpPr>
            <p:spPr>
              <a:xfrm rot="2700000">
                <a:off x="8271000" y="57132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16"/>
                    </a:moveTo>
                    <a:cubicBezTo>
                      <a:pt x="12" y="16"/>
                      <a:pt x="16" y="13"/>
                      <a:pt x="16" y="8"/>
                    </a:cubicBez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66" name="Freeform 18"/>
              <p:cNvSpPr/>
              <p:nvPr/>
            </p:nvSpPr>
            <p:spPr>
              <a:xfrm rot="2700000">
                <a:off x="8403120" y="7034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1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  <a:cubicBezTo>
                      <a:pt x="13" y="16"/>
                      <a:pt x="16" y="13"/>
                      <a:pt x="16" y="8"/>
                    </a:cubicBezTo>
                    <a:cubicBezTo>
                      <a:pt x="16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67" name="Freeform 19"/>
              <p:cNvSpPr/>
              <p:nvPr/>
            </p:nvSpPr>
            <p:spPr>
              <a:xfrm rot="2700000">
                <a:off x="8535240" y="83556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8" y="16"/>
                    </a:cubicBezTo>
                    <a:cubicBezTo>
                      <a:pt x="12" y="16"/>
                      <a:pt x="15" y="13"/>
                      <a:pt x="15" y="8"/>
                    </a:cubicBezTo>
                    <a:cubicBezTo>
                      <a:pt x="16" y="4"/>
                      <a:pt x="12" y="1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68" name="Freeform 20"/>
              <p:cNvSpPr/>
              <p:nvPr/>
            </p:nvSpPr>
            <p:spPr>
              <a:xfrm rot="2700000">
                <a:off x="8272440" y="704520"/>
                <a:ext cx="35640" cy="356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15"/>
                    </a:moveTo>
                    <a:cubicBezTo>
                      <a:pt x="12" y="15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69" name="Freeform 21"/>
              <p:cNvSpPr/>
              <p:nvPr/>
            </p:nvSpPr>
            <p:spPr>
              <a:xfrm rot="2700000">
                <a:off x="8404560" y="836640"/>
                <a:ext cx="35640" cy="356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70" name="Freeform 22"/>
              <p:cNvSpPr/>
              <p:nvPr/>
            </p:nvSpPr>
            <p:spPr>
              <a:xfrm rot="2700000">
                <a:off x="8271000" y="83556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  <a:cubicBezTo>
                      <a:pt x="12" y="16"/>
                      <a:pt x="16" y="12"/>
                      <a:pt x="16" y="8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71" name="Freeform 23"/>
              <p:cNvSpPr/>
              <p:nvPr/>
            </p:nvSpPr>
            <p:spPr>
              <a:xfrm rot="2700000">
                <a:off x="8667360" y="17640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3" y="15"/>
                      <a:pt x="16" y="12"/>
                      <a:pt x="16" y="7"/>
                    </a:cubicBezTo>
                    <a:cubicBezTo>
                      <a:pt x="16" y="3"/>
                      <a:pt x="12" y="0"/>
                      <a:pt x="8" y="0"/>
                    </a:cubicBezTo>
                    <a:cubicBezTo>
                      <a:pt x="4" y="0"/>
                      <a:pt x="0" y="3"/>
                      <a:pt x="0" y="8"/>
                    </a:cubicBezTo>
                    <a:cubicBezTo>
                      <a:pt x="0" y="12"/>
                      <a:pt x="4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72" name="Freeform 24"/>
              <p:cNvSpPr/>
              <p:nvPr/>
            </p:nvSpPr>
            <p:spPr>
              <a:xfrm rot="2700000">
                <a:off x="879948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73" name="Freeform 25"/>
              <p:cNvSpPr/>
              <p:nvPr/>
            </p:nvSpPr>
            <p:spPr>
              <a:xfrm rot="2700000">
                <a:off x="8931600" y="44064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  <a:cubicBezTo>
                      <a:pt x="12" y="15"/>
                      <a:pt x="15" y="12"/>
                      <a:pt x="15" y="8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74" name="Freeform 26"/>
              <p:cNvSpPr/>
              <p:nvPr/>
            </p:nvSpPr>
            <p:spPr>
              <a:xfrm rot="2700000">
                <a:off x="8536320" y="17496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16"/>
                    </a:move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7" y="0"/>
                    </a:cubicBezTo>
                    <a:cubicBezTo>
                      <a:pt x="3" y="0"/>
                      <a:pt x="0" y="4"/>
                      <a:pt x="0" y="8"/>
                    </a:cubicBezTo>
                    <a:cubicBezTo>
                      <a:pt x="0" y="13"/>
                      <a:pt x="3" y="16"/>
                      <a:pt x="8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75" name="Freeform 27"/>
              <p:cNvSpPr/>
              <p:nvPr/>
            </p:nvSpPr>
            <p:spPr>
              <a:xfrm rot="2700000">
                <a:off x="8668440" y="30708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76" name="Freeform 28"/>
              <p:cNvSpPr/>
              <p:nvPr/>
            </p:nvSpPr>
            <p:spPr>
              <a:xfrm rot="2700000">
                <a:off x="8800560" y="4392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4"/>
                      <a:pt x="12" y="0"/>
                      <a:pt x="7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77" name="Freeform 29"/>
              <p:cNvSpPr/>
              <p:nvPr/>
            </p:nvSpPr>
            <p:spPr>
              <a:xfrm rot="2700000">
                <a:off x="8932680" y="57132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7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78" name="Oval 30"/>
              <p:cNvSpPr/>
              <p:nvPr/>
            </p:nvSpPr>
            <p:spPr>
              <a:xfrm rot="2700000">
                <a:off x="8403120" y="176400"/>
                <a:ext cx="3852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79" name="Freeform 31"/>
              <p:cNvSpPr/>
              <p:nvPr/>
            </p:nvSpPr>
            <p:spPr>
              <a:xfrm rot="2700000">
                <a:off x="853524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4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80" name="Freeform 32"/>
              <p:cNvSpPr/>
              <p:nvPr/>
            </p:nvSpPr>
            <p:spPr>
              <a:xfrm rot="2700000">
                <a:off x="8667360" y="44064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  <a:cubicBezTo>
                      <a:pt x="12" y="15"/>
                      <a:pt x="15" y="12"/>
                      <a:pt x="16" y="8"/>
                    </a:cubicBezTo>
                    <a:cubicBezTo>
                      <a:pt x="16" y="3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81" name="Oval 33"/>
              <p:cNvSpPr/>
              <p:nvPr/>
            </p:nvSpPr>
            <p:spPr>
              <a:xfrm rot="2700000">
                <a:off x="8799840" y="571680"/>
                <a:ext cx="3564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82" name="Oval 34"/>
              <p:cNvSpPr/>
              <p:nvPr/>
            </p:nvSpPr>
            <p:spPr>
              <a:xfrm rot="2700000">
                <a:off x="8931960" y="704160"/>
                <a:ext cx="3564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83" name="Oval 35"/>
              <p:cNvSpPr/>
              <p:nvPr/>
            </p:nvSpPr>
            <p:spPr>
              <a:xfrm rot="2700000">
                <a:off x="8272080" y="174960"/>
                <a:ext cx="3564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84" name="Freeform 36"/>
              <p:cNvSpPr/>
              <p:nvPr/>
            </p:nvSpPr>
            <p:spPr>
              <a:xfrm rot="2700000">
                <a:off x="8404200" y="30708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16"/>
                    </a:moveTo>
                    <a:cubicBezTo>
                      <a:pt x="12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5"/>
                      <a:pt x="7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85" name="Freeform 37"/>
              <p:cNvSpPr/>
              <p:nvPr/>
            </p:nvSpPr>
            <p:spPr>
              <a:xfrm rot="2700000">
                <a:off x="8536320" y="4392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86" name="Freeform 24"/>
              <p:cNvSpPr/>
              <p:nvPr/>
            </p:nvSpPr>
            <p:spPr>
              <a:xfrm rot="2700000">
                <a:off x="892656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87" name="Freeform 24"/>
              <p:cNvSpPr/>
              <p:nvPr/>
            </p:nvSpPr>
            <p:spPr>
              <a:xfrm rot="2700000">
                <a:off x="8926560" y="1771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88" name="Freeform 24"/>
              <p:cNvSpPr/>
              <p:nvPr/>
            </p:nvSpPr>
            <p:spPr>
              <a:xfrm rot="2700000">
                <a:off x="8799480" y="1771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</p:grpSp>
        <p:grpSp>
          <p:nvGrpSpPr>
            <p:cNvPr id="589" name="组合 31"/>
            <p:cNvGrpSpPr/>
            <p:nvPr/>
          </p:nvGrpSpPr>
          <p:grpSpPr>
            <a:xfrm>
              <a:off x="7488000" y="168120"/>
              <a:ext cx="714240" cy="713880"/>
              <a:chOff x="7488000" y="168120"/>
              <a:chExt cx="714240" cy="713880"/>
            </a:xfrm>
          </p:grpSpPr>
          <p:sp>
            <p:nvSpPr>
              <p:cNvPr id="590" name="Oval 5"/>
              <p:cNvSpPr/>
              <p:nvPr/>
            </p:nvSpPr>
            <p:spPr>
              <a:xfrm rot="2700000">
                <a:off x="7893360" y="571320"/>
                <a:ext cx="3564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91" name="Freeform 6"/>
              <p:cNvSpPr/>
              <p:nvPr/>
            </p:nvSpPr>
            <p:spPr>
              <a:xfrm rot="2700000">
                <a:off x="8023320" y="70272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4" y="0"/>
                      <a:pt x="1" y="3"/>
                      <a:pt x="1" y="8"/>
                    </a:cubicBezTo>
                    <a:cubicBezTo>
                      <a:pt x="0" y="12"/>
                      <a:pt x="4" y="15"/>
                      <a:pt x="8" y="16"/>
                    </a:cubicBezTo>
                    <a:cubicBezTo>
                      <a:pt x="13" y="16"/>
                      <a:pt x="16" y="12"/>
                      <a:pt x="16" y="8"/>
                    </a:cubicBezTo>
                    <a:cubicBezTo>
                      <a:pt x="16" y="4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92" name="Oval 7"/>
              <p:cNvSpPr/>
              <p:nvPr/>
            </p:nvSpPr>
            <p:spPr>
              <a:xfrm rot="2700000">
                <a:off x="8155440" y="834840"/>
                <a:ext cx="3852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93" name="Oval 8"/>
              <p:cNvSpPr/>
              <p:nvPr/>
            </p:nvSpPr>
            <p:spPr>
              <a:xfrm rot="2700000">
                <a:off x="7495560" y="308160"/>
                <a:ext cx="3852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94" name="Freeform 9"/>
              <p:cNvSpPr/>
              <p:nvPr/>
            </p:nvSpPr>
            <p:spPr>
              <a:xfrm rot="2700000">
                <a:off x="7627680" y="440280"/>
                <a:ext cx="38520" cy="367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95" name="Freeform 10"/>
              <p:cNvSpPr/>
              <p:nvPr/>
            </p:nvSpPr>
            <p:spPr>
              <a:xfrm rot="2700000">
                <a:off x="7759800" y="572400"/>
                <a:ext cx="38520" cy="367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4" y="15"/>
                      <a:pt x="8" y="15"/>
                    </a:cubicBez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360" bIns="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96" name="Freeform 11"/>
              <p:cNvSpPr/>
              <p:nvPr/>
            </p:nvSpPr>
            <p:spPr>
              <a:xfrm rot="2700000">
                <a:off x="7892280" y="7034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1"/>
                    </a:moveTo>
                    <a:cubicBezTo>
                      <a:pt x="4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3"/>
                      <a:pt x="15" y="9"/>
                    </a:cubicBezTo>
                    <a:cubicBezTo>
                      <a:pt x="16" y="4"/>
                      <a:pt x="13" y="1"/>
                      <a:pt x="8" y="1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97" name="Oval 12"/>
              <p:cNvSpPr/>
              <p:nvPr/>
            </p:nvSpPr>
            <p:spPr>
              <a:xfrm rot="2700000">
                <a:off x="8024400" y="836280"/>
                <a:ext cx="3564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98" name="Oval 13"/>
              <p:cNvSpPr/>
              <p:nvPr/>
            </p:nvSpPr>
            <p:spPr>
              <a:xfrm rot="2700000">
                <a:off x="7497720" y="439560"/>
                <a:ext cx="35640" cy="36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599" name="Freeform 14"/>
              <p:cNvSpPr/>
              <p:nvPr/>
            </p:nvSpPr>
            <p:spPr>
              <a:xfrm rot="2700000">
                <a:off x="7629120" y="57132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0" y="7"/>
                    </a:moveTo>
                    <a:cubicBezTo>
                      <a:pt x="0" y="12"/>
                      <a:pt x="3" y="15"/>
                      <a:pt x="7" y="15"/>
                    </a:cubicBezTo>
                    <a:cubicBezTo>
                      <a:pt x="11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00" name="Freeform 15"/>
              <p:cNvSpPr/>
              <p:nvPr/>
            </p:nvSpPr>
            <p:spPr>
              <a:xfrm rot="2700000">
                <a:off x="7761240" y="7038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01" name="Freeform 16"/>
              <p:cNvSpPr/>
              <p:nvPr/>
            </p:nvSpPr>
            <p:spPr>
              <a:xfrm rot="2700000">
                <a:off x="7891200" y="8348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4" y="0"/>
                      <a:pt x="0" y="3"/>
                      <a:pt x="1" y="8"/>
                    </a:cubicBezTo>
                    <a:cubicBezTo>
                      <a:pt x="1" y="12"/>
                      <a:pt x="4" y="16"/>
                      <a:pt x="8" y="15"/>
                    </a:cubicBezTo>
                    <a:cubicBezTo>
                      <a:pt x="13" y="15"/>
                      <a:pt x="16" y="12"/>
                      <a:pt x="16" y="8"/>
                    </a:cubicBezTo>
                    <a:cubicBezTo>
                      <a:pt x="16" y="3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02" name="Freeform 17"/>
              <p:cNvSpPr/>
              <p:nvPr/>
            </p:nvSpPr>
            <p:spPr>
              <a:xfrm rot="2700000">
                <a:off x="7495920" y="57132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16"/>
                    </a:moveTo>
                    <a:cubicBezTo>
                      <a:pt x="12" y="16"/>
                      <a:pt x="16" y="13"/>
                      <a:pt x="16" y="8"/>
                    </a:cubicBez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03" name="Freeform 18"/>
              <p:cNvSpPr/>
              <p:nvPr/>
            </p:nvSpPr>
            <p:spPr>
              <a:xfrm rot="2700000">
                <a:off x="7628040" y="70344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1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  <a:cubicBezTo>
                      <a:pt x="13" y="16"/>
                      <a:pt x="16" y="13"/>
                      <a:pt x="16" y="8"/>
                    </a:cubicBezTo>
                    <a:cubicBezTo>
                      <a:pt x="16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04" name="Freeform 19"/>
              <p:cNvSpPr/>
              <p:nvPr/>
            </p:nvSpPr>
            <p:spPr>
              <a:xfrm rot="2700000">
                <a:off x="7760160" y="83556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8" y="16"/>
                    </a:cubicBezTo>
                    <a:cubicBezTo>
                      <a:pt x="12" y="16"/>
                      <a:pt x="15" y="13"/>
                      <a:pt x="15" y="8"/>
                    </a:cubicBezTo>
                    <a:cubicBezTo>
                      <a:pt x="16" y="4"/>
                      <a:pt x="12" y="1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05" name="Freeform 20"/>
              <p:cNvSpPr/>
              <p:nvPr/>
            </p:nvSpPr>
            <p:spPr>
              <a:xfrm rot="2700000">
                <a:off x="7497360" y="704520"/>
                <a:ext cx="35640" cy="356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7" y="15"/>
                    </a:moveTo>
                    <a:cubicBezTo>
                      <a:pt x="12" y="15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06" name="Freeform 21"/>
              <p:cNvSpPr/>
              <p:nvPr/>
            </p:nvSpPr>
            <p:spPr>
              <a:xfrm rot="2700000">
                <a:off x="7629480" y="836640"/>
                <a:ext cx="35640" cy="356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07" name="Freeform 22"/>
              <p:cNvSpPr/>
              <p:nvPr/>
            </p:nvSpPr>
            <p:spPr>
              <a:xfrm rot="2700000">
                <a:off x="7495920" y="835560"/>
                <a:ext cx="38520" cy="38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8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3"/>
                      <a:pt x="4" y="16"/>
                      <a:pt x="8" y="16"/>
                    </a:cubicBezTo>
                    <a:cubicBezTo>
                      <a:pt x="12" y="16"/>
                      <a:pt x="16" y="12"/>
                      <a:pt x="16" y="8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08" name="Freeform 23"/>
              <p:cNvSpPr/>
              <p:nvPr/>
            </p:nvSpPr>
            <p:spPr>
              <a:xfrm rot="2700000">
                <a:off x="7892280" y="17640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3" y="15"/>
                      <a:pt x="16" y="12"/>
                      <a:pt x="16" y="7"/>
                    </a:cubicBezTo>
                    <a:cubicBezTo>
                      <a:pt x="16" y="3"/>
                      <a:pt x="12" y="0"/>
                      <a:pt x="8" y="0"/>
                    </a:cubicBezTo>
                    <a:cubicBezTo>
                      <a:pt x="4" y="0"/>
                      <a:pt x="0" y="3"/>
                      <a:pt x="0" y="8"/>
                    </a:cubicBezTo>
                    <a:cubicBezTo>
                      <a:pt x="0" y="12"/>
                      <a:pt x="4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09" name="Freeform 24"/>
              <p:cNvSpPr/>
              <p:nvPr/>
            </p:nvSpPr>
            <p:spPr>
              <a:xfrm rot="2700000">
                <a:off x="802440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10" name="Freeform 25"/>
              <p:cNvSpPr/>
              <p:nvPr/>
            </p:nvSpPr>
            <p:spPr>
              <a:xfrm rot="2700000">
                <a:off x="8156520" y="44064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  <a:cubicBezTo>
                      <a:pt x="12" y="15"/>
                      <a:pt x="15" y="12"/>
                      <a:pt x="15" y="8"/>
                    </a:cubicBezTo>
                    <a:cubicBezTo>
                      <a:pt x="16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11" name="Freeform 26"/>
              <p:cNvSpPr/>
              <p:nvPr/>
            </p:nvSpPr>
            <p:spPr>
              <a:xfrm rot="2700000">
                <a:off x="7761240" y="17496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16"/>
                    </a:move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7" y="0"/>
                    </a:cubicBezTo>
                    <a:cubicBezTo>
                      <a:pt x="3" y="0"/>
                      <a:pt x="0" y="4"/>
                      <a:pt x="0" y="8"/>
                    </a:cubicBezTo>
                    <a:cubicBezTo>
                      <a:pt x="0" y="13"/>
                      <a:pt x="3" y="16"/>
                      <a:pt x="8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12" name="Freeform 27"/>
              <p:cNvSpPr/>
              <p:nvPr/>
            </p:nvSpPr>
            <p:spPr>
              <a:xfrm rot="2700000">
                <a:off x="7893360" y="30708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13" name="Freeform 28"/>
              <p:cNvSpPr/>
              <p:nvPr/>
            </p:nvSpPr>
            <p:spPr>
              <a:xfrm rot="2700000">
                <a:off x="8025480" y="4392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4"/>
                      <a:pt x="12" y="0"/>
                      <a:pt x="7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14" name="Freeform 29"/>
              <p:cNvSpPr/>
              <p:nvPr/>
            </p:nvSpPr>
            <p:spPr>
              <a:xfrm rot="2700000">
                <a:off x="8157600" y="57132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0"/>
                    </a:moveTo>
                    <a:cubicBezTo>
                      <a:pt x="3" y="0"/>
                      <a:pt x="0" y="4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7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15" name="Oval 30"/>
              <p:cNvSpPr/>
              <p:nvPr/>
            </p:nvSpPr>
            <p:spPr>
              <a:xfrm rot="2700000">
                <a:off x="7628040" y="176400"/>
                <a:ext cx="3852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16" name="Freeform 31"/>
              <p:cNvSpPr/>
              <p:nvPr/>
            </p:nvSpPr>
            <p:spPr>
              <a:xfrm rot="2700000">
                <a:off x="776016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15"/>
                    </a:moveTo>
                    <a:cubicBezTo>
                      <a:pt x="12" y="15"/>
                      <a:pt x="16" y="12"/>
                      <a:pt x="16" y="7"/>
                    </a:cubicBezTo>
                    <a:cubicBezTo>
                      <a:pt x="16" y="3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4" y="15"/>
                      <a:pt x="8" y="15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17" name="Freeform 32"/>
              <p:cNvSpPr/>
              <p:nvPr/>
            </p:nvSpPr>
            <p:spPr>
              <a:xfrm rot="2700000">
                <a:off x="7892280" y="44064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8" y="0"/>
                    </a:moveTo>
                    <a:cubicBezTo>
                      <a:pt x="4" y="0"/>
                      <a:pt x="0" y="3"/>
                      <a:pt x="0" y="7"/>
                    </a:cubicBezTo>
                    <a:cubicBezTo>
                      <a:pt x="0" y="12"/>
                      <a:pt x="3" y="15"/>
                      <a:pt x="8" y="15"/>
                    </a:cubicBezTo>
                    <a:cubicBezTo>
                      <a:pt x="12" y="15"/>
                      <a:pt x="15" y="12"/>
                      <a:pt x="16" y="8"/>
                    </a:cubicBezTo>
                    <a:cubicBezTo>
                      <a:pt x="16" y="3"/>
                      <a:pt x="13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18" name="Oval 33"/>
              <p:cNvSpPr/>
              <p:nvPr/>
            </p:nvSpPr>
            <p:spPr>
              <a:xfrm rot="2700000">
                <a:off x="8024760" y="571680"/>
                <a:ext cx="3564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19" name="Oval 34"/>
              <p:cNvSpPr/>
              <p:nvPr/>
            </p:nvSpPr>
            <p:spPr>
              <a:xfrm rot="2700000">
                <a:off x="8156880" y="704160"/>
                <a:ext cx="35640" cy="356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20" name="Oval 35"/>
              <p:cNvSpPr/>
              <p:nvPr/>
            </p:nvSpPr>
            <p:spPr>
              <a:xfrm rot="2700000">
                <a:off x="7497000" y="174960"/>
                <a:ext cx="35640" cy="38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21" name="Freeform 36"/>
              <p:cNvSpPr/>
              <p:nvPr/>
            </p:nvSpPr>
            <p:spPr>
              <a:xfrm rot="2700000">
                <a:off x="7629120" y="30708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7" y="16"/>
                    </a:moveTo>
                    <a:cubicBezTo>
                      <a:pt x="12" y="16"/>
                      <a:pt x="15" y="13"/>
                      <a:pt x="15" y="8"/>
                    </a:cubicBezTo>
                    <a:cubicBezTo>
                      <a:pt x="15" y="4"/>
                      <a:pt x="12" y="0"/>
                      <a:pt x="8" y="0"/>
                    </a:cubicBez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5"/>
                      <a:pt x="7" y="16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22" name="Freeform 37"/>
              <p:cNvSpPr/>
              <p:nvPr/>
            </p:nvSpPr>
            <p:spPr>
              <a:xfrm rot="2700000">
                <a:off x="7761240" y="43920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8" y="0"/>
                    </a:moveTo>
                    <a:cubicBezTo>
                      <a:pt x="3" y="0"/>
                      <a:pt x="0" y="3"/>
                      <a:pt x="0" y="8"/>
                    </a:cubicBezTo>
                    <a:cubicBezTo>
                      <a:pt x="0" y="12"/>
                      <a:pt x="3" y="16"/>
                      <a:pt x="7" y="16"/>
                    </a:cubicBezTo>
                    <a:cubicBezTo>
                      <a:pt x="12" y="16"/>
                      <a:pt x="15" y="12"/>
                      <a:pt x="15" y="8"/>
                    </a:cubicBezTo>
                    <a:cubicBezTo>
                      <a:pt x="15" y="3"/>
                      <a:pt x="12" y="0"/>
                      <a:pt x="8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23" name="Freeform 24"/>
              <p:cNvSpPr/>
              <p:nvPr/>
            </p:nvSpPr>
            <p:spPr>
              <a:xfrm rot="2700000">
                <a:off x="8151480" y="3085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24" name="Freeform 24"/>
              <p:cNvSpPr/>
              <p:nvPr/>
            </p:nvSpPr>
            <p:spPr>
              <a:xfrm rot="2700000">
                <a:off x="8151480" y="1771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  <p:sp>
            <p:nvSpPr>
              <p:cNvPr id="625" name="Freeform 24"/>
              <p:cNvSpPr/>
              <p:nvPr/>
            </p:nvSpPr>
            <p:spPr>
              <a:xfrm rot="2700000">
                <a:off x="8024400" y="177120"/>
                <a:ext cx="38520" cy="356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6" h="15">
                    <a:moveTo>
                      <a:pt x="16" y="8"/>
                    </a:moveTo>
                    <a:cubicBezTo>
                      <a:pt x="16" y="4"/>
                      <a:pt x="13" y="0"/>
                      <a:pt x="8" y="0"/>
                    </a:cubicBezTo>
                    <a:cubicBezTo>
                      <a:pt x="4" y="0"/>
                      <a:pt x="0" y="3"/>
                      <a:pt x="0" y="7"/>
                    </a:cubicBezTo>
                    <a:cubicBezTo>
                      <a:pt x="0" y="11"/>
                      <a:pt x="3" y="15"/>
                      <a:pt x="7" y="15"/>
                    </a:cubicBezTo>
                    <a:cubicBezTo>
                      <a:pt x="12" y="15"/>
                      <a:pt x="15" y="12"/>
                      <a:pt x="16" y="8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思源黑体 CN Light"/>
                  <a:ea typeface="思源黑体 CN Bold"/>
                </a:endParaRPr>
              </a:p>
            </p:txBody>
          </p:sp>
        </p:grpSp>
      </p:grpSp>
      <p:grpSp>
        <p:nvGrpSpPr>
          <p:cNvPr id="626" name="组合 11"/>
          <p:cNvGrpSpPr/>
          <p:nvPr/>
        </p:nvGrpSpPr>
        <p:grpSpPr>
          <a:xfrm>
            <a:off x="3892680" y="4111560"/>
            <a:ext cx="848160" cy="848160"/>
            <a:chOff x="3892680" y="4111560"/>
            <a:chExt cx="848160" cy="848160"/>
          </a:xfrm>
        </p:grpSpPr>
        <p:sp>
          <p:nvSpPr>
            <p:cNvPr id="627" name="Freeform 41"/>
            <p:cNvSpPr/>
            <p:nvPr/>
          </p:nvSpPr>
          <p:spPr>
            <a:xfrm flipH="1">
              <a:off x="4528080" y="4166640"/>
              <a:ext cx="158040" cy="159840"/>
            </a:xfrm>
            <a:custGeom>
              <a:avLst/>
              <a:gdLst>
                <a:gd name="textAreaLeft" fmla="*/ -360 w 158040"/>
                <a:gd name="textAreaRight" fmla="*/ 158040 w 1580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66" h="67">
                  <a:moveTo>
                    <a:pt x="0" y="67"/>
                  </a:moveTo>
                  <a:cubicBezTo>
                    <a:pt x="66" y="0"/>
                    <a:pt x="66" y="0"/>
                    <a:pt x="66" y="0"/>
                  </a:cubicBezTo>
                  <a:cubicBezTo>
                    <a:pt x="55" y="7"/>
                    <a:pt x="44" y="15"/>
                    <a:pt x="34" y="2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15" y="44"/>
                    <a:pt x="7" y="55"/>
                    <a:pt x="0" y="6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28" name="Freeform 42"/>
            <p:cNvSpPr/>
            <p:nvPr/>
          </p:nvSpPr>
          <p:spPr>
            <a:xfrm flipH="1">
              <a:off x="4401000" y="4121280"/>
              <a:ext cx="332280" cy="329760"/>
            </a:xfrm>
            <a:custGeom>
              <a:avLst/>
              <a:gdLst>
                <a:gd name="textAreaLeft" fmla="*/ -360 w 332280"/>
                <a:gd name="textAreaRight" fmla="*/ 332280 w 332280"/>
                <a:gd name="textAreaTop" fmla="*/ 0 h 329760"/>
                <a:gd name="textAreaBottom" fmla="*/ 330120 h 329760"/>
              </a:gdLst>
              <a:ahLst/>
              <a:rect l="textAreaLeft" t="textAreaTop" r="textAreaRight" b="textAreaBottom"/>
              <a:pathLst>
                <a:path w="139" h="138">
                  <a:moveTo>
                    <a:pt x="0" y="138"/>
                  </a:moveTo>
                  <a:cubicBezTo>
                    <a:pt x="139" y="0"/>
                    <a:pt x="139" y="0"/>
                    <a:pt x="139" y="0"/>
                  </a:cubicBezTo>
                  <a:cubicBezTo>
                    <a:pt x="135" y="0"/>
                    <a:pt x="131" y="1"/>
                    <a:pt x="128" y="2"/>
                  </a:cubicBezTo>
                  <a:cubicBezTo>
                    <a:pt x="3" y="127"/>
                    <a:pt x="3" y="127"/>
                    <a:pt x="3" y="127"/>
                  </a:cubicBezTo>
                  <a:cubicBezTo>
                    <a:pt x="2" y="131"/>
                    <a:pt x="1" y="135"/>
                    <a:pt x="0" y="138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29" name="Freeform 43"/>
            <p:cNvSpPr/>
            <p:nvPr/>
          </p:nvSpPr>
          <p:spPr>
            <a:xfrm flipH="1">
              <a:off x="4316040" y="4111560"/>
              <a:ext cx="424800" cy="427320"/>
            </a:xfrm>
            <a:custGeom>
              <a:avLst/>
              <a:gdLst>
                <a:gd name="textAreaLeft" fmla="*/ 360 w 424800"/>
                <a:gd name="textAreaRight" fmla="*/ 425520 w 42480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178" h="179">
                  <a:moveTo>
                    <a:pt x="0" y="178"/>
                  </a:moveTo>
                  <a:cubicBezTo>
                    <a:pt x="0" y="178"/>
                    <a:pt x="0" y="178"/>
                    <a:pt x="0" y="179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178" y="0"/>
                    <a:pt x="178" y="0"/>
                    <a:pt x="177" y="0"/>
                  </a:cubicBezTo>
                  <a:cubicBezTo>
                    <a:pt x="175" y="0"/>
                    <a:pt x="172" y="0"/>
                    <a:pt x="170" y="0"/>
                  </a:cubicBezTo>
                  <a:cubicBezTo>
                    <a:pt x="0" y="170"/>
                    <a:pt x="0" y="170"/>
                    <a:pt x="0" y="170"/>
                  </a:cubicBezTo>
                  <a:cubicBezTo>
                    <a:pt x="0" y="172"/>
                    <a:pt x="0" y="175"/>
                    <a:pt x="0" y="178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30" name="Freeform 44"/>
            <p:cNvSpPr/>
            <p:nvPr/>
          </p:nvSpPr>
          <p:spPr>
            <a:xfrm flipH="1">
              <a:off x="4240800" y="4115880"/>
              <a:ext cx="495000" cy="495000"/>
            </a:xfrm>
            <a:custGeom>
              <a:avLst/>
              <a:gdLst>
                <a:gd name="textAreaLeft" fmla="*/ -360 w 495000"/>
                <a:gd name="textAreaRight" fmla="*/ 495000 w 495000"/>
                <a:gd name="textAreaTop" fmla="*/ 0 h 495000"/>
                <a:gd name="textAreaBottom" fmla="*/ 495360 h 495000"/>
              </a:gdLst>
              <a:ahLst/>
              <a:rect l="textAreaLeft" t="textAreaTop" r="textAreaRight" b="textAreaBottom"/>
              <a:pathLst>
                <a:path w="207" h="207">
                  <a:moveTo>
                    <a:pt x="1" y="207"/>
                  </a:moveTo>
                  <a:cubicBezTo>
                    <a:pt x="207" y="1"/>
                    <a:pt x="207" y="1"/>
                    <a:pt x="207" y="1"/>
                  </a:cubicBezTo>
                  <a:cubicBezTo>
                    <a:pt x="204" y="1"/>
                    <a:pt x="202" y="0"/>
                    <a:pt x="199" y="0"/>
                  </a:cubicBezTo>
                  <a:cubicBezTo>
                    <a:pt x="0" y="199"/>
                    <a:pt x="0" y="199"/>
                    <a:pt x="0" y="199"/>
                  </a:cubicBezTo>
                  <a:cubicBezTo>
                    <a:pt x="0" y="202"/>
                    <a:pt x="0" y="204"/>
                    <a:pt x="1" y="20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31" name="Freeform 45"/>
            <p:cNvSpPr/>
            <p:nvPr/>
          </p:nvSpPr>
          <p:spPr>
            <a:xfrm flipH="1">
              <a:off x="4179240" y="4130280"/>
              <a:ext cx="545760" cy="543240"/>
            </a:xfrm>
            <a:custGeom>
              <a:avLst/>
              <a:gdLst>
                <a:gd name="textAreaLeft" fmla="*/ 360 w 545760"/>
                <a:gd name="textAreaRight" fmla="*/ 546480 w 54576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228" h="227">
                  <a:moveTo>
                    <a:pt x="2" y="227"/>
                  </a:moveTo>
                  <a:cubicBezTo>
                    <a:pt x="228" y="2"/>
                    <a:pt x="228" y="2"/>
                    <a:pt x="228" y="2"/>
                  </a:cubicBezTo>
                  <a:cubicBezTo>
                    <a:pt x="226" y="1"/>
                    <a:pt x="223" y="0"/>
                    <a:pt x="221" y="0"/>
                  </a:cubicBezTo>
                  <a:cubicBezTo>
                    <a:pt x="0" y="220"/>
                    <a:pt x="0" y="220"/>
                    <a:pt x="0" y="220"/>
                  </a:cubicBezTo>
                  <a:cubicBezTo>
                    <a:pt x="1" y="223"/>
                    <a:pt x="2" y="225"/>
                    <a:pt x="2" y="22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32" name="Freeform 46"/>
            <p:cNvSpPr/>
            <p:nvPr/>
          </p:nvSpPr>
          <p:spPr>
            <a:xfrm flipH="1">
              <a:off x="4123440" y="4151520"/>
              <a:ext cx="578520" cy="576000"/>
            </a:xfrm>
            <a:custGeom>
              <a:avLst/>
              <a:gdLst>
                <a:gd name="textAreaLeft" fmla="*/ -360 w 578520"/>
                <a:gd name="textAreaRight" fmla="*/ 578520 w 578520"/>
                <a:gd name="textAreaTop" fmla="*/ 0 h 576000"/>
                <a:gd name="textAreaBottom" fmla="*/ 576360 h 576000"/>
              </a:gdLst>
              <a:ahLst/>
              <a:rect l="textAreaLeft" t="textAreaTop" r="textAreaRight" b="textAreaBottom"/>
              <a:pathLst>
                <a:path w="242" h="241">
                  <a:moveTo>
                    <a:pt x="3" y="241"/>
                  </a:moveTo>
                  <a:cubicBezTo>
                    <a:pt x="242" y="2"/>
                    <a:pt x="242" y="2"/>
                    <a:pt x="242" y="2"/>
                  </a:cubicBezTo>
                  <a:cubicBezTo>
                    <a:pt x="240" y="1"/>
                    <a:pt x="238" y="1"/>
                    <a:pt x="236" y="0"/>
                  </a:cubicBezTo>
                  <a:cubicBezTo>
                    <a:pt x="0" y="235"/>
                    <a:pt x="0" y="235"/>
                    <a:pt x="0" y="235"/>
                  </a:cubicBezTo>
                  <a:cubicBezTo>
                    <a:pt x="1" y="237"/>
                    <a:pt x="2" y="239"/>
                    <a:pt x="3" y="241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33" name="Freeform 47"/>
            <p:cNvSpPr/>
            <p:nvPr/>
          </p:nvSpPr>
          <p:spPr>
            <a:xfrm flipH="1">
              <a:off x="4076280" y="4178160"/>
              <a:ext cx="597240" cy="600120"/>
            </a:xfrm>
            <a:custGeom>
              <a:avLst/>
              <a:gdLst>
                <a:gd name="textAreaLeft" fmla="*/ -360 w 597240"/>
                <a:gd name="textAreaRight" fmla="*/ 597240 w 59724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250" h="251">
                  <a:moveTo>
                    <a:pt x="4" y="251"/>
                  </a:moveTo>
                  <a:cubicBezTo>
                    <a:pt x="250" y="4"/>
                    <a:pt x="250" y="4"/>
                    <a:pt x="250" y="4"/>
                  </a:cubicBezTo>
                  <a:cubicBezTo>
                    <a:pt x="249" y="3"/>
                    <a:pt x="247" y="1"/>
                    <a:pt x="245" y="0"/>
                  </a:cubicBezTo>
                  <a:cubicBezTo>
                    <a:pt x="0" y="245"/>
                    <a:pt x="0" y="245"/>
                    <a:pt x="0" y="245"/>
                  </a:cubicBezTo>
                  <a:cubicBezTo>
                    <a:pt x="1" y="247"/>
                    <a:pt x="2" y="249"/>
                    <a:pt x="4" y="251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34" name="Freeform 48"/>
            <p:cNvSpPr/>
            <p:nvPr/>
          </p:nvSpPr>
          <p:spPr>
            <a:xfrm flipH="1">
              <a:off x="4030920" y="4212000"/>
              <a:ext cx="608760" cy="608760"/>
            </a:xfrm>
            <a:custGeom>
              <a:avLst/>
              <a:gdLst>
                <a:gd name="textAreaLeft" fmla="*/ -360 w 608760"/>
                <a:gd name="textAreaRight" fmla="*/ 608760 w 60876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255" h="255">
                  <a:moveTo>
                    <a:pt x="4" y="255"/>
                  </a:moveTo>
                  <a:cubicBezTo>
                    <a:pt x="255" y="4"/>
                    <a:pt x="255" y="4"/>
                    <a:pt x="255" y="4"/>
                  </a:cubicBezTo>
                  <a:cubicBezTo>
                    <a:pt x="253" y="3"/>
                    <a:pt x="252" y="2"/>
                    <a:pt x="250" y="0"/>
                  </a:cubicBezTo>
                  <a:cubicBezTo>
                    <a:pt x="0" y="250"/>
                    <a:pt x="0" y="250"/>
                    <a:pt x="0" y="250"/>
                  </a:cubicBezTo>
                  <a:cubicBezTo>
                    <a:pt x="1" y="252"/>
                    <a:pt x="3" y="253"/>
                    <a:pt x="4" y="255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35" name="Freeform 49"/>
            <p:cNvSpPr/>
            <p:nvPr/>
          </p:nvSpPr>
          <p:spPr>
            <a:xfrm flipH="1">
              <a:off x="3992400" y="4250160"/>
              <a:ext cx="608760" cy="608760"/>
            </a:xfrm>
            <a:custGeom>
              <a:avLst/>
              <a:gdLst>
                <a:gd name="textAreaLeft" fmla="*/ -360 w 608760"/>
                <a:gd name="textAreaRight" fmla="*/ 608760 w 60876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255" h="255">
                  <a:moveTo>
                    <a:pt x="5" y="255"/>
                  </a:moveTo>
                  <a:cubicBezTo>
                    <a:pt x="255" y="5"/>
                    <a:pt x="255" y="5"/>
                    <a:pt x="255" y="5"/>
                  </a:cubicBezTo>
                  <a:cubicBezTo>
                    <a:pt x="253" y="4"/>
                    <a:pt x="252" y="2"/>
                    <a:pt x="251" y="0"/>
                  </a:cubicBezTo>
                  <a:cubicBezTo>
                    <a:pt x="0" y="251"/>
                    <a:pt x="0" y="251"/>
                    <a:pt x="0" y="251"/>
                  </a:cubicBezTo>
                  <a:cubicBezTo>
                    <a:pt x="2" y="252"/>
                    <a:pt x="3" y="254"/>
                    <a:pt x="5" y="255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36" name="Freeform 50"/>
            <p:cNvSpPr/>
            <p:nvPr/>
          </p:nvSpPr>
          <p:spPr>
            <a:xfrm flipH="1">
              <a:off x="3958920" y="4295520"/>
              <a:ext cx="597240" cy="597240"/>
            </a:xfrm>
            <a:custGeom>
              <a:avLst/>
              <a:gdLst>
                <a:gd name="textAreaLeft" fmla="*/ -360 w 597240"/>
                <a:gd name="textAreaRight" fmla="*/ 597240 w 597240"/>
                <a:gd name="textAreaTop" fmla="*/ 0 h 597240"/>
                <a:gd name="textAreaBottom" fmla="*/ 597600 h 597240"/>
              </a:gdLst>
              <a:ahLst/>
              <a:rect l="textAreaLeft" t="textAreaTop" r="textAreaRight" b="textAreaBottom"/>
              <a:pathLst>
                <a:path w="250" h="250">
                  <a:moveTo>
                    <a:pt x="5" y="250"/>
                  </a:moveTo>
                  <a:cubicBezTo>
                    <a:pt x="250" y="5"/>
                    <a:pt x="250" y="5"/>
                    <a:pt x="250" y="5"/>
                  </a:cubicBezTo>
                  <a:cubicBezTo>
                    <a:pt x="249" y="3"/>
                    <a:pt x="247" y="2"/>
                    <a:pt x="246" y="0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1" y="248"/>
                    <a:pt x="3" y="249"/>
                    <a:pt x="5" y="25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37" name="Freeform 51"/>
            <p:cNvSpPr/>
            <p:nvPr/>
          </p:nvSpPr>
          <p:spPr>
            <a:xfrm flipH="1">
              <a:off x="3931920" y="4343760"/>
              <a:ext cx="577080" cy="577800"/>
            </a:xfrm>
            <a:custGeom>
              <a:avLst/>
              <a:gdLst>
                <a:gd name="textAreaLeft" fmla="*/ -360 w 577080"/>
                <a:gd name="textAreaRight" fmla="*/ 577080 w 57708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241" h="242">
                  <a:moveTo>
                    <a:pt x="6" y="242"/>
                  </a:moveTo>
                  <a:cubicBezTo>
                    <a:pt x="241" y="6"/>
                    <a:pt x="241" y="6"/>
                    <a:pt x="241" y="6"/>
                  </a:cubicBezTo>
                  <a:cubicBezTo>
                    <a:pt x="241" y="4"/>
                    <a:pt x="240" y="2"/>
                    <a:pt x="239" y="0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2" y="240"/>
                    <a:pt x="4" y="241"/>
                    <a:pt x="6" y="242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38" name="Freeform 52"/>
            <p:cNvSpPr/>
            <p:nvPr/>
          </p:nvSpPr>
          <p:spPr>
            <a:xfrm flipH="1">
              <a:off x="3910680" y="4400640"/>
              <a:ext cx="543240" cy="542160"/>
            </a:xfrm>
            <a:custGeom>
              <a:avLst/>
              <a:gdLst>
                <a:gd name="textAreaLeft" fmla="*/ -360 w 543240"/>
                <a:gd name="textAreaRight" fmla="*/ 543240 w 543240"/>
                <a:gd name="textAreaTop" fmla="*/ 0 h 542160"/>
                <a:gd name="textAreaBottom" fmla="*/ 542520 h 542160"/>
              </a:gdLst>
              <a:ahLst/>
              <a:rect l="textAreaLeft" t="textAreaTop" r="textAreaRight" b="textAreaBottom"/>
              <a:pathLst>
                <a:path w="227" h="227">
                  <a:moveTo>
                    <a:pt x="7" y="227"/>
                  </a:moveTo>
                  <a:cubicBezTo>
                    <a:pt x="227" y="6"/>
                    <a:pt x="227" y="6"/>
                    <a:pt x="227" y="6"/>
                  </a:cubicBezTo>
                  <a:cubicBezTo>
                    <a:pt x="227" y="4"/>
                    <a:pt x="226" y="2"/>
                    <a:pt x="225" y="0"/>
                  </a:cubicBezTo>
                  <a:cubicBezTo>
                    <a:pt x="0" y="225"/>
                    <a:pt x="0" y="225"/>
                    <a:pt x="0" y="225"/>
                  </a:cubicBezTo>
                  <a:cubicBezTo>
                    <a:pt x="2" y="225"/>
                    <a:pt x="5" y="226"/>
                    <a:pt x="7" y="227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39" name="Freeform 53"/>
            <p:cNvSpPr/>
            <p:nvPr/>
          </p:nvSpPr>
          <p:spPr>
            <a:xfrm flipH="1">
              <a:off x="3896640" y="4462920"/>
              <a:ext cx="495000" cy="492480"/>
            </a:xfrm>
            <a:custGeom>
              <a:avLst/>
              <a:gdLst>
                <a:gd name="textAreaLeft" fmla="*/ -360 w 495000"/>
                <a:gd name="textAreaRight" fmla="*/ 495000 w 495000"/>
                <a:gd name="textAreaTop" fmla="*/ 0 h 492480"/>
                <a:gd name="textAreaBottom" fmla="*/ 492840 h 492480"/>
              </a:gdLst>
              <a:ahLst/>
              <a:rect l="textAreaLeft" t="textAreaTop" r="textAreaRight" b="textAreaBottom"/>
              <a:pathLst>
                <a:path w="207" h="206">
                  <a:moveTo>
                    <a:pt x="8" y="206"/>
                  </a:moveTo>
                  <a:cubicBezTo>
                    <a:pt x="207" y="7"/>
                    <a:pt x="207" y="7"/>
                    <a:pt x="207" y="7"/>
                  </a:cubicBezTo>
                  <a:cubicBezTo>
                    <a:pt x="207" y="5"/>
                    <a:pt x="206" y="2"/>
                    <a:pt x="206" y="0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3" y="206"/>
                    <a:pt x="5" y="206"/>
                    <a:pt x="8" y="206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40" name="Freeform 54"/>
            <p:cNvSpPr/>
            <p:nvPr/>
          </p:nvSpPr>
          <p:spPr>
            <a:xfrm flipH="1">
              <a:off x="3892680" y="4534920"/>
              <a:ext cx="424800" cy="424800"/>
            </a:xfrm>
            <a:custGeom>
              <a:avLst/>
              <a:gdLst>
                <a:gd name="textAreaLeft" fmla="*/ 360 w 424800"/>
                <a:gd name="textAreaRight" fmla="*/ 425520 w 42480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178" h="178">
                  <a:moveTo>
                    <a:pt x="0" y="178"/>
                  </a:moveTo>
                  <a:cubicBezTo>
                    <a:pt x="3" y="178"/>
                    <a:pt x="6" y="178"/>
                    <a:pt x="9" y="178"/>
                  </a:cubicBezTo>
                  <a:cubicBezTo>
                    <a:pt x="178" y="9"/>
                    <a:pt x="178" y="9"/>
                    <a:pt x="178" y="9"/>
                  </a:cubicBezTo>
                  <a:cubicBezTo>
                    <a:pt x="178" y="6"/>
                    <a:pt x="178" y="3"/>
                    <a:pt x="178" y="1"/>
                  </a:cubicBezTo>
                  <a:cubicBezTo>
                    <a:pt x="178" y="0"/>
                    <a:pt x="178" y="0"/>
                    <a:pt x="178" y="0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0" y="178"/>
                    <a:pt x="0" y="178"/>
                    <a:pt x="0" y="178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41" name="Freeform 55"/>
            <p:cNvSpPr/>
            <p:nvPr/>
          </p:nvSpPr>
          <p:spPr>
            <a:xfrm flipH="1">
              <a:off x="3901680" y="462024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38" h="138">
                  <a:moveTo>
                    <a:pt x="12" y="136"/>
                  </a:moveTo>
                  <a:cubicBezTo>
                    <a:pt x="135" y="12"/>
                    <a:pt x="135" y="12"/>
                    <a:pt x="135" y="12"/>
                  </a:cubicBezTo>
                  <a:cubicBezTo>
                    <a:pt x="136" y="8"/>
                    <a:pt x="137" y="4"/>
                    <a:pt x="138" y="0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4" y="138"/>
                    <a:pt x="8" y="137"/>
                    <a:pt x="12" y="136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  <p:sp>
          <p:nvSpPr>
            <p:cNvPr id="642" name="Freeform 56"/>
            <p:cNvSpPr/>
            <p:nvPr/>
          </p:nvSpPr>
          <p:spPr>
            <a:xfrm flipH="1">
              <a:off x="3948840" y="4750200"/>
              <a:ext cx="155160" cy="152640"/>
            </a:xfrm>
            <a:custGeom>
              <a:avLst/>
              <a:gdLst>
                <a:gd name="textAreaLeft" fmla="*/ -360 w 155160"/>
                <a:gd name="textAreaRight" fmla="*/ 155160 w 155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5" h="64">
                  <a:moveTo>
                    <a:pt x="65" y="0"/>
                  </a:moveTo>
                  <a:cubicBezTo>
                    <a:pt x="0" y="64"/>
                    <a:pt x="0" y="64"/>
                    <a:pt x="0" y="64"/>
                  </a:cubicBezTo>
                  <a:cubicBezTo>
                    <a:pt x="27" y="49"/>
                    <a:pt x="49" y="26"/>
                    <a:pt x="65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思源黑体 CN Light"/>
                <a:ea typeface="思源黑体 CN Bold"/>
              </a:endParaRPr>
            </a:p>
          </p:txBody>
        </p:sp>
      </p:grpSp>
      <p:sp>
        <p:nvSpPr>
          <p:cNvPr id="643" name="椭圆 104"/>
          <p:cNvSpPr/>
          <p:nvPr/>
        </p:nvSpPr>
        <p:spPr>
          <a:xfrm>
            <a:off x="4214880" y="4360320"/>
            <a:ext cx="870120" cy="870120"/>
          </a:xfrm>
          <a:prstGeom prst="ellipse">
            <a:avLst/>
          </a:prstGeom>
          <a:noFill/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bfbfb"/>
              </a:solidFill>
              <a:latin typeface="思源黑体 CN Bold"/>
              <a:ea typeface="思源黑体 CN Bold"/>
            </a:endParaRPr>
          </a:p>
        </p:txBody>
      </p:sp>
      <p:sp>
        <p:nvSpPr>
          <p:cNvPr id="644" name="椭圆 105"/>
          <p:cNvSpPr/>
          <p:nvPr/>
        </p:nvSpPr>
        <p:spPr>
          <a:xfrm>
            <a:off x="8484840" y="-475200"/>
            <a:ext cx="1073160" cy="1073160"/>
          </a:xfrm>
          <a:prstGeom prst="ellipse">
            <a:avLst/>
          </a:prstGeom>
          <a:noFill/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bfbfb"/>
              </a:solidFill>
              <a:latin typeface="思源黑体 CN Bold"/>
              <a:ea typeface="思源黑体 CN Bold"/>
            </a:endParaRPr>
          </a:p>
        </p:txBody>
      </p:sp>
      <p:sp>
        <p:nvSpPr>
          <p:cNvPr id="645" name="文本框 3" hidden="1"/>
          <p:cNvSpPr/>
          <p:nvPr/>
        </p:nvSpPr>
        <p:spPr>
          <a:xfrm>
            <a:off x="0" y="112320"/>
            <a:ext cx="1571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Y YUS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22"/>
          <p:cNvSpPr/>
          <p:nvPr/>
        </p:nvSpPr>
        <p:spPr>
          <a:xfrm>
            <a:off x="5209560" y="1117440"/>
            <a:ext cx="603360" cy="49680"/>
          </a:xfrm>
          <a:prstGeom prst="rect">
            <a:avLst/>
          </a:prstGeom>
          <a:solidFill>
            <a:srgbClr val="ffffff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思源黑体 CN Bold"/>
              <a:ea typeface="思源黑体 CN Bold"/>
            </a:endParaRPr>
          </a:p>
        </p:txBody>
      </p:sp>
      <p:grpSp>
        <p:nvGrpSpPr>
          <p:cNvPr id="647" name="组合 126"/>
          <p:cNvGrpSpPr/>
          <p:nvPr/>
        </p:nvGrpSpPr>
        <p:grpSpPr>
          <a:xfrm>
            <a:off x="4741200" y="1760040"/>
            <a:ext cx="4104000" cy="1186920"/>
            <a:chOff x="4741200" y="1760040"/>
            <a:chExt cx="4104000" cy="1186920"/>
          </a:xfrm>
        </p:grpSpPr>
        <p:sp>
          <p:nvSpPr>
            <p:cNvPr id="648" name="文本框 128"/>
            <p:cNvSpPr/>
            <p:nvPr/>
          </p:nvSpPr>
          <p:spPr>
            <a:xfrm>
              <a:off x="4741200" y="1760040"/>
              <a:ext cx="41040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7200" spc="-1" strike="noStrike">
                  <a:solidFill>
                    <a:srgbClr val="ffffff"/>
                  </a:solidFill>
                  <a:latin typeface="胡晓波真帅体"/>
                  <a:ea typeface="胡晓波真帅体"/>
                </a:rPr>
                <a:t>谢谢观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9" name="直接连接符 130"/>
            <p:cNvCxnSpPr/>
            <p:nvPr/>
          </p:nvCxnSpPr>
          <p:spPr>
            <a:xfrm>
              <a:off x="4824000" y="2936160"/>
              <a:ext cx="401364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</p:spTree>
  </p:cSld>
  <p:transition spd="slow">
    <p:fade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0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905400" y="1851480"/>
            <a:ext cx="7332840" cy="382320"/>
          </a:xfrm>
          <a:prstGeom prst="round2DiagRect">
            <a:avLst>
              <a:gd name="adj1" fmla="val 16667"/>
              <a:gd name="adj2" fmla="val 0"/>
            </a:avLst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磨坊有很多种 ，有风车磨坊，水磨坊，人力磨坊，畜牧磨坊，等……古时候用于把米、麦、豆等粮食加工成粉、浆的一种机械。开始用人力或畜力，到了晋代，我国发明用水作动力的水磨。通常由两个圆石做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1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前导读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3"/>
          <p:cNvSpPr/>
          <p:nvPr/>
        </p:nvSpPr>
        <p:spPr>
          <a:xfrm>
            <a:off x="1017720" y="1661040"/>
            <a:ext cx="7309440" cy="1256760"/>
          </a:xfrm>
          <a:prstGeom prst="round2DiagRect">
            <a:avLst>
              <a:gd name="adj1" fmla="val 16667"/>
              <a:gd name="adj2" fmla="val 0"/>
            </a:avLst>
          </a:prstGeom>
          <a:noFill/>
          <a:ln w="3810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彭文席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925—2009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，浙江瑞安人。长期担任中小学教师，曾任浙江省作家协会理事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主要作品：寓言《云》《母鸭生蛋》《猩猩看“子孙”》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1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前导读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3"/>
          <p:cNvSpPr/>
          <p:nvPr/>
        </p:nvSpPr>
        <p:spPr>
          <a:xfrm>
            <a:off x="930600" y="1759680"/>
            <a:ext cx="67320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不认识的字可以看拼音，或者请教老师和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读准每一个字的字音，圈出生字词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读通每个句子，读不通顺的多读几遍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）给每个自然段写上序号。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1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课前导读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5"/>
          <p:cNvSpPr/>
          <p:nvPr/>
        </p:nvSpPr>
        <p:spPr>
          <a:xfrm>
            <a:off x="1677240" y="1801080"/>
            <a:ext cx="5713560" cy="134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棚    驮    磨    坊    挡    伯    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刻    突    哩     唉    试    蹄    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7"/>
          <p:cNvSpPr/>
          <p:nvPr/>
        </p:nvSpPr>
        <p:spPr>
          <a:xfrm>
            <a:off x="1757520" y="1691640"/>
            <a:ext cx="568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pé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8"/>
          <p:cNvSpPr/>
          <p:nvPr/>
        </p:nvSpPr>
        <p:spPr>
          <a:xfrm>
            <a:off x="2570760" y="1691640"/>
            <a:ext cx="420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u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3"/>
          <p:cNvSpPr/>
          <p:nvPr/>
        </p:nvSpPr>
        <p:spPr>
          <a:xfrm>
            <a:off x="3386520" y="1691640"/>
            <a:ext cx="412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m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9"/>
          <p:cNvSpPr/>
          <p:nvPr/>
        </p:nvSpPr>
        <p:spPr>
          <a:xfrm>
            <a:off x="4158000" y="1691640"/>
            <a:ext cx="519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fá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0"/>
          <p:cNvSpPr/>
          <p:nvPr/>
        </p:nvSpPr>
        <p:spPr>
          <a:xfrm>
            <a:off x="5040000" y="1691640"/>
            <a:ext cx="568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dǎn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31"/>
          <p:cNvSpPr/>
          <p:nvPr/>
        </p:nvSpPr>
        <p:spPr>
          <a:xfrm>
            <a:off x="5885640" y="1691640"/>
            <a:ext cx="356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b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2"/>
          <p:cNvSpPr/>
          <p:nvPr/>
        </p:nvSpPr>
        <p:spPr>
          <a:xfrm>
            <a:off x="6666840" y="1691640"/>
            <a:ext cx="504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qiǎ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3"/>
          <p:cNvSpPr/>
          <p:nvPr/>
        </p:nvSpPr>
        <p:spPr>
          <a:xfrm>
            <a:off x="1743120" y="3265920"/>
            <a:ext cx="379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k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34"/>
          <p:cNvSpPr/>
          <p:nvPr/>
        </p:nvSpPr>
        <p:spPr>
          <a:xfrm>
            <a:off x="2558160" y="3265920"/>
            <a:ext cx="312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40"/>
          <p:cNvSpPr/>
          <p:nvPr/>
        </p:nvSpPr>
        <p:spPr>
          <a:xfrm>
            <a:off x="3411000" y="3265920"/>
            <a:ext cx="367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li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41"/>
          <p:cNvSpPr/>
          <p:nvPr/>
        </p:nvSpPr>
        <p:spPr>
          <a:xfrm>
            <a:off x="4318200" y="3265920"/>
            <a:ext cx="330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à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2"/>
          <p:cNvSpPr/>
          <p:nvPr/>
        </p:nvSpPr>
        <p:spPr>
          <a:xfrm>
            <a:off x="5100120" y="3265920"/>
            <a:ext cx="470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sh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43"/>
          <p:cNvSpPr/>
          <p:nvPr/>
        </p:nvSpPr>
        <p:spPr>
          <a:xfrm>
            <a:off x="6074640" y="3265920"/>
            <a:ext cx="3398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t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44"/>
          <p:cNvSpPr/>
          <p:nvPr/>
        </p:nvSpPr>
        <p:spPr>
          <a:xfrm>
            <a:off x="6874920" y="3265920"/>
            <a:ext cx="275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j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90320" y="286560"/>
            <a:ext cx="2379600" cy="303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文本框 108"/>
          <p:cNvSpPr/>
          <p:nvPr/>
        </p:nvSpPr>
        <p:spPr>
          <a:xfrm>
            <a:off x="6237000" y="635400"/>
            <a:ext cx="1818000" cy="432360"/>
          </a:xfrm>
          <a:prstGeom prst="cloudCallout">
            <a:avLst>
              <a:gd name="adj1" fmla="val 41188"/>
              <a:gd name="adj2" fmla="val 66326"/>
            </a:avLst>
          </a:prstGeom>
          <a:solidFill>
            <a:schemeClr val="bg1"/>
          </a:solidFill>
          <a:ln w="0">
            <a:solidFill>
              <a:srgbClr val="f37f10"/>
            </a:solidFill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会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19" name="组合 45"/>
          <p:cNvGrpSpPr/>
          <p:nvPr/>
        </p:nvGrpSpPr>
        <p:grpSpPr>
          <a:xfrm>
            <a:off x="1625040" y="832320"/>
            <a:ext cx="6135120" cy="3872160"/>
            <a:chOff x="1625040" y="832320"/>
            <a:chExt cx="6135120" cy="3872160"/>
          </a:xfrm>
        </p:grpSpPr>
        <p:pic>
          <p:nvPicPr>
            <p:cNvPr id="220" name="图片 46" descr="25"/>
            <p:cNvPicPr/>
            <p:nvPr/>
          </p:nvPicPr>
          <p:blipFill>
            <a:blip r:embed="rId1"/>
            <a:stretch/>
          </p:blipFill>
          <p:spPr>
            <a:xfrm>
              <a:off x="1625040" y="832320"/>
              <a:ext cx="6135120" cy="38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文本框 47"/>
            <p:cNvSpPr/>
            <p:nvPr/>
          </p:nvSpPr>
          <p:spPr>
            <a:xfrm>
              <a:off x="1752480" y="1950840"/>
              <a:ext cx="5347440" cy="21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连蹦带跳：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仔细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淹死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思源黑体 CN Bold"/>
                  <a:ea typeface="思源黑体 CN Bold"/>
                </a:rPr>
                <a:t>为难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矩形 1"/>
          <p:cNvSpPr/>
          <p:nvPr/>
        </p:nvSpPr>
        <p:spPr>
          <a:xfrm>
            <a:off x="2461320" y="1951200"/>
            <a:ext cx="5124960" cy="13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边蹦边跳，形容精力充沛，充满活力的样子。本文形 容小马精力充沛、充满活力的样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细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因为水淹而死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作对；刁难。本文指小马对过不过河这个问题感到困难， 难以应付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Group 47"/>
          <p:cNvGraphicFramePr/>
          <p:nvPr/>
        </p:nvGraphicFramePr>
        <p:xfrm>
          <a:off x="2130120" y="183744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4" name="Group 47"/>
          <p:cNvGraphicFramePr/>
          <p:nvPr/>
        </p:nvGraphicFramePr>
        <p:xfrm>
          <a:off x="3495600" y="183744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Group 47"/>
          <p:cNvGraphicFramePr/>
          <p:nvPr/>
        </p:nvGraphicFramePr>
        <p:xfrm>
          <a:off x="4838760" y="184968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Group 47"/>
          <p:cNvGraphicFramePr/>
          <p:nvPr/>
        </p:nvGraphicFramePr>
        <p:xfrm>
          <a:off x="6167880" y="183744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Group 47"/>
          <p:cNvGraphicFramePr/>
          <p:nvPr/>
        </p:nvGraphicFramePr>
        <p:xfrm>
          <a:off x="2123280" y="3059280"/>
          <a:ext cx="673560" cy="675000"/>
        </p:xfrm>
        <a:graphic>
          <a:graphicData uri="http://schemas.openxmlformats.org/drawingml/2006/table">
            <a:tbl>
              <a:tblPr/>
              <a:tblGrid>
                <a:gridCol w="334080"/>
                <a:gridCol w="33948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Group 47"/>
          <p:cNvGraphicFramePr/>
          <p:nvPr/>
        </p:nvGraphicFramePr>
        <p:xfrm>
          <a:off x="3489120" y="3050640"/>
          <a:ext cx="673560" cy="675000"/>
        </p:xfrm>
        <a:graphic>
          <a:graphicData uri="http://schemas.openxmlformats.org/drawingml/2006/table">
            <a:tbl>
              <a:tblPr/>
              <a:tblGrid>
                <a:gridCol w="334080"/>
                <a:gridCol w="33948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Group 47"/>
          <p:cNvGraphicFramePr/>
          <p:nvPr/>
        </p:nvGraphicFramePr>
        <p:xfrm>
          <a:off x="4846320" y="305928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Group 47"/>
          <p:cNvGraphicFramePr/>
          <p:nvPr/>
        </p:nvGraphicFramePr>
        <p:xfrm>
          <a:off x="6167880" y="304416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3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31" name="矩形 44">
            <a:hlinkClick r:id="rId1" action="ppaction://hlinksldjump"/>
          </p:cNvPr>
          <p:cNvSpPr/>
          <p:nvPr/>
        </p:nvSpPr>
        <p:spPr>
          <a:xfrm>
            <a:off x="2346120" y="184248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45">
            <a:hlinkClick r:id="rId2" action="ppaction://hlinksldjump"/>
          </p:cNvPr>
          <p:cNvSpPr/>
          <p:nvPr/>
        </p:nvSpPr>
        <p:spPr>
          <a:xfrm>
            <a:off x="3705480" y="184104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46">
            <a:hlinkClick r:id="rId3" action="ppaction://hlinksldjump"/>
          </p:cNvPr>
          <p:cNvSpPr/>
          <p:nvPr/>
        </p:nvSpPr>
        <p:spPr>
          <a:xfrm>
            <a:off x="5055480" y="185328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7">
            <a:hlinkClick r:id="rId4" action="ppaction://hlinksldjump"/>
          </p:cNvPr>
          <p:cNvSpPr/>
          <p:nvPr/>
        </p:nvSpPr>
        <p:spPr>
          <a:xfrm>
            <a:off x="6377400" y="184104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50"/>
          <p:cNvSpPr/>
          <p:nvPr/>
        </p:nvSpPr>
        <p:spPr>
          <a:xfrm>
            <a:off x="2338920" y="306324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51"/>
          <p:cNvSpPr/>
          <p:nvPr/>
        </p:nvSpPr>
        <p:spPr>
          <a:xfrm>
            <a:off x="3702240" y="30492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52"/>
          <p:cNvSpPr/>
          <p:nvPr/>
        </p:nvSpPr>
        <p:spPr>
          <a:xfrm>
            <a:off x="5063400" y="306648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53"/>
          <p:cNvSpPr/>
          <p:nvPr/>
        </p:nvSpPr>
        <p:spPr>
          <a:xfrm>
            <a:off x="6384600" y="30510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delay="0" evt="onClick">
                    <p:tgtEl>
                      <p:spTgt spid="231"/>
                    </p:tgtEl>
                  </p:cond>
                </p:stCondLst>
                <p:childTnLst>
                  <p:par>
                    <p:cTn id="171" fill="hold">
                      <p:stCondLst>
                        <p:cond delay="0"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delay="0" evt="onClick">
                    <p:tgtEl>
                      <p:spTgt spid="232"/>
                    </p:tgtEl>
                  </p:cond>
                </p:stCondLst>
                <p:childTnLst>
                  <p:par>
                    <p:cTn id="178" fill="hold">
                      <p:stCondLst>
                        <p:cond delay="0"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delay="0" evt="onClick">
                    <p:tgtEl>
                      <p:spTgt spid="233"/>
                    </p:tgtEl>
                  </p:cond>
                </p:stCondLst>
                <p:childTnLst>
                  <p:par>
                    <p:cTn id="185" fill="hold">
                      <p:stCondLst>
                        <p:cond delay="0"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delay="0" evt="onClick">
                    <p:tgtEl>
                      <p:spTgt spid="234"/>
                    </p:tgtEl>
                  </p:cond>
                </p:stCondLst>
                <p:childTnLst>
                  <p:par>
                    <p:cTn id="192" fill="hold">
                      <p:stCondLst>
                        <p:cond delay="0"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delay="0" evt="onClick">
                    <p:tgtEl>
                      <p:spTgt spid="235"/>
                    </p:tgtEl>
                  </p:cond>
                </p:stCondLst>
                <p:childTnLst>
                  <p:par>
                    <p:cTn id="199" fill="hold">
                      <p:stCondLst>
                        <p:cond delay="0"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delay="0" evt="onClick">
                    <p:tgtEl>
                      <p:spTgt spid="236"/>
                    </p:tgtEl>
                  </p:cond>
                </p:stCondLst>
                <p:childTnLst>
                  <p:par>
                    <p:cTn id="206" fill="hold">
                      <p:stCondLst>
                        <p:cond delay="0"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delay="0" evt="onClick">
                    <p:tgtEl>
                      <p:spTgt spid="237"/>
                    </p:tgtEl>
                  </p:cond>
                </p:stCondLst>
                <p:childTnLst>
                  <p:par>
                    <p:cTn id="213" fill="hold">
                      <p:stCondLst>
                        <p:cond delay="0"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delay="0" evt="onClick">
                    <p:tgtEl>
                      <p:spTgt spid="238"/>
                    </p:tgtEl>
                  </p:cond>
                </p:stCondLst>
                <p:childTnLst>
                  <p:par>
                    <p:cTn id="220" fill="hold">
                      <p:stCondLst>
                        <p:cond delay="0"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38"/>
          <p:cNvSpPr/>
          <p:nvPr/>
        </p:nvSpPr>
        <p:spPr>
          <a:xfrm>
            <a:off x="6869880" y="1044720"/>
            <a:ext cx="883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yuà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0"/>
          <p:cNvSpPr/>
          <p:nvPr/>
        </p:nvSpPr>
        <p:spPr>
          <a:xfrm>
            <a:off x="3656160" y="1751760"/>
            <a:ext cx="15955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结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部首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组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造句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书写指导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3"/>
          <p:cNvSpPr/>
          <p:nvPr/>
        </p:nvSpPr>
        <p:spPr>
          <a:xfrm>
            <a:off x="4362480" y="1751760"/>
            <a:ext cx="454104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半包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愿意    愿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我的愿望实现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  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厂”笔画舒展，包住里面的部分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等线"/>
              </a:rPr>
              <a:t> “</a:t>
            </a: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白、小、心”笔画紧凑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Group 47"/>
          <p:cNvGraphicFramePr/>
          <p:nvPr/>
        </p:nvGraphicFramePr>
        <p:xfrm>
          <a:off x="6861960" y="1614600"/>
          <a:ext cx="674640" cy="675000"/>
        </p:xfrm>
        <a:graphic>
          <a:graphicData uri="http://schemas.openxmlformats.org/drawingml/2006/table">
            <a:tbl>
              <a:tblPr/>
              <a:tblGrid>
                <a:gridCol w="334440"/>
                <a:gridCol w="340200"/>
              </a:tblGrid>
              <a:tr h="33588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1" lang="en-US" sz="500" spc="-1" strike="noStrike">
                        <a:solidFill>
                          <a:srgbClr val="ffffff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339120"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25560" bIns="25560" anchor="t">
                      <a:noAutofit/>
                    </a:bodyPr>
                    <a:p>
                      <a:endParaRPr b="0" lang="en-US" sz="500" spc="-1" strike="noStrike">
                        <a:solidFill>
                          <a:srgbClr val="000000"/>
                        </a:solidFill>
                        <a:latin typeface="思源黑体 CN Bold"/>
                        <a:ea typeface="宋体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44" name="矩形 52"/>
          <p:cNvSpPr/>
          <p:nvPr/>
        </p:nvSpPr>
        <p:spPr>
          <a:xfrm>
            <a:off x="7078680" y="1621800"/>
            <a:ext cx="2451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</a:rPr>
              <a:t>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50"/>
          <p:cNvSpPr/>
          <p:nvPr/>
        </p:nvSpPr>
        <p:spPr>
          <a:xfrm>
            <a:off x="2663280" y="3035880"/>
            <a:ext cx="250920" cy="184320"/>
          </a:xfrm>
          <a:custGeom>
            <a:avLst/>
            <a:gdLst>
              <a:gd name="textAreaLeft" fmla="*/ 0 w 250920"/>
              <a:gd name="textAreaRight" fmla="*/ 251280 w 2509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526" h="389">
                <a:moveTo>
                  <a:pt x="0" y="34"/>
                </a:moveTo>
                <a:lnTo>
                  <a:pt x="17" y="17"/>
                </a:lnTo>
                <a:lnTo>
                  <a:pt x="34" y="17"/>
                </a:lnTo>
                <a:lnTo>
                  <a:pt x="85" y="0"/>
                </a:lnTo>
                <a:lnTo>
                  <a:pt x="136" y="17"/>
                </a:lnTo>
                <a:lnTo>
                  <a:pt x="204" y="34"/>
                </a:lnTo>
                <a:lnTo>
                  <a:pt x="271" y="51"/>
                </a:lnTo>
                <a:lnTo>
                  <a:pt x="339" y="84"/>
                </a:lnTo>
                <a:lnTo>
                  <a:pt x="407" y="135"/>
                </a:lnTo>
                <a:lnTo>
                  <a:pt x="458" y="186"/>
                </a:lnTo>
                <a:lnTo>
                  <a:pt x="509" y="236"/>
                </a:lnTo>
                <a:lnTo>
                  <a:pt x="526" y="287"/>
                </a:lnTo>
                <a:lnTo>
                  <a:pt x="526" y="321"/>
                </a:lnTo>
                <a:lnTo>
                  <a:pt x="509" y="355"/>
                </a:lnTo>
                <a:lnTo>
                  <a:pt x="492" y="372"/>
                </a:lnTo>
                <a:lnTo>
                  <a:pt x="475" y="389"/>
                </a:lnTo>
                <a:lnTo>
                  <a:pt x="458" y="389"/>
                </a:lnTo>
                <a:lnTo>
                  <a:pt x="441" y="389"/>
                </a:lnTo>
                <a:lnTo>
                  <a:pt x="390" y="355"/>
                </a:lnTo>
                <a:lnTo>
                  <a:pt x="322" y="304"/>
                </a:lnTo>
                <a:lnTo>
                  <a:pt x="221" y="220"/>
                </a:lnTo>
                <a:lnTo>
                  <a:pt x="170" y="186"/>
                </a:lnTo>
                <a:lnTo>
                  <a:pt x="119" y="152"/>
                </a:lnTo>
                <a:lnTo>
                  <a:pt x="68" y="118"/>
                </a:lnTo>
                <a:lnTo>
                  <a:pt x="34" y="84"/>
                </a:lnTo>
                <a:lnTo>
                  <a:pt x="17" y="68"/>
                </a:lnTo>
                <a:lnTo>
                  <a:pt x="0" y="51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1225080" y="1704600"/>
            <a:ext cx="2160000" cy="2160360"/>
            <a:chOff x="1225080" y="1704600"/>
            <a:chExt cx="2160000" cy="2160360"/>
          </a:xfrm>
        </p:grpSpPr>
        <p:sp>
          <p:nvSpPr>
            <p:cNvPr id="247" name="Rectangle 5"/>
            <p:cNvSpPr/>
            <p:nvPr/>
          </p:nvSpPr>
          <p:spPr>
            <a:xfrm>
              <a:off x="2305080" y="277596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248" name="Rectangle 6"/>
            <p:cNvSpPr/>
            <p:nvPr/>
          </p:nvSpPr>
          <p:spPr>
            <a:xfrm>
              <a:off x="1225080" y="2775960"/>
              <a:ext cx="1079640" cy="10882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249" name="Rectangle 7"/>
            <p:cNvSpPr/>
            <p:nvPr/>
          </p:nvSpPr>
          <p:spPr>
            <a:xfrm>
              <a:off x="2305080" y="170496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250" name="Rectangle 8"/>
            <p:cNvSpPr/>
            <p:nvPr/>
          </p:nvSpPr>
          <p:spPr>
            <a:xfrm>
              <a:off x="1225080" y="1704960"/>
              <a:ext cx="1079640" cy="10706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420"/>
                </a:spcBef>
              </a:pPr>
              <a:endParaRPr b="0" lang="en-US" sz="2100" spc="-1" strike="noStrike">
                <a:solidFill>
                  <a:srgbClr val="000000"/>
                </a:solidFill>
                <a:latin typeface="思源黑体 CN Bold"/>
                <a:ea typeface="思源黑体 CN Bold"/>
              </a:endParaRPr>
            </a:p>
          </p:txBody>
        </p:sp>
        <p:sp>
          <p:nvSpPr>
            <p:cNvPr id="251" name="Line 9"/>
            <p:cNvSpPr/>
            <p:nvPr/>
          </p:nvSpPr>
          <p:spPr>
            <a:xfrm>
              <a:off x="1225080" y="170460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0"/>
            <p:cNvSpPr/>
            <p:nvPr/>
          </p:nvSpPr>
          <p:spPr>
            <a:xfrm>
              <a:off x="1225080" y="3864600"/>
              <a:ext cx="215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1"/>
            <p:cNvSpPr/>
            <p:nvPr/>
          </p:nvSpPr>
          <p:spPr>
            <a:xfrm>
              <a:off x="1225080" y="1704600"/>
              <a:ext cx="360" cy="216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2"/>
            <p:cNvSpPr/>
            <p:nvPr/>
          </p:nvSpPr>
          <p:spPr>
            <a:xfrm>
              <a:off x="3384720" y="1704600"/>
              <a:ext cx="360" cy="216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3"/>
            <p:cNvSpPr/>
            <p:nvPr/>
          </p:nvSpPr>
          <p:spPr>
            <a:xfrm>
              <a:off x="1225080" y="2775960"/>
              <a:ext cx="215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4"/>
            <p:cNvSpPr/>
            <p:nvPr/>
          </p:nvSpPr>
          <p:spPr>
            <a:xfrm>
              <a:off x="2304720" y="1704600"/>
              <a:ext cx="360" cy="216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Freeform 37"/>
          <p:cNvSpPr/>
          <p:nvPr/>
        </p:nvSpPr>
        <p:spPr>
          <a:xfrm>
            <a:off x="1977480" y="2102400"/>
            <a:ext cx="725760" cy="160200"/>
          </a:xfrm>
          <a:custGeom>
            <a:avLst/>
            <a:gdLst>
              <a:gd name="textAreaLeft" fmla="*/ 0 w 725760"/>
              <a:gd name="textAreaRight" fmla="*/ 726120 w 7257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1525" h="338">
                <a:moveTo>
                  <a:pt x="1440" y="135"/>
                </a:moveTo>
                <a:lnTo>
                  <a:pt x="1406" y="152"/>
                </a:lnTo>
                <a:lnTo>
                  <a:pt x="1356" y="152"/>
                </a:lnTo>
                <a:lnTo>
                  <a:pt x="1305" y="169"/>
                </a:lnTo>
                <a:lnTo>
                  <a:pt x="1220" y="186"/>
                </a:lnTo>
                <a:lnTo>
                  <a:pt x="1135" y="203"/>
                </a:lnTo>
                <a:lnTo>
                  <a:pt x="1017" y="220"/>
                </a:lnTo>
                <a:lnTo>
                  <a:pt x="898" y="237"/>
                </a:lnTo>
                <a:lnTo>
                  <a:pt x="746" y="253"/>
                </a:lnTo>
                <a:lnTo>
                  <a:pt x="610" y="287"/>
                </a:lnTo>
                <a:lnTo>
                  <a:pt x="475" y="304"/>
                </a:lnTo>
                <a:lnTo>
                  <a:pt x="356" y="321"/>
                </a:lnTo>
                <a:lnTo>
                  <a:pt x="254" y="321"/>
                </a:lnTo>
                <a:lnTo>
                  <a:pt x="170" y="321"/>
                </a:lnTo>
                <a:lnTo>
                  <a:pt x="102" y="338"/>
                </a:lnTo>
                <a:lnTo>
                  <a:pt x="51" y="321"/>
                </a:lnTo>
                <a:lnTo>
                  <a:pt x="0" y="321"/>
                </a:lnTo>
                <a:lnTo>
                  <a:pt x="0" y="203"/>
                </a:lnTo>
                <a:lnTo>
                  <a:pt x="136" y="203"/>
                </a:lnTo>
                <a:lnTo>
                  <a:pt x="254" y="203"/>
                </a:lnTo>
                <a:lnTo>
                  <a:pt x="475" y="169"/>
                </a:lnTo>
                <a:lnTo>
                  <a:pt x="593" y="152"/>
                </a:lnTo>
                <a:lnTo>
                  <a:pt x="712" y="135"/>
                </a:lnTo>
                <a:lnTo>
                  <a:pt x="847" y="101"/>
                </a:lnTo>
                <a:lnTo>
                  <a:pt x="1000" y="68"/>
                </a:lnTo>
                <a:lnTo>
                  <a:pt x="1152" y="34"/>
                </a:lnTo>
                <a:lnTo>
                  <a:pt x="1271" y="17"/>
                </a:lnTo>
                <a:lnTo>
                  <a:pt x="1356" y="0"/>
                </a:lnTo>
                <a:lnTo>
                  <a:pt x="1423" y="17"/>
                </a:lnTo>
                <a:lnTo>
                  <a:pt x="1457" y="17"/>
                </a:lnTo>
                <a:lnTo>
                  <a:pt x="1491" y="34"/>
                </a:lnTo>
                <a:lnTo>
                  <a:pt x="1508" y="51"/>
                </a:lnTo>
                <a:lnTo>
                  <a:pt x="1525" y="68"/>
                </a:lnTo>
                <a:lnTo>
                  <a:pt x="1508" y="101"/>
                </a:lnTo>
                <a:lnTo>
                  <a:pt x="1508" y="118"/>
                </a:lnTo>
                <a:lnTo>
                  <a:pt x="1474" y="135"/>
                </a:lnTo>
                <a:lnTo>
                  <a:pt x="1440" y="13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58" name="Freeform 38"/>
          <p:cNvSpPr/>
          <p:nvPr/>
        </p:nvSpPr>
        <p:spPr>
          <a:xfrm>
            <a:off x="1599120" y="2182320"/>
            <a:ext cx="450720" cy="1046160"/>
          </a:xfrm>
          <a:custGeom>
            <a:avLst/>
            <a:gdLst>
              <a:gd name="textAreaLeft" fmla="*/ 0 w 450720"/>
              <a:gd name="textAreaRight" fmla="*/ 451080 w 45072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949" h="2196">
                <a:moveTo>
                  <a:pt x="203" y="1892"/>
                </a:moveTo>
                <a:lnTo>
                  <a:pt x="305" y="1757"/>
                </a:lnTo>
                <a:lnTo>
                  <a:pt x="407" y="1605"/>
                </a:lnTo>
                <a:lnTo>
                  <a:pt x="491" y="1436"/>
                </a:lnTo>
                <a:lnTo>
                  <a:pt x="559" y="1250"/>
                </a:lnTo>
                <a:lnTo>
                  <a:pt x="627" y="1064"/>
                </a:lnTo>
                <a:lnTo>
                  <a:pt x="678" y="879"/>
                </a:lnTo>
                <a:lnTo>
                  <a:pt x="712" y="710"/>
                </a:lnTo>
                <a:lnTo>
                  <a:pt x="728" y="541"/>
                </a:lnTo>
                <a:lnTo>
                  <a:pt x="728" y="456"/>
                </a:lnTo>
                <a:lnTo>
                  <a:pt x="728" y="389"/>
                </a:lnTo>
                <a:lnTo>
                  <a:pt x="728" y="321"/>
                </a:lnTo>
                <a:lnTo>
                  <a:pt x="745" y="270"/>
                </a:lnTo>
                <a:lnTo>
                  <a:pt x="728" y="220"/>
                </a:lnTo>
                <a:lnTo>
                  <a:pt x="728" y="169"/>
                </a:lnTo>
                <a:lnTo>
                  <a:pt x="728" y="135"/>
                </a:lnTo>
                <a:lnTo>
                  <a:pt x="728" y="118"/>
                </a:lnTo>
                <a:lnTo>
                  <a:pt x="712" y="84"/>
                </a:lnTo>
                <a:lnTo>
                  <a:pt x="712" y="51"/>
                </a:lnTo>
                <a:lnTo>
                  <a:pt x="712" y="34"/>
                </a:lnTo>
                <a:lnTo>
                  <a:pt x="712" y="17"/>
                </a:lnTo>
                <a:lnTo>
                  <a:pt x="728" y="0"/>
                </a:lnTo>
                <a:lnTo>
                  <a:pt x="779" y="17"/>
                </a:lnTo>
                <a:lnTo>
                  <a:pt x="847" y="34"/>
                </a:lnTo>
                <a:lnTo>
                  <a:pt x="949" y="51"/>
                </a:lnTo>
                <a:lnTo>
                  <a:pt x="932" y="321"/>
                </a:lnTo>
                <a:lnTo>
                  <a:pt x="898" y="608"/>
                </a:lnTo>
                <a:lnTo>
                  <a:pt x="864" y="895"/>
                </a:lnTo>
                <a:lnTo>
                  <a:pt x="813" y="1031"/>
                </a:lnTo>
                <a:lnTo>
                  <a:pt x="779" y="1166"/>
                </a:lnTo>
                <a:lnTo>
                  <a:pt x="728" y="1318"/>
                </a:lnTo>
                <a:lnTo>
                  <a:pt x="661" y="1453"/>
                </a:lnTo>
                <a:lnTo>
                  <a:pt x="576" y="1588"/>
                </a:lnTo>
                <a:lnTo>
                  <a:pt x="508" y="1706"/>
                </a:lnTo>
                <a:lnTo>
                  <a:pt x="423" y="1842"/>
                </a:lnTo>
                <a:lnTo>
                  <a:pt x="339" y="1943"/>
                </a:lnTo>
                <a:lnTo>
                  <a:pt x="254" y="2027"/>
                </a:lnTo>
                <a:lnTo>
                  <a:pt x="169" y="2095"/>
                </a:lnTo>
                <a:lnTo>
                  <a:pt x="102" y="2146"/>
                </a:lnTo>
                <a:lnTo>
                  <a:pt x="51" y="2180"/>
                </a:lnTo>
                <a:lnTo>
                  <a:pt x="17" y="2196"/>
                </a:lnTo>
                <a:lnTo>
                  <a:pt x="0" y="2196"/>
                </a:lnTo>
                <a:lnTo>
                  <a:pt x="0" y="2180"/>
                </a:lnTo>
                <a:lnTo>
                  <a:pt x="17" y="2146"/>
                </a:lnTo>
                <a:lnTo>
                  <a:pt x="34" y="2112"/>
                </a:lnTo>
                <a:lnTo>
                  <a:pt x="68" y="2078"/>
                </a:lnTo>
                <a:lnTo>
                  <a:pt x="102" y="2027"/>
                </a:lnTo>
                <a:lnTo>
                  <a:pt x="152" y="1960"/>
                </a:lnTo>
                <a:lnTo>
                  <a:pt x="203" y="189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59" name="Freeform 39"/>
          <p:cNvSpPr/>
          <p:nvPr/>
        </p:nvSpPr>
        <p:spPr>
          <a:xfrm>
            <a:off x="2219400" y="2182320"/>
            <a:ext cx="178200" cy="249840"/>
          </a:xfrm>
          <a:custGeom>
            <a:avLst/>
            <a:gdLst>
              <a:gd name="textAreaLeft" fmla="*/ 0 w 178200"/>
              <a:gd name="textAreaRight" fmla="*/ 178560 w 178200"/>
              <a:gd name="textAreaTop" fmla="*/ 0 h 249840"/>
              <a:gd name="textAreaBottom" fmla="*/ 250200 h 249840"/>
            </a:gdLst>
            <a:ahLst/>
            <a:rect l="textAreaLeft" t="textAreaTop" r="textAreaRight" b="textAreaBottom"/>
            <a:pathLst>
              <a:path w="373" h="524">
                <a:moveTo>
                  <a:pt x="373" y="237"/>
                </a:moveTo>
                <a:lnTo>
                  <a:pt x="356" y="253"/>
                </a:lnTo>
                <a:lnTo>
                  <a:pt x="339" y="270"/>
                </a:lnTo>
                <a:lnTo>
                  <a:pt x="289" y="321"/>
                </a:lnTo>
                <a:lnTo>
                  <a:pt x="255" y="372"/>
                </a:lnTo>
                <a:lnTo>
                  <a:pt x="221" y="406"/>
                </a:lnTo>
                <a:lnTo>
                  <a:pt x="170" y="456"/>
                </a:lnTo>
                <a:lnTo>
                  <a:pt x="102" y="524"/>
                </a:lnTo>
                <a:lnTo>
                  <a:pt x="0" y="524"/>
                </a:lnTo>
                <a:lnTo>
                  <a:pt x="68" y="389"/>
                </a:lnTo>
                <a:lnTo>
                  <a:pt x="136" y="253"/>
                </a:lnTo>
                <a:lnTo>
                  <a:pt x="170" y="118"/>
                </a:lnTo>
                <a:lnTo>
                  <a:pt x="204" y="0"/>
                </a:lnTo>
                <a:lnTo>
                  <a:pt x="289" y="84"/>
                </a:lnTo>
                <a:lnTo>
                  <a:pt x="339" y="152"/>
                </a:lnTo>
                <a:lnTo>
                  <a:pt x="373" y="203"/>
                </a:lnTo>
                <a:lnTo>
                  <a:pt x="373" y="23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0" name="Freeform 40"/>
          <p:cNvSpPr/>
          <p:nvPr/>
        </p:nvSpPr>
        <p:spPr>
          <a:xfrm>
            <a:off x="2090880" y="2391840"/>
            <a:ext cx="112680" cy="361440"/>
          </a:xfrm>
          <a:custGeom>
            <a:avLst/>
            <a:gdLst>
              <a:gd name="textAreaLeft" fmla="*/ 0 w 112680"/>
              <a:gd name="textAreaRight" fmla="*/ 113040 w 112680"/>
              <a:gd name="textAreaTop" fmla="*/ 0 h 361440"/>
              <a:gd name="textAreaBottom" fmla="*/ 361800 h 361440"/>
            </a:gdLst>
            <a:ahLst/>
            <a:rect l="textAreaLeft" t="textAreaTop" r="textAreaRight" b="textAreaBottom"/>
            <a:pathLst>
              <a:path w="238" h="761">
                <a:moveTo>
                  <a:pt x="17" y="119"/>
                </a:moveTo>
                <a:lnTo>
                  <a:pt x="0" y="85"/>
                </a:lnTo>
                <a:lnTo>
                  <a:pt x="0" y="51"/>
                </a:lnTo>
                <a:lnTo>
                  <a:pt x="0" y="34"/>
                </a:lnTo>
                <a:lnTo>
                  <a:pt x="17" y="0"/>
                </a:lnTo>
                <a:lnTo>
                  <a:pt x="34" y="0"/>
                </a:lnTo>
                <a:lnTo>
                  <a:pt x="68" y="0"/>
                </a:lnTo>
                <a:lnTo>
                  <a:pt x="136" y="17"/>
                </a:lnTo>
                <a:lnTo>
                  <a:pt x="204" y="51"/>
                </a:lnTo>
                <a:lnTo>
                  <a:pt x="221" y="169"/>
                </a:lnTo>
                <a:lnTo>
                  <a:pt x="221" y="288"/>
                </a:lnTo>
                <a:lnTo>
                  <a:pt x="221" y="389"/>
                </a:lnTo>
                <a:lnTo>
                  <a:pt x="238" y="473"/>
                </a:lnTo>
                <a:lnTo>
                  <a:pt x="238" y="541"/>
                </a:lnTo>
                <a:lnTo>
                  <a:pt x="238" y="609"/>
                </a:lnTo>
                <a:lnTo>
                  <a:pt x="238" y="642"/>
                </a:lnTo>
                <a:lnTo>
                  <a:pt x="238" y="676"/>
                </a:lnTo>
                <a:lnTo>
                  <a:pt x="238" y="727"/>
                </a:lnTo>
                <a:lnTo>
                  <a:pt x="221" y="744"/>
                </a:lnTo>
                <a:lnTo>
                  <a:pt x="204" y="761"/>
                </a:lnTo>
                <a:lnTo>
                  <a:pt x="187" y="744"/>
                </a:lnTo>
                <a:lnTo>
                  <a:pt x="170" y="727"/>
                </a:lnTo>
                <a:lnTo>
                  <a:pt x="153" y="693"/>
                </a:lnTo>
                <a:lnTo>
                  <a:pt x="136" y="642"/>
                </a:lnTo>
                <a:lnTo>
                  <a:pt x="119" y="592"/>
                </a:lnTo>
                <a:lnTo>
                  <a:pt x="119" y="456"/>
                </a:lnTo>
                <a:lnTo>
                  <a:pt x="102" y="321"/>
                </a:lnTo>
                <a:lnTo>
                  <a:pt x="85" y="254"/>
                </a:lnTo>
                <a:lnTo>
                  <a:pt x="68" y="203"/>
                </a:lnTo>
                <a:lnTo>
                  <a:pt x="51" y="152"/>
                </a:lnTo>
                <a:lnTo>
                  <a:pt x="17" y="11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1" name="Freeform 41"/>
          <p:cNvSpPr/>
          <p:nvPr/>
        </p:nvSpPr>
        <p:spPr>
          <a:xfrm>
            <a:off x="2139480" y="2336040"/>
            <a:ext cx="588960" cy="402120"/>
          </a:xfrm>
          <a:custGeom>
            <a:avLst/>
            <a:gdLst>
              <a:gd name="textAreaLeft" fmla="*/ 0 w 588960"/>
              <a:gd name="textAreaRight" fmla="*/ 589320 w 588960"/>
              <a:gd name="textAreaTop" fmla="*/ 0 h 402120"/>
              <a:gd name="textAreaBottom" fmla="*/ 402480 h 402120"/>
            </a:gdLst>
            <a:ahLst/>
            <a:rect l="textAreaLeft" t="textAreaTop" r="textAreaRight" b="textAreaBottom"/>
            <a:pathLst>
              <a:path w="1237" h="845">
                <a:moveTo>
                  <a:pt x="932" y="845"/>
                </a:moveTo>
                <a:lnTo>
                  <a:pt x="915" y="828"/>
                </a:lnTo>
                <a:lnTo>
                  <a:pt x="898" y="794"/>
                </a:lnTo>
                <a:lnTo>
                  <a:pt x="881" y="794"/>
                </a:lnTo>
                <a:lnTo>
                  <a:pt x="881" y="777"/>
                </a:lnTo>
                <a:lnTo>
                  <a:pt x="881" y="743"/>
                </a:lnTo>
                <a:lnTo>
                  <a:pt x="881" y="727"/>
                </a:lnTo>
                <a:lnTo>
                  <a:pt x="881" y="676"/>
                </a:lnTo>
                <a:lnTo>
                  <a:pt x="898" y="642"/>
                </a:lnTo>
                <a:lnTo>
                  <a:pt x="898" y="574"/>
                </a:lnTo>
                <a:lnTo>
                  <a:pt x="915" y="524"/>
                </a:lnTo>
                <a:lnTo>
                  <a:pt x="932" y="456"/>
                </a:lnTo>
                <a:lnTo>
                  <a:pt x="932" y="406"/>
                </a:lnTo>
                <a:lnTo>
                  <a:pt x="949" y="321"/>
                </a:lnTo>
                <a:lnTo>
                  <a:pt x="966" y="270"/>
                </a:lnTo>
                <a:lnTo>
                  <a:pt x="949" y="237"/>
                </a:lnTo>
                <a:lnTo>
                  <a:pt x="932" y="186"/>
                </a:lnTo>
                <a:lnTo>
                  <a:pt x="898" y="169"/>
                </a:lnTo>
                <a:lnTo>
                  <a:pt x="881" y="169"/>
                </a:lnTo>
                <a:lnTo>
                  <a:pt x="864" y="152"/>
                </a:lnTo>
                <a:lnTo>
                  <a:pt x="813" y="169"/>
                </a:lnTo>
                <a:lnTo>
                  <a:pt x="762" y="169"/>
                </a:lnTo>
                <a:lnTo>
                  <a:pt x="712" y="169"/>
                </a:lnTo>
                <a:lnTo>
                  <a:pt x="644" y="186"/>
                </a:lnTo>
                <a:lnTo>
                  <a:pt x="559" y="186"/>
                </a:lnTo>
                <a:lnTo>
                  <a:pt x="474" y="203"/>
                </a:lnTo>
                <a:lnTo>
                  <a:pt x="390" y="220"/>
                </a:lnTo>
                <a:lnTo>
                  <a:pt x="305" y="237"/>
                </a:lnTo>
                <a:lnTo>
                  <a:pt x="237" y="237"/>
                </a:lnTo>
                <a:lnTo>
                  <a:pt x="169" y="253"/>
                </a:lnTo>
                <a:lnTo>
                  <a:pt x="102" y="253"/>
                </a:lnTo>
                <a:lnTo>
                  <a:pt x="68" y="270"/>
                </a:lnTo>
                <a:lnTo>
                  <a:pt x="17" y="270"/>
                </a:lnTo>
                <a:lnTo>
                  <a:pt x="0" y="270"/>
                </a:lnTo>
                <a:lnTo>
                  <a:pt x="0" y="169"/>
                </a:lnTo>
                <a:lnTo>
                  <a:pt x="102" y="152"/>
                </a:lnTo>
                <a:lnTo>
                  <a:pt x="237" y="152"/>
                </a:lnTo>
                <a:lnTo>
                  <a:pt x="390" y="118"/>
                </a:lnTo>
                <a:lnTo>
                  <a:pt x="559" y="101"/>
                </a:lnTo>
                <a:lnTo>
                  <a:pt x="644" y="85"/>
                </a:lnTo>
                <a:lnTo>
                  <a:pt x="712" y="68"/>
                </a:lnTo>
                <a:lnTo>
                  <a:pt x="779" y="51"/>
                </a:lnTo>
                <a:lnTo>
                  <a:pt x="830" y="51"/>
                </a:lnTo>
                <a:lnTo>
                  <a:pt x="881" y="34"/>
                </a:lnTo>
                <a:lnTo>
                  <a:pt x="915" y="17"/>
                </a:lnTo>
                <a:lnTo>
                  <a:pt x="932" y="17"/>
                </a:lnTo>
                <a:lnTo>
                  <a:pt x="949" y="0"/>
                </a:lnTo>
                <a:lnTo>
                  <a:pt x="983" y="0"/>
                </a:lnTo>
                <a:lnTo>
                  <a:pt x="1017" y="17"/>
                </a:lnTo>
                <a:lnTo>
                  <a:pt x="1067" y="34"/>
                </a:lnTo>
                <a:lnTo>
                  <a:pt x="1135" y="68"/>
                </a:lnTo>
                <a:lnTo>
                  <a:pt x="1186" y="118"/>
                </a:lnTo>
                <a:lnTo>
                  <a:pt x="1220" y="152"/>
                </a:lnTo>
                <a:lnTo>
                  <a:pt x="1237" y="186"/>
                </a:lnTo>
                <a:lnTo>
                  <a:pt x="1237" y="203"/>
                </a:lnTo>
                <a:lnTo>
                  <a:pt x="1237" y="237"/>
                </a:lnTo>
                <a:lnTo>
                  <a:pt x="1220" y="253"/>
                </a:lnTo>
                <a:lnTo>
                  <a:pt x="1186" y="270"/>
                </a:lnTo>
                <a:lnTo>
                  <a:pt x="1186" y="287"/>
                </a:lnTo>
                <a:lnTo>
                  <a:pt x="1169" y="304"/>
                </a:lnTo>
                <a:lnTo>
                  <a:pt x="1152" y="321"/>
                </a:lnTo>
                <a:lnTo>
                  <a:pt x="1135" y="355"/>
                </a:lnTo>
                <a:lnTo>
                  <a:pt x="1101" y="389"/>
                </a:lnTo>
                <a:lnTo>
                  <a:pt x="1084" y="439"/>
                </a:lnTo>
                <a:lnTo>
                  <a:pt x="1050" y="558"/>
                </a:lnTo>
                <a:lnTo>
                  <a:pt x="1017" y="625"/>
                </a:lnTo>
                <a:lnTo>
                  <a:pt x="1000" y="676"/>
                </a:lnTo>
                <a:lnTo>
                  <a:pt x="983" y="727"/>
                </a:lnTo>
                <a:lnTo>
                  <a:pt x="966" y="760"/>
                </a:lnTo>
                <a:lnTo>
                  <a:pt x="949" y="794"/>
                </a:lnTo>
                <a:lnTo>
                  <a:pt x="949" y="828"/>
                </a:lnTo>
                <a:lnTo>
                  <a:pt x="932" y="828"/>
                </a:lnTo>
                <a:lnTo>
                  <a:pt x="932" y="84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2" name="Freeform 42"/>
          <p:cNvSpPr/>
          <p:nvPr/>
        </p:nvSpPr>
        <p:spPr>
          <a:xfrm>
            <a:off x="2171880" y="2504880"/>
            <a:ext cx="337680" cy="87840"/>
          </a:xfrm>
          <a:custGeom>
            <a:avLst/>
            <a:gdLst>
              <a:gd name="textAreaLeft" fmla="*/ 0 w 337680"/>
              <a:gd name="textAreaRight" fmla="*/ 338040 w 337680"/>
              <a:gd name="textAreaTop" fmla="*/ 0 h 87840"/>
              <a:gd name="textAreaBottom" fmla="*/ 88200 h 87840"/>
            </a:gdLst>
            <a:ahLst/>
            <a:rect l="textAreaLeft" t="textAreaTop" r="textAreaRight" b="textAreaBottom"/>
            <a:pathLst>
              <a:path w="711" h="186">
                <a:moveTo>
                  <a:pt x="0" y="186"/>
                </a:moveTo>
                <a:lnTo>
                  <a:pt x="0" y="84"/>
                </a:lnTo>
                <a:lnTo>
                  <a:pt x="51" y="84"/>
                </a:lnTo>
                <a:lnTo>
                  <a:pt x="135" y="67"/>
                </a:lnTo>
                <a:lnTo>
                  <a:pt x="203" y="67"/>
                </a:lnTo>
                <a:lnTo>
                  <a:pt x="305" y="34"/>
                </a:lnTo>
                <a:lnTo>
                  <a:pt x="406" y="17"/>
                </a:lnTo>
                <a:lnTo>
                  <a:pt x="474" y="0"/>
                </a:lnTo>
                <a:lnTo>
                  <a:pt x="525" y="0"/>
                </a:lnTo>
                <a:lnTo>
                  <a:pt x="559" y="0"/>
                </a:lnTo>
                <a:lnTo>
                  <a:pt x="610" y="0"/>
                </a:lnTo>
                <a:lnTo>
                  <a:pt x="661" y="0"/>
                </a:lnTo>
                <a:lnTo>
                  <a:pt x="678" y="17"/>
                </a:lnTo>
                <a:lnTo>
                  <a:pt x="694" y="34"/>
                </a:lnTo>
                <a:lnTo>
                  <a:pt x="711" y="67"/>
                </a:lnTo>
                <a:lnTo>
                  <a:pt x="694" y="67"/>
                </a:lnTo>
                <a:lnTo>
                  <a:pt x="661" y="84"/>
                </a:lnTo>
                <a:lnTo>
                  <a:pt x="610" y="101"/>
                </a:lnTo>
                <a:lnTo>
                  <a:pt x="525" y="101"/>
                </a:lnTo>
                <a:lnTo>
                  <a:pt x="440" y="118"/>
                </a:lnTo>
                <a:lnTo>
                  <a:pt x="305" y="135"/>
                </a:lnTo>
                <a:lnTo>
                  <a:pt x="169" y="152"/>
                </a:lnTo>
                <a:lnTo>
                  <a:pt x="0" y="18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3" name="Freeform 43"/>
          <p:cNvSpPr/>
          <p:nvPr/>
        </p:nvSpPr>
        <p:spPr>
          <a:xfrm>
            <a:off x="2188440" y="2633400"/>
            <a:ext cx="402120" cy="104400"/>
          </a:xfrm>
          <a:custGeom>
            <a:avLst/>
            <a:gdLst>
              <a:gd name="textAreaLeft" fmla="*/ 0 w 402120"/>
              <a:gd name="textAreaRight" fmla="*/ 402480 w 402120"/>
              <a:gd name="textAreaTop" fmla="*/ 0 h 104400"/>
              <a:gd name="textAreaBottom" fmla="*/ 104760 h 104400"/>
            </a:gdLst>
            <a:ahLst/>
            <a:rect l="textAreaLeft" t="textAreaTop" r="textAreaRight" b="textAreaBottom"/>
            <a:pathLst>
              <a:path w="847" h="220">
                <a:moveTo>
                  <a:pt x="0" y="102"/>
                </a:moveTo>
                <a:lnTo>
                  <a:pt x="847" y="0"/>
                </a:lnTo>
                <a:lnTo>
                  <a:pt x="847" y="102"/>
                </a:lnTo>
                <a:lnTo>
                  <a:pt x="406" y="152"/>
                </a:lnTo>
                <a:lnTo>
                  <a:pt x="203" y="186"/>
                </a:lnTo>
                <a:lnTo>
                  <a:pt x="0" y="220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4" name="Freeform 44"/>
          <p:cNvSpPr/>
          <p:nvPr/>
        </p:nvSpPr>
        <p:spPr>
          <a:xfrm>
            <a:off x="2235960" y="2674080"/>
            <a:ext cx="209160" cy="393840"/>
          </a:xfrm>
          <a:custGeom>
            <a:avLst/>
            <a:gdLst>
              <a:gd name="textAreaLeft" fmla="*/ 0 w 209160"/>
              <a:gd name="textAreaRight" fmla="*/ 209520 w 20916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441" h="828">
                <a:moveTo>
                  <a:pt x="102" y="642"/>
                </a:moveTo>
                <a:lnTo>
                  <a:pt x="51" y="608"/>
                </a:lnTo>
                <a:lnTo>
                  <a:pt x="17" y="591"/>
                </a:lnTo>
                <a:lnTo>
                  <a:pt x="0" y="557"/>
                </a:lnTo>
                <a:lnTo>
                  <a:pt x="17" y="540"/>
                </a:lnTo>
                <a:lnTo>
                  <a:pt x="51" y="540"/>
                </a:lnTo>
                <a:lnTo>
                  <a:pt x="85" y="523"/>
                </a:lnTo>
                <a:lnTo>
                  <a:pt x="119" y="540"/>
                </a:lnTo>
                <a:lnTo>
                  <a:pt x="170" y="540"/>
                </a:lnTo>
                <a:lnTo>
                  <a:pt x="204" y="557"/>
                </a:lnTo>
                <a:lnTo>
                  <a:pt x="238" y="557"/>
                </a:lnTo>
                <a:lnTo>
                  <a:pt x="255" y="557"/>
                </a:lnTo>
                <a:lnTo>
                  <a:pt x="255" y="540"/>
                </a:lnTo>
                <a:lnTo>
                  <a:pt x="255" y="523"/>
                </a:lnTo>
                <a:lnTo>
                  <a:pt x="255" y="473"/>
                </a:lnTo>
                <a:lnTo>
                  <a:pt x="255" y="422"/>
                </a:lnTo>
                <a:lnTo>
                  <a:pt x="255" y="338"/>
                </a:lnTo>
                <a:lnTo>
                  <a:pt x="255" y="253"/>
                </a:lnTo>
                <a:lnTo>
                  <a:pt x="238" y="135"/>
                </a:lnTo>
                <a:lnTo>
                  <a:pt x="238" y="0"/>
                </a:lnTo>
                <a:lnTo>
                  <a:pt x="322" y="33"/>
                </a:lnTo>
                <a:lnTo>
                  <a:pt x="373" y="67"/>
                </a:lnTo>
                <a:lnTo>
                  <a:pt x="424" y="101"/>
                </a:lnTo>
                <a:lnTo>
                  <a:pt x="441" y="118"/>
                </a:lnTo>
                <a:lnTo>
                  <a:pt x="441" y="152"/>
                </a:lnTo>
                <a:lnTo>
                  <a:pt x="424" y="186"/>
                </a:lnTo>
                <a:lnTo>
                  <a:pt x="424" y="236"/>
                </a:lnTo>
                <a:lnTo>
                  <a:pt x="407" y="287"/>
                </a:lnTo>
                <a:lnTo>
                  <a:pt x="407" y="354"/>
                </a:lnTo>
                <a:lnTo>
                  <a:pt x="407" y="456"/>
                </a:lnTo>
                <a:lnTo>
                  <a:pt x="407" y="557"/>
                </a:lnTo>
                <a:lnTo>
                  <a:pt x="407" y="642"/>
                </a:lnTo>
                <a:lnTo>
                  <a:pt x="390" y="709"/>
                </a:lnTo>
                <a:lnTo>
                  <a:pt x="356" y="760"/>
                </a:lnTo>
                <a:lnTo>
                  <a:pt x="339" y="794"/>
                </a:lnTo>
                <a:lnTo>
                  <a:pt x="305" y="811"/>
                </a:lnTo>
                <a:lnTo>
                  <a:pt x="288" y="828"/>
                </a:lnTo>
                <a:lnTo>
                  <a:pt x="255" y="828"/>
                </a:lnTo>
                <a:lnTo>
                  <a:pt x="238" y="828"/>
                </a:lnTo>
                <a:lnTo>
                  <a:pt x="221" y="811"/>
                </a:lnTo>
                <a:lnTo>
                  <a:pt x="221" y="794"/>
                </a:lnTo>
                <a:lnTo>
                  <a:pt x="204" y="760"/>
                </a:lnTo>
                <a:lnTo>
                  <a:pt x="204" y="726"/>
                </a:lnTo>
                <a:lnTo>
                  <a:pt x="170" y="709"/>
                </a:lnTo>
                <a:lnTo>
                  <a:pt x="136" y="675"/>
                </a:lnTo>
                <a:lnTo>
                  <a:pt x="102" y="64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5" name="Freeform 45"/>
          <p:cNvSpPr/>
          <p:nvPr/>
        </p:nvSpPr>
        <p:spPr>
          <a:xfrm>
            <a:off x="2043000" y="2786040"/>
            <a:ext cx="104400" cy="224640"/>
          </a:xfrm>
          <a:custGeom>
            <a:avLst/>
            <a:gdLst>
              <a:gd name="textAreaLeft" fmla="*/ 0 w 104400"/>
              <a:gd name="textAreaRight" fmla="*/ 104760 w 104400"/>
              <a:gd name="textAreaTop" fmla="*/ 0 h 224640"/>
              <a:gd name="textAreaBottom" fmla="*/ 225000 h 224640"/>
            </a:gdLst>
            <a:ahLst/>
            <a:rect l="textAreaLeft" t="textAreaTop" r="textAreaRight" b="textAreaBottom"/>
            <a:pathLst>
              <a:path w="220" h="473">
                <a:moveTo>
                  <a:pt x="203" y="85"/>
                </a:moveTo>
                <a:lnTo>
                  <a:pt x="220" y="169"/>
                </a:lnTo>
                <a:lnTo>
                  <a:pt x="220" y="220"/>
                </a:lnTo>
                <a:lnTo>
                  <a:pt x="220" y="254"/>
                </a:lnTo>
                <a:lnTo>
                  <a:pt x="186" y="355"/>
                </a:lnTo>
                <a:lnTo>
                  <a:pt x="135" y="423"/>
                </a:lnTo>
                <a:lnTo>
                  <a:pt x="101" y="439"/>
                </a:lnTo>
                <a:lnTo>
                  <a:pt x="84" y="473"/>
                </a:lnTo>
                <a:lnTo>
                  <a:pt x="68" y="473"/>
                </a:lnTo>
                <a:lnTo>
                  <a:pt x="51" y="473"/>
                </a:lnTo>
                <a:lnTo>
                  <a:pt x="34" y="473"/>
                </a:lnTo>
                <a:lnTo>
                  <a:pt x="17" y="456"/>
                </a:lnTo>
                <a:lnTo>
                  <a:pt x="17" y="423"/>
                </a:lnTo>
                <a:lnTo>
                  <a:pt x="0" y="389"/>
                </a:lnTo>
                <a:lnTo>
                  <a:pt x="0" y="355"/>
                </a:lnTo>
                <a:lnTo>
                  <a:pt x="0" y="321"/>
                </a:lnTo>
                <a:lnTo>
                  <a:pt x="17" y="287"/>
                </a:lnTo>
                <a:lnTo>
                  <a:pt x="34" y="254"/>
                </a:lnTo>
                <a:lnTo>
                  <a:pt x="68" y="220"/>
                </a:lnTo>
                <a:lnTo>
                  <a:pt x="84" y="186"/>
                </a:lnTo>
                <a:lnTo>
                  <a:pt x="118" y="85"/>
                </a:lnTo>
                <a:lnTo>
                  <a:pt x="118" y="51"/>
                </a:lnTo>
                <a:lnTo>
                  <a:pt x="135" y="17"/>
                </a:lnTo>
                <a:lnTo>
                  <a:pt x="152" y="0"/>
                </a:lnTo>
                <a:lnTo>
                  <a:pt x="169" y="0"/>
                </a:lnTo>
                <a:lnTo>
                  <a:pt x="186" y="17"/>
                </a:lnTo>
                <a:lnTo>
                  <a:pt x="186" y="51"/>
                </a:lnTo>
                <a:lnTo>
                  <a:pt x="203" y="8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6" name="Freeform 46"/>
          <p:cNvSpPr/>
          <p:nvPr/>
        </p:nvSpPr>
        <p:spPr>
          <a:xfrm>
            <a:off x="2558520" y="2786040"/>
            <a:ext cx="210240" cy="168840"/>
          </a:xfrm>
          <a:custGeom>
            <a:avLst/>
            <a:gdLst>
              <a:gd name="textAreaLeft" fmla="*/ 0 w 210240"/>
              <a:gd name="textAreaRight" fmla="*/ 210600 w 210240"/>
              <a:gd name="textAreaTop" fmla="*/ 0 h 168840"/>
              <a:gd name="textAreaBottom" fmla="*/ 169200 h 168840"/>
            </a:gdLst>
            <a:ahLst/>
            <a:rect l="textAreaLeft" t="textAreaTop" r="textAreaRight" b="textAreaBottom"/>
            <a:pathLst>
              <a:path w="441" h="355">
                <a:moveTo>
                  <a:pt x="271" y="68"/>
                </a:moveTo>
                <a:lnTo>
                  <a:pt x="339" y="102"/>
                </a:lnTo>
                <a:lnTo>
                  <a:pt x="373" y="118"/>
                </a:lnTo>
                <a:lnTo>
                  <a:pt x="407" y="169"/>
                </a:lnTo>
                <a:lnTo>
                  <a:pt x="424" y="203"/>
                </a:lnTo>
                <a:lnTo>
                  <a:pt x="441" y="254"/>
                </a:lnTo>
                <a:lnTo>
                  <a:pt x="441" y="287"/>
                </a:lnTo>
                <a:lnTo>
                  <a:pt x="441" y="321"/>
                </a:lnTo>
                <a:lnTo>
                  <a:pt x="424" y="338"/>
                </a:lnTo>
                <a:lnTo>
                  <a:pt x="407" y="355"/>
                </a:lnTo>
                <a:lnTo>
                  <a:pt x="356" y="338"/>
                </a:lnTo>
                <a:lnTo>
                  <a:pt x="288" y="287"/>
                </a:lnTo>
                <a:lnTo>
                  <a:pt x="203" y="220"/>
                </a:lnTo>
                <a:lnTo>
                  <a:pt x="119" y="152"/>
                </a:lnTo>
                <a:lnTo>
                  <a:pt x="51" y="85"/>
                </a:lnTo>
                <a:lnTo>
                  <a:pt x="17" y="34"/>
                </a:lnTo>
                <a:lnTo>
                  <a:pt x="0" y="0"/>
                </a:lnTo>
                <a:lnTo>
                  <a:pt x="68" y="0"/>
                </a:lnTo>
                <a:lnTo>
                  <a:pt x="136" y="17"/>
                </a:lnTo>
                <a:lnTo>
                  <a:pt x="203" y="34"/>
                </a:lnTo>
                <a:lnTo>
                  <a:pt x="271" y="6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7" name="Freeform 47"/>
          <p:cNvSpPr/>
          <p:nvPr/>
        </p:nvSpPr>
        <p:spPr>
          <a:xfrm>
            <a:off x="1832400" y="3140640"/>
            <a:ext cx="136440" cy="289080"/>
          </a:xfrm>
          <a:custGeom>
            <a:avLst/>
            <a:gdLst>
              <a:gd name="textAreaLeft" fmla="*/ 0 w 136440"/>
              <a:gd name="textAreaRight" fmla="*/ 136800 w 136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88" h="608">
                <a:moveTo>
                  <a:pt x="0" y="523"/>
                </a:moveTo>
                <a:lnTo>
                  <a:pt x="0" y="473"/>
                </a:lnTo>
                <a:lnTo>
                  <a:pt x="0" y="422"/>
                </a:lnTo>
                <a:lnTo>
                  <a:pt x="17" y="388"/>
                </a:lnTo>
                <a:lnTo>
                  <a:pt x="51" y="338"/>
                </a:lnTo>
                <a:lnTo>
                  <a:pt x="68" y="287"/>
                </a:lnTo>
                <a:lnTo>
                  <a:pt x="102" y="236"/>
                </a:lnTo>
                <a:lnTo>
                  <a:pt x="136" y="185"/>
                </a:lnTo>
                <a:lnTo>
                  <a:pt x="170" y="118"/>
                </a:lnTo>
                <a:lnTo>
                  <a:pt x="187" y="67"/>
                </a:lnTo>
                <a:lnTo>
                  <a:pt x="204" y="16"/>
                </a:lnTo>
                <a:lnTo>
                  <a:pt x="221" y="0"/>
                </a:lnTo>
                <a:lnTo>
                  <a:pt x="237" y="0"/>
                </a:lnTo>
                <a:lnTo>
                  <a:pt x="254" y="0"/>
                </a:lnTo>
                <a:lnTo>
                  <a:pt x="254" y="16"/>
                </a:lnTo>
                <a:lnTo>
                  <a:pt x="271" y="50"/>
                </a:lnTo>
                <a:lnTo>
                  <a:pt x="271" y="84"/>
                </a:lnTo>
                <a:lnTo>
                  <a:pt x="288" y="169"/>
                </a:lnTo>
                <a:lnTo>
                  <a:pt x="271" y="287"/>
                </a:lnTo>
                <a:lnTo>
                  <a:pt x="271" y="338"/>
                </a:lnTo>
                <a:lnTo>
                  <a:pt x="237" y="405"/>
                </a:lnTo>
                <a:lnTo>
                  <a:pt x="221" y="456"/>
                </a:lnTo>
                <a:lnTo>
                  <a:pt x="170" y="506"/>
                </a:lnTo>
                <a:lnTo>
                  <a:pt x="136" y="557"/>
                </a:lnTo>
                <a:lnTo>
                  <a:pt x="102" y="591"/>
                </a:lnTo>
                <a:lnTo>
                  <a:pt x="68" y="608"/>
                </a:lnTo>
                <a:lnTo>
                  <a:pt x="51" y="591"/>
                </a:lnTo>
                <a:lnTo>
                  <a:pt x="34" y="574"/>
                </a:lnTo>
                <a:lnTo>
                  <a:pt x="17" y="557"/>
                </a:lnTo>
                <a:lnTo>
                  <a:pt x="0" y="52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8" name="Freeform 48"/>
          <p:cNvSpPr/>
          <p:nvPr/>
        </p:nvSpPr>
        <p:spPr>
          <a:xfrm>
            <a:off x="2090880" y="3132360"/>
            <a:ext cx="758160" cy="344880"/>
          </a:xfrm>
          <a:custGeom>
            <a:avLst/>
            <a:gdLst>
              <a:gd name="textAreaLeft" fmla="*/ 0 w 758160"/>
              <a:gd name="textAreaRight" fmla="*/ 758520 w 758160"/>
              <a:gd name="textAreaTop" fmla="*/ 0 h 344880"/>
              <a:gd name="textAreaBottom" fmla="*/ 345240 h 344880"/>
            </a:gdLst>
            <a:ahLst/>
            <a:rect l="textAreaLeft" t="textAreaTop" r="textAreaRight" b="textAreaBottom"/>
            <a:pathLst>
              <a:path w="1593" h="726">
                <a:moveTo>
                  <a:pt x="119" y="135"/>
                </a:moveTo>
                <a:lnTo>
                  <a:pt x="170" y="202"/>
                </a:lnTo>
                <a:lnTo>
                  <a:pt x="255" y="270"/>
                </a:lnTo>
                <a:lnTo>
                  <a:pt x="322" y="338"/>
                </a:lnTo>
                <a:lnTo>
                  <a:pt x="424" y="405"/>
                </a:lnTo>
                <a:lnTo>
                  <a:pt x="526" y="456"/>
                </a:lnTo>
                <a:lnTo>
                  <a:pt x="644" y="490"/>
                </a:lnTo>
                <a:lnTo>
                  <a:pt x="763" y="523"/>
                </a:lnTo>
                <a:lnTo>
                  <a:pt x="898" y="540"/>
                </a:lnTo>
                <a:lnTo>
                  <a:pt x="966" y="540"/>
                </a:lnTo>
                <a:lnTo>
                  <a:pt x="1034" y="540"/>
                </a:lnTo>
                <a:lnTo>
                  <a:pt x="1085" y="523"/>
                </a:lnTo>
                <a:lnTo>
                  <a:pt x="1119" y="523"/>
                </a:lnTo>
                <a:lnTo>
                  <a:pt x="1152" y="523"/>
                </a:lnTo>
                <a:lnTo>
                  <a:pt x="1186" y="523"/>
                </a:lnTo>
                <a:lnTo>
                  <a:pt x="1203" y="507"/>
                </a:lnTo>
                <a:lnTo>
                  <a:pt x="1203" y="473"/>
                </a:lnTo>
                <a:lnTo>
                  <a:pt x="1203" y="439"/>
                </a:lnTo>
                <a:lnTo>
                  <a:pt x="1169" y="371"/>
                </a:lnTo>
                <a:lnTo>
                  <a:pt x="1136" y="287"/>
                </a:lnTo>
                <a:lnTo>
                  <a:pt x="1102" y="202"/>
                </a:lnTo>
                <a:lnTo>
                  <a:pt x="1068" y="152"/>
                </a:lnTo>
                <a:lnTo>
                  <a:pt x="1068" y="118"/>
                </a:lnTo>
                <a:lnTo>
                  <a:pt x="1085" y="101"/>
                </a:lnTo>
                <a:lnTo>
                  <a:pt x="1102" y="118"/>
                </a:lnTo>
                <a:lnTo>
                  <a:pt x="1136" y="135"/>
                </a:lnTo>
                <a:lnTo>
                  <a:pt x="1186" y="186"/>
                </a:lnTo>
                <a:lnTo>
                  <a:pt x="1254" y="253"/>
                </a:lnTo>
                <a:lnTo>
                  <a:pt x="1322" y="321"/>
                </a:lnTo>
                <a:lnTo>
                  <a:pt x="1390" y="371"/>
                </a:lnTo>
                <a:lnTo>
                  <a:pt x="1440" y="422"/>
                </a:lnTo>
                <a:lnTo>
                  <a:pt x="1491" y="439"/>
                </a:lnTo>
                <a:lnTo>
                  <a:pt x="1542" y="456"/>
                </a:lnTo>
                <a:lnTo>
                  <a:pt x="1559" y="490"/>
                </a:lnTo>
                <a:lnTo>
                  <a:pt x="1576" y="507"/>
                </a:lnTo>
                <a:lnTo>
                  <a:pt x="1593" y="540"/>
                </a:lnTo>
                <a:lnTo>
                  <a:pt x="1576" y="557"/>
                </a:lnTo>
                <a:lnTo>
                  <a:pt x="1559" y="574"/>
                </a:lnTo>
                <a:lnTo>
                  <a:pt x="1525" y="608"/>
                </a:lnTo>
                <a:lnTo>
                  <a:pt x="1491" y="625"/>
                </a:lnTo>
                <a:lnTo>
                  <a:pt x="1390" y="676"/>
                </a:lnTo>
                <a:lnTo>
                  <a:pt x="1271" y="709"/>
                </a:lnTo>
                <a:lnTo>
                  <a:pt x="1203" y="709"/>
                </a:lnTo>
                <a:lnTo>
                  <a:pt x="1136" y="726"/>
                </a:lnTo>
                <a:lnTo>
                  <a:pt x="1051" y="726"/>
                </a:lnTo>
                <a:lnTo>
                  <a:pt x="949" y="726"/>
                </a:lnTo>
                <a:lnTo>
                  <a:pt x="848" y="726"/>
                </a:lnTo>
                <a:lnTo>
                  <a:pt x="763" y="726"/>
                </a:lnTo>
                <a:lnTo>
                  <a:pt x="661" y="709"/>
                </a:lnTo>
                <a:lnTo>
                  <a:pt x="576" y="676"/>
                </a:lnTo>
                <a:lnTo>
                  <a:pt x="492" y="642"/>
                </a:lnTo>
                <a:lnTo>
                  <a:pt x="407" y="608"/>
                </a:lnTo>
                <a:lnTo>
                  <a:pt x="339" y="557"/>
                </a:lnTo>
                <a:lnTo>
                  <a:pt x="255" y="490"/>
                </a:lnTo>
                <a:lnTo>
                  <a:pt x="187" y="422"/>
                </a:lnTo>
                <a:lnTo>
                  <a:pt x="136" y="355"/>
                </a:lnTo>
                <a:lnTo>
                  <a:pt x="85" y="270"/>
                </a:lnTo>
                <a:lnTo>
                  <a:pt x="51" y="186"/>
                </a:lnTo>
                <a:lnTo>
                  <a:pt x="17" y="101"/>
                </a:lnTo>
                <a:lnTo>
                  <a:pt x="0" y="50"/>
                </a:lnTo>
                <a:lnTo>
                  <a:pt x="0" y="17"/>
                </a:lnTo>
                <a:lnTo>
                  <a:pt x="17" y="0"/>
                </a:lnTo>
                <a:lnTo>
                  <a:pt x="51" y="17"/>
                </a:lnTo>
                <a:lnTo>
                  <a:pt x="85" y="67"/>
                </a:lnTo>
                <a:lnTo>
                  <a:pt x="119" y="13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69" name="Freeform 49"/>
          <p:cNvSpPr/>
          <p:nvPr/>
        </p:nvSpPr>
        <p:spPr>
          <a:xfrm>
            <a:off x="2276640" y="3115800"/>
            <a:ext cx="177120" cy="144720"/>
          </a:xfrm>
          <a:custGeom>
            <a:avLst/>
            <a:gdLst>
              <a:gd name="textAreaLeft" fmla="*/ 0 w 177120"/>
              <a:gd name="textAreaRight" fmla="*/ 177480 w 17712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373" h="304">
                <a:moveTo>
                  <a:pt x="0" y="34"/>
                </a:moveTo>
                <a:lnTo>
                  <a:pt x="17" y="17"/>
                </a:lnTo>
                <a:lnTo>
                  <a:pt x="34" y="17"/>
                </a:lnTo>
                <a:lnTo>
                  <a:pt x="51" y="0"/>
                </a:lnTo>
                <a:lnTo>
                  <a:pt x="102" y="0"/>
                </a:lnTo>
                <a:lnTo>
                  <a:pt x="153" y="0"/>
                </a:lnTo>
                <a:lnTo>
                  <a:pt x="186" y="17"/>
                </a:lnTo>
                <a:lnTo>
                  <a:pt x="237" y="34"/>
                </a:lnTo>
                <a:lnTo>
                  <a:pt x="288" y="51"/>
                </a:lnTo>
                <a:lnTo>
                  <a:pt x="322" y="84"/>
                </a:lnTo>
                <a:lnTo>
                  <a:pt x="356" y="118"/>
                </a:lnTo>
                <a:lnTo>
                  <a:pt x="373" y="152"/>
                </a:lnTo>
                <a:lnTo>
                  <a:pt x="373" y="203"/>
                </a:lnTo>
                <a:lnTo>
                  <a:pt x="373" y="253"/>
                </a:lnTo>
                <a:lnTo>
                  <a:pt x="373" y="270"/>
                </a:lnTo>
                <a:lnTo>
                  <a:pt x="356" y="304"/>
                </a:lnTo>
                <a:lnTo>
                  <a:pt x="322" y="304"/>
                </a:lnTo>
                <a:lnTo>
                  <a:pt x="305" y="287"/>
                </a:lnTo>
                <a:lnTo>
                  <a:pt x="271" y="270"/>
                </a:lnTo>
                <a:lnTo>
                  <a:pt x="220" y="236"/>
                </a:lnTo>
                <a:lnTo>
                  <a:pt x="136" y="169"/>
                </a:lnTo>
                <a:lnTo>
                  <a:pt x="102" y="135"/>
                </a:lnTo>
                <a:lnTo>
                  <a:pt x="68" y="101"/>
                </a:lnTo>
                <a:lnTo>
                  <a:pt x="17" y="51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思源黑体 CN Bold"/>
              <a:ea typeface="思源黑体 CN Bol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90680" y="286920"/>
            <a:ext cx="2379600" cy="3020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02  </a:t>
            </a:r>
            <a:r>
              <a:rPr b="0" lang="zh-CN" sz="1800" spc="-1" strike="noStrike">
                <a:solidFill>
                  <a:srgbClr val="f37f10"/>
                </a:solidFill>
                <a:latin typeface="思源黑体 CN Bold"/>
                <a:ea typeface="思源黑体 CN Bold"/>
              </a:rPr>
              <a:t>字词揭秘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2640</Words>
  <Paragraphs>3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5T01:58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20-09-17T01:24:20Z</dcterms:modified>
  <cp:revision>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  <property fmtid="{D5CDD505-2E9C-101B-9397-08002B2CF9AE}" pid="3" name="Notes">
    <vt:r8>27</vt:r8>
  </property>
  <property fmtid="{D5CDD505-2E9C-101B-9397-08002B2CF9AE}" pid="4" name="PresentationFormat">
    <vt:lpwstr>全屏显示(16:9)</vt:lpwstr>
  </property>
  <property fmtid="{D5CDD505-2E9C-101B-9397-08002B2CF9AE}" pid="5" name="Slides">
    <vt:r8>30</vt:r8>
  </property>
</Properties>
</file>