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  <p:sldId id="274" r:id="rId62"/>
    <p:sldId id="275" r:id="rId63"/>
    <p:sldId id="276" r:id="rId64"/>
    <p:sldId id="277" r:id="rId65"/>
    <p:sldId id="278" r:id="rId66"/>
    <p:sldId id="279" r:id="rId67"/>
    <p:sldId id="280" r:id="rId68"/>
    <p:sldId id="281" r:id="rId69"/>
    <p:sldId id="282" r:id="rId70"/>
    <p:sldId id="283" r:id="rId71"/>
    <p:sldId id="284" r:id="rId72"/>
    <p:sldId id="285" r:id="rId73"/>
    <p:sldId id="286" r:id="rId74"/>
    <p:sldId id="287" r:id="rId75"/>
    <p:sldId id="288" r:id="rId76"/>
    <p:sldId id="289" r:id="rId77"/>
    <p:sldId id="290" r:id="rId78"/>
    <p:sldId id="291" r:id="rId79"/>
    <p:sldId id="292" r:id="rId80"/>
    <p:sldId id="293" r:id="rId81"/>
    <p:sldId id="294" r:id="rId82"/>
    <p:sldId id="295" r:id="rId83"/>
    <p:sldId id="296" r:id="rId84"/>
  </p:sldIdLst>
  <p:sldSz cx="12190413" cy="70215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slide" Target="slides/slide19.xml"/><Relationship Id="rId63" Type="http://schemas.openxmlformats.org/officeDocument/2006/relationships/slide" Target="slides/slide20.xml"/><Relationship Id="rId64" Type="http://schemas.openxmlformats.org/officeDocument/2006/relationships/slide" Target="slides/slide21.xml"/><Relationship Id="rId65" Type="http://schemas.openxmlformats.org/officeDocument/2006/relationships/slide" Target="slides/slide22.xml"/><Relationship Id="rId66" Type="http://schemas.openxmlformats.org/officeDocument/2006/relationships/slide" Target="slides/slide23.xml"/><Relationship Id="rId67" Type="http://schemas.openxmlformats.org/officeDocument/2006/relationships/slide" Target="slides/slide24.xml"/><Relationship Id="rId68" Type="http://schemas.openxmlformats.org/officeDocument/2006/relationships/slide" Target="slides/slide25.xml"/><Relationship Id="rId69" Type="http://schemas.openxmlformats.org/officeDocument/2006/relationships/slide" Target="slides/slide26.xml"/><Relationship Id="rId70" Type="http://schemas.openxmlformats.org/officeDocument/2006/relationships/slide" Target="slides/slide27.xml"/><Relationship Id="rId71" Type="http://schemas.openxmlformats.org/officeDocument/2006/relationships/slide" Target="slides/slide28.xml"/><Relationship Id="rId72" Type="http://schemas.openxmlformats.org/officeDocument/2006/relationships/slide" Target="slides/slide29.xml"/><Relationship Id="rId73" Type="http://schemas.openxmlformats.org/officeDocument/2006/relationships/slide" Target="slides/slide30.xml"/><Relationship Id="rId74" Type="http://schemas.openxmlformats.org/officeDocument/2006/relationships/slide" Target="slides/slide31.xml"/><Relationship Id="rId75" Type="http://schemas.openxmlformats.org/officeDocument/2006/relationships/slide" Target="slides/slide32.xml"/><Relationship Id="rId76" Type="http://schemas.openxmlformats.org/officeDocument/2006/relationships/slide" Target="slides/slide33.xml"/><Relationship Id="rId77" Type="http://schemas.openxmlformats.org/officeDocument/2006/relationships/slide" Target="slides/slide34.xml"/><Relationship Id="rId78" Type="http://schemas.openxmlformats.org/officeDocument/2006/relationships/slide" Target="slides/slide35.xml"/><Relationship Id="rId79" Type="http://schemas.openxmlformats.org/officeDocument/2006/relationships/slide" Target="slides/slide36.xml"/><Relationship Id="rId80" Type="http://schemas.openxmlformats.org/officeDocument/2006/relationships/slide" Target="slides/slide37.xml"/><Relationship Id="rId81" Type="http://schemas.openxmlformats.org/officeDocument/2006/relationships/slide" Target="slides/slide38.xml"/><Relationship Id="rId82" Type="http://schemas.openxmlformats.org/officeDocument/2006/relationships/slide" Target="slides/slide39.xml"/><Relationship Id="rId83" Type="http://schemas.openxmlformats.org/officeDocument/2006/relationships/slide" Target="slides/slide40.xml"/><Relationship Id="rId84" Type="http://schemas.openxmlformats.org/officeDocument/2006/relationships/slide" Target="slides/slide41.xml"/><Relationship Id="rId8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dt" idx="12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ftr" idx="12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 type="sldNum" idx="12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D5198E5-36DD-4245-84E7-F6EFB9F91F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 type="sldNum" idx="1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E09E9F-3CA5-4574-8950-0A5A6A6F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1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 type="sldNum" idx="1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32ACD0-8F15-4B36-B093-EF5F4EAF1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 type="sldNum" idx="1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15F9FF-E64A-4AF3-BFF3-7AFB9BEB9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 type="sldNum" idx="1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57AAB9-FBC0-4ECB-94F5-BF0766A455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3"/>
          <p:cNvSpPr>
            <a:spLocks noGrp="1"/>
          </p:cNvSpPr>
          <p:nvPr>
            <p:ph type="sldNum" idx="1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E4E595-091B-4240-BD02-3CFCA502A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 type="sldNum" idx="13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3FD9A2-2745-44B4-9C6E-D8B81183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 type="sldNum" idx="13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6F74B94-9807-424A-87D2-2F02017F0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3"/>
          <p:cNvSpPr>
            <a:spLocks noGrp="1"/>
          </p:cNvSpPr>
          <p:nvPr>
            <p:ph type="sldNum" idx="1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A580C2-6B67-480B-9B60-EA8811A4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3"/>
          <p:cNvSpPr>
            <a:spLocks noGrp="1"/>
          </p:cNvSpPr>
          <p:nvPr>
            <p:ph type="sldNum" idx="1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570BBB-3ADE-4C89-AD1E-2AC121735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 type="sldNum" idx="1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900FC3-2D4C-40BA-BC50-2114B9A2E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1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 type="sldNum" idx="1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5ADAE3-3C4E-4009-90B0-21ED6698D6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3"/>
          <p:cNvSpPr>
            <a:spLocks noGrp="1"/>
          </p:cNvSpPr>
          <p:nvPr>
            <p:ph type="sldNum" idx="13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43C32BC-D268-487B-99DE-5B39AE5B9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3"/>
          <p:cNvSpPr>
            <a:spLocks noGrp="1"/>
          </p:cNvSpPr>
          <p:nvPr>
            <p:ph type="sldNum" idx="1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D4ED5-BF0A-48CE-B971-151E73E95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 type="sldNum" idx="14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EE7A5E0-8712-4699-B4B5-E6D0DA97C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 type="sldNum" idx="14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F5DB8B-ACBA-4F75-924F-C126FA33A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 type="sldNum" idx="14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8DC25F-ED01-4386-AE7A-1A9F530F1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3"/>
          <p:cNvSpPr>
            <a:spLocks noGrp="1"/>
          </p:cNvSpPr>
          <p:nvPr>
            <p:ph type="sldNum" idx="14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7A94E4-9694-407B-8760-6912CD614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 type="sldNum" idx="14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67E5F1-422C-4142-884C-EC9A6E2244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 type="sldNum" idx="14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C7EB59-507A-4911-BDD8-4D65D883E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 type="sldNum" idx="14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5B8C55-0425-490F-9349-F349B41E0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1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 type="sldNum" idx="1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6F0F32-25F4-4C23-9E59-A138AEBFF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3"/>
          <p:cNvSpPr>
            <a:spLocks noGrp="1"/>
          </p:cNvSpPr>
          <p:nvPr>
            <p:ph type="sldNum" idx="14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30EE55-F28F-48DC-8B61-D57095E43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 type="sldNum" idx="14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C37D0E-BCA6-4773-AA82-08D7C9FF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 type="sldNum" idx="15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3C7695-30E6-44EE-AB7D-EED8767C9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 type="sldNum" idx="15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4096CB-2810-4340-A2DC-56EAE99456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 type="sldNum" idx="15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B1A76E-8999-4CFB-AC70-6D82EEA20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 type="sldNum" idx="15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1410F7-8BDA-417D-AAB8-BDC342D1B6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 type="sldNum" idx="15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9F3E66-83FC-45DF-92BF-0BF3A3E12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452520" y="685800"/>
            <a:ext cx="5952600" cy="342864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 type="sldNum" idx="15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8D94A2-F28C-489D-B256-16353E08C2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5D62-8B73-4995-99FB-7A67B969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9FC5-C086-4F18-893D-747A9465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C4011-764B-4F37-A3FD-359D92EA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F4C943-5A7D-467E-BC08-88F2F41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BCF6D7-B9D6-4413-8473-A04EF2C1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0A0B17-4F8D-4B52-A09E-4A2C6054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BFE8E-3BFB-4C49-85C3-E31C1EDB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8E5C6E-238D-4A0C-9F42-F2D8510F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711A5F-73B7-485E-8964-B730694B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B074E-8240-4C74-9C6C-355B3098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1DBFF0-A663-47C9-8056-1DD9FC14A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6DA37-D90A-4DD9-BD87-29120DFE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134-871E-46E6-AA25-DBD94AFD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E4A14-CF77-407A-A016-47C461B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B8E6AF-5555-4761-9F6A-7953ECD46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C7C9E-19C3-4BD1-83AF-BA252AF8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312F4-3D0B-4FBF-B93A-83FB044CB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B9485-FE35-4AAC-85D1-9001A95D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70238-A053-4DC7-90CD-F94F6EB2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8E158-8D61-40FB-9D74-AC9B53FA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53FA1-0DF1-4445-9B17-5C77AE75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EA893-C8AB-421F-8712-D8277EE4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EE3B2-2173-4CBA-875F-91103E23F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C4F3-E43B-4427-A3C4-9003D7E1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782BCA-6444-4352-A748-6A70712C4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3D2C6-0EF0-41EB-9C82-05BD76CE4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C613E6-3238-4DF9-BABC-D5EF88B85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E992A-366D-478B-9D21-B211F67AE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79DFF-176A-4673-B588-D338574E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A91C2-937C-46F1-8065-1546022E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0F2EC-20C1-44D3-A14C-06F696D80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DBA8F-464D-4A8B-A40A-BCC49EAE5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2719F-9FED-4514-AA6E-90129709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AFF31-3CD2-409A-9461-EE2AB545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6FDF-53BA-4535-81B3-30533863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62DDA-A1E0-4682-8631-0D4931EC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C8ACC-9AD7-4527-8445-003B3594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A5A623-506E-490F-A019-38C7E543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2BDA73-E438-4361-8AE0-426657E7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0AFC86-295E-48CB-8398-1847A701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5FD3C-25B7-49BC-9CA8-A03CA04E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53B77-E475-4F98-8F37-882B4EC6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5A722-749F-4434-8920-5B1F7F6A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C1E0E0-E298-4E83-A84C-05E4E522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57398-232B-4F2F-9904-5B4B635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77B00-273C-4E1C-AD8A-504AFE12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0C96FD-D098-4803-966C-335CF5F4C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2712F0-FF8B-46A4-B60D-F00DC9CAF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4F83D-5E3A-4EFB-9A4A-F274596E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0FB69E-0E91-490D-B338-13C0E447D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81161-67A9-4B7D-B32A-16CB1BBB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536D4C-E279-429C-86C8-6B8C8B82A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39F37-51FD-439F-8DE2-1780B599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578657-6413-4B68-ACAB-FC0C6A05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935185-21FA-470C-8B2F-587ED4D9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DE5B7-0AD9-4FEC-965D-64C5BE9A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C6B3-AAC6-49FE-9B5A-829A81DF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6F71E6-B3B2-4825-B553-885EB3672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F302E-70F6-4441-90DF-1B3E912D2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C2E87E-401D-4B94-B549-7A310B95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92D4A-C610-4D2C-BE31-AEFDC3E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5A87C1-08F8-4DBA-BA8E-6674D8CC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6BB69F-B60D-4B81-860A-91310A2A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F453B-80A7-4E9C-8FCD-3C212E91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5C73326-0639-4D0C-9BA3-31CA6A23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B21FA4-7112-43F3-83F6-F0394C960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8C6228-42E5-4494-8D3C-11AB56FE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98780-ACB4-4592-B571-CCDB9A77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665F18-A7E9-432D-957B-F98059DC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9E9964-1FE1-46B5-A25F-716D2548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803530-9051-4547-A354-EFC02801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B16974-88C8-4843-8F87-54260609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875B9B-6BD3-4506-8818-313A3AC8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D78DB-9215-40FE-B4A8-01EF0AB7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C8D9CE-E235-469F-A5C1-7DEEB5D4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67FF3-5705-46DF-B009-927027F4B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3581FA-18AD-4528-A883-8C7A38EC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B8C22F-1773-4FAD-8CBC-C4861E633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9AC7-9F32-4030-8F85-9618860D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22EE9F-B794-4E70-9343-CFC464DF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0362E6-F64E-4B92-9765-8AE0FF59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62BD8-3C45-4202-979A-E77EF244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EC6734-2367-4E13-98D4-6DF14229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396578-6995-416B-B9C9-DB704D03F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D05511-1153-4308-BB20-4EFF06CE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1BF245-D485-4C07-8000-E7EC7302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B06A42-605C-4774-8DA5-AA6E6795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1A4F27-4E3E-42A3-8D8E-6B073511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0F3FB0-A624-4370-8E18-BDE58F22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EA8DF-D1DA-4396-9A42-EB9EE445D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76552D-44BA-49CC-9254-3785EF36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4FA9D2-212C-412E-B07D-9F7327B1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98E116-6357-4DAF-A735-59033BAC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B7A74C-9DBA-44D5-9B68-3567A4D0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33198-A982-4E19-9858-7F79D42A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05D1C0-B888-4C84-B91F-B4BDFD49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1767AF-E50D-420D-96CE-9C28AFDF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AC540E-BA9D-4661-9EE4-5A1AD616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F70FBF-1183-41EB-992E-C58808B4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A735C6-B1C7-4FE3-A60E-DBF7CFF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EDA4B-7A90-4A30-A21E-7041AAE9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9A246-62D4-404D-A1C8-2B612FFA5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F5072C-DB33-4672-BD26-A035AC1C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04DCC8-9D60-4C66-8EE4-19D1C1C5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9CD5B4-3FB2-4A8B-A42C-D82A3B391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CF337F-6454-4F3F-8493-1E097539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88AC1-6D16-4009-B489-988133626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BDBE71-E9E5-447C-93F2-E0E7A1863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A30EFA-4916-428D-ABD3-0063DBDEA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29D11F-497D-48DE-BA1A-0DE59136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52EC6D-B85C-4C60-A9B2-FCEED02E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B797-B151-4F76-81D1-195B66F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8677-C9CF-4B7E-8AA3-6E06EF7D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8D6E2E-FC0B-4C61-83D9-7F2E31C4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D28046-F87C-41A6-9D78-49F66103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89F131-691A-47F1-9350-E012517A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68DFC2-4674-4A32-B6A3-06E8219D6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31B173-9C5F-4E80-9DA9-C95D7B72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729755-AF26-4907-BE92-B240B88C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C75C40-B505-4205-A2BC-A5CAFA71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952739-8240-407F-8A18-B63509A3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EF841-B6AB-4F95-8C38-2DD08783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EF839-3CF4-48F6-A197-9CF38218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08CE-0CFF-4789-AF59-F171D965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AFA8EF-7CB6-404A-88B3-E9828980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C14B40-3CC5-4B02-837C-F2F93FCA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520F64-303A-4F92-94FC-A3727472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51E203-6978-4E78-A894-5239301CA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6CACF9-E0C5-493A-B7D4-7BB5B51E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8EC829-89C3-4EE1-8A57-243B3290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5FCB47-213C-4043-BB26-E9E2A5EA9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8CD1B8-8EC6-4AE8-A1CD-F03B66CD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A5758B-7F64-4E45-83E9-F79E4D37A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B98FA4-BE54-4E19-A8EF-F9561E43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3BF3-3690-4C5B-AB9A-841207CD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E5017-C6F6-4D19-8D5C-F3F5D9F2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B9AB5F-06BB-4CE2-970B-5008C8FDF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8A6923-3D33-4357-953F-1AE45B3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4CB33F-CB32-40D5-921B-E29AEF8E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A6C9D9-8447-48AA-8C65-F68954268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AC05F-8D63-46EB-AA07-CE9CD805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6193A8-2172-4CA7-A157-7F0477B0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D9CBA1-DC41-419B-B07C-2D4AFB029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D9D5B4-368A-4576-8F60-202C48EE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2745C7-BACD-48C1-AEC8-CE8B75843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A0D1-E7DD-425A-A30B-927377560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F6DB50-B9B4-494E-8E3A-CBD74F55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774F73-74A8-44C3-A034-ACBE1869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DCD076-AC3B-4C81-B9AD-EA6AB253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2E3A968-2713-4CAF-9099-07423D97D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D2B80E-6209-4C7C-B047-65B3150F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F5CC98-E8DF-4DD5-B21D-B8BCD42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B04F0-1DEE-41A0-8DC8-C4A7945B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EE10D0-D5BE-4831-96F0-8B32E1FC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95AE3F-24B4-4ABC-BD01-252159E3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B83AF0-8FFD-4100-81B2-F186C11FD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4B96-F78B-4276-80D4-2D81DE8A2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08BF14-8CE6-4108-8938-B8113FE87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E08AB-71BC-499F-A0BC-2F55F1F7D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D7C5D-DA67-405A-AFEF-6FFEDFA3B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0C865-B53F-4AF3-9CD0-9042084C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A4927C-3834-4650-8F63-B2E2D476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FD1235-155B-4E08-A797-601DA2FE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D499B1-09A2-4122-8197-03C72382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5196F2-7E45-415C-89D8-3A2B992A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2620D4-83AE-47DD-A543-8F13B2ED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6CA080-1716-4453-83E4-32993C3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5CF0B-3677-4069-B0B1-DCAE23CA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ABD9F1-B9AB-4F01-AD58-808E016C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3981D9-8521-4C7E-BFE8-D34669AAE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EF9ABB-9B1F-4915-A019-963D8968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18D2634-C8BE-4E46-8745-6C614083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AC2FA6-6641-41C1-AAB9-E79D20F8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FCF45C-E374-4AD2-99CB-D981924B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FA1D08-3A07-42E1-B9ED-08F873420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8E4F6F-42EF-44E4-9754-85E10B41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709EC-94BA-4A91-809B-DFCAABEA0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C91017-1344-488C-80BD-09935716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0156-F05C-4C1E-A1D7-FB715DAA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828D4F-FA14-4C82-8704-4759E987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1EF8C3-FADA-4ED6-BD58-5E2DB5E1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E600835-8F4A-4FEA-A5C8-64A65FE2F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8B10E4-24EA-4640-AB05-CD3F8FE2D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2C21D6-652F-4369-B67F-EFF90D76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48B0648-8017-4864-9D1C-4DBF5B5E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0DD2BC-2E17-4C33-B83D-887D4897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2BEB5C-C8B8-43EB-98E1-DAD8B64F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9D845F-E36E-46B9-A1FF-6C9053594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58D04C-DCFB-4283-8C58-17BB75AF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F6E06-17B1-4F4A-85F2-41B283C8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A303DE-B50A-4B64-8FDC-84DB435B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0F07B2-E459-42D7-831A-79FEE267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DAF797-CB41-4B26-A915-5F5955D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A923F1-AF5B-4658-BCC7-37EDA89C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AF3BDB-5189-4830-B6EC-AA7B8B7A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73EDFF3-44BA-473E-839C-A60DA17ED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99A787-1A73-4DC7-967D-6EC90D06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1A8FA2-6811-4BC2-A3B9-524B21238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169AE2-0803-4D0E-A3FB-07259A0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9DFBBD-3FA8-4327-A559-915DAE8A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9BC6-E86A-494E-A4CA-C899CC9B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E08B44-0C67-40AF-B923-848D24041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125CB0-602C-4156-BE6E-9E064A6A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3F4612-E8C7-437E-81EA-BA33A260C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538AFE-2BA0-4F56-9EEB-9D939F20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415719-4F63-4C5E-9C8C-7507A744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FDF01C-CAA2-41F7-89AC-53750D97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DCF2C9-C31A-403B-9FF4-C721ADA93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4B03D9-5497-4C3F-8650-73508C883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1268B7-AA63-4734-AD88-59EFA3F4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460765F-4C8B-4EA4-9602-BD81BB0E4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FF03ED-5492-456D-A7CB-F3718C520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B953E2-8FC3-411E-863D-4A827EC41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6438D3-B7E1-46DB-BAB1-D2DBDEAA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4B54F2F-3696-49CF-88FB-F9E9E033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9A7FE02-9083-4141-912E-3D803F120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D8FB20-6E2E-4B8A-8A52-33B2DC449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67F2475-3758-41B0-A46F-58EAC7DF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455AE14-67DB-4848-99C1-9A5A4BC4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7D66E6-6D6B-44E0-AD51-1043D575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955F8E-974A-4570-9614-C32311DE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F30B20-C45C-48FB-BFFD-378C75967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7187-E857-4092-B401-8CFBA3F5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0E668-D28F-4315-B625-36030206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FAE0778-B4FD-4978-95B2-767041B8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786CD9-3A21-44A5-B369-CF402ADA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BFA2A0-C042-47EB-BB02-4EFD094E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3F507E-CF88-48FB-A9FB-ADE0523C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814AB2-7542-4843-926B-9B0406F5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3B0EB4-A0C4-4F84-BED2-80C231E9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1A0AB8F-CE6D-4EB3-99EF-5EF14093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49F36A-7C64-466B-9EC0-2DA81C3C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05329E-B01F-4CA7-986C-A19DE13E5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BC9465-76C1-451B-A145-4CEA49E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1CE96-4D6B-4FC8-91BE-DAEE83F3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96365E-62D3-42F2-9D2A-BD084606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F23797-6435-4FEE-B2E6-AAD5BBB7E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3498AA0-9EE5-4AEC-8954-E585C88FC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716BE5-2723-43CA-8B3C-B1E7EE990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F141C1-E77B-412D-B0E1-77FDF30D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83E7825-0727-475A-9A41-705E0DE2A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2D830D-D5CE-4946-8CA8-C0CD2A927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63B497-54B7-4FEF-97A4-68D67AB9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871DB6-31EF-44E2-8006-02DEE8C5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E6F525-8AA7-4BB6-A981-98A5B12F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E2FD7-9CF8-4AC2-A857-7118A632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1A75B2-3117-414C-B7A3-5E21CC23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57AF85-5C26-42A8-9AD0-CEFBD438B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0AC395-E0BA-4091-A454-E48299AE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74D2D0-703F-4CE4-9219-CDB31FB2E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D35331F-2354-43B0-9926-BA6F72F85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9C3050F-70B7-4004-8CDE-64DD0A63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240643-B708-40DD-88E0-F1ABAA2E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912829-2757-4630-AF4F-8F5FB3C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83D555-3489-4071-975E-80ACE479B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099602-55FD-4238-9A8A-493DB232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A932D-32CB-4BA4-ACBE-538DE43A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88FD2D-0810-4325-8ED0-674EC3844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33A5D8-BEEA-4E5F-B2AE-035183BF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996830E-9080-4DDA-A877-26AB5CE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EB1915-960F-4642-95EB-41191D7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955E9F-2F23-4FAE-862C-6842960B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1A7BD2-31D6-4D18-95E6-0DE1852B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5264DA-716A-463C-8879-12648044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3D8320-3E09-4196-A5AD-F79741C29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801EE9-9AE2-4FE8-BFE2-3B6385747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74C2EC2-4985-42ED-910C-3CEE7F24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1ED7A-BCA5-4E26-B799-24D2D3A1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20397A4-CFF2-4A38-9A42-56EC26994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B6C922A-9626-4871-9748-1231DC31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1C30017-36B5-49E8-9DED-0DC3355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62A72A-6FD8-45B5-90D9-0DE7E552C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D252A7-9573-4CAA-9EA0-41525066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F10009-82E5-457A-84EB-0AA2D9D2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BA3EF5-ABED-433B-AA39-E72400AC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742909-A1D6-4D4F-847F-7871C4AD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FBB23C8-998A-4349-8FA6-9693243F7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D95ADF-C3C8-4815-BB13-50E5386B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FE856-E510-411E-B315-462F1356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E3C8B2-EC0E-4555-A941-4E9BE987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6846B0B-EF9F-4B2D-B461-2D338D8E3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448135-8C20-463D-A0C2-F134A770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8D5EDE8-B4C7-4FA1-9215-FE4494D2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3181136-4935-48A9-B625-FEFF68D7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A8E935-58C4-4876-ADDF-B7EC9982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EE5D27-A561-4571-B5F9-07657EC3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3B061F-0CFE-45DD-AFA3-C8ADD78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944B07-22C4-493E-998A-BD7B83F0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416728-1966-4713-9AA7-9A282FAE4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DE225-4B6B-4F21-9885-E5BD016B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2835B6-BCD8-48D0-96D0-150B66AD3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36BDBF-8315-4A4E-8B4E-3FCC6D506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E218093-872D-4FDD-A87E-D1AEA92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469B159-64B9-47DD-9F57-4963D868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F5DCE3-5C6D-4ECF-B7D6-0F5CF59B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C6D294-DA5B-4FF8-BDDD-F11DA3A0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C31C653-53F9-4921-AA67-66D5D93F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DAA06B-FFD1-4D0D-B61F-73BE5ACA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E26BD0-79A6-4575-A2F7-E38B28A3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53F15B-66C1-4289-BED6-DF625ABD5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3BACA-D4C1-48E2-9142-A19CE389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D37626-6699-4603-88B2-2B454F8E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8A4614F-3A7C-44E2-A48F-4EC81904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36F1754-99E7-44D6-AFB1-ECFC95B11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BFBF45F-2352-4622-A68E-D891F208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8E2FF38-AA9A-4D74-A3BD-678E4DB45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AF65D9-1E79-42EB-B317-B888AF69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CB3F94-D918-4A13-8B7B-50BF2409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DC0172-C35B-4224-A83B-B0E63831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FAA561E-BAB8-4801-87FE-E7A28622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1905CDE-9B08-4440-B996-EBEFCFDC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5F79-3AA2-4BCE-B3D1-4984EAB8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A06032-8EA5-44A2-A6CD-FBA7C05C5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D234FD-B9A6-4FDD-9D20-F46ADFBE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A2C29F-790C-4415-863B-0E6BDE30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9F45F5-33C5-4AEC-A0BD-DF7676F73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BFDF99C-E08B-4169-A797-92226AF9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8AC511-6308-44CF-9976-392BB33B1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2CA8AB-988B-4672-8DFB-31A40E5A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70A76B1-0D1B-460B-AC44-101F4227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59D79F-9D85-4B39-BB9D-69B98133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EE5EB81-6C16-45C6-87B8-6365CC3D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C429-D98F-4ED8-B4DB-493635AF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6CFFF1A-6C81-4EB1-8B3B-79E393018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D8D8042-C88F-42A6-97F6-3238300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B160BE9-B6C8-436E-9C79-1A36D068B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09FF0B-C891-4597-875C-710D0F5F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427041-25A3-4EEF-80F2-F16154BD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56CC99-F234-487C-A286-1A89165D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4CFE1C6-6AC7-4E62-A6D8-D5133919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759D50-9AFC-4ED5-BEC5-1E2CA924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CD9BE2-E494-4710-8583-E65F8971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AF739C8-B704-403B-A929-800542E0F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4EA-90D6-486B-8941-0B7FF3B0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6B1B-5461-49ED-94B2-383C6F55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4E96A6-16BD-4073-AE6D-7E6FEAD0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F1EC38C-2F26-48B2-A023-E9F257456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9D864FF-D883-442F-A201-0B55D86D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5785FA2-0CF4-4288-B70B-7FBA7089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7B36DF-35C5-46FD-9710-593C2060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7ADA97-ADFE-4595-A647-7B1A0388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C42EC3-7943-496A-8187-E291A8406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7D72663-FAFB-4FC0-9D9C-116ABA59E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66DEA9C-2F24-4A0B-9863-8412AF6F2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CF169D-FFF9-4E86-B287-23D749DAE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992A5-1094-4A2B-B84A-2E11A0B1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209BF6-081B-4F17-AB69-67EEAD6D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9E2BABA-776B-404E-87B4-41E593BA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D204B64-971E-4C37-90F1-40BA9FC6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9F95D2-9D03-479E-A587-9BDC932A5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9469EB-1606-4EB9-9902-8331E53D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EB385A4-6A6E-4361-8281-28FE167E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6E1580C-2CF0-4BC5-989D-C1894182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1FD3407-B177-4FC9-8B5A-55EFD6A3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C6B8F2-451F-4050-AE71-44C22557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32BD9BA-7B67-4111-A5DD-E020280B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2BADC-A292-456F-9409-571B5D6F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88CD1FF-EFD5-4ABE-8913-7988E18D3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37E4A5-137B-48F4-9B7E-E0B9EBF9E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0B2223-461D-46C1-9F03-F49EC6B0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DE8D356-FFA8-44D4-9EA1-EFFC3348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3ACB388-9945-42C0-85CA-DF314572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F298DBD-6A01-49B1-B42C-35C2C76FE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049D47-67A4-4606-86F2-5B266515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38EAE9-A831-4F2B-9950-C3B6DEC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6D87C40-6D3E-418C-AD16-68E70557D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A27EB4-D635-4AC5-8FAC-24BDC659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EDC7D-2C20-4737-B315-AFFA4EA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7470C85-93D5-4CC4-BEAB-A7198099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4A1DDC6-F945-4CFD-9880-8A4262A5B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C0BA59D-7D65-419E-85D2-11E26C2A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CDC9192-6454-46A5-A671-90775543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4A1253-5A5B-48AB-99C0-792302BF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E6D853B-CD2A-4CF5-91B2-49AC4ACA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21B5756-7AB4-4551-8B87-20DBC01D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686A19-8EF1-492E-976F-9808D4DB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A551862-7C9C-477C-8E2D-278A216C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8710E50-9F30-427B-A8B7-9E8F4036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F3A55-E0D4-4FEC-8A95-5FB1C6B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B52079A-0A41-43F7-BD10-C2E67527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34AF769-9D0E-4BAE-8895-A5590BF1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FB85277-4F2F-417A-918F-CDAC33A3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A618351-A292-4DDB-A15B-8CF0EBA01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B609DF-FDAE-4A54-8B44-73F41B121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5694345-F58B-40C4-97A1-CBFA4205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9266B0-1A41-4A3E-AF91-AAD5AB58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82BFA8-1934-41BF-B3D3-D2EC3C2E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9F726D-2FE0-4E70-9E1D-95EB1E563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80DF54-0779-45A7-8A75-3408B3C4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3CFE3-03CF-44EE-86BF-0F87645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DB9E57E-6242-482F-8295-578DD7B1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9E73222-DDB0-48B3-928D-B46033F2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A8EF6E3-E2E7-4042-8662-6C9668A9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CA3FD46-76E0-48AA-AD93-21F261DC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5C649DB-37CB-47C8-96AB-6ED7EE47F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7984A46-CD5E-41C8-9ABD-95C5BD22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8548DD0-A2CA-4AEF-B0D5-F65A98729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C9E70B-38F3-4E5A-BAF0-C75A9684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89FE601-D2C8-41B5-8CC8-406AF650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486664C-7216-48AC-9021-9912FE183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A3C05-9CC2-4DE3-B34F-8435AAB1D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EFFA5A-F53A-4712-9D2F-8F1CF76F5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32F31E-74FE-437E-BE09-CE4A0C1F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273433F-4E41-43B5-A374-3F46F8706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F4F6902-34D5-4263-BB33-FD402CEC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CDC478-8FD6-4B09-8AB2-F59BD85B7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9A72221-347E-495D-938C-F6AE7E96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32F1B67-7D44-4390-BF8B-788B3AF3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6FA665-FC05-4EC4-A60A-12FD3734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B322CEA-4DA1-49C5-B8B9-A9A50FA0D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69238AC-0246-4250-A10A-DD4FE0EB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61928-CD45-46B2-B2C9-48EF870E1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0D5CEBE-5380-4980-98D9-ECD1438C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850412-A8CB-47EB-9010-C145D2A7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CCE927-847F-401D-83D0-6F4D5700B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D5B9F66-CBAC-44B6-91A1-E857AFE8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A51A6B9-6390-49E3-ABBC-56052BDC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5FA57B5-063A-4DD8-AD4A-C4FCB0D95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A03E0C6-2BC0-4518-9583-002E23FE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85C216-C77F-4925-90A2-C969A928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035A3B4C-B350-4B72-BE55-FA5041277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FFC16FF-5C70-440E-BDA8-A310D8C87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35EB-61C4-4AAD-9EB3-0C09769FB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5200BCC-BD79-43AB-BC85-CB9B62B8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D7AD8D9-EE63-4FC0-8B97-59C5F775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CC9CAC1-216C-43ED-879A-80EFA9E9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E0393B-F629-46C3-B3B2-A03953DF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6E838F1-8387-48AC-B7D4-8B45F965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03EB0A0-6909-4117-99B2-CC1F1F02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0A0F053-E09A-41AF-91F6-5E4D987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159C77-9C9F-44FD-9F68-4FB1D444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C5172A-8F05-46CF-83E0-D5BA7EF6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7D0E9AC-2373-4B41-8700-F0DAD335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D8E9D-6E23-4C9C-BF0A-3F097F86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276DEF-F525-40D7-AE85-3991389B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B3B778-600B-4289-ACAE-34890F32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3F791A-FAC9-4C03-A858-B6DADAFFF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F78-7DD1-424C-AD23-0FBBACC9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7CCB6-F46F-4B80-AC32-629D4C811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D45AA-FD4B-4837-9115-8E587233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D657-97A7-4057-B065-329B971D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47A8C-43E3-4C4E-A371-38DE8E6C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DFFC0-E032-4CCF-ACFF-8DE3D147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E4735-EE4F-48CE-8800-2B5CFB6A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4983F-746B-4086-A403-DF7FE6AA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77E08-3440-46E5-AFE3-035569A9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8E776-16E1-4CDB-901D-7B2934AF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FD4A6-A98A-49DF-A973-71D7182F9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BABB-7937-4733-9E87-899E1633F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F7B7B-0DF0-45EB-BC2F-6743C343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1D06E-9EFF-4879-99BF-9E538E05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1BFF3-F3C7-495D-B533-2C5F263C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266FC8-8F80-43DA-A7A2-5802F0D42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BC22D-AFAE-4401-BD1C-B4D579EB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73D25-1B2A-46E1-B07B-47D8E3F6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FE045-0BD4-4007-AD61-C227823A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C1A18-4F9D-4783-84FA-0982160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47A11-C583-4234-BF58-3A9A1864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9120D-F75A-49BC-A7E3-D2A6EE1ED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F21A-2A6D-4027-A82A-2CE45E1F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E0BB3-6275-4B37-8C71-0A429A54C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0EC297-40D2-4E92-910C-CDF6FCD3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3EA23-1B6B-49CF-946B-708AE4CB8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BC0F3-8111-44A6-93BF-75E8103E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1468E-C58C-4E38-AAF0-6335AB2C2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DF45F-6BE3-4CCD-AA4B-E2EBD374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468B75-2564-44FC-A36A-F1455044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FDF8A-E017-40BF-84AE-7A4AF4EC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85C74-4C33-4F4D-9C39-9476E0B1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FB5DE-E341-47B6-BB00-C3D341E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C691-1370-4364-9A18-4EF95CE5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D3B43-D47C-444F-93BA-3F5AFF64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664A9-0B21-4299-A8CF-7B07E951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4F7C6-20DF-4752-A5FF-E87EA47C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8941A8-E0F5-4C65-81C5-F5A760400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510F9-2D37-41B6-ABBF-A94BF5CA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F0C59-204A-481C-A870-CDE381A6E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B93F55-1E4E-4CF9-91E2-E214CB4A4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5783-8690-4FEF-B8BE-515559928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65D26-F153-4A34-BF35-C73A5336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851AB-97DA-472F-8293-E5FD6F0A2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0B48-D1BB-4F17-8D9E-3B2CB270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8040" y="622440"/>
            <a:ext cx="10967760" cy="334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7D709-2E82-4123-9BEB-B08218B0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FF9B3-647F-439D-8BA5-02AA8C9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8BE36-9860-4FD1-BA74-6AA87D06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58D66-99DE-4C81-AC2A-807F191E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769920"/>
            <a:ext cx="1097064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48450-2236-4AA6-8CBA-5BB6C320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1240" y="164268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1240" y="3769920"/>
            <a:ext cx="535356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C942D-9DD4-4FAB-A321-BF7BDAD5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892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8000" y="164268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892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8000" y="3769920"/>
            <a:ext cx="3532320" cy="194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7FEE0-2A58-443C-8219-AAF99449B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7351A-23D2-40BB-992C-264AE29B8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37A82-290F-46F4-BD0A-1AF35B62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30000"/>
              </a:lnSpc>
              <a:spcBef>
                <a:spcPts val="1417"/>
              </a:spcBef>
              <a:buNone/>
              <a:tabLst>
                <a:tab algn="l" pos="1609560"/>
              </a:tabLst>
            </a:pP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C863FA-39D4-458D-85C4-67F3215B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866AC7-A89D-4473-8DD6-66E20E18DFFC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77B2D4-943B-4A03-8354-0AB7F7EAECF4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31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32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33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25BE5DD-DE46-4334-8CE3-8C80FB5DEDC0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4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35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6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6089FC-8013-4976-8B8D-0A1841B9B65E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7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38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9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C6AEE9-F551-4DB1-8310-B7D856F14E4C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40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41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2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540B95-D372-4418-8E6F-D386BFD0A13A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43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44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45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8BCA35D-8352-4A48-AA59-FEB031AB43EC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6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47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48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2B4F6-6654-46C6-99D4-ED4EDE029352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9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50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51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E56623F-C424-4DE4-A7AF-7DB19F5DC959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52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53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4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8187AB1-2878-4DC9-8356-3C1F8A9A3EB2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55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ftr" idx="56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57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5F6265-091B-4E08-B6CA-C2E40731A9E4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E2561E1-A72C-4ABC-90B2-E250975F8CE3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dt" idx="58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ftr" idx="59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sldNum" idx="60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DF4AC46-5FEF-4219-850A-44471402A464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dt" idx="61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ftr" idx="62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sldNum" idx="63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5E5462-AAB6-4E1E-8A9B-9FAA280D5075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dt" idx="64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ftr" idx="65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sldNum" idx="66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D5AA9F-85E2-4434-9F43-BA83BD9465A3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dt" idx="67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ftr" idx="68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sldNum" idx="69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57FD34A-3780-4639-8869-69CAFDA9698B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dt" idx="70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ftr" idx="71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sldNum" idx="72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F81AC0-25EB-4861-9EA1-DD997B6F235F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dt" idx="73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ftr" idx="74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sldNum" idx="75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11C1F6-4C2C-4E96-B3C3-31ED41CE704C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dt" idx="76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ftr" idx="77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sldNum" idx="78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98450D-35AC-4CDF-9CA8-752225D148F5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dt" idx="79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ftr" idx="80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sldNum" idx="81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8FEB7E-4A44-4209-A634-F6AF94AB9EB2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82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ftr" idx="83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sldNum" idx="84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A26B83-220A-4753-9EAA-26808EC02D7B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dt" idx="85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ftr" idx="86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sldNum" idx="87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BA2EB8-3596-42DB-8C00-A442F90791CB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154DA43-DE90-4C0B-B25B-0215C2924F65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dt" idx="88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ftr" idx="89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sldNum" idx="90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7334AE-9118-4650-9C6F-28A0E4C4F2DA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dt" idx="91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ftr" idx="92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sldNum" idx="93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9403D3-1452-4665-B417-11F3C1264C9C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dt" idx="94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ftr" idx="95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sldNum" idx="96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1016CB-5008-4AE9-AA66-2FD91E7F5134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dt" idx="97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ftr" idx="98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sldNum" idx="99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A9DB68-955C-4172-B645-E53AA9322150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dt" idx="100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ftr" idx="101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sldNum" idx="102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68F758-3FCA-458C-B33B-18FA1594CE87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dt" idx="103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ftr" idx="104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sldNum" idx="105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997483E-FA20-4CAA-85A6-3B854D428C70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dt" idx="106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ftr" idx="107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sldNum" idx="108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C871E5-DF62-4D02-8E4D-22A2CE5D58B6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dt" idx="109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ftr" idx="110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sldNum" idx="111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5E99BF-A261-4FA3-9EBA-CBD98FC896AA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dt" idx="112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ftr" idx="113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sldNum" idx="114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84656D-1295-427E-8BED-6FA2299B2F7E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dt" idx="115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ftr" idx="116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sldNum" idx="117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EC9879-E3E7-4A10-9F96-9983337E270D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7B8812-0BDE-4152-9404-F35ED27338F6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dt" idx="118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ftr" idx="119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sldNum" idx="120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977DD1-A58B-4FFA-989F-15EFBEA02E1C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dt" idx="121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ftr" idx="122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sldNum" idx="123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6895FB-73B5-4426-BC72-CB7B6DE7C6C9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A198E6-2DD3-4F98-AD58-88426BB57F63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337FD71-27CE-41F8-AAD6-9737AF22F21A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C8CD7B-8270-4992-8C02-0FA8483606BA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147FEB-4A30-4955-93E0-CBB8BE001C27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8040" y="622440"/>
            <a:ext cx="10967760" cy="721800"/>
          </a:xfrm>
          <a:prstGeom prst="rect">
            <a:avLst/>
          </a:prstGeom>
          <a:noFill/>
          <a:ln w="0">
            <a:noFill/>
          </a:ln>
        </p:spPr>
        <p:txBody>
          <a:bodyPr numCol="1" spcCol="0" lIns="90000" rIns="90000" tIns="47160" bIns="4716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299" strike="noStrike">
                <a:solidFill>
                  <a:srgbClr val="262626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5"/>
          </p:nvPr>
        </p:nvSpPr>
        <p:spPr>
          <a:xfrm>
            <a:off x="611280" y="6465960"/>
            <a:ext cx="270000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0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6"/>
          </p:nvPr>
        </p:nvSpPr>
        <p:spPr>
          <a:xfrm>
            <a:off x="4114800" y="6465960"/>
            <a:ext cx="3960360" cy="32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7"/>
          </p:nvPr>
        </p:nvSpPr>
        <p:spPr>
          <a:xfrm>
            <a:off x="8877240" y="6465960"/>
            <a:ext cx="2698560" cy="323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5ED99B6-9D2A-42DC-BE39-6B6C4558253D}" type="slidenum">
              <a:rPr b="0" lang="en-US" sz="10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609480" y="1642680"/>
            <a:ext cx="10970640" cy="40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3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800" spc="148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800" spc="148" strike="noStrike">
              <a:solidFill>
                <a:srgbClr val="595959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600" spc="148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600" spc="148" strike="noStrike">
              <a:solidFill>
                <a:srgbClr val="595959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1609560"/>
              </a:tabLst>
            </a:pPr>
            <a:r>
              <a:rPr b="0" lang="en-US" sz="1400" spc="148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400" spc="148" strike="noStrike">
              <a:solidFill>
                <a:srgbClr val="595959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1609560"/>
              </a:tabLst>
            </a:pPr>
            <a:r>
              <a:rPr b="0" lang="en-US" sz="2000" spc="148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148" strike="noStrike">
              <a:solidFill>
                <a:srgbClr val="59595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9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0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4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89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1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49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3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4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6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8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7" name="Picture 2" descr="http://www.jituwang.com/uploads/allimg/120803/214833-120P316005562.jpg"/>
          <p:cNvPicPr/>
          <p:nvPr/>
        </p:nvPicPr>
        <p:blipFill>
          <a:blip r:embed="rId1"/>
          <a:stretch/>
        </p:blipFill>
        <p:spPr>
          <a:xfrm>
            <a:off x="0" y="0"/>
            <a:ext cx="12191760" cy="7021080"/>
          </a:xfrm>
          <a:prstGeom prst="rect">
            <a:avLst/>
          </a:prstGeom>
          <a:ln w="0">
            <a:noFill/>
          </a:ln>
        </p:spPr>
      </p:pic>
      <p:sp>
        <p:nvSpPr>
          <p:cNvPr id="1688" name="TextBox 21"/>
          <p:cNvSpPr/>
          <p:nvPr/>
        </p:nvSpPr>
        <p:spPr>
          <a:xfrm>
            <a:off x="7620120" y="235260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部编小学语文二年级下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TextBox 48"/>
          <p:cNvSpPr/>
          <p:nvPr/>
        </p:nvSpPr>
        <p:spPr>
          <a:xfrm>
            <a:off x="4194000" y="843840"/>
            <a:ext cx="7996320" cy="363960"/>
          </a:xfrm>
          <a:prstGeom prst="rect">
            <a:avLst/>
          </a:prstGeom>
          <a:noFill/>
          <a:ln w="0">
            <a:noFill/>
          </a:ln>
          <a:effectLst>
            <a:softEdge rad="31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4.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过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0" name="直接连接符 23"/>
          <p:cNvCxnSpPr/>
          <p:nvPr/>
        </p:nvCxnSpPr>
        <p:spPr>
          <a:xfrm>
            <a:off x="5684760" y="2138040"/>
            <a:ext cx="5358240" cy="2160"/>
          </a:xfrm>
          <a:prstGeom prst="straightConnector1">
            <a:avLst/>
          </a:prstGeom>
          <a:ln w="28575">
            <a:solidFill>
              <a:srgbClr val="000000">
                <a:lumMod val="75000"/>
                <a:lumOff val="25000"/>
              </a:srgbClr>
            </a:solidFill>
          </a:ln>
        </p:spPr>
      </p:cxnSp>
      <p:sp>
        <p:nvSpPr>
          <p:cNvPr id="1691" name="矩形 5"/>
          <p:cNvSpPr/>
          <p:nvPr/>
        </p:nvSpPr>
        <p:spPr>
          <a:xfrm>
            <a:off x="0" y="6253920"/>
            <a:ext cx="121899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graphicFrame>
        <p:nvGraphicFramePr>
          <p:cNvPr id="1796" name="Group 12"/>
          <p:cNvGraphicFramePr/>
          <p:nvPr/>
        </p:nvGraphicFramePr>
        <p:xfrm>
          <a:off x="1314360" y="3490920"/>
          <a:ext cx="1480680" cy="1528560"/>
        </p:xfrm>
        <a:graphic>
          <a:graphicData uri="http://schemas.openxmlformats.org/drawingml/2006/table">
            <a:tbl>
              <a:tblPr/>
              <a:tblGrid>
                <a:gridCol w="740520"/>
                <a:gridCol w="740520"/>
              </a:tblGrid>
              <a:tr h="779040">
                <a:tc>
                  <a:txBody>
                    <a:bodyPr lIns="57960" rIns="57960" tIns="28800" bIns="288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49520">
                <a:tc>
                  <a:txBody>
                    <a:bodyPr lIns="57960" rIns="57960" tIns="28800" bIns="288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7960" rIns="57960" tIns="28800" bIns="28800" anchor="t">
                      <a:noAutofit/>
                    </a:bodyPr>
                    <a:p>
                      <a:endParaRPr b="0" lang="en-US" sz="1500" spc="-1" strike="noStrike">
                        <a:solidFill>
                          <a:srgbClr val="000000"/>
                        </a:solidFill>
                        <a:latin typeface="华文楷体"/>
                        <a:ea typeface="宋体"/>
                      </a:endParaRPr>
                    </a:p>
                  </a:txBody>
                  <a:tcPr anchor="t" marL="57960" marR="579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797" name="TextBox 23"/>
          <p:cNvSpPr/>
          <p:nvPr/>
        </p:nvSpPr>
        <p:spPr>
          <a:xfrm>
            <a:off x="1312920" y="3392640"/>
            <a:ext cx="141876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Box 24"/>
          <p:cNvSpPr/>
          <p:nvPr/>
        </p:nvSpPr>
        <p:spPr>
          <a:xfrm>
            <a:off x="1549440" y="2556000"/>
            <a:ext cx="1426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u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Box 16"/>
          <p:cNvSpPr/>
          <p:nvPr/>
        </p:nvSpPr>
        <p:spPr>
          <a:xfrm>
            <a:off x="3125880" y="4305240"/>
            <a:ext cx="37335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愿望     愿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线形标注 2 18"/>
          <p:cNvSpPr/>
          <p:nvPr/>
        </p:nvSpPr>
        <p:spPr>
          <a:xfrm>
            <a:off x="4376880" y="2374920"/>
            <a:ext cx="4454280" cy="971280"/>
          </a:xfrm>
          <a:prstGeom prst="borderCallout2">
            <a:avLst>
              <a:gd name="adj1" fmla="val 32903"/>
              <a:gd name="adj2" fmla="val -1298"/>
              <a:gd name="adj3" fmla="val 32352"/>
              <a:gd name="adj4" fmla="val -18251"/>
              <a:gd name="adj5" fmla="val 110130"/>
              <a:gd name="adj6" fmla="val -45331"/>
            </a:avLst>
          </a:prstGeom>
          <a:noFill/>
          <a:ln w="317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巧记：原来的心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TextBox 11"/>
          <p:cNvSpPr/>
          <p:nvPr/>
        </p:nvSpPr>
        <p:spPr>
          <a:xfrm>
            <a:off x="5180040" y="843120"/>
            <a:ext cx="1455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易写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矩形 12"/>
          <p:cNvSpPr/>
          <p:nvPr/>
        </p:nvSpPr>
        <p:spPr>
          <a:xfrm>
            <a:off x="1428840" y="3586320"/>
            <a:ext cx="1177560" cy="1337760"/>
          </a:xfrm>
          <a:prstGeom prst="rect">
            <a:avLst/>
          </a:prstGeom>
          <a:noFill/>
          <a:ln w="571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803" name="图片 2" descr=""/>
          <p:cNvPicPr/>
          <p:nvPr/>
        </p:nvPicPr>
        <p:blipFill>
          <a:blip r:embed="rId1"/>
          <a:stretch/>
        </p:blipFill>
        <p:spPr>
          <a:xfrm>
            <a:off x="7677000" y="3660840"/>
            <a:ext cx="292392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1" dur="500"/>
                                        <p:tgtEl>
                                          <p:spTgt spid="1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281" dur="1" fill="hold"/>
                                        <p:tgtEl>
                                          <p:spTgt spid="180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05" name="TextBox 11"/>
          <p:cNvSpPr/>
          <p:nvPr/>
        </p:nvSpPr>
        <p:spPr>
          <a:xfrm>
            <a:off x="5180040" y="843120"/>
            <a:ext cx="1455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易写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6" name="组合 9"/>
          <p:cNvGrpSpPr/>
          <p:nvPr/>
        </p:nvGrpSpPr>
        <p:grpSpPr>
          <a:xfrm>
            <a:off x="1047600" y="2774880"/>
            <a:ext cx="2147760" cy="2162160"/>
            <a:chOff x="1047600" y="2774880"/>
            <a:chExt cx="2147760" cy="2162160"/>
          </a:xfrm>
        </p:grpSpPr>
        <p:sp>
          <p:nvSpPr>
            <p:cNvPr id="1807" name="矩形 10"/>
            <p:cNvSpPr/>
            <p:nvPr/>
          </p:nvSpPr>
          <p:spPr>
            <a:xfrm>
              <a:off x="1047600" y="2774880"/>
              <a:ext cx="2147400" cy="216180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cxnSp>
          <p:nvCxnSpPr>
            <p:cNvPr id="1808" name="直接连接符 11"/>
            <p:cNvCxnSpPr>
              <a:stCxn id="1807" idx="1"/>
              <a:endCxn id="1807" idx="3"/>
            </p:cNvCxnSpPr>
            <p:nvPr/>
          </p:nvCxnSpPr>
          <p:spPr>
            <a:xfrm flipV="1">
              <a:off x="1047600" y="3855960"/>
              <a:ext cx="214812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809" name="直接连接符 12"/>
            <p:cNvCxnSpPr>
              <a:stCxn id="1807" idx="0"/>
              <a:endCxn id="1807" idx="2"/>
            </p:cNvCxnSpPr>
            <p:nvPr/>
          </p:nvCxnSpPr>
          <p:spPr>
            <a:xfrm>
              <a:off x="2120760" y="2774880"/>
              <a:ext cx="1800" cy="216252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1810" name="文本框 64"/>
          <p:cNvSpPr/>
          <p:nvPr/>
        </p:nvSpPr>
        <p:spPr>
          <a:xfrm>
            <a:off x="1111320" y="2744640"/>
            <a:ext cx="609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矩形 6"/>
          <p:cNvSpPr/>
          <p:nvPr/>
        </p:nvSpPr>
        <p:spPr>
          <a:xfrm>
            <a:off x="1461960" y="1805040"/>
            <a:ext cx="133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文本框 12"/>
          <p:cNvSpPr/>
          <p:nvPr/>
        </p:nvSpPr>
        <p:spPr>
          <a:xfrm>
            <a:off x="3449520" y="3533760"/>
            <a:ext cx="4169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愿意    满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矩形 3"/>
          <p:cNvSpPr/>
          <p:nvPr/>
        </p:nvSpPr>
        <p:spPr>
          <a:xfrm>
            <a:off x="1593720" y="2911320"/>
            <a:ext cx="860040" cy="1434600"/>
          </a:xfrm>
          <a:prstGeom prst="rect">
            <a:avLst/>
          </a:prstGeom>
          <a:noFill/>
          <a:ln w="571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sp>
        <p:nvSpPr>
          <p:cNvPr id="1814" name="线形标注 2 4"/>
          <p:cNvSpPr/>
          <p:nvPr/>
        </p:nvSpPr>
        <p:spPr>
          <a:xfrm>
            <a:off x="4175280" y="1986120"/>
            <a:ext cx="4641480" cy="971280"/>
          </a:xfrm>
          <a:prstGeom prst="borderCallout2">
            <a:avLst>
              <a:gd name="adj1" fmla="val 32903"/>
              <a:gd name="adj2" fmla="val -1298"/>
              <a:gd name="adj3" fmla="val 32352"/>
              <a:gd name="adj4" fmla="val -18251"/>
              <a:gd name="adj5" fmla="val 110130"/>
              <a:gd name="adj6" fmla="val -45331"/>
            </a:avLst>
          </a:prstGeom>
          <a:noFill/>
          <a:ln w="317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巧记：有“心”等回“音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5" name="组合 1"/>
          <p:cNvGrpSpPr/>
          <p:nvPr/>
        </p:nvGrpSpPr>
        <p:grpSpPr>
          <a:xfrm>
            <a:off x="893520" y="3085920"/>
            <a:ext cx="2148120" cy="2163600"/>
            <a:chOff x="893520" y="3085920"/>
            <a:chExt cx="2148120" cy="2163600"/>
          </a:xfrm>
        </p:grpSpPr>
        <p:sp>
          <p:nvSpPr>
            <p:cNvPr id="1816" name="矩形 2"/>
            <p:cNvSpPr/>
            <p:nvPr/>
          </p:nvSpPr>
          <p:spPr>
            <a:xfrm>
              <a:off x="893880" y="3086280"/>
              <a:ext cx="2147400" cy="21632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cxnSp>
          <p:nvCxnSpPr>
            <p:cNvPr id="1817" name="直接连接符 3"/>
            <p:cNvCxnSpPr>
              <a:stCxn id="1816" idx="1"/>
              <a:endCxn id="1816" idx="3"/>
            </p:cNvCxnSpPr>
            <p:nvPr/>
          </p:nvCxnSpPr>
          <p:spPr>
            <a:xfrm flipV="1">
              <a:off x="893520" y="4167000"/>
              <a:ext cx="214848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818" name="直接连接符 4"/>
            <p:cNvCxnSpPr>
              <a:stCxn id="1816" idx="0"/>
              <a:endCxn id="1816" idx="2"/>
            </p:cNvCxnSpPr>
            <p:nvPr/>
          </p:nvCxnSpPr>
          <p:spPr>
            <a:xfrm>
              <a:off x="1966680" y="3085920"/>
              <a:ext cx="2160" cy="21639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1819" name="文本框 64"/>
          <p:cNvSpPr/>
          <p:nvPr/>
        </p:nvSpPr>
        <p:spPr>
          <a:xfrm>
            <a:off x="1006560" y="3057480"/>
            <a:ext cx="609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21" name="线形标注 2 18"/>
          <p:cNvSpPr/>
          <p:nvPr/>
        </p:nvSpPr>
        <p:spPr>
          <a:xfrm>
            <a:off x="3463920" y="2197080"/>
            <a:ext cx="5263920" cy="888480"/>
          </a:xfrm>
          <a:prstGeom prst="borderCallout2">
            <a:avLst>
              <a:gd name="adj1" fmla="val 18750"/>
              <a:gd name="adj2" fmla="val -8333"/>
              <a:gd name="adj3" fmla="val 52714"/>
              <a:gd name="adj4" fmla="val -21503"/>
              <a:gd name="adj5" fmla="val 88428"/>
              <a:gd name="adj6" fmla="val -25533"/>
            </a:avLst>
          </a:prstGeom>
          <a:noFill/>
          <a:ln w="317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不要写成“表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TextBox 11"/>
          <p:cNvSpPr/>
          <p:nvPr/>
        </p:nvSpPr>
        <p:spPr>
          <a:xfrm>
            <a:off x="5180040" y="843120"/>
            <a:ext cx="1455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易写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矩形 6"/>
          <p:cNvSpPr/>
          <p:nvPr/>
        </p:nvSpPr>
        <p:spPr>
          <a:xfrm>
            <a:off x="1135080" y="1844640"/>
            <a:ext cx="256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à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文本框 12"/>
          <p:cNvSpPr/>
          <p:nvPr/>
        </p:nvSpPr>
        <p:spPr>
          <a:xfrm>
            <a:off x="3219480" y="4290840"/>
            <a:ext cx="447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麦子   麦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矩形 17"/>
          <p:cNvSpPr/>
          <p:nvPr/>
        </p:nvSpPr>
        <p:spPr>
          <a:xfrm>
            <a:off x="1501920" y="3230640"/>
            <a:ext cx="1230120" cy="1704600"/>
          </a:xfrm>
          <a:prstGeom prst="rect">
            <a:avLst/>
          </a:prstGeom>
          <a:noFill/>
          <a:ln w="34925">
            <a:solidFill>
              <a:srgbClr val="ff0000"/>
            </a:solidFill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1826" name="图片 7" descr=""/>
          <p:cNvPicPr/>
          <p:nvPr/>
        </p:nvPicPr>
        <p:blipFill>
          <a:blip r:embed="rId1"/>
          <a:stretch/>
        </p:blipFill>
        <p:spPr>
          <a:xfrm>
            <a:off x="7218360" y="3763800"/>
            <a:ext cx="4350960" cy="244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354" dur="1" fill="hold"/>
                                        <p:tgtEl>
                                          <p:spTgt spid="182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7" name="组合 1"/>
          <p:cNvGrpSpPr/>
          <p:nvPr/>
        </p:nvGrpSpPr>
        <p:grpSpPr>
          <a:xfrm>
            <a:off x="893520" y="3085920"/>
            <a:ext cx="2148120" cy="2163600"/>
            <a:chOff x="893520" y="3085920"/>
            <a:chExt cx="2148120" cy="2163600"/>
          </a:xfrm>
        </p:grpSpPr>
        <p:sp>
          <p:nvSpPr>
            <p:cNvPr id="1828" name="矩形 2"/>
            <p:cNvSpPr/>
            <p:nvPr/>
          </p:nvSpPr>
          <p:spPr>
            <a:xfrm>
              <a:off x="893880" y="3086280"/>
              <a:ext cx="2147400" cy="2163240"/>
            </a:xfrm>
            <a:prstGeom prst="rect">
              <a:avLst/>
            </a:prstGeom>
            <a:solidFill>
              <a:schemeClr val="bg1"/>
            </a:solidFill>
            <a:ln>
              <a:solidFill>
                <a:srgbClr val="000000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Arial"/>
                <a:ea typeface="宋体"/>
              </a:endParaRPr>
            </a:p>
          </p:txBody>
        </p:sp>
        <p:cxnSp>
          <p:nvCxnSpPr>
            <p:cNvPr id="1829" name="直接连接符 3"/>
            <p:cNvCxnSpPr>
              <a:stCxn id="1828" idx="1"/>
              <a:endCxn id="1828" idx="3"/>
            </p:cNvCxnSpPr>
            <p:nvPr/>
          </p:nvCxnSpPr>
          <p:spPr>
            <a:xfrm flipV="1">
              <a:off x="893520" y="4167000"/>
              <a:ext cx="214848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830" name="直接连接符 4"/>
            <p:cNvCxnSpPr>
              <a:stCxn id="1828" idx="0"/>
              <a:endCxn id="1828" idx="2"/>
            </p:cNvCxnSpPr>
            <p:nvPr/>
          </p:nvCxnSpPr>
          <p:spPr>
            <a:xfrm>
              <a:off x="1966680" y="3085920"/>
              <a:ext cx="2160" cy="21639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1831" name="文本框 64"/>
          <p:cNvSpPr/>
          <p:nvPr/>
        </p:nvSpPr>
        <p:spPr>
          <a:xfrm>
            <a:off x="1006560" y="3057480"/>
            <a:ext cx="609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33" name="线形标注 2 18"/>
          <p:cNvSpPr/>
          <p:nvPr/>
        </p:nvSpPr>
        <p:spPr>
          <a:xfrm>
            <a:off x="3492360" y="2198520"/>
            <a:ext cx="4811400" cy="888480"/>
          </a:xfrm>
          <a:prstGeom prst="borderCallout2">
            <a:avLst>
              <a:gd name="adj1" fmla="val 18750"/>
              <a:gd name="adj2" fmla="val -8333"/>
              <a:gd name="adj3" fmla="val 52714"/>
              <a:gd name="adj4" fmla="val -21503"/>
              <a:gd name="adj5" fmla="val 88428"/>
              <a:gd name="adj6" fmla="val -25533"/>
            </a:avLst>
          </a:prstGeom>
          <a:noFill/>
          <a:ln w="31750"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巧记：“犬”从“穴”中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TextBox 11"/>
          <p:cNvSpPr/>
          <p:nvPr/>
        </p:nvSpPr>
        <p:spPr>
          <a:xfrm>
            <a:off x="5180040" y="843120"/>
            <a:ext cx="14554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易写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矩形 6"/>
          <p:cNvSpPr/>
          <p:nvPr/>
        </p:nvSpPr>
        <p:spPr>
          <a:xfrm>
            <a:off x="1135080" y="2085840"/>
            <a:ext cx="1240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文本框 12"/>
          <p:cNvSpPr/>
          <p:nvPr/>
        </p:nvSpPr>
        <p:spPr>
          <a:xfrm>
            <a:off x="3219480" y="4290840"/>
            <a:ext cx="39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突然   突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矩形 17"/>
          <p:cNvSpPr/>
          <p:nvPr/>
        </p:nvSpPr>
        <p:spPr>
          <a:xfrm>
            <a:off x="1135080" y="3230640"/>
            <a:ext cx="1596600" cy="1704600"/>
          </a:xfrm>
          <a:prstGeom prst="rect">
            <a:avLst/>
          </a:prstGeom>
          <a:noFill/>
          <a:ln w="34925">
            <a:solidFill>
              <a:srgbClr val="ff0000"/>
            </a:solidFill>
          </a:ln>
          <a:effectLst>
            <a:outerShdw algn="tr" blurRad="444600" dir="8100000" dist="254049" rotWithShape="0">
              <a:srgbClr val="000000">
                <a:alpha val="5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39" name="TextBox 9"/>
          <p:cNvSpPr/>
          <p:nvPr/>
        </p:nvSpPr>
        <p:spPr>
          <a:xfrm>
            <a:off x="1425600" y="824040"/>
            <a:ext cx="729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词语理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0" name="Picture 3" descr="http://www.jituwang.com/uploads/allimg/130228/260450-13022Q0164945.jpg"/>
          <p:cNvPicPr/>
          <p:nvPr/>
        </p:nvPicPr>
        <p:blipFill>
          <a:blip r:embed="rId1"/>
          <a:stretch/>
        </p:blipFill>
        <p:spPr>
          <a:xfrm>
            <a:off x="-38160" y="519120"/>
            <a:ext cx="961560" cy="953640"/>
          </a:xfrm>
          <a:prstGeom prst="rect">
            <a:avLst/>
          </a:prstGeom>
          <a:ln w="0">
            <a:noFill/>
          </a:ln>
        </p:spPr>
      </p:pic>
      <p:sp>
        <p:nvSpPr>
          <p:cNvPr id="1841" name="文本框 12"/>
          <p:cNvSpPr/>
          <p:nvPr/>
        </p:nvSpPr>
        <p:spPr>
          <a:xfrm>
            <a:off x="1816200" y="1716120"/>
            <a:ext cx="5114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磨坊：磨面粉等的作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文本框 12"/>
          <p:cNvSpPr/>
          <p:nvPr/>
        </p:nvSpPr>
        <p:spPr>
          <a:xfrm>
            <a:off x="1846440" y="2376360"/>
            <a:ext cx="4628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飞快：非常迅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文本框 12"/>
          <p:cNvSpPr/>
          <p:nvPr/>
        </p:nvSpPr>
        <p:spPr>
          <a:xfrm>
            <a:off x="1816200" y="3097080"/>
            <a:ext cx="80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立刻：表示动作行为紧接着某个时候；马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文本框 12"/>
          <p:cNvSpPr/>
          <p:nvPr/>
        </p:nvSpPr>
        <p:spPr>
          <a:xfrm>
            <a:off x="1816200" y="3743280"/>
            <a:ext cx="5427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吃惊：受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文本框 5"/>
          <p:cNvSpPr/>
          <p:nvPr/>
        </p:nvSpPr>
        <p:spPr>
          <a:xfrm>
            <a:off x="1846440" y="4494240"/>
            <a:ext cx="704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连忙：赶紧；急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文本框 5"/>
          <p:cNvSpPr/>
          <p:nvPr/>
        </p:nvSpPr>
        <p:spPr>
          <a:xfrm>
            <a:off x="1890720" y="5262480"/>
            <a:ext cx="7048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00000"/>
              </a:lnSpc>
              <a:spcBef>
                <a:spcPts val="1800"/>
              </a:spcBef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亲切：亲近；热情而关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0" dur="2000"/>
                                        <p:tgtEl>
                                          <p:spTgt spid="1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48" name="TextBox 17"/>
          <p:cNvSpPr/>
          <p:nvPr/>
        </p:nvSpPr>
        <p:spPr>
          <a:xfrm>
            <a:off x="531720" y="766800"/>
            <a:ext cx="1980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整体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Text Box 6"/>
          <p:cNvSpPr/>
          <p:nvPr/>
        </p:nvSpPr>
        <p:spPr>
          <a:xfrm>
            <a:off x="531720" y="1496880"/>
            <a:ext cx="10556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水到底是深还是浅呢？我们来看看小马是怎样解决这个问题的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文本框 12"/>
          <p:cNvSpPr/>
          <p:nvPr/>
        </p:nvSpPr>
        <p:spPr>
          <a:xfrm>
            <a:off x="1082520" y="2916360"/>
            <a:ext cx="10005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听了妈妈的话，决定自己去试试，终于顺利过了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1" name="图片 2" descr=""/>
          <p:cNvPicPr/>
          <p:nvPr/>
        </p:nvPicPr>
        <p:blipFill>
          <a:blip r:embed="rId1"/>
          <a:stretch/>
        </p:blipFill>
        <p:spPr>
          <a:xfrm>
            <a:off x="3714840" y="3613320"/>
            <a:ext cx="4762080" cy="30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27" dur="1" fill="hold"/>
                                        <p:tgtEl>
                                          <p:spTgt spid="184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32" dur="1" fill="hold"/>
                                        <p:tgtEl>
                                          <p:spTgt spid="185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3" name="文本框 2"/>
          <p:cNvSpPr/>
          <p:nvPr/>
        </p:nvSpPr>
        <p:spPr>
          <a:xfrm>
            <a:off x="460440" y="1432080"/>
            <a:ext cx="11355120" cy="363960"/>
          </a:xfrm>
          <a:prstGeom prst="rect">
            <a:avLst/>
          </a:prstGeom>
          <a:solidFill>
            <a:srgbClr val="e6e6e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一天，老马对小马说：“你已经长大了，能帮妈妈做点儿事吗？”小马连蹦带跳地说：“怎么不能？我很愿意帮您做事。”老马高兴地说：“那好啊，你把这半口袋麦子驮到磨坊去吧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椭圆 1"/>
          <p:cNvSpPr/>
          <p:nvPr/>
        </p:nvSpPr>
        <p:spPr>
          <a:xfrm>
            <a:off x="330120" y="623880"/>
            <a:ext cx="1361880" cy="360000"/>
          </a:xfrm>
          <a:prstGeom prst="ellipse">
            <a:avLst/>
          </a:prstGeom>
          <a:gradFill rotWithShape="0">
            <a:gsLst>
              <a:gs pos="0">
                <a:srgbClr val="f6b4bc"/>
              </a:gs>
              <a:gs pos="100000">
                <a:srgbClr val="f4a5ae"/>
              </a:gs>
            </a:gsLst>
            <a:lin ang="5400000"/>
          </a:gradFill>
          <a:ln>
            <a:solidFill>
              <a:srgbClr val="ec5f74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横卷形 2"/>
          <p:cNvSpPr/>
          <p:nvPr/>
        </p:nvSpPr>
        <p:spPr>
          <a:xfrm>
            <a:off x="4545000" y="623880"/>
            <a:ext cx="2539800" cy="914040"/>
          </a:xfrm>
          <a:prstGeom prst="horizontalScroll">
            <a:avLst>
              <a:gd name="adj" fmla="val 12500"/>
            </a:avLst>
          </a:prstGeom>
          <a:solidFill>
            <a:srgbClr val="ffc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故事的起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线形标注 2 3"/>
          <p:cNvSpPr/>
          <p:nvPr/>
        </p:nvSpPr>
        <p:spPr>
          <a:xfrm>
            <a:off x="4861080" y="3627360"/>
            <a:ext cx="5584320" cy="931680"/>
          </a:xfrm>
          <a:prstGeom prst="borderCallout2">
            <a:avLst>
              <a:gd name="adj1" fmla="val 3615"/>
              <a:gd name="adj2" fmla="val 943"/>
              <a:gd name="adj3" fmla="val -69713"/>
              <a:gd name="adj4" fmla="val -545"/>
              <a:gd name="adj5" fmla="val -1568"/>
              <a:gd name="adj6" fmla="val 19124"/>
            </a:avLst>
          </a:prstGeom>
          <a:solidFill>
            <a:schemeClr val="bg1"/>
          </a:solidFill>
          <a:ln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写出了小马的活泼可爱，并且很高兴能帮妈妈做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线形标注 2 8"/>
          <p:cNvSpPr/>
          <p:nvPr/>
        </p:nvSpPr>
        <p:spPr>
          <a:xfrm>
            <a:off x="612720" y="4890960"/>
            <a:ext cx="6756120" cy="1549080"/>
          </a:xfrm>
          <a:prstGeom prst="borderCallout2">
            <a:avLst>
              <a:gd name="adj1" fmla="val -246"/>
              <a:gd name="adj2" fmla="val 507"/>
              <a:gd name="adj3" fmla="val -85485"/>
              <a:gd name="adj4" fmla="val 33073"/>
              <a:gd name="adj5" fmla="val -2132"/>
              <a:gd name="adj6" fmla="val 23308"/>
            </a:avLst>
          </a:prstGeom>
          <a:solidFill>
            <a:schemeClr val="bg1"/>
          </a:solidFill>
          <a:ln>
            <a:solidFill>
              <a:srgbClr val="f18870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写出了老马看到小马长大了，而且能帮自己做事了，感到很开心，很欣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39" dur="1" fill="hold"/>
                                        <p:tgtEl>
                                          <p:spTgt spid="185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48" dur="1" fill="hold"/>
                                        <p:tgtEl>
                                          <p:spTgt spid="185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53" dur="1" fill="hold"/>
                                        <p:tgtEl>
                                          <p:spTgt spid="185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59" name="文本框 2"/>
          <p:cNvSpPr/>
          <p:nvPr/>
        </p:nvSpPr>
        <p:spPr>
          <a:xfrm>
            <a:off x="339840" y="1041480"/>
            <a:ext cx="11404080" cy="363960"/>
          </a:xfrm>
          <a:prstGeom prst="rect">
            <a:avLst/>
          </a:prstGeom>
          <a:solidFill>
            <a:srgbClr val="e6e6e6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驮起口袋，飞快地往磨坊跑去。跑着跑着，一条小河挡住了去路，河水哗哗地流着。小马为难了，心想：我能不能过去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椭圆 22"/>
          <p:cNvSpPr/>
          <p:nvPr/>
        </p:nvSpPr>
        <p:spPr>
          <a:xfrm>
            <a:off x="460440" y="687240"/>
            <a:ext cx="1375920" cy="442440"/>
          </a:xfrm>
          <a:prstGeom prst="ellipse">
            <a:avLst/>
          </a:prstGeom>
          <a:gradFill rotWithShape="0">
            <a:gsLst>
              <a:gs pos="0">
                <a:srgbClr val="f6b4bc"/>
              </a:gs>
              <a:gs pos="100000">
                <a:srgbClr val="f4a5ae"/>
              </a:gs>
            </a:gsLst>
            <a:lin ang="5400000"/>
          </a:gradFill>
          <a:ln>
            <a:solidFill>
              <a:srgbClr val="ec5f74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直接连接符 2"/>
          <p:cNvCxnSpPr/>
          <p:nvPr/>
        </p:nvCxnSpPr>
        <p:spPr>
          <a:xfrm flipV="1">
            <a:off x="339480" y="2063520"/>
            <a:ext cx="11166840" cy="6840"/>
          </a:xfrm>
          <a:prstGeom prst="straightConnector1">
            <a:avLst/>
          </a:prstGeom>
          <a:ln>
            <a:solidFill>
              <a:srgbClr val="ec5f74"/>
            </a:solidFill>
          </a:ln>
        </p:spPr>
      </p:cxnSp>
      <p:sp>
        <p:nvSpPr>
          <p:cNvPr id="1862" name="矩形标注 8"/>
          <p:cNvSpPr/>
          <p:nvPr/>
        </p:nvSpPr>
        <p:spPr>
          <a:xfrm>
            <a:off x="636480" y="3922560"/>
            <a:ext cx="5432040" cy="985320"/>
          </a:xfrm>
          <a:prstGeom prst="wedgeRectCallout">
            <a:avLst>
              <a:gd name="adj1" fmla="val -21971"/>
              <a:gd name="adj2" fmla="val -86879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可以看出小马很依赖妈妈，没有主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3" name="图片 3" descr=""/>
          <p:cNvPicPr/>
          <p:nvPr/>
        </p:nvPicPr>
        <p:blipFill>
          <a:blip r:embed="rId1"/>
          <a:stretch/>
        </p:blipFill>
        <p:spPr>
          <a:xfrm>
            <a:off x="7026120" y="2747880"/>
            <a:ext cx="4030200" cy="40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思想气泡: 云 2"/>
          <p:cNvSpPr/>
          <p:nvPr/>
        </p:nvSpPr>
        <p:spPr>
          <a:xfrm>
            <a:off x="177840" y="912960"/>
            <a:ext cx="6011640" cy="2445840"/>
          </a:xfrm>
          <a:prstGeom prst="cloudCallout">
            <a:avLst>
              <a:gd name="adj1" fmla="val 52757"/>
              <a:gd name="adj2" fmla="val 27290"/>
            </a:avLst>
          </a:prstGeom>
          <a:gradFill rotWithShape="0">
            <a:gsLst>
              <a:gs pos="0">
                <a:srgbClr val="f9c6bd"/>
              </a:gs>
              <a:gs pos="100000">
                <a:srgbClr val="f7b9ad"/>
              </a:gs>
            </a:gsLst>
            <a:lin ang="5400000"/>
          </a:gradFill>
          <a:ln>
            <a:solidFill>
              <a:srgbClr val="f18870"/>
            </a:solidFill>
          </a:ln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  <a:ea typeface="微软雅黑"/>
              </a:rPr>
              <a:t>  “</a:t>
            </a:r>
            <a:r>
              <a:rPr b="0" lang="zh-CN" sz="4300" spc="-1" strike="noStrike">
                <a:solidFill>
                  <a:srgbClr val="000000"/>
                </a:solidFill>
                <a:latin typeface="Arial"/>
                <a:ea typeface="微软雅黑"/>
              </a:rPr>
              <a:t>一条小河挡住了去路，河水哗哗地流着。”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矩形 1"/>
          <p:cNvSpPr/>
          <p:nvPr/>
        </p:nvSpPr>
        <p:spPr>
          <a:xfrm>
            <a:off x="600120" y="5099040"/>
            <a:ext cx="10755000" cy="363960"/>
          </a:xfrm>
          <a:prstGeom prst="rect">
            <a:avLst/>
          </a:prstGeom>
          <a:solidFill>
            <a:srgbClr val="d1d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河水流速很急，为下文小马不敢过河做了铺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图片 3" descr=""/>
          <p:cNvPicPr/>
          <p:nvPr/>
        </p:nvPicPr>
        <p:blipFill>
          <a:blip r:embed="rId1"/>
          <a:srcRect l="0" t="0" r="0" b="15944"/>
          <a:stretch/>
        </p:blipFill>
        <p:spPr>
          <a:xfrm>
            <a:off x="6768360" y="1132920"/>
            <a:ext cx="3809520" cy="3602520"/>
          </a:xfrm>
          <a:prstGeom prst="rect">
            <a:avLst/>
          </a:prstGeom>
          <a:ln w="0">
            <a:noFill/>
          </a:ln>
          <a:effectLst>
            <a:softEdge rad="1260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71" dur="1" fill="hold"/>
                                        <p:tgtEl>
                                          <p:spTgt spid="186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68" name="椭圆 22"/>
          <p:cNvSpPr/>
          <p:nvPr/>
        </p:nvSpPr>
        <p:spPr>
          <a:xfrm>
            <a:off x="281160" y="600120"/>
            <a:ext cx="1574280" cy="482400"/>
          </a:xfrm>
          <a:prstGeom prst="ellipse">
            <a:avLst/>
          </a:prstGeom>
          <a:gradFill rotWithShape="0">
            <a:gsLst>
              <a:gs pos="0">
                <a:srgbClr val="f6b4bc"/>
              </a:gs>
              <a:gs pos="100000">
                <a:srgbClr val="f4a5ae"/>
              </a:gs>
            </a:gsLst>
            <a:lin ang="5400000"/>
          </a:gradFill>
          <a:ln>
            <a:solidFill>
              <a:srgbClr val="ec5f74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TextBox 6"/>
          <p:cNvSpPr/>
          <p:nvPr/>
        </p:nvSpPr>
        <p:spPr>
          <a:xfrm>
            <a:off x="460440" y="1235160"/>
            <a:ext cx="11432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被小河拦住之后，心里是怎样想的？在文中找出来并分析句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线形标注 2 1"/>
          <p:cNvSpPr/>
          <p:nvPr/>
        </p:nvSpPr>
        <p:spPr>
          <a:xfrm>
            <a:off x="609480" y="2525760"/>
            <a:ext cx="11083680" cy="1740960"/>
          </a:xfrm>
          <a:prstGeom prst="borderCallout2">
            <a:avLst>
              <a:gd name="adj1" fmla="val -2145"/>
              <a:gd name="adj2" fmla="val 32324"/>
              <a:gd name="adj3" fmla="val -37154"/>
              <a:gd name="adj4" fmla="val 45917"/>
              <a:gd name="adj5" fmla="val 508"/>
              <a:gd name="adj6" fmla="val 60141"/>
            </a:avLst>
          </a:prstGeom>
          <a:solidFill>
            <a:schemeClr val="bg1">
              <a:lumMod val="9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小马为难了，心想：我能不能过去呢？如果妈妈在身边，问问她该怎么办，那多好啊！可是他离家已经很远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线形标注 2 3"/>
          <p:cNvSpPr/>
          <p:nvPr/>
        </p:nvSpPr>
        <p:spPr>
          <a:xfrm>
            <a:off x="1333440" y="4973760"/>
            <a:ext cx="10154880" cy="1491840"/>
          </a:xfrm>
          <a:prstGeom prst="borderCallout2">
            <a:avLst>
              <a:gd name="adj1" fmla="val -255"/>
              <a:gd name="adj2" fmla="val 27707"/>
              <a:gd name="adj3" fmla="val -31319"/>
              <a:gd name="adj4" fmla="val 47161"/>
              <a:gd name="adj5" fmla="val -638"/>
              <a:gd name="adj6" fmla="val 73797"/>
            </a:avLst>
          </a:prstGeom>
          <a:solidFill>
            <a:schemeClr val="bg1"/>
          </a:solidFill>
          <a:ln>
            <a:solidFill>
              <a:srgbClr val="f18870">
                <a:lumMod val="50000"/>
              </a:srgbClr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小马心里的这些想法写出了小马的犹豫和没有注意，也表现了小马对妈妈的依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91" dur="1" fill="hold"/>
                                        <p:tgtEl>
                                          <p:spTgt spid="187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496" dur="1" fill="hold"/>
                                        <p:tgtEl>
                                          <p:spTgt spid="187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TextBox 7"/>
          <p:cNvSpPr/>
          <p:nvPr/>
        </p:nvSpPr>
        <p:spPr>
          <a:xfrm>
            <a:off x="1423440" y="824040"/>
            <a:ext cx="729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文导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Picture 3" descr="http://www.jituwang.com/uploads/allimg/130228/260450-13022Q0164945.jpg"/>
          <p:cNvPicPr/>
          <p:nvPr/>
        </p:nvPicPr>
        <p:blipFill>
          <a:blip r:embed="rId1"/>
          <a:stretch/>
        </p:blipFill>
        <p:spPr>
          <a:xfrm>
            <a:off x="-38160" y="519120"/>
            <a:ext cx="961560" cy="953640"/>
          </a:xfrm>
          <a:prstGeom prst="rect">
            <a:avLst/>
          </a:prstGeom>
          <a:ln w="0">
            <a:noFill/>
          </a:ln>
        </p:spPr>
      </p:pic>
      <p:sp>
        <p:nvSpPr>
          <p:cNvPr id="1694" name="文本框 11"/>
          <p:cNvSpPr/>
          <p:nvPr/>
        </p:nvSpPr>
        <p:spPr>
          <a:xfrm>
            <a:off x="372960" y="1949400"/>
            <a:ext cx="11442240" cy="363960"/>
          </a:xfrm>
          <a:prstGeom prst="rect">
            <a:avLst/>
          </a:prstGeom>
          <a:solidFill>
            <a:srgbClr val="fffff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长大了，他要帮妈妈把麦子驮到磨坊，但是路上有一条小河挡住了他的去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5" name="图片 2" descr=""/>
          <p:cNvPicPr/>
          <p:nvPr/>
        </p:nvPicPr>
        <p:blipFill>
          <a:blip r:embed="rId2"/>
          <a:stretch/>
        </p:blipFill>
        <p:spPr>
          <a:xfrm>
            <a:off x="3984480" y="3141720"/>
            <a:ext cx="4762080" cy="35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6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TextBox 17"/>
          <p:cNvSpPr/>
          <p:nvPr/>
        </p:nvSpPr>
        <p:spPr>
          <a:xfrm>
            <a:off x="433440" y="866880"/>
            <a:ext cx="1980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文讲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3" name="图片 1" descr=""/>
          <p:cNvPicPr/>
          <p:nvPr/>
        </p:nvPicPr>
        <p:blipFill>
          <a:blip r:embed="rId1"/>
          <a:stretch/>
        </p:blipFill>
        <p:spPr>
          <a:xfrm rot="19920000">
            <a:off x="1215720" y="2369880"/>
            <a:ext cx="3125520" cy="3125520"/>
          </a:xfrm>
          <a:prstGeom prst="rect">
            <a:avLst/>
          </a:prstGeom>
          <a:ln w="0">
            <a:noFill/>
          </a:ln>
        </p:spPr>
      </p:pic>
      <p:sp>
        <p:nvSpPr>
          <p:cNvPr id="1874" name="云形标注 14"/>
          <p:cNvSpPr/>
          <p:nvPr/>
        </p:nvSpPr>
        <p:spPr>
          <a:xfrm>
            <a:off x="4892760" y="2158920"/>
            <a:ext cx="6318000" cy="2201400"/>
          </a:xfrm>
          <a:prstGeom prst="cloudCallout">
            <a:avLst>
              <a:gd name="adj1" fmla="val -49838"/>
              <a:gd name="adj2" fmla="val 78200"/>
            </a:avLst>
          </a:prstGeom>
          <a:noFill/>
          <a:ln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河边的老牛和松鼠是怎么说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03" dur="1" fill="hold"/>
                                        <p:tgtEl>
                                          <p:spTgt spid="187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76" name="椭圆 22"/>
          <p:cNvSpPr/>
          <p:nvPr/>
        </p:nvSpPr>
        <p:spPr>
          <a:xfrm>
            <a:off x="281160" y="600120"/>
            <a:ext cx="1377720" cy="417240"/>
          </a:xfrm>
          <a:prstGeom prst="ellipse">
            <a:avLst/>
          </a:prstGeom>
          <a:gradFill rotWithShape="0">
            <a:gsLst>
              <a:gs pos="0">
                <a:srgbClr val="f6b4bc"/>
              </a:gs>
              <a:gs pos="100000">
                <a:srgbClr val="f4a5ae"/>
              </a:gs>
            </a:gsLst>
            <a:lin ang="5400000"/>
          </a:gradFill>
          <a:ln>
            <a:solidFill>
              <a:srgbClr val="ec5f74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矩形 1"/>
          <p:cNvSpPr/>
          <p:nvPr/>
        </p:nvSpPr>
        <p:spPr>
          <a:xfrm>
            <a:off x="561960" y="1015920"/>
            <a:ext cx="11278800" cy="36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问道：“牛伯伯，请您告诉我，这条河，我能蹚过去吗？”老牛说：“水很浅，刚没小腿，能蹚过去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矩形 2"/>
          <p:cNvSpPr/>
          <p:nvPr/>
        </p:nvSpPr>
        <p:spPr>
          <a:xfrm>
            <a:off x="455760" y="4476600"/>
            <a:ext cx="11280240" cy="63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然，从树上跳下一只松鼠，拦住他大叫：“小马！别过河，别过河，你会淹死的！”小马吃惊地问：“水很深吗？”松鼠认真地说：“深得很哩！昨天，我的一个伙伴就是掉在这条河里淹死的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线形标注 2 3"/>
          <p:cNvSpPr/>
          <p:nvPr/>
        </p:nvSpPr>
        <p:spPr>
          <a:xfrm>
            <a:off x="3860640" y="3002040"/>
            <a:ext cx="4022280" cy="552240"/>
          </a:xfrm>
          <a:prstGeom prst="borderCallout2">
            <a:avLst>
              <a:gd name="adj1" fmla="val -266"/>
              <a:gd name="adj2" fmla="val 41827"/>
              <a:gd name="adj3" fmla="val 1407"/>
              <a:gd name="adj4" fmla="val 99943"/>
              <a:gd name="adj5" fmla="val 33853"/>
              <a:gd name="adj6" fmla="val 100700"/>
            </a:avLst>
          </a:prstGeom>
          <a:solidFill>
            <a:schemeClr val="bg1"/>
          </a:solidFill>
          <a:ln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小马准备过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下箭头 9"/>
          <p:cNvSpPr/>
          <p:nvPr/>
        </p:nvSpPr>
        <p:spPr>
          <a:xfrm>
            <a:off x="5508720" y="2092320"/>
            <a:ext cx="485280" cy="771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noFill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微软雅黑"/>
            </a:endParaRPr>
          </a:p>
        </p:txBody>
      </p:sp>
      <p:sp>
        <p:nvSpPr>
          <p:cNvPr id="1881" name="下箭头 10"/>
          <p:cNvSpPr/>
          <p:nvPr/>
        </p:nvSpPr>
        <p:spPr>
          <a:xfrm>
            <a:off x="5629320" y="3705120"/>
            <a:ext cx="485280" cy="771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>
            <a:noFill/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Arial"/>
              <a:ea typeface="微软雅黑"/>
            </a:endParaRPr>
          </a:p>
        </p:txBody>
      </p:sp>
      <p:pic>
        <p:nvPicPr>
          <p:cNvPr id="1882" name="Picture 6" descr="C:\Users\Administrator\Desktop\u=2904774046,871041572&amp;fm=27&amp;gp=0.png"/>
          <p:cNvPicPr/>
          <p:nvPr/>
        </p:nvPicPr>
        <p:blipFill>
          <a:blip r:embed="rId1"/>
          <a:stretch/>
        </p:blipFill>
        <p:spPr>
          <a:xfrm>
            <a:off x="907920" y="2649600"/>
            <a:ext cx="2184120" cy="172224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2" descr="C:\Users\Administrator\Desktop\08102301182917331.png"/>
          <p:cNvPicPr/>
          <p:nvPr/>
        </p:nvPicPr>
        <p:blipFill>
          <a:blip r:embed="rId2"/>
          <a:stretch/>
        </p:blipFill>
        <p:spPr>
          <a:xfrm>
            <a:off x="8991720" y="2265480"/>
            <a:ext cx="1692000" cy="20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15" dur="1" fill="hold"/>
                                        <p:tgtEl>
                                          <p:spTgt spid="188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20" dur="1" fill="hold"/>
                                        <p:tgtEl>
                                          <p:spTgt spid="187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25" dur="1" fill="hold"/>
                                        <p:tgtEl>
                                          <p:spTgt spid="188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885" name="图片 30" descr=""/>
          <p:cNvPicPr/>
          <p:nvPr/>
        </p:nvPicPr>
        <p:blipFill>
          <a:blip r:embed="rId1"/>
          <a:stretch/>
        </p:blipFill>
        <p:spPr>
          <a:xfrm>
            <a:off x="351000" y="2055960"/>
            <a:ext cx="3311280" cy="4230360"/>
          </a:xfrm>
          <a:prstGeom prst="rect">
            <a:avLst/>
          </a:prstGeom>
          <a:ln w="0">
            <a:noFill/>
          </a:ln>
        </p:spPr>
      </p:pic>
      <p:sp>
        <p:nvSpPr>
          <p:cNvPr id="1886" name="矩形 1"/>
          <p:cNvSpPr/>
          <p:nvPr/>
        </p:nvSpPr>
        <p:spPr>
          <a:xfrm>
            <a:off x="566640" y="763560"/>
            <a:ext cx="11286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同一条河流，老牛说河水很浅，而松鼠说河水很深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6"/>
          <p:cNvSpPr/>
          <p:nvPr/>
        </p:nvSpPr>
        <p:spPr>
          <a:xfrm>
            <a:off x="3294000" y="2824200"/>
            <a:ext cx="8310240" cy="44604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因为老牛的个子高，河水只到老牛的小腿位置；而松鼠太小了，他如果过河的话，河水就会把它淹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42" dur="1" fill="hold"/>
                                        <p:tgtEl>
                                          <p:spTgt spid="188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89" name="TextBox 12"/>
          <p:cNvSpPr/>
          <p:nvPr/>
        </p:nvSpPr>
        <p:spPr>
          <a:xfrm>
            <a:off x="317520" y="1039680"/>
            <a:ext cx="11223360" cy="363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连忙收住脚步，不知道怎么办才好。他叹了口气，说：“唉！还是回家问问妈妈吧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椭圆 22"/>
          <p:cNvSpPr/>
          <p:nvPr/>
        </p:nvSpPr>
        <p:spPr>
          <a:xfrm>
            <a:off x="317520" y="633240"/>
            <a:ext cx="1417320" cy="533160"/>
          </a:xfrm>
          <a:prstGeom prst="ellipse">
            <a:avLst/>
          </a:prstGeom>
          <a:gradFill rotWithShape="0">
            <a:gsLst>
              <a:gs pos="0">
                <a:srgbClr val="f6b4bc"/>
              </a:gs>
              <a:gs pos="100000">
                <a:srgbClr val="f4a5ae"/>
              </a:gs>
            </a:gsLst>
            <a:lin ang="5400000"/>
          </a:gradFill>
          <a:ln>
            <a:solidFill>
              <a:srgbClr val="ec5f74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6"/>
          <p:cNvSpPr/>
          <p:nvPr/>
        </p:nvSpPr>
        <p:spPr>
          <a:xfrm>
            <a:off x="3438360" y="2575080"/>
            <a:ext cx="4792320" cy="4460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为什么叹气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文本框 3"/>
          <p:cNvSpPr/>
          <p:nvPr/>
        </p:nvSpPr>
        <p:spPr>
          <a:xfrm>
            <a:off x="460440" y="3882960"/>
            <a:ext cx="11175480" cy="36396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来牛伯伯说水很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以过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很高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可是松鼠却拦住小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说水很深。松鼠与牛伯伯的话正好矛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让小马也不知道水到底是深还是浅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不知道自己该怎么办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所以才会叹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60" dur="1" fill="hold"/>
                                        <p:tgtEl>
                                          <p:spTgt spid="189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65" dur="1" fill="hold"/>
                                        <p:tgtEl>
                                          <p:spTgt spid="1892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94" name="TextBox 12"/>
          <p:cNvSpPr/>
          <p:nvPr/>
        </p:nvSpPr>
        <p:spPr>
          <a:xfrm>
            <a:off x="426960" y="1166760"/>
            <a:ext cx="11336040" cy="3639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甩甩尾巴，跑回家去。妈妈问他：“怎么回来啦？”小马难为情地说：“一条河挡住了去路，我……我过不去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椭圆 22"/>
          <p:cNvSpPr/>
          <p:nvPr/>
        </p:nvSpPr>
        <p:spPr>
          <a:xfrm>
            <a:off x="317520" y="633240"/>
            <a:ext cx="1417320" cy="533160"/>
          </a:xfrm>
          <a:prstGeom prst="ellipse">
            <a:avLst/>
          </a:prstGeom>
          <a:gradFill rotWithShape="0">
            <a:gsLst>
              <a:gs pos="0">
                <a:srgbClr val="f6b4bc"/>
              </a:gs>
              <a:gs pos="100000">
                <a:srgbClr val="f4a5ae"/>
              </a:gs>
            </a:gsLst>
            <a:lin ang="5400000"/>
          </a:gradFill>
          <a:ln>
            <a:solidFill>
              <a:srgbClr val="ec5f74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线形标注 2 7"/>
          <p:cNvSpPr/>
          <p:nvPr/>
        </p:nvSpPr>
        <p:spPr>
          <a:xfrm>
            <a:off x="5791320" y="4083120"/>
            <a:ext cx="5765400" cy="1266480"/>
          </a:xfrm>
          <a:prstGeom prst="borderCallout2">
            <a:avLst>
              <a:gd name="adj1" fmla="val 634"/>
              <a:gd name="adj2" fmla="val 819"/>
              <a:gd name="adj3" fmla="val -40602"/>
              <a:gd name="adj4" fmla="val 48986"/>
              <a:gd name="adj5" fmla="val 2676"/>
              <a:gd name="adj6" fmla="val 99588"/>
            </a:avLst>
          </a:prstGeom>
          <a:solidFill>
            <a:schemeClr val="accent1"/>
          </a:solidFill>
          <a:ln w="9525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ts val="4062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合课文，小马回家后面对妈妈为什么难为情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图片 3" descr=""/>
          <p:cNvPicPr/>
          <p:nvPr/>
        </p:nvPicPr>
        <p:blipFill>
          <a:blip r:embed="rId1"/>
          <a:srcRect l="0" t="21421" r="0" b="0"/>
          <a:stretch/>
        </p:blipFill>
        <p:spPr>
          <a:xfrm>
            <a:off x="460440" y="2894040"/>
            <a:ext cx="5060520" cy="29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83" dur="1" fill="hold"/>
                                        <p:tgtEl>
                                          <p:spTgt spid="189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899" name="TextBox 12"/>
          <p:cNvSpPr/>
          <p:nvPr/>
        </p:nvSpPr>
        <p:spPr>
          <a:xfrm>
            <a:off x="650880" y="739800"/>
            <a:ext cx="10890000" cy="446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走的时候高高兴兴的，因为他觉得自己终于可以帮妈妈做点事儿了，可是一条小河挡住了小马的去路，他没能完成妈妈交给他的任务，所以觉得难为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0" name="图片 5" descr=""/>
          <p:cNvPicPr/>
          <p:nvPr/>
        </p:nvPicPr>
        <p:blipFill>
          <a:blip r:embed="rId1"/>
          <a:stretch/>
        </p:blipFill>
        <p:spPr>
          <a:xfrm>
            <a:off x="3819600" y="3711600"/>
            <a:ext cx="4762080" cy="31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596" dur="1" fill="hold"/>
                                        <p:tgtEl>
                                          <p:spTgt spid="190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文本框 2"/>
          <p:cNvSpPr/>
          <p:nvPr/>
        </p:nvSpPr>
        <p:spPr>
          <a:xfrm>
            <a:off x="460440" y="2982960"/>
            <a:ext cx="11224800" cy="363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亲切地对小马说：“孩子，光听别人说，自己不动脑筋，不去试试，是不行的。河水是深是浅，你去试一试就知道了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03" name="椭圆 22"/>
          <p:cNvSpPr/>
          <p:nvPr/>
        </p:nvSpPr>
        <p:spPr>
          <a:xfrm>
            <a:off x="317520" y="633240"/>
            <a:ext cx="1417320" cy="533160"/>
          </a:xfrm>
          <a:prstGeom prst="ellipse">
            <a:avLst/>
          </a:prstGeom>
          <a:gradFill rotWithShape="0">
            <a:gsLst>
              <a:gs pos="0">
                <a:srgbClr val="f6b4bc"/>
              </a:gs>
              <a:gs pos="100000">
                <a:srgbClr val="f4a5ae"/>
              </a:gs>
            </a:gsLst>
            <a:lin ang="5400000"/>
          </a:gradFill>
          <a:ln>
            <a:solidFill>
              <a:srgbClr val="ec5f74"/>
            </a:solidFill>
          </a:ln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品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云形标注 14"/>
          <p:cNvSpPr/>
          <p:nvPr/>
        </p:nvSpPr>
        <p:spPr>
          <a:xfrm>
            <a:off x="631800" y="633240"/>
            <a:ext cx="7446600" cy="1687320"/>
          </a:xfrm>
          <a:prstGeom prst="cloudCallout">
            <a:avLst>
              <a:gd name="adj1" fmla="val 59548"/>
              <a:gd name="adj2" fmla="val 21626"/>
            </a:avLst>
          </a:prstGeom>
          <a:noFill/>
          <a:ln>
            <a:solidFill>
              <a:srgbClr val="ff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       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妈妈告诉小马应该怎么做呢？你觉得妈妈说得对吗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图片 1" descr=""/>
          <p:cNvPicPr/>
          <p:nvPr/>
        </p:nvPicPr>
        <p:blipFill>
          <a:blip r:embed="rId1"/>
          <a:stretch/>
        </p:blipFill>
        <p:spPr>
          <a:xfrm rot="19920000">
            <a:off x="8388000" y="812520"/>
            <a:ext cx="2422080" cy="1917360"/>
          </a:xfrm>
          <a:prstGeom prst="rect">
            <a:avLst/>
          </a:prstGeom>
          <a:ln w="0">
            <a:noFill/>
          </a:ln>
        </p:spPr>
      </p:pic>
      <p:sp>
        <p:nvSpPr>
          <p:cNvPr id="1906" name="下箭头 3"/>
          <p:cNvSpPr/>
          <p:nvPr/>
        </p:nvSpPr>
        <p:spPr>
          <a:xfrm>
            <a:off x="5853240" y="4106880"/>
            <a:ext cx="485280" cy="769680"/>
          </a:xfrm>
          <a:prstGeom prst="downArrow">
            <a:avLst>
              <a:gd name="adj1" fmla="val 50000"/>
              <a:gd name="adj2" fmla="val 50000"/>
            </a:avLst>
          </a:prstGeom>
          <a:solidFill>
            <a:schemeClr val="accent6">
              <a:lumMod val="50000"/>
            </a:schemeClr>
          </a:solidFill>
          <a:ln>
            <a:solidFill>
              <a:srgbClr val="58b6e5"/>
            </a:solidFill>
          </a:ln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黑体"/>
              <a:ea typeface="黑体"/>
            </a:endParaRPr>
          </a:p>
        </p:txBody>
      </p:sp>
      <p:sp>
        <p:nvSpPr>
          <p:cNvPr id="1907" name="文本框 4"/>
          <p:cNvSpPr/>
          <p:nvPr/>
        </p:nvSpPr>
        <p:spPr>
          <a:xfrm>
            <a:off x="484200" y="5240160"/>
            <a:ext cx="11224800" cy="363960"/>
          </a:xfrm>
          <a:prstGeom prst="rect">
            <a:avLst/>
          </a:prstGeom>
          <a:solidFill>
            <a:schemeClr val="tx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说得对，做任何事情，不能光听别人的看法，一定要动脑筋思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608" dur="1" fill="hold"/>
                                        <p:tgtEl>
                                          <p:spTgt spid="190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613" dur="1" fill="hold"/>
                                        <p:tgtEl>
                                          <p:spTgt spid="190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618" dur="1" fill="hold"/>
                                        <p:tgtEl>
                                          <p:spTgt spid="190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623" dur="1" fill="hold"/>
                                        <p:tgtEl>
                                          <p:spTgt spid="190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909" name="图片 5" descr=""/>
          <p:cNvPicPr/>
          <p:nvPr/>
        </p:nvPicPr>
        <p:blipFill>
          <a:blip r:embed="rId1"/>
          <a:stretch/>
        </p:blipFill>
        <p:spPr>
          <a:xfrm>
            <a:off x="2019240" y="777960"/>
            <a:ext cx="7554600" cy="3020760"/>
          </a:xfrm>
          <a:prstGeom prst="rect">
            <a:avLst/>
          </a:prstGeom>
          <a:ln w="0">
            <a:noFill/>
          </a:ln>
        </p:spPr>
      </p:pic>
      <p:sp>
        <p:nvSpPr>
          <p:cNvPr id="1910" name="文本框 6"/>
          <p:cNvSpPr/>
          <p:nvPr/>
        </p:nvSpPr>
        <p:spPr>
          <a:xfrm>
            <a:off x="482760" y="4754520"/>
            <a:ext cx="11226600" cy="3639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下了河，小心地蹚到了对岸。原来河水既不像老牛说的那样浅，也不像松鼠说的那样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12" name="矩形 1"/>
          <p:cNvSpPr/>
          <p:nvPr/>
        </p:nvSpPr>
        <p:spPr>
          <a:xfrm>
            <a:off x="2909880" y="2019240"/>
            <a:ext cx="8245080" cy="3606480"/>
          </a:xfrm>
          <a:prstGeom prst="rect">
            <a:avLst/>
          </a:prstGeom>
          <a:noFill/>
          <a:ln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  <a:ea typeface="微软雅黑"/>
            </a:endParaRPr>
          </a:p>
        </p:txBody>
      </p:sp>
      <p:sp>
        <p:nvSpPr>
          <p:cNvPr id="1913" name="TextBox 2"/>
          <p:cNvSpPr/>
          <p:nvPr/>
        </p:nvSpPr>
        <p:spPr>
          <a:xfrm>
            <a:off x="1756800" y="7747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朗读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Box 3"/>
          <p:cNvSpPr/>
          <p:nvPr/>
        </p:nvSpPr>
        <p:spPr>
          <a:xfrm>
            <a:off x="3224160" y="2546280"/>
            <a:ext cx="759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篇课文读小马的话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语速要平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借助提示语读出小马不同的心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读老马的话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要读出既严肃又亲切的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牛的话要读出不在乎的语气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松鼠的话则要读出焦急、紧张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16" name="TextBox 11"/>
          <p:cNvSpPr/>
          <p:nvPr/>
        </p:nvSpPr>
        <p:spPr>
          <a:xfrm>
            <a:off x="531720" y="1581120"/>
            <a:ext cx="1103760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关实践的名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有知识的人不实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等于一只蜜蜂不酿蜜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萨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光有知识是不够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应当运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;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光有愿望是不够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还应当行动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歌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践是思想的真理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车尔尼雪夫斯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假如一个人尽想着“我办不到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那他果然就会办不到。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车尔尼雪夫斯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TextBox 17"/>
          <p:cNvSpPr/>
          <p:nvPr/>
        </p:nvSpPr>
        <p:spPr>
          <a:xfrm>
            <a:off x="531720" y="766800"/>
            <a:ext cx="1980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知识拓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9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TextBox 7"/>
          <p:cNvSpPr/>
          <p:nvPr/>
        </p:nvSpPr>
        <p:spPr>
          <a:xfrm>
            <a:off x="1288800" y="824040"/>
            <a:ext cx="5925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我会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98" name="Picture 3" descr="http://www.jituwang.com/uploads/allimg/130228/260450-13022Q0164945.jpg"/>
          <p:cNvPicPr/>
          <p:nvPr/>
        </p:nvPicPr>
        <p:blipFill>
          <a:blip r:embed="rId1"/>
          <a:stretch/>
        </p:blipFill>
        <p:spPr>
          <a:xfrm>
            <a:off x="-38160" y="519120"/>
            <a:ext cx="961560" cy="953640"/>
          </a:xfrm>
          <a:prstGeom prst="rect">
            <a:avLst/>
          </a:prstGeom>
          <a:ln w="0">
            <a:noFill/>
          </a:ln>
        </p:spPr>
      </p:pic>
      <p:sp>
        <p:nvSpPr>
          <p:cNvPr id="1699" name="矩形 10"/>
          <p:cNvSpPr/>
          <p:nvPr/>
        </p:nvSpPr>
        <p:spPr>
          <a:xfrm>
            <a:off x="1143000" y="2009880"/>
            <a:ext cx="1657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é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矩形 11"/>
          <p:cNvSpPr/>
          <p:nvPr/>
        </p:nvSpPr>
        <p:spPr>
          <a:xfrm>
            <a:off x="2981160" y="1960560"/>
            <a:ext cx="1283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u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矩形 12"/>
          <p:cNvSpPr/>
          <p:nvPr/>
        </p:nvSpPr>
        <p:spPr>
          <a:xfrm>
            <a:off x="4444920" y="2009880"/>
            <a:ext cx="1095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矩形 13"/>
          <p:cNvSpPr/>
          <p:nvPr/>
        </p:nvSpPr>
        <p:spPr>
          <a:xfrm>
            <a:off x="5784840" y="2022480"/>
            <a:ext cx="1361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矩形 16"/>
          <p:cNvSpPr/>
          <p:nvPr/>
        </p:nvSpPr>
        <p:spPr>
          <a:xfrm>
            <a:off x="7311960" y="2009880"/>
            <a:ext cx="141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矩形 17"/>
          <p:cNvSpPr/>
          <p:nvPr/>
        </p:nvSpPr>
        <p:spPr>
          <a:xfrm>
            <a:off x="9145440" y="2009880"/>
            <a:ext cx="1320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iǎ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8"/>
          <p:cNvSpPr/>
          <p:nvPr/>
        </p:nvSpPr>
        <p:spPr>
          <a:xfrm>
            <a:off x="1450800" y="4398840"/>
            <a:ext cx="1250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à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矩形 18"/>
          <p:cNvSpPr/>
          <p:nvPr/>
        </p:nvSpPr>
        <p:spPr>
          <a:xfrm>
            <a:off x="3083040" y="4398840"/>
            <a:ext cx="87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矩形 27"/>
          <p:cNvSpPr/>
          <p:nvPr/>
        </p:nvSpPr>
        <p:spPr>
          <a:xfrm>
            <a:off x="4548240" y="4398840"/>
            <a:ext cx="1236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h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矩形 28"/>
          <p:cNvSpPr/>
          <p:nvPr/>
        </p:nvSpPr>
        <p:spPr>
          <a:xfrm>
            <a:off x="6243480" y="4398840"/>
            <a:ext cx="709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29"/>
          <p:cNvSpPr/>
          <p:nvPr/>
        </p:nvSpPr>
        <p:spPr>
          <a:xfrm>
            <a:off x="7680240" y="4398840"/>
            <a:ext cx="89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21"/>
          <p:cNvSpPr/>
          <p:nvPr/>
        </p:nvSpPr>
        <p:spPr>
          <a:xfrm>
            <a:off x="1730520" y="3171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22"/>
          <p:cNvSpPr/>
          <p:nvPr/>
        </p:nvSpPr>
        <p:spPr>
          <a:xfrm>
            <a:off x="3360960" y="3171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23"/>
          <p:cNvSpPr/>
          <p:nvPr/>
        </p:nvSpPr>
        <p:spPr>
          <a:xfrm>
            <a:off x="4824720" y="3154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24"/>
          <p:cNvSpPr/>
          <p:nvPr/>
        </p:nvSpPr>
        <p:spPr>
          <a:xfrm>
            <a:off x="6307560" y="3171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25"/>
          <p:cNvSpPr/>
          <p:nvPr/>
        </p:nvSpPr>
        <p:spPr>
          <a:xfrm>
            <a:off x="7859160" y="31669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TextBox 26"/>
          <p:cNvSpPr/>
          <p:nvPr/>
        </p:nvSpPr>
        <p:spPr>
          <a:xfrm>
            <a:off x="9514080" y="3154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37"/>
          <p:cNvSpPr/>
          <p:nvPr/>
        </p:nvSpPr>
        <p:spPr>
          <a:xfrm>
            <a:off x="1641600" y="5307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Box 37"/>
          <p:cNvSpPr/>
          <p:nvPr/>
        </p:nvSpPr>
        <p:spPr>
          <a:xfrm>
            <a:off x="3257640" y="5307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TextBox 26"/>
          <p:cNvSpPr/>
          <p:nvPr/>
        </p:nvSpPr>
        <p:spPr>
          <a:xfrm>
            <a:off x="5007960" y="5307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TextBox 37"/>
          <p:cNvSpPr/>
          <p:nvPr/>
        </p:nvSpPr>
        <p:spPr>
          <a:xfrm>
            <a:off x="6423120" y="53071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TextBox 37"/>
          <p:cNvSpPr/>
          <p:nvPr/>
        </p:nvSpPr>
        <p:spPr>
          <a:xfrm>
            <a:off x="7859160" y="52419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19" name="TextBox 17"/>
          <p:cNvSpPr/>
          <p:nvPr/>
        </p:nvSpPr>
        <p:spPr>
          <a:xfrm>
            <a:off x="531720" y="766800"/>
            <a:ext cx="1980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文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左大括号 7"/>
          <p:cNvSpPr/>
          <p:nvPr/>
        </p:nvSpPr>
        <p:spPr>
          <a:xfrm>
            <a:off x="2935440" y="2158920"/>
            <a:ext cx="199800" cy="3282480"/>
          </a:xfrm>
          <a:prstGeom prst="leftBrace">
            <a:avLst>
              <a:gd name="adj1" fmla="val 78710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21" name="文本框 26"/>
          <p:cNvSpPr/>
          <p:nvPr/>
        </p:nvSpPr>
        <p:spPr>
          <a:xfrm>
            <a:off x="2048040" y="2635200"/>
            <a:ext cx="79992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过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TextBox 5"/>
          <p:cNvSpPr/>
          <p:nvPr/>
        </p:nvSpPr>
        <p:spPr>
          <a:xfrm>
            <a:off x="3338640" y="1681200"/>
            <a:ext cx="335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帮妈妈送麦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Box 6"/>
          <p:cNvSpPr/>
          <p:nvPr/>
        </p:nvSpPr>
        <p:spPr>
          <a:xfrm>
            <a:off x="3417840" y="2793960"/>
            <a:ext cx="1150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遇到小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左大括号 12"/>
          <p:cNvSpPr/>
          <p:nvPr/>
        </p:nvSpPr>
        <p:spPr>
          <a:xfrm>
            <a:off x="4471920" y="2462040"/>
            <a:ext cx="207720" cy="1634760"/>
          </a:xfrm>
          <a:prstGeom prst="leftBrace">
            <a:avLst>
              <a:gd name="adj1" fmla="val 80725"/>
              <a:gd name="adj2" fmla="val 50000"/>
            </a:avLst>
          </a:prstGeom>
          <a:noFill/>
          <a:ln w="25400">
            <a:solidFill>
              <a:srgbClr val="56ca95"/>
            </a:solidFill>
          </a:ln>
        </p:spPr>
        <p:style>
          <a:lnRef idx="1">
            <a:schemeClr val="accent3"/>
          </a:lnRef>
          <a:fillRef idx="0">
            <a:schemeClr val="accent3"/>
          </a:fillRef>
          <a:effectRef idx="0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25" name="TextBox 8"/>
          <p:cNvSpPr/>
          <p:nvPr/>
        </p:nvSpPr>
        <p:spPr>
          <a:xfrm>
            <a:off x="4708440" y="2325600"/>
            <a:ext cx="375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老牛说河水很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TextBox 9"/>
          <p:cNvSpPr/>
          <p:nvPr/>
        </p:nvSpPr>
        <p:spPr>
          <a:xfrm>
            <a:off x="4784760" y="3540240"/>
            <a:ext cx="3227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松鼠说河水很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TextBox 10"/>
          <p:cNvSpPr/>
          <p:nvPr/>
        </p:nvSpPr>
        <p:spPr>
          <a:xfrm>
            <a:off x="3193920" y="4216320"/>
            <a:ext cx="4919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妈妈告诉小马要自己试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TextBox 11"/>
          <p:cNvSpPr/>
          <p:nvPr/>
        </p:nvSpPr>
        <p:spPr>
          <a:xfrm>
            <a:off x="3335400" y="5099040"/>
            <a:ext cx="5430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过河：原来河水不深也不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右大括号 20"/>
          <p:cNvSpPr/>
          <p:nvPr/>
        </p:nvSpPr>
        <p:spPr>
          <a:xfrm>
            <a:off x="8520120" y="2158920"/>
            <a:ext cx="242640" cy="3369960"/>
          </a:xfrm>
          <a:prstGeom prst="rightBrace">
            <a:avLst>
              <a:gd name="adj1" fmla="val 110216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930" name="TextBox 14"/>
          <p:cNvSpPr/>
          <p:nvPr/>
        </p:nvSpPr>
        <p:spPr>
          <a:xfrm>
            <a:off x="9185400" y="2616120"/>
            <a:ext cx="677520" cy="29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实践出真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3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8" dur="5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32" name="TextBox 11"/>
          <p:cNvSpPr/>
          <p:nvPr/>
        </p:nvSpPr>
        <p:spPr>
          <a:xfrm>
            <a:off x="531720" y="1920960"/>
            <a:ext cx="11078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这篇课文写的是小马过河的故事，通过这个故事，我们要懂得做任何事情都不能光听别人说，要自己动脑筋，具体分析，勇于实践，才能得出正确结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Box 17"/>
          <p:cNvSpPr/>
          <p:nvPr/>
        </p:nvSpPr>
        <p:spPr>
          <a:xfrm>
            <a:off x="531720" y="766800"/>
            <a:ext cx="1980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文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9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35" name="TextBox 17"/>
          <p:cNvSpPr/>
          <p:nvPr/>
        </p:nvSpPr>
        <p:spPr>
          <a:xfrm>
            <a:off x="531720" y="766800"/>
            <a:ext cx="1980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随堂小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矩形 2"/>
          <p:cNvSpPr/>
          <p:nvPr/>
        </p:nvSpPr>
        <p:spPr>
          <a:xfrm>
            <a:off x="2489400" y="1481040"/>
            <a:ext cx="73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一、加偏旁组字再组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文本框 1"/>
          <p:cNvSpPr/>
          <p:nvPr/>
        </p:nvSpPr>
        <p:spPr>
          <a:xfrm>
            <a:off x="1990800" y="2387520"/>
            <a:ext cx="70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文本框 3"/>
          <p:cNvSpPr/>
          <p:nvPr/>
        </p:nvSpPr>
        <p:spPr>
          <a:xfrm>
            <a:off x="5843520" y="2387520"/>
            <a:ext cx="164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掉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文本框 6"/>
          <p:cNvSpPr/>
          <p:nvPr/>
        </p:nvSpPr>
        <p:spPr>
          <a:xfrm>
            <a:off x="3917880" y="238752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0" name="直接箭头连接符 10"/>
          <p:cNvCxnSpPr/>
          <p:nvPr/>
        </p:nvCxnSpPr>
        <p:spPr>
          <a:xfrm>
            <a:off x="2815920" y="2798640"/>
            <a:ext cx="984600" cy="8280"/>
          </a:xfrm>
          <a:prstGeom prst="straightConnector1">
            <a:avLst/>
          </a:prstGeom>
          <a:ln>
            <a:solidFill>
              <a:srgbClr val="58b6e5"/>
            </a:solidFill>
            <a:tailEnd len="med" type="arrow" w="med"/>
          </a:ln>
        </p:spPr>
      </p:cxnSp>
      <p:cxnSp>
        <p:nvCxnSpPr>
          <p:cNvPr id="1941" name="直接箭头连接符 11"/>
          <p:cNvCxnSpPr/>
          <p:nvPr/>
        </p:nvCxnSpPr>
        <p:spPr>
          <a:xfrm>
            <a:off x="4741560" y="2806560"/>
            <a:ext cx="984600" cy="8280"/>
          </a:xfrm>
          <a:prstGeom prst="straightConnector1">
            <a:avLst/>
          </a:prstGeom>
          <a:ln>
            <a:solidFill>
              <a:srgbClr val="58b6e5"/>
            </a:solidFill>
            <a:tailEnd len="med" type="arrow" w="med"/>
          </a:ln>
        </p:spPr>
      </p:cxnSp>
      <p:sp>
        <p:nvSpPr>
          <p:cNvPr id="1942" name="文本框 12"/>
          <p:cNvSpPr/>
          <p:nvPr/>
        </p:nvSpPr>
        <p:spPr>
          <a:xfrm>
            <a:off x="1990800" y="3662280"/>
            <a:ext cx="70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文本框 13"/>
          <p:cNvSpPr/>
          <p:nvPr/>
        </p:nvSpPr>
        <p:spPr>
          <a:xfrm>
            <a:off x="5843520" y="3662280"/>
            <a:ext cx="164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文本框 14"/>
          <p:cNvSpPr/>
          <p:nvPr/>
        </p:nvSpPr>
        <p:spPr>
          <a:xfrm>
            <a:off x="3917880" y="366228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5" name="直接箭头连接符 15"/>
          <p:cNvCxnSpPr/>
          <p:nvPr/>
        </p:nvCxnSpPr>
        <p:spPr>
          <a:xfrm>
            <a:off x="2815920" y="4073400"/>
            <a:ext cx="984600" cy="8280"/>
          </a:xfrm>
          <a:prstGeom prst="straightConnector1">
            <a:avLst/>
          </a:prstGeom>
          <a:ln>
            <a:solidFill>
              <a:srgbClr val="58b6e5"/>
            </a:solidFill>
            <a:tailEnd len="med" type="arrow" w="med"/>
          </a:ln>
        </p:spPr>
      </p:cxnSp>
      <p:cxnSp>
        <p:nvCxnSpPr>
          <p:cNvPr id="1946" name="直接箭头连接符 16"/>
          <p:cNvCxnSpPr/>
          <p:nvPr/>
        </p:nvCxnSpPr>
        <p:spPr>
          <a:xfrm>
            <a:off x="4741560" y="4081320"/>
            <a:ext cx="984600" cy="8280"/>
          </a:xfrm>
          <a:prstGeom prst="straightConnector1">
            <a:avLst/>
          </a:prstGeom>
          <a:ln>
            <a:solidFill>
              <a:srgbClr val="58b6e5"/>
            </a:solidFill>
            <a:tailEnd len="med" type="arrow" w="med"/>
          </a:ln>
        </p:spPr>
      </p:cxnSp>
      <p:sp>
        <p:nvSpPr>
          <p:cNvPr id="1947" name="文本框 18"/>
          <p:cNvSpPr/>
          <p:nvPr/>
        </p:nvSpPr>
        <p:spPr>
          <a:xfrm>
            <a:off x="1990800" y="4913280"/>
            <a:ext cx="70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文本框 19"/>
          <p:cNvSpPr/>
          <p:nvPr/>
        </p:nvSpPr>
        <p:spPr>
          <a:xfrm>
            <a:off x="5843520" y="4913280"/>
            <a:ext cx="1649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文本框 20"/>
          <p:cNvSpPr/>
          <p:nvPr/>
        </p:nvSpPr>
        <p:spPr>
          <a:xfrm>
            <a:off x="3917880" y="4913280"/>
            <a:ext cx="705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0" name="直接箭头连接符 21"/>
          <p:cNvCxnSpPr/>
          <p:nvPr/>
        </p:nvCxnSpPr>
        <p:spPr>
          <a:xfrm>
            <a:off x="2815920" y="5324400"/>
            <a:ext cx="984600" cy="8280"/>
          </a:xfrm>
          <a:prstGeom prst="straightConnector1">
            <a:avLst/>
          </a:prstGeom>
          <a:ln>
            <a:solidFill>
              <a:srgbClr val="58b6e5"/>
            </a:solidFill>
            <a:tailEnd len="med" type="arrow" w="med"/>
          </a:ln>
        </p:spPr>
      </p:cxnSp>
      <p:cxnSp>
        <p:nvCxnSpPr>
          <p:cNvPr id="1951" name="直接箭头连接符 22"/>
          <p:cNvCxnSpPr/>
          <p:nvPr/>
        </p:nvCxnSpPr>
        <p:spPr>
          <a:xfrm>
            <a:off x="4741560" y="5332320"/>
            <a:ext cx="984600" cy="8280"/>
          </a:xfrm>
          <a:prstGeom prst="straightConnector1">
            <a:avLst/>
          </a:prstGeom>
          <a:ln>
            <a:solidFill>
              <a:srgbClr val="58b6e5"/>
            </a:solidFill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17" dur="1" fill="hold"/>
                                        <p:tgtEl>
                                          <p:spTgt spid="193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22" dur="1" fill="hold"/>
                                        <p:tgtEl>
                                          <p:spTgt spid="194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27" dur="1" fill="hold"/>
                                        <p:tgtEl>
                                          <p:spTgt spid="193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32" dur="1" fill="hold"/>
                                        <p:tgtEl>
                                          <p:spTgt spid="194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37" dur="1" fill="hold"/>
                                        <p:tgtEl>
                                          <p:spTgt spid="193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42" dur="1" fill="hold"/>
                                        <p:tgtEl>
                                          <p:spTgt spid="1942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47" dur="1" fill="hold"/>
                                        <p:tgtEl>
                                          <p:spTgt spid="1945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nodeType="clickEffect" fill="hold">
                      <p:stCondLst>
                        <p:cond delay="indefinite"/>
                      </p:stCondLst>
                      <p:childTnLst>
                        <p:par>
                          <p:cTn id="7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52" dur="1" fill="hold"/>
                                        <p:tgtEl>
                                          <p:spTgt spid="1944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57" dur="1" fill="hold"/>
                                        <p:tgtEl>
                                          <p:spTgt spid="194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62" dur="1" fill="hold"/>
                                        <p:tgtEl>
                                          <p:spTgt spid="194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67" dur="1" fill="hold"/>
                                        <p:tgtEl>
                                          <p:spTgt spid="194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72" dur="1" fill="hold"/>
                                        <p:tgtEl>
                                          <p:spTgt spid="195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77" dur="1" fill="hold"/>
                                        <p:tgtEl>
                                          <p:spTgt spid="194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82" dur="1" fill="hold"/>
                                        <p:tgtEl>
                                          <p:spTgt spid="195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87" dur="1" fill="hold"/>
                                        <p:tgtEl>
                                          <p:spTgt spid="194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53" name="TextBox 17"/>
          <p:cNvSpPr/>
          <p:nvPr/>
        </p:nvSpPr>
        <p:spPr>
          <a:xfrm>
            <a:off x="531720" y="766800"/>
            <a:ext cx="1980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随堂小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1"/>
          <p:cNvSpPr/>
          <p:nvPr/>
        </p:nvSpPr>
        <p:spPr>
          <a:xfrm>
            <a:off x="5229360" y="1457280"/>
            <a:ext cx="39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二、读下面的句子应该用什么语气？想一想，选一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文本框 1"/>
          <p:cNvSpPr/>
          <p:nvPr/>
        </p:nvSpPr>
        <p:spPr>
          <a:xfrm>
            <a:off x="790560" y="2987640"/>
            <a:ext cx="11150280" cy="18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吃惊地问：“水很深吗？”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连蹦带跳地说：“怎么不能？我很愿意帮您做事。” 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心想：我能不能过去呢？如果妈妈在身边，问问她该怎么办，那多好啊！（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文本框 2"/>
          <p:cNvSpPr/>
          <p:nvPr/>
        </p:nvSpPr>
        <p:spPr>
          <a:xfrm>
            <a:off x="3319560" y="2343240"/>
            <a:ext cx="737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开心   ②惊讶   ③为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文本框 5"/>
          <p:cNvSpPr/>
          <p:nvPr/>
        </p:nvSpPr>
        <p:spPr>
          <a:xfrm>
            <a:off x="7254720" y="2987640"/>
            <a:ext cx="820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②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文本框 6"/>
          <p:cNvSpPr/>
          <p:nvPr/>
        </p:nvSpPr>
        <p:spPr>
          <a:xfrm>
            <a:off x="1163520" y="4464000"/>
            <a:ext cx="71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①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文本框 7"/>
          <p:cNvSpPr/>
          <p:nvPr/>
        </p:nvSpPr>
        <p:spPr>
          <a:xfrm>
            <a:off x="4886280" y="5845320"/>
            <a:ext cx="71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③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4" dur="1" fill="hold"/>
                                        <p:tgtEl>
                                          <p:spTgt spid="1956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799" dur="1" fill="hold"/>
                                        <p:tgtEl>
                                          <p:spTgt spid="1955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4" dur="1" fill="hold"/>
                                        <p:tgtEl>
                                          <p:spTgt spid="195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09" dur="1" fill="hold"/>
                                        <p:tgtEl>
                                          <p:spTgt spid="195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14" dur="1" fill="hold"/>
                                        <p:tgtEl>
                                          <p:spTgt spid="1959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61" name="TextBox 11"/>
          <p:cNvSpPr/>
          <p:nvPr/>
        </p:nvSpPr>
        <p:spPr>
          <a:xfrm>
            <a:off x="693720" y="1397160"/>
            <a:ext cx="108025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分角色朗读课文，注意读出恰当的语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TextBox 17"/>
          <p:cNvSpPr/>
          <p:nvPr/>
        </p:nvSpPr>
        <p:spPr>
          <a:xfrm>
            <a:off x="531720" y="766800"/>
            <a:ext cx="28191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后习题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文本框 1"/>
          <p:cNvSpPr/>
          <p:nvPr/>
        </p:nvSpPr>
        <p:spPr>
          <a:xfrm>
            <a:off x="531720" y="2651040"/>
            <a:ext cx="11069280" cy="824040"/>
          </a:xfrm>
          <a:prstGeom prst="rect">
            <a:avLst/>
          </a:prstGeom>
          <a:solidFill>
            <a:srgbClr val="9ed3d7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提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本文的对话较多，老马和小马的对话，老牛和小马的对话，松鼠和小马的对话。在分角色朗读时，要读出各角色的语气。如：老马的话要亲切，松鼠的话要用关心、急切的语气来读，小马帮妈妈做事时的热情、开心，遇到困难时毫无主见的为难都要通过朗读表现出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27" dur="1" fill="hold"/>
                                        <p:tgtEl>
                                          <p:spTgt spid="1963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65" name="TextBox 11"/>
          <p:cNvSpPr/>
          <p:nvPr/>
        </p:nvSpPr>
        <p:spPr>
          <a:xfrm>
            <a:off x="392040" y="1352520"/>
            <a:ext cx="80690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试着用上下面的词语，讲讲这个故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17"/>
          <p:cNvSpPr/>
          <p:nvPr/>
        </p:nvSpPr>
        <p:spPr>
          <a:xfrm>
            <a:off x="531720" y="766800"/>
            <a:ext cx="28191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后习题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矩形 2"/>
          <p:cNvSpPr/>
          <p:nvPr/>
        </p:nvSpPr>
        <p:spPr>
          <a:xfrm>
            <a:off x="2173320" y="2492280"/>
            <a:ext cx="6170400" cy="16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马棚    愿意    磨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驮      挡住    为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然    拦住    吃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难为情  动脑筋  小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矩形 1"/>
          <p:cNvSpPr/>
          <p:nvPr/>
        </p:nvSpPr>
        <p:spPr>
          <a:xfrm>
            <a:off x="855720" y="879480"/>
            <a:ext cx="1047888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参考答案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在马棚玩耍。这时妈妈让他把麦子驮到磨坊去，他很愿意，驮上麦子就走。走着走着突然被一条河挡住。他有点为难，担心过不去，就问旁边的牛伯伯，老牛告诉它河水很浅。小马立刻就想过河，刚下水就被小松鼠拦住，说水太深别把你淹死了。他也感到很吃惊，不知怎么办，就回家问老马。小马难为情地说：“一条河挡住了路，我过不去……”老马告诉小马，遇到事情，不要光听别人的，要动脑筋，要自己试一试。小马跑到河边，小心地蹚水，安全地过了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70" name="TextBox 17"/>
          <p:cNvSpPr/>
          <p:nvPr/>
        </p:nvSpPr>
        <p:spPr>
          <a:xfrm>
            <a:off x="531720" y="766800"/>
            <a:ext cx="28191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课后习题解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矩形 4"/>
          <p:cNvSpPr/>
          <p:nvPr/>
        </p:nvSpPr>
        <p:spPr>
          <a:xfrm>
            <a:off x="711360" y="1450800"/>
            <a:ext cx="82008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同意下面的说法吗？说说你的理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矩形 10"/>
          <p:cNvSpPr/>
          <p:nvPr/>
        </p:nvSpPr>
        <p:spPr>
          <a:xfrm>
            <a:off x="531720" y="4181400"/>
            <a:ext cx="109011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2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不同意这个说法，老牛和松鼠都没撒谎，它们都是站在自己的立场上来说的。老牛又高又大，所以说河水很浅，松鼠个子很小，所以觉得河水很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圆角矩形 4"/>
          <p:cNvSpPr/>
          <p:nvPr/>
        </p:nvSpPr>
        <p:spPr>
          <a:xfrm>
            <a:off x="1355760" y="1792440"/>
            <a:ext cx="10077120" cy="20602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chemeClr val="lt1"/>
                </a:solidFill>
                <a:latin typeface="Arial"/>
                <a:ea typeface="微软雅黑"/>
              </a:rPr>
              <a:t>◇</a:t>
            </a:r>
            <a:r>
              <a:rPr b="0" lang="zh-CN" sz="1800" spc="-1" strike="noStrike">
                <a:solidFill>
                  <a:schemeClr val="lt1"/>
                </a:solidFill>
                <a:latin typeface="Arial"/>
                <a:ea typeface="微软雅黑"/>
              </a:rPr>
              <a:t>河水既不像老牛说的那样浅，也不像松鼠说的那样深，所以老牛和松鼠对小马撒谎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6" dur="500"/>
                                        <p:tgtEl>
                                          <p:spTgt spid="1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圆角矩形 1"/>
          <p:cNvSpPr/>
          <p:nvPr/>
        </p:nvSpPr>
        <p:spPr>
          <a:xfrm>
            <a:off x="1089000" y="1044720"/>
            <a:ext cx="8330760" cy="87120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975" name="矩形 2"/>
          <p:cNvSpPr/>
          <p:nvPr/>
        </p:nvSpPr>
        <p:spPr>
          <a:xfrm>
            <a:off x="3934440" y="1158840"/>
            <a:ext cx="14367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小马向很多人请教，是对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矩形 3"/>
          <p:cNvSpPr/>
          <p:nvPr/>
        </p:nvSpPr>
        <p:spPr>
          <a:xfrm>
            <a:off x="603360" y="2927520"/>
            <a:ext cx="108676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也同意这个观点，遇到不懂的问题向别人请教是对的。只是不能光听别人说，也要自己动脑筋想想，亲自去试一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57" dur="1" fill="hold"/>
                                        <p:tgtEl>
                                          <p:spTgt spid="1975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圆角矩形 3"/>
          <p:cNvSpPr/>
          <p:nvPr/>
        </p:nvSpPr>
        <p:spPr>
          <a:xfrm>
            <a:off x="1096920" y="1036800"/>
            <a:ext cx="8330760" cy="87120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978" name="矩形 4"/>
          <p:cNvSpPr/>
          <p:nvPr/>
        </p:nvSpPr>
        <p:spPr>
          <a:xfrm>
            <a:off x="4533480" y="1171440"/>
            <a:ext cx="17766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别人的经验不一定可靠，得自己去尝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矩形 5"/>
          <p:cNvSpPr/>
          <p:nvPr/>
        </p:nvSpPr>
        <p:spPr>
          <a:xfrm>
            <a:off x="617400" y="3325680"/>
            <a:ext cx="108882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同意这个观点，因为每个人的立场不同，实际情况也不同，所以别人的经验不一定可靠，得自己去尝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68" dur="1" fill="hold"/>
                                        <p:tgtEl>
                                          <p:spTgt spid="1977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71" dur="1" fill="hold"/>
                                        <p:tgtEl>
                                          <p:spTgt spid="1978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6" dur="500"/>
                                        <p:tgtEl>
                                          <p:spTgt spid="1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21" name="直接连接符 6"/>
          <p:cNvCxnSpPr/>
          <p:nvPr/>
        </p:nvCxnSpPr>
        <p:spPr>
          <a:xfrm>
            <a:off x="912600" y="5232240"/>
            <a:ext cx="10363680" cy="360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</a:ln>
        </p:spPr>
      </p:cxnSp>
      <p:sp>
        <p:nvSpPr>
          <p:cNvPr id="1722" name="TextBox 11"/>
          <p:cNvSpPr/>
          <p:nvPr/>
        </p:nvSpPr>
        <p:spPr>
          <a:xfrm>
            <a:off x="1720800" y="766800"/>
            <a:ext cx="729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识字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Picture 3" descr="http://www.jituwang.com/uploads/allimg/130228/260450-13022Q0164945.jpg"/>
          <p:cNvPicPr/>
          <p:nvPr/>
        </p:nvPicPr>
        <p:blipFill>
          <a:blip r:embed="rId1"/>
          <a:stretch/>
        </p:blipFill>
        <p:spPr>
          <a:xfrm>
            <a:off x="255600" y="461880"/>
            <a:ext cx="961560" cy="953640"/>
          </a:xfrm>
          <a:prstGeom prst="rect">
            <a:avLst/>
          </a:prstGeom>
          <a:ln w="0">
            <a:noFill/>
          </a:ln>
        </p:spPr>
      </p:pic>
      <p:sp>
        <p:nvSpPr>
          <p:cNvPr id="1724" name="TextBox 1"/>
          <p:cNvSpPr/>
          <p:nvPr/>
        </p:nvSpPr>
        <p:spPr>
          <a:xfrm>
            <a:off x="3016440" y="2038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Box 2"/>
          <p:cNvSpPr/>
          <p:nvPr/>
        </p:nvSpPr>
        <p:spPr>
          <a:xfrm>
            <a:off x="1973520" y="3740040"/>
            <a:ext cx="1358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加一加：麻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+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=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TextBox 2"/>
          <p:cNvSpPr/>
          <p:nvPr/>
        </p:nvSpPr>
        <p:spPr>
          <a:xfrm>
            <a:off x="5573880" y="3740040"/>
            <a:ext cx="848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  石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图片 9" descr=""/>
          <p:cNvPicPr/>
          <p:nvPr/>
        </p:nvPicPr>
        <p:blipFill>
          <a:blip r:embed="rId2"/>
          <a:stretch/>
        </p:blipFill>
        <p:spPr>
          <a:xfrm>
            <a:off x="7023240" y="766800"/>
            <a:ext cx="4304880" cy="43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圆角矩形 3"/>
          <p:cNvSpPr/>
          <p:nvPr/>
        </p:nvSpPr>
        <p:spPr>
          <a:xfrm>
            <a:off x="1096920" y="1036800"/>
            <a:ext cx="8330760" cy="87120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457200" indent="-457200">
              <a:lnSpc>
                <a:spcPct val="130000"/>
              </a:lnSpc>
              <a:spcBef>
                <a:spcPts val="601"/>
              </a:spcBef>
              <a:tabLst>
                <a:tab algn="l" pos="0"/>
              </a:tabLst>
            </a:pPr>
            <a:endParaRPr b="1" lang="en-US" sz="3200" spc="-1" strike="noStrike">
              <a:solidFill>
                <a:srgbClr val="000000"/>
              </a:solidFill>
              <a:latin typeface="楷体"/>
              <a:ea typeface="楷体"/>
            </a:endParaRPr>
          </a:p>
        </p:txBody>
      </p:sp>
      <p:sp>
        <p:nvSpPr>
          <p:cNvPr id="1981" name="矩形 4"/>
          <p:cNvSpPr/>
          <p:nvPr/>
        </p:nvSpPr>
        <p:spPr>
          <a:xfrm>
            <a:off x="4611960" y="1171440"/>
            <a:ext cx="1548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457200" indent="-457200">
              <a:lnSpc>
                <a:spcPct val="120000"/>
              </a:lnSpc>
              <a:spcBef>
                <a:spcPts val="601"/>
              </a:spcBef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◇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什么事都要自己尝试，别人的话不可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矩形 5"/>
          <p:cNvSpPr/>
          <p:nvPr/>
        </p:nvSpPr>
        <p:spPr>
          <a:xfrm>
            <a:off x="617400" y="3325680"/>
            <a:ext cx="108882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我同意这个观点，因为只要自己实践了才能得出结果，别人的话可以参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83" dur="1" fill="hold"/>
                                        <p:tgtEl>
                                          <p:spTgt spid="1980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str">
                                      <p:cBhvr additive="repl">
                                        <p:cTn id="886" dur="1" fill="hold"/>
                                        <p:tgtEl>
                                          <p:spTgt spid="1981"/>
                                        </p:tgtEl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5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984" name="TextBox 11"/>
          <p:cNvSpPr/>
          <p:nvPr/>
        </p:nvSpPr>
        <p:spPr>
          <a:xfrm>
            <a:off x="836640" y="1528920"/>
            <a:ext cx="102103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节假日的时候，在家长的监督下独立做一件事，锻炼一下自己的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Box 17"/>
          <p:cNvSpPr/>
          <p:nvPr/>
        </p:nvSpPr>
        <p:spPr>
          <a:xfrm>
            <a:off x="531720" y="766800"/>
            <a:ext cx="204444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6" name="图片 1" descr=""/>
          <p:cNvPicPr/>
          <p:nvPr/>
        </p:nvPicPr>
        <p:blipFill>
          <a:blip r:embed="rId1"/>
          <a:srcRect l="0" t="0" r="0" b="8525"/>
          <a:stretch/>
        </p:blipFill>
        <p:spPr>
          <a:xfrm>
            <a:off x="3560760" y="3005280"/>
            <a:ext cx="476208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TextBox 11"/>
          <p:cNvSpPr/>
          <p:nvPr/>
        </p:nvSpPr>
        <p:spPr>
          <a:xfrm>
            <a:off x="1720800" y="766800"/>
            <a:ext cx="729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识字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9" name="Picture 3" descr="http://www.jituwang.com/uploads/allimg/130228/260450-13022Q0164945.jpg"/>
          <p:cNvPicPr/>
          <p:nvPr/>
        </p:nvPicPr>
        <p:blipFill>
          <a:blip r:embed="rId1"/>
          <a:stretch/>
        </p:blipFill>
        <p:spPr>
          <a:xfrm>
            <a:off x="255600" y="461880"/>
            <a:ext cx="961560" cy="953640"/>
          </a:xfrm>
          <a:prstGeom prst="rect">
            <a:avLst/>
          </a:prstGeom>
          <a:ln w="0">
            <a:noFill/>
          </a:ln>
        </p:spPr>
      </p:pic>
      <p:cxnSp>
        <p:nvCxnSpPr>
          <p:cNvPr id="1730" name="直接连接符 6"/>
          <p:cNvCxnSpPr/>
          <p:nvPr/>
        </p:nvCxnSpPr>
        <p:spPr>
          <a:xfrm>
            <a:off x="912600" y="5232240"/>
            <a:ext cx="10363680" cy="360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</a:ln>
        </p:spPr>
      </p:cxnSp>
      <p:sp>
        <p:nvSpPr>
          <p:cNvPr id="1731" name="TextBox 1"/>
          <p:cNvSpPr/>
          <p:nvPr/>
        </p:nvSpPr>
        <p:spPr>
          <a:xfrm>
            <a:off x="2592720" y="21956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TextBox 2"/>
          <p:cNvSpPr/>
          <p:nvPr/>
        </p:nvSpPr>
        <p:spPr>
          <a:xfrm>
            <a:off x="507960" y="3666960"/>
            <a:ext cx="469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木”表示建棚子的材料，“朋“是声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3" name="图片 7" descr=""/>
          <p:cNvPicPr/>
          <p:nvPr/>
        </p:nvPicPr>
        <p:blipFill>
          <a:blip r:embed="rId2"/>
          <a:stretch/>
        </p:blipFill>
        <p:spPr>
          <a:xfrm>
            <a:off x="5702400" y="1673280"/>
            <a:ext cx="5790960" cy="3069720"/>
          </a:xfrm>
          <a:prstGeom prst="rect">
            <a:avLst/>
          </a:prstGeom>
          <a:ln w="0">
            <a:noFill/>
          </a:ln>
        </p:spPr>
      </p:pic>
      <p:sp>
        <p:nvSpPr>
          <p:cNvPr id="1734" name="文本框 8"/>
          <p:cNvSpPr/>
          <p:nvPr/>
        </p:nvSpPr>
        <p:spPr>
          <a:xfrm>
            <a:off x="1722600" y="16732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形声结构识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7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TextBox 11"/>
          <p:cNvSpPr/>
          <p:nvPr/>
        </p:nvSpPr>
        <p:spPr>
          <a:xfrm>
            <a:off x="1720800" y="766800"/>
            <a:ext cx="72972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识字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6" name="Picture 3" descr="http://www.jituwang.com/uploads/allimg/130228/260450-13022Q0164945.jpg"/>
          <p:cNvPicPr/>
          <p:nvPr/>
        </p:nvPicPr>
        <p:blipFill>
          <a:blip r:embed="rId1"/>
          <a:stretch/>
        </p:blipFill>
        <p:spPr>
          <a:xfrm>
            <a:off x="255600" y="461880"/>
            <a:ext cx="961560" cy="953640"/>
          </a:xfrm>
          <a:prstGeom prst="rect">
            <a:avLst/>
          </a:prstGeom>
          <a:ln w="0">
            <a:noFill/>
          </a:ln>
        </p:spPr>
      </p:pic>
      <p:cxnSp>
        <p:nvCxnSpPr>
          <p:cNvPr id="1737" name="直接连接符 6"/>
          <p:cNvCxnSpPr/>
          <p:nvPr/>
        </p:nvCxnSpPr>
        <p:spPr>
          <a:xfrm>
            <a:off x="912600" y="6486480"/>
            <a:ext cx="10363680" cy="3240"/>
          </a:xfrm>
          <a:prstGeom prst="straightConnector1">
            <a:avLst/>
          </a:prstGeom>
          <a:ln w="3175">
            <a:solidFill>
              <a:srgbClr val="ffffff">
                <a:lumMod val="50000"/>
              </a:srgbClr>
            </a:solidFill>
          </a:ln>
        </p:spPr>
      </p:cxnSp>
      <p:sp>
        <p:nvSpPr>
          <p:cNvPr id="1738" name="文本框 8"/>
          <p:cNvSpPr/>
          <p:nvPr/>
        </p:nvSpPr>
        <p:spPr>
          <a:xfrm>
            <a:off x="896040" y="14158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口诀记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TextBox 1"/>
          <p:cNvSpPr/>
          <p:nvPr/>
        </p:nvSpPr>
        <p:spPr>
          <a:xfrm>
            <a:off x="2652120" y="14000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TextBox 2"/>
          <p:cNvSpPr/>
          <p:nvPr/>
        </p:nvSpPr>
        <p:spPr>
          <a:xfrm>
            <a:off x="1703520" y="2552760"/>
            <a:ext cx="271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大马驮东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TextBox 1"/>
          <p:cNvSpPr/>
          <p:nvPr/>
        </p:nvSpPr>
        <p:spPr>
          <a:xfrm>
            <a:off x="8283960" y="14000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TextBox 2"/>
          <p:cNvSpPr/>
          <p:nvPr/>
        </p:nvSpPr>
        <p:spPr>
          <a:xfrm>
            <a:off x="6730920" y="2416320"/>
            <a:ext cx="411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狗从洞穴中突然钻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3" name="图片 10" descr=""/>
          <p:cNvPicPr/>
          <p:nvPr/>
        </p:nvPicPr>
        <p:blipFill>
          <a:blip r:embed="rId2"/>
          <a:stretch/>
        </p:blipFill>
        <p:spPr>
          <a:xfrm>
            <a:off x="1120680" y="3075120"/>
            <a:ext cx="3879360" cy="3144600"/>
          </a:xfrm>
          <a:prstGeom prst="rect">
            <a:avLst/>
          </a:prstGeom>
          <a:ln w="0">
            <a:noFill/>
          </a:ln>
        </p:spPr>
      </p:pic>
      <p:pic>
        <p:nvPicPr>
          <p:cNvPr id="1744" name="图片 12" descr=""/>
          <p:cNvPicPr/>
          <p:nvPr/>
        </p:nvPicPr>
        <p:blipFill>
          <a:blip r:embed="rId3"/>
          <a:stretch/>
        </p:blipFill>
        <p:spPr>
          <a:xfrm>
            <a:off x="7070760" y="3075120"/>
            <a:ext cx="34300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7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7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文本框 4"/>
          <p:cNvSpPr/>
          <p:nvPr/>
        </p:nvSpPr>
        <p:spPr>
          <a:xfrm>
            <a:off x="982800" y="2900520"/>
            <a:ext cx="87120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左大括号 3"/>
          <p:cNvSpPr/>
          <p:nvPr/>
        </p:nvSpPr>
        <p:spPr>
          <a:xfrm>
            <a:off x="1981080" y="2347920"/>
            <a:ext cx="563040" cy="1956960"/>
          </a:xfrm>
          <a:prstGeom prst="leftBrace">
            <a:avLst>
              <a:gd name="adj1" fmla="val 8333"/>
              <a:gd name="adj2" fmla="val 50000"/>
            </a:avLst>
          </a:prstGeom>
          <a:noFill/>
          <a:ln>
            <a:solidFill>
              <a:srgbClr val="000000"/>
            </a:solidFill>
          </a:ln>
        </p:spPr>
        <p:style>
          <a:lnRef idx="2">
            <a:schemeClr val="dk1"/>
          </a:lnRef>
          <a:fillRef idx="0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747" name="TextBox 4"/>
          <p:cNvSpPr/>
          <p:nvPr/>
        </p:nvSpPr>
        <p:spPr>
          <a:xfrm>
            <a:off x="2544840" y="2347920"/>
            <a:ext cx="3735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áng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染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Box 5"/>
          <p:cNvSpPr/>
          <p:nvPr/>
        </p:nvSpPr>
        <p:spPr>
          <a:xfrm>
            <a:off x="2443320" y="3606840"/>
            <a:ext cx="3352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āng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坊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32"/>
          <p:cNvSpPr/>
          <p:nvPr/>
        </p:nvSpPr>
        <p:spPr>
          <a:xfrm>
            <a:off x="1612800" y="4521240"/>
            <a:ext cx="10072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他在坊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āng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间开了间染坊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áng)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TextBox 11"/>
          <p:cNvSpPr/>
          <p:nvPr/>
        </p:nvSpPr>
        <p:spPr>
          <a:xfrm>
            <a:off x="1577520" y="766800"/>
            <a:ext cx="5925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多音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TextBox 6"/>
          <p:cNvSpPr/>
          <p:nvPr/>
        </p:nvSpPr>
        <p:spPr>
          <a:xfrm>
            <a:off x="1388160" y="8431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字源识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2" name="图片 1" descr=""/>
          <p:cNvPicPr/>
          <p:nvPr/>
        </p:nvPicPr>
        <p:blipFill>
          <a:blip r:embed="rId1"/>
          <a:stretch/>
        </p:blipFill>
        <p:spPr>
          <a:xfrm>
            <a:off x="363600" y="1986120"/>
            <a:ext cx="11299320" cy="41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TextBox 3"/>
          <p:cNvSpPr/>
          <p:nvPr/>
        </p:nvSpPr>
        <p:spPr>
          <a:xfrm>
            <a:off x="1288800" y="824040"/>
            <a:ext cx="592560" cy="363960"/>
          </a:xfrm>
          <a:prstGeom prst="rect">
            <a:avLst/>
          </a:prstGeom>
          <a:solidFill>
            <a:srgbClr val="ffffff"/>
          </a:solidFill>
          <a:ln>
            <a:solidFill>
              <a:srgbClr val="ffffff">
                <a:lumMod val="85000"/>
              </a:srgbClr>
            </a:solidFill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chemeClr val="dk1"/>
                </a:solidFill>
                <a:latin typeface="Arial"/>
                <a:ea typeface="微软雅黑"/>
              </a:rPr>
              <a:t>我会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4" name="Picture 3" descr="http://www.jituwang.com/uploads/allimg/130228/260450-13022Q0164945.jpg"/>
          <p:cNvPicPr/>
          <p:nvPr/>
        </p:nvPicPr>
        <p:blipFill>
          <a:blip r:embed="rId1"/>
          <a:stretch/>
        </p:blipFill>
        <p:spPr>
          <a:xfrm>
            <a:off x="-38160" y="519120"/>
            <a:ext cx="961560" cy="953640"/>
          </a:xfrm>
          <a:prstGeom prst="rect">
            <a:avLst/>
          </a:prstGeom>
          <a:ln w="0">
            <a:noFill/>
          </a:ln>
        </p:spPr>
      </p:pic>
      <p:grpSp>
        <p:nvGrpSpPr>
          <p:cNvPr id="1755" name="组合 77"/>
          <p:cNvGrpSpPr/>
          <p:nvPr/>
        </p:nvGrpSpPr>
        <p:grpSpPr>
          <a:xfrm>
            <a:off x="2449440" y="2995560"/>
            <a:ext cx="1000080" cy="1000080"/>
            <a:chOff x="2449440" y="2995560"/>
            <a:chExt cx="1000080" cy="1000080"/>
          </a:xfrm>
        </p:grpSpPr>
        <p:sp>
          <p:nvSpPr>
            <p:cNvPr id="1756" name="矩形 4"/>
            <p:cNvSpPr/>
            <p:nvPr/>
          </p:nvSpPr>
          <p:spPr>
            <a:xfrm>
              <a:off x="2449440" y="299556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57" name="直接连接符 5"/>
            <p:cNvCxnSpPr>
              <a:stCxn id="1756" idx="0"/>
              <a:endCxn id="1756" idx="2"/>
            </p:cNvCxnSpPr>
            <p:nvPr/>
          </p:nvCxnSpPr>
          <p:spPr>
            <a:xfrm>
              <a:off x="2947680" y="2995560"/>
              <a:ext cx="360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58" name="直接连接符 7"/>
            <p:cNvCxnSpPr>
              <a:stCxn id="1756" idx="1"/>
              <a:endCxn id="1756" idx="3"/>
            </p:cNvCxnSpPr>
            <p:nvPr/>
          </p:nvCxnSpPr>
          <p:spPr>
            <a:xfrm flipV="1">
              <a:off x="2449440" y="3495600"/>
              <a:ext cx="10004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1759" name="组合 81"/>
          <p:cNvGrpSpPr/>
          <p:nvPr/>
        </p:nvGrpSpPr>
        <p:grpSpPr>
          <a:xfrm>
            <a:off x="3663720" y="3011400"/>
            <a:ext cx="1000080" cy="1000080"/>
            <a:chOff x="3663720" y="3011400"/>
            <a:chExt cx="1000080" cy="1000080"/>
          </a:xfrm>
        </p:grpSpPr>
        <p:sp>
          <p:nvSpPr>
            <p:cNvPr id="1760" name="矩形 10"/>
            <p:cNvSpPr/>
            <p:nvPr/>
          </p:nvSpPr>
          <p:spPr>
            <a:xfrm>
              <a:off x="3664080" y="301140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61" name="直接连接符 11"/>
            <p:cNvCxnSpPr>
              <a:stCxn id="1760" idx="0"/>
              <a:endCxn id="1760" idx="2"/>
            </p:cNvCxnSpPr>
            <p:nvPr/>
          </p:nvCxnSpPr>
          <p:spPr>
            <a:xfrm>
              <a:off x="4162320" y="3011400"/>
              <a:ext cx="360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62" name="直接连接符 12"/>
            <p:cNvCxnSpPr>
              <a:stCxn id="1760" idx="1"/>
              <a:endCxn id="1760" idx="3"/>
            </p:cNvCxnSpPr>
            <p:nvPr/>
          </p:nvCxnSpPr>
          <p:spPr>
            <a:xfrm flipV="1">
              <a:off x="3663720" y="3511440"/>
              <a:ext cx="10004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1763" name="组合 85"/>
          <p:cNvGrpSpPr/>
          <p:nvPr/>
        </p:nvGrpSpPr>
        <p:grpSpPr>
          <a:xfrm>
            <a:off x="4862160" y="3019320"/>
            <a:ext cx="1000440" cy="1001520"/>
            <a:chOff x="4862160" y="3019320"/>
            <a:chExt cx="1000440" cy="1001520"/>
          </a:xfrm>
        </p:grpSpPr>
        <p:sp>
          <p:nvSpPr>
            <p:cNvPr id="1764" name="矩形 14"/>
            <p:cNvSpPr/>
            <p:nvPr/>
          </p:nvSpPr>
          <p:spPr>
            <a:xfrm>
              <a:off x="4862520" y="301932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65" name="直接连接符 16"/>
            <p:cNvCxnSpPr>
              <a:stCxn id="1764" idx="0"/>
              <a:endCxn id="1764" idx="2"/>
            </p:cNvCxnSpPr>
            <p:nvPr/>
          </p:nvCxnSpPr>
          <p:spPr>
            <a:xfrm>
              <a:off x="5360760" y="3020760"/>
              <a:ext cx="360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66" name="直接连接符 18"/>
            <p:cNvCxnSpPr>
              <a:stCxn id="1764" idx="1"/>
              <a:endCxn id="1764" idx="3"/>
            </p:cNvCxnSpPr>
            <p:nvPr/>
          </p:nvCxnSpPr>
          <p:spPr>
            <a:xfrm flipV="1">
              <a:off x="4862160" y="3519360"/>
              <a:ext cx="100080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1767" name="组合 76"/>
          <p:cNvGrpSpPr/>
          <p:nvPr/>
        </p:nvGrpSpPr>
        <p:grpSpPr>
          <a:xfrm>
            <a:off x="1234800" y="2995560"/>
            <a:ext cx="1000080" cy="1000080"/>
            <a:chOff x="1234800" y="2995560"/>
            <a:chExt cx="1000080" cy="1000080"/>
          </a:xfrm>
        </p:grpSpPr>
        <p:sp>
          <p:nvSpPr>
            <p:cNvPr id="1768" name="矩形 21"/>
            <p:cNvSpPr/>
            <p:nvPr/>
          </p:nvSpPr>
          <p:spPr>
            <a:xfrm>
              <a:off x="1235160" y="299556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69" name="直接连接符 25"/>
            <p:cNvCxnSpPr>
              <a:stCxn id="1768" idx="0"/>
              <a:endCxn id="1768" idx="2"/>
            </p:cNvCxnSpPr>
            <p:nvPr/>
          </p:nvCxnSpPr>
          <p:spPr>
            <a:xfrm>
              <a:off x="1733400" y="2995560"/>
              <a:ext cx="360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70" name="直接连接符 33"/>
            <p:cNvCxnSpPr>
              <a:stCxn id="1768" idx="1"/>
              <a:endCxn id="1768" idx="3"/>
            </p:cNvCxnSpPr>
            <p:nvPr/>
          </p:nvCxnSpPr>
          <p:spPr>
            <a:xfrm flipV="1">
              <a:off x="1234800" y="3495600"/>
              <a:ext cx="10004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1771" name="文本框 64"/>
          <p:cNvSpPr/>
          <p:nvPr/>
        </p:nvSpPr>
        <p:spPr>
          <a:xfrm>
            <a:off x="1244520" y="2973240"/>
            <a:ext cx="609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文本框 64"/>
          <p:cNvSpPr/>
          <p:nvPr/>
        </p:nvSpPr>
        <p:spPr>
          <a:xfrm>
            <a:off x="2459160" y="2948040"/>
            <a:ext cx="60912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文本框 64"/>
          <p:cNvSpPr/>
          <p:nvPr/>
        </p:nvSpPr>
        <p:spPr>
          <a:xfrm>
            <a:off x="3689280" y="2976480"/>
            <a:ext cx="607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文本框 64"/>
          <p:cNvSpPr/>
          <p:nvPr/>
        </p:nvSpPr>
        <p:spPr>
          <a:xfrm>
            <a:off x="4870440" y="2989440"/>
            <a:ext cx="607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组合 89"/>
          <p:cNvGrpSpPr/>
          <p:nvPr/>
        </p:nvGrpSpPr>
        <p:grpSpPr>
          <a:xfrm>
            <a:off x="6092640" y="3014640"/>
            <a:ext cx="1000080" cy="1001520"/>
            <a:chOff x="6092640" y="3014640"/>
            <a:chExt cx="1000080" cy="1001520"/>
          </a:xfrm>
        </p:grpSpPr>
        <p:sp>
          <p:nvSpPr>
            <p:cNvPr id="1776" name="矩形 46"/>
            <p:cNvSpPr/>
            <p:nvPr/>
          </p:nvSpPr>
          <p:spPr>
            <a:xfrm>
              <a:off x="6093000" y="301464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77" name="直接连接符 47"/>
            <p:cNvCxnSpPr>
              <a:stCxn id="1776" idx="0"/>
              <a:endCxn id="1776" idx="2"/>
            </p:cNvCxnSpPr>
            <p:nvPr/>
          </p:nvCxnSpPr>
          <p:spPr>
            <a:xfrm>
              <a:off x="6591240" y="3016080"/>
              <a:ext cx="324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78" name="直接连接符 48"/>
            <p:cNvCxnSpPr>
              <a:stCxn id="1776" idx="1"/>
              <a:endCxn id="1776" idx="3"/>
            </p:cNvCxnSpPr>
            <p:nvPr/>
          </p:nvCxnSpPr>
          <p:spPr>
            <a:xfrm flipV="1">
              <a:off x="6092640" y="3514680"/>
              <a:ext cx="10004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1779" name="文本框 64"/>
          <p:cNvSpPr/>
          <p:nvPr/>
        </p:nvSpPr>
        <p:spPr>
          <a:xfrm>
            <a:off x="6099120" y="3003480"/>
            <a:ext cx="607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0" name="组合 93"/>
          <p:cNvGrpSpPr/>
          <p:nvPr/>
        </p:nvGrpSpPr>
        <p:grpSpPr>
          <a:xfrm>
            <a:off x="7250040" y="3009960"/>
            <a:ext cx="1000080" cy="1001520"/>
            <a:chOff x="7250040" y="3009960"/>
            <a:chExt cx="1000080" cy="1001520"/>
          </a:xfrm>
        </p:grpSpPr>
        <p:sp>
          <p:nvSpPr>
            <p:cNvPr id="1781" name="矩形 51"/>
            <p:cNvSpPr/>
            <p:nvPr/>
          </p:nvSpPr>
          <p:spPr>
            <a:xfrm>
              <a:off x="7250040" y="300996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82" name="直接连接符 53"/>
            <p:cNvCxnSpPr>
              <a:stCxn id="1781" idx="0"/>
              <a:endCxn id="1781" idx="2"/>
            </p:cNvCxnSpPr>
            <p:nvPr/>
          </p:nvCxnSpPr>
          <p:spPr>
            <a:xfrm>
              <a:off x="7748280" y="3011400"/>
              <a:ext cx="360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83" name="直接连接符 54"/>
            <p:cNvCxnSpPr>
              <a:stCxn id="1781" idx="1"/>
              <a:endCxn id="1781" idx="3"/>
            </p:cNvCxnSpPr>
            <p:nvPr/>
          </p:nvCxnSpPr>
          <p:spPr>
            <a:xfrm flipV="1">
              <a:off x="7250040" y="3509640"/>
              <a:ext cx="100044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grpSp>
        <p:nvGrpSpPr>
          <p:cNvPr id="1784" name="组合 97"/>
          <p:cNvGrpSpPr/>
          <p:nvPr/>
        </p:nvGrpSpPr>
        <p:grpSpPr>
          <a:xfrm>
            <a:off x="8400960" y="2994120"/>
            <a:ext cx="1000080" cy="1001520"/>
            <a:chOff x="8400960" y="2994120"/>
            <a:chExt cx="1000080" cy="1001520"/>
          </a:xfrm>
        </p:grpSpPr>
        <p:sp>
          <p:nvSpPr>
            <p:cNvPr id="1785" name="矩形 57"/>
            <p:cNvSpPr/>
            <p:nvPr/>
          </p:nvSpPr>
          <p:spPr>
            <a:xfrm>
              <a:off x="8400960" y="299412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86" name="直接连接符 58"/>
            <p:cNvCxnSpPr>
              <a:stCxn id="1785" idx="0"/>
              <a:endCxn id="1785" idx="2"/>
            </p:cNvCxnSpPr>
            <p:nvPr/>
          </p:nvCxnSpPr>
          <p:spPr>
            <a:xfrm>
              <a:off x="8899200" y="2995560"/>
              <a:ext cx="360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87" name="直接连接符 59"/>
            <p:cNvCxnSpPr>
              <a:stCxn id="1785" idx="1"/>
              <a:endCxn id="1785" idx="3"/>
            </p:cNvCxnSpPr>
            <p:nvPr/>
          </p:nvCxnSpPr>
          <p:spPr>
            <a:xfrm flipV="1">
              <a:off x="8400960" y="3493800"/>
              <a:ext cx="1000440" cy="216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  <p:sp>
        <p:nvSpPr>
          <p:cNvPr id="1788" name="文本框 64"/>
          <p:cNvSpPr/>
          <p:nvPr/>
        </p:nvSpPr>
        <p:spPr>
          <a:xfrm>
            <a:off x="7278840" y="2981160"/>
            <a:ext cx="607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文本框 64"/>
          <p:cNvSpPr/>
          <p:nvPr/>
        </p:nvSpPr>
        <p:spPr>
          <a:xfrm>
            <a:off x="8451720" y="2948040"/>
            <a:ext cx="607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文本框 64"/>
          <p:cNvSpPr/>
          <p:nvPr/>
        </p:nvSpPr>
        <p:spPr>
          <a:xfrm>
            <a:off x="9561600" y="2949480"/>
            <a:ext cx="607680" cy="3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组合 101"/>
          <p:cNvGrpSpPr/>
          <p:nvPr/>
        </p:nvGrpSpPr>
        <p:grpSpPr>
          <a:xfrm>
            <a:off x="9561240" y="2984400"/>
            <a:ext cx="1000080" cy="1001520"/>
            <a:chOff x="9561240" y="2984400"/>
            <a:chExt cx="1000080" cy="1001520"/>
          </a:xfrm>
        </p:grpSpPr>
        <p:sp>
          <p:nvSpPr>
            <p:cNvPr id="1792" name="矩形 65"/>
            <p:cNvSpPr/>
            <p:nvPr/>
          </p:nvSpPr>
          <p:spPr>
            <a:xfrm>
              <a:off x="9561600" y="2984400"/>
              <a:ext cx="999720" cy="999720"/>
            </a:xfrm>
            <a:prstGeom prst="rect">
              <a:avLst/>
            </a:prstGeom>
            <a:noFill/>
            <a:ln w="3175">
              <a:solidFill>
                <a:srgbClr val="000000">
                  <a:lumMod val="75000"/>
                </a:srgbClr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1800" spc="-1" strike="noStrike">
                <a:solidFill>
                  <a:srgbClr val="ff0000"/>
                </a:solidFill>
                <a:latin typeface="Arial"/>
                <a:ea typeface="微软雅黑"/>
              </a:endParaRPr>
            </a:p>
          </p:txBody>
        </p:sp>
        <p:cxnSp>
          <p:nvCxnSpPr>
            <p:cNvPr id="1793" name="直接连接符 66"/>
            <p:cNvCxnSpPr>
              <a:stCxn id="1792" idx="0"/>
              <a:endCxn id="1792" idx="2"/>
            </p:cNvCxnSpPr>
            <p:nvPr/>
          </p:nvCxnSpPr>
          <p:spPr>
            <a:xfrm>
              <a:off x="10059840" y="2985840"/>
              <a:ext cx="3600" cy="100044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  <p:cxnSp>
          <p:nvCxnSpPr>
            <p:cNvPr id="1794" name="直接连接符 70"/>
            <p:cNvCxnSpPr>
              <a:stCxn id="1792" idx="1"/>
              <a:endCxn id="1792" idx="3"/>
            </p:cNvCxnSpPr>
            <p:nvPr/>
          </p:nvCxnSpPr>
          <p:spPr>
            <a:xfrm flipV="1">
              <a:off x="9561240" y="3484440"/>
              <a:ext cx="1000440" cy="1800"/>
            </a:xfrm>
            <a:prstGeom prst="straightConnector1">
              <a:avLst/>
            </a:prstGeom>
            <a:ln>
              <a:solidFill>
                <a:srgbClr val="000000">
                  <a:lumMod val="75000"/>
                </a:srgbClr>
              </a:solidFill>
              <a:prstDash val="dash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">
  <a:themeElements>
    <a:clrScheme name="新版空白演示配色">
      <a:dk1>
        <a:srgbClr val="000000"/>
      </a:dk1>
      <a:lt1>
        <a:srgbClr val="ffffff"/>
      </a:lt1>
      <a:dk2>
        <a:srgbClr val="0f1423"/>
      </a:dk2>
      <a:lt2>
        <a:srgbClr val="ffffff"/>
      </a:lt2>
      <a:accent1>
        <a:srgbClr val="6096e6"/>
      </a:accent1>
      <a:accent2>
        <a:srgbClr val="58b6e5"/>
      </a:accent2>
      <a:accent3>
        <a:srgbClr val="56ca95"/>
      </a:accent3>
      <a:accent4>
        <a:srgbClr val="ffba55"/>
      </a:accent4>
      <a:accent5>
        <a:srgbClr val="f18870"/>
      </a:accent5>
      <a:accent6>
        <a:srgbClr val="ec5f74"/>
      </a:accent6>
      <a:hlink>
        <a:srgbClr val="0563c1"/>
      </a:hlink>
      <a:folHlink>
        <a:srgbClr val="954d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2870</Words>
  <Paragraphs>2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0T01:23:25Z</dcterms:created>
  <dc:creator>第一PPT模板网-WWW.1PPT.COM</dc:creator>
  <dc:description/>
  <dc:language>en-US</dc:language>
  <cp:lastModifiedBy>123</cp:lastModifiedBy>
  <dcterms:modified xsi:type="dcterms:W3CDTF">2021-03-14T01:32:15Z</dcterms:modified>
  <cp:revision>18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132</vt:lpwstr>
  </property>
  <property fmtid="{D5CDD505-2E9C-101B-9397-08002B2CF9AE}" pid="3" name="Notes">
    <vt:r8>29</vt:r8>
  </property>
  <property fmtid="{D5CDD505-2E9C-101B-9397-08002B2CF9AE}" pid="4" name="PresentationFormat">
    <vt:lpwstr>自定义</vt:lpwstr>
  </property>
  <property fmtid="{D5CDD505-2E9C-101B-9397-08002B2CF9AE}" pid="5" name="Slides">
    <vt:r8>42</vt:r8>
  </property>
  <property fmtid="{D5CDD505-2E9C-101B-9397-08002B2CF9AE}" pid="6" name="Version">
    <vt:r8>1</vt:r8>
  </property>
</Properties>
</file>