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3DD5F-A5BB-449E-B2A8-8B78BCB6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C49976-62D1-485C-8C20-D1BE86DDE0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682-DC21-4644-88AC-0464D13D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91B-8B8F-431F-A83D-C33B5AA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45D-D1C5-4848-9106-D3C373E3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08C-0895-4CC4-86F3-6DD2C06A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C85-D05A-48E0-9F75-FC04CFC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21D-3F72-4997-BA6D-7C039B6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9E8-AEAC-4663-B681-2C24ECF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D4A-DFEA-4418-B1A5-D5C4059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F4A-4308-4926-84E1-F11F103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5A5-9A59-48F4-B8AB-9E760C2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7BD-6C94-4A2A-A9B9-26F55F8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645-D6BA-4127-B440-E2C2784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矩形 6"/>
            <p:cNvSpPr/>
            <p:nvPr/>
          </p:nvSpPr>
          <p:spPr>
            <a:xfrm>
              <a:off x="0" y="762120"/>
              <a:ext cx="9143640" cy="609552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9d9d9d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9d9d9d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d9d9d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D0CB30-3BCE-4E7A-9EE1-82866C90B45D}" type="slidenum">
              <a:rPr b="0" lang="en-US" sz="900" spc="-1" strike="noStrike">
                <a:solidFill>
                  <a:srgbClr val="9d9d9d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-14040" y="198900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14.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宋体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宋体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宋体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宋体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宋体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7772400" y="6308640"/>
            <a:ext cx="1371240" cy="350640"/>
          </a:xfrm>
          <a:prstGeom prst="rect">
            <a:avLst/>
          </a:prstGeom>
        </p:spPr>
        <p:txBody>
          <a:bodyPr wrap="none" lIns="90000" rIns="90000" tIns="45000" bIns="45000" anchor="t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2878920" y="533196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5"/>
          <p:cNvSpPr/>
          <p:nvPr/>
        </p:nvSpPr>
        <p:spPr>
          <a:xfrm>
            <a:off x="1258920" y="1197000"/>
            <a:ext cx="21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深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39640" y="1844640"/>
            <a:ext cx="79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读第一自然段，说说老马和小马住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332000" y="314172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马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s://timgsa.baidu.com/timg?image&amp;quality=80&amp;size=b9999_10000&amp;sec=1497508141286&amp;di=44e6b2bc82e26c2558c224c0bea42b10&amp;imgtype=0&amp;src=http%3A%2F%2Fstatic.meiguoshenpo.com%2Fimage%2F201305%2F07125043484.jpg"/>
          <p:cNvPicPr/>
          <p:nvPr/>
        </p:nvPicPr>
        <p:blipFill>
          <a:blip r:embed="rId1"/>
          <a:stretch/>
        </p:blipFill>
        <p:spPr>
          <a:xfrm>
            <a:off x="1403280" y="3789360"/>
            <a:ext cx="3998520" cy="2376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6"/>
          <p:cNvSpPr txBox="1"/>
          <p:nvPr/>
        </p:nvSpPr>
        <p:spPr>
          <a:xfrm>
            <a:off x="7772400" y="6308640"/>
            <a:ext cx="1371240" cy="350640"/>
          </a:xfrm>
          <a:prstGeom prst="rect">
            <a:avLst/>
          </a:prstGeom>
        </p:spPr>
        <p:txBody>
          <a:bodyPr wrap="none" lIns="90000" rIns="90000" tIns="45000" bIns="45000" anchor="t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4"/>
          <p:cNvSpPr/>
          <p:nvPr/>
        </p:nvSpPr>
        <p:spPr>
          <a:xfrm>
            <a:off x="755640" y="1557000"/>
            <a:ext cx="734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小马驮着麦子到磨坊去，遇到了什么困难？它是怎么想的？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900000" y="3213000"/>
            <a:ext cx="720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一条小河挡住了小马的去路。他想：我能不能过去呢？如果妈妈在身边，问问她，那多好啊！然后他问了老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s://timgsa.baidu.com/timg?image&amp;quality=80&amp;size=b9999_10000&amp;sec=1497509258433&amp;di=34ea15bb88270b131cc46ce448262044&amp;imgtype=0&amp;src=http%3A%2F%2Fp4.qhimg.com%2Ft01bcfdf5db8d3c505c.jpg"/>
          <p:cNvPicPr/>
          <p:nvPr/>
        </p:nvPicPr>
        <p:blipFill>
          <a:blip r:embed="rId1"/>
          <a:srcRect l="0" t="0" r="-2379" b="0"/>
          <a:stretch/>
        </p:blipFill>
        <p:spPr>
          <a:xfrm>
            <a:off x="4932000" y="4941000"/>
            <a:ext cx="2977920" cy="165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84360" y="1543320"/>
            <a:ext cx="784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小马的妈妈是怎么说的？妈妈的话是什么意思？你从它的话中懂得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755640" y="2533680"/>
            <a:ext cx="770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妈妈亲切地对小马说：“孩子，光听别人说，自己不动脑筋，不去试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(shì)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试，是不行的。河水是深是浅，你去试一试就知道了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475640" y="40514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妈妈是在鼓励小马亲自去尝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755640" y="4725720"/>
            <a:ext cx="777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懂得了无论做什么事，都不能只听别人说，要亲自尝试才能知道事情的真实情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7772400" y="6308640"/>
            <a:ext cx="1371240" cy="350640"/>
          </a:xfrm>
          <a:prstGeom prst="rect">
            <a:avLst/>
          </a:prstGeom>
        </p:spPr>
        <p:txBody>
          <a:bodyPr wrap="none" lIns="90000" rIns="90000" tIns="45000" bIns="45000" anchor="t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5"/>
          <p:cNvSpPr/>
          <p:nvPr/>
        </p:nvSpPr>
        <p:spPr>
          <a:xfrm>
            <a:off x="450000" y="1124640"/>
            <a:ext cx="67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小马是怎么过河的？过了河它有怎样的感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11280" y="2492280"/>
            <a:ext cx="698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小马自己试着过了河才知道的小河小马既不像老牛说的那样浅，也不像松鼠说的那样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s://timgsa.baidu.com/timg?image&amp;quality=80&amp;size=b9999_10000&amp;sec=1497509232198&amp;di=a7eec07f69290b07759fbd59c465d10a&amp;imgtype=0&amp;src=http%3A%2F%2Fstc.zjol.com.cn%2Fg1%2FM00128CCggSDleV1sqAQiooAADtL5r7foY171.jpg%3Fwidth%3D333%26height%3D220"/>
          <p:cNvPicPr/>
          <p:nvPr/>
        </p:nvPicPr>
        <p:blipFill>
          <a:blip r:embed="rId1"/>
          <a:stretch/>
        </p:blipFill>
        <p:spPr>
          <a:xfrm>
            <a:off x="4788000" y="4437000"/>
            <a:ext cx="31716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619640" y="1265760"/>
            <a:ext cx="5111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总结全文，明白道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1280" y="2961360"/>
            <a:ext cx="7621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课文通过小马在妈妈的鼓励下，顺利过河的故事，告诉我们：做什么事都要动脑筋，要去试一试才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s://timgsa.baidu.com/timg?image&amp;quality=80&amp;size=b9999_10000&amp;sec=1497509202004&amp;di=cc7f1fd4b1cd16c551d93dd265a8c4aa&amp;imgtype=0&amp;src=http%3A%2F%2Fwww.gsdaquan.com%2Fuploadphoto%2F201471092857.jpg"/>
          <p:cNvPicPr/>
          <p:nvPr/>
        </p:nvPicPr>
        <p:blipFill>
          <a:blip r:embed="rId1"/>
          <a:stretch/>
        </p:blipFill>
        <p:spPr>
          <a:xfrm>
            <a:off x="4943520" y="4297320"/>
            <a:ext cx="3288960" cy="21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520" cy="380952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3974040" y="225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7772400" y="6308640"/>
            <a:ext cx="1371240" cy="350640"/>
          </a:xfrm>
          <a:prstGeom prst="rect">
            <a:avLst/>
          </a:prstGeom>
        </p:spPr>
        <p:txBody>
          <a:bodyPr wrap="none" lIns="90000" rIns="90000" tIns="45000" bIns="45000" anchor="t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835640" y="4582080"/>
            <a:ext cx="5328360" cy="1760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9" name="TextBox 3"/>
          <p:cNvSpPr/>
          <p:nvPr/>
        </p:nvSpPr>
        <p:spPr>
          <a:xfrm>
            <a:off x="1403280" y="802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导入新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539640" y="2806200"/>
            <a:ext cx="7920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同学们在很小的时候就听到过许多童话故事，谁知道？和同学们说一说你知道的童话故事。今天我们学习一篇童话故事，同学们一定会觉得很有趣——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560" y="908640"/>
            <a:ext cx="8875080" cy="568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马棚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pénɡ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里住着一匹老马和一匹小马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有一天，老马对小马说：“你已经长大了，能帮妈妈做点儿事吗？”小马连蹦带跳地说：“怎么不能？我很愿意帮您做事。”老马高兴地说：“那好啊，你把这半口袋麦子驮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tuó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到磨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mò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坊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fánɡ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去吧。”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驮起口袋，飞快地往磨坊跑去。跑着跑着，一条小河挡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dǎnɡ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住了去路，河水哗哗地流着。小马为难了，心想：我能不能过去呢？如果妈妈在身边，问问她该怎么办，那多好啊！可是他离家已经很远了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向四周望望，看见一头老牛在河边吃草，小马嗒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dā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嗒嗒跑过去，问道：“牛伯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bó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伯，请您告诉我，这条河，我能蹚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tāng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过去吗？老牛说：“水很浅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qiǎn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，刚没小腿，能蹚过去。”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听了老牛的话，立刻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kè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跑到河边，准备蹚过去。突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tū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然，从树上跳下一只松鼠，拦住他大叫：“小马！别过河，别过河，你会淹死的！”小马吃惊地问：“水很深吗？”松鼠认真地说：“深得很哩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li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！昨天，我的一个伙伴就是掉在这条河里淹死的！”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46000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连忙收住脚步，不知道怎么办才好。他叹了口气，说：“唉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ài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！还是回家问问妈妈吧！”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甩甩尾巴，跑回家去。妈妈问他：“怎么回来啦？”小马难为情地说：“一条河挡住了去路，我……我过不去。”妈妈说：“那条河不是很浅吗？”小马说：“是啊！牛伯伯也这么说。可是松鼠说河水很深，还淹死过他的伙伴呢！”妈妈说：“那么河水到底是深还是浅呢？你仔细想过他们的话吗？”小马低下了头，说：“没……没想过。”妈妈亲切地对小马说：“孩子，光听别人说，自己不动脑筋，不去试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shì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试，是不行的。河水是深是浅，你去试一试就知道了。”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       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小马跑到河边，刚刚抬起前蹄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tí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，松鼠又大叫起来：“怎么？你不要命啦！”小马说：“让我试试吧！”他下了河，小心地蹚到了对岸。原来河水既</a:t>
            </a:r>
            <a:r>
              <a:rPr b="0" lang="en-US" sz="2400" spc="-1" strike="noStrike">
                <a:solidFill>
                  <a:schemeClr val="accent1"/>
                </a:solidFill>
                <a:latin typeface="幼圆"/>
                <a:ea typeface="幼圆"/>
              </a:rPr>
              <a:t>(jì)</a:t>
            </a: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不像老牛说的那样浅，也不像松鼠说的那样深。 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539640" y="40464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971640" y="2060640"/>
            <a:ext cx="36716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棚  驮  磨  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挡  伯  浅  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突  哩  唉  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蹄  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timg?image&amp;quality=80&amp;size=b9999_10000&amp;sec=1516527765771&amp;di=c6cf04f0ea1e35f090f52e95c2995cce&amp;imgtype=0&amp;src=http%3A%2F%2Fimg4"/>
          <p:cNvPicPr/>
          <p:nvPr/>
        </p:nvPicPr>
        <p:blipFill>
          <a:blip r:embed="rId1"/>
          <a:stretch/>
        </p:blipFill>
        <p:spPr>
          <a:xfrm>
            <a:off x="5148360" y="260280"/>
            <a:ext cx="3526920" cy="2277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227640" y="256536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凉   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timg?image&amp;quality=80&amp;size=b9999_10000&amp;sec=1516527859965&amp;di=7c896c2a481745c781ddf441cbc89cbb&amp;imgtype=0&amp;src=http%3A%2F%2Fimg"/>
          <p:cNvPicPr/>
          <p:nvPr/>
        </p:nvPicPr>
        <p:blipFill>
          <a:blip r:embed="rId2"/>
          <a:stretch/>
        </p:blipFill>
        <p:spPr>
          <a:xfrm>
            <a:off x="5076720" y="3141720"/>
            <a:ext cx="3673080" cy="244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6227640" y="5661000"/>
            <a:ext cx="158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雕  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844000" y="2853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20984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我会写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640" y="1773000"/>
            <a:ext cx="843408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愿（愿意）（情愿）（心愿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我的心愿是世界和平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意（意思）（意义）（心意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这份礼物虽然不贵重，但是具有特殊的意义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麦（麦子）（麦穗）（小麦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田里的麦子成熟了，到处是金灿灿的景象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该（应该）（活该）（该欠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" charset="2"/>
              <a:buChar char="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我们应该听从老师和家长的教导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5640" y="1485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伯（伯父）（伯伯）（伯母）（老伯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寒风中站着一位走丢的老伯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刻（时刻）（刻画）（雕刻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这个石碑雕刻得十分精美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突（突然）（突发）（冲突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我和同桌发生了冲突，吵了一架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掉（掉队）（去掉）（删掉）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76aa30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例句：我们站在原地等待掉队的同学。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2288880" y="119700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指导书写，分析字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9"/>
          <p:cNvGrpSpPr/>
          <p:nvPr/>
        </p:nvGrpSpPr>
        <p:grpSpPr>
          <a:xfrm>
            <a:off x="1116000" y="2492280"/>
            <a:ext cx="1440000" cy="1441800"/>
            <a:chOff x="1116000" y="2492280"/>
            <a:chExt cx="1440000" cy="1441800"/>
          </a:xfrm>
        </p:grpSpPr>
        <p:sp>
          <p:nvSpPr>
            <p:cNvPr id="75" name="Rectangle 30"/>
            <p:cNvSpPr/>
            <p:nvPr/>
          </p:nvSpPr>
          <p:spPr>
            <a:xfrm>
              <a:off x="183600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111600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183600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78" name="Rectangle 33"/>
            <p:cNvSpPr/>
            <p:nvPr/>
          </p:nvSpPr>
          <p:spPr>
            <a:xfrm>
              <a:off x="111600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1116000" y="249228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80" name="Line 35"/>
            <p:cNvSpPr/>
            <p:nvPr/>
          </p:nvSpPr>
          <p:spPr>
            <a:xfrm>
              <a:off x="1116000" y="3207240"/>
              <a:ext cx="1439640" cy="36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1116000" y="393372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>
              <a:off x="111600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83" name="Line 38"/>
            <p:cNvSpPr/>
            <p:nvPr/>
          </p:nvSpPr>
          <p:spPr>
            <a:xfrm>
              <a:off x="1835640" y="2492280"/>
              <a:ext cx="360" cy="144144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84" name="Line 39"/>
            <p:cNvSpPr/>
            <p:nvPr/>
          </p:nvSpPr>
          <p:spPr>
            <a:xfrm>
              <a:off x="255564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85" name="Group 29"/>
          <p:cNvGrpSpPr/>
          <p:nvPr/>
        </p:nvGrpSpPr>
        <p:grpSpPr>
          <a:xfrm>
            <a:off x="2771640" y="2492280"/>
            <a:ext cx="1440000" cy="1441800"/>
            <a:chOff x="2771640" y="2492280"/>
            <a:chExt cx="1440000" cy="1441800"/>
          </a:xfrm>
        </p:grpSpPr>
        <p:sp>
          <p:nvSpPr>
            <p:cNvPr id="86" name="Rectangle 30"/>
            <p:cNvSpPr/>
            <p:nvPr/>
          </p:nvSpPr>
          <p:spPr>
            <a:xfrm>
              <a:off x="349164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87" name="Rectangle 31"/>
            <p:cNvSpPr/>
            <p:nvPr/>
          </p:nvSpPr>
          <p:spPr>
            <a:xfrm>
              <a:off x="277164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>
              <a:off x="349164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89" name="Rectangle 33"/>
            <p:cNvSpPr/>
            <p:nvPr/>
          </p:nvSpPr>
          <p:spPr>
            <a:xfrm>
              <a:off x="277164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2771640" y="249228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2771640" y="3207240"/>
              <a:ext cx="1439640" cy="36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2771640" y="393372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277164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491640" y="2492280"/>
              <a:ext cx="360" cy="144144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Line 39"/>
            <p:cNvSpPr/>
            <p:nvPr/>
          </p:nvSpPr>
          <p:spPr>
            <a:xfrm>
              <a:off x="421128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6" name="Group 29"/>
          <p:cNvGrpSpPr/>
          <p:nvPr/>
        </p:nvGrpSpPr>
        <p:grpSpPr>
          <a:xfrm>
            <a:off x="4356000" y="2492280"/>
            <a:ext cx="1440000" cy="1441800"/>
            <a:chOff x="4356000" y="2492280"/>
            <a:chExt cx="1440000" cy="1441800"/>
          </a:xfrm>
        </p:grpSpPr>
        <p:sp>
          <p:nvSpPr>
            <p:cNvPr id="97" name="Rectangle 30"/>
            <p:cNvSpPr/>
            <p:nvPr/>
          </p:nvSpPr>
          <p:spPr>
            <a:xfrm>
              <a:off x="507600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435600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99" name="Rectangle 32"/>
            <p:cNvSpPr/>
            <p:nvPr/>
          </p:nvSpPr>
          <p:spPr>
            <a:xfrm>
              <a:off x="507600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00" name="Rectangle 33"/>
            <p:cNvSpPr/>
            <p:nvPr/>
          </p:nvSpPr>
          <p:spPr>
            <a:xfrm>
              <a:off x="435600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01" name="Line 34"/>
            <p:cNvSpPr/>
            <p:nvPr/>
          </p:nvSpPr>
          <p:spPr>
            <a:xfrm>
              <a:off x="4356000" y="249228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4356000" y="3207240"/>
              <a:ext cx="1439640" cy="36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Line 36"/>
            <p:cNvSpPr/>
            <p:nvPr/>
          </p:nvSpPr>
          <p:spPr>
            <a:xfrm>
              <a:off x="4356000" y="393372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435600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5076000" y="2492280"/>
              <a:ext cx="360" cy="144144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>
              <a:off x="579564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7" name="Group 29"/>
          <p:cNvGrpSpPr/>
          <p:nvPr/>
        </p:nvGrpSpPr>
        <p:grpSpPr>
          <a:xfrm>
            <a:off x="5940360" y="2492280"/>
            <a:ext cx="1440000" cy="1441800"/>
            <a:chOff x="5940360" y="2492280"/>
            <a:chExt cx="1440000" cy="1441800"/>
          </a:xfrm>
        </p:grpSpPr>
        <p:sp>
          <p:nvSpPr>
            <p:cNvPr id="108" name="Rectangle 30"/>
            <p:cNvSpPr/>
            <p:nvPr/>
          </p:nvSpPr>
          <p:spPr>
            <a:xfrm>
              <a:off x="666036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09" name="Rectangle 31"/>
            <p:cNvSpPr/>
            <p:nvPr/>
          </p:nvSpPr>
          <p:spPr>
            <a:xfrm>
              <a:off x="5940360" y="3207600"/>
              <a:ext cx="7196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10" name="Rectangle 32"/>
            <p:cNvSpPr/>
            <p:nvPr/>
          </p:nvSpPr>
          <p:spPr>
            <a:xfrm>
              <a:off x="666036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5940360" y="2492280"/>
              <a:ext cx="7196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961"/>
                </a:spcBef>
              </a:pPr>
              <a:endParaRPr b="0" lang="en-US" sz="4800" spc="-1" strike="noStrike">
                <a:solidFill>
                  <a:srgbClr val="5f5f5f"/>
                </a:solidFill>
                <a:latin typeface="楷体"/>
                <a:ea typeface="楷体"/>
              </a:endParaRPr>
            </a:p>
          </p:txBody>
        </p:sp>
        <p:sp>
          <p:nvSpPr>
            <p:cNvPr id="112" name="Line 34"/>
            <p:cNvSpPr/>
            <p:nvPr/>
          </p:nvSpPr>
          <p:spPr>
            <a:xfrm>
              <a:off x="5940360" y="249228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13" name="Line 35"/>
            <p:cNvSpPr/>
            <p:nvPr/>
          </p:nvSpPr>
          <p:spPr>
            <a:xfrm>
              <a:off x="5940360" y="3207240"/>
              <a:ext cx="1439640" cy="36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Line 36"/>
            <p:cNvSpPr/>
            <p:nvPr/>
          </p:nvSpPr>
          <p:spPr>
            <a:xfrm>
              <a:off x="5940360" y="3933720"/>
              <a:ext cx="1439640" cy="36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Line 37"/>
            <p:cNvSpPr/>
            <p:nvPr/>
          </p:nvSpPr>
          <p:spPr>
            <a:xfrm>
              <a:off x="594036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Line 38"/>
            <p:cNvSpPr/>
            <p:nvPr/>
          </p:nvSpPr>
          <p:spPr>
            <a:xfrm>
              <a:off x="6660000" y="2492280"/>
              <a:ext cx="360" cy="1441440"/>
            </a:xfrm>
            <a:prstGeom prst="line">
              <a:avLst/>
            </a:prstGeom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Line 39"/>
            <p:cNvSpPr/>
            <p:nvPr/>
          </p:nvSpPr>
          <p:spPr>
            <a:xfrm>
              <a:off x="7380000" y="2492280"/>
              <a:ext cx="360" cy="1441440"/>
            </a:xfrm>
            <a:prstGeom prst="line">
              <a:avLst/>
            </a:prstGeom>
            <a:ln cap="sq" w="28575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8" name="Text Box 40"/>
          <p:cNvSpPr/>
          <p:nvPr/>
        </p:nvSpPr>
        <p:spPr>
          <a:xfrm>
            <a:off x="1187280" y="2492280"/>
            <a:ext cx="13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2771640" y="2492280"/>
            <a:ext cx="13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4500720" y="2492280"/>
            <a:ext cx="136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0"/>
          <p:cNvSpPr/>
          <p:nvPr/>
        </p:nvSpPr>
        <p:spPr>
          <a:xfrm>
            <a:off x="6012000" y="2492280"/>
            <a:ext cx="13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s://timgsa.baidu.com/timg?image&amp;quality=80&amp;size=b9999_10000&amp;sec=1497507397186&amp;di=1c682ec4616a37ce3b4fbb6ad4da4c2b&amp;imgtype=0&amp;src=http%3A%2F%2Fimg.25pp.com%2Fuploadfile%2Fsoft%2Fimages%2F2015%2F0805%2F20150805035155198.jpg"/>
          <p:cNvPicPr/>
          <p:nvPr/>
        </p:nvPicPr>
        <p:blipFill>
          <a:blip r:embed="rId1"/>
          <a:stretch/>
        </p:blipFill>
        <p:spPr>
          <a:xfrm>
            <a:off x="6012000" y="4365720"/>
            <a:ext cx="1872720" cy="18712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2"/>
          <p:cNvSpPr txBox="1"/>
          <p:nvPr/>
        </p:nvSpPr>
        <p:spPr>
          <a:xfrm>
            <a:off x="7772400" y="6308640"/>
            <a:ext cx="1371240" cy="350640"/>
          </a:xfrm>
          <a:prstGeom prst="rect">
            <a:avLst/>
          </a:prstGeom>
        </p:spPr>
        <p:txBody>
          <a:bodyPr wrap="none" lIns="90000" rIns="90000" tIns="45000" bIns="45000" anchor="t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5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2270160" y="1125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复习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4276440" y="19890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课文主要讲了一件什么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11280" y="2852640"/>
            <a:ext cx="70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  <a:ea typeface="宋体"/>
              </a:rPr>
              <a:t>课文讲的是一匹小马在妈妈的鼓励下，亲自尝试顺利过河的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timgsa.baidu.com/timg?image&amp;quality=80&amp;size=b9999_10000&amp;sec=1497509296039&amp;di=e86e6cf031711cbfc42e7ee6a6831848&amp;imgtype=0&amp;src=http%3A%2F%2Fwww.lw1989.com%2Fimages%2Fobuwgmron5xw64djmmxgg33n%2F13%2F64%2F85%2F52bOOOPICdc_1024.jpg"/>
          <p:cNvPicPr/>
          <p:nvPr/>
        </p:nvPicPr>
        <p:blipFill>
          <a:blip r:embed="rId1"/>
          <a:stretch/>
        </p:blipFill>
        <p:spPr>
          <a:xfrm>
            <a:off x="4932360" y="4149720"/>
            <a:ext cx="3071520" cy="21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A000120150608A01PWBG 1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76aa30"/>
      </a:accent1>
      <a:accent2>
        <a:srgbClr val="5eb5d0"/>
      </a:accent2>
      <a:accent3>
        <a:srgbClr val="ffffff"/>
      </a:accent3>
      <a:accent4>
        <a:srgbClr val="505050"/>
      </a:accent4>
      <a:accent5>
        <a:srgbClr val="bdd2ad"/>
      </a:accent5>
      <a:accent6>
        <a:srgbClr val="54a4bc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f5f5f"/>
      </a:dk2>
      <a:lt2>
        <a:srgbClr val="ffffff"/>
      </a:lt2>
      <a:accent1>
        <a:srgbClr val="76aa30"/>
      </a:accent1>
      <a:accent2>
        <a:srgbClr val="5eb5d0"/>
      </a:accent2>
      <a:accent3>
        <a:srgbClr val="ffffff"/>
      </a:accent3>
      <a:accent4>
        <a:srgbClr val="505050"/>
      </a:accent4>
      <a:accent5>
        <a:srgbClr val="bdd2ad"/>
      </a:accent5>
      <a:accent6>
        <a:srgbClr val="54a4bc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1995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123</cp:lastModifiedBy>
  <dcterms:modified xsi:type="dcterms:W3CDTF">2018-09-22T05:25:20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