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7E58E-6AB8-4976-9641-E02B12D6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81C273-20FC-489F-83D3-F2132845A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088-8C36-47D3-AAA3-8C8021EB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03C-35FC-43E1-9C7F-8B8BE30F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4B8-27EB-477F-8584-96A59D7D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ED2-E3EE-481F-A914-B2D32A95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E5DF-3A73-47C0-A3BB-4F38359E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2EDD-9B11-4ACC-A32C-9E6FE9B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7A4C-548C-4625-A9AC-8085A1A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7E95-2A1A-4AA0-BB32-3DD2E83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F1DE-C89F-49F1-AC04-AD35EBB8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6B60-0492-4252-A2FC-6A5278D0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60C-5AA4-41E4-BCA0-86D776A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058-DE78-4B06-A567-7EA9EB2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2C5-F2A4-49E5-8874-F27A7C2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A112-0766-4ECE-9AC2-D8F309C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1BA-85C4-44D6-9789-DEE599F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5F39-1C21-4870-9689-4C0C200E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F9A-90FA-4256-A13A-DC6AC7D9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EA5-DE1F-4EAB-A13F-5672EAFE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395-5A72-4F56-AED2-4586A63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572-7244-4B47-AE75-7CA2E042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EC0-B5CC-43D2-ADA8-BFE7FD3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073-A6BC-481A-82D9-EA73DE3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7BA-EB3E-4B66-9900-DABDDE1B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B10-B72B-428A-B21B-C2F0AED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19400" cy="6857640"/>
            <a:chOff x="0" y="0"/>
            <a:chExt cx="7619400" cy="68576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040" cy="6857640"/>
              <a:chOff x="0" y="0"/>
              <a:chExt cx="3200040" cy="68576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1760" cy="6857640"/>
              </a:xfrm>
              <a:prstGeom prst="rect">
                <a:avLst/>
              </a:pr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2840" cy="1166400"/>
              </a:xfrm>
              <a:custGeom>
                <a:avLst/>
                <a:gdLst>
                  <a:gd name="textAreaLeft" fmla="*/ 0 w 2742840"/>
                  <a:gd name="textAreaRight" fmla="*/ 2743200 w 274284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240" y="1981080"/>
              <a:ext cx="7391160" cy="318600"/>
              <a:chOff x="228240" y="1981080"/>
              <a:chExt cx="7391160" cy="31860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09920" cy="317160"/>
              </a:xfrm>
              <a:prstGeom prst="roundRect">
                <a:avLst>
                  <a:gd name="adj" fmla="val 0"/>
                </a:avLst>
              </a:prstGeom>
              <a:solidFill>
                <a:schemeClr val="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7880" y="1981080"/>
                <a:ext cx="393480" cy="318600"/>
              </a:xfrm>
              <a:prstGeom prst="flowChartDelay">
                <a:avLst/>
              </a:prstGeom>
              <a:solidFill>
                <a:schemeClr val="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7" name="Group 2"/>
          <p:cNvGrpSpPr/>
          <p:nvPr/>
        </p:nvGrpSpPr>
        <p:grpSpPr>
          <a:xfrm>
            <a:off x="0" y="0"/>
            <a:ext cx="5866920" cy="6857640"/>
            <a:chOff x="0" y="0"/>
            <a:chExt cx="5866920" cy="6857640"/>
          </a:xfrm>
        </p:grpSpPr>
        <p:sp>
          <p:nvSpPr>
            <p:cNvPr id="8" name="Rectangle 3"/>
            <p:cNvSpPr/>
            <p:nvPr/>
          </p:nvSpPr>
          <p:spPr>
            <a:xfrm>
              <a:off x="0" y="0"/>
              <a:ext cx="4571640" cy="68576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  <a:ea typeface="宋体"/>
              </a:endParaRPr>
            </a:p>
          </p:txBody>
        </p:sp>
        <p:sp>
          <p:nvSpPr>
            <p:cNvPr id="9" name="AutoShape 4"/>
            <p:cNvSpPr/>
            <p:nvPr/>
          </p:nvSpPr>
          <p:spPr>
            <a:xfrm>
              <a:off x="685800" y="990720"/>
              <a:ext cx="5181120" cy="19047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  <a:ea typeface="宋体"/>
              </a:endParaRPr>
            </a:p>
          </p:txBody>
        </p:sp>
      </p:grpSp>
      <p:grpSp>
        <p:nvGrpSpPr>
          <p:cNvPr id="10" name="Group 5"/>
          <p:cNvGrpSpPr/>
          <p:nvPr/>
        </p:nvGrpSpPr>
        <p:grpSpPr>
          <a:xfrm>
            <a:off x="3430080" y="4221000"/>
            <a:ext cx="4874040" cy="318600"/>
            <a:chOff x="3430080" y="4221000"/>
            <a:chExt cx="4874040" cy="318600"/>
          </a:xfrm>
        </p:grpSpPr>
        <p:sp>
          <p:nvSpPr>
            <p:cNvPr id="11" name="AutoShape 6"/>
            <p:cNvSpPr/>
            <p:nvPr/>
          </p:nvSpPr>
          <p:spPr>
            <a:xfrm flipH="1">
              <a:off x="3429720" y="4221000"/>
              <a:ext cx="4622760" cy="317160"/>
            </a:xfrm>
            <a:prstGeom prst="roundRect">
              <a:avLst>
                <a:gd name="adj" fmla="val 0"/>
              </a:avLst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3366"/>
                </a:solidFill>
                <a:latin typeface="Arial"/>
                <a:ea typeface="宋体"/>
              </a:endParaRPr>
            </a:p>
          </p:txBody>
        </p:sp>
        <p:sp>
          <p:nvSpPr>
            <p:cNvPr id="12" name="AutoShape 7"/>
            <p:cNvSpPr/>
            <p:nvPr/>
          </p:nvSpPr>
          <p:spPr>
            <a:xfrm>
              <a:off x="8044200" y="4221000"/>
              <a:ext cx="259920" cy="318600"/>
            </a:xfrm>
            <a:prstGeom prst="flowChartDelay">
              <a:avLst/>
            </a:pr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336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8229240" cy="190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单击此处编辑母版标题样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76320" y="6248520"/>
            <a:ext cx="5871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lstStyle>
            <a:lvl1pPr indent="0">
              <a:lnSpc>
                <a:spcPct val="100000"/>
              </a:lnSpc>
              <a:buNone/>
              <a:defRPr b="1" lang="en-US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3A56A68-A612-4F5A-893D-A8BF791E71BD}" type="slidenum"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7619400" cy="6857640"/>
            <a:chOff x="0" y="0"/>
            <a:chExt cx="7619400" cy="685764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0"/>
              <a:ext cx="3200040" cy="6857640"/>
              <a:chOff x="0" y="0"/>
              <a:chExt cx="3200040" cy="685764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0" y="0"/>
                <a:ext cx="761760" cy="6857640"/>
              </a:xfrm>
              <a:prstGeom prst="rect">
                <a:avLst/>
              </a:pr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457200" y="0"/>
                <a:ext cx="2742840" cy="1166400"/>
              </a:xfrm>
              <a:custGeom>
                <a:avLst/>
                <a:gdLst>
                  <a:gd name="textAreaLeft" fmla="*/ 0 w 2742840"/>
                  <a:gd name="textAreaRight" fmla="*/ 2743200 w 274284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58" name="Group 6"/>
            <p:cNvGrpSpPr/>
            <p:nvPr/>
          </p:nvGrpSpPr>
          <p:grpSpPr>
            <a:xfrm>
              <a:off x="228240" y="1981080"/>
              <a:ext cx="7391160" cy="318600"/>
              <a:chOff x="228240" y="1981080"/>
              <a:chExt cx="7391160" cy="318600"/>
            </a:xfrm>
          </p:grpSpPr>
          <p:sp>
            <p:nvSpPr>
              <p:cNvPr id="59" name="AutoShape 7"/>
              <p:cNvSpPr/>
              <p:nvPr/>
            </p:nvSpPr>
            <p:spPr>
              <a:xfrm>
                <a:off x="609480" y="1981080"/>
                <a:ext cx="7009920" cy="317160"/>
              </a:xfrm>
              <a:prstGeom prst="roundRect">
                <a:avLst>
                  <a:gd name="adj" fmla="val 0"/>
                </a:avLst>
              </a:prstGeom>
              <a:solidFill>
                <a:schemeClr val="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60" name="AutoShape 8"/>
              <p:cNvSpPr/>
              <p:nvPr/>
            </p:nvSpPr>
            <p:spPr>
              <a:xfrm flipH="1">
                <a:off x="227880" y="1981080"/>
                <a:ext cx="393480" cy="318600"/>
              </a:xfrm>
              <a:prstGeom prst="flowChartDelay">
                <a:avLst/>
              </a:prstGeom>
              <a:solidFill>
                <a:schemeClr val="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ftr" idx="5"/>
          </p:nvPr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6"/>
          </p:nvPr>
        </p:nvSpPr>
        <p:spPr>
          <a:xfrm>
            <a:off x="84240" y="6242040"/>
            <a:ext cx="5871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lstStyle>
            <a:lvl1pPr indent="0">
              <a:lnSpc>
                <a:spcPct val="100000"/>
              </a:lnSpc>
              <a:buNone/>
              <a:defRPr b="1" lang="en-US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EAA0A8-1B8F-430C-94F5-F40432751190}" type="slidenum"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1614600" y="689040"/>
            <a:ext cx="592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信 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2757240" y="59500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357200" y="2496960"/>
            <a:ext cx="6840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桃园里只有小动物在代替主人招呼客人而忙碌，作者没有直接写果园主人 ，而是写小狗、小猫，这是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问题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d.hiphotos.baidu.com/zhidao/pic/item/8cb1cb1349540923aec87a3f9058d109b2de49c9.jpg"/>
          <p:cNvPicPr/>
          <p:nvPr/>
        </p:nvPicPr>
        <p:blipFill>
          <a:blip r:embed="rId1"/>
          <a:stretch/>
        </p:blipFill>
        <p:spPr>
          <a:xfrm>
            <a:off x="4286160" y="5000760"/>
            <a:ext cx="1714320" cy="151560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"/>
          <p:cNvSpPr/>
          <p:nvPr/>
        </p:nvSpPr>
        <p:spPr>
          <a:xfrm>
            <a:off x="1214280" y="2357280"/>
            <a:ext cx="72147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这是侧面描写，通过猫和狗的动作、神态进行生动的描写，从侧面烘托了主人的形象，主人处处与人为善，相信每一位客人的美好品质。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img.gaitu.com/eimg/2007121117021411.jpg"/>
          <p:cNvPicPr/>
          <p:nvPr/>
        </p:nvPicPr>
        <p:blipFill>
          <a:blip r:embed="rId1"/>
          <a:stretch/>
        </p:blipFill>
        <p:spPr>
          <a:xfrm>
            <a:off x="1285920" y="785880"/>
            <a:ext cx="1230120" cy="12139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928800" y="2286000"/>
            <a:ext cx="75718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我不禁回头，久久地注视着那片果林、那间小屋、那张木桌，注视着那个朴实而又纯洁的地方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85880" y="4441680"/>
            <a:ext cx="8100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为什么说这里是一个朴实而又纯洁的地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42960" y="5286240"/>
            <a:ext cx="7929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回头”、“注视”表达了“我”怎样的情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课文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9" descr="思考3.png"/>
          <p:cNvPicPr/>
          <p:nvPr/>
        </p:nvPicPr>
        <p:blipFill>
          <a:blip r:embed="rId1"/>
          <a:stretch/>
        </p:blipFill>
        <p:spPr>
          <a:xfrm>
            <a:off x="6858000" y="714240"/>
            <a:ext cx="818640" cy="10933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084320" y="2500200"/>
            <a:ext cx="73450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因为这个地方充满了人与人之间的信任和被信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71720" y="4143240"/>
            <a:ext cx="7429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表达了我对那个朴实而又纯洁的地方的依恋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img.sucai.redocn.com/attachments/images/201203/20120306/Redocn_2012030604070515.jpg"/>
          <p:cNvPicPr/>
          <p:nvPr/>
        </p:nvPicPr>
        <p:blipFill>
          <a:blip r:embed="rId1"/>
          <a:stretch/>
        </p:blipFill>
        <p:spPr>
          <a:xfrm>
            <a:off x="3429000" y="169920"/>
            <a:ext cx="2999880" cy="182988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714760" y="1001880"/>
            <a:ext cx="4785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请找出文章的中心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57160" y="2460600"/>
            <a:ext cx="7786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在那里，我们得到的是人与人之间信任和被信任的喜悦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3" descr="问号5.jpg"/>
          <p:cNvPicPr/>
          <p:nvPr/>
        </p:nvPicPr>
        <p:blipFill>
          <a:blip r:embed="rId1"/>
          <a:stretch/>
        </p:blipFill>
        <p:spPr>
          <a:xfrm>
            <a:off x="4286160" y="4714920"/>
            <a:ext cx="1828440" cy="17823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1357200" y="2687760"/>
            <a:ext cx="71258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从情节上看：这个告示把人们引向果园，让人们自己动手采摘丰富的果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357200" y="4143240"/>
            <a:ext cx="71276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从实质上看：它把人们引向了互相信任的崇高境界，在那里人们“得到的是人与人之间信任和被信任的喜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1071720" y="687240"/>
            <a:ext cx="75718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公路边的告示是引导旅行者的线索，也是全文的线索，它把人们引向什么样的地方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down1.sucaitianxia.com/eps/48/eps13985.jpg"/>
          <p:cNvPicPr/>
          <p:nvPr/>
        </p:nvPicPr>
        <p:blipFill>
          <a:blip r:embed="rId1"/>
          <a:stretch/>
        </p:blipFill>
        <p:spPr>
          <a:xfrm>
            <a:off x="7715160" y="5459400"/>
            <a:ext cx="1213920" cy="13982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857240" y="1042920"/>
            <a:ext cx="6357600" cy="81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  <a:ea typeface="宋体"/>
              </a:rPr>
              <a:t>桃园主人给你留下什么印象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475080" y="2443320"/>
            <a:ext cx="3382560" cy="188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对人真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与人为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热情好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down.tutu001.com/d/file/20090927/ab9cfa197cf91a4fe4eb003516b137d2.jpg"/>
          <p:cNvPicPr/>
          <p:nvPr/>
        </p:nvPicPr>
        <p:blipFill>
          <a:blip r:embed="rId1"/>
          <a:stretch/>
        </p:blipFill>
        <p:spPr>
          <a:xfrm>
            <a:off x="6907320" y="3500280"/>
            <a:ext cx="1574280" cy="292860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857160" y="2500200"/>
            <a:ext cx="77148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善良的行为有一种好处，就是使人的灵魂变得高尚了，并且使它可以做出更美好的行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卢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拓展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3" descr="4.jpg"/>
          <p:cNvPicPr/>
          <p:nvPr/>
        </p:nvPicPr>
        <p:blipFill>
          <a:blip r:embed="rId1"/>
          <a:stretch/>
        </p:blipFill>
        <p:spPr>
          <a:xfrm>
            <a:off x="7358040" y="642960"/>
            <a:ext cx="1053720" cy="111888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643040" y="2376360"/>
            <a:ext cx="6857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真诚才是人生最高的美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乔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857160" y="4000680"/>
            <a:ext cx="77148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这节课就让我们一起学习真诚的魅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6" descr="教师3.jpg"/>
          <p:cNvPicPr/>
          <p:nvPr/>
        </p:nvPicPr>
        <p:blipFill>
          <a:blip r:embed="rId1"/>
          <a:stretch/>
        </p:blipFill>
        <p:spPr>
          <a:xfrm>
            <a:off x="4214880" y="5072040"/>
            <a:ext cx="1285560" cy="15919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1"/>
          <p:cNvSpPr/>
          <p:nvPr/>
        </p:nvSpPr>
        <p:spPr>
          <a:xfrm>
            <a:off x="1763640" y="1341360"/>
            <a:ext cx="691164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2843280" y="86688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词语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7"/>
          <p:cNvSpPr/>
          <p:nvPr/>
        </p:nvSpPr>
        <p:spPr>
          <a:xfrm>
            <a:off x="1357200" y="2428920"/>
            <a:ext cx="71434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究竟：在本课中理解为“结果、原委”。它还有“到底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沁人心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原指吸入芳香气味、新鲜空气或喝了清凉饮料等时，感到舒适和愉快。也用来形容文艺作品的美好与感人所给与人的清新爽朗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8" descr="3.jpg"/>
          <p:cNvPicPr/>
          <p:nvPr/>
        </p:nvPicPr>
        <p:blipFill>
          <a:blip r:embed="rId1"/>
          <a:stretch/>
        </p:blipFill>
        <p:spPr>
          <a:xfrm>
            <a:off x="6572160" y="1055520"/>
            <a:ext cx="1698120" cy="5713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1285920" y="2357280"/>
            <a:ext cx="72147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小心翼翼：本是虔诚，庄严的意思，现在用来形容举动十分谨慎，丝毫不敢疏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尽管：在本文的意思是“只管”。它还是表转折关系的关联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词语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4" descr="3.jpg"/>
          <p:cNvPicPr/>
          <p:nvPr/>
        </p:nvPicPr>
        <p:blipFill>
          <a:blip r:embed="rId1"/>
          <a:stretch/>
        </p:blipFill>
        <p:spPr>
          <a:xfrm>
            <a:off x="6572160" y="857160"/>
            <a:ext cx="1698120" cy="5713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6"/>
          <p:cNvSpPr/>
          <p:nvPr/>
        </p:nvSpPr>
        <p:spPr>
          <a:xfrm>
            <a:off x="7292880" y="5467320"/>
            <a:ext cx="7329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71720" y="2359080"/>
            <a:ext cx="7429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信任”什么意思？课文主要写了谁信任谁？试找出相关的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36960" y="4143240"/>
            <a:ext cx="453528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桃园主人信任客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客人信任主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初读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000920" y="5000760"/>
            <a:ext cx="1317240" cy="12855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857160" y="2668680"/>
            <a:ext cx="7857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屋前有一张木桌，桌上搁着几只竹篮，篮下压着一张纸条，上面写着：‘朋友，欢迎您。每篮桃子五元钱，尽管自己采，然后把钱放在箱子里，祝您愉快！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2136960" y="1000080"/>
            <a:ext cx="1004040" cy="363960"/>
          </a:xfrm>
          <a:prstGeom prst="rect">
            <a:avLst/>
          </a:prstGeom>
          <a:solidFill>
            <a:srgbClr val="ffffff"/>
          </a:solidFill>
          <a:ln>
            <a:solidFill>
              <a:srgbClr val="8ab98a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主人信任客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1" descr="说一说.jpg"/>
          <p:cNvPicPr/>
          <p:nvPr/>
        </p:nvPicPr>
        <p:blipFill>
          <a:blip r:embed="rId1"/>
          <a:stretch/>
        </p:blipFill>
        <p:spPr>
          <a:xfrm>
            <a:off x="7715160" y="1143000"/>
            <a:ext cx="1002960" cy="112500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0"/>
          <p:cNvSpPr/>
          <p:nvPr/>
        </p:nvSpPr>
        <p:spPr>
          <a:xfrm>
            <a:off x="2136960" y="1000080"/>
            <a:ext cx="1004040" cy="363960"/>
          </a:xfrm>
          <a:prstGeom prst="rect">
            <a:avLst/>
          </a:prstGeom>
          <a:solidFill>
            <a:srgbClr val="ffffff"/>
          </a:solidFill>
          <a:ln>
            <a:solidFill>
              <a:srgbClr val="8ab98a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客人信任主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1" descr="说一说.jpg"/>
          <p:cNvPicPr/>
          <p:nvPr/>
        </p:nvPicPr>
        <p:blipFill>
          <a:blip r:embed="rId1"/>
          <a:stretch/>
        </p:blipFill>
        <p:spPr>
          <a:xfrm>
            <a:off x="7715160" y="1143000"/>
            <a:ext cx="1002960" cy="1125000"/>
          </a:xfrm>
          <a:prstGeom prst="rect">
            <a:avLst/>
          </a:prstGeom>
          <a:ln w="9525">
            <a:noFill/>
          </a:ln>
        </p:spPr>
      </p:pic>
      <p:sp>
        <p:nvSpPr>
          <p:cNvPr id="131" name="矩形 12"/>
          <p:cNvSpPr/>
          <p:nvPr/>
        </p:nvSpPr>
        <p:spPr>
          <a:xfrm>
            <a:off x="1000080" y="2459160"/>
            <a:ext cx="7429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从公路拐进去，不到一英里，路边出现了一块醒目的告示板，板上画着黄色的桃子，红色的箭头向右指……汽车往前又行驶了一会儿，一个红色的箭头又把我们带向野草茂盛的小路。总之，每当转个弯，眼看就要失去方向时，红色箭头又出现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6"/>
          <p:cNvSpPr/>
          <p:nvPr/>
        </p:nvSpPr>
        <p:spPr>
          <a:xfrm>
            <a:off x="3357720" y="642960"/>
            <a:ext cx="3142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课文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3205080" y="2548080"/>
            <a:ext cx="306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公路边的那块告示牌为什么会引起作者的兴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714240" y="3263760"/>
            <a:ext cx="76435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桃子——自采——三里路”这样一块告示板像是一篇文章的关键词，让人联想，新颖醒目，引起作者的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9" descr="24.jpg"/>
          <p:cNvPicPr/>
          <p:nvPr/>
        </p:nvPicPr>
        <p:blipFill>
          <a:blip r:embed="rId1"/>
          <a:stretch/>
        </p:blipFill>
        <p:spPr>
          <a:xfrm>
            <a:off x="6859440" y="571680"/>
            <a:ext cx="1212480" cy="119520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57240" y="1000080"/>
            <a:ext cx="633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请划出小狗招呼客人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48040" y="2357280"/>
            <a:ext cx="2580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等待到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886280" y="3000240"/>
            <a:ext cx="360" cy="576360"/>
          </a:xfrm>
          <a:prstGeom prst="line">
            <a:avLst/>
          </a:prstGeom>
          <a:ln w="76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886280" y="4209840"/>
            <a:ext cx="360" cy="576360"/>
          </a:xfrm>
          <a:prstGeom prst="line">
            <a:avLst/>
          </a:prstGeom>
          <a:ln w="76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4886280" y="5352840"/>
            <a:ext cx="360" cy="576360"/>
          </a:xfrm>
          <a:prstGeom prst="line">
            <a:avLst/>
          </a:prstGeom>
          <a:ln w="76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502160" y="35719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撒腿领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502160" y="47116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带回原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535640" y="5925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热情道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img.sj33.cn/uploads/allimg/201405/7-1405050S455591.png"/>
          <p:cNvPicPr/>
          <p:nvPr/>
        </p:nvPicPr>
        <p:blipFill>
          <a:blip r:embed="rId1"/>
          <a:stretch/>
        </p:blipFill>
        <p:spPr>
          <a:xfrm>
            <a:off x="6786720" y="4572000"/>
            <a:ext cx="1485720" cy="164268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Capsules 1">
      <a:dk1>
        <a:srgbClr val="003366"/>
      </a:dk1>
      <a:lt1>
        <a:srgbClr val="ffffff"/>
      </a:lt1>
      <a:dk2>
        <a:srgbClr val="006666"/>
      </a:dk2>
      <a:lt2>
        <a:srgbClr val="666699"/>
      </a:lt2>
      <a:accent1>
        <a:srgbClr val="33cccc"/>
      </a:accent1>
      <a:accent2>
        <a:srgbClr val="99cc99"/>
      </a:accent2>
      <a:accent3>
        <a:srgbClr val="ffffff"/>
      </a:accent3>
      <a:accent4>
        <a:srgbClr val="002a56"/>
      </a:accent4>
      <a:accent5>
        <a:srgbClr val="ade2e2"/>
      </a:accent5>
      <a:accent6>
        <a:srgbClr val="8ab98a"/>
      </a:accent6>
      <a:hlink>
        <a:srgbClr val="003366"/>
      </a:hlink>
      <a:folHlink>
        <a:srgbClr val="cc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Capsules 1">
      <a:dk1>
        <a:srgbClr val="003366"/>
      </a:dk1>
      <a:lt1>
        <a:srgbClr val="ffffff"/>
      </a:lt1>
      <a:dk2>
        <a:srgbClr val="006666"/>
      </a:dk2>
      <a:lt2>
        <a:srgbClr val="666699"/>
      </a:lt2>
      <a:accent1>
        <a:srgbClr val="33cccc"/>
      </a:accent1>
      <a:accent2>
        <a:srgbClr val="99cc99"/>
      </a:accent2>
      <a:accent3>
        <a:srgbClr val="ffffff"/>
      </a:accent3>
      <a:accent4>
        <a:srgbClr val="002a56"/>
      </a:accent4>
      <a:accent5>
        <a:srgbClr val="ade2e2"/>
      </a:accent5>
      <a:accent6>
        <a:srgbClr val="8ab98a"/>
      </a:accent6>
      <a:hlink>
        <a:srgbClr val="003366"/>
      </a:hlink>
      <a:folHlink>
        <a:srgbClr val="cc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6666"/>
      </a:dk2>
      <a:lt2>
        <a:srgbClr val="666699"/>
      </a:lt2>
      <a:accent1>
        <a:srgbClr val="33cccc"/>
      </a:accent1>
      <a:accent2>
        <a:srgbClr val="99cc99"/>
      </a:accent2>
      <a:accent3>
        <a:srgbClr val="ffffff"/>
      </a:accent3>
      <a:accent4>
        <a:srgbClr val="002a56"/>
      </a:accent4>
      <a:accent5>
        <a:srgbClr val="ade2e2"/>
      </a:accent5>
      <a:accent6>
        <a:srgbClr val="8ab98a"/>
      </a:accent6>
      <a:hlink>
        <a:srgbClr val="003366"/>
      </a:hlink>
      <a:folHlink>
        <a:srgbClr val="cc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termark</Template>
  <Manager>7C教育资源网www.7cxk.net</Manager>
  <TotalTime>311</TotalTime>
  <Application>LibreOffice/7.4.7.2$Linux_X86_64 LibreOffice_project/40$Build-2</Application>
  <AppVersion>15.0000</AppVersion>
  <Words>1040</Words>
  <Paragraphs>87</Paragraphs>
  <Company>7C教育资源网www.7cxk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2-01-17T22:18:48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0:47:43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8</vt:r8>
  </property>
</Properties>
</file>