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F97C25-353E-403E-BE28-50E7B0F17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2519C6-0C26-48F8-959A-15B0DC8BF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734-4FB7-4357-9F6B-6E4FBDE3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F05-6DC2-4F8B-9B58-2926065D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3DC-022F-49D1-B161-7B36415A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0B7-6EB0-49EE-9527-5C2AE26E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86CE-50F5-40C9-B094-DC4840BA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03AE-CB1E-4CC6-9443-433D95F3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035D-F3E9-474A-B2F3-E0CC8568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4529-1CE7-451E-89AD-E143C383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4CD7-F474-43DB-950C-69E023FB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E279-6866-4DF4-9E85-B89B1C24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593D-B2AF-40F4-90F2-3B8F043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4A9-C997-4D6A-91A9-8E8A0F23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C582-BBF4-4879-AC8A-8B6D559A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4797-5497-4C52-B727-1337BBF0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1BF1-C433-4B5E-90A2-0DE65709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7A74-9199-4DA8-8E75-C2721283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E5FB-AE84-45E9-B4C8-507FD8EB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DDF-0271-4FBE-8BF9-00A4CDEF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94F-5CD9-43C9-A0B4-70946D6F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65D-A112-44E5-A1C3-2707C67F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042-6CEC-4489-9C46-BDADBF3F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6E8-3D02-40C2-9F97-FF66E154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905-3BB1-4D45-8260-3CBC206C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AB3-8F4E-46F2-8905-851E372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840ECE-F4F8-4DD4-AB16-6236C3CC44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3B514D-647D-449E-9601-C19612ED6A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图片1"/>
          <p:cNvPicPr/>
          <p:nvPr/>
        </p:nvPicPr>
        <p:blipFill>
          <a:blip r:embed="rId1"/>
          <a:srcRect l="716" t="0" r="0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9" name="Text Box 3"/>
          <p:cNvSpPr/>
          <p:nvPr/>
        </p:nvSpPr>
        <p:spPr>
          <a:xfrm>
            <a:off x="1835280" y="1609560"/>
            <a:ext cx="504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信 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2749680" y="587700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795120" y="746280"/>
            <a:ext cx="155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冀教版三年级语文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619280" y="1773360"/>
            <a:ext cx="568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从这张纸条中感受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63640" y="2565360"/>
            <a:ext cx="6911640" cy="249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把“我们”当作朋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让“我们”自己采桃子自己付钱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．信任“我们”。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让客人自己采桃子自己付钱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细读感悟"/>
          <p:cNvPicPr/>
          <p:nvPr/>
        </p:nvPicPr>
        <p:blipFill>
          <a:blip r:embed="rId2"/>
          <a:stretch/>
        </p:blipFill>
        <p:spPr>
          <a:xfrm>
            <a:off x="755640" y="692280"/>
            <a:ext cx="2808000" cy="833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"/>
          <p:cNvPicPr/>
          <p:nvPr/>
        </p:nvPicPr>
        <p:blipFill>
          <a:blip r:embed="rId1"/>
          <a:stretch/>
        </p:blipFill>
        <p:spPr>
          <a:xfrm>
            <a:off x="0" y="3630600"/>
            <a:ext cx="4571640" cy="3227040"/>
          </a:xfrm>
          <a:prstGeom prst="rect">
            <a:avLst/>
          </a:prstGeom>
          <a:ln w="9525">
            <a:noFill/>
          </a:ln>
        </p:spPr>
      </p:pic>
      <p:pic>
        <p:nvPicPr>
          <p:cNvPr id="134" name="Picture 3" descr="桃树1"/>
          <p:cNvPicPr/>
          <p:nvPr/>
        </p:nvPicPr>
        <p:blipFill>
          <a:blip r:embed="rId2"/>
          <a:stretch/>
        </p:blipFill>
        <p:spPr>
          <a:xfrm>
            <a:off x="4572000" y="3614760"/>
            <a:ext cx="4571640" cy="324288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4" descr="桃树2"/>
          <p:cNvPicPr/>
          <p:nvPr/>
        </p:nvPicPr>
        <p:blipFill>
          <a:blip r:embed="rId3"/>
          <a:stretch/>
        </p:blipFill>
        <p:spPr>
          <a:xfrm>
            <a:off x="0" y="0"/>
            <a:ext cx="4571640" cy="3644640"/>
          </a:xfrm>
          <a:prstGeom prst="rect">
            <a:avLst/>
          </a:prstGeom>
          <a:ln w="9525">
            <a:noFill/>
          </a:ln>
        </p:spPr>
      </p:pic>
      <p:pic>
        <p:nvPicPr>
          <p:cNvPr id="136" name="Picture 5" descr="桃树3"/>
          <p:cNvPicPr/>
          <p:nvPr/>
        </p:nvPicPr>
        <p:blipFill>
          <a:blip r:embed="rId4"/>
          <a:stretch/>
        </p:blipFill>
        <p:spPr>
          <a:xfrm>
            <a:off x="4572000" y="0"/>
            <a:ext cx="4571640" cy="364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38" name="Text Box 2"/>
          <p:cNvSpPr/>
          <p:nvPr/>
        </p:nvSpPr>
        <p:spPr>
          <a:xfrm>
            <a:off x="684360" y="907920"/>
            <a:ext cx="7703640" cy="1593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钻进果林，根深叶茂的果树上结满了丰实的果子，一股沁人心脾的香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沉浸在亲手采摘果实的欢愉中，不一会，两只大篮子装满了又香又甜的大桃子。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此你体会到这是一位怎样的主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细读感悟"/>
          <p:cNvPicPr/>
          <p:nvPr/>
        </p:nvPicPr>
        <p:blipFill>
          <a:blip r:embed="rId2"/>
          <a:stretch/>
        </p:blipFill>
        <p:spPr>
          <a:xfrm>
            <a:off x="0" y="0"/>
            <a:ext cx="2033280" cy="544320"/>
          </a:xfrm>
          <a:prstGeom prst="rect">
            <a:avLst/>
          </a:prstGeom>
          <a:ln w="9525">
            <a:noFill/>
          </a:ln>
        </p:spPr>
      </p:pic>
      <p:sp>
        <p:nvSpPr>
          <p:cNvPr id="140" name="Text Box 5"/>
          <p:cNvSpPr/>
          <p:nvPr/>
        </p:nvSpPr>
        <p:spPr>
          <a:xfrm>
            <a:off x="826920" y="4745160"/>
            <a:ext cx="777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主人把果园护理得很好，付出了很多劳动，很勤劳、朴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332000" y="5589720"/>
            <a:ext cx="183960" cy="57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3200" spc="-1" strike="noStrike">
              <a:solidFill>
                <a:srgbClr val="ff0000"/>
              </a:solidFill>
              <a:latin typeface="Arial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23"/>
                                    </p:cond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哪里还能感受到桃园主人对我们的信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细读感悟"/>
          <p:cNvPicPr/>
          <p:nvPr/>
        </p:nvPicPr>
        <p:blipFill>
          <a:blip r:embed="rId2"/>
          <a:stretch/>
        </p:blipFill>
        <p:spPr>
          <a:xfrm>
            <a:off x="2898720" y="398520"/>
            <a:ext cx="3346200" cy="894960"/>
          </a:xfrm>
          <a:prstGeom prst="rect">
            <a:avLst/>
          </a:prstGeom>
          <a:ln w="9525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908000" y="2852640"/>
            <a:ext cx="304452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116000" y="2637000"/>
            <a:ext cx="720072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把桃子小心翼翼地装进汽车，然后掏出钱放在箱子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这句话中你体会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48" name="Text Box 3"/>
          <p:cNvSpPr/>
          <p:nvPr/>
        </p:nvSpPr>
        <p:spPr>
          <a:xfrm>
            <a:off x="971640" y="2276640"/>
            <a:ext cx="7416360" cy="98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”一到桃园就感受到了主人对“我们”的信任，偌大一个果园不见主人踪影，是热情好客的小狗代替主人招呼客人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体会到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细读感悟"/>
          <p:cNvPicPr/>
          <p:nvPr/>
        </p:nvPicPr>
        <p:blipFill>
          <a:blip r:embed="rId2"/>
          <a:stretch/>
        </p:blipFill>
        <p:spPr>
          <a:xfrm>
            <a:off x="755640" y="907920"/>
            <a:ext cx="2520720" cy="864720"/>
          </a:xfrm>
          <a:prstGeom prst="rect">
            <a:avLst/>
          </a:prstGeom>
          <a:ln w="9525">
            <a:noFill/>
          </a:ln>
        </p:spPr>
      </p:pic>
      <p:sp>
        <p:nvSpPr>
          <p:cNvPr id="150" name="Text Box 5"/>
          <p:cNvSpPr/>
          <p:nvPr/>
        </p:nvSpPr>
        <p:spPr>
          <a:xfrm>
            <a:off x="2195640" y="5084640"/>
            <a:ext cx="3528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狗热情好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52" name="Text Box 3"/>
          <p:cNvSpPr/>
          <p:nvPr/>
        </p:nvSpPr>
        <p:spPr>
          <a:xfrm>
            <a:off x="755640" y="1700280"/>
            <a:ext cx="820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找出小狗招呼客人的句子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小男孩1"/>
          <p:cNvPicPr/>
          <p:nvPr/>
        </p:nvPicPr>
        <p:blipFill>
          <a:blip r:embed="rId2"/>
          <a:stretch/>
        </p:blipFill>
        <p:spPr>
          <a:xfrm>
            <a:off x="611280" y="2781360"/>
            <a:ext cx="1352160" cy="301572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5" descr="细读感悟"/>
          <p:cNvPicPr/>
          <p:nvPr/>
        </p:nvPicPr>
        <p:blipFill>
          <a:blip r:embed="rId3"/>
          <a:stretch/>
        </p:blipFill>
        <p:spPr>
          <a:xfrm>
            <a:off x="755640" y="620640"/>
            <a:ext cx="2592000" cy="904680"/>
          </a:xfrm>
          <a:prstGeom prst="rect">
            <a:avLst/>
          </a:prstGeom>
          <a:ln w="9525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419640" y="2708280"/>
            <a:ext cx="5724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待到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4211280" y="3284280"/>
            <a:ext cx="360" cy="576360"/>
          </a:xfrm>
          <a:prstGeom prst="line">
            <a:avLst/>
          </a:prstGeom>
          <a:ln w="762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4211280" y="4292280"/>
            <a:ext cx="360" cy="576360"/>
          </a:xfrm>
          <a:prstGeom prst="line">
            <a:avLst/>
          </a:prstGeom>
          <a:ln w="762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4211280" y="5373360"/>
            <a:ext cx="360" cy="576360"/>
          </a:xfrm>
          <a:prstGeom prst="line">
            <a:avLst/>
          </a:prstGeom>
          <a:ln w="762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419640" y="3789360"/>
            <a:ext cx="2160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撒腿领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492360" y="4797360"/>
            <a:ext cx="2087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带回原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492360" y="5911920"/>
            <a:ext cx="2087280" cy="79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热情道别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258920" y="1700280"/>
            <a:ext cx="7056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桃园里只有小动物在代替主人招呼客人而忙碌，这是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150920" y="3483000"/>
            <a:ext cx="7561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现主人充分相信每一位客人，这种“此时无声胜有声”的举动让人感到喜悦、充满温暖、感到和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细读感悟"/>
          <p:cNvPicPr/>
          <p:nvPr/>
        </p:nvPicPr>
        <p:blipFill>
          <a:blip r:embed="rId2"/>
          <a:stretch/>
        </p:blipFill>
        <p:spPr>
          <a:xfrm>
            <a:off x="755640" y="692280"/>
            <a:ext cx="2736360" cy="833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67" name="Text Box 3"/>
          <p:cNvSpPr/>
          <p:nvPr/>
        </p:nvSpPr>
        <p:spPr>
          <a:xfrm>
            <a:off x="611280" y="836640"/>
            <a:ext cx="7848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那儿，我们得到的是人与人之间的信任和被信任的喜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11280" y="3429000"/>
            <a:ext cx="7416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信任与被信任让人们感到被尊重、被认可，传递友好，能使人们感到温暖、喜悦，这一切都基于“真诚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图片1"/>
          <p:cNvPicPr/>
          <p:nvPr/>
        </p:nvPicPr>
        <p:blipFill>
          <a:blip r:embed="rId1"/>
          <a:stretch/>
        </p:blipFill>
        <p:spPr>
          <a:xfrm>
            <a:off x="0" y="648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70" name="Text Box 3"/>
          <p:cNvSpPr/>
          <p:nvPr/>
        </p:nvSpPr>
        <p:spPr>
          <a:xfrm>
            <a:off x="755640" y="1628640"/>
            <a:ext cx="795636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”为什么禁不住回过头去，久久地注视着那片果林？这时，“我”心里会想些什么？请你根据提示，联系课文内容展开想象。</a:t>
            </a:r>
            <a:br>
              <a:rPr sz="1800"/>
            </a:br>
            <a:br>
              <a:rPr sz="3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11280" y="4292640"/>
            <a:ext cx="8353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禁不住回过头去，久久地注视着那片果林，想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细读感悟"/>
          <p:cNvPicPr/>
          <p:nvPr/>
        </p:nvPicPr>
        <p:blipFill>
          <a:blip r:embed="rId2"/>
          <a:stretch/>
        </p:blipFill>
        <p:spPr>
          <a:xfrm>
            <a:off x="755640" y="620640"/>
            <a:ext cx="2303280" cy="904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74" name="Text Box 3"/>
          <p:cNvSpPr/>
          <p:nvPr/>
        </p:nvSpPr>
        <p:spPr>
          <a:xfrm>
            <a:off x="468360" y="1844640"/>
            <a:ext cx="8351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信任是对人的一种尊重，它是相互的。信任更是建立在诚信的基础上，只有大家都真诚相待，都信守诚信原则，才能体验到信任与被信任的喜悦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971640" y="765000"/>
            <a:ext cx="201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93" name="Text Box 3"/>
          <p:cNvSpPr/>
          <p:nvPr/>
        </p:nvSpPr>
        <p:spPr>
          <a:xfrm>
            <a:off x="539640" y="1628640"/>
            <a:ext cx="7956360" cy="98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了解“沁人心脾、根深叶茂、朴实 、纯洁”等词语的意思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受人与人之间相互信任所创造出的和谐境界。体会侧面描写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结合课文有关内容理解课文最后一句话的含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11280" y="549360"/>
            <a:ext cx="2952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77" name="Text Box 2"/>
          <p:cNvSpPr/>
          <p:nvPr/>
        </p:nvSpPr>
        <p:spPr>
          <a:xfrm>
            <a:off x="468360" y="1413000"/>
            <a:ext cx="8206920" cy="714600"/>
          </a:xfrm>
          <a:prstGeom prst="rect">
            <a:avLst/>
          </a:prstGeom>
          <a:noFill/>
          <a:ln w="762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被别人信任是一种幸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信赖，往往创造出美好的境界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思考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路边的告示是引导旅行者的线索，也是全文的线索，它把人们引向什么样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答：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从情节上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从实质上看，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547640" y="3141720"/>
            <a:ext cx="6840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个告示把人们引向果园，让人们自己动手采摘丰富的果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692360" y="4797360"/>
            <a:ext cx="712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它把人们引向了互相信任的崇高境界，在那里人们“得到的是人与人之间的信任和被信任的喜悦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538920" cy="6851160"/>
          </a:xfrm>
          <a:prstGeom prst="rect">
            <a:avLst/>
          </a:prstGeom>
          <a:ln w="9525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思考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课文中桃园主人没有出现，却写了狗和猫，你对此有什么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桃园主人给你留下什么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979640" y="2708280"/>
            <a:ext cx="626400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样写从侧面烘托了主人的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476360" y="3933720"/>
            <a:ext cx="3382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人真诚      友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476360" y="4508640"/>
            <a:ext cx="467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朴实     勤劳     细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403280" y="5084640"/>
            <a:ext cx="7200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热情好客  乐于与别人分享劳动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91" name="Text Box 3"/>
          <p:cNvSpPr/>
          <p:nvPr/>
        </p:nvSpPr>
        <p:spPr>
          <a:xfrm>
            <a:off x="2195640" y="2349360"/>
            <a:ext cx="633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    如果“我”和姐姐回到家，会怎样告诉家人由信任带来的有趣的摘桃经历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拓展学习"/>
          <p:cNvPicPr/>
          <p:nvPr/>
        </p:nvPicPr>
        <p:blipFill>
          <a:blip r:embed="rId2"/>
          <a:stretch/>
        </p:blipFill>
        <p:spPr>
          <a:xfrm>
            <a:off x="684360" y="907920"/>
            <a:ext cx="2734920" cy="837720"/>
          </a:xfrm>
          <a:prstGeom prst="rect">
            <a:avLst/>
          </a:prstGeom>
          <a:ln w="9525">
            <a:noFill/>
          </a:ln>
        </p:spPr>
      </p:pic>
      <p:pic>
        <p:nvPicPr>
          <p:cNvPr id="193" name="Picture 5" descr="小女孩"/>
          <p:cNvPicPr/>
          <p:nvPr/>
        </p:nvPicPr>
        <p:blipFill>
          <a:blip r:embed="rId3"/>
          <a:stretch/>
        </p:blipFill>
        <p:spPr>
          <a:xfrm>
            <a:off x="539640" y="2708280"/>
            <a:ext cx="1966680" cy="3279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96" name="Text Box 3"/>
          <p:cNvSpPr/>
          <p:nvPr/>
        </p:nvSpPr>
        <p:spPr>
          <a:xfrm>
            <a:off x="611280" y="2205000"/>
            <a:ext cx="813708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沁人心脾      纯洁     沉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深叶茂     小心翼翼   好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热情好客       朴实    喜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125360"/>
            <a:ext cx="2952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会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99" name="Text Box 3"/>
          <p:cNvSpPr/>
          <p:nvPr/>
        </p:nvSpPr>
        <p:spPr>
          <a:xfrm>
            <a:off x="3348000" y="1628640"/>
            <a:ext cx="5400360" cy="121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信任”什么意思？课文主要写了谁信任谁？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小女孩"/>
          <p:cNvPicPr/>
          <p:nvPr/>
        </p:nvPicPr>
        <p:blipFill>
          <a:blip r:embed="rId2"/>
          <a:stretch/>
        </p:blipFill>
        <p:spPr>
          <a:xfrm>
            <a:off x="1403280" y="2637000"/>
            <a:ext cx="1966680" cy="327924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5" descr="初读感知"/>
          <p:cNvPicPr/>
          <p:nvPr/>
        </p:nvPicPr>
        <p:blipFill>
          <a:blip r:embed="rId3"/>
          <a:stretch/>
        </p:blipFill>
        <p:spPr>
          <a:xfrm>
            <a:off x="755640" y="765000"/>
            <a:ext cx="2736360" cy="863280"/>
          </a:xfrm>
          <a:prstGeom prst="rect">
            <a:avLst/>
          </a:prstGeom>
          <a:ln w="9525">
            <a:noFill/>
          </a:ln>
        </p:spPr>
      </p:pic>
      <p:sp>
        <p:nvSpPr>
          <p:cNvPr id="102" name="Text Box 6"/>
          <p:cNvSpPr/>
          <p:nvPr/>
        </p:nvSpPr>
        <p:spPr>
          <a:xfrm>
            <a:off x="3851280" y="3429000"/>
            <a:ext cx="4750920" cy="14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信任：相信而敢于托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桃园主人信任客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客人信任主人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双方互相信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9"/>
          <p:cNvSpPr/>
          <p:nvPr/>
        </p:nvSpPr>
        <p:spPr>
          <a:xfrm>
            <a:off x="1692360" y="281952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05" name="Text Box 2"/>
          <p:cNvSpPr/>
          <p:nvPr/>
        </p:nvSpPr>
        <p:spPr>
          <a:xfrm>
            <a:off x="3419640" y="1628640"/>
            <a:ext cx="467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篇课文主要讲了一件什么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小女孩"/>
          <p:cNvPicPr/>
          <p:nvPr/>
        </p:nvPicPr>
        <p:blipFill>
          <a:blip r:embed="rId2"/>
          <a:stretch/>
        </p:blipFill>
        <p:spPr>
          <a:xfrm>
            <a:off x="1258920" y="2421000"/>
            <a:ext cx="1966680" cy="3279240"/>
          </a:xfrm>
          <a:prstGeom prst="rect">
            <a:avLst/>
          </a:prstGeom>
          <a:ln w="9525">
            <a:noFill/>
          </a:ln>
        </p:spPr>
      </p:pic>
      <p:pic>
        <p:nvPicPr>
          <p:cNvPr id="107" name="Picture 4" descr="初读感知"/>
          <p:cNvPicPr/>
          <p:nvPr/>
        </p:nvPicPr>
        <p:blipFill>
          <a:blip r:embed="rId3"/>
          <a:stretch/>
        </p:blipFill>
        <p:spPr>
          <a:xfrm>
            <a:off x="755640" y="1125360"/>
            <a:ext cx="2079360" cy="502920"/>
          </a:xfrm>
          <a:prstGeom prst="rect">
            <a:avLst/>
          </a:prstGeom>
          <a:ln w="9525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564000" y="3068640"/>
            <a:ext cx="496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写了“我”和先生在一块有趣的告示的指引下来到一片无人看管的桃树林，自己摘桃子，感到十分欢愉，并自觉付钱的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次采摘桃子，作者最深的感受是什么？默读课文，画出文章的中心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2060640"/>
            <a:ext cx="8229240" cy="1612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仔细读课文，找出文中哪些地方写出来人与人之间的信任和被信任？画出有关的语句，谈谈自己的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细读感悟"/>
          <p:cNvPicPr/>
          <p:nvPr/>
        </p:nvPicPr>
        <p:blipFill>
          <a:blip r:embed="rId2"/>
          <a:stretch/>
        </p:blipFill>
        <p:spPr>
          <a:xfrm>
            <a:off x="2556000" y="836640"/>
            <a:ext cx="3346200" cy="894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2124000" y="549360"/>
            <a:ext cx="5184360" cy="2231640"/>
          </a:xfrm>
          <a:prstGeom prst="rect">
            <a:avLst/>
          </a:prstGeom>
          <a:solidFill>
            <a:srgbClr val="ffff00"/>
          </a:solidFill>
          <a:ln w="9525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桃子——自采——三里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 flipH="1">
            <a:off x="3058560" y="2781360"/>
            <a:ext cx="69480" cy="1296720"/>
          </a:xfrm>
          <a:prstGeom prst="rect">
            <a:avLst/>
          </a:prstGeom>
          <a:solidFill>
            <a:schemeClr val="accent1"/>
          </a:solidFill>
          <a:ln w="76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7" name="Rectangle 4"/>
          <p:cNvSpPr/>
          <p:nvPr/>
        </p:nvSpPr>
        <p:spPr>
          <a:xfrm flipH="1">
            <a:off x="6011280" y="2852640"/>
            <a:ext cx="69480" cy="1296720"/>
          </a:xfrm>
          <a:prstGeom prst="rect">
            <a:avLst/>
          </a:prstGeom>
          <a:solidFill>
            <a:srgbClr val="ffff00"/>
          </a:solidFill>
          <a:ln w="762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00"/>
              </a:solidFill>
              <a:latin typeface="Arial"/>
              <a:ea typeface="宋体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26920" y="4869000"/>
            <a:ext cx="7776720" cy="64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endParaRPr b="1" lang="en-US" sz="3600" spc="-1" strike="noStrike">
              <a:solidFill>
                <a:srgbClr val="0066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3640" cy="6851160"/>
          </a:xfrm>
          <a:prstGeom prst="rect">
            <a:avLst/>
          </a:prstGeom>
          <a:ln w="9525">
            <a:noFill/>
          </a:ln>
        </p:spPr>
      </p:pic>
      <p:pic>
        <p:nvPicPr>
          <p:cNvPr id="120" name="Picture 3" descr="细读感悟"/>
          <p:cNvPicPr/>
          <p:nvPr/>
        </p:nvPicPr>
        <p:blipFill>
          <a:blip r:embed="rId2"/>
          <a:stretch/>
        </p:blipFill>
        <p:spPr>
          <a:xfrm>
            <a:off x="755640" y="620640"/>
            <a:ext cx="2879280" cy="904680"/>
          </a:xfrm>
          <a:prstGeom prst="rect">
            <a:avLst/>
          </a:prstGeom>
          <a:ln w="9525">
            <a:noFill/>
          </a:ln>
        </p:spPr>
      </p:pic>
      <p:sp>
        <p:nvSpPr>
          <p:cNvPr id="121" name="AutoShape 4"/>
          <p:cNvSpPr/>
          <p:nvPr/>
        </p:nvSpPr>
        <p:spPr>
          <a:xfrm>
            <a:off x="539640" y="1700280"/>
            <a:ext cx="7921440" cy="3817440"/>
          </a:xfrm>
          <a:prstGeom prst="verticalScroll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042920" y="2421000"/>
            <a:ext cx="6768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屋前有一张木桌，桌子上面（         ）一个小木箱，另一边（        ）几只竹篮，篮下（           ）一张纸条，上面（       ）：“朋友，欢迎您。每篮桃子五元钱，（        ）自己采，然后把钱（   放在    ）箱子里。祝您愉快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372360" y="2492280"/>
            <a:ext cx="129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放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0" y="2852640"/>
            <a:ext cx="10792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搁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340000" y="3357720"/>
            <a:ext cx="14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压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258920" y="4221000"/>
            <a:ext cx="1439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尽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6443640" y="3357720"/>
            <a:ext cx="1296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5796000" y="4221000"/>
            <a:ext cx="108072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>7C教育资源网www.7cxk.net</Manager>
  <TotalTime>208</TotalTime>
  <Application>LibreOffice/7.4.7.2$Linux_X86_64 LibreOffice_project/40$Build-2</Application>
  <AppVersion>15.0000</AppVersion>
  <Words>1199</Words>
  <Paragraphs>112</Paragraphs>
  <Company>7C教育资源网www.7cxk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10-03-31T02:46:25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dcterms:modified xsi:type="dcterms:W3CDTF">2021-07-29T10:47:46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24</vt:r8>
  </property>
</Properties>
</file>