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1E8-5EE4-4816-95A7-7C724CEA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6E2-6954-4B5B-94EA-AF13BF24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0BC-79AC-4B78-B451-A1E7BE50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A68-E698-4A1B-8BC0-1133977B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AE81-4ADA-46EE-88EA-62052C3E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AB52-3778-4AD3-8DE3-34A44EDD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C1EB-8B66-485F-8E20-A540B78B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4F1E-F09F-4E73-834F-8215949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5F2E-FD5B-4112-88B2-B6D7E048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6B97-199D-47D5-8851-5C9EB4FD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F87E-1413-49A0-B422-49BCAB13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CB0-01DA-4FFB-BD93-AED375C1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6F91-2C29-4B58-AC8C-54DAB4DD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F865-7FFE-4BC9-94D5-78A41084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B57F-0461-44CA-91E1-C7530FF4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C287-A00D-464C-A922-A6F3821F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0E53-C47F-4FB2-9984-9E802C4D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DE69D-1DC9-45E8-930A-A7EBBFE2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79E4-05B6-4819-BA29-EE0B2986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9D816-3285-46DB-A210-5CD75BD7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1254-ECCF-4FAC-B0EE-CAEB8157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0DB9-8728-48BB-9A72-FA3C0B4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CA8-8B5D-462A-9B81-2A08179D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9E74-D8B4-41E6-810F-904F5BF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0370-9FD8-45CB-8DFB-0BC76ED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EEDD-B93B-42B3-B328-EB5359C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458A-5418-46B8-AEEC-4AFA6941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C213-85F0-43E4-9648-67468A02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3268-6EFD-4008-8AE6-0CCC90CA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7C70-572C-44D8-972F-78D5D650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5CF0-3800-4A5C-8C10-38227841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D67A-F201-4A01-9C82-DD54C05B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7AB5-FB42-4311-8C80-555008F0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FF8-4069-42D9-A39F-BAA3CC9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9D6D-6374-4A84-BFF8-57721152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8115A-C195-47AA-A62D-A592BF08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6FB5-3BC7-4D0A-8C61-232660A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5453-6903-487B-B3B5-EED8E65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AEE3F-16FC-4446-B548-5D725E4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9461-8212-4E53-9ABF-E333205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6970-71B8-469B-BAE2-767C354C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AC5B-D99E-4028-866B-3F67DAB0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E7D2-5B51-456F-B094-05D4CBEB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1B0-02F6-4700-AEFC-B821B928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985-A578-4717-94FE-6DC411C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6FA-13CB-4789-80DA-2DE1545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968-DE6D-49DF-BC6E-9CAA63A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8A1-16A8-490F-969D-C8588098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88E809-38F5-4B36-BBF0-2ED07D50D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0EC6F-F075-44C1-955E-B54C31F5C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BF5285-6D13-4CC4-A6A4-C4A8E09B8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C472E6-E3A0-486F-B8B1-177D01B0A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audio" Target="file:///H:/1.2&#23567;&#20070;&#26550;/The%20Sounds%20Of%20Silence.mp3" TargetMode="External"/><Relationship Id="rId4" Type="http://schemas.microsoft.com/office/2007/relationships/media" Target="file:///H:/1.2&#23567;&#20070;&#26550;/The%20Sounds%20Of%20Silence.mp3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E:/&#35838;&#20214;/&#23567;&#20070;&#26550;2/&#12298;&#23567;&#20070;&#26550;&#12299;&#26391;&#35835;.wav" TargetMode="External"/><Relationship Id="rId3" Type="http://schemas.microsoft.com/office/2007/relationships/media" Target="file:///E:/&#35838;&#20214;/&#23567;&#20070;&#26550;2/&#12298;&#23567;&#20070;&#26550;&#12299;&#26391;&#35835;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《小书架》插图"/>
          <p:cNvPicPr/>
          <p:nvPr/>
        </p:nvPicPr>
        <p:blipFill>
          <a:blip r:embed="rId1"/>
          <a:stretch/>
        </p:blipFill>
        <p:spPr>
          <a:xfrm>
            <a:off x="0" y="0"/>
            <a:ext cx="5724000" cy="6857640"/>
          </a:xfrm>
          <a:prstGeom prst="rect">
            <a:avLst/>
          </a:prstGeom>
          <a:ln w="9525">
            <a:noFill/>
          </a:ln>
        </p:spPr>
      </p:pic>
      <p:sp>
        <p:nvSpPr>
          <p:cNvPr id="165" name="Text Box 3"/>
          <p:cNvSpPr/>
          <p:nvPr/>
        </p:nvSpPr>
        <p:spPr>
          <a:xfrm>
            <a:off x="6516720" y="436680"/>
            <a:ext cx="1953720" cy="48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书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3273120" y="6039000"/>
            <a:ext cx="44838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特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DUOT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195640" y="907920"/>
            <a:ext cx="4392360" cy="356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小书架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摆在我的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层爸爸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间给妈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面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天放学要看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557440" y="189000"/>
            <a:ext cx="3200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书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4572000" y="2349360"/>
            <a:ext cx="288720" cy="360"/>
          </a:xfrm>
          <a:prstGeom prst="line">
            <a:avLst/>
          </a:prstGeom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5435280" y="6453000"/>
            <a:ext cx="289080" cy="360"/>
          </a:xfrm>
          <a:prstGeom prst="line">
            <a:avLst/>
          </a:prstGeom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4572000" y="4005000"/>
            <a:ext cx="287280" cy="360"/>
          </a:xfrm>
          <a:prstGeom prst="line">
            <a:avLst/>
          </a:prstGeom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899600" y="1989000"/>
            <a:ext cx="418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899600" y="3645000"/>
            <a:ext cx="418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5691960" y="6093000"/>
            <a:ext cx="418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《小书架》插图"/>
          <p:cNvPicPr/>
          <p:nvPr/>
        </p:nvPicPr>
        <p:blipFill>
          <a:blip r:embed="rId1"/>
          <a:stretch/>
        </p:blipFill>
        <p:spPr>
          <a:xfrm>
            <a:off x="2050920" y="0"/>
            <a:ext cx="6551280" cy="6857640"/>
          </a:xfrm>
          <a:prstGeom prst="rect">
            <a:avLst/>
          </a:prstGeom>
          <a:ln w="9525">
            <a:noFill/>
          </a:ln>
        </p:spPr>
      </p:pic>
      <p:sp>
        <p:nvSpPr>
          <p:cNvPr id="253" name="Text Box 3"/>
          <p:cNvSpPr/>
          <p:nvPr/>
        </p:nvSpPr>
        <p:spPr>
          <a:xfrm>
            <a:off x="4284720" y="4869000"/>
            <a:ext cx="28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书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134360" y="981000"/>
            <a:ext cx="546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34360" y="2276640"/>
            <a:ext cx="546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134360" y="3429000"/>
            <a:ext cx="546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3059280" y="963720"/>
            <a:ext cx="4392360" cy="356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小书架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摆在我的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层爸爸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间给妈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面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天放学要看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987640" y="55440"/>
            <a:ext cx="3200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书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3132000" y="6524280"/>
            <a:ext cx="3457440" cy="360"/>
          </a:xfrm>
          <a:prstGeom prst="line">
            <a:avLst/>
          </a:prstGeom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1763640" y="765000"/>
            <a:ext cx="866520" cy="5176800"/>
            <a:chOff x="1763640" y="765000"/>
            <a:chExt cx="866520" cy="5176800"/>
          </a:xfrm>
        </p:grpSpPr>
        <p:sp>
          <p:nvSpPr>
            <p:cNvPr id="261" name="Text Box 3"/>
            <p:cNvSpPr/>
            <p:nvPr/>
          </p:nvSpPr>
          <p:spPr>
            <a:xfrm>
              <a:off x="1763640" y="765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>
              <a:off x="1763640" y="1596960"/>
              <a:ext cx="72036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1763640" y="24606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1763640" y="328464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65" name="Rectangle 7"/>
            <p:cNvSpPr/>
            <p:nvPr/>
          </p:nvSpPr>
          <p:spPr>
            <a:xfrm>
              <a:off x="1763640" y="4221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66" name="Rectangle 8"/>
            <p:cNvSpPr/>
            <p:nvPr/>
          </p:nvSpPr>
          <p:spPr>
            <a:xfrm>
              <a:off x="1836720" y="511812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</p:grpSp>
      <p:pic>
        <p:nvPicPr>
          <p:cNvPr id="267" name="Picture 9" descr="王"/>
          <p:cNvPicPr/>
          <p:nvPr/>
        </p:nvPicPr>
        <p:blipFill>
          <a:blip r:embed="rId2"/>
          <a:stretch/>
        </p:blipFill>
        <p:spPr>
          <a:xfrm>
            <a:off x="324000" y="189000"/>
            <a:ext cx="8353080" cy="6552720"/>
          </a:xfrm>
          <a:prstGeom prst="rect">
            <a:avLst/>
          </a:prstGeom>
          <a:ln w="9525">
            <a:noFill/>
          </a:ln>
        </p:spPr>
      </p:pic>
      <p:pic>
        <p:nvPicPr>
          <p:cNvPr id="2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236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763640" y="765000"/>
            <a:ext cx="866520" cy="5176800"/>
            <a:chOff x="1763640" y="765000"/>
            <a:chExt cx="866520" cy="5176800"/>
          </a:xfrm>
        </p:grpSpPr>
        <p:sp>
          <p:nvSpPr>
            <p:cNvPr id="270" name="Text Box 3"/>
            <p:cNvSpPr/>
            <p:nvPr/>
          </p:nvSpPr>
          <p:spPr>
            <a:xfrm>
              <a:off x="1763640" y="765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71" name="Rectangle 4"/>
            <p:cNvSpPr/>
            <p:nvPr/>
          </p:nvSpPr>
          <p:spPr>
            <a:xfrm>
              <a:off x="1763640" y="1596960"/>
              <a:ext cx="72036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1763640" y="24606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1763640" y="328464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1763640" y="4221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1836720" y="511812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</p:grpSp>
      <p:pic>
        <p:nvPicPr>
          <p:cNvPr id="276" name="Picture 9" descr="白舒文的小书架"/>
          <p:cNvPicPr/>
          <p:nvPr/>
        </p:nvPicPr>
        <p:blipFill>
          <a:blip r:embed="rId2"/>
          <a:stretch/>
        </p:blipFill>
        <p:spPr>
          <a:xfrm>
            <a:off x="324000" y="264960"/>
            <a:ext cx="8424360" cy="6260760"/>
          </a:xfrm>
          <a:prstGeom prst="rect">
            <a:avLst/>
          </a:prstGeom>
          <a:ln w="9525">
            <a:noFill/>
          </a:ln>
        </p:spPr>
      </p:pic>
    </p:spTree>
  </p:cSld>
  <p:transition spd="slow" advTm="5000">
    <p:cover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1763640" y="765000"/>
            <a:ext cx="866520" cy="5176800"/>
            <a:chOff x="1763640" y="765000"/>
            <a:chExt cx="866520" cy="5176800"/>
          </a:xfrm>
        </p:grpSpPr>
        <p:sp>
          <p:nvSpPr>
            <p:cNvPr id="278" name="Text Box 3"/>
            <p:cNvSpPr/>
            <p:nvPr/>
          </p:nvSpPr>
          <p:spPr>
            <a:xfrm>
              <a:off x="1763640" y="765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79" name="Rectangle 4"/>
            <p:cNvSpPr/>
            <p:nvPr/>
          </p:nvSpPr>
          <p:spPr>
            <a:xfrm>
              <a:off x="1763640" y="1596960"/>
              <a:ext cx="72036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>
              <a:off x="1763640" y="24606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1763640" y="328464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1763640" y="4221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>
              <a:off x="1836720" y="511812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</p:grpSp>
      <p:pic>
        <p:nvPicPr>
          <p:cNvPr id="284" name="Picture 9" descr="白闻航1"/>
          <p:cNvPicPr/>
          <p:nvPr/>
        </p:nvPicPr>
        <p:blipFill>
          <a:blip r:embed="rId2"/>
          <a:stretch/>
        </p:blipFill>
        <p:spPr>
          <a:xfrm>
            <a:off x="466560" y="333360"/>
            <a:ext cx="8354520" cy="6121080"/>
          </a:xfrm>
          <a:prstGeom prst="rect">
            <a:avLst/>
          </a:prstGeom>
          <a:ln w="9525">
            <a:noFill/>
          </a:ln>
        </p:spPr>
      </p:pic>
    </p:spTree>
  </p:cSld>
  <p:transition spd="slow" advTm="5000">
    <p:blinds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1763640" y="765000"/>
            <a:ext cx="866520" cy="5176800"/>
            <a:chOff x="1763640" y="765000"/>
            <a:chExt cx="866520" cy="5176800"/>
          </a:xfrm>
        </p:grpSpPr>
        <p:sp>
          <p:nvSpPr>
            <p:cNvPr id="286" name="Text Box 3"/>
            <p:cNvSpPr/>
            <p:nvPr/>
          </p:nvSpPr>
          <p:spPr>
            <a:xfrm>
              <a:off x="1763640" y="765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87" name="Rectangle 4"/>
            <p:cNvSpPr/>
            <p:nvPr/>
          </p:nvSpPr>
          <p:spPr>
            <a:xfrm>
              <a:off x="1763640" y="1596960"/>
              <a:ext cx="72036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1763640" y="24606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89" name="Rectangle 6"/>
            <p:cNvSpPr/>
            <p:nvPr/>
          </p:nvSpPr>
          <p:spPr>
            <a:xfrm>
              <a:off x="1763640" y="328464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90" name="Rectangle 7"/>
            <p:cNvSpPr/>
            <p:nvPr/>
          </p:nvSpPr>
          <p:spPr>
            <a:xfrm>
              <a:off x="1763640" y="4221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91" name="Rectangle 8"/>
            <p:cNvSpPr/>
            <p:nvPr/>
          </p:nvSpPr>
          <p:spPr>
            <a:xfrm>
              <a:off x="1836720" y="511812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</p:grpSp>
      <p:pic>
        <p:nvPicPr>
          <p:cNvPr id="292" name="Picture 9" descr="林士涵"/>
          <p:cNvPicPr/>
          <p:nvPr/>
        </p:nvPicPr>
        <p:blipFill>
          <a:blip r:embed="rId2"/>
          <a:stretch/>
        </p:blipFill>
        <p:spPr>
          <a:xfrm>
            <a:off x="900000" y="0"/>
            <a:ext cx="6232320" cy="6857640"/>
          </a:xfrm>
          <a:prstGeom prst="rect">
            <a:avLst/>
          </a:prstGeom>
          <a:ln w="9525">
            <a:noFill/>
          </a:ln>
        </p:spPr>
      </p:pic>
    </p:spTree>
  </p:cSld>
  <p:transition spd="slow" advTm="5000">
    <p:blinds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1763640" y="765000"/>
            <a:ext cx="866520" cy="5176800"/>
            <a:chOff x="1763640" y="765000"/>
            <a:chExt cx="866520" cy="5176800"/>
          </a:xfrm>
        </p:grpSpPr>
        <p:sp>
          <p:nvSpPr>
            <p:cNvPr id="294" name="Text Box 3"/>
            <p:cNvSpPr/>
            <p:nvPr/>
          </p:nvSpPr>
          <p:spPr>
            <a:xfrm>
              <a:off x="1763640" y="765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95" name="Rectangle 4"/>
            <p:cNvSpPr/>
            <p:nvPr/>
          </p:nvSpPr>
          <p:spPr>
            <a:xfrm>
              <a:off x="1763640" y="1596960"/>
              <a:ext cx="72036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1763640" y="24606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1763640" y="328464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1763640" y="4221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>
              <a:off x="1836720" y="511812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</p:grpSp>
      <p:pic>
        <p:nvPicPr>
          <p:cNvPr id="300" name="Picture 9" descr="image_1_"/>
          <p:cNvPicPr/>
          <p:nvPr/>
        </p:nvPicPr>
        <p:blipFill>
          <a:blip r:embed="rId2"/>
          <a:stretch/>
        </p:blipFill>
        <p:spPr>
          <a:xfrm>
            <a:off x="539640" y="334800"/>
            <a:ext cx="8137080" cy="6192360"/>
          </a:xfrm>
          <a:prstGeom prst="rect">
            <a:avLst/>
          </a:prstGeom>
          <a:ln w="9525">
            <a:noFill/>
          </a:ln>
        </p:spPr>
      </p:pic>
    </p:spTree>
  </p:cSld>
  <p:transition spd="slow" advTm="5000">
    <p:diamond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1763640" y="765000"/>
            <a:ext cx="866520" cy="5176800"/>
            <a:chOff x="1763640" y="765000"/>
            <a:chExt cx="866520" cy="5176800"/>
          </a:xfrm>
        </p:grpSpPr>
        <p:sp>
          <p:nvSpPr>
            <p:cNvPr id="302" name="Text Box 3"/>
            <p:cNvSpPr/>
            <p:nvPr/>
          </p:nvSpPr>
          <p:spPr>
            <a:xfrm>
              <a:off x="1763640" y="765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303" name="Rectangle 4"/>
            <p:cNvSpPr/>
            <p:nvPr/>
          </p:nvSpPr>
          <p:spPr>
            <a:xfrm>
              <a:off x="1763640" y="1596960"/>
              <a:ext cx="72036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>
              <a:off x="1763640" y="24606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1763640" y="328464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>
              <a:off x="1763640" y="4221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1836720" y="511812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</p:grpSp>
      <p:pic>
        <p:nvPicPr>
          <p:cNvPr id="308" name="Picture 9" descr="DSCF3686"/>
          <p:cNvPicPr/>
          <p:nvPr/>
        </p:nvPicPr>
        <p:blipFill>
          <a:blip r:embed="rId2"/>
          <a:stretch/>
        </p:blipFill>
        <p:spPr>
          <a:xfrm>
            <a:off x="1116000" y="333360"/>
            <a:ext cx="6551280" cy="6190920"/>
          </a:xfrm>
          <a:prstGeom prst="rect">
            <a:avLst/>
          </a:prstGeom>
          <a:ln w="9525">
            <a:noFill/>
          </a:ln>
        </p:spPr>
      </p:pic>
    </p:spTree>
  </p:cSld>
  <p:transition spd="slow" advTm="5000">
    <p:diamond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332000" y="1557360"/>
            <a:ext cx="5029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971640" y="1557360"/>
            <a:ext cx="158400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i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2411280" y="1484280"/>
            <a:ext cx="143964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ɡ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042920" y="3789360"/>
            <a:ext cx="93456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4859280" y="1557360"/>
            <a:ext cx="136800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635280" y="1557360"/>
            <a:ext cx="122364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2484360" y="3789360"/>
            <a:ext cx="143964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708360" y="3789360"/>
            <a:ext cx="100764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4932360" y="3789360"/>
            <a:ext cx="107928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6156360" y="1557360"/>
            <a:ext cx="122364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h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6227640" y="3789360"/>
            <a:ext cx="100764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i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26" descr="声调a o e"/>
          <p:cNvPicPr/>
          <p:nvPr/>
        </p:nvPicPr>
        <p:blipFill>
          <a:blip r:embed="rId2"/>
          <a:stretch/>
        </p:blipFill>
        <p:spPr>
          <a:xfrm>
            <a:off x="1835280" y="1125360"/>
            <a:ext cx="5087520" cy="278100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1027" descr="ü图片2"/>
          <p:cNvPicPr/>
          <p:nvPr/>
        </p:nvPicPr>
        <p:blipFill>
          <a:blip r:embed="rId3"/>
          <a:stretch/>
        </p:blipFill>
        <p:spPr>
          <a:xfrm>
            <a:off x="1908000" y="1197000"/>
            <a:ext cx="5040000" cy="414936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1028" descr="u图片2"/>
          <p:cNvPicPr/>
          <p:nvPr/>
        </p:nvPicPr>
        <p:blipFill>
          <a:blip r:embed="rId4"/>
          <a:stretch/>
        </p:blipFill>
        <p:spPr>
          <a:xfrm>
            <a:off x="1908000" y="1197000"/>
            <a:ext cx="5040000" cy="414936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1029" descr="i图片2"/>
          <p:cNvPicPr/>
          <p:nvPr/>
        </p:nvPicPr>
        <p:blipFill>
          <a:blip r:embed="rId5"/>
          <a:stretch/>
        </p:blipFill>
        <p:spPr>
          <a:xfrm>
            <a:off x="1835280" y="1125360"/>
            <a:ext cx="4966920" cy="4247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1030" descr="e图片2"/>
          <p:cNvPicPr/>
          <p:nvPr/>
        </p:nvPicPr>
        <p:blipFill>
          <a:blip r:embed="rId6"/>
          <a:stretch/>
        </p:blipFill>
        <p:spPr>
          <a:xfrm>
            <a:off x="1835280" y="1125360"/>
            <a:ext cx="5074920" cy="424764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1031" descr="o图片2"/>
          <p:cNvPicPr/>
          <p:nvPr/>
        </p:nvPicPr>
        <p:blipFill>
          <a:blip r:embed="rId7"/>
          <a:stretch/>
        </p:blipFill>
        <p:spPr>
          <a:xfrm>
            <a:off x="1835280" y="1125360"/>
            <a:ext cx="5114520" cy="4247640"/>
          </a:xfrm>
          <a:prstGeom prst="rect">
            <a:avLst/>
          </a:prstGeom>
          <a:ln w="9525">
            <a:noFill/>
          </a:ln>
        </p:spPr>
      </p:pic>
      <p:sp>
        <p:nvSpPr>
          <p:cNvPr id="173" name="Line 1032"/>
          <p:cNvSpPr/>
          <p:nvPr/>
        </p:nvSpPr>
        <p:spPr>
          <a:xfrm>
            <a:off x="2050920" y="177300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74" name="Picture 1033" descr="a图片2"/>
          <p:cNvPicPr/>
          <p:nvPr/>
        </p:nvPicPr>
        <p:blipFill>
          <a:blip r:embed="rId8"/>
          <a:stretch/>
        </p:blipFill>
        <p:spPr>
          <a:xfrm>
            <a:off x="1835280" y="1125360"/>
            <a:ext cx="5184360" cy="4966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《小书架》插图"/>
          <p:cNvPicPr/>
          <p:nvPr/>
        </p:nvPicPr>
        <p:blipFill>
          <a:blip r:embed="rId1"/>
          <a:stretch/>
        </p:blipFill>
        <p:spPr>
          <a:xfrm>
            <a:off x="0" y="0"/>
            <a:ext cx="4571640" cy="6857640"/>
          </a:xfrm>
          <a:prstGeom prst="rect">
            <a:avLst/>
          </a:prstGeom>
          <a:ln w="9525">
            <a:noFill/>
          </a:ln>
        </p:spPr>
      </p:pic>
      <p:sp>
        <p:nvSpPr>
          <p:cNvPr id="321" name="Text Box 5"/>
          <p:cNvSpPr/>
          <p:nvPr/>
        </p:nvSpPr>
        <p:spPr>
          <a:xfrm>
            <a:off x="5105520" y="1017720"/>
            <a:ext cx="3200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书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" descr=""/>
          <p:cNvPicPr/>
          <p:nvPr/>
        </p:nvPicPr>
        <p:blipFill>
          <a:blip r:embed="rId2"/>
          <a:stretch/>
        </p:blipFill>
        <p:spPr>
          <a:xfrm>
            <a:off x="5337000" y="4365720"/>
            <a:ext cx="2968200" cy="1334880"/>
          </a:xfrm>
          <a:prstGeom prst="rect">
            <a:avLst/>
          </a:prstGeom>
          <a:ln w="9525">
            <a:noFill/>
          </a:ln>
        </p:spPr>
      </p:pic>
      <p:pic>
        <p:nvPicPr>
          <p:cNvPr id="323" name="图片 2" descr=""/>
          <p:cNvPicPr/>
          <p:nvPr/>
        </p:nvPicPr>
        <p:blipFill>
          <a:blip r:embed="rId3"/>
          <a:stretch/>
        </p:blipFill>
        <p:spPr>
          <a:xfrm>
            <a:off x="4716360" y="2119320"/>
            <a:ext cx="4266720" cy="1280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763640" y="765000"/>
            <a:ext cx="866520" cy="5176800"/>
            <a:chOff x="1763640" y="765000"/>
            <a:chExt cx="866520" cy="5176800"/>
          </a:xfrm>
        </p:grpSpPr>
        <p:sp>
          <p:nvSpPr>
            <p:cNvPr id="176" name="Text Box 3"/>
            <p:cNvSpPr/>
            <p:nvPr/>
          </p:nvSpPr>
          <p:spPr>
            <a:xfrm>
              <a:off x="1763640" y="765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77" name="Rectangle 4"/>
            <p:cNvSpPr/>
            <p:nvPr/>
          </p:nvSpPr>
          <p:spPr>
            <a:xfrm>
              <a:off x="1763640" y="1596960"/>
              <a:ext cx="72036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1763640" y="24606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763640" y="328464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1763640" y="422100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836720" y="5118120"/>
              <a:ext cx="793440" cy="82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cc00ff"/>
                </a:solidFill>
                <a:latin typeface="Times New Roman"/>
                <a:ea typeface="楷体_GB2312"/>
              </a:endParaRPr>
            </a:p>
          </p:txBody>
        </p:sp>
      </p:grpSp>
      <p:sp>
        <p:nvSpPr>
          <p:cNvPr id="182" name="Text Box 9"/>
          <p:cNvSpPr/>
          <p:nvPr/>
        </p:nvSpPr>
        <p:spPr>
          <a:xfrm>
            <a:off x="4270680" y="1341360"/>
            <a:ext cx="1208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ī   í   ǐ   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144320" y="3068640"/>
            <a:ext cx="1476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ū   ú  ǔ   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277880" y="4941720"/>
            <a:ext cx="14004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ǖ   ǘ   ǚ  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700360" y="907920"/>
            <a:ext cx="439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5373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276720" y="2276640"/>
            <a:ext cx="309240" cy="131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8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011400" y="3346560"/>
            <a:ext cx="3092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96320" y="1341360"/>
            <a:ext cx="486000" cy="237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座小楼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没门又没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一本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在里边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314360" y="2401920"/>
            <a:ext cx="549000" cy="21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1" name="WordArt 8"/>
          <p:cNvSpPr txBox="1"/>
          <p:nvPr/>
        </p:nvSpPr>
        <p:spPr>
          <a:xfrm rot="5400000">
            <a:off x="732600" y="2336040"/>
            <a:ext cx="2733480" cy="1223640"/>
          </a:xfrm>
          <a:prstGeom prst="rect">
            <a:avLst/>
          </a:prstGeom>
        </p:spPr>
        <p:txBody>
          <a:bodyPr wrap="none" lIns="90000" rIns="90000" tIns="45000" bIns="45000" anchor="t" anchorCtr="1" vert="vert" rot="5400000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猜一猜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82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8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736720" y="974880"/>
            <a:ext cx="4571640" cy="356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小书架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摆在我的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层爸爸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间给妈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面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天放学要看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592360" y="115920"/>
            <a:ext cx="3200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书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4392720" y="260280"/>
            <a:ext cx="791640" cy="647280"/>
          </a:xfrm>
          <a:prstGeom prst="ellipse">
            <a:avLst/>
          </a:prstGeom>
          <a:noFill/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211640" y="907920"/>
            <a:ext cx="791640" cy="647280"/>
          </a:xfrm>
          <a:prstGeom prst="ellipse">
            <a:avLst/>
          </a:prstGeom>
          <a:noFill/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3851280" y="2924280"/>
            <a:ext cx="791640" cy="576000"/>
          </a:xfrm>
          <a:prstGeom prst="ellipse">
            <a:avLst/>
          </a:prstGeom>
          <a:noFill/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3492360" y="2205000"/>
            <a:ext cx="791640" cy="647280"/>
          </a:xfrm>
          <a:prstGeom prst="ellipse">
            <a:avLst/>
          </a:prstGeom>
          <a:noFill/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4932360" y="4797360"/>
            <a:ext cx="431280" cy="647280"/>
          </a:xfrm>
          <a:prstGeom prst="ellipse">
            <a:avLst/>
          </a:prstGeom>
          <a:noFill/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203640" y="4149720"/>
            <a:ext cx="360000" cy="574200"/>
          </a:xfrm>
          <a:prstGeom prst="ellipse">
            <a:avLst/>
          </a:prstGeom>
          <a:noFill/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4211640" y="1557360"/>
            <a:ext cx="791640" cy="647280"/>
          </a:xfrm>
          <a:prstGeom prst="ellipse">
            <a:avLst/>
          </a:prstGeom>
          <a:noFill/>
          <a:ln w="5715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816200" y="2376360"/>
            <a:ext cx="9885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i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924360" y="2355840"/>
            <a:ext cx="11664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i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084720" y="2355840"/>
            <a:ext cx="11012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763640" y="4229280"/>
            <a:ext cx="12949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924360" y="4156200"/>
            <a:ext cx="12315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i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064200" y="4229280"/>
            <a:ext cx="11840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411280" y="126828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061160" y="189000"/>
            <a:ext cx="72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书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556000" y="1197000"/>
            <a:ext cx="4392360" cy="356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小书架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摆在我的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层爸爸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间给妈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面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天放学要看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995640" y="333360"/>
            <a:ext cx="791640" cy="718920"/>
          </a:xfrm>
          <a:custGeom>
            <a:avLst/>
            <a:gdLst>
              <a:gd name="textAreaLeft" fmla="*/ 184680 w 791640"/>
              <a:gd name="textAreaRight" fmla="*/ 606960 w 791640"/>
              <a:gd name="textAreaTop" fmla="*/ 75600 h 718920"/>
              <a:gd name="textAreaBottom" fmla="*/ 455400 h 718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15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987640" y="1197000"/>
            <a:ext cx="504360" cy="718920"/>
          </a:xfrm>
          <a:custGeom>
            <a:avLst/>
            <a:gdLst>
              <a:gd name="textAreaLeft" fmla="*/ 117360 w 504360"/>
              <a:gd name="textAreaRight" fmla="*/ 386640 w 504360"/>
              <a:gd name="textAreaTop" fmla="*/ 75600 h 718920"/>
              <a:gd name="textAreaBottom" fmla="*/ 455400 h 718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15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851280" y="1197000"/>
            <a:ext cx="504360" cy="718920"/>
          </a:xfrm>
          <a:custGeom>
            <a:avLst/>
            <a:gdLst>
              <a:gd name="textAreaLeft" fmla="*/ 117360 w 504360"/>
              <a:gd name="textAreaRight" fmla="*/ 386640 w 504360"/>
              <a:gd name="textAreaTop" fmla="*/ 75600 h 718920"/>
              <a:gd name="textAreaBottom" fmla="*/ 455400 h 718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15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348000" y="1989000"/>
            <a:ext cx="1007640" cy="647280"/>
          </a:xfrm>
          <a:custGeom>
            <a:avLst/>
            <a:gdLst>
              <a:gd name="textAreaLeft" fmla="*/ 234720 w 1007640"/>
              <a:gd name="textAreaRight" fmla="*/ 772560 w 1007640"/>
              <a:gd name="textAreaTop" fmla="*/ 68040 h 647280"/>
              <a:gd name="textAreaBottom" fmla="*/ 410040 h 64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15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2987640" y="4221000"/>
            <a:ext cx="1007640" cy="647280"/>
          </a:xfrm>
          <a:custGeom>
            <a:avLst/>
            <a:gdLst>
              <a:gd name="textAreaLeft" fmla="*/ 234720 w 1007640"/>
              <a:gd name="textAreaRight" fmla="*/ 772560 w 1007640"/>
              <a:gd name="textAreaTop" fmla="*/ 68040 h 647280"/>
              <a:gd name="textAreaBottom" fmla="*/ 410040 h 64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15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3037320" y="1268280"/>
            <a:ext cx="2254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916360" y="2205000"/>
            <a:ext cx="10998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319480" y="3429000"/>
            <a:ext cx="10998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ɡ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87840" y="3429000"/>
            <a:ext cx="10998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843280" y="4941720"/>
            <a:ext cx="10998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5875200"/>
            <a:ext cx="143784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书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869080" y="3139920"/>
            <a:ext cx="143964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429080" y="2708280"/>
            <a:ext cx="143964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236000" y="3900600"/>
            <a:ext cx="143964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3280" y="5484960"/>
            <a:ext cx="143964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284720" y="4724280"/>
            <a:ext cx="151236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846520" y="5126040"/>
            <a:ext cx="143964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5796000" y="4363920"/>
            <a:ext cx="1439640" cy="455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106200" y="5803920"/>
            <a:ext cx="1294920" cy="1080720"/>
          </a:xfrm>
          <a:prstGeom prst="smileyFace">
            <a:avLst>
              <a:gd name="adj" fmla="val 4653"/>
            </a:avLst>
          </a:prstGeom>
          <a:solidFill>
            <a:srgbClr val="ff7c8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4357800" y="4653000"/>
            <a:ext cx="1294920" cy="1080720"/>
          </a:xfrm>
          <a:prstGeom prst="smileyFace">
            <a:avLst>
              <a:gd name="adj" fmla="val 4653"/>
            </a:avLst>
          </a:prstGeom>
          <a:solidFill>
            <a:srgbClr val="ff7c8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867280" y="4365720"/>
            <a:ext cx="1294920" cy="1080720"/>
          </a:xfrm>
          <a:prstGeom prst="smileyFace">
            <a:avLst>
              <a:gd name="adj" fmla="val 4653"/>
            </a:avLst>
          </a:prstGeom>
          <a:solidFill>
            <a:srgbClr val="ff7c8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7380360" y="3787920"/>
            <a:ext cx="1294920" cy="1080720"/>
          </a:xfrm>
          <a:prstGeom prst="smileyFace">
            <a:avLst>
              <a:gd name="adj" fmla="val 4653"/>
            </a:avLst>
          </a:prstGeom>
          <a:solidFill>
            <a:srgbClr val="ff7c8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1405080" y="5448240"/>
            <a:ext cx="1294920" cy="1080720"/>
          </a:xfrm>
          <a:prstGeom prst="smileyFace">
            <a:avLst>
              <a:gd name="adj" fmla="val 4653"/>
            </a:avLst>
          </a:prstGeom>
          <a:solidFill>
            <a:srgbClr val="ff7c8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5940360" y="2852640"/>
            <a:ext cx="1294920" cy="1080720"/>
          </a:xfrm>
          <a:prstGeom prst="smileyFace">
            <a:avLst>
              <a:gd name="adj" fmla="val 4653"/>
            </a:avLst>
          </a:prstGeom>
          <a:solidFill>
            <a:srgbClr val="ff7c8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2916360" y="5084640"/>
            <a:ext cx="1294920" cy="1080720"/>
          </a:xfrm>
          <a:prstGeom prst="smileyFace">
            <a:avLst>
              <a:gd name="adj" fmla="val 4653"/>
            </a:avLst>
          </a:prstGeom>
          <a:solidFill>
            <a:srgbClr val="ff7c8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5" name="AutoShape 17"/>
          <p:cNvSpPr/>
          <p:nvPr/>
        </p:nvSpPr>
        <p:spPr>
          <a:xfrm>
            <a:off x="4429080" y="2637000"/>
            <a:ext cx="1294920" cy="1080720"/>
          </a:xfrm>
          <a:prstGeom prst="smileyFace">
            <a:avLst>
              <a:gd name="adj" fmla="val 4653"/>
            </a:avLst>
          </a:prstGeom>
          <a:solidFill>
            <a:srgbClr val="ff7c8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-98280" y="5284800"/>
            <a:ext cx="179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hūji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286160" y="4060800"/>
            <a:ext cx="1510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ī ɡ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796000" y="3860640"/>
            <a:ext cx="1800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ǒ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7308720" y="3268800"/>
            <a:ext cx="1510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à b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1332000" y="4941720"/>
            <a:ext cx="1655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ā m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084720" y="2276640"/>
            <a:ext cx="1510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i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771640" y="4576680"/>
            <a:ext cx="1510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i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4573440" y="2087640"/>
            <a:ext cx="1510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_2">
  <a:themeElements>
    <a:clrScheme name="默认设计模板_2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默认设计模板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  <Pages>0</Pages>
  <Words>415</Words>
  <Characters>0</Characters>
  <CharactersWithSpaces>0</CharactersWithSpaces>
  <Paragraphs>1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3-09-09T09:22:53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1:39:05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  <property fmtid="{D5CDD505-2E9C-101B-9397-08002B2CF9AE}" pid="3" name="MMClip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21</vt:r8>
  </property>
</Properties>
</file>