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083546-EF0C-4E3C-8333-43D5C3BA7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C64266-5336-4EE5-A0C2-67CF994B7F6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23BF24-6133-4D51-B3D9-386A2B411A0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F933C0-F184-4B5E-A5D9-6153BA79D9C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31A0C7-C653-4DF6-BABB-3F174D8E05F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46F954-45EC-4AE1-AC22-2B6C4443A5A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C37470-216D-42D1-80C5-AE9CC277D7C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BEC948-DC07-4D32-8D75-417B6913BA9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E2A719-7ACF-4936-8308-5DC9D2DE7F7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4F11F9-ED18-4596-B446-005FDD63B9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C76756-5716-45E4-896B-6B74771DC70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6ACF89-CA59-4403-8EE2-AEFCA1A08A9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6F2A93-DF06-4EDF-915F-D70E31BF5A9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5A0EB5-D894-453B-9A9D-E6ED4F7AD64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355CF2-2EE9-4F9D-B105-DAC429E102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F61431-49EC-4780-8E2D-EE2E020167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6E7327-C1AA-42A3-8564-8038257D23C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54CDA5-320E-49BF-AEA2-8AC6F6DDEB7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2F2-0ADD-4B92-8A2E-8FECC354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294948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635-1FDC-47D2-8AC0-0842EFE3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F42-6010-47CD-8E83-13D5CB82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124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124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A46-9E4A-48D9-8D74-F8AABF7A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C820-EC18-490B-8240-2CBDD780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3463-F2A9-4FAC-9CCE-5A45BCCF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6D4E-B46E-4711-95A9-3D010F7A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088A-57DA-4D7D-8E19-BF5B3750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AABA-8775-4FAA-B410-350D026E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C974-F2C4-4DDF-9FA1-4B765FAE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D49B-563A-4E83-862B-1025F6B0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496-76D0-4EE1-BBD0-5194A48E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E4DF-686A-4EAD-8B10-DA3F1710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5318-B991-4929-B891-6F646CC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294948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1744-6B87-4E6B-80FF-15C6FCC0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98E2-3B77-48A9-8EC3-F9E1A3A8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124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124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E10E-FAFA-4CB2-9AE9-5A92F285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141F-F2C8-48ED-836A-8028C78A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F614-27BC-4B34-93CD-EABF9D25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2AB2-05F8-4CDC-B076-E80F66E5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9C77-D713-40B7-B4B5-446E6A7B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A99A-33B1-4D3F-81ED-052C3EE8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F7B-FE46-47D1-8ED3-075B5776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22CB-B23D-4A79-B5DF-54E15AD4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85AB-8A27-4292-B055-5960591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992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EA44-B9A7-4D2B-BEFF-AE462CA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C62C-B2D9-4E57-8784-64F8775E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294948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91A3-25D9-4884-9D00-46C5FDF9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992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7E02-2EDA-48D3-A009-8EBB6E40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124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124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B398-5D11-41DF-B197-AD8D7C25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AD6B2-8E47-4862-8382-1075D899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FD66-8D7E-4450-B105-FD2BE082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F525-15A6-4E82-AA13-09B162E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155-A5A8-435E-B2BB-83D9D54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D40C-CEB6-438E-9744-8A2BDA0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855D-E80C-49A1-9179-33C59059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CAAA-ED92-4217-BCF8-B2CB9397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5AC6-15D6-4E85-BF8B-411F7618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992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F87B-D01D-479B-9F8F-0B17BE87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72AA-E725-4065-A5D1-0D975979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8560" y="294948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9C7D-0A1A-442A-9B6B-13EA1A10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992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DE7E2-6679-4FAC-B8A7-E6411C5A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508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61240" y="110880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856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508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61240" y="2949480"/>
            <a:ext cx="253908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3C84-CE28-4462-874D-61402936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593-6675-49EB-A4B1-910A922E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718-1F4E-4A84-96B9-F87CCB0C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421-8DF9-4A01-A771-8E0DFA82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35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294948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D61-F5B5-425B-92B0-B839FDB8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108800"/>
            <a:ext cx="384840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2949480"/>
            <a:ext cx="7886520" cy="168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406-33A0-49EC-AF49-DFFADBF3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62D986-E0A4-48DD-95A1-8E8AE0738318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F2B0D9-3D94-4B50-BA3A-22293EDDEB62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408922-EBA8-49FA-B1DA-2E4C09035A69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130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32DA49-074B-46B1-B911-64494D994C85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6"/>
          <p:cNvSpPr/>
          <p:nvPr/>
        </p:nvSpPr>
        <p:spPr>
          <a:xfrm>
            <a:off x="2889360" y="1614960"/>
            <a:ext cx="5382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 学习扩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10" descr="718aae0cff1b3cd389b05a8a4532d26a.png"/>
          <p:cNvPicPr/>
          <p:nvPr/>
        </p:nvPicPr>
        <p:blipFill>
          <a:blip r:embed="rId1"/>
          <a:stretch/>
        </p:blipFill>
        <p:spPr>
          <a:xfrm>
            <a:off x="1057320" y="1339920"/>
            <a:ext cx="2142720" cy="1357560"/>
          </a:xfrm>
          <a:prstGeom prst="rect">
            <a:avLst/>
          </a:prstGeom>
          <a:ln w="0">
            <a:noFill/>
          </a:ln>
        </p:spPr>
      </p:pic>
      <p:sp>
        <p:nvSpPr>
          <p:cNvPr id="180" name="矩形 3"/>
          <p:cNvSpPr/>
          <p:nvPr/>
        </p:nvSpPr>
        <p:spPr>
          <a:xfrm>
            <a:off x="0" y="3877920"/>
            <a:ext cx="914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多特软件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直接连接符 28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274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回顾经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5"/>
          <p:cNvGrpSpPr/>
          <p:nvPr/>
        </p:nvGrpSpPr>
        <p:grpSpPr>
          <a:xfrm>
            <a:off x="1508040" y="1162080"/>
            <a:ext cx="6403680" cy="501120"/>
            <a:chOff x="1508040" y="1162080"/>
            <a:chExt cx="6403680" cy="501120"/>
          </a:xfrm>
        </p:grpSpPr>
        <p:sp>
          <p:nvSpPr>
            <p:cNvPr id="276" name="文本框 3"/>
            <p:cNvSpPr/>
            <p:nvPr/>
          </p:nvSpPr>
          <p:spPr>
            <a:xfrm>
              <a:off x="1815120" y="1162080"/>
              <a:ext cx="609660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700" spc="449" strike="noStrike">
                  <a:solidFill>
                    <a:srgbClr val="0070c0"/>
                  </a:solidFill>
                  <a:latin typeface="宋体"/>
                  <a:ea typeface="宋体"/>
                </a:rPr>
                <a:t>第一组诗歌：用意象来表达情感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菱形 11"/>
            <p:cNvSpPr/>
            <p:nvPr/>
          </p:nvSpPr>
          <p:spPr>
            <a:xfrm>
              <a:off x="1508040" y="1290240"/>
              <a:ext cx="215640" cy="215640"/>
            </a:xfrm>
            <a:prstGeom prst="diamond">
              <a:avLst/>
            </a:prstGeom>
            <a:solidFill>
              <a:schemeClr val="accent5">
                <a:lumMod val="40000"/>
                <a:lumOff val="60000"/>
              </a:schemeClr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78" name="组合 21"/>
          <p:cNvGrpSpPr/>
          <p:nvPr/>
        </p:nvGrpSpPr>
        <p:grpSpPr>
          <a:xfrm>
            <a:off x="1508040" y="1971360"/>
            <a:ext cx="5602680" cy="501120"/>
            <a:chOff x="1508040" y="1971360"/>
            <a:chExt cx="5602680" cy="501120"/>
          </a:xfrm>
        </p:grpSpPr>
        <p:sp>
          <p:nvSpPr>
            <p:cNvPr id="279" name="文本框 3"/>
            <p:cNvSpPr/>
            <p:nvPr/>
          </p:nvSpPr>
          <p:spPr>
            <a:xfrm>
              <a:off x="1815120" y="1971360"/>
              <a:ext cx="529560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700" spc="449" strike="noStrike">
                  <a:solidFill>
                    <a:srgbClr val="0070c0"/>
                  </a:solidFill>
                  <a:latin typeface="宋体"/>
                  <a:ea typeface="宋体"/>
                </a:rPr>
                <a:t>第二组诗歌：语言精简凝练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菱形 14"/>
            <p:cNvSpPr/>
            <p:nvPr/>
          </p:nvSpPr>
          <p:spPr>
            <a:xfrm>
              <a:off x="1508040" y="2104560"/>
              <a:ext cx="215640" cy="215640"/>
            </a:xfrm>
            <a:prstGeom prst="diamond">
              <a:avLst/>
            </a:prstGeom>
            <a:solidFill>
              <a:schemeClr val="accent5">
                <a:lumMod val="40000"/>
                <a:lumOff val="60000"/>
              </a:schemeClr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81" name="组合 22"/>
          <p:cNvGrpSpPr/>
          <p:nvPr/>
        </p:nvGrpSpPr>
        <p:grpSpPr>
          <a:xfrm>
            <a:off x="1508040" y="2780640"/>
            <a:ext cx="6268680" cy="501120"/>
            <a:chOff x="1508040" y="2780640"/>
            <a:chExt cx="6268680" cy="501120"/>
          </a:xfrm>
        </p:grpSpPr>
        <p:sp>
          <p:nvSpPr>
            <p:cNvPr id="282" name="文本框 3"/>
            <p:cNvSpPr/>
            <p:nvPr/>
          </p:nvSpPr>
          <p:spPr>
            <a:xfrm>
              <a:off x="1815120" y="2780640"/>
              <a:ext cx="596160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700" spc="449" strike="noStrike">
                  <a:solidFill>
                    <a:srgbClr val="0070c0"/>
                  </a:solidFill>
                  <a:latin typeface="宋体"/>
                  <a:ea typeface="宋体"/>
                </a:rPr>
                <a:t>第三组诗歌：讲究节奏和韵律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菱形 17"/>
            <p:cNvSpPr/>
            <p:nvPr/>
          </p:nvSpPr>
          <p:spPr>
            <a:xfrm>
              <a:off x="1508040" y="2918880"/>
              <a:ext cx="215640" cy="215640"/>
            </a:xfrm>
            <a:prstGeom prst="diamond">
              <a:avLst/>
            </a:prstGeom>
            <a:solidFill>
              <a:schemeClr val="accent5">
                <a:lumMod val="40000"/>
                <a:lumOff val="60000"/>
              </a:schemeClr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37"/>
          <p:cNvSpPr/>
          <p:nvPr/>
        </p:nvSpPr>
        <p:spPr>
          <a:xfrm>
            <a:off x="747360" y="2088000"/>
            <a:ext cx="775836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《海燕》一诗中，“这是勇敢的海燕，在怒吼的大海上，在闪电中间，高傲地飞翔”一句，通过动作描写，展示了海燕高傲、搏击的形象，抒发了作者的赞美之情；“这是胜利的预言家在叫喊：——让暴风雨来得更猛烈些吧”一句，用语言描写来展现革命先驱的精神风貌，抒发了作者敬佩的情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9"/>
          <p:cNvGrpSpPr/>
          <p:nvPr/>
        </p:nvGrpSpPr>
        <p:grpSpPr>
          <a:xfrm>
            <a:off x="745920" y="1251720"/>
            <a:ext cx="7780320" cy="409680"/>
            <a:chOff x="745920" y="1251720"/>
            <a:chExt cx="7780320" cy="409680"/>
          </a:xfrm>
        </p:grpSpPr>
        <p:sp>
          <p:nvSpPr>
            <p:cNvPr id="286" name="文本框 3"/>
            <p:cNvSpPr/>
            <p:nvPr/>
          </p:nvSpPr>
          <p:spPr>
            <a:xfrm>
              <a:off x="745920" y="1251720"/>
              <a:ext cx="7780320" cy="409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00" spc="222" strike="noStrike">
                  <a:solidFill>
                    <a:srgbClr val="1f2021"/>
                  </a:solidFill>
                  <a:latin typeface="Arial"/>
                </a:rPr>
                <a:t>    </a:t>
              </a:r>
              <a:r>
                <a:rPr b="0" lang="zh-CN" sz="2100" spc="222" strike="noStrike">
                  <a:solidFill>
                    <a:srgbClr val="1f2021"/>
                  </a:solidFill>
                  <a:latin typeface="Arial"/>
                </a:rPr>
                <a:t>情境一：诗歌是一种很特别的体裁，它有一个突出的特点，就是用意象来表达情感。比如：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菱形 35"/>
            <p:cNvSpPr/>
            <p:nvPr/>
          </p:nvSpPr>
          <p:spPr>
            <a:xfrm>
              <a:off x="1018080" y="1361520"/>
              <a:ext cx="215640" cy="215640"/>
            </a:xfrm>
            <a:prstGeom prst="diamond">
              <a:avLst/>
            </a:prstGeom>
            <a:solidFill>
              <a:schemeClr val="accent5">
                <a:lumMod val="20000"/>
                <a:lumOff val="80000"/>
              </a:schemeClr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222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288" name="文本框 3"/>
          <p:cNvSpPr/>
          <p:nvPr/>
        </p:nvSpPr>
        <p:spPr>
          <a:xfrm>
            <a:off x="2120760" y="509040"/>
            <a:ext cx="4900680" cy="2811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尝试结合具体诗句，进行扩写训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291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实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19"/>
          <p:cNvGrpSpPr/>
          <p:nvPr/>
        </p:nvGrpSpPr>
        <p:grpSpPr>
          <a:xfrm>
            <a:off x="745920" y="934200"/>
            <a:ext cx="7780320" cy="409680"/>
            <a:chOff x="745920" y="934200"/>
            <a:chExt cx="7780320" cy="409680"/>
          </a:xfrm>
        </p:grpSpPr>
        <p:sp>
          <p:nvSpPr>
            <p:cNvPr id="293" name="文本框 3"/>
            <p:cNvSpPr/>
            <p:nvPr/>
          </p:nvSpPr>
          <p:spPr>
            <a:xfrm>
              <a:off x="745920" y="934200"/>
              <a:ext cx="7780320" cy="409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00" spc="222" strike="noStrike">
                  <a:solidFill>
                    <a:srgbClr val="1f2021"/>
                  </a:solidFill>
                  <a:latin typeface="Arial"/>
                </a:rPr>
                <a:t>    </a:t>
              </a:r>
              <a:r>
                <a:rPr b="0" lang="zh-CN" sz="2100" spc="222" strike="noStrike">
                  <a:solidFill>
                    <a:srgbClr val="1f2021"/>
                  </a:solidFill>
                  <a:latin typeface="Arial"/>
                </a:rPr>
                <a:t>情境二：诗歌另外一个突出的特点，就是语言精简凝练。比如说：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菱形 35"/>
            <p:cNvSpPr/>
            <p:nvPr/>
          </p:nvSpPr>
          <p:spPr>
            <a:xfrm>
              <a:off x="1018080" y="1033920"/>
              <a:ext cx="215640" cy="215640"/>
            </a:xfrm>
            <a:prstGeom prst="diamond">
              <a:avLst/>
            </a:prstGeom>
            <a:solidFill>
              <a:srgbClr val="dfd6f0"/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295" name="矩形 37"/>
          <p:cNvSpPr/>
          <p:nvPr/>
        </p:nvSpPr>
        <p:spPr>
          <a:xfrm>
            <a:off x="747360" y="1719360"/>
            <a:ext cx="77583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陈毅先生《梅岭三章》第一章中的“此去泉台招旧部，旌旗十万斩阎罗”两句，“去泉台”“招旧部”“斩阎罗”三个词组，尤其是其中的三个动词，无不精简凝练，十分独到地体现了诗歌语言的特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298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实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14" descr="图片6.jpg"/>
          <p:cNvPicPr/>
          <p:nvPr/>
        </p:nvPicPr>
        <p:blipFill>
          <a:blip r:embed="rId1"/>
          <a:stretch/>
        </p:blipFill>
        <p:spPr>
          <a:xfrm>
            <a:off x="7259760" y="3572280"/>
            <a:ext cx="1883880" cy="15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19"/>
          <p:cNvGrpSpPr/>
          <p:nvPr/>
        </p:nvGrpSpPr>
        <p:grpSpPr>
          <a:xfrm>
            <a:off x="745920" y="883080"/>
            <a:ext cx="7780320" cy="409680"/>
            <a:chOff x="745920" y="883080"/>
            <a:chExt cx="7780320" cy="409680"/>
          </a:xfrm>
        </p:grpSpPr>
        <p:sp>
          <p:nvSpPr>
            <p:cNvPr id="301" name="文本框 3"/>
            <p:cNvSpPr/>
            <p:nvPr/>
          </p:nvSpPr>
          <p:spPr>
            <a:xfrm>
              <a:off x="745920" y="883080"/>
              <a:ext cx="7780320" cy="409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00" spc="222" strike="noStrike">
                  <a:solidFill>
                    <a:srgbClr val="1f2021"/>
                  </a:solidFill>
                  <a:latin typeface="Arial"/>
                </a:rPr>
                <a:t>    </a:t>
              </a:r>
              <a:r>
                <a:rPr b="1" lang="zh-CN" sz="2100" spc="222" strike="noStrike">
                  <a:solidFill>
                    <a:srgbClr val="1f2021"/>
                  </a:solidFill>
                  <a:latin typeface="Arial"/>
                </a:rPr>
                <a:t>情境三：</a:t>
              </a:r>
              <a:r>
                <a:rPr b="0" lang="zh-CN" sz="2100" spc="222" strike="noStrike">
                  <a:solidFill>
                    <a:srgbClr val="1f2021"/>
                  </a:solidFill>
                  <a:latin typeface="Arial"/>
                </a:rPr>
                <a:t>诗歌第三个突出的特点，就是</a:t>
              </a:r>
              <a:r>
                <a:rPr b="1" lang="zh-CN" sz="2100" spc="222" strike="noStrike">
                  <a:solidFill>
                    <a:srgbClr val="1f2021"/>
                  </a:solidFill>
                  <a:latin typeface="Arial"/>
                </a:rPr>
                <a:t>讲究节奏和韵律</a:t>
              </a:r>
              <a:r>
                <a:rPr b="0" lang="zh-CN" sz="2100" spc="222" strike="noStrike">
                  <a:solidFill>
                    <a:srgbClr val="1f2021"/>
                  </a:solidFill>
                  <a:latin typeface="Arial"/>
                </a:rPr>
                <a:t>。这一点，在很多诗句中都有十分鲜明的体现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菱形 35"/>
            <p:cNvSpPr/>
            <p:nvPr/>
          </p:nvSpPr>
          <p:spPr>
            <a:xfrm>
              <a:off x="1018080" y="982800"/>
              <a:ext cx="215640" cy="215640"/>
            </a:xfrm>
            <a:prstGeom prst="diamond">
              <a:avLst/>
            </a:prstGeom>
            <a:solidFill>
              <a:schemeClr val="accent4">
                <a:lumMod val="60000"/>
                <a:lumOff val="40000"/>
              </a:schemeClr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sp>
        <p:nvSpPr>
          <p:cNvPr id="303" name="矩形 37"/>
          <p:cNvSpPr/>
          <p:nvPr/>
        </p:nvSpPr>
        <p:spPr>
          <a:xfrm>
            <a:off x="747360" y="1985400"/>
            <a:ext cx="77583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《月夜》诗中“霜风呼呼的吹着，月光明明的照着”，两个“着”可以视为韵脚，也有人将这首诗倒数第二字作为韵脚，吟诵起来朗朗上口。“霜风”与“月光”，“吹”与“照”，“呼呼”与“明明”，节奏感十分强烈，给人一种形象、和谐的美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06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实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3"/>
          <p:cNvSpPr/>
          <p:nvPr/>
        </p:nvSpPr>
        <p:spPr>
          <a:xfrm>
            <a:off x="1912680" y="514800"/>
            <a:ext cx="5323680" cy="2811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阅读下面的语段，深入思考，将其扩写成一篇议论性文章，题目自拟。不少于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600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10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总结提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16"/>
          <p:cNvGrpSpPr/>
          <p:nvPr/>
        </p:nvGrpSpPr>
        <p:grpSpPr>
          <a:xfrm>
            <a:off x="317160" y="1351080"/>
            <a:ext cx="8515800" cy="3131640"/>
            <a:chOff x="317160" y="1351080"/>
            <a:chExt cx="8515800" cy="3131640"/>
          </a:xfrm>
        </p:grpSpPr>
        <p:sp>
          <p:nvSpPr>
            <p:cNvPr id="312" name="圆角矩形 15"/>
            <p:cNvSpPr/>
            <p:nvPr/>
          </p:nvSpPr>
          <p:spPr>
            <a:xfrm>
              <a:off x="317160" y="1351080"/>
              <a:ext cx="8515800" cy="3131640"/>
            </a:xfrm>
            <a:prstGeom prst="roundRect">
              <a:avLst>
                <a:gd name="adj" fmla="val 16667"/>
              </a:avLst>
            </a:prstGeom>
            <a:solidFill>
              <a:srgbClr val="fbece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313" name="文本框 3"/>
            <p:cNvSpPr/>
            <p:nvPr/>
          </p:nvSpPr>
          <p:spPr>
            <a:xfrm>
              <a:off x="624240" y="1427400"/>
              <a:ext cx="7922160" cy="569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2100" spc="222" strike="noStrike">
                  <a:solidFill>
                    <a:srgbClr val="1f2021"/>
                  </a:solidFill>
                  <a:latin typeface="Arial"/>
                </a:rPr>
                <a:t>“</a:t>
              </a:r>
              <a:r>
                <a:rPr b="0" lang="zh-CN" sz="2100" spc="222" strike="noStrike">
                  <a:solidFill>
                    <a:srgbClr val="1f2021"/>
                  </a:solidFill>
                  <a:latin typeface="Arial"/>
                </a:rPr>
                <a:t>苟有恒，何必三更眠五更起；最无益，莫过一日曝十日寒。”这是明代学者胡居仁撰写的对联，意在勉励自己：做事情贵在持之以恒。持之以恒，就要注重平日积累，而非临时抱佛脚。持之以恒，就要坚持不懈，而非一曝十寒。古今中外很多事例都告诉我们，做事情有恒心方能成功。我们在求学、成长的路途上，也应持之以恒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16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1"/>
          <p:cNvGrpSpPr/>
          <p:nvPr/>
        </p:nvGrpSpPr>
        <p:grpSpPr>
          <a:xfrm>
            <a:off x="634680" y="665280"/>
            <a:ext cx="7840440" cy="3930120"/>
            <a:chOff x="634680" y="665280"/>
            <a:chExt cx="7840440" cy="3930120"/>
          </a:xfrm>
        </p:grpSpPr>
        <p:grpSp>
          <p:nvGrpSpPr>
            <p:cNvPr id="318" name="组合 10"/>
            <p:cNvGrpSpPr/>
            <p:nvPr/>
          </p:nvGrpSpPr>
          <p:grpSpPr>
            <a:xfrm>
              <a:off x="634680" y="665280"/>
              <a:ext cx="7840440" cy="3930120"/>
              <a:chOff x="634680" y="665280"/>
              <a:chExt cx="7840440" cy="3930120"/>
            </a:xfrm>
          </p:grpSpPr>
          <p:sp>
            <p:nvSpPr>
              <p:cNvPr id="319" name="圆角矩形 15"/>
              <p:cNvSpPr/>
              <p:nvPr/>
            </p:nvSpPr>
            <p:spPr>
              <a:xfrm>
                <a:off x="634680" y="665280"/>
                <a:ext cx="7840440" cy="3930120"/>
              </a:xfrm>
              <a:prstGeom prst="roundRect">
                <a:avLst>
                  <a:gd name="adj" fmla="val 13802"/>
                </a:avLst>
              </a:prstGeom>
              <a:solidFill>
                <a:srgbClr val="dffabe"/>
              </a:solidFill>
              <a:ln>
                <a:solidFill>
                  <a:srgbClr val="92d05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5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cxnSp>
            <p:nvCxnSpPr>
              <p:cNvPr id="320" name="直接连接符 8"/>
              <p:cNvCxnSpPr/>
              <p:nvPr/>
            </p:nvCxnSpPr>
            <p:spPr>
              <a:xfrm>
                <a:off x="6581520" y="849240"/>
                <a:ext cx="360" cy="3562560"/>
              </a:xfrm>
              <a:prstGeom prst="straightConnector1">
                <a:avLst/>
              </a:prstGeom>
              <a:ln w="22225">
                <a:solidFill>
                  <a:srgbClr val="00b050"/>
                </a:solidFill>
                <a:prstDash val="sysDash"/>
              </a:ln>
            </p:spPr>
          </p:cxnSp>
        </p:grpSp>
        <p:sp>
          <p:nvSpPr>
            <p:cNvPr id="321" name="文本框 3"/>
            <p:cNvSpPr/>
            <p:nvPr/>
          </p:nvSpPr>
          <p:spPr>
            <a:xfrm>
              <a:off x="1023480" y="849600"/>
              <a:ext cx="5399640" cy="1392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2100" spc="222" strike="noStrike">
                  <a:solidFill>
                    <a:srgbClr val="1f2021"/>
                  </a:solidFill>
                  <a:latin typeface="Arial"/>
                </a:rPr>
                <a:t>持之以恒方能成功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3d3f41"/>
                  </a:solidFill>
                  <a:latin typeface="Arial"/>
                </a:rPr>
                <a:t>    </a:t>
              </a:r>
              <a:r>
                <a:rPr b="1" lang="zh-CN" sz="1800" spc="222" strike="noStrike" u="sng">
                  <a:solidFill>
                    <a:srgbClr val="3d3f41"/>
                  </a:solidFill>
                  <a:uFillTx/>
                  <a:latin typeface="Arial"/>
                </a:rPr>
                <a:t>成功的路上并没有开满鲜花和阳光，相反却总是要经历一些坎坷与磨难。只有沿着目标坚持不懈地去奋斗，才能享受成功的喜悦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222" strike="noStrike">
                  <a:solidFill>
                    <a:srgbClr val="3d3f41"/>
                  </a:solidFill>
                  <a:latin typeface="Arial"/>
                </a:rPr>
                <a:t>    “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苟有恒，何必三更眠五更起；最无益，莫过一日曝十日寒。”这是明代学者胡居仁撰写的对联，意在勉励自己：做事情贵在持之以恒。</a:t>
              </a:r>
              <a:r>
                <a:rPr b="1" lang="zh-CN" sz="1800" spc="222" strike="noStrike" u="sng">
                  <a:solidFill>
                    <a:srgbClr val="3d3f41"/>
                  </a:solidFill>
                  <a:uFillTx/>
                  <a:latin typeface="Arial"/>
                </a:rPr>
                <a:t>朝着定下的目标走去是“坚”，一鼓作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3"/>
            <p:cNvSpPr/>
            <p:nvPr/>
          </p:nvSpPr>
          <p:spPr>
            <a:xfrm>
              <a:off x="6786360" y="1383480"/>
              <a:ext cx="14770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d3f41"/>
                  </a:solidFill>
                  <a:latin typeface="Arial"/>
                </a:rPr>
                <a:t>开宗明义，从正反两个方面来看待成功道路，起笔十分客观、从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25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634680" y="665280"/>
            <a:ext cx="7840440" cy="3930120"/>
            <a:chOff x="634680" y="665280"/>
            <a:chExt cx="7840440" cy="3930120"/>
          </a:xfrm>
        </p:grpSpPr>
        <p:grpSp>
          <p:nvGrpSpPr>
            <p:cNvPr id="327" name="组合 11"/>
            <p:cNvGrpSpPr/>
            <p:nvPr/>
          </p:nvGrpSpPr>
          <p:grpSpPr>
            <a:xfrm>
              <a:off x="634680" y="665280"/>
              <a:ext cx="7840440" cy="3930120"/>
              <a:chOff x="634680" y="665280"/>
              <a:chExt cx="7840440" cy="3930120"/>
            </a:xfrm>
          </p:grpSpPr>
          <p:sp>
            <p:nvSpPr>
              <p:cNvPr id="328" name="圆角矩形 12"/>
              <p:cNvSpPr/>
              <p:nvPr/>
            </p:nvSpPr>
            <p:spPr>
              <a:xfrm>
                <a:off x="634680" y="665280"/>
                <a:ext cx="7840440" cy="3930120"/>
              </a:xfrm>
              <a:prstGeom prst="roundRect">
                <a:avLst>
                  <a:gd name="adj" fmla="val 13802"/>
                </a:avLst>
              </a:prstGeom>
              <a:solidFill>
                <a:srgbClr val="dffabe"/>
              </a:solidFill>
              <a:ln>
                <a:solidFill>
                  <a:srgbClr val="92d05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5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cxnSp>
            <p:nvCxnSpPr>
              <p:cNvPr id="329" name="直接连接符 13"/>
              <p:cNvCxnSpPr/>
              <p:nvPr/>
            </p:nvCxnSpPr>
            <p:spPr>
              <a:xfrm>
                <a:off x="6581520" y="849240"/>
                <a:ext cx="360" cy="3562560"/>
              </a:xfrm>
              <a:prstGeom prst="straightConnector1">
                <a:avLst/>
              </a:prstGeom>
              <a:ln w="22225">
                <a:solidFill>
                  <a:srgbClr val="00b050"/>
                </a:solidFill>
                <a:prstDash val="sysDash"/>
              </a:ln>
            </p:spPr>
          </p:cxnSp>
        </p:grpSp>
        <p:sp>
          <p:nvSpPr>
            <p:cNvPr id="330" name="文本框 3"/>
            <p:cNvSpPr/>
            <p:nvPr/>
          </p:nvSpPr>
          <p:spPr>
            <a:xfrm>
              <a:off x="6776280" y="1362960"/>
              <a:ext cx="147708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d3f41"/>
                  </a:solidFill>
                  <a:latin typeface="Arial"/>
                </a:rPr>
                <a:t>展开了“坚持”的内涵，理论论述，扩写很充分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"/>
            <p:cNvSpPr/>
            <p:nvPr/>
          </p:nvSpPr>
          <p:spPr>
            <a:xfrm>
              <a:off x="962280" y="1357200"/>
              <a:ext cx="5399640" cy="1324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800" spc="222" strike="noStrike" u="sng">
                  <a:solidFill>
                    <a:srgbClr val="3d3f41"/>
                  </a:solidFill>
                  <a:uFillTx/>
                  <a:latin typeface="Arial"/>
                </a:rPr>
                <a:t>途中绝不停止是</a:t>
              </a:r>
              <a:r>
                <a:rPr b="1" lang="en-US" sz="1800" spc="222" strike="noStrike" u="sng">
                  <a:solidFill>
                    <a:srgbClr val="3d3f41"/>
                  </a:solidFill>
                  <a:uFillTx/>
                  <a:latin typeface="Arial"/>
                </a:rPr>
                <a:t>“持”，绝不放下、永不言败能够浓缩为两个字——“坚持”。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成功除了坚持到底外，绝对没有任何捷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222" strike="noStrike">
                  <a:solidFill>
                    <a:srgbClr val="3d3f41"/>
                  </a:solidFill>
                  <a:latin typeface="Arial"/>
                </a:rPr>
                <a:t>    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所有的成功者都能够证明：是坚持成就了人生的辉煌。那些最能持之以恒、忘我工作的人往往是最成功的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34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9"/>
          <p:cNvGrpSpPr/>
          <p:nvPr/>
        </p:nvGrpSpPr>
        <p:grpSpPr>
          <a:xfrm>
            <a:off x="634680" y="665280"/>
            <a:ext cx="7840440" cy="3930120"/>
            <a:chOff x="634680" y="665280"/>
            <a:chExt cx="7840440" cy="3930120"/>
          </a:xfrm>
        </p:grpSpPr>
        <p:grpSp>
          <p:nvGrpSpPr>
            <p:cNvPr id="336" name="组合 11"/>
            <p:cNvGrpSpPr/>
            <p:nvPr/>
          </p:nvGrpSpPr>
          <p:grpSpPr>
            <a:xfrm>
              <a:off x="634680" y="665280"/>
              <a:ext cx="7840440" cy="3930120"/>
              <a:chOff x="634680" y="665280"/>
              <a:chExt cx="7840440" cy="3930120"/>
            </a:xfrm>
          </p:grpSpPr>
          <p:sp>
            <p:nvSpPr>
              <p:cNvPr id="337" name="圆角矩形 12"/>
              <p:cNvSpPr/>
              <p:nvPr/>
            </p:nvSpPr>
            <p:spPr>
              <a:xfrm>
                <a:off x="634680" y="665280"/>
                <a:ext cx="7840440" cy="3930120"/>
              </a:xfrm>
              <a:prstGeom prst="roundRect">
                <a:avLst>
                  <a:gd name="adj" fmla="val 13802"/>
                </a:avLst>
              </a:prstGeom>
              <a:solidFill>
                <a:srgbClr val="dffabe"/>
              </a:solidFill>
              <a:ln>
                <a:solidFill>
                  <a:srgbClr val="92d05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5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cxnSp>
            <p:nvCxnSpPr>
              <p:cNvPr id="338" name="直接连接符 13"/>
              <p:cNvCxnSpPr/>
              <p:nvPr/>
            </p:nvCxnSpPr>
            <p:spPr>
              <a:xfrm>
                <a:off x="6581520" y="849240"/>
                <a:ext cx="360" cy="3562560"/>
              </a:xfrm>
              <a:prstGeom prst="straightConnector1">
                <a:avLst/>
              </a:prstGeom>
              <a:ln w="22225">
                <a:solidFill>
                  <a:srgbClr val="00b050"/>
                </a:solidFill>
                <a:prstDash val="sysDash"/>
              </a:ln>
            </p:spPr>
          </p:cxnSp>
        </p:grpSp>
        <p:sp>
          <p:nvSpPr>
            <p:cNvPr id="339" name="文本框 3"/>
            <p:cNvSpPr/>
            <p:nvPr/>
          </p:nvSpPr>
          <p:spPr>
            <a:xfrm>
              <a:off x="6776280" y="1362960"/>
              <a:ext cx="147708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d3f41"/>
                  </a:solidFill>
                  <a:latin typeface="Arial"/>
                </a:rPr>
                <a:t>“</a:t>
              </a:r>
              <a:r>
                <a:rPr b="0" lang="zh-CN" sz="1800" spc="-1" strike="noStrike">
                  <a:solidFill>
                    <a:srgbClr val="3d3f41"/>
                  </a:solidFill>
                  <a:latin typeface="Arial"/>
                </a:rPr>
                <a:t>事实胜于雄辩”，事例论据很充实，也紧紧扣住了中心论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d3f41"/>
                  </a:solidFill>
                  <a:latin typeface="Arial"/>
                </a:rPr>
                <a:t>说理形象、生动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3"/>
            <p:cNvSpPr/>
            <p:nvPr/>
          </p:nvSpPr>
          <p:spPr>
            <a:xfrm>
              <a:off x="962280" y="1357200"/>
              <a:ext cx="539964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1800" spc="222" strike="noStrike">
                  <a:solidFill>
                    <a:srgbClr val="3d3f41"/>
                  </a:solidFill>
                  <a:latin typeface="Arial"/>
                </a:rPr>
                <a:t>    </a:t>
              </a:r>
              <a:r>
                <a:rPr b="1" lang="zh-CN" sz="1800" spc="222" strike="noStrike" u="sng">
                  <a:solidFill>
                    <a:srgbClr val="3d3f41"/>
                  </a:solidFill>
                  <a:uFillTx/>
                  <a:latin typeface="Arial"/>
                </a:rPr>
                <a:t>伟大的发明家爱迪生之所以能成为“发明大王”，正是由于他坚持不懈、持之以恒的工作态度。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如果他像平常人一样总是半途而废，电气时代也就不会到来得如此早。他那千千万万个发明都经历了无数次的失败才成功。是坚持成就了他的事业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43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8"/>
          <p:cNvGrpSpPr/>
          <p:nvPr/>
        </p:nvGrpSpPr>
        <p:grpSpPr>
          <a:xfrm>
            <a:off x="634680" y="665280"/>
            <a:ext cx="7840440" cy="3930120"/>
            <a:chOff x="634680" y="665280"/>
            <a:chExt cx="7840440" cy="3930120"/>
          </a:xfrm>
        </p:grpSpPr>
        <p:grpSp>
          <p:nvGrpSpPr>
            <p:cNvPr id="345" name="组合 11"/>
            <p:cNvGrpSpPr/>
            <p:nvPr/>
          </p:nvGrpSpPr>
          <p:grpSpPr>
            <a:xfrm>
              <a:off x="634680" y="665280"/>
              <a:ext cx="7840440" cy="3930120"/>
              <a:chOff x="634680" y="665280"/>
              <a:chExt cx="7840440" cy="3930120"/>
            </a:xfrm>
          </p:grpSpPr>
          <p:sp>
            <p:nvSpPr>
              <p:cNvPr id="346" name="圆角矩形 12"/>
              <p:cNvSpPr/>
              <p:nvPr/>
            </p:nvSpPr>
            <p:spPr>
              <a:xfrm>
                <a:off x="634680" y="665280"/>
                <a:ext cx="7840440" cy="3930120"/>
              </a:xfrm>
              <a:prstGeom prst="roundRect">
                <a:avLst>
                  <a:gd name="adj" fmla="val 13802"/>
                </a:avLst>
              </a:prstGeom>
              <a:solidFill>
                <a:srgbClr val="dffabe"/>
              </a:solidFill>
              <a:ln>
                <a:solidFill>
                  <a:srgbClr val="92d05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5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cxnSp>
            <p:nvCxnSpPr>
              <p:cNvPr id="347" name="直接连接符 13"/>
              <p:cNvCxnSpPr/>
              <p:nvPr/>
            </p:nvCxnSpPr>
            <p:spPr>
              <a:xfrm>
                <a:off x="6581520" y="849240"/>
                <a:ext cx="360" cy="3562560"/>
              </a:xfrm>
              <a:prstGeom prst="straightConnector1">
                <a:avLst/>
              </a:prstGeom>
              <a:ln w="22225">
                <a:solidFill>
                  <a:srgbClr val="00b050"/>
                </a:solidFill>
                <a:prstDash val="sysDash"/>
              </a:ln>
            </p:spPr>
          </p:cxnSp>
        </p:grpSp>
        <p:sp>
          <p:nvSpPr>
            <p:cNvPr id="348" name="文本框 3"/>
            <p:cNvSpPr/>
            <p:nvPr/>
          </p:nvSpPr>
          <p:spPr>
            <a:xfrm>
              <a:off x="962280" y="919440"/>
              <a:ext cx="5399640" cy="1324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1800" spc="222" strike="noStrike">
                  <a:solidFill>
                    <a:srgbClr val="3d3f41"/>
                  </a:solidFill>
                  <a:latin typeface="Arial"/>
                </a:rPr>
                <a:t>    </a:t>
              </a:r>
              <a:r>
                <a:rPr b="1" lang="zh-CN" sz="1800" spc="222" strike="noStrike" u="sng">
                  <a:solidFill>
                    <a:srgbClr val="3d3f41"/>
                  </a:solidFill>
                  <a:uFillTx/>
                  <a:latin typeface="Arial"/>
                </a:rPr>
                <a:t>坚持下去，脚会战胜路。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走出迷茫的信念，支撑和引导着求生的人寻找生的方向。拥有坚定的信念和毅力，世界上就没有走不完的路，办不了的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222" strike="noStrike">
                  <a:solidFill>
                    <a:srgbClr val="3d3f41"/>
                  </a:solidFill>
                  <a:latin typeface="Arial"/>
                </a:rPr>
                <a:t>    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作家曹雪芹花费了毕生的心血写下了伟大的著作《红楼梦》。他怀着满腔的热血挥起笔“无情”地控诉着封建社会的黑暗。如果他没有执着的人生态度，我们就不可能读到那部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51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8"/>
          <p:cNvGrpSpPr/>
          <p:nvPr/>
        </p:nvGrpSpPr>
        <p:grpSpPr>
          <a:xfrm>
            <a:off x="634680" y="665280"/>
            <a:ext cx="7840440" cy="3930120"/>
            <a:chOff x="634680" y="665280"/>
            <a:chExt cx="7840440" cy="3930120"/>
          </a:xfrm>
        </p:grpSpPr>
        <p:grpSp>
          <p:nvGrpSpPr>
            <p:cNvPr id="353" name="组合 11"/>
            <p:cNvGrpSpPr/>
            <p:nvPr/>
          </p:nvGrpSpPr>
          <p:grpSpPr>
            <a:xfrm>
              <a:off x="634680" y="665280"/>
              <a:ext cx="7840440" cy="3930120"/>
              <a:chOff x="634680" y="665280"/>
              <a:chExt cx="7840440" cy="3930120"/>
            </a:xfrm>
          </p:grpSpPr>
          <p:sp>
            <p:nvSpPr>
              <p:cNvPr id="354" name="圆角矩形 12"/>
              <p:cNvSpPr/>
              <p:nvPr/>
            </p:nvSpPr>
            <p:spPr>
              <a:xfrm>
                <a:off x="634680" y="665280"/>
                <a:ext cx="7840440" cy="3930120"/>
              </a:xfrm>
              <a:prstGeom prst="roundRect">
                <a:avLst>
                  <a:gd name="adj" fmla="val 13802"/>
                </a:avLst>
              </a:prstGeom>
              <a:solidFill>
                <a:srgbClr val="dffabe"/>
              </a:solidFill>
              <a:ln>
                <a:solidFill>
                  <a:srgbClr val="92d05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5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cxnSp>
            <p:nvCxnSpPr>
              <p:cNvPr id="355" name="直接连接符 13"/>
              <p:cNvCxnSpPr/>
              <p:nvPr/>
            </p:nvCxnSpPr>
            <p:spPr>
              <a:xfrm>
                <a:off x="6581520" y="849240"/>
                <a:ext cx="360" cy="3562560"/>
              </a:xfrm>
              <a:prstGeom prst="straightConnector1">
                <a:avLst/>
              </a:prstGeom>
              <a:ln w="22225">
                <a:solidFill>
                  <a:srgbClr val="00b050"/>
                </a:solidFill>
                <a:prstDash val="sysDash"/>
              </a:ln>
            </p:spPr>
          </p:cxnSp>
        </p:grpSp>
        <p:sp>
          <p:nvSpPr>
            <p:cNvPr id="356" name="文本框 3"/>
            <p:cNvSpPr/>
            <p:nvPr/>
          </p:nvSpPr>
          <p:spPr>
            <a:xfrm>
              <a:off x="962280" y="919440"/>
              <a:ext cx="539964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典的《红楼梦》了。即便生活再艰苦他也不曾放下。是坚持成就了他的著作。极具天赋的人如果没有毅力和恒心做基础，他只会成为转瞬即逝的火花。那些认定目标，且坚持不懈的人往往是最成功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222" strike="noStrike">
                  <a:solidFill>
                    <a:srgbClr val="3d3f41"/>
                  </a:solidFill>
                  <a:latin typeface="Arial"/>
                </a:rPr>
                <a:t>    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意大利著名的男高音歌唱家卢西亚诺</a:t>
              </a:r>
              <a:r>
                <a:rPr b="0" lang="en-US" sz="1800" spc="222" strike="noStrike">
                  <a:solidFill>
                    <a:srgbClr val="3d3f41"/>
                  </a:solidFill>
                  <a:latin typeface="Arial"/>
                </a:rPr>
                <a:t>·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帕瓦罗蒂出生于平民家庭。他歌唱天赋过人，经过七年的学习，他第一次正式登台演出。此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2" descr="timg"/>
          <p:cNvPicPr/>
          <p:nvPr/>
        </p:nvPicPr>
        <p:blipFill>
          <a:blip r:embed="rId1"/>
          <a:stretch/>
        </p:blipFill>
        <p:spPr>
          <a:xfrm flipH="1">
            <a:off x="4320" y="-13680"/>
            <a:ext cx="2576160" cy="1410120"/>
          </a:xfrm>
          <a:prstGeom prst="rect">
            <a:avLst/>
          </a:prstGeom>
          <a:ln w="0">
            <a:noFill/>
          </a:ln>
        </p:spPr>
      </p:pic>
      <p:sp>
        <p:nvSpPr>
          <p:cNvPr id="182" name="任意多边形 49"/>
          <p:cNvSpPr/>
          <p:nvPr/>
        </p:nvSpPr>
        <p:spPr>
          <a:xfrm>
            <a:off x="1423080" y="1355400"/>
            <a:ext cx="213480" cy="201960"/>
          </a:xfrm>
          <a:custGeom>
            <a:avLst/>
            <a:gdLst>
              <a:gd name="textAreaLeft" fmla="*/ 0 w 213480"/>
              <a:gd name="textAreaRight" fmla="*/ 213840 w 213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800580" h="755406">
                <a:moveTo>
                  <a:pt x="697056" y="58976"/>
                </a:moveTo>
                <a:cubicBezTo>
                  <a:pt x="673147" y="58976"/>
                  <a:pt x="653765" y="76392"/>
                  <a:pt x="653765" y="97876"/>
                </a:cubicBezTo>
                <a:cubicBezTo>
                  <a:pt x="653765" y="119360"/>
                  <a:pt x="673147" y="136776"/>
                  <a:pt x="697056" y="136776"/>
                </a:cubicBezTo>
                <a:cubicBezTo>
                  <a:pt x="720965" y="136776"/>
                  <a:pt x="740347" y="119360"/>
                  <a:pt x="740347" y="97876"/>
                </a:cubicBezTo>
                <a:cubicBezTo>
                  <a:pt x="740347" y="76392"/>
                  <a:pt x="720965" y="58976"/>
                  <a:pt x="697056" y="58976"/>
                </a:cubicBezTo>
                <a:close/>
                <a:moveTo>
                  <a:pt x="400291" y="0"/>
                </a:moveTo>
                <a:lnTo>
                  <a:pt x="800580" y="0"/>
                </a:lnTo>
                <a:lnTo>
                  <a:pt x="800580" y="377703"/>
                </a:lnTo>
                <a:cubicBezTo>
                  <a:pt x="800580" y="586303"/>
                  <a:pt x="621364" y="755406"/>
                  <a:pt x="400290" y="755406"/>
                </a:cubicBezTo>
                <a:cubicBezTo>
                  <a:pt x="179216" y="755406"/>
                  <a:pt x="0" y="586303"/>
                  <a:pt x="0" y="377703"/>
                </a:cubicBezTo>
                <a:lnTo>
                  <a:pt x="1" y="377703"/>
                </a:lnTo>
                <a:cubicBezTo>
                  <a:pt x="1" y="169103"/>
                  <a:pt x="179217" y="0"/>
                  <a:pt x="400291" y="0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文本框 4"/>
          <p:cNvSpPr/>
          <p:nvPr/>
        </p:nvSpPr>
        <p:spPr>
          <a:xfrm>
            <a:off x="1725840" y="1221120"/>
            <a:ext cx="620496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385920" indent="-38592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1.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回顾本单元的诗歌作品，把握诗歌咏叹生活、抒发情感、表达志向的特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宋体"/>
              </a:rPr>
              <a:t>2.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  <a:ea typeface="宋体"/>
              </a:rPr>
              <a:t>通过训练，学会运用扩写的方法进行写作，丰富写作经验，提高写作能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宋体"/>
              </a:rPr>
              <a:t>3.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  <a:ea typeface="宋体"/>
              </a:rPr>
              <a:t>在写作中培养深入思考和不断修改习作的习惯与情趣，养成良好的写作习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直接连接符 5"/>
          <p:cNvCxnSpPr/>
          <p:nvPr/>
        </p:nvCxnSpPr>
        <p:spPr>
          <a:xfrm>
            <a:off x="142920" y="732240"/>
            <a:ext cx="8859240" cy="360"/>
          </a:xfrm>
          <a:prstGeom prst="straightConnector1">
            <a:avLst/>
          </a:prstGeom>
          <a:ln w="22225">
            <a:solidFill>
              <a:srgbClr val="babd3d"/>
            </a:solidFill>
          </a:ln>
        </p:spPr>
      </p:cxnSp>
      <p:sp>
        <p:nvSpPr>
          <p:cNvPr id="185" name="任意多边形 11"/>
          <p:cNvSpPr/>
          <p:nvPr/>
        </p:nvSpPr>
        <p:spPr>
          <a:xfrm>
            <a:off x="1423080" y="2315520"/>
            <a:ext cx="213480" cy="201960"/>
          </a:xfrm>
          <a:custGeom>
            <a:avLst/>
            <a:gdLst>
              <a:gd name="textAreaLeft" fmla="*/ 0 w 213480"/>
              <a:gd name="textAreaRight" fmla="*/ 213840 w 213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800580" h="755406">
                <a:moveTo>
                  <a:pt x="697056" y="58976"/>
                </a:moveTo>
                <a:cubicBezTo>
                  <a:pt x="673147" y="58976"/>
                  <a:pt x="653765" y="76392"/>
                  <a:pt x="653765" y="97876"/>
                </a:cubicBezTo>
                <a:cubicBezTo>
                  <a:pt x="653765" y="119360"/>
                  <a:pt x="673147" y="136776"/>
                  <a:pt x="697056" y="136776"/>
                </a:cubicBezTo>
                <a:cubicBezTo>
                  <a:pt x="720965" y="136776"/>
                  <a:pt x="740347" y="119360"/>
                  <a:pt x="740347" y="97876"/>
                </a:cubicBezTo>
                <a:cubicBezTo>
                  <a:pt x="740347" y="76392"/>
                  <a:pt x="720965" y="58976"/>
                  <a:pt x="697056" y="58976"/>
                </a:cubicBezTo>
                <a:close/>
                <a:moveTo>
                  <a:pt x="400291" y="0"/>
                </a:moveTo>
                <a:lnTo>
                  <a:pt x="800580" y="0"/>
                </a:lnTo>
                <a:lnTo>
                  <a:pt x="800580" y="377703"/>
                </a:lnTo>
                <a:cubicBezTo>
                  <a:pt x="800580" y="586303"/>
                  <a:pt x="621364" y="755406"/>
                  <a:pt x="400290" y="755406"/>
                </a:cubicBezTo>
                <a:cubicBezTo>
                  <a:pt x="179216" y="755406"/>
                  <a:pt x="0" y="586303"/>
                  <a:pt x="0" y="377703"/>
                </a:cubicBezTo>
                <a:lnTo>
                  <a:pt x="1" y="377703"/>
                </a:lnTo>
                <a:cubicBezTo>
                  <a:pt x="1" y="169103"/>
                  <a:pt x="179217" y="0"/>
                  <a:pt x="400291" y="0"/>
                </a:cubicBezTo>
                <a:close/>
              </a:path>
            </a:pathLst>
          </a:custGeom>
          <a:solidFill>
            <a:srgbClr val="8b8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任意多边形 12"/>
          <p:cNvSpPr/>
          <p:nvPr/>
        </p:nvSpPr>
        <p:spPr>
          <a:xfrm>
            <a:off x="1423080" y="3266640"/>
            <a:ext cx="213480" cy="201960"/>
          </a:xfrm>
          <a:custGeom>
            <a:avLst/>
            <a:gdLst>
              <a:gd name="textAreaLeft" fmla="*/ 0 w 213480"/>
              <a:gd name="textAreaRight" fmla="*/ 213840 w 213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800580" h="755406">
                <a:moveTo>
                  <a:pt x="697056" y="58976"/>
                </a:moveTo>
                <a:cubicBezTo>
                  <a:pt x="673147" y="58976"/>
                  <a:pt x="653765" y="76392"/>
                  <a:pt x="653765" y="97876"/>
                </a:cubicBezTo>
                <a:cubicBezTo>
                  <a:pt x="653765" y="119360"/>
                  <a:pt x="673147" y="136776"/>
                  <a:pt x="697056" y="136776"/>
                </a:cubicBezTo>
                <a:cubicBezTo>
                  <a:pt x="720965" y="136776"/>
                  <a:pt x="740347" y="119360"/>
                  <a:pt x="740347" y="97876"/>
                </a:cubicBezTo>
                <a:cubicBezTo>
                  <a:pt x="740347" y="76392"/>
                  <a:pt x="720965" y="58976"/>
                  <a:pt x="697056" y="58976"/>
                </a:cubicBezTo>
                <a:close/>
                <a:moveTo>
                  <a:pt x="400291" y="0"/>
                </a:moveTo>
                <a:lnTo>
                  <a:pt x="800580" y="0"/>
                </a:lnTo>
                <a:lnTo>
                  <a:pt x="800580" y="377703"/>
                </a:lnTo>
                <a:cubicBezTo>
                  <a:pt x="800580" y="586303"/>
                  <a:pt x="621364" y="755406"/>
                  <a:pt x="400290" y="755406"/>
                </a:cubicBezTo>
                <a:cubicBezTo>
                  <a:pt x="179216" y="755406"/>
                  <a:pt x="0" y="586303"/>
                  <a:pt x="0" y="377703"/>
                </a:cubicBezTo>
                <a:lnTo>
                  <a:pt x="1" y="377703"/>
                </a:lnTo>
                <a:cubicBezTo>
                  <a:pt x="1" y="169103"/>
                  <a:pt x="179217" y="0"/>
                  <a:pt x="400291" y="0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文本框 2"/>
          <p:cNvSpPr/>
          <p:nvPr/>
        </p:nvSpPr>
        <p:spPr>
          <a:xfrm>
            <a:off x="147960" y="326520"/>
            <a:ext cx="1377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课时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59" name="文本框 10"/>
          <p:cNvSpPr/>
          <p:nvPr/>
        </p:nvSpPr>
        <p:spPr>
          <a:xfrm>
            <a:off x="875880" y="263160"/>
            <a:ext cx="981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9"/>
          <p:cNvGrpSpPr/>
          <p:nvPr/>
        </p:nvGrpSpPr>
        <p:grpSpPr>
          <a:xfrm>
            <a:off x="634680" y="665280"/>
            <a:ext cx="7840440" cy="3930120"/>
            <a:chOff x="634680" y="665280"/>
            <a:chExt cx="7840440" cy="3930120"/>
          </a:xfrm>
        </p:grpSpPr>
        <p:grpSp>
          <p:nvGrpSpPr>
            <p:cNvPr id="361" name="组合 11"/>
            <p:cNvGrpSpPr/>
            <p:nvPr/>
          </p:nvGrpSpPr>
          <p:grpSpPr>
            <a:xfrm>
              <a:off x="634680" y="665280"/>
              <a:ext cx="7840440" cy="3930120"/>
              <a:chOff x="634680" y="665280"/>
              <a:chExt cx="7840440" cy="3930120"/>
            </a:xfrm>
          </p:grpSpPr>
          <p:sp>
            <p:nvSpPr>
              <p:cNvPr id="362" name="圆角矩形 12"/>
              <p:cNvSpPr/>
              <p:nvPr/>
            </p:nvSpPr>
            <p:spPr>
              <a:xfrm>
                <a:off x="634680" y="665280"/>
                <a:ext cx="7840440" cy="3930120"/>
              </a:xfrm>
              <a:prstGeom prst="roundRect">
                <a:avLst>
                  <a:gd name="adj" fmla="val 13802"/>
                </a:avLst>
              </a:prstGeom>
              <a:solidFill>
                <a:srgbClr val="dffabe"/>
              </a:solidFill>
              <a:ln>
                <a:solidFill>
                  <a:srgbClr val="92d05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5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cxnSp>
            <p:nvCxnSpPr>
              <p:cNvPr id="363" name="直接连接符 13"/>
              <p:cNvCxnSpPr/>
              <p:nvPr/>
            </p:nvCxnSpPr>
            <p:spPr>
              <a:xfrm>
                <a:off x="6581520" y="849240"/>
                <a:ext cx="360" cy="3562560"/>
              </a:xfrm>
              <a:prstGeom prst="straightConnector1">
                <a:avLst/>
              </a:prstGeom>
              <a:ln w="22225">
                <a:solidFill>
                  <a:srgbClr val="00b050"/>
                </a:solidFill>
                <a:prstDash val="sysDash"/>
              </a:ln>
            </p:spPr>
          </p:cxnSp>
        </p:grpSp>
        <p:sp>
          <p:nvSpPr>
            <p:cNvPr id="364" name="文本框 3"/>
            <p:cNvSpPr/>
            <p:nvPr/>
          </p:nvSpPr>
          <p:spPr>
            <a:xfrm>
              <a:off x="962280" y="1134360"/>
              <a:ext cx="539964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他又用了七年的时光，才进入大都会歌剧院。他说：</a:t>
              </a:r>
              <a:r>
                <a:rPr b="1" lang="en-US" sz="1800" spc="222" strike="noStrike" u="sng">
                  <a:solidFill>
                    <a:srgbClr val="3d3f41"/>
                  </a:solidFill>
                  <a:uFillTx/>
                  <a:latin typeface="Arial"/>
                </a:rPr>
                <a:t>“坚持不懈是关键。”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是的，如果他没有坚持不懈的精神，乐坛就没有这位天才歌唱家的地位。是坚持成就了他的梦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222" strike="noStrike">
                  <a:solidFill>
                    <a:srgbClr val="3d3f41"/>
                  </a:solidFill>
                  <a:latin typeface="Arial"/>
                </a:rPr>
                <a:t>    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坚持，再坚持，是每个苦苦探索而最终成功的人的必经之路。正如一位</a:t>
              </a:r>
              <a:r>
                <a:rPr b="0" lang="en-US" sz="1800" spc="222" strike="noStrike">
                  <a:solidFill>
                    <a:srgbClr val="3d3f41"/>
                  </a:solidFill>
                  <a:latin typeface="Arial"/>
                </a:rPr>
                <a:t>19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世纪的牛津大学校长认为的那样：天才靠的就是不断的努力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3"/>
            <p:cNvSpPr/>
            <p:nvPr/>
          </p:nvSpPr>
          <p:spPr>
            <a:xfrm>
              <a:off x="6776280" y="1362960"/>
              <a:ext cx="14770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d3f41"/>
                  </a:solidFill>
                  <a:latin typeface="Arial"/>
                </a:rPr>
                <a:t>道理论据简洁、准确，给人特别之感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68" name="文本框 10"/>
          <p:cNvSpPr/>
          <p:nvPr/>
        </p:nvSpPr>
        <p:spPr>
          <a:xfrm>
            <a:off x="875880" y="263160"/>
            <a:ext cx="961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8"/>
          <p:cNvGrpSpPr/>
          <p:nvPr/>
        </p:nvGrpSpPr>
        <p:grpSpPr>
          <a:xfrm>
            <a:off x="634680" y="665280"/>
            <a:ext cx="7840440" cy="3930120"/>
            <a:chOff x="634680" y="665280"/>
            <a:chExt cx="7840440" cy="3930120"/>
          </a:xfrm>
        </p:grpSpPr>
        <p:grpSp>
          <p:nvGrpSpPr>
            <p:cNvPr id="370" name="组合 11"/>
            <p:cNvGrpSpPr/>
            <p:nvPr/>
          </p:nvGrpSpPr>
          <p:grpSpPr>
            <a:xfrm>
              <a:off x="634680" y="665280"/>
              <a:ext cx="7840440" cy="3930120"/>
              <a:chOff x="634680" y="665280"/>
              <a:chExt cx="7840440" cy="3930120"/>
            </a:xfrm>
          </p:grpSpPr>
          <p:sp>
            <p:nvSpPr>
              <p:cNvPr id="371" name="圆角矩形 12"/>
              <p:cNvSpPr/>
              <p:nvPr/>
            </p:nvSpPr>
            <p:spPr>
              <a:xfrm>
                <a:off x="634680" y="665280"/>
                <a:ext cx="7840440" cy="3930120"/>
              </a:xfrm>
              <a:prstGeom prst="roundRect">
                <a:avLst>
                  <a:gd name="adj" fmla="val 13802"/>
                </a:avLst>
              </a:prstGeom>
              <a:solidFill>
                <a:srgbClr val="dffabe"/>
              </a:solidFill>
              <a:ln>
                <a:solidFill>
                  <a:srgbClr val="92d05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5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cxnSp>
            <p:nvCxnSpPr>
              <p:cNvPr id="372" name="直接连接符 13"/>
              <p:cNvCxnSpPr/>
              <p:nvPr/>
            </p:nvCxnSpPr>
            <p:spPr>
              <a:xfrm>
                <a:off x="6581520" y="849240"/>
                <a:ext cx="360" cy="3562560"/>
              </a:xfrm>
              <a:prstGeom prst="straightConnector1">
                <a:avLst/>
              </a:prstGeom>
              <a:ln w="22225">
                <a:solidFill>
                  <a:srgbClr val="00b050"/>
                </a:solidFill>
                <a:prstDash val="sysDash"/>
              </a:ln>
            </p:spPr>
          </p:cxnSp>
        </p:grpSp>
        <p:sp>
          <p:nvSpPr>
            <p:cNvPr id="373" name="文本框 3"/>
            <p:cNvSpPr/>
            <p:nvPr/>
          </p:nvSpPr>
          <p:spPr>
            <a:xfrm>
              <a:off x="962280" y="1584720"/>
              <a:ext cx="5399640" cy="1324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天才也是百分之一的灵感加上百分之九十九的汗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222" strike="noStrike">
                  <a:solidFill>
                    <a:srgbClr val="3d3f41"/>
                  </a:solidFill>
                  <a:latin typeface="Arial"/>
                </a:rPr>
                <a:t>    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成功没有捷径可走，</a:t>
              </a:r>
              <a:r>
                <a:rPr b="1" lang="zh-CN" sz="1800" spc="222" strike="noStrike" u="sng">
                  <a:solidFill>
                    <a:srgbClr val="3d3f41"/>
                  </a:solidFill>
                  <a:uFillTx/>
                  <a:latin typeface="Arial"/>
                </a:rPr>
                <a:t>只有坚持到底才能笑到最后，</a:t>
              </a:r>
              <a:r>
                <a:rPr b="0" lang="zh-CN" sz="1800" spc="222" strike="noStrike">
                  <a:solidFill>
                    <a:srgbClr val="3d3f41"/>
                  </a:solidFill>
                  <a:latin typeface="Arial"/>
                </a:rPr>
                <a:t>只有持之以恒才能成功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直接连接符 2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376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圆角矩形 15"/>
          <p:cNvSpPr/>
          <p:nvPr/>
        </p:nvSpPr>
        <p:spPr>
          <a:xfrm>
            <a:off x="634680" y="900720"/>
            <a:ext cx="7840440" cy="3131640"/>
          </a:xfrm>
          <a:prstGeom prst="roundRect">
            <a:avLst>
              <a:gd name="adj" fmla="val 5478"/>
            </a:avLst>
          </a:prstGeom>
          <a:noFill/>
          <a:ln w="28575">
            <a:solidFill>
              <a:srgbClr val="00b0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78" name="文本框 3"/>
          <p:cNvSpPr/>
          <p:nvPr/>
        </p:nvSpPr>
        <p:spPr>
          <a:xfrm>
            <a:off x="747360" y="957960"/>
            <a:ext cx="7574040" cy="102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总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这是一篇按要求扩写的文章，扩写效果很好。首先是起笔扩充不凡，正反两个方面，更具说服力；其次是论据补充得十分充足，扩写的内容精彩，流畅自然，前后连贯一致。对于理论论述部分，分析很具体，展开很充分，论述很有力，形象生动，给人十分鲜明之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图片 7" descr="6d5cde883c7ca842d804ebcc2cebf3af.jpg"/>
          <p:cNvPicPr/>
          <p:nvPr/>
        </p:nvPicPr>
        <p:blipFill>
          <a:blip r:embed="rId1"/>
          <a:stretch/>
        </p:blipFill>
        <p:spPr>
          <a:xfrm>
            <a:off x="7668000" y="3429000"/>
            <a:ext cx="1121760" cy="15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2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190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学习扩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6"/>
          <p:cNvSpPr/>
          <p:nvPr/>
        </p:nvSpPr>
        <p:spPr>
          <a:xfrm>
            <a:off x="3292560" y="340920"/>
            <a:ext cx="2602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看图写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15"/>
          <p:cNvGrpSpPr/>
          <p:nvPr/>
        </p:nvGrpSpPr>
        <p:grpSpPr>
          <a:xfrm>
            <a:off x="419760" y="1044000"/>
            <a:ext cx="4128120" cy="3324240"/>
            <a:chOff x="419760" y="1044000"/>
            <a:chExt cx="4128120" cy="3324240"/>
          </a:xfrm>
        </p:grpSpPr>
        <p:pic>
          <p:nvPicPr>
            <p:cNvPr id="193" name="图片 16" descr="5539bdf3N1fd48fb8.jpg"/>
            <p:cNvPicPr/>
            <p:nvPr/>
          </p:nvPicPr>
          <p:blipFill>
            <a:blip r:embed="rId1"/>
            <a:stretch/>
          </p:blipFill>
          <p:spPr>
            <a:xfrm>
              <a:off x="419760" y="1044000"/>
              <a:ext cx="4128120" cy="28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矩形 7"/>
            <p:cNvSpPr/>
            <p:nvPr/>
          </p:nvSpPr>
          <p:spPr>
            <a:xfrm>
              <a:off x="2096640" y="3958560"/>
              <a:ext cx="8211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-1" strike="noStrike">
                  <a:solidFill>
                    <a:srgbClr val="3d3f41"/>
                  </a:solidFill>
                  <a:latin typeface="宋体"/>
                  <a:ea typeface="宋体"/>
                </a:rPr>
                <a:t>刻舟求剑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4"/>
          <p:cNvGrpSpPr/>
          <p:nvPr/>
        </p:nvGrpSpPr>
        <p:grpSpPr>
          <a:xfrm>
            <a:off x="4821120" y="1044000"/>
            <a:ext cx="3899160" cy="3324240"/>
            <a:chOff x="4821120" y="1044000"/>
            <a:chExt cx="3899160" cy="3324240"/>
          </a:xfrm>
        </p:grpSpPr>
        <p:pic>
          <p:nvPicPr>
            <p:cNvPr id="196" name="图片 19" descr="t0156559e747e432f01.jpg"/>
            <p:cNvPicPr/>
            <p:nvPr/>
          </p:nvPicPr>
          <p:blipFill>
            <a:blip r:embed="rId2"/>
            <a:stretch/>
          </p:blipFill>
          <p:spPr>
            <a:xfrm>
              <a:off x="4821120" y="1044000"/>
              <a:ext cx="3899160" cy="28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矩形 8"/>
            <p:cNvSpPr/>
            <p:nvPr/>
          </p:nvSpPr>
          <p:spPr>
            <a:xfrm>
              <a:off x="6383880" y="3958560"/>
              <a:ext cx="8211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-1" strike="noStrike">
                  <a:solidFill>
                    <a:srgbClr val="3d3f41"/>
                  </a:solidFill>
                  <a:latin typeface="宋体"/>
                  <a:ea typeface="宋体"/>
                </a:rPr>
                <a:t>郑人买履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直接连接符 16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200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学习扩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61"/>
          <p:cNvGrpSpPr/>
          <p:nvPr/>
        </p:nvGrpSpPr>
        <p:grpSpPr>
          <a:xfrm>
            <a:off x="501480" y="736920"/>
            <a:ext cx="1160280" cy="3254760"/>
            <a:chOff x="501480" y="736920"/>
            <a:chExt cx="1160280" cy="3254760"/>
          </a:xfrm>
        </p:grpSpPr>
        <p:sp>
          <p:nvSpPr>
            <p:cNvPr id="202" name="圆角矩形 18"/>
            <p:cNvSpPr/>
            <p:nvPr/>
          </p:nvSpPr>
          <p:spPr>
            <a:xfrm>
              <a:off x="501480" y="1627560"/>
              <a:ext cx="757080" cy="15451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03" name="文本框 30"/>
            <p:cNvSpPr/>
            <p:nvPr/>
          </p:nvSpPr>
          <p:spPr>
            <a:xfrm>
              <a:off x="539640" y="1634760"/>
              <a:ext cx="71928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100" spc="-1" strike="noStrike">
                  <a:solidFill>
                    <a:srgbClr val="2e2f31"/>
                  </a:solidFill>
                  <a:latin typeface="Arial"/>
                </a:rPr>
                <a:t>不同体裁文章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左大括号 19"/>
            <p:cNvSpPr/>
            <p:nvPr/>
          </p:nvSpPr>
          <p:spPr>
            <a:xfrm>
              <a:off x="1392120" y="736920"/>
              <a:ext cx="269640" cy="3254760"/>
            </a:xfrm>
            <a:prstGeom prst="leftBrace">
              <a:avLst>
                <a:gd name="adj1" fmla="val 55392"/>
                <a:gd name="adj2" fmla="val 50000"/>
              </a:avLst>
            </a:prstGeom>
            <a:noFill/>
            <a:ln w="28575">
              <a:solidFill>
                <a:srgbClr val="babd3d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205" name="组合 62"/>
          <p:cNvGrpSpPr/>
          <p:nvPr/>
        </p:nvGrpSpPr>
        <p:grpSpPr>
          <a:xfrm>
            <a:off x="1688760" y="613080"/>
            <a:ext cx="1776240" cy="569520"/>
            <a:chOff x="1688760" y="613080"/>
            <a:chExt cx="1776240" cy="569520"/>
          </a:xfrm>
        </p:grpSpPr>
        <p:sp>
          <p:nvSpPr>
            <p:cNvPr id="206" name="圆角矩形 20"/>
            <p:cNvSpPr/>
            <p:nvPr/>
          </p:nvSpPr>
          <p:spPr>
            <a:xfrm>
              <a:off x="1719720" y="638640"/>
              <a:ext cx="1565640" cy="4993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07" name="文本框 30"/>
            <p:cNvSpPr/>
            <p:nvPr/>
          </p:nvSpPr>
          <p:spPr>
            <a:xfrm>
              <a:off x="1688760" y="613080"/>
              <a:ext cx="1776240" cy="5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100" spc="222" strike="noStrike">
                  <a:solidFill>
                    <a:srgbClr val="2e2f31"/>
                  </a:solidFill>
                  <a:latin typeface="Arial"/>
                </a:rPr>
                <a:t>记叙性文章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65"/>
          <p:cNvGrpSpPr/>
          <p:nvPr/>
        </p:nvGrpSpPr>
        <p:grpSpPr>
          <a:xfrm>
            <a:off x="3338280" y="379080"/>
            <a:ext cx="2426040" cy="996840"/>
            <a:chOff x="3338280" y="379080"/>
            <a:chExt cx="2426040" cy="996840"/>
          </a:xfrm>
        </p:grpSpPr>
        <p:cxnSp>
          <p:nvCxnSpPr>
            <p:cNvPr id="209" name="直接连接符 31"/>
            <p:cNvCxnSpPr/>
            <p:nvPr/>
          </p:nvCxnSpPr>
          <p:spPr>
            <a:xfrm>
              <a:off x="3338280" y="898560"/>
              <a:ext cx="486360" cy="360"/>
            </a:xfrm>
            <a:prstGeom prst="straightConnector1">
              <a:avLst/>
            </a:prstGeom>
            <a:ln w="22225">
              <a:solidFill>
                <a:srgbClr val="babd3d"/>
              </a:solidFill>
            </a:ln>
          </p:spPr>
        </p:cxnSp>
        <p:sp>
          <p:nvSpPr>
            <p:cNvPr id="210" name="圆角矩形 22"/>
            <p:cNvSpPr/>
            <p:nvPr/>
          </p:nvSpPr>
          <p:spPr>
            <a:xfrm>
              <a:off x="3869280" y="404280"/>
              <a:ext cx="1828800" cy="97164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11" name="文本框 30"/>
            <p:cNvSpPr/>
            <p:nvPr/>
          </p:nvSpPr>
          <p:spPr>
            <a:xfrm>
              <a:off x="3988080" y="379080"/>
              <a:ext cx="177624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222" strike="noStrike">
                  <a:solidFill>
                    <a:srgbClr val="2e2f31"/>
                  </a:solidFill>
                  <a:latin typeface="Arial"/>
                </a:rPr>
                <a:t>忠于原文的中心思想和人物形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66"/>
          <p:cNvGrpSpPr/>
          <p:nvPr/>
        </p:nvGrpSpPr>
        <p:grpSpPr>
          <a:xfrm>
            <a:off x="1688760" y="2098080"/>
            <a:ext cx="1776240" cy="569520"/>
            <a:chOff x="1688760" y="2098080"/>
            <a:chExt cx="1776240" cy="569520"/>
          </a:xfrm>
        </p:grpSpPr>
        <p:sp>
          <p:nvSpPr>
            <p:cNvPr id="213" name="圆角矩形 32"/>
            <p:cNvSpPr/>
            <p:nvPr/>
          </p:nvSpPr>
          <p:spPr>
            <a:xfrm>
              <a:off x="1719720" y="2123640"/>
              <a:ext cx="1565640" cy="4993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14" name="文本框 30"/>
            <p:cNvSpPr/>
            <p:nvPr/>
          </p:nvSpPr>
          <p:spPr>
            <a:xfrm>
              <a:off x="1688760" y="2098080"/>
              <a:ext cx="1776240" cy="5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100" spc="222" strike="noStrike">
                  <a:solidFill>
                    <a:srgbClr val="2e2f31"/>
                  </a:solidFill>
                  <a:latin typeface="Arial"/>
                </a:rPr>
                <a:t>说明性文章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7"/>
          <p:cNvGrpSpPr/>
          <p:nvPr/>
        </p:nvGrpSpPr>
        <p:grpSpPr>
          <a:xfrm>
            <a:off x="3338280" y="1897920"/>
            <a:ext cx="2426040" cy="971640"/>
            <a:chOff x="3338280" y="1897920"/>
            <a:chExt cx="2426040" cy="971640"/>
          </a:xfrm>
        </p:grpSpPr>
        <p:cxnSp>
          <p:nvCxnSpPr>
            <p:cNvPr id="216" name="直接连接符 29"/>
            <p:cNvCxnSpPr/>
            <p:nvPr/>
          </p:nvCxnSpPr>
          <p:spPr>
            <a:xfrm>
              <a:off x="3338280" y="2383560"/>
              <a:ext cx="486360" cy="360"/>
            </a:xfrm>
            <a:prstGeom prst="straightConnector1">
              <a:avLst/>
            </a:prstGeom>
            <a:ln w="22225">
              <a:solidFill>
                <a:srgbClr val="babd3d"/>
              </a:solidFill>
            </a:ln>
          </p:spPr>
        </p:cxnSp>
        <p:sp>
          <p:nvSpPr>
            <p:cNvPr id="217" name="圆角矩形 34"/>
            <p:cNvSpPr/>
            <p:nvPr/>
          </p:nvSpPr>
          <p:spPr>
            <a:xfrm>
              <a:off x="3869280" y="1897920"/>
              <a:ext cx="1828800" cy="97164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18" name="文本框 30"/>
            <p:cNvSpPr/>
            <p:nvPr/>
          </p:nvSpPr>
          <p:spPr>
            <a:xfrm>
              <a:off x="3988080" y="2017800"/>
              <a:ext cx="177624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222" strike="noStrike">
                  <a:solidFill>
                    <a:srgbClr val="2e2f31"/>
                  </a:solidFill>
                  <a:latin typeface="Arial"/>
                </a:rPr>
                <a:t>忠于原文的说明对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4"/>
          <p:cNvGrpSpPr/>
          <p:nvPr/>
        </p:nvGrpSpPr>
        <p:grpSpPr>
          <a:xfrm>
            <a:off x="1688760" y="3583440"/>
            <a:ext cx="1776240" cy="569520"/>
            <a:chOff x="1688760" y="3583440"/>
            <a:chExt cx="1776240" cy="569520"/>
          </a:xfrm>
        </p:grpSpPr>
        <p:sp>
          <p:nvSpPr>
            <p:cNvPr id="220" name="圆角矩形 42"/>
            <p:cNvSpPr/>
            <p:nvPr/>
          </p:nvSpPr>
          <p:spPr>
            <a:xfrm>
              <a:off x="1719720" y="3608640"/>
              <a:ext cx="1565640" cy="4993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21" name="文本框 30"/>
            <p:cNvSpPr/>
            <p:nvPr/>
          </p:nvSpPr>
          <p:spPr>
            <a:xfrm>
              <a:off x="1688760" y="3583440"/>
              <a:ext cx="1776240" cy="5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100" spc="222" strike="noStrike">
                  <a:solidFill>
                    <a:srgbClr val="2e2f31"/>
                  </a:solidFill>
                  <a:latin typeface="Arial"/>
                </a:rPr>
                <a:t>议论性文章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68"/>
          <p:cNvGrpSpPr/>
          <p:nvPr/>
        </p:nvGrpSpPr>
        <p:grpSpPr>
          <a:xfrm>
            <a:off x="3338280" y="3382920"/>
            <a:ext cx="2426040" cy="971640"/>
            <a:chOff x="3338280" y="3382920"/>
            <a:chExt cx="2426040" cy="971640"/>
          </a:xfrm>
        </p:grpSpPr>
        <p:cxnSp>
          <p:nvCxnSpPr>
            <p:cNvPr id="223" name="直接连接符 41"/>
            <p:cNvCxnSpPr/>
            <p:nvPr/>
          </p:nvCxnSpPr>
          <p:spPr>
            <a:xfrm>
              <a:off x="3338280" y="3868920"/>
              <a:ext cx="486360" cy="360"/>
            </a:xfrm>
            <a:prstGeom prst="straightConnector1">
              <a:avLst/>
            </a:prstGeom>
            <a:ln w="22225">
              <a:solidFill>
                <a:srgbClr val="babd3d"/>
              </a:solidFill>
            </a:ln>
          </p:spPr>
        </p:cxnSp>
        <p:sp>
          <p:nvSpPr>
            <p:cNvPr id="224" name="圆角矩形 44"/>
            <p:cNvSpPr/>
            <p:nvPr/>
          </p:nvSpPr>
          <p:spPr>
            <a:xfrm>
              <a:off x="3869280" y="3382920"/>
              <a:ext cx="1828800" cy="97164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25" name="文本框 30"/>
            <p:cNvSpPr/>
            <p:nvPr/>
          </p:nvSpPr>
          <p:spPr>
            <a:xfrm>
              <a:off x="3988080" y="3502800"/>
              <a:ext cx="1776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222" strike="noStrike">
                  <a:solidFill>
                    <a:srgbClr val="2e2f31"/>
                  </a:solidFill>
                  <a:latin typeface="Arial"/>
                </a:rPr>
                <a:t>忠于原文的观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69"/>
          <p:cNvGrpSpPr/>
          <p:nvPr/>
        </p:nvGrpSpPr>
        <p:grpSpPr>
          <a:xfrm>
            <a:off x="5834520" y="332640"/>
            <a:ext cx="2845080" cy="1106640"/>
            <a:chOff x="5834520" y="332640"/>
            <a:chExt cx="2845080" cy="1106640"/>
          </a:xfrm>
        </p:grpSpPr>
        <p:sp>
          <p:nvSpPr>
            <p:cNvPr id="227" name="圆角矩形 24"/>
            <p:cNvSpPr/>
            <p:nvPr/>
          </p:nvSpPr>
          <p:spPr>
            <a:xfrm>
              <a:off x="6238800" y="332640"/>
              <a:ext cx="2399760" cy="110664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28" name="文本框 30"/>
            <p:cNvSpPr/>
            <p:nvPr/>
          </p:nvSpPr>
          <p:spPr>
            <a:xfrm>
              <a:off x="6293880" y="370440"/>
              <a:ext cx="2385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222" strike="noStrike">
                  <a:solidFill>
                    <a:srgbClr val="2e2f31"/>
                  </a:solidFill>
                  <a:latin typeface="Arial"/>
                </a:rPr>
                <a:t>补充情节和细节，增加对人物、环境的描写等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右箭头 48"/>
            <p:cNvSpPr/>
            <p:nvPr/>
          </p:nvSpPr>
          <p:spPr>
            <a:xfrm>
              <a:off x="5834520" y="690840"/>
              <a:ext cx="299160" cy="316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19050"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grpSp>
        <p:nvGrpSpPr>
          <p:cNvPr id="230" name="组合 70"/>
          <p:cNvGrpSpPr/>
          <p:nvPr/>
        </p:nvGrpSpPr>
        <p:grpSpPr>
          <a:xfrm>
            <a:off x="5834520" y="1826280"/>
            <a:ext cx="2845080" cy="1106640"/>
            <a:chOff x="5834520" y="1826280"/>
            <a:chExt cx="2845080" cy="1106640"/>
          </a:xfrm>
        </p:grpSpPr>
        <p:sp>
          <p:nvSpPr>
            <p:cNvPr id="231" name="圆角矩形 36"/>
            <p:cNvSpPr/>
            <p:nvPr/>
          </p:nvSpPr>
          <p:spPr>
            <a:xfrm>
              <a:off x="6238800" y="1826280"/>
              <a:ext cx="2399760" cy="110664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32" name="文本框 30"/>
            <p:cNvSpPr/>
            <p:nvPr/>
          </p:nvSpPr>
          <p:spPr>
            <a:xfrm>
              <a:off x="6293880" y="1855440"/>
              <a:ext cx="2385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222" strike="noStrike">
                  <a:solidFill>
                    <a:srgbClr val="2e2f31"/>
                  </a:solidFill>
                  <a:latin typeface="Arial"/>
                </a:rPr>
                <a:t>补充情节和细节，增加对人物、环境的描写等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右箭头 49"/>
            <p:cNvSpPr/>
            <p:nvPr/>
          </p:nvSpPr>
          <p:spPr>
            <a:xfrm>
              <a:off x="5834520" y="2184120"/>
              <a:ext cx="299160" cy="316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19050"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grpSp>
        <p:nvGrpSpPr>
          <p:cNvPr id="234" name="组合 71"/>
          <p:cNvGrpSpPr/>
          <p:nvPr/>
        </p:nvGrpSpPr>
        <p:grpSpPr>
          <a:xfrm>
            <a:off x="5834520" y="3311280"/>
            <a:ext cx="2845080" cy="1106640"/>
            <a:chOff x="5834520" y="3311280"/>
            <a:chExt cx="2845080" cy="1106640"/>
          </a:xfrm>
        </p:grpSpPr>
        <p:sp>
          <p:nvSpPr>
            <p:cNvPr id="235" name="圆角矩形 46"/>
            <p:cNvSpPr/>
            <p:nvPr/>
          </p:nvSpPr>
          <p:spPr>
            <a:xfrm>
              <a:off x="6238800" y="3311280"/>
              <a:ext cx="2399760" cy="110664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19050">
              <a:solidFill>
                <a:srgbClr val="898b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36" name="文本框 30"/>
            <p:cNvSpPr/>
            <p:nvPr/>
          </p:nvSpPr>
          <p:spPr>
            <a:xfrm>
              <a:off x="6293880" y="3340440"/>
              <a:ext cx="2385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222" strike="noStrike">
                  <a:solidFill>
                    <a:srgbClr val="2e2f31"/>
                  </a:solidFill>
                  <a:latin typeface="Arial"/>
                </a:rPr>
                <a:t>补充情节和细节，增加对人物、环境的描写等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右箭头 50"/>
            <p:cNvSpPr/>
            <p:nvPr/>
          </p:nvSpPr>
          <p:spPr>
            <a:xfrm>
              <a:off x="5834520" y="3669480"/>
              <a:ext cx="299160" cy="316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19050"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直接连接符 39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240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回顾经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542520" y="2503440"/>
            <a:ext cx="8259840" cy="10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这是勇敢的海燕，在怒吼的大海上，在闪电中间，高傲地飞翔；这是胜利的预言家在叫喊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让暴风雨来得更猛烈些吧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                ——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高尔基《海燕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43"/>
          <p:cNvGrpSpPr/>
          <p:nvPr/>
        </p:nvGrpSpPr>
        <p:grpSpPr>
          <a:xfrm>
            <a:off x="3981600" y="1368720"/>
            <a:ext cx="1086840" cy="455400"/>
            <a:chOff x="3981600" y="1368720"/>
            <a:chExt cx="1086840" cy="455400"/>
          </a:xfrm>
        </p:grpSpPr>
        <p:sp>
          <p:nvSpPr>
            <p:cNvPr id="243" name="菱形 41"/>
            <p:cNvSpPr/>
            <p:nvPr/>
          </p:nvSpPr>
          <p:spPr>
            <a:xfrm>
              <a:off x="3981600" y="1497960"/>
              <a:ext cx="215640" cy="215640"/>
            </a:xfrm>
            <a:prstGeom prst="diamond">
              <a:avLst/>
            </a:prstGeom>
            <a:solidFill>
              <a:srgbClr val="0070c0"/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宋体"/>
                <a:ea typeface="宋体"/>
              </a:endParaRPr>
            </a:p>
          </p:txBody>
        </p:sp>
        <p:sp>
          <p:nvSpPr>
            <p:cNvPr id="244" name="矩形 42"/>
            <p:cNvSpPr/>
            <p:nvPr/>
          </p:nvSpPr>
          <p:spPr>
            <a:xfrm>
              <a:off x="4582440" y="136872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3d3f41"/>
                  </a:solidFill>
                  <a:latin typeface="宋体"/>
                  <a:ea typeface="宋体"/>
                </a:rPr>
                <a:t>示例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3"/>
          <p:cNvSpPr/>
          <p:nvPr/>
        </p:nvSpPr>
        <p:spPr>
          <a:xfrm>
            <a:off x="2511000" y="437400"/>
            <a:ext cx="4060080" cy="49428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结合三组诗句，说一说它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分别体现了诗歌的什么特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直接连接符 12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248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回顾经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1465560" y="1411560"/>
            <a:ext cx="6937920" cy="219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我是你河边上破旧的老水车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数百年来纺着疲惫的歌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我是你额上熏黑的矿灯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照你在历史的隧洞里蜗行摸索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我是干瘪的稻穗；是失修的路基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是淤滩上的驳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把纤绳深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勒进你的肩膊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祖国啊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舒婷《祖国啊，我亲爱的祖国》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6" descr="图片1.png"/>
          <p:cNvPicPr/>
          <p:nvPr/>
        </p:nvPicPr>
        <p:blipFill>
          <a:blip r:embed="rId1"/>
          <a:stretch/>
        </p:blipFill>
        <p:spPr>
          <a:xfrm>
            <a:off x="7198920" y="-163800"/>
            <a:ext cx="1511280" cy="34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直接连接符 39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253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回顾经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1126080" y="1168560"/>
            <a:ext cx="7246440" cy="70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此去泉台招旧部，旌旗十万斩阎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          ——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陈毅《梅岭三章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43"/>
          <p:cNvGrpSpPr/>
          <p:nvPr/>
        </p:nvGrpSpPr>
        <p:grpSpPr>
          <a:xfrm>
            <a:off x="3981600" y="406440"/>
            <a:ext cx="1208520" cy="455400"/>
            <a:chOff x="3981600" y="406440"/>
            <a:chExt cx="1208520" cy="455400"/>
          </a:xfrm>
        </p:grpSpPr>
        <p:sp>
          <p:nvSpPr>
            <p:cNvPr id="256" name="菱形 41"/>
            <p:cNvSpPr/>
            <p:nvPr/>
          </p:nvSpPr>
          <p:spPr>
            <a:xfrm>
              <a:off x="3981600" y="535680"/>
              <a:ext cx="215640" cy="215640"/>
            </a:xfrm>
            <a:prstGeom prst="diamond">
              <a:avLst/>
            </a:prstGeom>
            <a:solidFill>
              <a:srgbClr val="0070c0"/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宋体"/>
                <a:ea typeface="宋体"/>
              </a:endParaRPr>
            </a:p>
          </p:txBody>
        </p:sp>
        <p:sp>
          <p:nvSpPr>
            <p:cNvPr id="257" name="矩形 42"/>
            <p:cNvSpPr/>
            <p:nvPr/>
          </p:nvSpPr>
          <p:spPr>
            <a:xfrm>
              <a:off x="4460400" y="406440"/>
              <a:ext cx="729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3d3f41"/>
                  </a:solidFill>
                  <a:latin typeface="宋体"/>
                  <a:ea typeface="宋体"/>
                </a:rPr>
                <a:t>示例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1"/>
          <p:cNvSpPr/>
          <p:nvPr/>
        </p:nvSpPr>
        <p:spPr>
          <a:xfrm>
            <a:off x="2157480" y="2539800"/>
            <a:ext cx="4997160" cy="134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风从大地卷来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雨从大地卷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郊原如海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房舍如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 ——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芦荻《风雨吟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连接符 28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261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回顾经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992880" y="1506600"/>
            <a:ext cx="7215840" cy="70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南国烽烟正十年，此头须向国门悬。后死诸君多努力，捷报飞来当纸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          ——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陈毅《梅岭三章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43"/>
          <p:cNvGrpSpPr/>
          <p:nvPr/>
        </p:nvGrpSpPr>
        <p:grpSpPr>
          <a:xfrm>
            <a:off x="3981600" y="509040"/>
            <a:ext cx="1208520" cy="455400"/>
            <a:chOff x="3981600" y="509040"/>
            <a:chExt cx="1208520" cy="455400"/>
          </a:xfrm>
        </p:grpSpPr>
        <p:sp>
          <p:nvSpPr>
            <p:cNvPr id="264" name="菱形 40"/>
            <p:cNvSpPr/>
            <p:nvPr/>
          </p:nvSpPr>
          <p:spPr>
            <a:xfrm>
              <a:off x="3981600" y="637920"/>
              <a:ext cx="215640" cy="215640"/>
            </a:xfrm>
            <a:prstGeom prst="diamond">
              <a:avLst/>
            </a:prstGeom>
            <a:solidFill>
              <a:srgbClr val="0070c0"/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宋体"/>
                <a:ea typeface="宋体"/>
              </a:endParaRPr>
            </a:p>
          </p:txBody>
        </p:sp>
        <p:sp>
          <p:nvSpPr>
            <p:cNvPr id="265" name="矩形 41"/>
            <p:cNvSpPr/>
            <p:nvPr/>
          </p:nvSpPr>
          <p:spPr>
            <a:xfrm>
              <a:off x="4460400" y="509040"/>
              <a:ext cx="729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3d3f41"/>
                  </a:solidFill>
                  <a:latin typeface="宋体"/>
                  <a:ea typeface="宋体"/>
                </a:rPr>
                <a:t>示例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1"/>
          <p:cNvSpPr/>
          <p:nvPr/>
        </p:nvSpPr>
        <p:spPr>
          <a:xfrm>
            <a:off x="2246040" y="2945160"/>
            <a:ext cx="4857120" cy="10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霜风呼呼的吹着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月光明明的照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——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沈尹默《月夜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8"/>
          <p:cNvSpPr/>
          <p:nvPr/>
        </p:nvSpPr>
        <p:spPr>
          <a:xfrm>
            <a:off x="112680" y="205560"/>
            <a:ext cx="90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直接连接符 28"/>
          <p:cNvCxnSpPr/>
          <p:nvPr/>
        </p:nvCxnSpPr>
        <p:spPr>
          <a:xfrm flipV="1">
            <a:off x="788040" y="104400"/>
            <a:ext cx="360" cy="594360"/>
          </a:xfrm>
          <a:prstGeom prst="straightConnector1">
            <a:avLst/>
          </a:prstGeom>
          <a:ln w="31750">
            <a:solidFill>
              <a:srgbClr val="babd3d"/>
            </a:solidFill>
          </a:ln>
        </p:spPr>
      </p:cxnSp>
      <p:sp>
        <p:nvSpPr>
          <p:cNvPr id="269" name="文本框 10"/>
          <p:cNvSpPr/>
          <p:nvPr/>
        </p:nvSpPr>
        <p:spPr>
          <a:xfrm>
            <a:off x="875880" y="2631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回顾经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2415600" y="1300680"/>
            <a:ext cx="4820760" cy="198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走六小时寂寞的长途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到你头边放一束红山茶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我等待着，长夜漫漫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你却卧听着海涛闲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戴望舒《萧红墓畔口占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10" descr="图片5.jpg"/>
          <p:cNvPicPr/>
          <p:nvPr/>
        </p:nvPicPr>
        <p:blipFill>
          <a:blip r:embed="rId1"/>
          <a:stretch/>
        </p:blipFill>
        <p:spPr>
          <a:xfrm>
            <a:off x="6654960" y="3285720"/>
            <a:ext cx="2488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 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  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6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6</TotalTime>
  <Application>LibreOffice/7.4.7.2$Linux_X86_64 LibreOffice_project/40$Build-2</Application>
  <AppVersion>15.0000</AppVersion>
  <Words>2657</Words>
  <Paragraphs>1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7:05:00Z</dcterms:created>
  <dc:creator>第一PPT模板网-WWW.1PPT.COM</dc:creator>
  <dc:description>http://www.ypppt.com/</dc:description>
  <cp:keywords>第一PPT模板网-WWW.1PPT.COM</cp:keywords>
  <dc:language>en-US</dc:language>
  <cp:lastModifiedBy>123</cp:lastModifiedBy>
  <dcterms:modified xsi:type="dcterms:W3CDTF">2020-01-03T01:56:55Z</dcterms:modified>
  <cp:revision>188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391</vt:lpwstr>
  </property>
  <property fmtid="{D5CDD505-2E9C-101B-9397-08002B2CF9AE}" pid="3" name="Notes">
    <vt:r8>17</vt:r8>
  </property>
  <property fmtid="{D5CDD505-2E9C-101B-9397-08002B2CF9AE}" pid="4" name="PresentationFormat">
    <vt:lpwstr>全屏显示(16:9)</vt:lpwstr>
  </property>
  <property fmtid="{D5CDD505-2E9C-101B-9397-08002B2CF9AE}" pid="5" name="Slides">
    <vt:r8>23</vt:r8>
  </property>
</Properties>
</file>