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9D131-6DCC-4702-B367-C560BCD0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A5B3AE-E78B-4B8F-9807-48F097FD10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6608733_125213312000_2"/>
          <p:cNvPicPr/>
          <p:nvPr/>
        </p:nvPicPr>
        <p:blipFill>
          <a:blip r:embed="rId2"/>
          <a:stretch/>
        </p:blipFill>
        <p:spPr>
          <a:xfrm>
            <a:off x="467640" y="2531520"/>
            <a:ext cx="8280360" cy="4298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图片1"/>
          <p:cNvPicPr/>
          <p:nvPr/>
        </p:nvPicPr>
        <p:blipFill>
          <a:blip r:embed="rId3"/>
          <a:stretch/>
        </p:blipFill>
        <p:spPr>
          <a:xfrm>
            <a:off x="7713720" y="-10440"/>
            <a:ext cx="1434600" cy="1854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7" descr="图片1"/>
          <p:cNvPicPr/>
          <p:nvPr/>
        </p:nvPicPr>
        <p:blipFill>
          <a:blip r:embed="rId4"/>
          <a:stretch/>
        </p:blipFill>
        <p:spPr>
          <a:xfrm>
            <a:off x="-3240" y="5431320"/>
            <a:ext cx="1107720" cy="1432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图片1"/>
          <p:cNvPicPr/>
          <p:nvPr/>
        </p:nvPicPr>
        <p:blipFill>
          <a:blip r:embed="rId2"/>
          <a:stretch/>
        </p:blipFill>
        <p:spPr>
          <a:xfrm>
            <a:off x="7713720" y="-10440"/>
            <a:ext cx="1434600" cy="1854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图片1"/>
          <p:cNvPicPr/>
          <p:nvPr/>
        </p:nvPicPr>
        <p:blipFill>
          <a:blip r:embed="rId3"/>
          <a:stretch/>
        </p:blipFill>
        <p:spPr>
          <a:xfrm>
            <a:off x="-3240" y="5431320"/>
            <a:ext cx="1107720" cy="1432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标题 1"/>
          <p:cNvSpPr/>
          <p:nvPr/>
        </p:nvSpPr>
        <p:spPr>
          <a:xfrm>
            <a:off x="1553400" y="764640"/>
            <a:ext cx="59018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习作 写日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副标题 2"/>
          <p:cNvSpPr/>
          <p:nvPr/>
        </p:nvSpPr>
        <p:spPr>
          <a:xfrm>
            <a:off x="2014560" y="1989720"/>
            <a:ext cx="4968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编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三年级语文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接连接符 3"/>
          <p:cNvCxnSpPr/>
          <p:nvPr/>
        </p:nvCxnSpPr>
        <p:spPr>
          <a:xfrm>
            <a:off x="1823760" y="1873080"/>
            <a:ext cx="5623560" cy="216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128" name="矩形 4"/>
          <p:cNvSpPr/>
          <p:nvPr/>
        </p:nvSpPr>
        <p:spPr>
          <a:xfrm>
            <a:off x="0" y="5661000"/>
            <a:ext cx="9143640" cy="391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timg (4)"/>
          <p:cNvPicPr/>
          <p:nvPr/>
        </p:nvPicPr>
        <p:blipFill>
          <a:blip r:embed="rId1"/>
          <a:stretch/>
        </p:blipFill>
        <p:spPr>
          <a:xfrm>
            <a:off x="1081080" y="6120"/>
            <a:ext cx="7257600" cy="5590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679400" y="457200"/>
            <a:ext cx="60606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路明晰、心理描写细腻是这篇日记的最大特色。作者善于从考试中总结经验，在考试中成长。结尾让读者明白了道理，使人受到启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7" descr=""/>
          <p:cNvPicPr/>
          <p:nvPr/>
        </p:nvPicPr>
        <p:blipFill>
          <a:blip r:embed="rId1"/>
          <a:srcRect l="244" t="18026" r="-244" b="3130"/>
          <a:stretch/>
        </p:blipFill>
        <p:spPr>
          <a:xfrm>
            <a:off x="9360" y="-36000"/>
            <a:ext cx="9169200" cy="6914880"/>
          </a:xfrm>
          <a:prstGeom prst="rect">
            <a:avLst/>
          </a:prstGeom>
          <a:ln w="0">
            <a:noFill/>
          </a:ln>
        </p:spPr>
      </p:pic>
      <p:sp>
        <p:nvSpPr>
          <p:cNvPr id="156" name=" 167"/>
          <p:cNvSpPr/>
          <p:nvPr/>
        </p:nvSpPr>
        <p:spPr>
          <a:xfrm>
            <a:off x="2087640" y="2150640"/>
            <a:ext cx="4358880" cy="1553400"/>
          </a:xfrm>
          <a:prstGeom prst="roundRect">
            <a:avLst>
              <a:gd name="adj" fmla="val 16667"/>
            </a:avLst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138200" y="21502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谢谢观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"/>
          <p:cNvSpPr/>
          <p:nvPr/>
        </p:nvSpPr>
        <p:spPr>
          <a:xfrm>
            <a:off x="253080" y="70236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习作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85800" y="1998000"/>
            <a:ext cx="791964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范文，明白写日记的好处、内容和格式。准备一个日记本，学写日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" descr="5ff7c5db1e202b9fa9151d5a464b0374"/>
          <p:cNvPicPr/>
          <p:nvPr/>
        </p:nvPicPr>
        <p:blipFill>
          <a:blip r:embed="rId1"/>
          <a:stretch/>
        </p:blipFill>
        <p:spPr>
          <a:xfrm>
            <a:off x="2936880" y="3729600"/>
            <a:ext cx="3419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"/>
          <p:cNvSpPr/>
          <p:nvPr/>
        </p:nvSpPr>
        <p:spPr>
          <a:xfrm>
            <a:off x="253080" y="70236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习作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51040" y="1727280"/>
            <a:ext cx="755928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记的内容来源于生活，只要我们处处留心，勤于思考，那么生动的写作素材就会源源不断地出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3968640" y="3776040"/>
            <a:ext cx="42224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14240" y="1710360"/>
            <a:ext cx="794664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日记，不论是记人、记事，还是状物、写景，都要是生活中真实发生或存在的，还要注意所写内容要流畅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2" descr=""/>
          <p:cNvPicPr/>
          <p:nvPr/>
        </p:nvPicPr>
        <p:blipFill>
          <a:blip r:embed="rId1"/>
          <a:stretch/>
        </p:blipFill>
        <p:spPr>
          <a:xfrm>
            <a:off x="3755880" y="3873600"/>
            <a:ext cx="4222440" cy="26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2720" y="1710360"/>
            <a:ext cx="78735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选取一天中最值得记录的一点或几点来写，切忌事无巨细地一一交代，写成流水账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3738600" y="3609000"/>
            <a:ext cx="4220640" cy="26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1820160"/>
            <a:ext cx="791964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201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先在第一行中间写上某年、某月、某日、星期几、天气情况；然后从第二行开始写正文，前面空两格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" descr=""/>
          <p:cNvPicPr/>
          <p:nvPr/>
        </p:nvPicPr>
        <p:blipFill>
          <a:blip r:embed="rId1"/>
          <a:stretch/>
        </p:blipFill>
        <p:spPr>
          <a:xfrm>
            <a:off x="3784680" y="3733920"/>
            <a:ext cx="4220640" cy="27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"/>
          <p:cNvSpPr/>
          <p:nvPr/>
        </p:nvSpPr>
        <p:spPr>
          <a:xfrm>
            <a:off x="244440" y="334080"/>
            <a:ext cx="25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范文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731880" y="1359000"/>
            <a:ext cx="517644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ts val="33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  星期六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天要参加剑桥少儿英语一级考试，我的心紧张极了，总担心自己不能通过这次考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spcBef>
                <a:spcPts val="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始进考场了，我的心突突直跳。①妈妈看见我的样子，就笑着说：“孩子，不要紧张，考试的内容都是你平时学过的，只要你认真仔细地做，就会考出好成绩。”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"/>
          <p:cNvCxnSpPr/>
          <p:nvPr/>
        </p:nvCxnSpPr>
        <p:spPr>
          <a:xfrm>
            <a:off x="6083280" y="1413720"/>
            <a:ext cx="360" cy="518400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sp>
        <p:nvSpPr>
          <p:cNvPr id="144" name="Text Box 15"/>
          <p:cNvSpPr/>
          <p:nvPr/>
        </p:nvSpPr>
        <p:spPr>
          <a:xfrm>
            <a:off x="6213600" y="3773880"/>
            <a:ext cx="2758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考前紧张心理，“突突直跳”一词贴切生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924840"/>
            <a:ext cx="5543280" cy="5426640"/>
          </a:xfrm>
          <a:prstGeom prst="rect">
            <a:avLst/>
          </a:prstGeom>
          <a:solidFill>
            <a:schemeClr val="bg1">
              <a:alpha val="4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3501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妈妈的话，我深深地吸了一口气，勇敢地走进了考场。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考试共分听力、笔试和口语三部分。考听力和笔试时，我仔细地听，认真地做，不到交卷时间我就很轻松地做完了。该是口语考试了，老师按考号顺序点名进考场。我很庆幸自己不是第一个，但我很紧张，心像十五只吊桶打水——七上八下的。③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1"/>
          <p:cNvCxnSpPr/>
          <p:nvPr/>
        </p:nvCxnSpPr>
        <p:spPr>
          <a:xfrm>
            <a:off x="6083280" y="740520"/>
            <a:ext cx="360" cy="604980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sp>
        <p:nvSpPr>
          <p:cNvPr id="147" name="Text Box 15"/>
          <p:cNvSpPr/>
          <p:nvPr/>
        </p:nvSpPr>
        <p:spPr>
          <a:xfrm>
            <a:off x="6222960" y="1395000"/>
            <a:ext cx="2757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自己尽力镇定下来，情绪转变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22960" y="5050440"/>
            <a:ext cx="2757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理描写十分细致生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924840"/>
            <a:ext cx="5543280" cy="5426640"/>
          </a:xfrm>
          <a:prstGeom prst="rect">
            <a:avLst/>
          </a:prstGeom>
          <a:solidFill>
            <a:schemeClr val="bg1">
              <a:alpha val="4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3501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流逝，很快就轮到了我。这时我想起了妈妈的话，镇定地走到老师跟前，望着老师那慈祥的脸，我不再害怕，反而平静下来了。④我流利地回答着老师的问题，老师总是望着我微笑地说：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e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回家的路上，我想：以后遇到任何事情都不要紧张，要鼓起勇气去试一试。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直接连接符 1"/>
          <p:cNvCxnSpPr/>
          <p:nvPr/>
        </p:nvCxnSpPr>
        <p:spPr>
          <a:xfrm>
            <a:off x="6083280" y="740520"/>
            <a:ext cx="360" cy="604980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sp>
        <p:nvSpPr>
          <p:cNvPr id="151" name="Text Box 15"/>
          <p:cNvSpPr/>
          <p:nvPr/>
        </p:nvSpPr>
        <p:spPr>
          <a:xfrm>
            <a:off x="6222960" y="2535840"/>
            <a:ext cx="2674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理变化自然、真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222960" y="5050440"/>
            <a:ext cx="2757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结体会，点明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  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1127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01:52:00Z</dcterms:created>
  <dc:creator>第一PPT模板网-WWW.1PPT.COM</dc:creator>
  <dc:description/>
  <cp:keywords>第一PPT模板网-WWW.1PPT.COM</cp:keywords>
  <dc:language>en-US</dc:language>
  <cp:lastModifiedBy/>
  <dcterms:modified xsi:type="dcterms:W3CDTF">2018-09-27T01:05:33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2</vt:r8>
  </property>
</Properties>
</file>