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C0A-F47C-4BF4-8CD7-4C3AECBA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788652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3680"/>
            <a:ext cx="788652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755-9FCF-4FC4-8A9B-B55CAA06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06F-BF65-412D-8B30-3194A6EA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3690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3690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36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30736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0736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3A3-F65D-4560-9195-D4B0E4AF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A41E-7270-4E91-B8BB-D60B5D6A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CB48-9EF6-4828-9861-B307657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CF7-DB8C-4AD4-9BD3-925C901A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4622-84BA-4EB0-8167-121E735A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FD80-E10E-4C4A-9132-809C5FF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CFC0-FD93-45B3-859E-3A01D445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8B85-63F2-49E3-ACBD-C18A470D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D9B-3BEC-4BB8-9678-0E882F1E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06AC-D2C4-4098-9E60-93453CB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073680"/>
            <a:ext cx="788652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F986-7931-4276-A168-4D41CFB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788652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073680"/>
            <a:ext cx="788652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6EDD-FBC4-4D7A-9FEF-4869C90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B04-345A-4BB6-97B1-818C66AE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080" y="13690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3690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0736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080" y="30736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073680"/>
            <a:ext cx="253908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663-8EAD-42CA-AA86-9007A5B0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35A-5F00-4A9D-95EC-AA24FACB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8E2-4621-44B3-A86E-7DD157E9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D1D-5978-41BD-9866-02456C8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17D-2B7E-4369-9735-584D4C7A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49B-0E6D-4344-B7E0-BBC7125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32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0736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215-BCD9-4CF3-9CD1-CF4C702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369080"/>
            <a:ext cx="38484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3680"/>
            <a:ext cx="788652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D3C-31C0-4347-96DF-6599425C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9A8BD-0943-4F3C-A089-AC3212C03235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DB5175-EDDF-48C2-88B6-2692C5F69BD2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421720" y="826920"/>
            <a:ext cx="47347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  日  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3341160" y="1585440"/>
            <a:ext cx="2895480" cy="2802240"/>
          </a:xfrm>
          <a:prstGeom prst="rect">
            <a:avLst/>
          </a:prstGeom>
          <a:ln w="0">
            <a:noFill/>
          </a:ln>
          <a:effectLst>
            <a:softEdge rad="50760"/>
          </a:effectLst>
        </p:spPr>
      </p:pic>
      <p:grpSp>
        <p:nvGrpSpPr>
          <p:cNvPr id="85" name="组合 23"/>
          <p:cNvGrpSpPr/>
          <p:nvPr/>
        </p:nvGrpSpPr>
        <p:grpSpPr>
          <a:xfrm>
            <a:off x="138240" y="154800"/>
            <a:ext cx="1782000" cy="836640"/>
            <a:chOff x="138240" y="154800"/>
            <a:chExt cx="1782000" cy="836640"/>
          </a:xfrm>
        </p:grpSpPr>
        <p:grpSp>
          <p:nvGrpSpPr>
            <p:cNvPr id="86" name="组合 24"/>
            <p:cNvGrpSpPr/>
            <p:nvPr/>
          </p:nvGrpSpPr>
          <p:grpSpPr>
            <a:xfrm>
              <a:off x="727560" y="424800"/>
              <a:ext cx="1192680" cy="509760"/>
              <a:chOff x="727560" y="424800"/>
              <a:chExt cx="1192680" cy="509760"/>
            </a:xfrm>
          </p:grpSpPr>
          <p:cxnSp>
            <p:nvCxnSpPr>
              <p:cNvPr id="87" name="直接连接符 26"/>
              <p:cNvCxnSpPr/>
              <p:nvPr/>
            </p:nvCxnSpPr>
            <p:spPr>
              <a:xfrm>
                <a:off x="747360" y="424800"/>
                <a:ext cx="945720" cy="36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  <p:cxnSp>
            <p:nvCxnSpPr>
              <p:cNvPr id="88" name="直接连接符 27"/>
              <p:cNvCxnSpPr/>
              <p:nvPr/>
            </p:nvCxnSpPr>
            <p:spPr>
              <a:xfrm>
                <a:off x="748800" y="934560"/>
                <a:ext cx="944280" cy="36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  <p:sp>
            <p:nvSpPr>
              <p:cNvPr id="89" name="TextBox 3"/>
              <p:cNvSpPr/>
              <p:nvPr/>
            </p:nvSpPr>
            <p:spPr>
              <a:xfrm>
                <a:off x="727560" y="448920"/>
                <a:ext cx="1178280" cy="455400"/>
              </a:xfrm>
              <a:prstGeom prst="rect">
                <a:avLst/>
              </a:prstGeom>
              <a:noFill/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372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习 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" name="直接连接符 29"/>
              <p:cNvCxnSpPr/>
              <p:nvPr/>
            </p:nvCxnSpPr>
            <p:spPr>
              <a:xfrm>
                <a:off x="1690560" y="424800"/>
                <a:ext cx="230040" cy="25164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  <p:cxnSp>
            <p:nvCxnSpPr>
              <p:cNvPr id="91" name="直接连接符 30"/>
              <p:cNvCxnSpPr/>
              <p:nvPr/>
            </p:nvCxnSpPr>
            <p:spPr>
              <a:xfrm flipV="1">
                <a:off x="1703520" y="663120"/>
                <a:ext cx="202680" cy="27180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</p:grpSp>
        <p:pic>
          <p:nvPicPr>
            <p:cNvPr id="92" name="图片 25" descr=""/>
            <p:cNvPicPr/>
            <p:nvPr/>
          </p:nvPicPr>
          <p:blipFill>
            <a:blip r:embed="rId2"/>
            <a:stretch/>
          </p:blipFill>
          <p:spPr>
            <a:xfrm>
              <a:off x="138240" y="154800"/>
              <a:ext cx="675000" cy="83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矩形 11"/>
          <p:cNvSpPr/>
          <p:nvPr/>
        </p:nvSpPr>
        <p:spPr>
          <a:xfrm>
            <a:off x="0" y="452520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99"/>
          <p:cNvSpPr/>
          <p:nvPr/>
        </p:nvSpPr>
        <p:spPr>
          <a:xfrm>
            <a:off x="639360" y="1742040"/>
            <a:ext cx="79635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点评】作业没有做好，挨了父母批评，这样的事情很多同学都有过经历吧？小作者选取的是日常生活里的小事，叙述清楚，感情真挚，语言流畅，格式正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2"/>
          <p:cNvSpPr/>
          <p:nvPr/>
        </p:nvSpPr>
        <p:spPr>
          <a:xfrm>
            <a:off x="4485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105444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0"/>
          <p:cNvSpPr/>
          <p:nvPr/>
        </p:nvSpPr>
        <p:spPr>
          <a:xfrm>
            <a:off x="16617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1"/>
          <p:cNvSpPr/>
          <p:nvPr/>
        </p:nvSpPr>
        <p:spPr>
          <a:xfrm>
            <a:off x="226800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519200" y="969120"/>
            <a:ext cx="7058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先读一读课本上给出的日记，说说自己的发现。然后和同学交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◇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日记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◇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记里可以写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◇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记的格式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"/>
          <p:cNvSpPr/>
          <p:nvPr/>
        </p:nvSpPr>
        <p:spPr>
          <a:xfrm>
            <a:off x="4485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05444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16617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26800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11920" y="870480"/>
            <a:ext cx="786024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规范日记格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记属于应用文，是一种特殊的文体，有固定的格式。先在第一行中间写上日期，尽量写清楚年（可省略）、月、日，星期几，以及当天的天气情况。第二行空两格写正文，转行要顶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4485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105444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16617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26800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11920" y="721440"/>
            <a:ext cx="823644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确定习作对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记里可以写的内容没有限制，可以记事，可以写人，可以状物，可以写景，也可以记述活动。凡是自己在一天中做过的、看到的、听到的、想到的，都可以写进日记里。需要说明的是，要选择自己最感兴趣的内容来写，不能面面俱到，写成“流水账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518040" y="635760"/>
            <a:ext cx="786132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内容真实具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日记，要把所写的内容写具体，写清楚，写出真情实感。在写的过程中，可结合实际适时发表自己的见解，谈谈感想和收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总之，写日记，格式要对，内容要真，选材要精，方法要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99"/>
          <p:cNvSpPr/>
          <p:nvPr/>
        </p:nvSpPr>
        <p:spPr>
          <a:xfrm>
            <a:off x="1183320" y="681120"/>
            <a:ext cx="756720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好    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家庭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体贴      包容      絮絮叨叨      其乐融融      幸福美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校园百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信任      友善       团结合作     大显身手       书声琅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成长足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训      逗乐       无忧无虑     异想天开       恍然大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气象万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吹拂      笼罩       凉风习习      蒙蒙细雨       鹅毛大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描写草木虫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茁壮     葱茏        生机盎然     追逐嬉戏        枝繁叶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2"/>
          <p:cNvGrpSpPr/>
          <p:nvPr/>
        </p:nvGrpSpPr>
        <p:grpSpPr>
          <a:xfrm>
            <a:off x="54720" y="126360"/>
            <a:ext cx="2400120" cy="894960"/>
            <a:chOff x="54720" y="126360"/>
            <a:chExt cx="2400120" cy="894960"/>
          </a:xfrm>
        </p:grpSpPr>
        <p:grpSp>
          <p:nvGrpSpPr>
            <p:cNvPr id="108" name="组合 17"/>
            <p:cNvGrpSpPr/>
            <p:nvPr/>
          </p:nvGrpSpPr>
          <p:grpSpPr>
            <a:xfrm>
              <a:off x="770400" y="426240"/>
              <a:ext cx="1684440" cy="509400"/>
              <a:chOff x="770400" y="426240"/>
              <a:chExt cx="1684440" cy="509400"/>
            </a:xfrm>
          </p:grpSpPr>
          <p:cxnSp>
            <p:nvCxnSpPr>
              <p:cNvPr id="109" name="直接连接符 21"/>
              <p:cNvCxnSpPr/>
              <p:nvPr/>
            </p:nvCxnSpPr>
            <p:spPr>
              <a:xfrm>
                <a:off x="790560" y="426240"/>
                <a:ext cx="1406160" cy="36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  <p:cxnSp>
            <p:nvCxnSpPr>
              <p:cNvPr id="110" name="直接连接符 22"/>
              <p:cNvCxnSpPr/>
              <p:nvPr/>
            </p:nvCxnSpPr>
            <p:spPr>
              <a:xfrm>
                <a:off x="797400" y="935640"/>
                <a:ext cx="1407960" cy="36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  <p:sp>
            <p:nvSpPr>
              <p:cNvPr id="111" name="TextBox 3"/>
              <p:cNvSpPr/>
              <p:nvPr/>
            </p:nvSpPr>
            <p:spPr>
              <a:xfrm>
                <a:off x="770400" y="450000"/>
                <a:ext cx="1684440" cy="455400"/>
              </a:xfrm>
              <a:prstGeom prst="rect">
                <a:avLst/>
              </a:prstGeom>
              <a:noFill/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372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日积月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直接连接符 24"/>
              <p:cNvCxnSpPr/>
              <p:nvPr/>
            </p:nvCxnSpPr>
            <p:spPr>
              <a:xfrm>
                <a:off x="2190600" y="426240"/>
                <a:ext cx="230040" cy="25128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  <p:cxnSp>
            <p:nvCxnSpPr>
              <p:cNvPr id="113" name="直接连接符 25"/>
              <p:cNvCxnSpPr/>
              <p:nvPr/>
            </p:nvCxnSpPr>
            <p:spPr>
              <a:xfrm flipV="1">
                <a:off x="2203560" y="664200"/>
                <a:ext cx="203040" cy="271800"/>
              </a:xfrm>
              <a:prstGeom prst="straightConnector1">
                <a:avLst/>
              </a:prstGeom>
              <a:ln w="31750">
                <a:solidFill>
                  <a:srgbClr val="92d050"/>
                </a:solidFill>
              </a:ln>
            </p:spPr>
          </p:cxnSp>
        </p:grpSp>
        <p:pic>
          <p:nvPicPr>
            <p:cNvPr id="114" name="图片 20" descr=""/>
            <p:cNvPicPr/>
            <p:nvPr/>
          </p:nvPicPr>
          <p:blipFill>
            <a:blip r:embed="rId1"/>
            <a:stretch/>
          </p:blipFill>
          <p:spPr>
            <a:xfrm>
              <a:off x="54720" y="126360"/>
              <a:ext cx="756360" cy="89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99"/>
          <p:cNvSpPr/>
          <p:nvPr/>
        </p:nvSpPr>
        <p:spPr>
          <a:xfrm>
            <a:off x="732240" y="978840"/>
            <a:ext cx="79635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好  开  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◆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逛书市》开头（简介时间、人物、事件、心情，引起下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天，爸爸妈妈说要带我去逛书市，我听后高兴地蹦得老高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◆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“超级侦探”》开头（简介人物特点，开门见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的妈妈是个“超级侦探”，我做的丑事总躲不过她的火眼金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99"/>
          <p:cNvSpPr/>
          <p:nvPr/>
        </p:nvSpPr>
        <p:spPr>
          <a:xfrm>
            <a:off x="719280" y="732240"/>
            <a:ext cx="8091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好  结  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逛书市》结尾（抒发内心感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刚进家门，我就迫不及待地打开一本书，津津有味地翻阅起来。我想：这些书的内容太精彩了，我的假期生活一定会因此而更加丰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“超级侦探”》结尾（反问式结尾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听妈妈这样说，我不好意思地低下了头。瞧，我的妈妈不就是一个“超级侦探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99"/>
          <p:cNvSpPr/>
          <p:nvPr/>
        </p:nvSpPr>
        <p:spPr>
          <a:xfrm>
            <a:off x="688320" y="879840"/>
            <a:ext cx="7965000" cy="171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爸批评了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        星期二        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我的心目中，爸爸一直和蔼可亲，但今天他却对我发脾气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午，我匆匆忙忙地写完作业，就急忙溜出去玩了。刚玩了一会，我就被爸爸叫了回去。我在想：不会是要我去看店吧，真扫兴！回到家，看到爸爸一脸不高兴的样子，我心里想：是什么事情惹爸爸不开心呢？等我坐下来之后，我才知道问题出在我的作业上。原来，就在我玩耍的时候，爸爸抽空检查了我的作业，发现里面有许多问题。爸爸给我指出了作业中的问题并让我立即改正。但是我还想着玩耍，根本没把它当回事，随便改了改，就给爸爸看了。这下真的把爸爸惹火了，他狠狠地批评了我一顿。过了一会，爸爸拿出作业，耐心地给我讲解里面的题目。我发现自己太马虎了，错得很不应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爸批评我时，我心里很难受。但过后想想，我体会到了爸爸的良苦用心，正所谓“严是爱，松是害”。所以我下定决心，以后做作业时一定要认真，不让爸爸失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2"/>
          <p:cNvSpPr/>
          <p:nvPr/>
        </p:nvSpPr>
        <p:spPr>
          <a:xfrm>
            <a:off x="4485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7"/>
          <p:cNvSpPr/>
          <p:nvPr/>
        </p:nvSpPr>
        <p:spPr>
          <a:xfrm>
            <a:off x="105444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0"/>
          <p:cNvSpPr/>
          <p:nvPr/>
        </p:nvSpPr>
        <p:spPr>
          <a:xfrm>
            <a:off x="166176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1"/>
          <p:cNvSpPr/>
          <p:nvPr/>
        </p:nvSpPr>
        <p:spPr>
          <a:xfrm>
            <a:off x="2268000" y="509400"/>
            <a:ext cx="275760" cy="34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  <Words>1397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29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3-25T01:03:24Z</dcterms:modified>
  <cp:revision>1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PresentationFormat">
    <vt:lpwstr>全屏显示(16:9)</vt:lpwstr>
  </property>
  <property fmtid="{D5CDD505-2E9C-101B-9397-08002B2CF9AE}" pid="4" name="Slides">
    <vt:r8>11</vt:r8>
  </property>
</Properties>
</file>