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25CA8A-BED3-47FD-B77C-B8EBBEC2D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word/" TargetMode="External"/><Relationship Id="rId8" Type="http://schemas.openxmlformats.org/officeDocument/2006/relationships/hyperlink" Target="http://www.1ppt.com/excel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om/jianli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3.xml"/><Relationship Id="rId24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word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Excel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excel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个人简历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om/jian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8D32EF-73BA-4399-BD2B-D7385F430B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"/>
          <p:cNvSpPr/>
          <p:nvPr/>
        </p:nvSpPr>
        <p:spPr>
          <a:xfrm>
            <a:off x="4572000" y="113148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个人简历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nli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手抄报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ouchaobao/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4068000" y="267480"/>
            <a:ext cx="5067720" cy="453240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1"/>
          <p:cNvSpPr/>
          <p:nvPr/>
        </p:nvSpPr>
        <p:spPr>
          <a:xfrm>
            <a:off x="502200" y="843480"/>
            <a:ext cx="452412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口语交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应 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"/>
          <p:cNvSpPr/>
          <p:nvPr/>
        </p:nvSpPr>
        <p:spPr>
          <a:xfrm>
            <a:off x="857160" y="429984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7640" y="62748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根据语境，在横线上补写一段话，以说服妈妈同意晓宇跟航航交往。要求语言连贯、得体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妈妈：“晓宇，不要再跟班上的航航来往了，他成绩还不如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你要跟成绩好的人多交往，那样对你学习有帮助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晓宇：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__________________________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”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答案示例：妈妈，我和航航是志趣相投、无话不谈的好朋友．除了成绩不如我，他有很多方面值得我学习。我不会因为与航航的交往耽误学习，平时会更多地向老师同学请教，更加努力地提高成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77508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．阅读下面的文字，按要求作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天，市民易先生看到一个小孩掉进池塘，不善游泳的他来不及脱衣服，就纵身跃进池塘将小孩救了上来。孩子平安无事，而当筋疲力尽的易先生被别人拖上岸时，孩子的妈妈却已经带着孩子离开了，连声“谢谢”都没说。易先生对此感到有些伤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果见到这位妈妈，你会这样对她说：“阿姨，——————————————————————————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答案示例：你要保证它像其他乘客一样不把脚放在座位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8"/>
          <p:cNvSpPr/>
          <p:nvPr/>
        </p:nvSpPr>
        <p:spPr>
          <a:xfrm>
            <a:off x="1259640" y="1203480"/>
            <a:ext cx="4333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谢谢观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角三角形 10"/>
          <p:cNvSpPr/>
          <p:nvPr/>
        </p:nvSpPr>
        <p:spPr>
          <a:xfrm rot="16200000">
            <a:off x="2360880" y="-1596960"/>
            <a:ext cx="4636080" cy="8640360"/>
          </a:xfrm>
          <a:prstGeom prst="rtTriangle">
            <a:avLst/>
          </a:prstGeom>
          <a:solidFill>
            <a:srgbClr val="0070c0">
              <a:alpha val="6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46040" y="163548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通过有序地观察，能依据设计的意图，联系生活实际想出办法，并乐于与同学使用普通话进行完整、清晰的交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通过本次口语交际，培育参与者合理想象，完整讲述个人意见的能力，培养认真倾听和乐于表达、善于交流的好习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发展语言的同时，使参与者树立自我保护的意识，初步学会基本的自我保护、互动交流的方法，懂得礼貌待人、有序应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圆角矩形 3"/>
          <p:cNvSpPr/>
          <p:nvPr/>
        </p:nvSpPr>
        <p:spPr>
          <a:xfrm>
            <a:off x="446040" y="808560"/>
            <a:ext cx="2679480" cy="491400"/>
          </a:xfrm>
          <a:prstGeom prst="roundRect">
            <a:avLst>
              <a:gd name="adj" fmla="val 16667"/>
            </a:avLst>
          </a:prstGeom>
          <a:noFill/>
          <a:ln w="3175">
            <a:solidFill>
              <a:srgbClr val="ff0000"/>
            </a:solidFill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88" name="文本框 9"/>
          <p:cNvSpPr/>
          <p:nvPr/>
        </p:nvSpPr>
        <p:spPr>
          <a:xfrm>
            <a:off x="1174680" y="841680"/>
            <a:ext cx="1920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习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10" descr="目标"/>
          <p:cNvPicPr/>
          <p:nvPr/>
        </p:nvPicPr>
        <p:blipFill>
          <a:blip r:embed="rId1"/>
          <a:stretch/>
        </p:blipFill>
        <p:spPr>
          <a:xfrm>
            <a:off x="446040" y="808560"/>
            <a:ext cx="655200" cy="4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46040" y="1471680"/>
            <a:ext cx="8065800" cy="29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应对就是对别人所说的话语做出回应，或对别人提出的问题给予解答。广义的应对包括所有的聊天、问答、讨论等，这里则主要指面对别人的调侃、质疑、诘问、刁难时随机应变的话语能力。那么，怎样才能做到随机应变、巧妙应对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4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首先要准确理解对方的意图，把握对方的主要观点，因此，认真倾听对方的话语就显得至为重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3"/>
          <p:cNvSpPr/>
          <p:nvPr/>
        </p:nvSpPr>
        <p:spPr>
          <a:xfrm>
            <a:off x="446040" y="808560"/>
            <a:ext cx="2679480" cy="491400"/>
          </a:xfrm>
          <a:prstGeom prst="roundRect">
            <a:avLst>
              <a:gd name="adj" fmla="val 16667"/>
            </a:avLst>
          </a:prstGeom>
          <a:noFill/>
          <a:ln w="3175">
            <a:solidFill>
              <a:srgbClr val="ff0000"/>
            </a:solidFill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92" name="文本框 9"/>
          <p:cNvSpPr/>
          <p:nvPr/>
        </p:nvSpPr>
        <p:spPr>
          <a:xfrm>
            <a:off x="1174680" y="841680"/>
            <a:ext cx="1920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交际指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内容占位符 1" descr="名师辅导"/>
          <p:cNvPicPr/>
          <p:nvPr/>
        </p:nvPicPr>
        <p:blipFill>
          <a:blip r:embed="rId1"/>
          <a:stretch/>
        </p:blipFill>
        <p:spPr>
          <a:xfrm>
            <a:off x="446040" y="748800"/>
            <a:ext cx="728280" cy="6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699480"/>
            <a:ext cx="80323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次，准确判断对方的态度，是善意的玩笑、提问，还是恶意的讥讽、挑衅？对方的态度不同，应对的方式也应有所不同。如果是善意的玩笑，就要报以善意的幽默、自嘲；如果相反，可以选择恰当的方式，积极应对，不给对方以可乘之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再次，要掌握一定的应对技巧。特别是面对一些特殊场合，如国际间交往、答记者问或其他正式场合的交流等，或是遇到一些故意的刁难，就要注意采用一定的应对技巧。常用的应对技巧有自嘲、归谬、巧换概念、针锋相对、转换话题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圆角矩形 7"/>
          <p:cNvSpPr/>
          <p:nvPr/>
        </p:nvSpPr>
        <p:spPr>
          <a:xfrm>
            <a:off x="446040" y="753840"/>
            <a:ext cx="2679480" cy="491400"/>
          </a:xfrm>
          <a:prstGeom prst="roundRect">
            <a:avLst>
              <a:gd name="adj" fmla="val 16667"/>
            </a:avLst>
          </a:prstGeom>
          <a:noFill/>
          <a:ln w="3175">
            <a:solidFill>
              <a:srgbClr val="ff0000"/>
            </a:solidFill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96" name="文本框 9"/>
          <p:cNvSpPr/>
          <p:nvPr/>
        </p:nvSpPr>
        <p:spPr>
          <a:xfrm>
            <a:off x="1174680" y="786960"/>
            <a:ext cx="1920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交际示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内容占位符 1" descr="交流"/>
          <p:cNvPicPr/>
          <p:nvPr/>
        </p:nvPicPr>
        <p:blipFill>
          <a:blip r:embed="rId1"/>
          <a:stretch/>
        </p:blipFill>
        <p:spPr>
          <a:xfrm>
            <a:off x="303120" y="626400"/>
            <a:ext cx="969480" cy="72720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2"/>
          <p:cNvSpPr/>
          <p:nvPr/>
        </p:nvSpPr>
        <p:spPr>
          <a:xfrm>
            <a:off x="693720" y="1419480"/>
            <a:ext cx="7754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、阅读下边的应对案例，简要说明这些名人采用了什么应对技巧。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孔融十岁的时候就表现出超乎寻常的聪明才智，得到人们的赞许。有一个叫陈韪的官员却当众不以为然地说：“小时了了（聪明），大未必佳。”孔融立即回应道：“想君小时，必当了了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以子之矛攻子之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2"/>
          <p:cNvSpPr/>
          <p:nvPr/>
        </p:nvSpPr>
        <p:spPr>
          <a:xfrm>
            <a:off x="461880" y="555480"/>
            <a:ext cx="8343720" cy="23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名英国女士非常喜欢钱钟书的小说《围城》，于是打电话给钱钟书请求见面。钱钟书对她说：“假如你吃了个鸡蛋觉得不错，何必认识那下蛋的母鸡呢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谦虚、自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个年轻的画家拜访德国著名的画家阿道夫•门采尔，向他诉苦说：“我真不明白，为什么我画一幅画只用一会儿工夫，可卖出去要整整一年。”“请倒过来试试吧，”门采尔认真地说，“要是你花一年的工夫去画它，那么只用一天就准能卖掉它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偷换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2"/>
          <p:cNvSpPr/>
          <p:nvPr/>
        </p:nvSpPr>
        <p:spPr>
          <a:xfrm>
            <a:off x="480960" y="627480"/>
            <a:ext cx="775440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4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二、晏子使楚的外交智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晏子出使楚国。楚王想尽办法羞辱晏子。知道晏子身材矮小，他就在大门的旁边开一个五尺高的小洞请晏子进去。晏子不进去，说：“出使到狗国的人从狗洞进去，今天我出使到楚国来，不应该从这个洞进去。”迎接宾客的人只好带晏子改从大门进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2" descr="WP`NN}R5W[YJEX9EZW[NH4K"/>
          <p:cNvPicPr/>
          <p:nvPr/>
        </p:nvPicPr>
        <p:blipFill>
          <a:blip r:embed="rId1"/>
          <a:stretch/>
        </p:blipFill>
        <p:spPr>
          <a:xfrm>
            <a:off x="5986440" y="3363840"/>
            <a:ext cx="3157200" cy="17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3"/>
          <p:cNvSpPr/>
          <p:nvPr/>
        </p:nvSpPr>
        <p:spPr>
          <a:xfrm>
            <a:off x="636480" y="411480"/>
            <a:ext cx="7868880" cy="29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晏子拜见楚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楚王说：“齐国没有人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竟派您做使臣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晏子回答说：“齐国首都临淄有七千多户人家，展开衣袖可以遮天蔽日，挥洒汗水就像天下雨一样，人挨着人，肩并着肩，脚尖碰着脚跟，怎么能说齐国没有人呢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楚王说：“既然这样，为什么派你这样一个人来做使臣呢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晏子回答说：“齐国派遣使臣，各有各的出使对象，有德有才的使者被派遣出使有德有才的君主那儿，无德无才的使者被派遣出使有德有才的君主所在的国家，我是最无能的人，所以就只好委屈下出使楚国了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46040" y="156348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阅读下面这这组对话，请以孩子的口吻对父亲进行劝说。要求表达合理、得体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以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又超了一辆‘宝马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真带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里限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0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啥关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没警察。这段路我熟，没测速的。放心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答案示例：老爸，照你这么说，你们不监督，老师不督促，我学习上也可以糊弄了呗，你觉得这样做榜样好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5"/>
          <p:cNvSpPr/>
          <p:nvPr/>
        </p:nvSpPr>
        <p:spPr>
          <a:xfrm>
            <a:off x="446040" y="808560"/>
            <a:ext cx="2679480" cy="491400"/>
          </a:xfrm>
          <a:prstGeom prst="roundRect">
            <a:avLst>
              <a:gd name="adj" fmla="val 16667"/>
            </a:avLst>
          </a:prstGeom>
          <a:noFill/>
          <a:ln w="3175">
            <a:solidFill>
              <a:srgbClr val="ff0000"/>
            </a:solidFill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05" name="文本框 9"/>
          <p:cNvSpPr/>
          <p:nvPr/>
        </p:nvSpPr>
        <p:spPr>
          <a:xfrm>
            <a:off x="1174680" y="841680"/>
            <a:ext cx="1920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针对训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内容占位符 3" descr="练习(1)"/>
          <p:cNvPicPr/>
          <p:nvPr/>
        </p:nvPicPr>
        <p:blipFill>
          <a:blip r:embed="rId1"/>
          <a:stretch/>
        </p:blipFill>
        <p:spPr>
          <a:xfrm>
            <a:off x="446040" y="807120"/>
            <a:ext cx="657000" cy="4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  <Words>1939</Words>
  <Paragraphs>6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08:28:46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12-30T07:13:58Z</dcterms:modified>
  <cp:revision>5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  <property fmtid="{D5CDD505-2E9C-101B-9397-08002B2CF9AE}" pid="3" name="Notes">
    <vt:r8>3</vt:r8>
  </property>
  <property fmtid="{D5CDD505-2E9C-101B-9397-08002B2CF9AE}" pid="4" name="PresentationFormat">
    <vt:lpwstr>全屏显示(16:9)</vt:lpwstr>
  </property>
  <property fmtid="{D5CDD505-2E9C-101B-9397-08002B2CF9AE}" pid="5" name="Slides">
    <vt:r8>13</vt:r8>
  </property>
</Properties>
</file>