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dt" idx="5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6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282B16-24FA-4DB5-9952-2AAF1371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EF5E82-90D2-451D-8DA2-F7E1FCB74A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BD1-AD2E-40BB-B4E9-2CB954BA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C6A-AAF3-4B7E-8EE4-01F04E79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138F5-6268-4ED9-81B2-AA8939C0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9B984-8D80-4BDA-9626-28E471B7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E249F-63F8-469B-9C35-C258F28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B8A59-04CF-4B5F-882E-206A918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E7A31-2DEE-48D3-82D2-1998198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DD7E7-780E-457E-A354-B9F7451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3DBA5-5248-4FAA-9048-FD9E6348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5FFB1-2881-4694-AFD8-C4942E8B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3AD42-C98F-4058-AF2A-3129AE00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1F075-E146-45F8-9B60-4F259088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24C-D2EC-4606-A0AB-A438FB01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73159-FC6F-4D08-84DA-97263262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143D2-2076-4571-B520-E10FFC4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5912D-A0CE-42F1-A074-7DBDFF76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381A8-7CA6-4294-AFDB-8EBA1DC8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8A4A4-E856-4E9F-86E3-2EA9EF7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9DF36-3DB4-4EE2-B2A1-56C443D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36F13-6F0F-4FC9-94CA-615F360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C3861-89A2-4E22-BF8A-094479F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CE68-0303-41DF-8C80-A3A292F4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1B542-892E-474B-8228-5D1D089A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1FF-AA9B-4944-A137-744F1910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30187-B2C8-44AE-9645-46D5EBC7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E961D-1565-4FB4-9062-0EF33EA7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4EFA-AE39-4D27-8423-77D0C8A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164E4-3784-4C9C-BB1A-FCC52C86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C033F-5F19-499E-8FBC-1A0DF1A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988C3-7A2F-4C8B-9DBF-1D0D5E2F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EA47-AC57-4987-A1E7-E1D9B922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81E2-FAF7-48E2-835E-F01B2D3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36933-D137-487A-A651-16A38D7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DBBF-E89E-4FDD-8264-C7D45202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E0EE-9D3D-408C-98A1-2CD0E55B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A7EF4-DFF6-4E7B-A83E-AF40257E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363FA-BCB0-4EEF-91D9-2DC8FC89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CED8F-9D32-49FF-91C6-4EFF0439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64937-5E12-4EE0-8073-85EEAD09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03A63-F319-4F0E-B600-4F56EF08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291E2-CD5C-41D9-9AA4-99C47A1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B2F66-1071-4A13-9F83-E81E17D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CF596-5B55-419B-8B15-E1B97A7D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5BC3B-824A-40B7-8124-BAA4206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1B099-1675-4E7C-B522-0F4ACBE5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25CE-C272-42C0-84D5-1364C449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8E6C2-22B0-4986-B478-14AB7EC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D719C-A4ED-4F59-8C94-A3A6C72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98CE2-C076-4D2A-8C18-FB1DB355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8BA4A-E09E-40B2-9366-0DC56894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E2B3C-A204-4CE2-9BA1-15317B4C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BA05B-18C2-4F21-918E-B808A47B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C6B13-95C3-4AB9-81C8-133D8CC6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97D00-0552-4A1A-BB87-6687862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1A449-723E-45F8-A7A0-7CDA1911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221EB-B6F1-453F-BD75-D8A8872C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75C-4119-4030-8A03-631BD0B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35DF3-83CF-47A0-9333-9AECBEE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806C3-9189-463A-AA15-4012874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AB1C6-216F-456E-A5AA-8E1DE19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3B01F-95CD-4E28-9626-3AB8114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36C2A-B692-46E1-A3AB-33A2008E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7DE57-9091-409B-AB34-A3609CD0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91818-05EE-4ADE-BC59-DB40CDA1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8E3AB-F73C-4E9A-A486-A409E0B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26191-96FE-4804-9707-FC0CC742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D51A3-EB46-4AE4-8CAD-D4E8DAE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7F6E-64C2-4A4A-B6F1-2185D736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426FE-4BCB-4775-92B6-7E887C0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5B0EB-8CAF-4122-93A9-7B4E56FE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569E1-9B85-43D9-8AF4-CC780741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1CE35-C5BA-42F9-811D-EC7EA9A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8D0EA-6086-4B2B-9214-1B68201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C23A3-B0AA-453D-96A6-D68D3BD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BA870-9D91-41D8-9A2A-6D43E1F5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DB119-DCB7-4F6C-8483-417EF1CC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77CFB-2C2B-4EE4-84A7-D0B6DC30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1F610-E82C-4A2A-9AC9-63D22717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854D-550D-4F04-BFDF-6594BE1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7ABD2-B0DD-4EAE-B89F-D4AF9D14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91A16-0E31-49C5-9731-53E153D4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EC12E-B02E-4176-BD83-4EAA1E8D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D18EB-5E82-4DEF-9862-D2C181D4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3EBF4-5FC2-4EB1-870B-A193E0C0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4C4F5-82F1-464D-85CA-1F9840C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B148A-97CC-47C8-9588-E86DB46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76933-8D86-4E09-A2F2-8CBED0F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47E57-3305-42E2-83C8-F6C76A9A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B8BBB-6C94-4AA6-BE07-78F73E1B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1D82-8AB9-4A84-B564-9F514E4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09CC9-76F0-492E-9AA1-CD0D77EC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79DBE-9A3D-400D-9BCE-2C26D5DB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26076-45FE-437E-BDD1-E8C5B1B4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7D38A-5909-4F4D-AF54-802A0CA2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222C9-B76B-4401-A7FD-6F9DB602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7751A-1C0D-4A8C-90BE-41FA0C0F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99AA3-0949-42A9-8865-D810EC48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B1A15-C515-4C28-879A-33DAE72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B2CC0-0BAB-497B-822E-F70C206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43278-319D-4C21-9070-2052B13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860D-92C4-49F2-AD8F-C444AEB0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E1E99-409E-4E6F-AB95-127E4CD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C7161-FC6F-4593-9DD6-53196C0A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17087-5241-4093-9910-27EDDDC3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C0EB0-B30E-44D8-947C-A78C4DD5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E7023-B862-4183-BD17-87E511A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26A56-799B-4232-A923-9837D84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5C8D0-C3CF-43AB-8E8B-FB22EB07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2BFAB-E600-4014-90DB-60A7410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997E27-B51A-4F07-A035-58D368E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75CBA-AC67-41F9-9B75-C596B19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641-CCE2-4C16-B65A-C396FB1A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46FB-E6D3-431C-825F-D41BF979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E3672-539E-44D2-B087-40E8300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2F346-1D33-49B4-B81B-486298C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85A69-79FE-47AA-B0AC-097274D8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52FB3-D1FF-492C-866A-9A0D508C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0D4D3-0079-4BAE-BD98-813B1155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1B423-E6DC-4C52-A004-2C0D79B8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5CDF6-711A-4201-BFBF-E54C18E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BFD72-5F7D-473C-B8D9-16777FC1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3AA328-0741-4713-945F-5E7D20F4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3C635-1016-4A2E-8E37-D0278AB1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0E44-5C9E-4A24-9C1F-F0BE7D0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E9A51-29C9-49C3-A9D1-90169D02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3B619-F2CB-4C0E-8068-9599B6D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961320-994F-496F-84E6-63ADD61D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52835-D598-42F4-955F-6ABC311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B9EE1-C316-4A41-AC98-ED797B3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D13D2-8303-4CD6-BFE9-83D89238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F8E53-B5AA-46C9-A8EA-BEC1657F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FFB5D-50DD-48F4-A913-3E0DAB25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BBC91-AF7C-4360-8EFB-7A289C4B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DACE3-5B50-44FD-84E2-7DCBFE83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7044-398A-462D-9315-AC1C009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0A8FA-A43A-462C-8D5A-B70AD7D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C45F6-E734-400E-8ECF-E6F85F0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24ED9-4FD9-4701-B772-A9E841A5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CDB7CA-9928-467B-A506-6301F76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D6F86-72E7-4ECB-A424-C7B8F94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E2370-6BD9-45B5-8A4C-F6F0ED1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BA901-7BD5-4C75-91CA-F1746C01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7DF35-B1FD-4A77-AF46-ECB2E0C0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79C11-8900-49BD-B2EC-BBBA4D16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ADBB-7361-46E6-9689-56F6DB58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166-C2BB-466B-9115-BCDD5E86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B001-719F-4C62-A1F2-FEA3B94B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AF41-1978-4852-A459-F5FB331F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4D13-40C7-4540-A8E6-FC598A91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0A04-BD1F-4B7C-9150-AD56CF8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53D4-1408-4A91-AF9F-41C4FF24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6B7-18AD-4C70-A01E-4E079B0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379F-5954-4484-A0E4-B58B2A59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0512-7FC7-4B6D-9B92-734AAAE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FF3D-84EC-450D-88F8-42AB99DA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9142-CC69-44ED-99DD-DA6B9F9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BDB1-5F15-4ACB-A449-320CA6C6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5D41-1D2D-4902-ACCE-52641009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BE96-670C-400B-96F0-D28D4860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45C8-4C92-492D-A4DA-76A1BAED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9E21E-B5ED-49C0-BA77-65B41EE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0514-CD8D-48DF-948A-3B393860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B8B-4A5C-4B10-9AC1-41D4F25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0A0C-7B95-4CC9-829A-443D957F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F88F-5249-411D-BDC8-AE434CE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7247-30A6-4D4A-BE6B-9BDB6E7F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B92A4-3CF2-432A-8441-1F8204F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B2C0-4744-4849-BE0D-1CE3546C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E138-3DBF-443F-BC3C-3622042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C213-27C1-4E75-B45E-59174EF3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5EE2-7A6C-4AAD-8736-318A549B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C088-F4A7-466F-A984-8F7108EF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1E1A-A6B5-4FFA-8EB4-BFE7FF67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F9-ABE9-448A-9A2C-05A59E0F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8E208-0235-45C2-93BA-8EAE2251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5B28-451C-4688-9541-807FF413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3BD5-68E2-46CF-8045-B9D887A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8DC7-81E1-4CA5-91C9-36516E9D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61E3-F549-4D93-8F30-4B7A38F3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6D79A-6FCA-49CA-9DA4-1F2D0CBE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4F67-F4FE-430C-84AA-2565F8E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DF0E-2C77-4E77-A598-13182C5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C8983-24AB-412E-BEED-4D36E7F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061F-C32C-4247-9CF5-CE73B46C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51A-3015-4F61-821A-3C71F8D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9B0D-F917-4D9B-B4BC-61AA02D0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BE6A-54D5-4AFA-AFBD-DE181305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8264-033A-4847-83BA-62CD9EC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A73CA-A5B0-4434-B629-54557CC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CEE4-C5EF-4F20-ABD7-80F2712A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0E51-2252-451A-84C1-0632B0C6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FA30C-197E-40B4-A0E8-0D97FD62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9187-639A-4714-863D-51B4037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8ABFB-F459-4B8C-A594-738682E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3282-CAC5-4E16-B7D5-ABE8186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C26-AF3F-4BFE-A66A-A65098E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85628-C40A-45B3-B93E-AFDFCA9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3658D-0FBB-4DC0-969F-5D0FBDC9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B33F-1BAB-40C4-A87B-1ADAB702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79DC-17BF-4EA0-AFB9-EFEF876C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50CF-FC91-496F-8C59-11E9D2D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2955-1DEC-4DFA-BF16-8CDB336F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880D-B4F3-4872-982D-868A02A8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710B3-18C3-4C24-912C-A4A4DD3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D7E6C-87AA-4096-841C-1F1874A7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99883-0932-4BF4-906C-DEA47BA5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06C-DACE-48A0-9D96-543CD86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99CF-CCBA-4365-9897-788B412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A6D9-C418-4C14-B468-CC84DDE0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B60E-CE60-4762-B140-0F921CE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010F7-98D5-4EAC-9D84-C4E22686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590BC-CD24-477E-978B-69EA03AF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0DC00-6528-4D62-85D4-72159F18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E5B24-403A-48D7-9B1B-E195A75C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5A0A6-05A7-44F3-BB3D-70C0441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F2B24-16A7-47EE-B6F0-F3C5B6D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99A6-99D0-4694-90E7-938DB129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E03-C903-4991-8B70-694C7BD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502560" y="432000"/>
            <a:ext cx="81388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23B3-59A9-4FE8-A30F-6569A0E3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F959-CB5D-4263-98B0-2FD5B105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AC575-08F7-4E0B-B7C9-A29ED82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17D5-1E74-455C-9E59-9CAB9AA8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82E9F-430A-4B4F-8A5B-B700282F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6E2BA-05A6-4189-83B7-80E38B00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6F07A-12CA-4140-B799-B049B05D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E506D-6054-4EA0-9E65-214B34F2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A68B0-90F2-4001-802E-FABA3E2F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50949-5FC2-4CF0-8C0A-EA06ADD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9C33693-D77B-491A-81C1-21E229A5AE9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9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30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3081646-20F0-4682-A5E4-0C9554BF0BC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32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33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E4E2AE2-BC1A-4AD9-8F56-FC0370A407E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35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36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F89991D-EDDB-4373-9A93-7A75BFEAFE9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8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39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013263C-19C0-4FC4-8AA9-06EC3C007B1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41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42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1C63302-86C7-4F70-971C-E85EF7A1303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44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45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4869EF8-058E-4387-8AC3-84CB9BD8052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47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48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F58DAC5-3287-43A6-AE69-B6DD67BEA07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50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51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BCDEBC8-580B-4FB7-8A7F-D3B41F45CAE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53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54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7BC28F7-24F5-41FB-815D-A898926B91F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ftr" idx="56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57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DA37D6-3A48-4F2A-9790-F40A2A6F6DB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CC76481-2261-447F-BEF5-45D14EFF332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6918840" y="636552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111867-AE88-43BD-B9CC-D5AFD69AE47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D12EFC8-81F1-48BB-B18D-A2893270F1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EAEB67-D414-4EB7-BDD7-9C1865075F8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D9EF674-D745-45BE-A878-49CEC68BF31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20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21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030E823-B6DA-418F-9193-DC25F55D33C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3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4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E3E6166-E193-429F-9DD0-A4308DEBFD3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2560" y="432000"/>
            <a:ext cx="8138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199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6"/>
          </p:nvPr>
        </p:nvSpPr>
        <p:spPr>
          <a:xfrm>
            <a:off x="3087000" y="6349680"/>
            <a:ext cx="2969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27"/>
          </p:nvPr>
        </p:nvSpPr>
        <p:spPr>
          <a:xfrm>
            <a:off x="6458040" y="6349680"/>
            <a:ext cx="2024640" cy="3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550587D-2E7E-49E5-B576-A4C03F4E325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148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标题 1"/>
          <p:cNvSpPr/>
          <p:nvPr/>
        </p:nvSpPr>
        <p:spPr>
          <a:xfrm>
            <a:off x="0" y="2135160"/>
            <a:ext cx="914364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一个豆荚里的五粒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副标题 2"/>
          <p:cNvSpPr/>
          <p:nvPr/>
        </p:nvSpPr>
        <p:spPr>
          <a:xfrm>
            <a:off x="3984840" y="3582720"/>
            <a:ext cx="1925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4"/>
          <p:cNvSpPr/>
          <p:nvPr/>
        </p:nvSpPr>
        <p:spPr>
          <a:xfrm>
            <a:off x="0" y="56318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图片 19" descr="2345截图20190412091401.png"/>
          <p:cNvPicPr/>
          <p:nvPr/>
        </p:nvPicPr>
        <p:blipFill>
          <a:blip r:embed="rId1"/>
          <a:stretch/>
        </p:blipFill>
        <p:spPr>
          <a:xfrm>
            <a:off x="4734360" y="3301920"/>
            <a:ext cx="4281480" cy="856800"/>
          </a:xfrm>
          <a:prstGeom prst="rect">
            <a:avLst/>
          </a:prstGeom>
          <a:ln w="0">
            <a:noFill/>
          </a:ln>
        </p:spPr>
      </p:pic>
      <p:grpSp>
        <p:nvGrpSpPr>
          <p:cNvPr id="909" name="组合 23"/>
          <p:cNvGrpSpPr/>
          <p:nvPr/>
        </p:nvGrpSpPr>
        <p:grpSpPr>
          <a:xfrm>
            <a:off x="487800" y="2495880"/>
            <a:ext cx="2958120" cy="3567960"/>
            <a:chOff x="487800" y="2495880"/>
            <a:chExt cx="2958120" cy="3567960"/>
          </a:xfrm>
        </p:grpSpPr>
        <p:sp>
          <p:nvSpPr>
            <p:cNvPr id="910" name="矩形 18"/>
            <p:cNvSpPr/>
            <p:nvPr/>
          </p:nvSpPr>
          <p:spPr>
            <a:xfrm>
              <a:off x="487800" y="2496240"/>
              <a:ext cx="2958120" cy="35676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楷体"/>
              </a:endParaRPr>
            </a:p>
          </p:txBody>
        </p:sp>
        <p:cxnSp>
          <p:nvCxnSpPr>
            <p:cNvPr id="911" name="直接连接符 21"/>
            <p:cNvCxnSpPr>
              <a:stCxn id="910" idx="1"/>
              <a:endCxn id="910" idx="3"/>
            </p:cNvCxnSpPr>
            <p:nvPr/>
          </p:nvCxnSpPr>
          <p:spPr>
            <a:xfrm>
              <a:off x="487800" y="4280040"/>
              <a:ext cx="2958480" cy="36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  <p:cxnSp>
          <p:nvCxnSpPr>
            <p:cNvPr id="912" name="直接连接符 22"/>
            <p:cNvCxnSpPr>
              <a:stCxn id="910" idx="0"/>
              <a:endCxn id="910" idx="2"/>
            </p:cNvCxnSpPr>
            <p:nvPr/>
          </p:nvCxnSpPr>
          <p:spPr>
            <a:xfrm>
              <a:off x="1967040" y="2495880"/>
              <a:ext cx="360" cy="356832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</p:grpSp>
      <p:sp>
        <p:nvSpPr>
          <p:cNvPr id="913" name="文本框 25"/>
          <p:cNvSpPr/>
          <p:nvPr/>
        </p:nvSpPr>
        <p:spPr>
          <a:xfrm>
            <a:off x="487800" y="1835280"/>
            <a:ext cx="25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59"/>
          <p:cNvSpPr/>
          <p:nvPr/>
        </p:nvSpPr>
        <p:spPr>
          <a:xfrm>
            <a:off x="4749480" y="2392200"/>
            <a:ext cx="1805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e04236"/>
                </a:solidFill>
                <a:latin typeface="Pinyin Adjust"/>
                <a:ea typeface="GB Pinyinok-B"/>
              </a:rPr>
              <a:t>kǒ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63"/>
          <p:cNvSpPr/>
          <p:nvPr/>
        </p:nvSpPr>
        <p:spPr>
          <a:xfrm>
            <a:off x="4695840" y="448704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恐怕  恐怖  恐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9"/>
          <p:cNvSpPr/>
          <p:nvPr/>
        </p:nvSpPr>
        <p:spPr>
          <a:xfrm>
            <a:off x="4695480" y="521172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次看的恐怖片，现在说起来大家仍心惊肉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文本框 27"/>
          <p:cNvSpPr/>
          <p:nvPr/>
        </p:nvSpPr>
        <p:spPr>
          <a:xfrm>
            <a:off x="3958560" y="24840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文本框 28"/>
          <p:cNvSpPr/>
          <p:nvPr/>
        </p:nvSpPr>
        <p:spPr>
          <a:xfrm>
            <a:off x="3958560" y="3441600"/>
            <a:ext cx="6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9"/>
          <p:cNvSpPr/>
          <p:nvPr/>
        </p:nvSpPr>
        <p:spPr>
          <a:xfrm>
            <a:off x="3959280" y="448560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文本框 30"/>
          <p:cNvSpPr/>
          <p:nvPr/>
        </p:nvSpPr>
        <p:spPr>
          <a:xfrm>
            <a:off x="3959280" y="521172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圆角矩形 31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3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18" descr="2345截图20190412091907.png"/>
          <p:cNvPicPr/>
          <p:nvPr/>
        </p:nvPicPr>
        <p:blipFill>
          <a:blip r:embed="rId1"/>
          <a:stretch/>
        </p:blipFill>
        <p:spPr>
          <a:xfrm>
            <a:off x="4694400" y="3209040"/>
            <a:ext cx="3992040" cy="908640"/>
          </a:xfrm>
          <a:prstGeom prst="rect">
            <a:avLst/>
          </a:prstGeom>
          <a:ln w="0">
            <a:noFill/>
          </a:ln>
        </p:spPr>
      </p:pic>
      <p:grpSp>
        <p:nvGrpSpPr>
          <p:cNvPr id="923" name="组合 23"/>
          <p:cNvGrpSpPr/>
          <p:nvPr/>
        </p:nvGrpSpPr>
        <p:grpSpPr>
          <a:xfrm>
            <a:off x="487800" y="2495880"/>
            <a:ext cx="2958120" cy="3567960"/>
            <a:chOff x="487800" y="2495880"/>
            <a:chExt cx="2958120" cy="3567960"/>
          </a:xfrm>
        </p:grpSpPr>
        <p:sp>
          <p:nvSpPr>
            <p:cNvPr id="924" name="矩形 15"/>
            <p:cNvSpPr/>
            <p:nvPr/>
          </p:nvSpPr>
          <p:spPr>
            <a:xfrm>
              <a:off x="487800" y="2496240"/>
              <a:ext cx="2958120" cy="35676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楷体"/>
              </a:endParaRPr>
            </a:p>
          </p:txBody>
        </p:sp>
        <p:cxnSp>
          <p:nvCxnSpPr>
            <p:cNvPr id="925" name="直接连接符 16"/>
            <p:cNvCxnSpPr>
              <a:stCxn id="924" idx="1"/>
              <a:endCxn id="924" idx="3"/>
            </p:cNvCxnSpPr>
            <p:nvPr/>
          </p:nvCxnSpPr>
          <p:spPr>
            <a:xfrm>
              <a:off x="487800" y="4280040"/>
              <a:ext cx="2958480" cy="36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  <p:cxnSp>
          <p:nvCxnSpPr>
            <p:cNvPr id="926" name="直接连接符 17"/>
            <p:cNvCxnSpPr>
              <a:stCxn id="924" idx="0"/>
              <a:endCxn id="924" idx="2"/>
            </p:cNvCxnSpPr>
            <p:nvPr/>
          </p:nvCxnSpPr>
          <p:spPr>
            <a:xfrm>
              <a:off x="1967040" y="2495880"/>
              <a:ext cx="360" cy="356832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</p:grpSp>
      <p:sp>
        <p:nvSpPr>
          <p:cNvPr id="927" name="文本框 25"/>
          <p:cNvSpPr/>
          <p:nvPr/>
        </p:nvSpPr>
        <p:spPr>
          <a:xfrm>
            <a:off x="487800" y="1835280"/>
            <a:ext cx="25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59"/>
          <p:cNvSpPr/>
          <p:nvPr/>
        </p:nvSpPr>
        <p:spPr>
          <a:xfrm>
            <a:off x="4749480" y="2392200"/>
            <a:ext cx="1805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e04236"/>
                </a:solidFill>
                <a:latin typeface="Pinyin Adjust"/>
                <a:ea typeface="GB Pinyinok-B"/>
              </a:rPr>
              <a:t>b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63"/>
          <p:cNvSpPr/>
          <p:nvPr/>
        </p:nvSpPr>
        <p:spPr>
          <a:xfrm>
            <a:off x="4695840" y="448704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玻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9"/>
          <p:cNvSpPr/>
          <p:nvPr/>
        </p:nvSpPr>
        <p:spPr>
          <a:xfrm>
            <a:off x="4695480" y="521172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今天是一个大雪纷飞的日子，我高兴地凝望着透明的玻璃窗外美丽的雪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24"/>
          <p:cNvSpPr/>
          <p:nvPr/>
        </p:nvSpPr>
        <p:spPr>
          <a:xfrm>
            <a:off x="3958560" y="24840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25"/>
          <p:cNvSpPr/>
          <p:nvPr/>
        </p:nvSpPr>
        <p:spPr>
          <a:xfrm>
            <a:off x="3958560" y="3441600"/>
            <a:ext cx="6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26"/>
          <p:cNvSpPr/>
          <p:nvPr/>
        </p:nvSpPr>
        <p:spPr>
          <a:xfrm>
            <a:off x="3959280" y="448560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27"/>
          <p:cNvSpPr/>
          <p:nvPr/>
        </p:nvSpPr>
        <p:spPr>
          <a:xfrm>
            <a:off x="3959280" y="521172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圆角矩形 28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3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13" descr="2345截图20190412092349.png"/>
          <p:cNvPicPr/>
          <p:nvPr/>
        </p:nvPicPr>
        <p:blipFill>
          <a:blip r:embed="rId1"/>
          <a:stretch/>
        </p:blipFill>
        <p:spPr>
          <a:xfrm>
            <a:off x="4749480" y="3042000"/>
            <a:ext cx="3014280" cy="875880"/>
          </a:xfrm>
          <a:prstGeom prst="rect">
            <a:avLst/>
          </a:prstGeom>
          <a:ln w="0">
            <a:noFill/>
          </a:ln>
        </p:spPr>
      </p:pic>
      <p:grpSp>
        <p:nvGrpSpPr>
          <p:cNvPr id="937" name="组合 18"/>
          <p:cNvGrpSpPr/>
          <p:nvPr/>
        </p:nvGrpSpPr>
        <p:grpSpPr>
          <a:xfrm>
            <a:off x="4744800" y="4022280"/>
            <a:ext cx="3021480" cy="840960"/>
            <a:chOff x="4744800" y="4022280"/>
            <a:chExt cx="3021480" cy="840960"/>
          </a:xfrm>
        </p:grpSpPr>
        <p:pic>
          <p:nvPicPr>
            <p:cNvPr id="938" name="图片 14" descr="2345截图20190412092359.png"/>
            <p:cNvPicPr/>
            <p:nvPr/>
          </p:nvPicPr>
          <p:blipFill>
            <a:blip r:embed="rId2"/>
            <a:stretch/>
          </p:blipFill>
          <p:spPr>
            <a:xfrm>
              <a:off x="4744800" y="4031640"/>
              <a:ext cx="16999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图片 17" descr="2345截图20190412092407.png"/>
            <p:cNvPicPr/>
            <p:nvPr/>
          </p:nvPicPr>
          <p:blipFill>
            <a:blip r:embed="rId3"/>
            <a:stretch/>
          </p:blipFill>
          <p:spPr>
            <a:xfrm>
              <a:off x="6471000" y="4022280"/>
              <a:ext cx="1295280" cy="83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组合 23"/>
          <p:cNvGrpSpPr/>
          <p:nvPr/>
        </p:nvGrpSpPr>
        <p:grpSpPr>
          <a:xfrm>
            <a:off x="487800" y="2495880"/>
            <a:ext cx="2958120" cy="3567960"/>
            <a:chOff x="487800" y="2495880"/>
            <a:chExt cx="2958120" cy="3567960"/>
          </a:xfrm>
        </p:grpSpPr>
        <p:sp>
          <p:nvSpPr>
            <p:cNvPr id="941" name="矩形 24"/>
            <p:cNvSpPr/>
            <p:nvPr/>
          </p:nvSpPr>
          <p:spPr>
            <a:xfrm>
              <a:off x="487800" y="2496240"/>
              <a:ext cx="2958120" cy="35676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楷体"/>
              </a:endParaRPr>
            </a:p>
          </p:txBody>
        </p:sp>
        <p:cxnSp>
          <p:nvCxnSpPr>
            <p:cNvPr id="942" name="直接连接符 25"/>
            <p:cNvCxnSpPr>
              <a:stCxn id="941" idx="1"/>
              <a:endCxn id="941" idx="3"/>
            </p:cNvCxnSpPr>
            <p:nvPr/>
          </p:nvCxnSpPr>
          <p:spPr>
            <a:xfrm>
              <a:off x="487800" y="4280040"/>
              <a:ext cx="2958480" cy="36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  <p:cxnSp>
          <p:nvCxnSpPr>
            <p:cNvPr id="943" name="直接连接符 26"/>
            <p:cNvCxnSpPr>
              <a:stCxn id="941" idx="0"/>
              <a:endCxn id="941" idx="2"/>
            </p:cNvCxnSpPr>
            <p:nvPr/>
          </p:nvCxnSpPr>
          <p:spPr>
            <a:xfrm>
              <a:off x="1967040" y="2495880"/>
              <a:ext cx="360" cy="356832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</p:grpSp>
      <p:sp>
        <p:nvSpPr>
          <p:cNvPr id="944" name="文本框 25"/>
          <p:cNvSpPr/>
          <p:nvPr/>
        </p:nvSpPr>
        <p:spPr>
          <a:xfrm>
            <a:off x="487800" y="1835280"/>
            <a:ext cx="25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文本框 59"/>
          <p:cNvSpPr/>
          <p:nvPr/>
        </p:nvSpPr>
        <p:spPr>
          <a:xfrm>
            <a:off x="4749480" y="2392200"/>
            <a:ext cx="1805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e04236"/>
                </a:solidFill>
                <a:latin typeface="Pinyin Adjust"/>
                <a:ea typeface="GB Pinyinok-B"/>
              </a:rPr>
              <a:t>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文本框 63"/>
          <p:cNvSpPr/>
          <p:nvPr/>
        </p:nvSpPr>
        <p:spPr>
          <a:xfrm>
            <a:off x="4695120" y="506016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玻璃  琉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9"/>
          <p:cNvSpPr/>
          <p:nvPr/>
        </p:nvSpPr>
        <p:spPr>
          <a:xfrm>
            <a:off x="4694760" y="578520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两只玻璃珠似的大眼睛里，闪动着青春、热情的光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31"/>
          <p:cNvSpPr/>
          <p:nvPr/>
        </p:nvSpPr>
        <p:spPr>
          <a:xfrm>
            <a:off x="3958560" y="24840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32"/>
          <p:cNvSpPr/>
          <p:nvPr/>
        </p:nvSpPr>
        <p:spPr>
          <a:xfrm>
            <a:off x="3958560" y="3441600"/>
            <a:ext cx="6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33"/>
          <p:cNvSpPr/>
          <p:nvPr/>
        </p:nvSpPr>
        <p:spPr>
          <a:xfrm>
            <a:off x="3958560" y="505872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34"/>
          <p:cNvSpPr/>
          <p:nvPr/>
        </p:nvSpPr>
        <p:spPr>
          <a:xfrm>
            <a:off x="3958560" y="578484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圆角矩形 35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3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组合 23"/>
          <p:cNvGrpSpPr/>
          <p:nvPr/>
        </p:nvGrpSpPr>
        <p:grpSpPr>
          <a:xfrm>
            <a:off x="487800" y="2495880"/>
            <a:ext cx="2958120" cy="3567960"/>
            <a:chOff x="487800" y="2495880"/>
            <a:chExt cx="2958120" cy="3567960"/>
          </a:xfrm>
        </p:grpSpPr>
        <p:sp>
          <p:nvSpPr>
            <p:cNvPr id="954" name="矩形 17"/>
            <p:cNvSpPr/>
            <p:nvPr/>
          </p:nvSpPr>
          <p:spPr>
            <a:xfrm>
              <a:off x="487800" y="2496240"/>
              <a:ext cx="2958120" cy="35676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楷体"/>
              </a:endParaRPr>
            </a:p>
          </p:txBody>
        </p:sp>
        <p:cxnSp>
          <p:nvCxnSpPr>
            <p:cNvPr id="955" name="直接连接符 18"/>
            <p:cNvCxnSpPr>
              <a:stCxn id="954" idx="1"/>
              <a:endCxn id="954" idx="3"/>
            </p:cNvCxnSpPr>
            <p:nvPr/>
          </p:nvCxnSpPr>
          <p:spPr>
            <a:xfrm>
              <a:off x="487800" y="4280040"/>
              <a:ext cx="2958480" cy="36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  <p:cxnSp>
          <p:nvCxnSpPr>
            <p:cNvPr id="956" name="直接连接符 19"/>
            <p:cNvCxnSpPr>
              <a:stCxn id="954" idx="0"/>
              <a:endCxn id="954" idx="2"/>
            </p:cNvCxnSpPr>
            <p:nvPr/>
          </p:nvCxnSpPr>
          <p:spPr>
            <a:xfrm>
              <a:off x="1967040" y="2495880"/>
              <a:ext cx="360" cy="356832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</p:grpSp>
      <p:sp>
        <p:nvSpPr>
          <p:cNvPr id="957" name="文本框 25"/>
          <p:cNvSpPr/>
          <p:nvPr/>
        </p:nvSpPr>
        <p:spPr>
          <a:xfrm>
            <a:off x="487800" y="1835280"/>
            <a:ext cx="25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59"/>
          <p:cNvSpPr/>
          <p:nvPr/>
        </p:nvSpPr>
        <p:spPr>
          <a:xfrm>
            <a:off x="4749480" y="2392200"/>
            <a:ext cx="180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63"/>
          <p:cNvSpPr/>
          <p:nvPr/>
        </p:nvSpPr>
        <p:spPr>
          <a:xfrm>
            <a:off x="4695120" y="362016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侦探  探望  探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9"/>
          <p:cNvSpPr/>
          <p:nvPr/>
        </p:nvSpPr>
        <p:spPr>
          <a:xfrm>
            <a:off x="4694760" y="457740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因为我的好朋友小红感冒了，所以我准备放学后去探望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24"/>
          <p:cNvSpPr/>
          <p:nvPr/>
        </p:nvSpPr>
        <p:spPr>
          <a:xfrm>
            <a:off x="3958560" y="24840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26"/>
          <p:cNvSpPr/>
          <p:nvPr/>
        </p:nvSpPr>
        <p:spPr>
          <a:xfrm>
            <a:off x="3958560" y="361872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文本框 27"/>
          <p:cNvSpPr/>
          <p:nvPr/>
        </p:nvSpPr>
        <p:spPr>
          <a:xfrm>
            <a:off x="3958560" y="457704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8"/>
          <p:cNvSpPr/>
          <p:nvPr/>
        </p:nvSpPr>
        <p:spPr>
          <a:xfrm>
            <a:off x="1738800" y="2531520"/>
            <a:ext cx="1057680" cy="603000"/>
          </a:xfrm>
          <a:prstGeom prst="rect">
            <a:avLst/>
          </a:prstGeom>
          <a:noFill/>
          <a:ln w="57150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楷体"/>
            </a:endParaRPr>
          </a:p>
        </p:txBody>
      </p:sp>
      <p:sp>
        <p:nvSpPr>
          <p:cNvPr id="965" name="线形标注 1 29"/>
          <p:cNvSpPr/>
          <p:nvPr/>
        </p:nvSpPr>
        <p:spPr>
          <a:xfrm>
            <a:off x="3673800" y="6021720"/>
            <a:ext cx="2475720" cy="554040"/>
          </a:xfrm>
          <a:prstGeom prst="borderCallout1">
            <a:avLst>
              <a:gd name="adj1" fmla="val -2534"/>
              <a:gd name="adj2" fmla="val 43488"/>
              <a:gd name="adj3" fmla="val -560334"/>
              <a:gd name="adj4" fmla="val -38261"/>
            </a:avLst>
          </a:prstGeom>
          <a:solidFill>
            <a:srgbClr val="a1c450"/>
          </a:solidFill>
          <a:ln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不要多写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圆角矩形 30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圆角矩形 32"/>
          <p:cNvSpPr/>
          <p:nvPr/>
        </p:nvSpPr>
        <p:spPr>
          <a:xfrm>
            <a:off x="510120" y="1224720"/>
            <a:ext cx="1543320" cy="59256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易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17" descr="2345截图20190412093057.png"/>
          <p:cNvPicPr/>
          <p:nvPr/>
        </p:nvPicPr>
        <p:blipFill>
          <a:blip r:embed="rId1"/>
          <a:stretch/>
        </p:blipFill>
        <p:spPr>
          <a:xfrm>
            <a:off x="4816800" y="3134520"/>
            <a:ext cx="4068000" cy="919080"/>
          </a:xfrm>
          <a:prstGeom prst="rect">
            <a:avLst/>
          </a:prstGeom>
          <a:ln w="0">
            <a:noFill/>
          </a:ln>
        </p:spPr>
      </p:pic>
      <p:grpSp>
        <p:nvGrpSpPr>
          <p:cNvPr id="969" name="组合 23"/>
          <p:cNvGrpSpPr/>
          <p:nvPr/>
        </p:nvGrpSpPr>
        <p:grpSpPr>
          <a:xfrm>
            <a:off x="487800" y="2495880"/>
            <a:ext cx="2958120" cy="3567960"/>
            <a:chOff x="487800" y="2495880"/>
            <a:chExt cx="2958120" cy="3567960"/>
          </a:xfrm>
        </p:grpSpPr>
        <p:sp>
          <p:nvSpPr>
            <p:cNvPr id="970" name="矩形 18"/>
            <p:cNvSpPr/>
            <p:nvPr/>
          </p:nvSpPr>
          <p:spPr>
            <a:xfrm>
              <a:off x="487800" y="2496240"/>
              <a:ext cx="2958120" cy="35676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楷体"/>
              </a:endParaRPr>
            </a:p>
          </p:txBody>
        </p:sp>
        <p:cxnSp>
          <p:nvCxnSpPr>
            <p:cNvPr id="971" name="直接连接符 19"/>
            <p:cNvCxnSpPr>
              <a:stCxn id="970" idx="1"/>
              <a:endCxn id="970" idx="3"/>
            </p:cNvCxnSpPr>
            <p:nvPr/>
          </p:nvCxnSpPr>
          <p:spPr>
            <a:xfrm>
              <a:off x="487800" y="4280040"/>
              <a:ext cx="2958480" cy="36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  <p:cxnSp>
          <p:nvCxnSpPr>
            <p:cNvPr id="972" name="直接连接符 20"/>
            <p:cNvCxnSpPr>
              <a:stCxn id="970" idx="0"/>
              <a:endCxn id="970" idx="2"/>
            </p:cNvCxnSpPr>
            <p:nvPr/>
          </p:nvCxnSpPr>
          <p:spPr>
            <a:xfrm>
              <a:off x="1967040" y="2495880"/>
              <a:ext cx="360" cy="356832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</p:grpSp>
      <p:sp>
        <p:nvSpPr>
          <p:cNvPr id="973" name="文本框 25"/>
          <p:cNvSpPr/>
          <p:nvPr/>
        </p:nvSpPr>
        <p:spPr>
          <a:xfrm>
            <a:off x="487800" y="1835280"/>
            <a:ext cx="25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59"/>
          <p:cNvSpPr/>
          <p:nvPr/>
        </p:nvSpPr>
        <p:spPr>
          <a:xfrm>
            <a:off x="4749480" y="2392200"/>
            <a:ext cx="180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à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文本框 63"/>
          <p:cNvSpPr/>
          <p:nvPr/>
        </p:nvSpPr>
        <p:spPr>
          <a:xfrm>
            <a:off x="4692600" y="439740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围绕  环绕  缭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文本框 9"/>
          <p:cNvSpPr/>
          <p:nvPr/>
        </p:nvSpPr>
        <p:spPr>
          <a:xfrm>
            <a:off x="4655880" y="511884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五片洁白如雪的花瓣围绕着黄黄的花蕊，组成一朵蝴蝶一样的火花，真美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25"/>
          <p:cNvSpPr/>
          <p:nvPr/>
        </p:nvSpPr>
        <p:spPr>
          <a:xfrm>
            <a:off x="3958560" y="24840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文本框 26"/>
          <p:cNvSpPr/>
          <p:nvPr/>
        </p:nvSpPr>
        <p:spPr>
          <a:xfrm>
            <a:off x="3956400" y="439596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文本框 27"/>
          <p:cNvSpPr/>
          <p:nvPr/>
        </p:nvSpPr>
        <p:spPr>
          <a:xfrm>
            <a:off x="3956400" y="535428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28"/>
          <p:cNvSpPr/>
          <p:nvPr/>
        </p:nvSpPr>
        <p:spPr>
          <a:xfrm>
            <a:off x="1738800" y="2531520"/>
            <a:ext cx="1057680" cy="603000"/>
          </a:xfrm>
          <a:prstGeom prst="rect">
            <a:avLst/>
          </a:prstGeom>
          <a:noFill/>
          <a:ln w="57150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楷体"/>
            </a:endParaRPr>
          </a:p>
        </p:txBody>
      </p:sp>
      <p:sp>
        <p:nvSpPr>
          <p:cNvPr id="981" name="线形标注 1 29"/>
          <p:cNvSpPr/>
          <p:nvPr/>
        </p:nvSpPr>
        <p:spPr>
          <a:xfrm>
            <a:off x="997920" y="6145560"/>
            <a:ext cx="2475720" cy="554040"/>
          </a:xfrm>
          <a:prstGeom prst="borderCallout1">
            <a:avLst>
              <a:gd name="adj1" fmla="val -2534"/>
              <a:gd name="adj2" fmla="val 43488"/>
              <a:gd name="adj3" fmla="val -581618"/>
              <a:gd name="adj4" fmla="val 49299"/>
            </a:avLst>
          </a:prstGeom>
          <a:solidFill>
            <a:srgbClr val="a1c450"/>
          </a:solidFill>
          <a:ln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不要多写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圆角矩形 30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圆角矩形 32"/>
          <p:cNvSpPr/>
          <p:nvPr/>
        </p:nvSpPr>
        <p:spPr>
          <a:xfrm>
            <a:off x="510120" y="1224720"/>
            <a:ext cx="1543320" cy="59256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易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文本框 34"/>
          <p:cNvSpPr/>
          <p:nvPr/>
        </p:nvSpPr>
        <p:spPr>
          <a:xfrm>
            <a:off x="3958560" y="3441600"/>
            <a:ext cx="6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文本框 5"/>
          <p:cNvSpPr/>
          <p:nvPr/>
        </p:nvSpPr>
        <p:spPr>
          <a:xfrm>
            <a:off x="284400" y="1636200"/>
            <a:ext cx="852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青苔：指阴湿的地方生长的绿色的苔藓植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3"/>
          <p:cNvSpPr/>
          <p:nvPr/>
        </p:nvSpPr>
        <p:spPr>
          <a:xfrm>
            <a:off x="605520" y="2849040"/>
            <a:ext cx="4905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墙上长着斑斑点点的青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图片 7"/>
          <p:cNvSpPr/>
          <p:nvPr/>
        </p:nvSpPr>
        <p:spPr>
          <a:xfrm>
            <a:off x="5511600" y="3099960"/>
            <a:ext cx="3481920" cy="348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圆角矩形 6"/>
          <p:cNvSpPr/>
          <p:nvPr/>
        </p:nvSpPr>
        <p:spPr>
          <a:xfrm>
            <a:off x="493560" y="672480"/>
            <a:ext cx="1543320" cy="59256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0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矩形 1"/>
          <p:cNvSpPr/>
          <p:nvPr/>
        </p:nvSpPr>
        <p:spPr>
          <a:xfrm>
            <a:off x="547560" y="1432440"/>
            <a:ext cx="8023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洋溢：指情绪、气氛等饱满而充分流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2"/>
          <p:cNvSpPr/>
          <p:nvPr/>
        </p:nvSpPr>
        <p:spPr>
          <a:xfrm>
            <a:off x="708120" y="2159640"/>
            <a:ext cx="6633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校园里到处都洋溢着欣欣向荣的气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2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992" name="AutoShape 4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993" name="AutoShape 6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994" name="图片 6"/>
          <p:cNvSpPr/>
          <p:nvPr/>
        </p:nvSpPr>
        <p:spPr>
          <a:xfrm>
            <a:off x="5453640" y="2944440"/>
            <a:ext cx="3504600" cy="3698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2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文本框 4"/>
          <p:cNvSpPr/>
          <p:nvPr/>
        </p:nvSpPr>
        <p:spPr>
          <a:xfrm>
            <a:off x="2639520" y="3346560"/>
            <a:ext cx="65340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左大括号 7"/>
          <p:cNvSpPr/>
          <p:nvPr/>
        </p:nvSpPr>
        <p:spPr>
          <a:xfrm>
            <a:off x="3422160" y="2649240"/>
            <a:ext cx="585360" cy="2409840"/>
          </a:xfrm>
          <a:prstGeom prst="leftBrace">
            <a:avLst>
              <a:gd name="adj1" fmla="val 8333"/>
              <a:gd name="adj2" fmla="val 50000"/>
            </a:avLst>
          </a:prstGeom>
          <a:noFill/>
          <a:ln w="1270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997" name="TextBox 8"/>
          <p:cNvSpPr/>
          <p:nvPr/>
        </p:nvSpPr>
        <p:spPr>
          <a:xfrm>
            <a:off x="3914280" y="2482200"/>
            <a:ext cx="325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é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曾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10"/>
          <p:cNvSpPr/>
          <p:nvPr/>
        </p:nvSpPr>
        <p:spPr>
          <a:xfrm>
            <a:off x="4007880" y="4736160"/>
            <a:ext cx="341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ē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曾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圆角矩形 9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3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文本框 12"/>
          <p:cNvSpPr/>
          <p:nvPr/>
        </p:nvSpPr>
        <p:spPr>
          <a:xfrm>
            <a:off x="962640" y="890280"/>
            <a:ext cx="68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课文，五粒豆有什么愿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19"/>
          <p:cNvSpPr/>
          <p:nvPr/>
        </p:nvSpPr>
        <p:spPr>
          <a:xfrm>
            <a:off x="6822000" y="1722600"/>
            <a:ext cx="1633320" cy="55548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飞到广阔的世界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19"/>
          <p:cNvSpPr/>
          <p:nvPr/>
        </p:nvSpPr>
        <p:spPr>
          <a:xfrm>
            <a:off x="5150160" y="1726920"/>
            <a:ext cx="1477800" cy="55548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飞进太阳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3" name="直接连接符 12"/>
          <p:cNvCxnSpPr/>
          <p:nvPr/>
        </p:nvCxnSpPr>
        <p:spPr>
          <a:xfrm flipH="1">
            <a:off x="2910600" y="3306600"/>
            <a:ext cx="2623680" cy="1233720"/>
          </a:xfrm>
          <a:prstGeom prst="straightConnector1">
            <a:avLst/>
          </a:prstGeom>
          <a:ln w="28575">
            <a:solidFill>
              <a:srgbClr val="e04236"/>
            </a:solidFill>
          </a:ln>
        </p:spPr>
      </p:cxnSp>
      <p:cxnSp>
        <p:nvCxnSpPr>
          <p:cNvPr id="1004" name="直接连接符 14"/>
          <p:cNvCxnSpPr/>
          <p:nvPr/>
        </p:nvCxnSpPr>
        <p:spPr>
          <a:xfrm flipH="1">
            <a:off x="1586880" y="3295800"/>
            <a:ext cx="5685840" cy="1386720"/>
          </a:xfrm>
          <a:prstGeom prst="straightConnector1">
            <a:avLst/>
          </a:prstGeom>
          <a:ln w="28575">
            <a:solidFill>
              <a:srgbClr val="e04236"/>
            </a:solidFill>
          </a:ln>
        </p:spPr>
      </p:cxnSp>
      <p:sp>
        <p:nvSpPr>
          <p:cNvPr id="1005" name="文本框 19"/>
          <p:cNvSpPr/>
          <p:nvPr/>
        </p:nvSpPr>
        <p:spPr>
          <a:xfrm>
            <a:off x="2840400" y="1719720"/>
            <a:ext cx="2154960" cy="55548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飞到哪就在哪，睡大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9"/>
          <p:cNvSpPr/>
          <p:nvPr/>
        </p:nvSpPr>
        <p:spPr>
          <a:xfrm>
            <a:off x="633960" y="1723320"/>
            <a:ext cx="2154960" cy="555480"/>
          </a:xfrm>
          <a:prstGeom prst="roundRect">
            <a:avLst>
              <a:gd name="adj" fmla="val 16667"/>
            </a:avLst>
          </a:prstGeom>
          <a:solidFill>
            <a:srgbClr val="a1c450"/>
          </a:solidFill>
          <a:ln w="3175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该怎么办就怎么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图片 25"/>
          <p:cNvSpPr/>
          <p:nvPr/>
        </p:nvSpPr>
        <p:spPr>
          <a:xfrm>
            <a:off x="808920" y="4611240"/>
            <a:ext cx="992880" cy="12474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70ad47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prst="angle"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图片 26"/>
          <p:cNvSpPr/>
          <p:nvPr/>
        </p:nvSpPr>
        <p:spPr>
          <a:xfrm>
            <a:off x="2581920" y="4561560"/>
            <a:ext cx="992880" cy="124740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70ad47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prst="angle"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图片 27"/>
          <p:cNvSpPr/>
          <p:nvPr/>
        </p:nvSpPr>
        <p:spPr>
          <a:xfrm>
            <a:off x="4359960" y="4689360"/>
            <a:ext cx="992880" cy="124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70ad47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prst="angle"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图片 28"/>
          <p:cNvSpPr/>
          <p:nvPr/>
        </p:nvSpPr>
        <p:spPr>
          <a:xfrm>
            <a:off x="5946840" y="4625640"/>
            <a:ext cx="992880" cy="124740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63500">
            <a:solidFill>
              <a:srgbClr val="70ad47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prst="angle"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图片 29"/>
          <p:cNvSpPr/>
          <p:nvPr/>
        </p:nvSpPr>
        <p:spPr>
          <a:xfrm>
            <a:off x="7462080" y="4529880"/>
            <a:ext cx="992880" cy="124740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63500">
            <a:solidFill>
              <a:srgbClr val="70ad47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prst="angle"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0"/>
          <p:cNvSpPr/>
          <p:nvPr/>
        </p:nvSpPr>
        <p:spPr>
          <a:xfrm>
            <a:off x="1276560" y="592236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一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31"/>
          <p:cNvSpPr/>
          <p:nvPr/>
        </p:nvSpPr>
        <p:spPr>
          <a:xfrm>
            <a:off x="2941920" y="5872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二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2"/>
          <p:cNvSpPr/>
          <p:nvPr/>
        </p:nvSpPr>
        <p:spPr>
          <a:xfrm>
            <a:off x="4791960" y="5872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三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3"/>
          <p:cNvSpPr/>
          <p:nvPr/>
        </p:nvSpPr>
        <p:spPr>
          <a:xfrm>
            <a:off x="6410880" y="58194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四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34"/>
          <p:cNvSpPr/>
          <p:nvPr/>
        </p:nvSpPr>
        <p:spPr>
          <a:xfrm>
            <a:off x="7894080" y="58194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五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直接连接符 37"/>
          <p:cNvCxnSpPr/>
          <p:nvPr/>
        </p:nvCxnSpPr>
        <p:spPr>
          <a:xfrm>
            <a:off x="3800520" y="3456360"/>
            <a:ext cx="1114560" cy="1218960"/>
          </a:xfrm>
          <a:prstGeom prst="straightConnector1">
            <a:avLst/>
          </a:prstGeom>
          <a:ln w="28575">
            <a:solidFill>
              <a:srgbClr val="e04236"/>
            </a:solidFill>
          </a:ln>
        </p:spPr>
      </p:cxnSp>
      <p:cxnSp>
        <p:nvCxnSpPr>
          <p:cNvPr id="1018" name="直接连接符 40"/>
          <p:cNvCxnSpPr/>
          <p:nvPr/>
        </p:nvCxnSpPr>
        <p:spPr>
          <a:xfrm>
            <a:off x="4218120" y="3264120"/>
            <a:ext cx="1991520" cy="1404000"/>
          </a:xfrm>
          <a:prstGeom prst="straightConnector1">
            <a:avLst/>
          </a:prstGeom>
          <a:ln w="28575">
            <a:solidFill>
              <a:srgbClr val="e04236"/>
            </a:solidFill>
          </a:ln>
        </p:spPr>
      </p:cxnSp>
      <p:cxnSp>
        <p:nvCxnSpPr>
          <p:cNvPr id="1019" name="直接连接符 42"/>
          <p:cNvCxnSpPr/>
          <p:nvPr/>
        </p:nvCxnSpPr>
        <p:spPr>
          <a:xfrm>
            <a:off x="1993320" y="3327840"/>
            <a:ext cx="5891040" cy="1191600"/>
          </a:xfrm>
          <a:prstGeom prst="straightConnector1">
            <a:avLst/>
          </a:prstGeom>
          <a:ln w="28575">
            <a:solidFill>
              <a:srgbClr val="e04236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矩形 3"/>
          <p:cNvSpPr/>
          <p:nvPr/>
        </p:nvSpPr>
        <p:spPr>
          <a:xfrm>
            <a:off x="604440" y="869400"/>
            <a:ext cx="791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会查字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8"/>
          <p:cNvSpPr/>
          <p:nvPr/>
        </p:nvSpPr>
        <p:spPr>
          <a:xfrm>
            <a:off x="858240" y="1878840"/>
            <a:ext cx="74030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“豌”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结构的字，用部首查字法先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部，再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19"/>
          <p:cNvSpPr/>
          <p:nvPr/>
        </p:nvSpPr>
        <p:spPr>
          <a:xfrm>
            <a:off x="3027240" y="18705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1108080" y="2424240"/>
            <a:ext cx="44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21"/>
          <p:cNvSpPr/>
          <p:nvPr/>
        </p:nvSpPr>
        <p:spPr>
          <a:xfrm>
            <a:off x="3016800" y="246528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2"/>
          <p:cNvSpPr/>
          <p:nvPr/>
        </p:nvSpPr>
        <p:spPr>
          <a:xfrm>
            <a:off x="860040" y="3349440"/>
            <a:ext cx="6922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“耐”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结构的字，用部首查字法先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部，再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23"/>
          <p:cNvSpPr/>
          <p:nvPr/>
        </p:nvSpPr>
        <p:spPr>
          <a:xfrm>
            <a:off x="2761920" y="3349440"/>
            <a:ext cx="133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4"/>
          <p:cNvSpPr/>
          <p:nvPr/>
        </p:nvSpPr>
        <p:spPr>
          <a:xfrm>
            <a:off x="1127520" y="393372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5"/>
          <p:cNvSpPr/>
          <p:nvPr/>
        </p:nvSpPr>
        <p:spPr>
          <a:xfrm>
            <a:off x="2993760" y="3904200"/>
            <a:ext cx="36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6"/>
          <p:cNvSpPr/>
          <p:nvPr/>
        </p:nvSpPr>
        <p:spPr>
          <a:xfrm>
            <a:off x="867960" y="4867560"/>
            <a:ext cx="7696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“曾”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结构的字，用部首查字法先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部，再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7"/>
          <p:cNvSpPr/>
          <p:nvPr/>
        </p:nvSpPr>
        <p:spPr>
          <a:xfrm>
            <a:off x="2649960" y="4858560"/>
            <a:ext cx="105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28"/>
          <p:cNvSpPr/>
          <p:nvPr/>
        </p:nvSpPr>
        <p:spPr>
          <a:xfrm>
            <a:off x="7541280" y="477540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9"/>
          <p:cNvSpPr/>
          <p:nvPr/>
        </p:nvSpPr>
        <p:spPr>
          <a:xfrm>
            <a:off x="1633680" y="545616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13920" y="2616480"/>
            <a:ext cx="8654400" cy="16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会认本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生字，会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个生字，理解生字组成的词语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朗读课文，感受小豌豆在生长过程中给生病的小姑娘带来的愉快和生机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赞扬平实、仁爱、敬重生命的生活态度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难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5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本课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9"/>
          <p:cNvSpPr/>
          <p:nvPr/>
        </p:nvSpPr>
        <p:spPr>
          <a:xfrm>
            <a:off x="1411560" y="1297440"/>
            <a:ext cx="6442920" cy="47952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豆是一种攀缘草本，绿色，椭圆形，内侧有二至十粒种子。今天我们一起来认识一个豆荚里的五颗豌豆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图片 5"/>
          <p:cNvSpPr/>
          <p:nvPr/>
        </p:nvSpPr>
        <p:spPr>
          <a:xfrm>
            <a:off x="2860200" y="3026520"/>
            <a:ext cx="3360600" cy="3417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4"/>
          <p:cNvSpPr/>
          <p:nvPr/>
        </p:nvSpPr>
        <p:spPr>
          <a:xfrm>
            <a:off x="373680" y="1148400"/>
            <a:ext cx="5442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丹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世纪著名童话作家，被尊称为“现代童话之父”，世界文学童话创始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他最著名的童话故事有《小锡兵》《冰雪女王》《拇指姑娘》《卖火柴的小女孩》《丑小鸭》《红鞋》。安徒生生前曾得到皇家的致敬，并被高度赞扬为“给全欧洲的一代孩子带来了欢乐”。他的童话故事还激发了大量电影、舞台剧、动画的制作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icture 2"/>
          <p:cNvSpPr/>
          <p:nvPr/>
        </p:nvSpPr>
        <p:spPr>
          <a:xfrm>
            <a:off x="5816880" y="1286640"/>
            <a:ext cx="3106440" cy="4359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1"/>
          <p:cNvSpPr/>
          <p:nvPr/>
        </p:nvSpPr>
        <p:spPr>
          <a:xfrm>
            <a:off x="7106400" y="5765040"/>
            <a:ext cx="59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徒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矩形 8"/>
          <p:cNvSpPr/>
          <p:nvPr/>
        </p:nvSpPr>
        <p:spPr>
          <a:xfrm>
            <a:off x="1539720" y="2956680"/>
            <a:ext cx="70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i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2447640" y="2956680"/>
            <a:ext cx="1029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10"/>
          <p:cNvSpPr/>
          <p:nvPr/>
        </p:nvSpPr>
        <p:spPr>
          <a:xfrm>
            <a:off x="3475080" y="2924640"/>
            <a:ext cx="70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11"/>
          <p:cNvSpPr/>
          <p:nvPr/>
        </p:nvSpPr>
        <p:spPr>
          <a:xfrm>
            <a:off x="4162680" y="2918520"/>
            <a:ext cx="1101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i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12"/>
          <p:cNvSpPr/>
          <p:nvPr/>
        </p:nvSpPr>
        <p:spPr>
          <a:xfrm>
            <a:off x="5150520" y="2877480"/>
            <a:ext cx="809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3"/>
          <p:cNvSpPr/>
          <p:nvPr/>
        </p:nvSpPr>
        <p:spPr>
          <a:xfrm>
            <a:off x="6495840" y="2886120"/>
            <a:ext cx="1272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ku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16"/>
          <p:cNvSpPr/>
          <p:nvPr/>
        </p:nvSpPr>
        <p:spPr>
          <a:xfrm>
            <a:off x="5886000" y="2881800"/>
            <a:ext cx="782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q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21"/>
          <p:cNvSpPr/>
          <p:nvPr/>
        </p:nvSpPr>
        <p:spPr>
          <a:xfrm>
            <a:off x="1763280" y="381060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2"/>
          <p:cNvSpPr/>
          <p:nvPr/>
        </p:nvSpPr>
        <p:spPr>
          <a:xfrm>
            <a:off x="2685600" y="379152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3"/>
          <p:cNvSpPr/>
          <p:nvPr/>
        </p:nvSpPr>
        <p:spPr>
          <a:xfrm>
            <a:off x="3642120" y="377460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4"/>
          <p:cNvSpPr/>
          <p:nvPr/>
        </p:nvSpPr>
        <p:spPr>
          <a:xfrm>
            <a:off x="4499640" y="377748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25"/>
          <p:cNvSpPr/>
          <p:nvPr/>
        </p:nvSpPr>
        <p:spPr>
          <a:xfrm>
            <a:off x="5354280" y="378108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26"/>
          <p:cNvSpPr/>
          <p:nvPr/>
        </p:nvSpPr>
        <p:spPr>
          <a:xfrm>
            <a:off x="6105600" y="377928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27"/>
          <p:cNvSpPr/>
          <p:nvPr/>
        </p:nvSpPr>
        <p:spPr>
          <a:xfrm>
            <a:off x="6972840" y="377208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5"/>
          <p:cNvSpPr/>
          <p:nvPr/>
        </p:nvSpPr>
        <p:spPr>
          <a:xfrm>
            <a:off x="7641000" y="2879280"/>
            <a:ext cx="619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y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36"/>
          <p:cNvSpPr/>
          <p:nvPr/>
        </p:nvSpPr>
        <p:spPr>
          <a:xfrm>
            <a:off x="7805160" y="3764880"/>
            <a:ext cx="31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圆角矩形 28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Box 1"/>
          <p:cNvSpPr/>
          <p:nvPr/>
        </p:nvSpPr>
        <p:spPr>
          <a:xfrm>
            <a:off x="1476360" y="20005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2"/>
          <p:cNvSpPr/>
          <p:nvPr/>
        </p:nvSpPr>
        <p:spPr>
          <a:xfrm>
            <a:off x="1568160" y="3046320"/>
            <a:ext cx="11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加一加：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3"/>
          <p:cNvSpPr/>
          <p:nvPr/>
        </p:nvSpPr>
        <p:spPr>
          <a:xfrm>
            <a:off x="1476360" y="4193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6" name="直接连接符 5"/>
          <p:cNvCxnSpPr/>
          <p:nvPr/>
        </p:nvCxnSpPr>
        <p:spPr>
          <a:xfrm>
            <a:off x="400680" y="3603240"/>
            <a:ext cx="6371640" cy="165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</a:ln>
        </p:spPr>
      </p:cxnSp>
      <p:sp>
        <p:nvSpPr>
          <p:cNvPr id="817" name="AutoShape 6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818" name="AutoShape 8"/>
          <p:cNvSpPr/>
          <p:nvPr/>
        </p:nvSpPr>
        <p:spPr>
          <a:xfrm>
            <a:off x="116640" y="-14436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sp>
        <p:nvSpPr>
          <p:cNvPr id="819" name="TextBox 12"/>
          <p:cNvSpPr/>
          <p:nvPr/>
        </p:nvSpPr>
        <p:spPr>
          <a:xfrm>
            <a:off x="1594800" y="5229720"/>
            <a:ext cx="11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加一加：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3" descr="412-00251.jpg"/>
          <p:cNvPicPr/>
          <p:nvPr/>
        </p:nvPicPr>
        <p:blipFill>
          <a:blip r:embed="rId1"/>
          <a:stretch/>
        </p:blipFill>
        <p:spPr>
          <a:xfrm>
            <a:off x="5320440" y="3879000"/>
            <a:ext cx="1754640" cy="270072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821" name="圆角矩形 11"/>
          <p:cNvSpPr/>
          <p:nvPr/>
        </p:nvSpPr>
        <p:spPr>
          <a:xfrm>
            <a:off x="493560" y="672480"/>
            <a:ext cx="1543320" cy="592560"/>
          </a:xfrm>
          <a:prstGeom prst="roundRect">
            <a:avLst>
              <a:gd name="adj" fmla="val 50000"/>
            </a:avLst>
          </a:prstGeom>
          <a:solidFill>
            <a:srgbClr val="a1c4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识字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图片 15"/>
          <p:cNvSpPr/>
          <p:nvPr/>
        </p:nvSpPr>
        <p:spPr>
          <a:xfrm>
            <a:off x="4753080" y="672480"/>
            <a:ext cx="2744280" cy="2790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2"/>
          <p:cNvSpPr/>
          <p:nvPr/>
        </p:nvSpPr>
        <p:spPr>
          <a:xfrm>
            <a:off x="3091680" y="21988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右箭头 3"/>
          <p:cNvSpPr/>
          <p:nvPr/>
        </p:nvSpPr>
        <p:spPr>
          <a:xfrm>
            <a:off x="5534640" y="4544280"/>
            <a:ext cx="487080" cy="505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042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楷体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6434280" y="4272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10" descr="2345截图20190412085715.png"/>
          <p:cNvPicPr/>
          <p:nvPr/>
        </p:nvPicPr>
        <p:blipFill>
          <a:blip r:embed="rId1"/>
          <a:stretch/>
        </p:blipFill>
        <p:spPr>
          <a:xfrm>
            <a:off x="2681640" y="4107960"/>
            <a:ext cx="2653200" cy="1515960"/>
          </a:xfrm>
          <a:prstGeom prst="rect">
            <a:avLst/>
          </a:prstGeom>
          <a:ln w="0">
            <a:noFill/>
          </a:ln>
          <a:effectLst>
            <a:softEdge rad="63360"/>
          </a:effectLst>
        </p:spPr>
      </p:pic>
      <p:sp>
        <p:nvSpPr>
          <p:cNvPr id="827" name="下箭头 11"/>
          <p:cNvSpPr/>
          <p:nvPr/>
        </p:nvSpPr>
        <p:spPr>
          <a:xfrm>
            <a:off x="2974680" y="3200400"/>
            <a:ext cx="342720" cy="595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042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楷体"/>
            </a:endParaRPr>
          </a:p>
        </p:txBody>
      </p:sp>
      <p:sp>
        <p:nvSpPr>
          <p:cNvPr id="828" name="圆角矩形 15"/>
          <p:cNvSpPr/>
          <p:nvPr/>
        </p:nvSpPr>
        <p:spPr>
          <a:xfrm>
            <a:off x="3468240" y="1125000"/>
            <a:ext cx="242712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字源识字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组合 77"/>
          <p:cNvGrpSpPr/>
          <p:nvPr/>
        </p:nvGrpSpPr>
        <p:grpSpPr>
          <a:xfrm>
            <a:off x="3067920" y="2618640"/>
            <a:ext cx="750240" cy="1000080"/>
            <a:chOff x="3067920" y="2618640"/>
            <a:chExt cx="750240" cy="1000080"/>
          </a:xfrm>
        </p:grpSpPr>
        <p:sp>
          <p:nvSpPr>
            <p:cNvPr id="830" name="矩形 2"/>
            <p:cNvSpPr/>
            <p:nvPr/>
          </p:nvSpPr>
          <p:spPr>
            <a:xfrm>
              <a:off x="3068280" y="26186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31" name="直接连接符 3"/>
            <p:cNvCxnSpPr>
              <a:stCxn id="830" idx="0"/>
              <a:endCxn id="830" idx="2"/>
            </p:cNvCxnSpPr>
            <p:nvPr/>
          </p:nvCxnSpPr>
          <p:spPr>
            <a:xfrm>
              <a:off x="3441960" y="261864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32" name="直接连接符 4"/>
            <p:cNvCxnSpPr>
              <a:stCxn id="830" idx="1"/>
              <a:endCxn id="830" idx="3"/>
            </p:cNvCxnSpPr>
            <p:nvPr/>
          </p:nvCxnSpPr>
          <p:spPr>
            <a:xfrm flipV="1">
              <a:off x="3067920" y="311868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33" name="组合 81"/>
          <p:cNvGrpSpPr/>
          <p:nvPr/>
        </p:nvGrpSpPr>
        <p:grpSpPr>
          <a:xfrm>
            <a:off x="3978720" y="2634480"/>
            <a:ext cx="750240" cy="1000080"/>
            <a:chOff x="3978720" y="2634480"/>
            <a:chExt cx="750240" cy="1000080"/>
          </a:xfrm>
        </p:grpSpPr>
        <p:sp>
          <p:nvSpPr>
            <p:cNvPr id="834" name="矩形 6"/>
            <p:cNvSpPr/>
            <p:nvPr/>
          </p:nvSpPr>
          <p:spPr>
            <a:xfrm>
              <a:off x="3979080" y="26348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35" name="直接连接符 7"/>
            <p:cNvCxnSpPr>
              <a:stCxn id="834" idx="0"/>
              <a:endCxn id="834" idx="2"/>
            </p:cNvCxnSpPr>
            <p:nvPr/>
          </p:nvCxnSpPr>
          <p:spPr>
            <a:xfrm>
              <a:off x="4352760" y="263448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36" name="直接连接符 8"/>
            <p:cNvCxnSpPr>
              <a:stCxn id="834" idx="1"/>
              <a:endCxn id="834" idx="3"/>
            </p:cNvCxnSpPr>
            <p:nvPr/>
          </p:nvCxnSpPr>
          <p:spPr>
            <a:xfrm flipV="1">
              <a:off x="3978720" y="313452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37" name="组合 85"/>
          <p:cNvGrpSpPr/>
          <p:nvPr/>
        </p:nvGrpSpPr>
        <p:grpSpPr>
          <a:xfrm>
            <a:off x="4877640" y="2642760"/>
            <a:ext cx="750240" cy="1001520"/>
            <a:chOff x="4877640" y="2642760"/>
            <a:chExt cx="750240" cy="1001520"/>
          </a:xfrm>
        </p:grpSpPr>
        <p:sp>
          <p:nvSpPr>
            <p:cNvPr id="838" name="矩形 10"/>
            <p:cNvSpPr/>
            <p:nvPr/>
          </p:nvSpPr>
          <p:spPr>
            <a:xfrm>
              <a:off x="4878000" y="264276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39" name="直接连接符 11"/>
            <p:cNvCxnSpPr>
              <a:stCxn id="838" idx="0"/>
              <a:endCxn id="838" idx="2"/>
            </p:cNvCxnSpPr>
            <p:nvPr/>
          </p:nvCxnSpPr>
          <p:spPr>
            <a:xfrm>
              <a:off x="5251680" y="2643840"/>
              <a:ext cx="2520" cy="1000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40" name="直接连接符 12"/>
            <p:cNvCxnSpPr>
              <a:stCxn id="838" idx="1"/>
              <a:endCxn id="838" idx="3"/>
            </p:cNvCxnSpPr>
            <p:nvPr/>
          </p:nvCxnSpPr>
          <p:spPr>
            <a:xfrm flipV="1">
              <a:off x="4877640" y="314244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41" name="组合 76"/>
          <p:cNvGrpSpPr/>
          <p:nvPr/>
        </p:nvGrpSpPr>
        <p:grpSpPr>
          <a:xfrm>
            <a:off x="2157120" y="2618640"/>
            <a:ext cx="750240" cy="1000080"/>
            <a:chOff x="2157120" y="2618640"/>
            <a:chExt cx="750240" cy="1000080"/>
          </a:xfrm>
        </p:grpSpPr>
        <p:sp>
          <p:nvSpPr>
            <p:cNvPr id="842" name="矩形 14"/>
            <p:cNvSpPr/>
            <p:nvPr/>
          </p:nvSpPr>
          <p:spPr>
            <a:xfrm>
              <a:off x="2157120" y="26186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43" name="直接连接符 15"/>
            <p:cNvCxnSpPr>
              <a:stCxn id="842" idx="0"/>
              <a:endCxn id="842" idx="2"/>
            </p:cNvCxnSpPr>
            <p:nvPr/>
          </p:nvCxnSpPr>
          <p:spPr>
            <a:xfrm>
              <a:off x="2530800" y="2618640"/>
              <a:ext cx="288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44" name="直接连接符 16"/>
            <p:cNvCxnSpPr>
              <a:stCxn id="842" idx="1"/>
              <a:endCxn id="842" idx="3"/>
            </p:cNvCxnSpPr>
            <p:nvPr/>
          </p:nvCxnSpPr>
          <p:spPr>
            <a:xfrm flipV="1">
              <a:off x="2157120" y="311868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845" name="文本框 64"/>
          <p:cNvSpPr/>
          <p:nvPr/>
        </p:nvSpPr>
        <p:spPr>
          <a:xfrm>
            <a:off x="2164320" y="2606040"/>
            <a:ext cx="4568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64"/>
          <p:cNvSpPr/>
          <p:nvPr/>
        </p:nvSpPr>
        <p:spPr>
          <a:xfrm>
            <a:off x="3075120" y="2623680"/>
            <a:ext cx="45684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64"/>
          <p:cNvSpPr/>
          <p:nvPr/>
        </p:nvSpPr>
        <p:spPr>
          <a:xfrm>
            <a:off x="3987360" y="262368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64"/>
          <p:cNvSpPr/>
          <p:nvPr/>
        </p:nvSpPr>
        <p:spPr>
          <a:xfrm>
            <a:off x="4951800" y="261864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组合 89"/>
          <p:cNvGrpSpPr/>
          <p:nvPr/>
        </p:nvGrpSpPr>
        <p:grpSpPr>
          <a:xfrm>
            <a:off x="5800320" y="2666520"/>
            <a:ext cx="750240" cy="1001520"/>
            <a:chOff x="5800320" y="2666520"/>
            <a:chExt cx="750240" cy="1001520"/>
          </a:xfrm>
        </p:grpSpPr>
        <p:sp>
          <p:nvSpPr>
            <p:cNvPr id="850" name="矩形 23"/>
            <p:cNvSpPr/>
            <p:nvPr/>
          </p:nvSpPr>
          <p:spPr>
            <a:xfrm>
              <a:off x="5800680" y="266652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51" name="直接连接符 24"/>
            <p:cNvCxnSpPr>
              <a:stCxn id="850" idx="0"/>
              <a:endCxn id="850" idx="2"/>
            </p:cNvCxnSpPr>
            <p:nvPr/>
          </p:nvCxnSpPr>
          <p:spPr>
            <a:xfrm>
              <a:off x="6174360" y="2667960"/>
              <a:ext cx="252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52" name="直接连接符 25"/>
            <p:cNvCxnSpPr>
              <a:stCxn id="850" idx="1"/>
              <a:endCxn id="850" idx="3"/>
            </p:cNvCxnSpPr>
            <p:nvPr/>
          </p:nvCxnSpPr>
          <p:spPr>
            <a:xfrm flipV="1">
              <a:off x="5800320" y="3166200"/>
              <a:ext cx="75060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853" name="文本框 64"/>
          <p:cNvSpPr/>
          <p:nvPr/>
        </p:nvSpPr>
        <p:spPr>
          <a:xfrm>
            <a:off x="5861160" y="260604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105"/>
          <p:cNvGrpSpPr/>
          <p:nvPr/>
        </p:nvGrpSpPr>
        <p:grpSpPr>
          <a:xfrm>
            <a:off x="4926960" y="4499640"/>
            <a:ext cx="749880" cy="1001520"/>
            <a:chOff x="4926960" y="4499640"/>
            <a:chExt cx="749880" cy="1001520"/>
          </a:xfrm>
        </p:grpSpPr>
        <p:sp>
          <p:nvSpPr>
            <p:cNvPr id="855" name="矩形 30"/>
            <p:cNvSpPr/>
            <p:nvPr/>
          </p:nvSpPr>
          <p:spPr>
            <a:xfrm>
              <a:off x="4926960" y="44996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56" name="直接连接符 31"/>
            <p:cNvCxnSpPr>
              <a:stCxn id="855" idx="0"/>
              <a:endCxn id="855" idx="2"/>
            </p:cNvCxnSpPr>
            <p:nvPr/>
          </p:nvCxnSpPr>
          <p:spPr>
            <a:xfrm>
              <a:off x="5300640" y="4500720"/>
              <a:ext cx="2880" cy="1000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57" name="直接连接符 32"/>
            <p:cNvCxnSpPr>
              <a:stCxn id="855" idx="1"/>
              <a:endCxn id="855" idx="3"/>
            </p:cNvCxnSpPr>
            <p:nvPr/>
          </p:nvCxnSpPr>
          <p:spPr>
            <a:xfrm flipV="1">
              <a:off x="4926960" y="4999320"/>
              <a:ext cx="75024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58" name="组合 109"/>
          <p:cNvGrpSpPr/>
          <p:nvPr/>
        </p:nvGrpSpPr>
        <p:grpSpPr>
          <a:xfrm>
            <a:off x="5784120" y="4499640"/>
            <a:ext cx="749880" cy="1001520"/>
            <a:chOff x="5784120" y="4499640"/>
            <a:chExt cx="749880" cy="1001520"/>
          </a:xfrm>
        </p:grpSpPr>
        <p:sp>
          <p:nvSpPr>
            <p:cNvPr id="859" name="矩形 34"/>
            <p:cNvSpPr/>
            <p:nvPr/>
          </p:nvSpPr>
          <p:spPr>
            <a:xfrm>
              <a:off x="5784120" y="44996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60" name="直接连接符 35"/>
            <p:cNvCxnSpPr>
              <a:stCxn id="859" idx="0"/>
              <a:endCxn id="859" idx="2"/>
            </p:cNvCxnSpPr>
            <p:nvPr/>
          </p:nvCxnSpPr>
          <p:spPr>
            <a:xfrm>
              <a:off x="6157800" y="4500720"/>
              <a:ext cx="2880" cy="1000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61" name="直接连接符 36"/>
            <p:cNvCxnSpPr>
              <a:stCxn id="859" idx="1"/>
              <a:endCxn id="859" idx="3"/>
            </p:cNvCxnSpPr>
            <p:nvPr/>
          </p:nvCxnSpPr>
          <p:spPr>
            <a:xfrm flipV="1">
              <a:off x="5784120" y="4999320"/>
              <a:ext cx="75024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62" name="组合 93"/>
          <p:cNvGrpSpPr/>
          <p:nvPr/>
        </p:nvGrpSpPr>
        <p:grpSpPr>
          <a:xfrm>
            <a:off x="2289240" y="4525200"/>
            <a:ext cx="750240" cy="1001880"/>
            <a:chOff x="2289240" y="4525200"/>
            <a:chExt cx="750240" cy="1001880"/>
          </a:xfrm>
        </p:grpSpPr>
        <p:sp>
          <p:nvSpPr>
            <p:cNvPr id="863" name="矩形 38"/>
            <p:cNvSpPr/>
            <p:nvPr/>
          </p:nvSpPr>
          <p:spPr>
            <a:xfrm>
              <a:off x="2289600" y="452520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64" name="直接连接符 39"/>
            <p:cNvCxnSpPr>
              <a:stCxn id="863" idx="0"/>
              <a:endCxn id="863" idx="2"/>
            </p:cNvCxnSpPr>
            <p:nvPr/>
          </p:nvCxnSpPr>
          <p:spPr>
            <a:xfrm>
              <a:off x="2663280" y="4526640"/>
              <a:ext cx="2520" cy="1000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65" name="直接连接符 40"/>
            <p:cNvCxnSpPr>
              <a:stCxn id="863" idx="1"/>
              <a:endCxn id="863" idx="3"/>
            </p:cNvCxnSpPr>
            <p:nvPr/>
          </p:nvCxnSpPr>
          <p:spPr>
            <a:xfrm flipV="1">
              <a:off x="2289240" y="502524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66" name="组合 97"/>
          <p:cNvGrpSpPr/>
          <p:nvPr/>
        </p:nvGrpSpPr>
        <p:grpSpPr>
          <a:xfrm>
            <a:off x="3152520" y="4509360"/>
            <a:ext cx="749880" cy="1001520"/>
            <a:chOff x="3152520" y="4509360"/>
            <a:chExt cx="749880" cy="1001520"/>
          </a:xfrm>
        </p:grpSpPr>
        <p:sp>
          <p:nvSpPr>
            <p:cNvPr id="867" name="矩形 42"/>
            <p:cNvSpPr/>
            <p:nvPr/>
          </p:nvSpPr>
          <p:spPr>
            <a:xfrm>
              <a:off x="3152520" y="450936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68" name="直接连接符 43"/>
            <p:cNvCxnSpPr>
              <a:stCxn id="867" idx="0"/>
              <a:endCxn id="867" idx="2"/>
            </p:cNvCxnSpPr>
            <p:nvPr/>
          </p:nvCxnSpPr>
          <p:spPr>
            <a:xfrm>
              <a:off x="3526200" y="4510800"/>
              <a:ext cx="288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69" name="直接连接符 44"/>
            <p:cNvCxnSpPr>
              <a:stCxn id="867" idx="1"/>
              <a:endCxn id="867" idx="3"/>
            </p:cNvCxnSpPr>
            <p:nvPr/>
          </p:nvCxnSpPr>
          <p:spPr>
            <a:xfrm flipV="1">
              <a:off x="3152520" y="5009400"/>
              <a:ext cx="7502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870" name="文本框 64"/>
          <p:cNvSpPr/>
          <p:nvPr/>
        </p:nvSpPr>
        <p:spPr>
          <a:xfrm>
            <a:off x="2333520" y="450324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64"/>
          <p:cNvSpPr/>
          <p:nvPr/>
        </p:nvSpPr>
        <p:spPr>
          <a:xfrm>
            <a:off x="3190680" y="448560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64"/>
          <p:cNvSpPr/>
          <p:nvPr/>
        </p:nvSpPr>
        <p:spPr>
          <a:xfrm>
            <a:off x="4023360" y="446616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64"/>
          <p:cNvSpPr/>
          <p:nvPr/>
        </p:nvSpPr>
        <p:spPr>
          <a:xfrm>
            <a:off x="4966200" y="446868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64"/>
          <p:cNvSpPr/>
          <p:nvPr/>
        </p:nvSpPr>
        <p:spPr>
          <a:xfrm>
            <a:off x="5847120" y="445500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101"/>
          <p:cNvGrpSpPr/>
          <p:nvPr/>
        </p:nvGrpSpPr>
        <p:grpSpPr>
          <a:xfrm>
            <a:off x="4016160" y="4499640"/>
            <a:ext cx="749880" cy="1001520"/>
            <a:chOff x="4016160" y="4499640"/>
            <a:chExt cx="749880" cy="1001520"/>
          </a:xfrm>
        </p:grpSpPr>
        <p:sp>
          <p:nvSpPr>
            <p:cNvPr id="876" name="矩形 51"/>
            <p:cNvSpPr/>
            <p:nvPr/>
          </p:nvSpPr>
          <p:spPr>
            <a:xfrm>
              <a:off x="4016160" y="449964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77" name="直接连接符 52"/>
            <p:cNvCxnSpPr>
              <a:stCxn id="876" idx="0"/>
              <a:endCxn id="876" idx="2"/>
            </p:cNvCxnSpPr>
            <p:nvPr/>
          </p:nvCxnSpPr>
          <p:spPr>
            <a:xfrm>
              <a:off x="4389840" y="4500720"/>
              <a:ext cx="2880" cy="1000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78" name="直接连接符 53"/>
            <p:cNvCxnSpPr>
              <a:stCxn id="876" idx="1"/>
              <a:endCxn id="876" idx="3"/>
            </p:cNvCxnSpPr>
            <p:nvPr/>
          </p:nvCxnSpPr>
          <p:spPr>
            <a:xfrm flipV="1">
              <a:off x="4016160" y="4999320"/>
              <a:ext cx="75024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79" name="组合 109"/>
          <p:cNvGrpSpPr/>
          <p:nvPr/>
        </p:nvGrpSpPr>
        <p:grpSpPr>
          <a:xfrm>
            <a:off x="6656040" y="4502880"/>
            <a:ext cx="749880" cy="1001520"/>
            <a:chOff x="6656040" y="4502880"/>
            <a:chExt cx="749880" cy="1001520"/>
          </a:xfrm>
        </p:grpSpPr>
        <p:sp>
          <p:nvSpPr>
            <p:cNvPr id="880" name="矩形 55"/>
            <p:cNvSpPr/>
            <p:nvPr/>
          </p:nvSpPr>
          <p:spPr>
            <a:xfrm>
              <a:off x="6656040" y="450288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81" name="直接连接符 56"/>
            <p:cNvCxnSpPr>
              <a:stCxn id="880" idx="0"/>
              <a:endCxn id="880" idx="2"/>
            </p:cNvCxnSpPr>
            <p:nvPr/>
          </p:nvCxnSpPr>
          <p:spPr>
            <a:xfrm>
              <a:off x="7029720" y="4504320"/>
              <a:ext cx="288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82" name="直接连接符 57"/>
            <p:cNvCxnSpPr>
              <a:stCxn id="880" idx="1"/>
              <a:endCxn id="880" idx="3"/>
            </p:cNvCxnSpPr>
            <p:nvPr/>
          </p:nvCxnSpPr>
          <p:spPr>
            <a:xfrm flipV="1">
              <a:off x="6656040" y="5002920"/>
              <a:ext cx="7502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883" name="组合 109"/>
          <p:cNvGrpSpPr/>
          <p:nvPr/>
        </p:nvGrpSpPr>
        <p:grpSpPr>
          <a:xfrm>
            <a:off x="6687720" y="2674080"/>
            <a:ext cx="750240" cy="1001520"/>
            <a:chOff x="6687720" y="2674080"/>
            <a:chExt cx="750240" cy="1001520"/>
          </a:xfrm>
        </p:grpSpPr>
        <p:sp>
          <p:nvSpPr>
            <p:cNvPr id="884" name="矩形 63"/>
            <p:cNvSpPr/>
            <p:nvPr/>
          </p:nvSpPr>
          <p:spPr>
            <a:xfrm>
              <a:off x="6688080" y="2674080"/>
              <a:ext cx="74988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6000" spc="-1" strike="noStrike">
                <a:solidFill>
                  <a:srgbClr val="e04236"/>
                </a:solidFill>
                <a:latin typeface="Arial"/>
                <a:ea typeface="楷体"/>
              </a:endParaRPr>
            </a:p>
          </p:txBody>
        </p:sp>
        <p:cxnSp>
          <p:nvCxnSpPr>
            <p:cNvPr id="885" name="直接连接符 64"/>
            <p:cNvCxnSpPr>
              <a:stCxn id="884" idx="0"/>
              <a:endCxn id="884" idx="2"/>
            </p:cNvCxnSpPr>
            <p:nvPr/>
          </p:nvCxnSpPr>
          <p:spPr>
            <a:xfrm>
              <a:off x="7061760" y="2675520"/>
              <a:ext cx="288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886" name="直接连接符 65"/>
            <p:cNvCxnSpPr>
              <a:stCxn id="884" idx="1"/>
              <a:endCxn id="884" idx="3"/>
            </p:cNvCxnSpPr>
            <p:nvPr/>
          </p:nvCxnSpPr>
          <p:spPr>
            <a:xfrm flipV="1">
              <a:off x="6687720" y="3174120"/>
              <a:ext cx="7506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887" name="文本框 64"/>
          <p:cNvSpPr/>
          <p:nvPr/>
        </p:nvSpPr>
        <p:spPr>
          <a:xfrm>
            <a:off x="6717240" y="266688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64"/>
          <p:cNvSpPr/>
          <p:nvPr/>
        </p:nvSpPr>
        <p:spPr>
          <a:xfrm>
            <a:off x="6661440" y="4438440"/>
            <a:ext cx="4557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圆角矩形 66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3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AutoShape 2"/>
          <p:cNvSpPr/>
          <p:nvPr/>
        </p:nvSpPr>
        <p:spPr>
          <a:xfrm>
            <a:off x="-5812200" y="-7017120"/>
            <a:ext cx="228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楷体"/>
            </a:endParaRPr>
          </a:p>
        </p:txBody>
      </p:sp>
      <p:pic>
        <p:nvPicPr>
          <p:cNvPr id="891" name="图片 18" descr="2345截图20190412090814.png"/>
          <p:cNvPicPr/>
          <p:nvPr/>
        </p:nvPicPr>
        <p:blipFill>
          <a:blip r:embed="rId1"/>
          <a:stretch/>
        </p:blipFill>
        <p:spPr>
          <a:xfrm>
            <a:off x="4749480" y="3095280"/>
            <a:ext cx="4116600" cy="1032120"/>
          </a:xfrm>
          <a:prstGeom prst="rect">
            <a:avLst/>
          </a:prstGeom>
          <a:ln w="0">
            <a:noFill/>
          </a:ln>
        </p:spPr>
      </p:pic>
      <p:grpSp>
        <p:nvGrpSpPr>
          <p:cNvPr id="892" name="组合 21"/>
          <p:cNvGrpSpPr/>
          <p:nvPr/>
        </p:nvGrpSpPr>
        <p:grpSpPr>
          <a:xfrm>
            <a:off x="4749480" y="4127760"/>
            <a:ext cx="3275280" cy="1010880"/>
            <a:chOff x="4749480" y="4127760"/>
            <a:chExt cx="3275280" cy="1010880"/>
          </a:xfrm>
        </p:grpSpPr>
        <p:pic>
          <p:nvPicPr>
            <p:cNvPr id="893" name="图片 19" descr="2345截图20190412090827.png"/>
            <p:cNvPicPr/>
            <p:nvPr/>
          </p:nvPicPr>
          <p:blipFill>
            <a:blip r:embed="rId2"/>
            <a:stretch/>
          </p:blipFill>
          <p:spPr>
            <a:xfrm>
              <a:off x="4749480" y="4127760"/>
              <a:ext cx="1418040" cy="101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图片 20" descr="2345截图20190412090836.png"/>
            <p:cNvPicPr/>
            <p:nvPr/>
          </p:nvPicPr>
          <p:blipFill>
            <a:blip r:embed="rId3"/>
            <a:stretch/>
          </p:blipFill>
          <p:spPr>
            <a:xfrm>
              <a:off x="6142320" y="4149360"/>
              <a:ext cx="1882440" cy="94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5" name="组合 23"/>
          <p:cNvGrpSpPr/>
          <p:nvPr/>
        </p:nvGrpSpPr>
        <p:grpSpPr>
          <a:xfrm>
            <a:off x="487800" y="2495880"/>
            <a:ext cx="2958120" cy="3567960"/>
            <a:chOff x="487800" y="2495880"/>
            <a:chExt cx="2958120" cy="3567960"/>
          </a:xfrm>
        </p:grpSpPr>
        <p:sp>
          <p:nvSpPr>
            <p:cNvPr id="896" name="矩形 25"/>
            <p:cNvSpPr/>
            <p:nvPr/>
          </p:nvSpPr>
          <p:spPr>
            <a:xfrm>
              <a:off x="487800" y="2496240"/>
              <a:ext cx="2958120" cy="356760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楷体"/>
              </a:endParaRPr>
            </a:p>
          </p:txBody>
        </p:sp>
        <p:cxnSp>
          <p:nvCxnSpPr>
            <p:cNvPr id="897" name="直接连接符 26"/>
            <p:cNvCxnSpPr>
              <a:stCxn id="896" idx="1"/>
              <a:endCxn id="896" idx="3"/>
            </p:cNvCxnSpPr>
            <p:nvPr/>
          </p:nvCxnSpPr>
          <p:spPr>
            <a:xfrm>
              <a:off x="487800" y="4280040"/>
              <a:ext cx="2958480" cy="36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  <p:cxnSp>
          <p:nvCxnSpPr>
            <p:cNvPr id="898" name="直接连接符 27"/>
            <p:cNvCxnSpPr>
              <a:stCxn id="896" idx="0"/>
              <a:endCxn id="896" idx="2"/>
            </p:cNvCxnSpPr>
            <p:nvPr/>
          </p:nvCxnSpPr>
          <p:spPr>
            <a:xfrm>
              <a:off x="1967040" y="2495880"/>
              <a:ext cx="360" cy="3568320"/>
            </a:xfrm>
            <a:prstGeom prst="straightConnector1">
              <a:avLst/>
            </a:prstGeom>
            <a:ln w="28575">
              <a:solidFill>
                <a:srgbClr val="5b9bd5"/>
              </a:solidFill>
              <a:prstDash val="sysDot"/>
            </a:ln>
          </p:spPr>
        </p:cxnSp>
      </p:grpSp>
      <p:sp>
        <p:nvSpPr>
          <p:cNvPr id="899" name="文本框 25"/>
          <p:cNvSpPr/>
          <p:nvPr/>
        </p:nvSpPr>
        <p:spPr>
          <a:xfrm>
            <a:off x="376200" y="2169000"/>
            <a:ext cx="250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59"/>
          <p:cNvSpPr/>
          <p:nvPr/>
        </p:nvSpPr>
        <p:spPr>
          <a:xfrm>
            <a:off x="4749480" y="2392200"/>
            <a:ext cx="1805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e04236"/>
                </a:solidFill>
                <a:latin typeface="Pinyin Adjust"/>
                <a:ea typeface="GB Pinyinok-B"/>
              </a:rPr>
              <a:t>wā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63"/>
          <p:cNvSpPr/>
          <p:nvPr/>
        </p:nvSpPr>
        <p:spPr>
          <a:xfrm>
            <a:off x="4695120" y="5383800"/>
            <a:ext cx="37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9"/>
          <p:cNvSpPr/>
          <p:nvPr/>
        </p:nvSpPr>
        <p:spPr>
          <a:xfrm>
            <a:off x="4694760" y="6108840"/>
            <a:ext cx="41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豌豆是一种富含纤维的植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文本框 32"/>
          <p:cNvSpPr/>
          <p:nvPr/>
        </p:nvSpPr>
        <p:spPr>
          <a:xfrm>
            <a:off x="3958560" y="2484000"/>
            <a:ext cx="73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拼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文本框 33"/>
          <p:cNvSpPr/>
          <p:nvPr/>
        </p:nvSpPr>
        <p:spPr>
          <a:xfrm>
            <a:off x="3958560" y="3441600"/>
            <a:ext cx="69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笔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文本框 34"/>
          <p:cNvSpPr/>
          <p:nvPr/>
        </p:nvSpPr>
        <p:spPr>
          <a:xfrm>
            <a:off x="3958560" y="5382720"/>
            <a:ext cx="70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35"/>
          <p:cNvSpPr/>
          <p:nvPr/>
        </p:nvSpPr>
        <p:spPr>
          <a:xfrm>
            <a:off x="3958560" y="610884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圆角矩形 36"/>
          <p:cNvSpPr/>
          <p:nvPr/>
        </p:nvSpPr>
        <p:spPr>
          <a:xfrm>
            <a:off x="3687120" y="1125000"/>
            <a:ext cx="2207880" cy="671400"/>
          </a:xfrm>
          <a:prstGeom prst="roundRect">
            <a:avLst>
              <a:gd name="adj" fmla="val 50000"/>
            </a:avLst>
          </a:prstGeom>
          <a:noFill/>
          <a:ln w="28575">
            <a:solidFill>
              <a:srgbClr val="a1c45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3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253</Words>
  <Paragraphs>1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8T06:44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07T08:55:50Z</dcterms:modified>
  <cp:revision>10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61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20</vt:r8>
  </property>
</Properties>
</file>