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5.png" ContentType="image/png"/>
  <Override PartName="/ppt/media/image10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dt" idx="7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ftr" idx="7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 type="sldNum" idx="7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F30D4F-1A9E-4E55-A566-DB68D4F5E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word/" TargetMode="External"/><Relationship Id="rId8" Type="http://schemas.openxmlformats.org/officeDocument/2006/relationships/hyperlink" Target="http://www.1ppt.com/excel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om/jianli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word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Excel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excel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个人简历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om/jian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sldNum" idx="7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0492D0-A8BB-48D8-8868-9B856324DD4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E1A4-A536-48C2-8C65-45C82CEC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4D33-B0A3-493D-A1ED-8E9A4B9C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1DF01-6DE3-409D-A604-537A4929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95026-1CBD-4555-B458-9587C7D7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C7BDF-F647-4763-878C-6532E5FA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4A23D-942E-4CA5-8836-367565F3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04330-95FB-4795-A991-69150539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844D2-603C-4D4F-AC2F-93BCB943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A377D-4075-4B7B-86E3-F35FA27A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8EF7C-1A6B-48D2-ABBF-1EBED112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6E5D6-2A11-4D9D-9A02-9A5D5454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AF01E-7015-4C58-A701-F045CD47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65E1-F7F7-4C42-9B04-49062D5A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D9E57-7E20-4C97-BAFA-D96B9789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FDAE1-1A10-49B7-AC43-661F29C8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D96CD-48CF-4982-8956-9578CF1F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2A695-2F42-477B-AB11-7D8E68D2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B7BAA-05DB-4057-B531-774DD81A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E7898-548A-4BFF-AF64-FE8A16BB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C1D67-85A5-4571-833D-5781A748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D8C1A-AD24-47C7-BBD3-5661B26F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D7560-0C60-45B9-97F1-1A87087A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977B8-9726-4E2D-B403-57447C5E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25BF-8D47-4E94-BDA6-25C547BE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B1817-7D26-4545-A408-61F36F4E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8EF9F-DB69-414F-BC13-621A6956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F802F-2604-4B89-B226-4B1265D2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1B879-4B89-4FB8-81FC-D861DE2D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509BE-54ED-4A21-B647-50C5C010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34197-DE23-4B01-8086-E7997466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CDB5B-3D66-47F8-8F7F-AF997B55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379D7-AFA5-48C8-89EB-D00D7CB1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C3D9F-7614-4744-8120-FDB6677A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633D9-3984-499B-8F48-F7DA443F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EB06-5A92-44F8-81C5-0B235E57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B3298-2B7E-4312-8FEB-601393B8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082C4-BC2D-45EE-957A-5A5F123A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9BF33-41E9-4FC7-829C-8C18C0B1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A3836-B4C7-4C88-86C5-F7B926BB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3BD81-D63B-4864-A7B7-5654575D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310E9-03DB-4FDE-B545-602C3BFF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5281E-5DF4-4488-924E-85F47980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711C3-74A6-417A-AB99-F48023EB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7EB88-584A-4E58-B73E-6DDCFF83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63FB3-4325-4FDA-A125-32FD017F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BE41-8B0B-4D57-A85E-A9744E26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BD9FF-3F38-4A7D-8B4C-E94D9323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1A9EB-9624-441E-A324-FC22AA03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9B2E5-6022-40A1-BDA4-C2B9CFE1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89CA7-5F25-46E7-87FE-5163AF1C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AE0D7-9C3B-47A4-B79E-2A55BCFC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0BAEF6-78B9-4F98-979B-5D36F52D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FE8AC-8CC3-47B1-931C-93A06534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604C08-60C3-42AE-BB22-C5BF01E6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FEF15-4677-48E7-A506-A980BBD1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FBDDD-6371-4580-A051-AF1A1333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EF97-8F61-47A6-9767-FDE6704D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49DF3D-8918-4F91-85E8-DE25F0EA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C01708-E2FE-40E7-B7AA-32A6C053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BECD7-577C-4549-9B1A-0E930B34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18720-9170-49FE-AFFD-9B8F8CCF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F0D8E6-BD74-4FA6-9929-274B3D3D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5230D-F989-4706-9169-2E42121D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15D9AB-A115-41BD-8AD0-016C7D6E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82ED53-7C68-4C78-BDE8-1D0A690A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2F6ABB-93F1-4BD7-9512-E602DB51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8C5FE-BBB2-45D6-A47F-C5D0310F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3789-64B8-4461-93ED-B58398FE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E04EFE-F380-454A-B8A5-5D0CA6DB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686EF4-57DB-403F-979A-B4FE30D4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C12A0-1B3F-4942-A011-9096A48F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877ABA-D8DC-47C4-B396-C02A608F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8F09F-A8A7-4AA0-8580-05DB615B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FE7E86-7A9E-4109-B8C2-433ED4E8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FFE7E5-8133-48AA-89DD-565BA60B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F8430-BA90-488A-8232-D8551133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B4ABF0-49CF-4532-8632-AB7072BF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1A9687-8380-4668-BAE0-11808AA2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F478-9989-48D0-B6FD-C8FB5049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643E03-6006-41A6-8E9E-92B0F829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AC0F94-480B-4F54-81B0-7AC7F2C5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15E2DA-C949-4962-B76B-9726B2A3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9E3C02-7F3E-45BA-A1E0-738BA658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09C10F-63DA-4BA1-8C48-EFED26CC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25C549-FD5A-4844-88C6-15F7D633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3C5440-C93F-4DAF-A37D-C4CE5236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40B45C-A30C-42A9-A275-B7FA0737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0B8CB3-BB47-4083-965A-8DB97957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75BB14-9615-4356-B444-2FBDB289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FBDF-21BE-4010-A99E-EA644029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2B25E3-4FD4-497A-A169-C6EEE889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3F234E-43AA-4C9E-A9BE-B2D3764B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BB2772-AC3F-40F9-BD75-80B11B1D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8412B7-FAC1-4374-897F-0FEC0D29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066CDE-FB2E-4CFE-ACA6-6DEAD49C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001291-0B71-4BAE-A401-0472CF5D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2EABCD-27E2-4EEE-BAC2-FE0E908E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1D73FA-947D-44C5-866B-E5382B5D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56ADC6-BAE4-4390-B5A9-DD33DDEE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D52F6B-17F7-4850-8924-8364E736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1722-939D-4C49-8BAB-940EBA88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C0000-324B-4FF7-846B-9BA1595B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89E44E-A0F5-48D2-8295-6A2A734D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E66CBB-2A72-4A8E-BEC5-A93C7356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83198F-81DA-4E7A-8DEE-9060FE14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743322-B477-432A-A3EB-6FB65071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C1C4CE-151D-4A44-8193-79D11BA5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6940FE-B236-4B16-859A-8B9D62B0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0EB6E6-548B-40FC-BFD4-369D6FBB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DA72AF-D6B7-4C03-B71F-6D617D91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03A155-122D-499F-9781-8972F6DF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9E0C-89EC-4E21-9DBD-3E49A32C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C934-748E-4853-B332-08C56C9E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B7B9F7-1A41-4289-B43A-9D93445C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5162BD-A65B-46DB-8F95-93190432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D9545B-EE56-4C7E-871A-56C5EA21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293672-8C41-490D-AF22-2FDD5135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3C7A53-6706-496F-81DB-888F2D15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B4E5FB-2383-4FCE-98B1-8CCEB05E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CF49A3-C5A5-4D5F-94A1-CC605A8D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C7D616-F51C-49B0-8A4A-50E31D25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6B5AAB-8992-4FD5-8352-50DB33D5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7792C5-4B3A-4C7A-8C04-EE7F6804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33C9-6772-4BFB-B941-E2AAB9E8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00C0B5-785D-496E-94FB-88BE8B02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02C4B5-7F34-40BE-AB96-B8E17AF8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BB0389-853F-475D-BE4B-D481B52F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7F1848-00A5-4407-95DC-4DC49197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C6A997-575C-4415-8682-4A406823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4EF96F-9F9E-490C-9F99-11636787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95ED07-E0E6-470F-97A4-DC72C0AA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77057F-CA69-476C-A9BF-8C10DA9C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9042A7-D1FC-4E8D-A786-4CD2236E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D7F211-BD26-4548-A96A-01C8DC1C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2E1A-FDCF-4082-A44A-1789D502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2A3217-84EA-463E-8802-151920AB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BCCEEA-59F1-4584-94C4-1B52C62D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5DC364-28C9-4FDD-B97B-2E286602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DAA81F-D553-434A-BD84-B3F657B1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B82AAB-F567-4551-B816-9ED0EF0F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B91A96-0CBA-47A4-8187-279EC4B1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10AEE4-CDC5-49F7-91AC-044AF0A9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736968-5054-4BA9-A63D-266CAC75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72E860-31D6-47F2-8C15-A1D45003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C513DD-A53B-4B8B-8617-35E1FE98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3879-301A-4F9D-BBDB-9668B7AB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707D96-7084-4063-8EC7-A7B0D5D7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6929FA-A3C5-4915-95E3-4F9605EC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152A90-BD03-419F-AC43-EF352E49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65B645-9BCB-4932-930C-1379EC64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D3CEB8-EBCC-4CA8-972D-E7DA02E3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314656-40A0-48BA-AB59-A2A94479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27824A-9160-4542-BF6D-FCD798C2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9008D0-1618-41EB-A692-1436300A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FA54C1-FE22-4C94-87B8-2DBC8916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8F1322-BC08-4BA4-A595-214ED9D5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BA6F-7FD1-430C-8691-7EF893BE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EB3379-1F47-420C-A0B1-EA6882BD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10F929-AD9D-42CA-8163-B86A894A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760F3D-CD3A-43CF-BFC5-4CDC3173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8FE3F9-18BE-4EA4-9269-444039E3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F2D51A-68F9-41F8-ABFB-807ADF47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14D52D-4854-4256-880C-FE7CC8F7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FD6197-0730-4BE8-B2F0-E80EF43E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831DAF-7CBA-4B84-9926-B3091F28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754FF7-8B64-4C2A-9ED3-C0CBE7D1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7D9E4B-A6AF-4640-9B90-BB732BE2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1326B-7EAD-4377-9A8D-AA68C1E9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851BC3-DC28-4110-A749-AB3ECBBA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D2A138-C660-485B-A01F-9672BBD0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06763B-8E35-43DA-98F6-39424074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EA7F2E-F7EC-4141-9203-906093EF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240C35-F61E-4565-8EFF-535F6E6C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41ECB6-ADDF-4F34-A7DB-7D97BC36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2CA773-804F-45E2-923E-D5848C43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4BD096-D4CF-4514-9332-2D0A07A7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8756EF-ADF7-4B0B-BBD1-02B81EF6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165B68-369F-4DF1-8A04-FEF04614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B6B23-D75B-4E35-931D-AAFCECDE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87B81F-7218-407D-B8CB-F1608548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500140-F91F-458C-8F28-278B98D2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63245D-F80D-4EEB-AD6E-378EF421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4C5F31-C58D-4222-924C-19DEDDD7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73F791-2BD4-4E50-BF92-0BD4CEFA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FE66A8-690E-4B1E-87AE-F5B127E9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05BFEF-588D-44AD-855F-021BF323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7663A7-2D18-4446-B186-AF101A7A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7BE62E-3E87-4657-8F94-C4C5DDDF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91BDB0-E1B9-422F-9373-422C402F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F06DE-3AE0-4FCD-8881-FF5DF801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101877-632C-47C8-BF2A-2151B308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59D4DA-1D35-48FE-8E42-19644341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358672-4688-4AA5-AF8C-A23AD1D4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3EA055-A720-409C-B9FD-65A3440D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B9C675-65EB-4C76-8E2B-723885C8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C869DE-4831-4CF8-BEEC-A059C1AD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F346FD-17CE-42D9-B105-84170FC4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D5BF8-3D18-4350-945E-D9A5775C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5AC2F-BEF6-4F15-B405-CEC950A9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0D5-8007-4B15-8B8C-4EFD17B0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A5163-45B4-4258-8127-6C4CB32A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0C444-505C-46B7-94FD-CCCDAE56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BC107-03C8-4774-A4F9-5AEDDD0E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08DDA-BA85-41A8-8F51-18DB9B8E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48D73-465B-4AC9-93AF-3486B159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6FDC0-538B-4014-BC6A-A37FA803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A45DB-731D-4670-B18B-225EE7DD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68EB0-DF16-4CB8-A2EF-652BD7D7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D842C-5144-4F3D-B134-C27E058E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DD3AB-C351-456F-852A-73843007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DD6-80CE-4CD1-A874-2B352300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67E6B-231D-40F8-897F-5EAB003F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85930-4CAE-450B-8639-C8A8DC7C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9BA4C-B0D3-43CC-8361-29E3C60C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25F3C-2042-48E4-8DBE-81B52897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BF0E2-86E0-46BC-955D-B906A0FD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1A694-A36E-4A42-99D7-2C6C2006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F7198-F1CB-4A95-A1B1-69219A54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EB818-0157-4B3E-A693-A2BD6FCB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BE847-B157-4C56-98E5-58E442DB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929CB-8047-4F7F-97A6-E4EBF61E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A865-A80E-4C55-83D1-8739F878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8050C-316D-432B-9CDA-6B60686B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F7E92-35AE-42D1-8F54-B1C18CBB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F4E2D-6DE9-4153-8CD1-4B24E415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F142C-6BD9-4BE1-B4FE-25B28F92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3813E-6A03-49D7-9914-AA43A3B6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E6460-E40D-41C9-82D3-A80446E6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20F85-E270-4982-9E38-5B8B666D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FC3CF-7EC7-4A1C-888A-2ADCF30E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CA8FE-E2FF-48BB-9B97-CC4C323D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E5EEE-9C83-487B-8B12-1E1C171F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FFF8-8604-4776-84B3-A1882AE9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1F1A2-8352-4D0B-86B1-5A957D1B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09167-2CCB-4F8A-9439-ACD882EF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5660B-8E4A-4EA2-BDBF-0C044437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EA690-2195-480C-9FEA-E135E7CD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73DAF-B140-47C4-8FCF-B0F7D8C3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25F53-019C-46FF-94E0-660C59E8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07C2E-D5FF-4EA5-9392-099E7A4D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FB04B-5DE3-413C-90B6-57DF4247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01160-84A1-49B6-AB84-4499A9B8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33BDB-CDC6-4F45-924A-B6EEAD11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9440-8FE7-46F6-8012-B1877630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26A1B-6F59-4F1D-B027-137B23AA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EB5E7-665E-4BEE-B1EB-3B671950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3EE26-4574-4B8A-83B2-4558E615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C9B0A-6843-4EF4-ABB1-B9BEB5E9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B8BF3-7943-442F-AB41-5838EA3F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8D03B-5ABC-4BFF-A1F4-213D8848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8169C-8B55-4A5F-BFC1-36C2A23D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1514D-03C6-4BAB-B33A-F929E9D6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E3CAF-8312-45A2-A83D-676C71BB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77F73-3064-47DF-A9A8-F8EFCAEB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2EAB-A7E9-4940-8C5C-8274B4E0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3B1E4-7C5B-4C51-937C-1E7A1943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D0FD5-93BC-4E08-9199-5BC7E728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0AA70-92B3-4F70-9E34-E47CC194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FC0C7-CD3E-4A2F-8660-F51DA463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B3441-75CD-4C76-A787-FFBA8E35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1CF0C-6718-4045-A673-B57CC644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5B833-773F-4FF0-98E1-2D75E3A0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FDF6E-DD5C-46B7-B95D-A4E0C0A7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EC887-A021-400B-AE08-629667D0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5EB49-A664-4BA3-B477-8F667C01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44B6-C20C-40A0-9954-03980C65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FBC33-364E-4588-B39F-0636F62F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2AB9B-06AF-4822-A588-D65326C5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5AB36-FB4D-4AD6-902D-C49CE574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D9981-F807-4AF5-91A3-19795A41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EDCA8-F6AB-45FF-B73C-B447DA4B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34A5E-A90F-4594-BB5B-11C784AF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44FAC-741C-4596-88AD-156D2440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CB19F-FD1C-4531-AC05-EBEAE383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25B3E-C291-4700-8816-ACA59EDB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926DB-A3E1-4367-AABA-4F391776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21D821F-E33B-4530-978A-EE240F5CD63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29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30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CC56EDC-5811-49FB-BE32-F7B4DCB929A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32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33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548C76E-1711-4F6C-9143-A72F4962E79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35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36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F435F08-56F0-41B6-94AE-2FC37335701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ftr" idx="38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39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5AEAD38-1F4F-4C20-A478-45526608DD4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41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42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7A6B784-B827-41B0-8350-56F5C1563F7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ftr" idx="44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sldNum" idx="45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8157949-543A-4F6D-9E2F-9F4AD361282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47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48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7AF9A74-FBF2-4B33-890E-881FD15D30B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ftr" idx="50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sldNum" idx="51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170FD4B-6244-4A1F-BCC6-8A6B1195F05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ftr" idx="53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sldNum" idx="54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A12167D-332C-44EB-A313-A5CFC945F50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ftr" idx="56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sldNum" idx="57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359C36E-37A8-4611-AD71-564D8775DBA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7373340-675D-4BDD-9EAA-A84865A9505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ftr" idx="59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sldNum" idx="60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1C28751-4940-49D1-83D2-E38BC970CEC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62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63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448550A-1FEA-4FF8-A5A4-71176DB8061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ftr" idx="65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sldNum" idx="66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248F2AF-1620-4134-8471-F2C4A3E11BB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ftr" idx="68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sldNum" idx="69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C86C03B-8148-4D14-8398-277B1AFFAD0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6918840" y="645588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6918840" y="636552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8DD55E8-BE98-46A2-B442-1DB5BDD9747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34F749D-4DB6-4967-96F5-48DC0A3AFDF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4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5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53920F9-E915-4A29-B2D2-169A98ACA09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7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8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053649C-6412-4556-99AB-B7EA5F9B200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20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21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B077FBF-E241-461D-8651-3FA1A1B61A6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23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4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9FDE03D-8BC9-4C17-8755-7F91A648A78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26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27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1A9D50B-CAE6-4F0B-8C48-5ACA1FA6249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9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标题 1"/>
          <p:cNvSpPr/>
          <p:nvPr/>
        </p:nvSpPr>
        <p:spPr>
          <a:xfrm>
            <a:off x="0" y="2010960"/>
            <a:ext cx="914364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一个豆荚里的五粒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副标题 2"/>
          <p:cNvSpPr/>
          <p:nvPr/>
        </p:nvSpPr>
        <p:spPr>
          <a:xfrm>
            <a:off x="3832200" y="3450960"/>
            <a:ext cx="165780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课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矩形 4"/>
          <p:cNvSpPr/>
          <p:nvPr/>
        </p:nvSpPr>
        <p:spPr>
          <a:xfrm>
            <a:off x="2749680" y="539136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矩形 9"/>
          <p:cNvSpPr/>
          <p:nvPr/>
        </p:nvSpPr>
        <p:spPr>
          <a:xfrm>
            <a:off x="506520" y="1893600"/>
            <a:ext cx="473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自由朗读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3—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矩形 10"/>
          <p:cNvSpPr/>
          <p:nvPr/>
        </p:nvSpPr>
        <p:spPr>
          <a:xfrm>
            <a:off x="506520" y="3173760"/>
            <a:ext cx="81262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思考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那粒最小的豌豆有没有实现自己的愿望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小豌豆是怎样长大的？小姑娘又是怎样长好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图片 15" descr="01158355688972000001271693e798.jpg"/>
          <p:cNvPicPr/>
          <p:nvPr/>
        </p:nvPicPr>
        <p:blipFill>
          <a:blip r:embed="rId1"/>
          <a:stretch/>
        </p:blipFill>
        <p:spPr>
          <a:xfrm>
            <a:off x="5802480" y="1221120"/>
            <a:ext cx="2641680" cy="20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矩形 3"/>
          <p:cNvSpPr/>
          <p:nvPr/>
        </p:nvSpPr>
        <p:spPr>
          <a:xfrm>
            <a:off x="690120" y="2183040"/>
            <a:ext cx="7799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豌豆刚到长满青苔的窗台上住下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姑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矩形 4"/>
          <p:cNvSpPr/>
          <p:nvPr/>
        </p:nvSpPr>
        <p:spPr>
          <a:xfrm>
            <a:off x="2112840" y="2909520"/>
            <a:ext cx="35100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病得可厉害了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矩形 5"/>
          <p:cNvSpPr/>
          <p:nvPr/>
        </p:nvSpPr>
        <p:spPr>
          <a:xfrm>
            <a:off x="1373040" y="1179720"/>
            <a:ext cx="60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细读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3—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自然段，完成填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矩形 6"/>
          <p:cNvSpPr/>
          <p:nvPr/>
        </p:nvSpPr>
        <p:spPr>
          <a:xfrm>
            <a:off x="690120" y="3798000"/>
            <a:ext cx="65541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豌豆长出了小叶子，小姑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矩形 7"/>
          <p:cNvSpPr/>
          <p:nvPr/>
        </p:nvSpPr>
        <p:spPr>
          <a:xfrm>
            <a:off x="5633640" y="4413240"/>
            <a:ext cx="35100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心里真高兴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矩形 3"/>
          <p:cNvSpPr/>
          <p:nvPr/>
        </p:nvSpPr>
        <p:spPr>
          <a:xfrm>
            <a:off x="645840" y="1278360"/>
            <a:ext cx="3551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太阳今天把我身上照得怪温暖的。这粒豆子长得好极了，我也会好起来的；我一定会从床上爬起来，走到温暖的太阳光里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图片 4"/>
          <p:cNvSpPr/>
          <p:nvPr/>
        </p:nvSpPr>
        <p:spPr>
          <a:xfrm>
            <a:off x="4833720" y="1424520"/>
            <a:ext cx="3719160" cy="4033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矩形 4"/>
          <p:cNvSpPr/>
          <p:nvPr/>
        </p:nvSpPr>
        <p:spPr>
          <a:xfrm>
            <a:off x="1055880" y="1122840"/>
            <a:ext cx="5562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小豌豆沿着线猛劲儿长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姑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5"/>
          <p:cNvSpPr/>
          <p:nvPr/>
        </p:nvSpPr>
        <p:spPr>
          <a:xfrm>
            <a:off x="1920240" y="1987920"/>
            <a:ext cx="639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脸色好多了，还能自己坐上一个钟头呢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矩形 6"/>
          <p:cNvSpPr/>
          <p:nvPr/>
        </p:nvSpPr>
        <p:spPr>
          <a:xfrm>
            <a:off x="1077480" y="2793960"/>
            <a:ext cx="5562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小豌豆开出一朵嫩红色的小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姑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矩形 7"/>
          <p:cNvSpPr/>
          <p:nvPr/>
        </p:nvSpPr>
        <p:spPr>
          <a:xfrm>
            <a:off x="1949040" y="3649320"/>
            <a:ext cx="6206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脸上放出健康的光彩，眼睛发着亮光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图片 4"/>
          <p:cNvSpPr/>
          <p:nvPr/>
        </p:nvSpPr>
        <p:spPr>
          <a:xfrm>
            <a:off x="5445000" y="1590120"/>
            <a:ext cx="3395520" cy="40352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圆角矩形 5"/>
          <p:cNvSpPr/>
          <p:nvPr/>
        </p:nvSpPr>
        <p:spPr>
          <a:xfrm>
            <a:off x="511560" y="1233000"/>
            <a:ext cx="4546800" cy="555480"/>
          </a:xfrm>
          <a:prstGeom prst="roundRect">
            <a:avLst>
              <a:gd name="adj" fmla="val 16667"/>
            </a:avLst>
          </a:prstGeom>
          <a:solidFill>
            <a:srgbClr val="a1c450"/>
          </a:solidFill>
          <a:ln w="317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母亲一个细小的动作寄托了对女儿获得重生的渴望，虽然她不相信一株小小的豌豆苗会创造奇迹，但她更愿意让这株豌豆苗永远陪伴着病中的女儿，给她带来获得重生的力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矩形 12"/>
          <p:cNvSpPr/>
          <p:nvPr/>
        </p:nvSpPr>
        <p:spPr>
          <a:xfrm>
            <a:off x="1027080" y="1746720"/>
            <a:ext cx="29160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姑娘低下头来，轻轻地吻了一下柔嫩的叶子。这一天简直就像一个节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图片 13"/>
          <p:cNvSpPr/>
          <p:nvPr/>
        </p:nvSpPr>
        <p:spPr>
          <a:xfrm>
            <a:off x="4591080" y="1257840"/>
            <a:ext cx="3890880" cy="4221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矩形 3"/>
          <p:cNvSpPr/>
          <p:nvPr/>
        </p:nvSpPr>
        <p:spPr>
          <a:xfrm>
            <a:off x="530640" y="1373760"/>
            <a:ext cx="4447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自由朗读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2—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矩形 4"/>
          <p:cNvSpPr/>
          <p:nvPr/>
        </p:nvSpPr>
        <p:spPr>
          <a:xfrm>
            <a:off x="530640" y="2634840"/>
            <a:ext cx="61563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思考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其他几粒豌豆怎样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姑娘对豌豆有怎样的感情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图片 5"/>
          <p:cNvSpPr/>
          <p:nvPr/>
        </p:nvSpPr>
        <p:spPr>
          <a:xfrm>
            <a:off x="5068800" y="1185120"/>
            <a:ext cx="4002840" cy="4419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圆角矩形 3"/>
          <p:cNvSpPr/>
          <p:nvPr/>
        </p:nvSpPr>
        <p:spPr>
          <a:xfrm>
            <a:off x="456120" y="1328760"/>
            <a:ext cx="4225680" cy="1011600"/>
          </a:xfrm>
          <a:prstGeom prst="roundRect">
            <a:avLst>
              <a:gd name="adj" fmla="val 16667"/>
            </a:avLst>
          </a:prstGeom>
          <a:solidFill>
            <a:srgbClr val="a1c450"/>
          </a:solidFill>
          <a:ln w="317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几粒豌豆使我们懂得了生命的价值不在乎志向的大小，而是在于它实际的付出和产生的影响。所以我们应该要用平淡的心去面对一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图片 5"/>
          <p:cNvSpPr/>
          <p:nvPr/>
        </p:nvSpPr>
        <p:spPr>
          <a:xfrm>
            <a:off x="5068440" y="1982880"/>
            <a:ext cx="3420000" cy="3049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图片 3"/>
          <p:cNvSpPr/>
          <p:nvPr/>
        </p:nvSpPr>
        <p:spPr>
          <a:xfrm>
            <a:off x="322200" y="1256760"/>
            <a:ext cx="3969360" cy="4305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圆角矩形 4"/>
          <p:cNvSpPr/>
          <p:nvPr/>
        </p:nvSpPr>
        <p:spPr>
          <a:xfrm>
            <a:off x="4534560" y="1303560"/>
            <a:ext cx="3962160" cy="555480"/>
          </a:xfrm>
          <a:prstGeom prst="roundRect">
            <a:avLst>
              <a:gd name="adj" fmla="val 16667"/>
            </a:avLst>
          </a:prstGeom>
          <a:solidFill>
            <a:srgbClr val="a1c450"/>
          </a:solidFill>
          <a:ln w="317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个纯真可爱的女孩在最后一粒豌豆努力地发芽、生长、开花的启示下，获得了战胜疾病的信心和勇气，身体也渐渐恢复了健康。表达了女孩对这粒豌豆的感激与敬佩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矩形 5"/>
          <p:cNvSpPr/>
          <p:nvPr/>
        </p:nvSpPr>
        <p:spPr>
          <a:xfrm>
            <a:off x="963720" y="1183320"/>
            <a:ext cx="67633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《一个豆荚里的五粒豆》是安徒生创作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85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年的一篇童话。通过描述五粒豆子的经历，来赞叹生活。描写了五粒豆子的不同方面，第五粒豆子令人感动，令人敬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1"/>
          <p:cNvSpPr/>
          <p:nvPr/>
        </p:nvSpPr>
        <p:spPr>
          <a:xfrm>
            <a:off x="618480" y="2635920"/>
            <a:ext cx="7972560" cy="173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梦想的力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当我充满自信地，朝着梦想的方向迈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并且毫不畏惧地，过着我理想的生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成功，会在不期然间忽然降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15" name="直接箭头连接符 12"/>
          <p:cNvCxnSpPr/>
          <p:nvPr/>
        </p:nvCxnSpPr>
        <p:spPr>
          <a:xfrm>
            <a:off x="2400480" y="2491560"/>
            <a:ext cx="540360" cy="504360"/>
          </a:xfrm>
          <a:prstGeom prst="straightConnector1">
            <a:avLst/>
          </a:prstGeom>
          <a:ln w="28575">
            <a:solidFill>
              <a:srgbClr val="e04236"/>
            </a:solidFill>
            <a:tailEnd len="med" type="arrow" w="med"/>
          </a:ln>
        </p:spPr>
      </p:cxnSp>
      <p:cxnSp>
        <p:nvCxnSpPr>
          <p:cNvPr id="1016" name="直接箭头连接符 13"/>
          <p:cNvCxnSpPr/>
          <p:nvPr/>
        </p:nvCxnSpPr>
        <p:spPr>
          <a:xfrm flipV="1">
            <a:off x="2461680" y="3428280"/>
            <a:ext cx="594720" cy="504360"/>
          </a:xfrm>
          <a:prstGeom prst="straightConnector1">
            <a:avLst/>
          </a:prstGeom>
          <a:ln w="28575">
            <a:solidFill>
              <a:srgbClr val="e04236"/>
            </a:solidFill>
            <a:tailEnd len="med" type="arrow" w="med"/>
          </a:ln>
        </p:spPr>
      </p:cxnSp>
      <p:sp>
        <p:nvSpPr>
          <p:cNvPr id="1017" name="TextBox 14"/>
          <p:cNvSpPr/>
          <p:nvPr/>
        </p:nvSpPr>
        <p:spPr>
          <a:xfrm>
            <a:off x="3337200" y="1670760"/>
            <a:ext cx="19753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五颗豌豆各怀不同梦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8" name="直接箭头连接符 15"/>
          <p:cNvCxnSpPr/>
          <p:nvPr/>
        </p:nvCxnSpPr>
        <p:spPr>
          <a:xfrm>
            <a:off x="5343840" y="2284920"/>
            <a:ext cx="907920" cy="891720"/>
          </a:xfrm>
          <a:prstGeom prst="straightConnector1">
            <a:avLst/>
          </a:prstGeom>
          <a:ln w="28575">
            <a:solidFill>
              <a:srgbClr val="e04236"/>
            </a:solidFill>
            <a:tailEnd len="med" type="arrow" w="med"/>
          </a:ln>
        </p:spPr>
      </p:cxnSp>
      <p:cxnSp>
        <p:nvCxnSpPr>
          <p:cNvPr id="1019" name="直接箭头连接符 16"/>
          <p:cNvCxnSpPr/>
          <p:nvPr/>
        </p:nvCxnSpPr>
        <p:spPr>
          <a:xfrm flipV="1">
            <a:off x="5343840" y="3772800"/>
            <a:ext cx="907920" cy="952920"/>
          </a:xfrm>
          <a:prstGeom prst="straightConnector1">
            <a:avLst/>
          </a:prstGeom>
          <a:ln w="28575">
            <a:solidFill>
              <a:srgbClr val="e04236"/>
            </a:solidFill>
            <a:tailEnd len="med" type="arrow" w="med"/>
          </a:ln>
        </p:spPr>
      </p:cxnSp>
      <p:sp>
        <p:nvSpPr>
          <p:cNvPr id="1020" name="TextBox 17"/>
          <p:cNvSpPr/>
          <p:nvPr/>
        </p:nvSpPr>
        <p:spPr>
          <a:xfrm>
            <a:off x="3344400" y="2866680"/>
            <a:ext cx="19321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豌豆与女孩共同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Box 28"/>
          <p:cNvSpPr/>
          <p:nvPr/>
        </p:nvSpPr>
        <p:spPr>
          <a:xfrm>
            <a:off x="1881720" y="1107360"/>
            <a:ext cx="637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个豆荚里的五粒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29"/>
          <p:cNvSpPr/>
          <p:nvPr/>
        </p:nvSpPr>
        <p:spPr>
          <a:xfrm>
            <a:off x="3327840" y="4043160"/>
            <a:ext cx="20282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五颗豌豆结局不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30"/>
          <p:cNvSpPr/>
          <p:nvPr/>
        </p:nvSpPr>
        <p:spPr>
          <a:xfrm>
            <a:off x="5812200" y="1838880"/>
            <a:ext cx="1938600" cy="33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赞叹美好的生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五粒豌豆的经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圆角矩形 11"/>
          <p:cNvSpPr/>
          <p:nvPr/>
        </p:nvSpPr>
        <p:spPr>
          <a:xfrm>
            <a:off x="493560" y="672480"/>
            <a:ext cx="1543320" cy="592560"/>
          </a:xfrm>
          <a:prstGeom prst="roundRect">
            <a:avLst>
              <a:gd name="adj" fmla="val 50000"/>
            </a:avLst>
          </a:prstGeom>
          <a:solidFill>
            <a:srgbClr val="a1c4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板书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矩形 12"/>
          <p:cNvSpPr/>
          <p:nvPr/>
        </p:nvSpPr>
        <p:spPr>
          <a:xfrm>
            <a:off x="1483200" y="2199240"/>
            <a:ext cx="60674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文中五颗豌豆的命运各不相同，如果是你的话，你愿意做哪一颗豌豆？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矩形 5"/>
          <p:cNvSpPr/>
          <p:nvPr/>
        </p:nvSpPr>
        <p:spPr>
          <a:xfrm>
            <a:off x="874440" y="1319400"/>
            <a:ext cx="6750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个人的价值，应当看他贡献了什么，而不应当看他取得了什么。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爱因斯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图片 6"/>
          <p:cNvSpPr/>
          <p:nvPr/>
        </p:nvSpPr>
        <p:spPr>
          <a:xfrm>
            <a:off x="1722600" y="3209400"/>
            <a:ext cx="2769480" cy="34423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矩形 3"/>
          <p:cNvSpPr/>
          <p:nvPr/>
        </p:nvSpPr>
        <p:spPr>
          <a:xfrm>
            <a:off x="1015200" y="788040"/>
            <a:ext cx="6997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生活就像海洋，只有意志坚强的人，才能到达彼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马克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图片 5"/>
          <p:cNvSpPr/>
          <p:nvPr/>
        </p:nvSpPr>
        <p:spPr>
          <a:xfrm>
            <a:off x="2423880" y="2723760"/>
            <a:ext cx="3818880" cy="38188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文本框 6"/>
          <p:cNvSpPr/>
          <p:nvPr/>
        </p:nvSpPr>
        <p:spPr>
          <a:xfrm>
            <a:off x="636480" y="1818360"/>
            <a:ext cx="5001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阅读课文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-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体会普通的豌豆荚在作者笔下是多么富有情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图片 9" descr="20150527070755960.jpg"/>
          <p:cNvPicPr/>
          <p:nvPr/>
        </p:nvPicPr>
        <p:blipFill>
          <a:blip r:embed="rId1"/>
          <a:stretch/>
        </p:blipFill>
        <p:spPr>
          <a:xfrm rot="1671000">
            <a:off x="5623200" y="2030760"/>
            <a:ext cx="2989800" cy="18684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Box 14"/>
          <p:cNvSpPr/>
          <p:nvPr/>
        </p:nvSpPr>
        <p:spPr>
          <a:xfrm>
            <a:off x="6344640" y="422892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豆荚和豌豆都是绿的，豌豆就以为整个世界都是绿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云形标注 15"/>
          <p:cNvSpPr/>
          <p:nvPr/>
        </p:nvSpPr>
        <p:spPr>
          <a:xfrm>
            <a:off x="5896800" y="1748880"/>
            <a:ext cx="1932480" cy="770040"/>
          </a:xfrm>
          <a:prstGeom prst="cloudCallout">
            <a:avLst>
              <a:gd name="adj1" fmla="val -41814"/>
              <a:gd name="adj2" fmla="val 127318"/>
            </a:avLst>
          </a:prstGeom>
          <a:solidFill>
            <a:srgbClr val="a1c450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坐井观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16"/>
          <p:cNvSpPr/>
          <p:nvPr/>
        </p:nvSpPr>
        <p:spPr>
          <a:xfrm>
            <a:off x="3116880" y="5320800"/>
            <a:ext cx="3369960" cy="729360"/>
          </a:xfrm>
          <a:prstGeom prst="rect">
            <a:avLst/>
          </a:prstGeom>
          <a:solidFill>
            <a:srgbClr val="a1c450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让你联想到什么寓言故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云形标注 17"/>
          <p:cNvSpPr/>
          <p:nvPr/>
        </p:nvSpPr>
        <p:spPr>
          <a:xfrm>
            <a:off x="3683880" y="2097000"/>
            <a:ext cx="1192680" cy="770040"/>
          </a:xfrm>
          <a:prstGeom prst="cloudCallout">
            <a:avLst>
              <a:gd name="adj1" fmla="val 27956"/>
              <a:gd name="adj2" fmla="val 112920"/>
            </a:avLst>
          </a:prstGeom>
          <a:solidFill>
            <a:srgbClr val="a1c450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青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图片 18"/>
          <p:cNvSpPr/>
          <p:nvPr/>
        </p:nvSpPr>
        <p:spPr>
          <a:xfrm>
            <a:off x="477360" y="1047960"/>
            <a:ext cx="2547000" cy="29656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椭圆 19"/>
          <p:cNvSpPr/>
          <p:nvPr/>
        </p:nvSpPr>
        <p:spPr>
          <a:xfrm>
            <a:off x="4636080" y="4174560"/>
            <a:ext cx="768240" cy="605880"/>
          </a:xfrm>
          <a:prstGeom prst="ellipse">
            <a:avLst/>
          </a:prstGeom>
          <a:noFill/>
          <a:ln w="28575">
            <a:solidFill>
              <a:srgbClr val="a1c45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TextBox 6"/>
          <p:cNvSpPr/>
          <p:nvPr/>
        </p:nvSpPr>
        <p:spPr>
          <a:xfrm>
            <a:off x="4125960" y="1433160"/>
            <a:ext cx="632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豌豆按照它们在家庭里的地位，坐成一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7"/>
          <p:cNvSpPr/>
          <p:nvPr/>
        </p:nvSpPr>
        <p:spPr>
          <a:xfrm>
            <a:off x="1561680" y="2420280"/>
            <a:ext cx="3369960" cy="729360"/>
          </a:xfrm>
          <a:prstGeom prst="rect">
            <a:avLst/>
          </a:prstGeom>
          <a:solidFill>
            <a:srgbClr val="a1c450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按照从大到小的顺序排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椭圆 8"/>
          <p:cNvSpPr/>
          <p:nvPr/>
        </p:nvSpPr>
        <p:spPr>
          <a:xfrm>
            <a:off x="2828880" y="1277640"/>
            <a:ext cx="1827000" cy="848880"/>
          </a:xfrm>
          <a:prstGeom prst="ellipse">
            <a:avLst/>
          </a:prstGeom>
          <a:noFill/>
          <a:ln w="28575">
            <a:solidFill>
              <a:srgbClr val="a1c45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楷体"/>
            </a:endParaRPr>
          </a:p>
        </p:txBody>
      </p:sp>
      <p:sp>
        <p:nvSpPr>
          <p:cNvPr id="966" name="TextBox 13"/>
          <p:cNvSpPr/>
          <p:nvPr/>
        </p:nvSpPr>
        <p:spPr>
          <a:xfrm>
            <a:off x="938880" y="3400560"/>
            <a:ext cx="5897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老这样坐下去，我恐怕会变得僵硬起来。我似乎觉得外面发生了一些事情——我有这种预感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椭圆 14"/>
          <p:cNvSpPr/>
          <p:nvPr/>
        </p:nvSpPr>
        <p:spPr>
          <a:xfrm>
            <a:off x="4732200" y="3538440"/>
            <a:ext cx="563400" cy="503640"/>
          </a:xfrm>
          <a:prstGeom prst="ellipse">
            <a:avLst/>
          </a:prstGeom>
          <a:noFill/>
          <a:ln w="28575">
            <a:solidFill>
              <a:srgbClr val="a1c45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楷体"/>
            </a:endParaRPr>
          </a:p>
        </p:txBody>
      </p:sp>
      <p:sp>
        <p:nvSpPr>
          <p:cNvPr id="968" name="TextBox 15"/>
          <p:cNvSpPr/>
          <p:nvPr/>
        </p:nvSpPr>
        <p:spPr>
          <a:xfrm>
            <a:off x="1536840" y="5279760"/>
            <a:ext cx="4177800" cy="729360"/>
          </a:xfrm>
          <a:prstGeom prst="rect">
            <a:avLst/>
          </a:prstGeom>
          <a:solidFill>
            <a:srgbClr val="a1c450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豌豆越成熟就会变得越来越坚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图片 16" descr="p9675100.jpg"/>
          <p:cNvPicPr/>
          <p:nvPr/>
        </p:nvPicPr>
        <p:blipFill>
          <a:blip r:embed="rId1"/>
          <a:stretch/>
        </p:blipFill>
        <p:spPr>
          <a:xfrm>
            <a:off x="7045560" y="4116240"/>
            <a:ext cx="1523520" cy="136764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pic>
        <p:nvPicPr>
          <p:cNvPr id="970" name="图片 9" descr="20150527070755960.jpg"/>
          <p:cNvPicPr/>
          <p:nvPr/>
        </p:nvPicPr>
        <p:blipFill>
          <a:blip r:embed="rId2"/>
          <a:stretch/>
        </p:blipFill>
        <p:spPr>
          <a:xfrm rot="1671000">
            <a:off x="6469920" y="1548000"/>
            <a:ext cx="2490480" cy="155628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矩形 9"/>
          <p:cNvSpPr/>
          <p:nvPr/>
        </p:nvSpPr>
        <p:spPr>
          <a:xfrm>
            <a:off x="397440" y="1708560"/>
            <a:ext cx="424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分角色朗读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—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矩形 10"/>
          <p:cNvSpPr/>
          <p:nvPr/>
        </p:nvSpPr>
        <p:spPr>
          <a:xfrm>
            <a:off x="465480" y="2849760"/>
            <a:ext cx="40190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五粒豌豆即将分开时，豌豆们各自有各自的打算，用原文归纳它们的愿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图片 11"/>
          <p:cNvSpPr/>
          <p:nvPr/>
        </p:nvSpPr>
        <p:spPr>
          <a:xfrm>
            <a:off x="4552920" y="1481040"/>
            <a:ext cx="4190040" cy="40172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4" descr="rBEhWFLNFRwIAAAAAARhjpd9O4UAAHs7gJ-iI8ABGGm498.jpg!q70_看图王.jpg"/>
          <p:cNvPicPr/>
          <p:nvPr/>
        </p:nvPicPr>
        <p:blipFill>
          <a:blip r:embed="rId1"/>
          <a:stretch/>
        </p:blipFill>
        <p:spPr>
          <a:xfrm>
            <a:off x="345240" y="1162800"/>
            <a:ext cx="1200600" cy="1508400"/>
          </a:xfrm>
          <a:prstGeom prst="rect">
            <a:avLst/>
          </a:prstGeom>
          <a:ln w="0">
            <a:noFill/>
          </a:ln>
        </p:spPr>
      </p:pic>
      <p:sp>
        <p:nvSpPr>
          <p:cNvPr id="975" name="TextBox 5"/>
          <p:cNvSpPr/>
          <p:nvPr/>
        </p:nvSpPr>
        <p:spPr>
          <a:xfrm>
            <a:off x="2876760" y="9255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第一粒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Box 6"/>
          <p:cNvSpPr/>
          <p:nvPr/>
        </p:nvSpPr>
        <p:spPr>
          <a:xfrm>
            <a:off x="2160720" y="1510560"/>
            <a:ext cx="57938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如今我要飞到广阔的世界里去了！如果你能捉住我，那么就请你来吧！”第一粒豆说着，就飞走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7"/>
          <p:cNvSpPr/>
          <p:nvPr/>
        </p:nvSpPr>
        <p:spPr>
          <a:xfrm>
            <a:off x="2936160" y="39038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第二粒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11"/>
          <p:cNvSpPr/>
          <p:nvPr/>
        </p:nvSpPr>
        <p:spPr>
          <a:xfrm>
            <a:off x="2190600" y="4627800"/>
            <a:ext cx="56595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将直接飞进太阳里去，这才像真正的豌豆呢！”于是它也飞走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爆炸形 1 12"/>
          <p:cNvSpPr/>
          <p:nvPr/>
        </p:nvSpPr>
        <p:spPr>
          <a:xfrm>
            <a:off x="4764240" y="2845080"/>
            <a:ext cx="2990160" cy="1422720"/>
          </a:xfrm>
          <a:prstGeom prst="irregularSeal1">
            <a:avLst/>
          </a:prstGeom>
          <a:solidFill>
            <a:srgbClr val="a1c450"/>
          </a:solidFill>
          <a:ln w="317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自高自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Box 7"/>
          <p:cNvSpPr/>
          <p:nvPr/>
        </p:nvSpPr>
        <p:spPr>
          <a:xfrm>
            <a:off x="3254400" y="1618920"/>
            <a:ext cx="366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a1c450"/>
                </a:solidFill>
                <a:latin typeface="楷体"/>
                <a:ea typeface="楷体"/>
              </a:rPr>
              <a:t>第三、四粒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8"/>
          <p:cNvSpPr/>
          <p:nvPr/>
        </p:nvSpPr>
        <p:spPr>
          <a:xfrm>
            <a:off x="2109960" y="2498760"/>
            <a:ext cx="54331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们到了什么地方，就在什么地方睡大觉。”其余的两粒说着，也飞走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爆炸形 1 9"/>
          <p:cNvSpPr/>
          <p:nvPr/>
        </p:nvSpPr>
        <p:spPr>
          <a:xfrm>
            <a:off x="4216680" y="4065840"/>
            <a:ext cx="2974320" cy="1422360"/>
          </a:xfrm>
          <a:prstGeom prst="irregularSeal1">
            <a:avLst/>
          </a:prstGeom>
          <a:solidFill>
            <a:srgbClr val="a1c450"/>
          </a:solidFill>
          <a:ln w="317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满足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图片 5" descr="rBEhWFLNFRwIAAAAAARhjpd9O4UAAHs7gJ-iI8ABGGm498.jpg!q70_看图王.jpg"/>
          <p:cNvPicPr/>
          <p:nvPr/>
        </p:nvPicPr>
        <p:blipFill>
          <a:blip r:embed="rId1"/>
          <a:stretch/>
        </p:blipFill>
        <p:spPr>
          <a:xfrm>
            <a:off x="345240" y="1162800"/>
            <a:ext cx="120060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爆炸形 1 12"/>
          <p:cNvSpPr/>
          <p:nvPr/>
        </p:nvSpPr>
        <p:spPr>
          <a:xfrm>
            <a:off x="4144680" y="2910960"/>
            <a:ext cx="3789360" cy="2589480"/>
          </a:xfrm>
          <a:prstGeom prst="irregularSeal1">
            <a:avLst/>
          </a:prstGeom>
          <a:solidFill>
            <a:srgbClr val="a1c450"/>
          </a:solidFill>
          <a:ln w="317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随遇而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喜欢平静的生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AutoShape 2"/>
          <p:cNvSpPr/>
          <p:nvPr/>
        </p:nvSpPr>
        <p:spPr>
          <a:xfrm>
            <a:off x="116640" y="-144360"/>
            <a:ext cx="228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楷体"/>
            </a:endParaRPr>
          </a:p>
        </p:txBody>
      </p:sp>
      <p:sp>
        <p:nvSpPr>
          <p:cNvPr id="986" name="TextBox 10"/>
          <p:cNvSpPr/>
          <p:nvPr/>
        </p:nvSpPr>
        <p:spPr>
          <a:xfrm>
            <a:off x="2656800" y="110772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a1c450"/>
                </a:solidFill>
                <a:latin typeface="楷体"/>
                <a:ea typeface="楷体"/>
              </a:rPr>
              <a:t>第五粒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11"/>
          <p:cNvSpPr/>
          <p:nvPr/>
        </p:nvSpPr>
        <p:spPr>
          <a:xfrm>
            <a:off x="1934640" y="1923120"/>
            <a:ext cx="5570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该怎么办就怎么办！”最后一粒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该怎么办就怎么办！”它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8" name="图片 6" descr="rBEhWFLNFRwIAAAAAARhjpd9O4UAAHs7gJ-iI8ABGGm498.jpg!q70_看图王.jpg"/>
          <p:cNvPicPr/>
          <p:nvPr/>
        </p:nvPicPr>
        <p:blipFill>
          <a:blip r:embed="rId1"/>
          <a:stretch/>
        </p:blipFill>
        <p:spPr>
          <a:xfrm>
            <a:off x="345240" y="1162800"/>
            <a:ext cx="120060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1573</Words>
  <Paragraphs>9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8T06:44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8-07T09:06:43Z</dcterms:modified>
  <cp:revision>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808</vt:lpwstr>
  </property>
  <property fmtid="{D5CDD505-2E9C-101B-9397-08002B2CF9AE}" pid="3" name="Notes">
    <vt:r8>2</vt:r8>
  </property>
  <property fmtid="{D5CDD505-2E9C-101B-9397-08002B2CF9AE}" pid="4" name="PresentationFormat">
    <vt:lpwstr>全屏显示(4:3)</vt:lpwstr>
  </property>
  <property fmtid="{D5CDD505-2E9C-101B-9397-08002B2CF9AE}" pid="5" name="Slides">
    <vt:r8>24</vt:r8>
  </property>
</Properties>
</file>