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5143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7416DE8-9BEC-481F-A0BB-447B0B901A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word/" TargetMode="External"/><Relationship Id="rId8" Type="http://schemas.openxmlformats.org/officeDocument/2006/relationships/hyperlink" Target="http://www.1ppt.com/excel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om/jianli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3.xml"/><Relationship Id="rId24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9AC8F8C-50CF-4AA1-9507-41E53325970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Word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7"/>
              </a:rPr>
              <a:t>www.1ppt.com/word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                  Excel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8"/>
              </a:rPr>
              <a:t>www.1ppt.com/excel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                  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个人简历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11"/>
              </a:rPr>
              <a:t>www.1ppt.com/jianli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                  PPT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C83D41E-AD55-4E9A-B502-3E45D0E9C6D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DCFE-E9CC-4A05-B575-467328B98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F525-1931-4CC9-A2BB-E5DBA704C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4B1B-9E7F-4046-AF6F-0E6393F54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2E9A-00CC-4C00-839E-425211CAE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CE0C-7A01-4E4F-9887-47CCA9ECC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C048-C553-4CDB-ACB9-4A4AC40AF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4C33-23D5-4369-B7D3-5DD82F9B6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01D1-DB65-47B9-8360-0F7441A39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273960"/>
            <a:ext cx="788652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B766-9BA9-4498-92DC-69EC2CCD9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F1B4-CA60-48A8-AA87-E6B82043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8766-2863-4CB3-B6B3-4526A34A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5E64-B2F5-4BDC-892B-1AD7727F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68760" rIns="68760" tIns="34200" bIns="34200"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33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2856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Arial"/>
                <a:ea typeface="宋体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029040" y="4767120"/>
            <a:ext cx="308592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45804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221A96E-78C8-49A6-BB4D-6B5A67141892}" type="slidenum">
              <a:rPr b="0" lang="en-US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组合 8"/>
          <p:cNvGrpSpPr/>
          <p:nvPr/>
        </p:nvGrpSpPr>
        <p:grpSpPr>
          <a:xfrm>
            <a:off x="698040" y="1347120"/>
            <a:ext cx="4455000" cy="1418040"/>
            <a:chOff x="698040" y="1347120"/>
            <a:chExt cx="4455000" cy="1418040"/>
          </a:xfrm>
        </p:grpSpPr>
        <p:sp>
          <p:nvSpPr>
            <p:cNvPr id="48" name="矩形 24"/>
            <p:cNvSpPr/>
            <p:nvPr/>
          </p:nvSpPr>
          <p:spPr>
            <a:xfrm>
              <a:off x="1936440" y="1347120"/>
              <a:ext cx="19785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1" lang="en-US" sz="1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</a:t>
              </a:r>
              <a:r>
                <a:rPr b="1" lang="zh-CN" sz="1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第四单元</a:t>
              </a:r>
              <a:r>
                <a:rPr b="1" lang="en-US" sz="1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·</a:t>
              </a:r>
              <a:r>
                <a:rPr b="1" lang="zh-CN" sz="1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第十五课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Box 2"/>
            <p:cNvSpPr/>
            <p:nvPr/>
          </p:nvSpPr>
          <p:spPr>
            <a:xfrm>
              <a:off x="698040" y="2050920"/>
              <a:ext cx="445500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4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永久的生命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" name="Picture 6" descr="http://p4.so.qhimgs1.com/bdr/_240_/t01290a9831fbbaa544.jpg"/>
          <p:cNvPicPr/>
          <p:nvPr/>
        </p:nvPicPr>
        <p:blipFill>
          <a:blip r:embed="rId1"/>
          <a:stretch/>
        </p:blipFill>
        <p:spPr>
          <a:xfrm>
            <a:off x="5339880" y="908640"/>
            <a:ext cx="3390480" cy="3007440"/>
          </a:xfrm>
          <a:prstGeom prst="rect">
            <a:avLst/>
          </a:prstGeom>
          <a:ln w="0">
            <a:noFill/>
          </a:ln>
        </p:spPr>
      </p:pic>
      <p:sp>
        <p:nvSpPr>
          <p:cNvPr id="51" name="矩形 6"/>
          <p:cNvSpPr/>
          <p:nvPr/>
        </p:nvSpPr>
        <p:spPr>
          <a:xfrm>
            <a:off x="0" y="4441320"/>
            <a:ext cx="91436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多特软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3"/>
          <p:cNvSpPr/>
          <p:nvPr/>
        </p:nvSpPr>
        <p:spPr>
          <a:xfrm>
            <a:off x="225000" y="778680"/>
            <a:ext cx="1569960" cy="412920"/>
          </a:xfrm>
          <a:prstGeom prst="rect">
            <a:avLst/>
          </a:prstGeom>
          <a:noFill/>
          <a:ln w="9525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课文讲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838080" y="1860840"/>
            <a:ext cx="7369560" cy="25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生命自身的神奇；生命能够不断地创造新的生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839520" y="1191960"/>
            <a:ext cx="6923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文章第二自然段用“地面上的小草”比喻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1"/>
          <a:stretch/>
        </p:blipFill>
        <p:spPr>
          <a:xfrm>
            <a:off x="1215720" y="2553840"/>
            <a:ext cx="3085920" cy="2044080"/>
          </a:xfrm>
          <a:prstGeom prst="rect">
            <a:avLst/>
          </a:prstGeom>
          <a:ln w="9525">
            <a:noFill/>
          </a:ln>
          <a:effectLst>
            <a:softEdge rad="127080"/>
          </a:effectLst>
        </p:spPr>
      </p:pic>
      <p:pic>
        <p:nvPicPr>
          <p:cNvPr id="88" name="Picture 8" descr=""/>
          <p:cNvPicPr/>
          <p:nvPr/>
        </p:nvPicPr>
        <p:blipFill>
          <a:blip r:embed="rId2"/>
          <a:stretch/>
        </p:blipFill>
        <p:spPr>
          <a:xfrm>
            <a:off x="4668480" y="2540880"/>
            <a:ext cx="3094200" cy="2057040"/>
          </a:xfrm>
          <a:prstGeom prst="rect">
            <a:avLst/>
          </a:prstGeom>
          <a:ln w="9525">
            <a:noFill/>
          </a:ln>
          <a:effectLst>
            <a:softEdge rad="1270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3"/>
          <p:cNvSpPr/>
          <p:nvPr/>
        </p:nvSpPr>
        <p:spPr>
          <a:xfrm>
            <a:off x="53640" y="590400"/>
            <a:ext cx="1569960" cy="412920"/>
          </a:xfrm>
          <a:prstGeom prst="rect">
            <a:avLst/>
          </a:prstGeom>
          <a:noFill/>
          <a:ln w="9525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课文讲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839520" y="2220480"/>
            <a:ext cx="7369560" cy="25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作者写对生命的感悟，使用了欲扬先抑的写法，先写生命的易逝，人们的无奈与可怜，感情转入低谷；接着用“不应该为此感到悲观”一转，描写生命的神奇，个体生命有限，集体生命无穷，生命永久不朽，值得赞美；最后联系生活实际，要以爱情来赞美生命，感情高亢，给人以磅礴的力量。这样写，前后对比，把对生命的思考引向更深层次，同时使行文有了波澜，更能够打动人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1018080" y="1025280"/>
            <a:ext cx="7436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课文写对生命的感悟，开始说“我们都非常可怜！”后来又说“这就是奇迹”。这样写有什么好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3"/>
          <p:cNvSpPr/>
          <p:nvPr/>
        </p:nvSpPr>
        <p:spPr>
          <a:xfrm>
            <a:off x="225000" y="778680"/>
            <a:ext cx="1569960" cy="412920"/>
          </a:xfrm>
          <a:prstGeom prst="rect">
            <a:avLst/>
          </a:prstGeom>
          <a:noFill/>
          <a:ln w="9525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课文讲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1010880" y="2288520"/>
            <a:ext cx="341676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因为它充满了希望，永不休止地繁殖着，蔓延着，随处宣示它的快乐和威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879840" y="1276200"/>
            <a:ext cx="6923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作者为什么赞美生命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http://p4.so.qhimgs1.com/bdr/_240_/t015e9d065d2370126a.jpg"/>
          <p:cNvPicPr/>
          <p:nvPr/>
        </p:nvPicPr>
        <p:blipFill>
          <a:blip r:embed="rId1"/>
          <a:stretch/>
        </p:blipFill>
        <p:spPr>
          <a:xfrm>
            <a:off x="5014800" y="1638360"/>
            <a:ext cx="3291840" cy="20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3"/>
          <p:cNvSpPr/>
          <p:nvPr/>
        </p:nvSpPr>
        <p:spPr>
          <a:xfrm>
            <a:off x="225000" y="778680"/>
            <a:ext cx="1569960" cy="412920"/>
          </a:xfrm>
          <a:prstGeom prst="rect">
            <a:avLst/>
          </a:prstGeom>
          <a:noFill/>
          <a:ln w="9525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思考人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1132200" y="2819520"/>
            <a:ext cx="7194600" cy="13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just">
              <a:lnSpc>
                <a:spcPct val="150000"/>
              </a:lnSpc>
            </a:pPr>
            <a:endParaRPr b="0" lang="en-US" sz="21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132200" y="1545480"/>
            <a:ext cx="70862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联系实际，怎样理解“生命在那些终于要凋谢的花朵里永存，不断给世界以色彩，不断给世界以芬芳”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"/>
          <p:cNvSpPr/>
          <p:nvPr/>
        </p:nvSpPr>
        <p:spPr>
          <a:xfrm>
            <a:off x="1132200" y="2715840"/>
            <a:ext cx="732780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2427840" y="788040"/>
            <a:ext cx="423360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细读课文，思考人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1010880" y="2601360"/>
            <a:ext cx="41918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生命像花朵一样，最终必将凋零。但是，生命的意义不是去哀伤，而是在凋零之前，给世界以色彩，以芬芳，让世界变得更加美好。这样的生命，将和世界一起，获得永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9" descr="http://p3.so.qhimgs1.com/bdr/_240_/t01de16d746f2897f83.jpg"/>
          <p:cNvPicPr/>
          <p:nvPr/>
        </p:nvPicPr>
        <p:blipFill>
          <a:blip r:embed="rId1"/>
          <a:stretch/>
        </p:blipFill>
        <p:spPr>
          <a:xfrm>
            <a:off x="5418360" y="2445480"/>
            <a:ext cx="3291840" cy="20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矩形 3"/>
          <p:cNvSpPr/>
          <p:nvPr/>
        </p:nvSpPr>
        <p:spPr>
          <a:xfrm>
            <a:off x="225000" y="778680"/>
            <a:ext cx="1569960" cy="412920"/>
          </a:xfrm>
          <a:prstGeom prst="rect">
            <a:avLst/>
          </a:prstGeom>
          <a:noFill/>
          <a:ln w="9525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体会主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1132200" y="2819520"/>
            <a:ext cx="7194600" cy="13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just">
              <a:lnSpc>
                <a:spcPct val="150000"/>
              </a:lnSpc>
            </a:pPr>
            <a:endParaRPr b="0" lang="en-US" sz="21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740520" y="1517040"/>
            <a:ext cx="791388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作者在文章中多次询问：“我的树在哪里”，请思考为什么作者一直在寻找树呢？结合作者的情感脉络来分析，没有树会对“我”有怎样的影响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758520" y="2677680"/>
            <a:ext cx="756828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没有树让作者怅惘、觉得缺憾，有了树让他觉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'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弥合了我与整个世界的裂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'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关于果树的描写也是本文最为欢快的章节。这说明他觉得没有树的人生是不完整的，作者渴望完整，因此不断寻找，也因此作者在文中说“我生命中应该有三棵树的”，只有这样才有完整的生命形态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"/>
          <p:cNvSpPr/>
          <p:nvPr/>
        </p:nvSpPr>
        <p:spPr>
          <a:xfrm>
            <a:off x="2230920" y="840960"/>
            <a:ext cx="561708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深入阅读，体会主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delay="0" evt="begin"/>
                                  </p:end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矩形 3"/>
          <p:cNvSpPr/>
          <p:nvPr/>
        </p:nvSpPr>
        <p:spPr>
          <a:xfrm>
            <a:off x="225000" y="778680"/>
            <a:ext cx="1569960" cy="412920"/>
          </a:xfrm>
          <a:prstGeom prst="rect">
            <a:avLst/>
          </a:prstGeom>
          <a:noFill/>
          <a:ln w="9525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理解生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1010880" y="1191960"/>
            <a:ext cx="74494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你对生命有哪些思考？请用比喻的修辞，写几句话和同桌交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http://p4.so.qhimgs1.com/bdr/_240_/t01290a9831fbbaa544.jpg"/>
          <p:cNvPicPr/>
          <p:nvPr/>
        </p:nvPicPr>
        <p:blipFill>
          <a:blip r:embed="rId1"/>
          <a:stretch/>
        </p:blipFill>
        <p:spPr>
          <a:xfrm>
            <a:off x="549000" y="2247840"/>
            <a:ext cx="2433240" cy="2158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http://p0.so.qhmsg.com/bdr/_240_/t01c0a0aa6ade8b27c5.jpg"/>
          <p:cNvPicPr/>
          <p:nvPr/>
        </p:nvPicPr>
        <p:blipFill>
          <a:blip r:embed="rId2"/>
          <a:stretch/>
        </p:blipFill>
        <p:spPr>
          <a:xfrm>
            <a:off x="3099240" y="2226600"/>
            <a:ext cx="2688120" cy="2158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http://p2.so.qhimgs1.com/bdr/_240_/t01b4a6a285b15b0a1e.jpg"/>
          <p:cNvPicPr/>
          <p:nvPr/>
        </p:nvPicPr>
        <p:blipFill>
          <a:blip r:embed="rId3"/>
          <a:stretch/>
        </p:blipFill>
        <p:spPr>
          <a:xfrm>
            <a:off x="5886360" y="2276640"/>
            <a:ext cx="2704680" cy="20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矩形 3"/>
          <p:cNvSpPr/>
          <p:nvPr/>
        </p:nvSpPr>
        <p:spPr>
          <a:xfrm>
            <a:off x="225000" y="778680"/>
            <a:ext cx="1569960" cy="412920"/>
          </a:xfrm>
          <a:prstGeom prst="rect">
            <a:avLst/>
          </a:prstGeom>
          <a:noFill/>
          <a:ln w="9525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课文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1132200" y="2819520"/>
            <a:ext cx="7194600" cy="13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just">
              <a:lnSpc>
                <a:spcPct val="150000"/>
              </a:lnSpc>
            </a:pPr>
            <a:endParaRPr b="0" lang="en-US" sz="21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15" name="矩形 1"/>
          <p:cNvSpPr/>
          <p:nvPr/>
        </p:nvSpPr>
        <p:spPr>
          <a:xfrm>
            <a:off x="952560" y="1557360"/>
            <a:ext cx="7554240" cy="13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生命是什么？它是青藏高原上那辽远的天穹，它是峡谷中那激荡的长江水，它是内蒙古高原一望无际的绿色。生命是一次性的筷子，每个人只有一次，生命是徐徐升起的风筝，只能高飞岂能停滞，生命是崎岖不平的山路，只能走下去，尽管你会摔倒…… 我们的生命可以伟大，也可以渺小，但不管怎样我们要挺直生命的脊梁，把生命努力进行到底，善待生活、善待自己，过好自己的生活，这大概就是生命的定义吧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delay="0" evt="begin"/>
                                  </p:end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1"/>
          <p:cNvSpPr/>
          <p:nvPr/>
        </p:nvSpPr>
        <p:spPr>
          <a:xfrm>
            <a:off x="184680" y="859680"/>
            <a:ext cx="1569960" cy="412920"/>
          </a:xfrm>
          <a:prstGeom prst="rect">
            <a:avLst/>
          </a:prstGeom>
          <a:noFill/>
          <a:ln w="9525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课文导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2054880" y="1073880"/>
            <a:ext cx="5568120" cy="405720"/>
          </a:xfrm>
          <a:prstGeom prst="rect">
            <a:avLst/>
          </a:prstGeom>
        </p:spPr>
        <p:txBody>
          <a:bodyPr wrap="none" lIns="68760" rIns="68760" tIns="34200" bIns="34200" anchor="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endParaRPr b="0" lang="en-US" sz="2700" spc="-1" strike="noStrike">
              <a:ln w="0">
                <a:noFill/>
              </a:ln>
              <a:solidFill>
                <a:srgbClr val="729fcf"/>
              </a:solidFill>
              <a:latin typeface="微软雅黑"/>
              <a:ea typeface="微软雅黑"/>
            </a:endParaRPr>
          </a:p>
        </p:txBody>
      </p:sp>
      <p:sp>
        <p:nvSpPr>
          <p:cNvPr id="54" name="矩形 2"/>
          <p:cNvSpPr/>
          <p:nvPr/>
        </p:nvSpPr>
        <p:spPr>
          <a:xfrm>
            <a:off x="969120" y="1479960"/>
            <a:ext cx="423360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789480" y="1809720"/>
            <a:ext cx="43048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有人说，生命，伟大而神秘，丰富而奇妙，永久而不朽；也有人说，世上没有永恒的春天，亦没有永久的生命。生命到底是怎样的呢？下面让我们来听听作者严文井的答案吧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1"/>
          <a:stretch/>
        </p:blipFill>
        <p:spPr>
          <a:xfrm>
            <a:off x="5339160" y="2014920"/>
            <a:ext cx="3188520" cy="1992600"/>
          </a:xfrm>
          <a:prstGeom prst="rect">
            <a:avLst/>
          </a:prstGeom>
          <a:ln w="0">
            <a:noFill/>
          </a:ln>
          <a:effectLst>
            <a:softEdge rad="127080"/>
          </a:effectLst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44"/>
          <p:cNvSpPr/>
          <p:nvPr/>
        </p:nvSpPr>
        <p:spPr>
          <a:xfrm>
            <a:off x="255960" y="941760"/>
            <a:ext cx="1569960" cy="412920"/>
          </a:xfrm>
          <a:prstGeom prst="rect">
            <a:avLst/>
          </a:prstGeom>
          <a:noFill/>
          <a:ln w="9525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学习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1041840" y="1568160"/>
            <a:ext cx="7389720" cy="33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感知作者情感变化，把握文章感情基调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揣摩文章中重要语句，理解其哲理意蕴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认识个体的生命是短暂的，人类的生命是永久的，要用短暂的生命去创造永久的价值；并树立豁达、乐观的人生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12"/>
          <p:cNvSpPr/>
          <p:nvPr/>
        </p:nvSpPr>
        <p:spPr>
          <a:xfrm>
            <a:off x="91800" y="879840"/>
            <a:ext cx="1569960" cy="412920"/>
          </a:xfrm>
          <a:prstGeom prst="rect">
            <a:avLst/>
          </a:prstGeom>
          <a:noFill/>
          <a:ln w="9525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作者简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578520" y="1560960"/>
            <a:ext cx="5370480" cy="13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严文井，原名严文锦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91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湖北武昌人。主要著作有《严文井散文选》、《严文井童话集》、《严文井童话寓言集》等，曾获首届全国优秀散文杂文奖、第二次全国少年儿童文艺创作荣誉奖。他被称为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世纪最知名、最有影响力的哲学家”之一，还被无数人视为是“未来时代的先知”，亦是著名的数学家、逻辑学家、社会活动家，又被公认为“富有鼓动天才的辩论家”“百科全书式文学家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7" descr=""/>
          <p:cNvPicPr/>
          <p:nvPr/>
        </p:nvPicPr>
        <p:blipFill>
          <a:blip r:embed="rId1"/>
          <a:stretch/>
        </p:blipFill>
        <p:spPr>
          <a:xfrm>
            <a:off x="6327000" y="1443240"/>
            <a:ext cx="2169360" cy="2871720"/>
          </a:xfrm>
          <a:prstGeom prst="rect">
            <a:avLst/>
          </a:prstGeom>
          <a:ln w="9525">
            <a:noFill/>
          </a:ln>
          <a:effectLst>
            <a:softEdge rad="127080"/>
          </a:effectLst>
        </p:spPr>
      </p:pic>
    </p:spTree>
  </p:cSld>
  <p:transition spd="med"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3"/>
          <p:cNvSpPr/>
          <p:nvPr/>
        </p:nvSpPr>
        <p:spPr>
          <a:xfrm>
            <a:off x="225000" y="778680"/>
            <a:ext cx="1569960" cy="412920"/>
          </a:xfrm>
          <a:prstGeom prst="rect">
            <a:avLst/>
          </a:prstGeom>
          <a:noFill/>
          <a:ln w="9525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背景介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10720" y="1420560"/>
            <a:ext cx="6879240" cy="17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《永久的生命》是严文井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94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写的一篇带有哲理意蕴的散文。文章揭示出个体的生命是卑微柔弱的，但就整个人类来说，生命是永久不朽的，表达了作者积极乐观的人生态度，同时要感谢生命，并以自己全部热情回报生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"/>
          <p:cNvSpPr/>
          <p:nvPr/>
        </p:nvSpPr>
        <p:spPr>
          <a:xfrm>
            <a:off x="1937160" y="778680"/>
            <a:ext cx="522540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4706280" y="2842200"/>
            <a:ext cx="2678040" cy="1842120"/>
          </a:xfrm>
          <a:prstGeom prst="rect">
            <a:avLst/>
          </a:prstGeom>
          <a:ln w="9525">
            <a:noFill/>
          </a:ln>
          <a:effectLst>
            <a:softEdge rad="1270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3"/>
          <p:cNvSpPr/>
          <p:nvPr/>
        </p:nvSpPr>
        <p:spPr>
          <a:xfrm>
            <a:off x="225000" y="778680"/>
            <a:ext cx="1569960" cy="412920"/>
          </a:xfrm>
          <a:prstGeom prst="rect">
            <a:avLst/>
          </a:prstGeom>
          <a:noFill/>
          <a:ln w="9525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字词积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176480" y="1438200"/>
            <a:ext cx="6879240" cy="17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2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臼齿（     ）      茸毛（      ）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蔓延（      ）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"/>
          <p:cNvSpPr/>
          <p:nvPr/>
        </p:nvSpPr>
        <p:spPr>
          <a:xfrm>
            <a:off x="1937160" y="778680"/>
            <a:ext cx="522540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2209680" y="1818000"/>
            <a:ext cx="64152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2133720" y="1818000"/>
            <a:ext cx="71748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ji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"/>
          <p:cNvSpPr/>
          <p:nvPr/>
        </p:nvSpPr>
        <p:spPr>
          <a:xfrm>
            <a:off x="4703040" y="1818000"/>
            <a:ext cx="64152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ó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8"/>
          <p:cNvSpPr/>
          <p:nvPr/>
        </p:nvSpPr>
        <p:spPr>
          <a:xfrm>
            <a:off x="2133720" y="2645640"/>
            <a:ext cx="71748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à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图片 2" descr=""/>
          <p:cNvPicPr/>
          <p:nvPr/>
        </p:nvPicPr>
        <p:blipFill>
          <a:blip r:embed="rId1"/>
          <a:stretch/>
        </p:blipFill>
        <p:spPr>
          <a:xfrm>
            <a:off x="3854160" y="2321280"/>
            <a:ext cx="5023440" cy="2537280"/>
          </a:xfrm>
          <a:prstGeom prst="rect">
            <a:avLst/>
          </a:prstGeom>
          <a:ln w="0">
            <a:noFill/>
          </a:ln>
          <a:effectLst>
            <a:softEdge rad="63504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3"/>
          <p:cNvSpPr/>
          <p:nvPr/>
        </p:nvSpPr>
        <p:spPr>
          <a:xfrm>
            <a:off x="225000" y="778680"/>
            <a:ext cx="1569960" cy="412920"/>
          </a:xfrm>
          <a:prstGeom prst="rect">
            <a:avLst/>
          </a:prstGeom>
          <a:noFill/>
          <a:ln w="9525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课文讲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071720" y="2234880"/>
            <a:ext cx="7132680" cy="17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三个层次：先谈生命的易逝；再谈生命的永久；最后联系现实生活，高唱生命的凯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三个层次，条理清晰，章法井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1176480" y="1438200"/>
            <a:ext cx="6923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通读课文，思考课文讲了哪几层意思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"/>
          <p:cNvSpPr/>
          <p:nvPr/>
        </p:nvSpPr>
        <p:spPr>
          <a:xfrm>
            <a:off x="1937160" y="778680"/>
            <a:ext cx="522540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整体感知　走进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3"/>
          <p:cNvSpPr/>
          <p:nvPr/>
        </p:nvSpPr>
        <p:spPr>
          <a:xfrm>
            <a:off x="225000" y="778680"/>
            <a:ext cx="1569960" cy="412920"/>
          </a:xfrm>
          <a:prstGeom prst="rect">
            <a:avLst/>
          </a:prstGeom>
          <a:noFill/>
          <a:ln w="9525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课文讲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1015560" y="2168280"/>
            <a:ext cx="728388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作者先是感悟到生命的易逝，一个人拥有的一切包括青春、健康甚至器官都可能失去，这是无可奈何的事情。作者又感悟到生命的永久，生命是生生不息的，个体的生命终将以新的形式永久存在。这些感悟看似矛盾，其实是不矛盾的。就个体而言，生命是脆弱的，易逝的；就生命的整体而言，它又是延绵不绝的，永久存在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1176480" y="1438200"/>
            <a:ext cx="6923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作者对生命有哪些感悟？这些感悟矛盾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3"/>
          <p:cNvSpPr/>
          <p:nvPr/>
        </p:nvSpPr>
        <p:spPr>
          <a:xfrm>
            <a:off x="225000" y="778680"/>
            <a:ext cx="1569960" cy="412920"/>
          </a:xfrm>
          <a:prstGeom prst="rect">
            <a:avLst/>
          </a:prstGeom>
          <a:noFill/>
          <a:ln w="9525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课文讲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838080" y="1860840"/>
            <a:ext cx="7369560" cy="25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种过树。我曾经移栽了一棵苦楝的树苗，是从附近的工厂里挖来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·····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将一只破碎的花盆和一抔泥土留在岸上，留给我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明确：苦楝树具有幼小无依的特点。（从“我没有树”，变成我有了自己的树。这棵树是有点可怜的。第一，是一棵没有什么可爱之处的幼小的苦楝；第二，它居然是栽在花盆里的，在这样土壤里，就是生长起来，也是可怜的。从这种可怜的抒写中，流露出作者的深意，也寄托了对人、对城市的调侃的意味。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1188360" y="1275120"/>
            <a:ext cx="6923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这三棵树有什么特点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?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结合文中语句分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2166</Words>
  <Paragraphs>8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1T03:05:00Z</dcterms:created>
  <dc:creator>第一PPT模板网-WWW.1PPT.COM</dc:creator>
  <dc:description/>
  <cp:keywords>第一PPT模板网-WWW.1PPT.COM</cp:keywords>
  <dc:language>en-US</dc:language>
  <cp:lastModifiedBy>123</cp:lastModifiedBy>
  <dcterms:modified xsi:type="dcterms:W3CDTF">2020-04-21T02:48:30Z</dcterms:modified>
  <cp:revision>43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9</vt:lpwstr>
  </property>
  <property fmtid="{D5CDD505-2E9C-101B-9397-08002B2CF9AE}" pid="3" name="Notes">
    <vt:r8>2</vt:r8>
  </property>
  <property fmtid="{D5CDD505-2E9C-101B-9397-08002B2CF9AE}" pid="4" name="PresentationFormat">
    <vt:lpwstr>全屏显示(16:9)</vt:lpwstr>
  </property>
  <property fmtid="{D5CDD505-2E9C-101B-9397-08002B2CF9AE}" pid="5" name="Slides">
    <vt:r8>17</vt:r8>
  </property>
</Properties>
</file>