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quickStyle3.xml" ContentType="application/vnd.openxmlformats-officedocument.drawingml.diagramStyle+xml"/>
  <Override PartName="/ppt/diagrams/colors2.xml" ContentType="application/vnd.openxmlformats-officedocument.drawingml.diagramColors+xml"/>
  <Override PartName="/ppt/diagrams/drawing3.xml" ContentType="application/vnd.ms-office.drawingml.diagramDrawing+xml"/>
  <Override PartName="/ppt/diagrams/colors3.xml" ContentType="application/vnd.openxmlformats-officedocument.drawingml.diagramColors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drawing2.xml" ContentType="application/vnd.ms-office.drawingml.diagramDrawing+xml"/>
  <Override PartName="/ppt/diagrams/_rels/drawing3.xml.rels" ContentType="application/vnd.openxmlformats-package.relationships+xml"/>
  <Override PartName="/ppt/diagrams/_rels/data1.xml.rels" ContentType="application/vnd.openxmlformats-package.relationships+xml"/>
  <Override PartName="/ppt/diagrams/_rels/drawing1.xml.rels" ContentType="application/vnd.openxmlformats-package.relationships+xml"/>
  <Override PartName="/ppt/diagrams/_rels/data3.xml.rels" ContentType="application/vnd.openxmlformats-package.relationships+xml"/>
  <Override PartName="/ppt/diagrams/data3.xml" ContentType="application/vnd.openxmlformats-officedocument.drawingml.diagramData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png" ContentType="image/png"/>
  <Override PartName="/ppt/media/image5.gif" ContentType="image/gif"/>
  <Override PartName="/ppt/media/image7.png" ContentType="image/png"/>
  <Override PartName="/ppt/media/OOXDiagramDrawingRels1_0.png" ContentType="image/png"/>
  <Override PartName="/ppt/media/image11.png" ContentType="image/png"/>
  <Override PartName="/ppt/media/image6.png" ContentType="image/png"/>
  <Override PartName="/ppt/media/image3.png" ContentType="image/png"/>
  <Override PartName="/ppt/media/OOXDiagramDataRels3_0.jpeg" ContentType="image/jpeg"/>
  <Override PartName="/ppt/media/image4.png" ContentType="image/png"/>
  <Override PartName="/ppt/media/image9.png" ContentType="image/png"/>
  <Override PartName="/ppt/media/OOXDiagramDataRels1_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OOXDiagramDrawingRels3_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2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_rels/data3.xml.rels><?xml version="1.0" encoding="UTF-8"?>
<Relationships xmlns="http://schemas.openxmlformats.org/package/2006/relationships"><Relationship Id="rId1" Type="http://schemas.openxmlformats.org/officeDocument/2006/relationships/image" Target="../media/OOXDiagramDataRels3_0.jpeg"/>
</Relationships>
</file>

<file path=ppt/diagrams/_rels/drawing1.xml.rels><?xml version="1.0" encoding="UTF-8"?>
<Relationships xmlns="http://schemas.openxmlformats.org/package/2006/relationships"><Relationship Id="rId1" Type="http://schemas.openxmlformats.org/officeDocument/2006/relationships/image" Target="../media/OOXDiagramDrawingRels1_0.png"/>
</Relationships>
</file>

<file path=ppt/diagrams/_rels/drawing3.xml.rels><?xml version="1.0" encoding="UTF-8"?>
<Relationships xmlns="http://schemas.openxmlformats.org/package/2006/relationships"><Relationship Id="rId1" Type="http://schemas.openxmlformats.org/officeDocument/2006/relationships/image" Target="../media/OOXDiagramDrawingRels3_0.jpe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5#2">
  <dgm:title val=""/>
  <dgm:desc val=""/>
  <dgm:catLst>
    <dgm:cat type="accent1" pri="11500"/>
  </dgm:catLst>
  <dgm:styleLbl name="align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>
      <a:schemeClr val="accent1">
        <a:alpha val="90000"/>
      </a:schemeClr>
      <a:schemeClr val="accent1">
        <a:alpha val="5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/>
    <dgm:txEffectClrLst/>
  </dgm:styleLbl>
  <dgm:styleLbl name="asst0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1">
        <a:alpha val="90000"/>
        <a:tint val="40000"/>
      </a:schemeClr>
      <a:schemeClr val="accent1">
        <a:alpha val="5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>
      <a:schemeClr val="accent1">
        <a:tint val="50000"/>
        <a:alpha val="90000"/>
      </a:schemeClr>
      <a:schemeClr val="accent1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lnNode1">
    <dgm:fillClrLst>
      <a:schemeClr val="accent1">
        <a:shade val="90000"/>
      </a:schemeClr>
      <a:schemeClr val="accent1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cycle"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1">
        <a:alpha val="90000"/>
      </a:schemeClr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vennNode1">
    <dgm:fillClrLst>
      <a:schemeClr val="accent1">
        <a:shade val="80000"/>
        <a:alpha val="50000"/>
      </a:schemeClr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1#2">
  <dgm:title val=""/>
  <dgm:desc val=""/>
  <dgm:catLst>
    <dgm:cat type="colorful" pri="10100"/>
  </dgm:catLst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colorful1#10">
  <dgm:title val=""/>
  <dgm:desc val=""/>
  <dgm:catLst>
    <dgm:cat type="colorful" pri="10100"/>
  </dgm:catLst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#1" loCatId="picture" qsTypeId="urn:microsoft.com/office/officeart/2005/8/quickstyle/simple1#4" qsCatId="simple" csTypeId="urn:microsoft.com/office/officeart/2005/8/colors/accent1_5#2" csCatId="accent1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anose="020B0503020204020204" pitchFamily="34" charset="-122"/>
              <a:ea typeface="微软雅黑" panose="020B0503020204020204" pitchFamily="34" charset="-122"/>
            </a:rPr>
            <a:t>学习目标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ADE8D93F-E9CE-4511-A3E2-DC94A5CA3E4A}" type="presOf" srcId="{1D354850-5A6F-408C-8D03-95F705CE2DA4}" destId="{8BA8033C-FE03-494A-8113-D96014B3BA13}" srcOrd="1" destOrd="0" presId="urn:microsoft.com/office/officeart/2005/8/layout/vList4#1"/>
    <dgm:cxn modelId="{D094B3D3-3D1F-49F2-89B1-9939BC203294}" type="presOf" srcId="{1D354850-5A6F-408C-8D03-95F705CE2DA4}" destId="{06B642A3-3B71-4D5F-A6CC-96439EB679BC}" srcOrd="0" destOrd="0" presId="urn:microsoft.com/office/officeart/2005/8/layout/vList4#1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CB89E036-4179-4791-89D5-8853CC4D6215}" type="presOf" srcId="{22465261-95D4-419E-BA20-A82485929D8A}" destId="{18C372C0-5AD8-4A38-89E9-D16097035E80}" srcOrd="0" destOrd="0" presId="urn:microsoft.com/office/officeart/2005/8/layout/vList4#1"/>
    <dgm:cxn modelId="{AA10D99A-78EC-45C1-BCD3-BF476FD6A6D7}" type="presParOf" srcId="{18C372C0-5AD8-4A38-89E9-D16097035E80}" destId="{2A5DA98F-18D3-413F-AB81-BA1660210363}" srcOrd="0" destOrd="0" presId="urn:microsoft.com/office/officeart/2005/8/layout/vList4#1"/>
    <dgm:cxn modelId="{7E864A29-A9B7-4E58-8611-F63D15CEAA8E}" type="presParOf" srcId="{2A5DA98F-18D3-413F-AB81-BA1660210363}" destId="{06B642A3-3B71-4D5F-A6CC-96439EB679BC}" srcOrd="0" destOrd="0" presId="urn:microsoft.com/office/officeart/2005/8/layout/vList4#1"/>
    <dgm:cxn modelId="{83CDEE65-F6BB-405D-9FEA-57D35809EE51}" type="presParOf" srcId="{2A5DA98F-18D3-413F-AB81-BA1660210363}" destId="{621F4572-E51B-4D27-AD34-5762F572D972}" srcOrd="1" destOrd="0" presId="urn:microsoft.com/office/officeart/2005/8/layout/vList4#1"/>
    <dgm:cxn modelId="{2F411E99-D9BC-4555-9E04-32D7030F01F7}" type="presParOf" srcId="{2A5DA98F-18D3-413F-AB81-BA1660210363}" destId="{8BA8033C-FE03-494A-8113-D96014B3BA13}" srcOrd="2" destOrd="0" presId="urn:microsoft.com/office/officeart/2005/8/layout/vList4#1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6D659973-5AD2-46D7-9F03-979CA3FA17B7}" type="doc">
      <dgm:prSet loTypeId="urn:microsoft.com/office/officeart/2009/3/layout/SubStepProcess#2" loCatId="process" qsTypeId="urn:microsoft.com/office/officeart/2005/8/quickstyle/simple1#5" qsCatId="simple" csTypeId="urn:microsoft.com/office/officeart/2005/8/colors/colorful1#2" csCatId="colorful"/>
      <dgm:spPr/>
      <dgm:t>
        <a:bodyPr/>
        <a:lstStyle/>
        <a:p>
          <a:endParaRPr lang="zh-CN" altLang="en-US"/>
        </a:p>
      </dgm:t>
    </dgm:pt>
    <dgm:pt modelId="{F6E77EC0-048E-430F-9E63-E60DDAC7D7CF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检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BAC73ADE-7D3A-4013-94AC-47CDFED12E2A}" type="parTrans" cxnId="{3761433A-1AEC-4551-8AC0-557E7D60F419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9CFC16E-FF43-42DB-B280-277FB1EDAD69}" type="sibTrans" cxnId="{3761433A-1AEC-4551-8AC0-557E7D60F419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4A96D211-95E7-419F-9B52-FFFBCD0939A1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查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E9B8413-5A45-4F58-84E1-0370C6415E0B}" type="parTrans" cxnId="{C37759E8-B4A7-4AB3-A744-3B687074750D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67C47EB-D78E-49FF-B5AF-EAB43B9DEBE3}" type="sibTrans" cxnId="{C37759E8-B4A7-4AB3-A744-3B687074750D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BBEE0FCB-E1B5-4FA6-B76E-867B3269EA60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自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65C35F60-EB42-42F0-9F30-1CCFA706C317}" type="parTrans" cxnId="{8C1DFC1D-D160-4BDB-8E3A-E5F9FF8D66C0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3198F13-A302-4CB1-B9EC-7E39B6B9E832}" type="sibTrans" cxnId="{8C1DFC1D-D160-4BDB-8E3A-E5F9FF8D66C0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7783993F-0D58-4F3D-8B13-33BD7E24BA1F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读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3508C65F-382F-4CDD-B421-CCF101B3862E}" type="parTrans" cxnId="{3B0499E5-3AE4-4FE9-931A-9DDCB2F52F2A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88C543A-50AB-4536-A262-983C9E095896}" type="sibTrans" cxnId="{3B0499E5-3AE4-4FE9-931A-9DDCB2F52F2A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4CE55A1B-6B0D-4E35-B34C-5DE968C1A0E6}">
      <dgm:prSet custT="1"/>
      <dgm:spPr/>
      <dgm:t>
        <a:bodyPr/>
        <a:lstStyle/>
        <a:p>
          <a:pPr rtl="0"/>
          <a:r>
            <a:rPr lang="zh-CN" altLang="en-US" sz="4000" b="0" i="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情</a:t>
          </a:r>
          <a:endParaRPr lang="zh-CN" altLang="en-US" sz="4000" b="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5F555257-0EE2-4E86-B0B8-F775D5E34EB9}" type="parTrans" cxnId="{9DC8EDB5-7644-43A8-B87C-5EF5C4B9376B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F7F2799A-3A03-428D-A8E8-133C243F1797}" type="sibTrans" cxnId="{9DC8EDB5-7644-43A8-B87C-5EF5C4B9376B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13EDB31B-A9DC-4389-A201-0A2312E3C883}">
      <dgm:prSet custT="1"/>
      <dgm:spPr/>
      <dgm:t>
        <a:bodyPr/>
        <a:lstStyle/>
        <a:p>
          <a:pPr rtl="0"/>
          <a:r>
            <a:rPr lang="zh-CN" altLang="en-US" sz="4000" b="0" i="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况</a:t>
          </a:r>
          <a:endParaRPr lang="zh-CN" altLang="en-US" sz="4000" b="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F87EF3AC-1D0E-4232-BE4F-527442232C64}" type="parTrans" cxnId="{7CF5E26A-F84F-4E30-BFEF-D19043A06D87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0233B772-15EC-418E-B932-7D3A08A3210F}" type="sibTrans" cxnId="{7CF5E26A-F84F-4E30-BFEF-D19043A06D87}">
      <dgm:prSet/>
      <dgm:spPr/>
      <dgm:t>
        <a:bodyPr/>
        <a:lstStyle/>
        <a:p>
          <a:endParaRPr lang="zh-CN" altLang="en-US" sz="40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gm:t>
    </dgm:pt>
    <dgm:pt modelId="{72855CE3-1ABE-40C2-98BA-BC9A4D16DFB1}" type="pres">
      <dgm:prSet presAssocID="{6D659973-5AD2-46D7-9F03-979CA3FA17B7}" presName="Name0" presStyleCnt="0">
        <dgm:presLayoutVars>
          <dgm:chMax val="7"/>
          <dgm:dir/>
          <dgm:animOne val="branch"/>
        </dgm:presLayoutVars>
      </dgm:prSet>
      <dgm:spPr/>
      <dgm:t>
        <a:bodyPr/>
        <a:lstStyle/>
        <a:p>
          <a:endParaRPr lang="zh-CN" altLang="en-US"/>
        </a:p>
      </dgm:t>
    </dgm:pt>
    <dgm:pt modelId="{AD3E94F9-C025-4EAC-BBA3-2ADB832FBA0E}" type="pres">
      <dgm:prSet presAssocID="{F6E77EC0-048E-430F-9E63-E60DDAC7D7CF}" presName="parTx1" presStyleLbl="node1" presStyleIdx="0" presStyleCnt="6"/>
      <dgm:spPr/>
      <dgm:t>
        <a:bodyPr/>
        <a:lstStyle/>
        <a:p>
          <a:endParaRPr lang="zh-CN" altLang="en-US"/>
        </a:p>
      </dgm:t>
    </dgm:pt>
    <dgm:pt modelId="{0AD29750-2EC0-4697-83DD-CB1FA58C2FD0}" type="pres">
      <dgm:prSet presAssocID="{4A96D211-95E7-419F-9B52-FFFBCD0939A1}" presName="parTx2" presStyleLbl="node1" presStyleIdx="1" presStyleCnt="6"/>
      <dgm:spPr/>
      <dgm:t>
        <a:bodyPr/>
        <a:lstStyle/>
        <a:p>
          <a:endParaRPr lang="zh-CN" altLang="en-US"/>
        </a:p>
      </dgm:t>
    </dgm:pt>
    <dgm:pt modelId="{DC5C58D7-9EE6-4316-828F-5BFD6CF76A3E}" type="pres">
      <dgm:prSet presAssocID="{BBEE0FCB-E1B5-4FA6-B76E-867B3269EA60}" presName="parTx3" presStyleLbl="node1" presStyleIdx="2" presStyleCnt="6"/>
      <dgm:spPr/>
      <dgm:t>
        <a:bodyPr/>
        <a:lstStyle/>
        <a:p>
          <a:endParaRPr lang="zh-CN" altLang="en-US"/>
        </a:p>
      </dgm:t>
    </dgm:pt>
    <dgm:pt modelId="{3E075571-8697-402F-BE6F-2A683D7B9FAD}" type="pres">
      <dgm:prSet presAssocID="{7783993F-0D58-4F3D-8B13-33BD7E24BA1F}" presName="parTx4" presStyleLbl="node1" presStyleIdx="3" presStyleCnt="6"/>
      <dgm:spPr/>
      <dgm:t>
        <a:bodyPr/>
        <a:lstStyle/>
        <a:p>
          <a:endParaRPr lang="zh-CN" altLang="en-US"/>
        </a:p>
      </dgm:t>
    </dgm:pt>
    <dgm:pt modelId="{5BC72908-51CC-4C59-A198-BFEC8DB29A06}" type="pres">
      <dgm:prSet presAssocID="{4CE55A1B-6B0D-4E35-B34C-5DE968C1A0E6}" presName="parTx5" presStyleLbl="node1" presStyleIdx="4" presStyleCnt="6"/>
      <dgm:spPr/>
      <dgm:t>
        <a:bodyPr/>
        <a:lstStyle/>
        <a:p>
          <a:endParaRPr lang="zh-CN" altLang="en-US"/>
        </a:p>
      </dgm:t>
    </dgm:pt>
    <dgm:pt modelId="{0DFDEEDF-BEE0-4238-B497-75D2DD0A1770}" type="pres">
      <dgm:prSet presAssocID="{13EDB31B-A9DC-4389-A201-0A2312E3C883}" presName="parTx6" presStyleLbl="node1" presStyleIdx="5" presStyleCnt="6"/>
      <dgm:spPr/>
      <dgm:t>
        <a:bodyPr/>
        <a:lstStyle/>
        <a:p>
          <a:endParaRPr lang="zh-CN" altLang="en-US"/>
        </a:p>
      </dgm:t>
    </dgm:pt>
  </dgm:ptLst>
  <dgm:cxnLst>
    <dgm:cxn modelId="{3761433A-1AEC-4551-8AC0-557E7D60F419}" srcId="{6D659973-5AD2-46D7-9F03-979CA3FA17B7}" destId="{F6E77EC0-048E-430F-9E63-E60DDAC7D7CF}" srcOrd="0" destOrd="0" parTransId="{BAC73ADE-7D3A-4013-94AC-47CDFED12E2A}" sibTransId="{19CFC16E-FF43-42DB-B280-277FB1EDAD69}"/>
    <dgm:cxn modelId="{0FC379BA-4856-4D12-8211-06C195762D01}" type="presOf" srcId="{F6E77EC0-048E-430F-9E63-E60DDAC7D7CF}" destId="{AD3E94F9-C025-4EAC-BBA3-2ADB832FBA0E}" srcOrd="0" destOrd="0" presId="urn:microsoft.com/office/officeart/2009/3/layout/SubStepProcess#2"/>
    <dgm:cxn modelId="{B45A7AF2-A98A-48DD-9C9D-B2F0D525A995}" type="presOf" srcId="{13EDB31B-A9DC-4389-A201-0A2312E3C883}" destId="{0DFDEEDF-BEE0-4238-B497-75D2DD0A1770}" srcOrd="0" destOrd="0" presId="urn:microsoft.com/office/officeart/2009/3/layout/SubStepProcess#2"/>
    <dgm:cxn modelId="{9DC8EDB5-7644-43A8-B87C-5EF5C4B9376B}" srcId="{6D659973-5AD2-46D7-9F03-979CA3FA17B7}" destId="{4CE55A1B-6B0D-4E35-B34C-5DE968C1A0E6}" srcOrd="4" destOrd="0" parTransId="{5F555257-0EE2-4E86-B0B8-F775D5E34EB9}" sibTransId="{F7F2799A-3A03-428D-A8E8-133C243F1797}"/>
    <dgm:cxn modelId="{8C1DFC1D-D160-4BDB-8E3A-E5F9FF8D66C0}" srcId="{6D659973-5AD2-46D7-9F03-979CA3FA17B7}" destId="{BBEE0FCB-E1B5-4FA6-B76E-867B3269EA60}" srcOrd="2" destOrd="0" parTransId="{65C35F60-EB42-42F0-9F30-1CCFA706C317}" sibTransId="{13198F13-A302-4CB1-B9EC-7E39B6B9E832}"/>
    <dgm:cxn modelId="{11244E73-7555-4C12-822C-116EE5D424A9}" type="presOf" srcId="{7783993F-0D58-4F3D-8B13-33BD7E24BA1F}" destId="{3E075571-8697-402F-BE6F-2A683D7B9FAD}" srcOrd="0" destOrd="0" presId="urn:microsoft.com/office/officeart/2009/3/layout/SubStepProcess#2"/>
    <dgm:cxn modelId="{A358DE26-67E1-45B8-B29D-514283DA666D}" type="presOf" srcId="{4A96D211-95E7-419F-9B52-FFFBCD0939A1}" destId="{0AD29750-2EC0-4697-83DD-CB1FA58C2FD0}" srcOrd="0" destOrd="0" presId="urn:microsoft.com/office/officeart/2009/3/layout/SubStepProcess#2"/>
    <dgm:cxn modelId="{7CF5E26A-F84F-4E30-BFEF-D19043A06D87}" srcId="{6D659973-5AD2-46D7-9F03-979CA3FA17B7}" destId="{13EDB31B-A9DC-4389-A201-0A2312E3C883}" srcOrd="5" destOrd="0" parTransId="{F87EF3AC-1D0E-4232-BE4F-527442232C64}" sibTransId="{0233B772-15EC-418E-B932-7D3A08A3210F}"/>
    <dgm:cxn modelId="{ECDD5673-B423-46C2-B9E2-B0B718E55FE8}" type="presOf" srcId="{4CE55A1B-6B0D-4E35-B34C-5DE968C1A0E6}" destId="{5BC72908-51CC-4C59-A198-BFEC8DB29A06}" srcOrd="0" destOrd="0" presId="urn:microsoft.com/office/officeart/2009/3/layout/SubStepProcess#2"/>
    <dgm:cxn modelId="{75A1A18D-0FCE-4E2B-AC9A-492FBF0DBC2E}" type="presOf" srcId="{BBEE0FCB-E1B5-4FA6-B76E-867B3269EA60}" destId="{DC5C58D7-9EE6-4316-828F-5BFD6CF76A3E}" srcOrd="0" destOrd="0" presId="urn:microsoft.com/office/officeart/2009/3/layout/SubStepProcess#2"/>
    <dgm:cxn modelId="{F37DF83B-2E25-449D-A265-34B9DB1F8472}" type="presOf" srcId="{6D659973-5AD2-46D7-9F03-979CA3FA17B7}" destId="{72855CE3-1ABE-40C2-98BA-BC9A4D16DFB1}" srcOrd="0" destOrd="0" presId="urn:microsoft.com/office/officeart/2009/3/layout/SubStepProcess#2"/>
    <dgm:cxn modelId="{3B0499E5-3AE4-4FE9-931A-9DDCB2F52F2A}" srcId="{6D659973-5AD2-46D7-9F03-979CA3FA17B7}" destId="{7783993F-0D58-4F3D-8B13-33BD7E24BA1F}" srcOrd="3" destOrd="0" parTransId="{3508C65F-382F-4CDD-B421-CCF101B3862E}" sibTransId="{188C543A-50AB-4536-A262-983C9E095896}"/>
    <dgm:cxn modelId="{C37759E8-B4A7-4AB3-A744-3B687074750D}" srcId="{6D659973-5AD2-46D7-9F03-979CA3FA17B7}" destId="{4A96D211-95E7-419F-9B52-FFFBCD0939A1}" srcOrd="1" destOrd="0" parTransId="{1E9B8413-5A45-4F58-84E1-0370C6415E0B}" sibTransId="{167C47EB-D78E-49FF-B5AF-EAB43B9DEBE3}"/>
    <dgm:cxn modelId="{66145EF9-8AEB-46F5-93B9-4A490D55492D}" type="presParOf" srcId="{72855CE3-1ABE-40C2-98BA-BC9A4D16DFB1}" destId="{AD3E94F9-C025-4EAC-BBA3-2ADB832FBA0E}" srcOrd="0" destOrd="0" presId="urn:microsoft.com/office/officeart/2009/3/layout/SubStepProcess#2"/>
    <dgm:cxn modelId="{04620CBA-3435-4454-B3CA-F5752F8E45FA}" type="presParOf" srcId="{72855CE3-1ABE-40C2-98BA-BC9A4D16DFB1}" destId="{0AD29750-2EC0-4697-83DD-CB1FA58C2FD0}" srcOrd="1" destOrd="0" presId="urn:microsoft.com/office/officeart/2009/3/layout/SubStepProcess#2"/>
    <dgm:cxn modelId="{AFEC2241-0E1F-413E-AB3E-B2BE1D57F4E1}" type="presParOf" srcId="{72855CE3-1ABE-40C2-98BA-BC9A4D16DFB1}" destId="{DC5C58D7-9EE6-4316-828F-5BFD6CF76A3E}" srcOrd="2" destOrd="0" presId="urn:microsoft.com/office/officeart/2009/3/layout/SubStepProcess#2"/>
    <dgm:cxn modelId="{7F6EC565-514C-4A66-BBD7-1893DA705E66}" type="presParOf" srcId="{72855CE3-1ABE-40C2-98BA-BC9A4D16DFB1}" destId="{3E075571-8697-402F-BE6F-2A683D7B9FAD}" srcOrd="3" destOrd="0" presId="urn:microsoft.com/office/officeart/2009/3/layout/SubStepProcess#2"/>
    <dgm:cxn modelId="{E388AF69-A47F-4149-BC42-F7C8BA9D0B45}" type="presParOf" srcId="{72855CE3-1ABE-40C2-98BA-BC9A4D16DFB1}" destId="{5BC72908-51CC-4C59-A198-BFEC8DB29A06}" srcOrd="4" destOrd="0" presId="urn:microsoft.com/office/officeart/2009/3/layout/SubStepProcess#2"/>
    <dgm:cxn modelId="{5559877C-F045-40D1-B837-B2978E0B4500}" type="presParOf" srcId="{72855CE3-1ABE-40C2-98BA-BC9A4D16DFB1}" destId="{0DFDEEDF-BEE0-4238-B497-75D2DD0A1770}" srcOrd="5" destOrd="0" presId="urn:microsoft.com/office/officeart/2009/3/layout/SubStepProcess#2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#2" loCatId="picture" qsTypeId="urn:microsoft.com/office/officeart/2005/8/quickstyle/simple1#6" qsCatId="simple" csTypeId="urn:microsoft.com/office/officeart/2005/8/colors/colorful1#10" csCatId="colorful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anose="020B0503020204020204" pitchFamily="34" charset="-122"/>
              <a:ea typeface="微软雅黑" panose="020B0503020204020204" pitchFamily="34" charset="-122"/>
            </a:rPr>
            <a:t>课堂小结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anose="020B0503020204020204" pitchFamily="34" charset="-122"/>
            <a:ea typeface="微软雅黑" panose="020B0503020204020204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3056545F-E3BD-40AD-9CD0-3CB1B398B05F}" type="presOf" srcId="{1D354850-5A6F-408C-8D03-95F705CE2DA4}" destId="{06B642A3-3B71-4D5F-A6CC-96439EB679BC}" srcOrd="0" destOrd="0" presId="urn:microsoft.com/office/officeart/2005/8/layout/vList4#2"/>
    <dgm:cxn modelId="{7003E2B7-A39D-4B5D-ADFA-D9F69C8F44BF}" type="presOf" srcId="{22465261-95D4-419E-BA20-A82485929D8A}" destId="{18C372C0-5AD8-4A38-89E9-D16097035E80}" srcOrd="0" destOrd="0" presId="urn:microsoft.com/office/officeart/2005/8/layout/vList4#2"/>
    <dgm:cxn modelId="{3B6E30C3-0D85-401C-9A2E-C951E846FA0A}" type="presOf" srcId="{1D354850-5A6F-408C-8D03-95F705CE2DA4}" destId="{8BA8033C-FE03-494A-8113-D96014B3BA13}" srcOrd="1" destOrd="0" presId="urn:microsoft.com/office/officeart/2005/8/layout/vList4#2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33B97857-0C58-4DA5-9C75-80E1F82BC26C}" type="presParOf" srcId="{18C372C0-5AD8-4A38-89E9-D16097035E80}" destId="{2A5DA98F-18D3-413F-AB81-BA1660210363}" srcOrd="0" destOrd="0" presId="urn:microsoft.com/office/officeart/2005/8/layout/vList4#2"/>
    <dgm:cxn modelId="{3E21CFE5-5C05-4B2B-93A9-B346130E222A}" type="presParOf" srcId="{2A5DA98F-18D3-413F-AB81-BA1660210363}" destId="{06B642A3-3B71-4D5F-A6CC-96439EB679BC}" srcOrd="0" destOrd="0" presId="urn:microsoft.com/office/officeart/2005/8/layout/vList4#2"/>
    <dgm:cxn modelId="{DB3932A8-4009-4091-973F-D717AFB6EC77}" type="presParOf" srcId="{2A5DA98F-18D3-413F-AB81-BA1660210363}" destId="{621F4572-E51B-4D27-AD34-5762F572D972}" srcOrd="1" destOrd="0" presId="urn:microsoft.com/office/officeart/2005/8/layout/vList4#2"/>
    <dgm:cxn modelId="{43909E87-F6FE-4E49-9EAE-8908F0D226D0}" type="presParOf" srcId="{2A5DA98F-18D3-413F-AB81-BA1660210363}" destId="{8BA8033C-FE03-494A-8113-D96014B3BA13}" srcOrd="2" destOrd="0" presId="urn:microsoft.com/office/officeart/2005/8/layout/vList4#2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anose="020B0503020204020204" pitchFamily="34" charset="-122"/>
              <a:ea typeface="微软雅黑" panose="020B0503020204020204" pitchFamily="34" charset="-122"/>
            </a:rPr>
            <a:t>学习目标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anose="020B0503020204020204" pitchFamily="34" charset="-122"/>
            <a:ea typeface="微软雅黑" panose="020B0503020204020204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AD3E94F9-C025-4EAC-BBA3-2ADB832FBA0E}">
      <dsp:nvSpPr>
        <dsp:cNvPr id="0" name=""/>
        <dsp:cNvSpPr/>
      </dsp:nvSpPr>
      <dsp:spPr>
        <a:xfrm>
          <a:off x="1781" y="197545"/>
          <a:ext cx="607570" cy="607570"/>
        </a:xfrm>
        <a:prstGeom prst="ellips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检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90758" y="286522"/>
        <a:ext cx="429616" cy="429616"/>
      </dsp:txXfrm>
    </dsp:sp>
    <dsp:sp modelId="{0AD29750-2EC0-4697-83DD-CB1FA58C2FD0}">
      <dsp:nvSpPr>
        <dsp:cNvPr id="0" name=""/>
        <dsp:cNvSpPr/>
      </dsp:nvSpPr>
      <dsp:spPr>
        <a:xfrm>
          <a:off x="609352" y="197545"/>
          <a:ext cx="607570" cy="607570"/>
        </a:xfrm>
        <a:prstGeom prst="ellipse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查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698329" y="286522"/>
        <a:ext cx="429616" cy="429616"/>
      </dsp:txXfrm>
    </dsp:sp>
    <dsp:sp modelId="{DC5C58D7-9EE6-4316-828F-5BFD6CF76A3E}">
      <dsp:nvSpPr>
        <dsp:cNvPr id="0" name=""/>
        <dsp:cNvSpPr/>
      </dsp:nvSpPr>
      <dsp:spPr>
        <a:xfrm>
          <a:off x="1216922" y="197545"/>
          <a:ext cx="607570" cy="607570"/>
        </a:xfrm>
        <a:prstGeom prst="ellipse">
          <a:avLst/>
        </a:prstGeom>
        <a:solidFill>
          <a:schemeClr val="accent4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自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1305899" y="286522"/>
        <a:ext cx="429616" cy="429616"/>
      </dsp:txXfrm>
    </dsp:sp>
    <dsp:sp modelId="{3E075571-8697-402F-BE6F-2A683D7B9FAD}">
      <dsp:nvSpPr>
        <dsp:cNvPr id="0" name=""/>
        <dsp:cNvSpPr/>
      </dsp:nvSpPr>
      <dsp:spPr>
        <a:xfrm>
          <a:off x="1824492" y="197545"/>
          <a:ext cx="607570" cy="607570"/>
        </a:xfrm>
        <a:prstGeom prst="ellipse">
          <a:avLst/>
        </a:prstGeom>
        <a:solidFill>
          <a:schemeClr val="accent5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读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1913469" y="286522"/>
        <a:ext cx="429616" cy="429616"/>
      </dsp:txXfrm>
    </dsp:sp>
    <dsp:sp modelId="{5BC72908-51CC-4C59-A198-BFEC8DB29A06}">
      <dsp:nvSpPr>
        <dsp:cNvPr id="0" name=""/>
        <dsp:cNvSpPr/>
      </dsp:nvSpPr>
      <dsp:spPr>
        <a:xfrm>
          <a:off x="2432063" y="197545"/>
          <a:ext cx="607570" cy="607570"/>
        </a:xfrm>
        <a:prstGeom prst="ellipse">
          <a:avLst/>
        </a:prstGeom>
        <a:solidFill>
          <a:schemeClr val="accent6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dirty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情</a:t>
          </a:r>
          <a:endParaRPr lang="zh-CN" altLang="en-US" sz="4000" b="0" kern="1200" cap="none" spc="0" dirty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2521040" y="286522"/>
        <a:ext cx="429616" cy="429616"/>
      </dsp:txXfrm>
    </dsp:sp>
    <dsp:sp modelId="{0DFDEEDF-BEE0-4238-B497-75D2DD0A1770}">
      <dsp:nvSpPr>
        <dsp:cNvPr id="0" name=""/>
        <dsp:cNvSpPr/>
      </dsp:nvSpPr>
      <dsp:spPr>
        <a:xfrm>
          <a:off x="3039633" y="197545"/>
          <a:ext cx="607570" cy="607570"/>
        </a:xfrm>
        <a:prstGeom prst="ellipse">
          <a:avLst/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17780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4000" b="0" i="0" kern="1200" cap="none" spc="0" baseline="0" smtClean="0">
              <a:ln w="18415" cmpd="sng">
                <a:prstDash val="solid"/>
              </a:ln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方正卡通简体" pitchFamily="65" charset="-122"/>
              <a:ea typeface="方正卡通简体" pitchFamily="65" charset="-122"/>
            </a:rPr>
            <a:t>况</a:t>
          </a:r>
          <a:endParaRPr lang="zh-CN" altLang="en-US" sz="4000" b="0" kern="1200" cap="none" spc="0">
            <a:ln w="18415" cmpd="sng">
              <a:prstDash val="solid"/>
            </a:ln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方正卡通简体" pitchFamily="65" charset="-122"/>
            <a:ea typeface="方正卡通简体" pitchFamily="65" charset="-122"/>
          </a:endParaRPr>
        </a:p>
      </dsp:txBody>
      <dsp:txXfrm>
        <a:off x="3128610" y="286522"/>
        <a:ext cx="429616" cy="429616"/>
      </dsp:txXfrm>
    </dsp:sp>
  </dsp:spTree>
</dsp:drawing>
</file>

<file path=ppt/diagrams/drawing3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anose="020B0503020204020204" pitchFamily="34" charset="-122"/>
              <a:ea typeface="微软雅黑" panose="020B0503020204020204" pitchFamily="34" charset="-122"/>
            </a:rPr>
            <a:t>课堂小结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anose="020B0503020204020204" pitchFamily="34" charset="-122"/>
            <a:ea typeface="微软雅黑" panose="020B0503020204020204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4#1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9/3/layout/SubStepProcess#2">
  <dgm:title val=""/>
  <dgm:desc val=""/>
  <dgm:catLst>
    <dgm:cat type="process" pri="1225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3">
          <dgm:prSet phldr="1"/>
        </dgm:pt>
      </dgm:ptLst>
      <dgm:cxnLst>
        <dgm:cxn modelId="6" srcId="0" destId="1" srcOrd="0" destOrd="0"/>
        <dgm:cxn modelId="61" srcId="1" destId="11" srcOrd="0" destOrd="0"/>
        <dgm:cxn modelId="62" srcId="1" destId="12" srcOrd="1" destOrd="0"/>
        <dgm:cxn modelId="7" srcId="0" destId="2" srcOrd="0" destOrd="0"/>
        <dgm:cxn modelId="8" srcId="0" destId="3" srcOrd="0" destOrd="0"/>
      </dgm:cxnLst>
      <dgm:bg/>
      <dgm:whole/>
    </dgm:dataModel>
  </dgm:sampData>
  <dgm:style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</dgm:ptLst>
      <dgm:cxnLst>
        <dgm:cxn modelId="4" srcId="0" destId="1" srcOrd="0" destOrd="0"/>
        <dgm:cxn modelId="41" srcId="1" destId="11" srcOrd="0" destOrd="0"/>
        <dgm:cxn modelId="42" srcId="1" destId="12" srcOrd="1" destOrd="0"/>
        <dgm:cxn modelId="5" srcId="0" destId="2" srcOrd="0" destOrd="0"/>
      </dgm:cxnLst>
      <dgm:bg/>
      <dgm:whole/>
    </dgm:dataModel>
  </dgm:styleData>
  <dgm:clr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8" srcId="0" destId="1" srcOrd="0" destOrd="0"/>
        <dgm:cxn modelId="81" srcId="1" destId="11" srcOrd="0" destOrd="0"/>
        <dgm:cxn modelId="82" srcId="1" destId="12" srcOrd="1" destOrd="0"/>
        <dgm:cxn modelId="9" srcId="0" destId="2" srcOrd="0" destOrd="0"/>
        <dgm:cxn modelId="10" srcId="0" destId="3" srcOrd="0" destOrd="0"/>
        <dgm:cxn modelId="11" srcId="0" destId="4" srcOrd="0" destOrd="0"/>
      </dgm:cxnLst>
      <dgm:bg/>
      <dgm:whole/>
    </dgm:dataModel>
  </dgm:clrData>
  <dgm:layoutNode name="Name0">
    <dgm:varLst>
      <dgm:chMax val="7"/>
      <dgm:dir/>
      <dgm:animOne val="branch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parTx1" refType="w"/>
      <dgm:constr type="w" for="ch" forName="chLin1" refType="w" refFor="ch" refForName="parTx1" fact="1.38"/>
      <dgm:constr type="h" for="ch" forName="chLin1" refType="h"/>
      <dgm:constr type="w" for="ch" forName="spPre1" refType="w" fact="0.27"/>
      <dgm:constr type="w" for="ch" forName="spPost1" refType="w" fact="0.27"/>
      <dgm:constr type="h" for="ch" forName="spPre1" refType="h"/>
      <dgm:constr type="h" for="ch" forName="spPost1" refType="h"/>
      <dgm:constr type="primFontSz" for="ch" forName="parTx1" val="65"/>
      <dgm:constr type="primFontSz" for="des" forName="desTx1" refType="primFontSz" refFor="ch" refForName="parTx1" fact="0.78"/>
      <dgm:constr type="primFontSz" for="des" forName="desTx1" op="equ"/>
      <dgm:constr type="w" for="ch" forName="parTx2" refType="w"/>
      <dgm:constr type="w" for="ch" forName="chLin2" refType="w" refFor="ch" refForName="parTx2" fact="1.38"/>
      <dgm:constr type="h" for="ch" forName="chLin2" refType="h"/>
      <dgm:constr type="w" for="ch" forName="spPre2" refType="w" fact="0.54"/>
      <dgm:constr type="w" for="ch" forName="spPost2" refType="w" fact="0.54"/>
      <dgm:constr type="h" for="ch" forName="spPre2" refType="h"/>
      <dgm:constr type="h" for="ch" forName="spPost2" refType="h"/>
      <dgm:constr type="primFontSz" for="ch" forName="parTx2" refType="primFontSz" refFor="ch" refForName="parTx1" op="equ"/>
      <dgm:constr type="primFontSz" for="des" forName="desTx2" refType="primFontSz" refFor="des" refForName="desTx1" op="equ"/>
      <dgm:constr type="w" for="ch" forName="parTx3" refType="w"/>
      <dgm:constr type="w" for="ch" forName="chLin3" refType="w" refFor="ch" refForName="parTx3" fact="1.38"/>
      <dgm:constr type="h" for="ch" forName="chLin3" refType="h"/>
      <dgm:constr type="w" for="ch" forName="spPre3" refType="w" fact="0.54"/>
      <dgm:constr type="w" for="ch" forName="spPost3" refType="w" fact="0.54"/>
      <dgm:constr type="h" for="ch" forName="spPre3" refType="h"/>
      <dgm:constr type="h" for="ch" forName="spPost3" refType="h"/>
      <dgm:constr type="primFontSz" for="ch" forName="parTx3" refType="primFontSz" refFor="ch" refForName="parTx1" op="equ"/>
      <dgm:constr type="primFontSz" for="des" forName="desTx3" refType="primFontSz" refFor="des" refForName="desTx1" op="equ"/>
      <dgm:constr type="w" for="ch" forName="parTx4" refType="w"/>
      <dgm:constr type="w" for="ch" forName="chLin4" refType="w" refFor="ch" refForName="parTx4" fact="1.38"/>
      <dgm:constr type="h" for="ch" forName="chLin4" refType="h"/>
      <dgm:constr type="w" for="ch" forName="spPre4" refType="w" fact="0.54"/>
      <dgm:constr type="w" for="ch" forName="spPost4" refType="w" fact="0.54"/>
      <dgm:constr type="h" for="ch" forName="spPre4" refType="h"/>
      <dgm:constr type="h" for="ch" forName="spPost4" refType="h"/>
      <dgm:constr type="primFontSz" for="ch" forName="parTx4" refType="primFontSz" refFor="ch" refForName="parTx1" op="equ"/>
      <dgm:constr type="primFontSz" for="des" forName="desTx4" refType="primFontSz" refFor="des" refForName="desTx1" op="equ"/>
      <dgm:constr type="w" for="ch" forName="parTx5" refType="w"/>
      <dgm:constr type="w" for="ch" forName="chLin5" refType="w" refFor="ch" refForName="parTx5" fact="1.38"/>
      <dgm:constr type="h" for="ch" forName="chLin5" refType="h"/>
      <dgm:constr type="w" for="ch" forName="spPre5" refType="w" fact="0.54"/>
      <dgm:constr type="w" for="ch" forName="spPost5" refType="w" fact="0.54"/>
      <dgm:constr type="h" for="ch" forName="spPre5" refType="h"/>
      <dgm:constr type="h" for="ch" forName="spPost5" refType="h"/>
      <dgm:constr type="primFontSz" for="ch" forName="parTx5" refType="primFontSz" refFor="ch" refForName="parTx1" op="equ"/>
      <dgm:constr type="primFontSz" for="des" forName="desTx5" refType="primFontSz" refFor="des" refForName="desTx1" op="equ"/>
      <dgm:constr type="w" for="ch" forName="parTx6" refType="w"/>
      <dgm:constr type="w" for="ch" forName="chLin6" refType="w" refFor="ch" refForName="parTx6" fact="1.38"/>
      <dgm:constr type="h" for="ch" forName="chLin6" refType="h"/>
      <dgm:constr type="w" for="ch" forName="spPre6" refType="w" fact="0.54"/>
      <dgm:constr type="w" for="ch" forName="spPost6" refType="w" fact="0.54"/>
      <dgm:constr type="h" for="ch" forName="spPre6" refType="h"/>
      <dgm:constr type="h" for="ch" forName="spPost6" refType="h"/>
      <dgm:constr type="primFontSz" for="ch" forName="parTx6" refType="primFontSz" refFor="ch" refForName="parTx1" op="equ"/>
      <dgm:constr type="primFontSz" for="des" forName="desTx6" refType="primFontSz" refFor="des" refForName="desTx1" op="equ"/>
      <dgm:constr type="w" for="ch" forName="parTx7" refType="w"/>
      <dgm:constr type="w" for="ch" forName="chLin7" refType="w" refFor="ch" refForName="parTx7" fact="1.38"/>
      <dgm:constr type="h" for="ch" forName="chLin7" refType="h"/>
      <dgm:constr type="w" for="ch" forName="spPre7" refType="w" fact="0.54"/>
      <dgm:constr type="w" for="ch" forName="spPost7" refType="w" fact="0.54"/>
      <dgm:constr type="h" for="ch" forName="spPre7" refType="h"/>
      <dgm:constr type="h" for="ch" forName="spPost7" refType="h"/>
      <dgm:constr type="primFontSz" for="ch" forName="parTx7" refType="primFontSz" refFor="ch" refForName="parTx1" op="equ"/>
      <dgm:constr type="primFontSz" for="des" forName="desTx7" refType="primFontSz" refFor="des" refForName="desTx1" op="equ"/>
    </dgm:constrLst>
    <dgm:forEach name="Name4" axis="ch" ptType="node">
      <dgm:choose name="Name5">
        <dgm:if name="Name6" axis="self" ptType="node" func="pos" op="equ" val="1">
          <dgm:layoutNode name="parTx1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7">
            <dgm:if name="Name8" axis="ch" ptType="node" func="cnt" op="gte" val="1">
              <dgm:layoutNode name="spPre1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1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1" refType="w" fact="0.77"/>
                  <dgm:constr type="w" for="ch" forName="top1" refType="w" refFor="ch" refForName="txAndLines1" fact="0.78"/>
                </dgm:constrLst>
                <dgm:forEach name="Name9" axis="ch">
                  <dgm:forEach name="Name10" axis="self" ptType="parTrans">
                    <dgm:layoutNode name="Name11" styleLbl="parChTrans1D1">
                      <dgm:choose name="Name12">
                        <dgm:if name="Name13" func="var" arg="dir" op="equ" val="norm">
                          <dgm:alg type="conn">
                            <dgm:param type="dstNode" val="anchor1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4">
                          <dgm:alg type="conn">
                            <dgm:param type="srcNode" val="parTx1"/>
                            <dgm:param type="dstNode" val="anchor1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5" axis="self" ptType="node">
                    <dgm:choose name="Name16">
                      <dgm:if name="Name17" axis="par ch" ptType="node node" func="cnt" op="equ" val="1">
                        <dgm:layoutNode name="top1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8"/>
                    </dgm:choose>
                    <dgm:layoutNode name="txAndLines1">
                      <dgm:choose name="Name19">
                        <dgm:if name="Name20" func="var" arg="dir" op="equ" val="norm">
                          <dgm:alg type="lin"/>
                        </dgm:if>
                        <dgm:else name="Name21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22">
                        <dgm:if name="Name23" axis="root ch" ptType="all node" func="cnt" op="gte" val="2">
                          <dgm:constrLst>
                            <dgm:constr type="w" for="ch" forName="anchor1" refType="w"/>
                            <dgm:constr type="w" for="ch" forName="backup1" refType="w" fact="-1"/>
                            <dgm:constr type="w" for="ch" forName="preLine1" refType="w" fact="0.11"/>
                            <dgm:constr type="w" for="ch" forName="desTx1" refType="w" fact="0.78"/>
                            <dgm:constr type="w" for="ch" forName="postLine1" refType="w" fact="0.11"/>
                          </dgm:constrLst>
                        </dgm:if>
                        <dgm:else name="Name24">
                          <dgm:constrLst>
                            <dgm:constr type="w" for="ch" forName="anchor1" refType="w" fact="0.89"/>
                            <dgm:constr type="w" for="ch" forName="backup1" refType="w" fact="-0.89"/>
                            <dgm:constr type="w" for="ch" forName="preLine1" refType="w" fact="0.11"/>
                            <dgm:constr type="w" for="ch" forName="desTx1" refType="w" fact="0.78"/>
                          </dgm:constrLst>
                        </dgm:else>
                      </dgm:choose>
                      <dgm:layoutNode name="anchor1" moveWith="desTx1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1" moveWith="desTx1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1" styleLbl="parChTrans1D1" moveWith="desTx1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1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25">
                        <dgm:if name="Name26" axis="root ch" ptType="all node" func="cnt" op="gte" val="2">
                          <dgm:layoutNode name="postLine1" styleLbl="parChTrans1D1" moveWith="desTx1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27"/>
                      </dgm:choose>
                    </dgm:layoutNode>
                  </dgm:forEach>
                  <dgm:choose name="Name28">
                    <dgm:if name="Name29" axis="root ch" ptType="all node" func="cnt" op="gte" val="2">
                      <dgm:forEach name="Name30" axis="self" ptType="parTrans">
                        <dgm:layoutNode name="Name31" styleLbl="parChTrans1D1">
                          <dgm:choose name="Name32">
                            <dgm:if name="Name33" func="var" arg="dir" op="equ" val="norm">
                              <dgm:alg type="conn">
                                <dgm:param type="srcNode" val="parTx2"/>
                                <dgm:param type="dstNode" val="anchor1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34">
                              <dgm:alg type="conn">
                                <dgm:param type="srcNode" val="parTx2"/>
                                <dgm:param type="dstNode" val="anchor1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35"/>
                  </dgm:choose>
                </dgm:forEach>
              </dgm:layoutNode>
              <dgm:choose name="Name36">
                <dgm:if name="Name37" axis="root ch" ptType="all node" func="cnt" op="gte" val="2">
                  <dgm:layoutNode name="spPost1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38"/>
              </dgm:choose>
            </dgm:if>
            <dgm:else name="Name39"/>
          </dgm:choose>
        </dgm:if>
        <dgm:if name="Name40" axis="self" ptType="node" func="pos" op="equ" val="2">
          <dgm:layoutNode name="parTx2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41">
            <dgm:if name="Name42" axis="ch" ptType="node" func="cnt" op="gte" val="1">
              <dgm:layoutNode name="spPre2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2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2" refType="w" fact="0.77"/>
                  <dgm:constr type="w" for="ch" forName="top2" refType="w" refFor="ch" refForName="txAndLines2" fact="0.78"/>
                </dgm:constrLst>
                <dgm:forEach name="Name43" axis="ch">
                  <dgm:forEach name="Name44" axis="self" ptType="parTrans">
                    <dgm:layoutNode name="Name45" styleLbl="parChTrans1D1">
                      <dgm:choose name="Name46">
                        <dgm:if name="Name47" func="var" arg="dir" op="equ" val="norm">
                          <dgm:alg type="conn">
                            <dgm:param type="dstNode" val="anchor2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48">
                          <dgm:alg type="conn">
                            <dgm:param type="srcNode" val="parTx2"/>
                            <dgm:param type="dstNode" val="anchor2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49" axis="self" ptType="node">
                    <dgm:choose name="Name50">
                      <dgm:if name="Name51" axis="par ch" ptType="node node" func="cnt" op="equ" val="1">
                        <dgm:layoutNode name="top2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52"/>
                    </dgm:choose>
                    <dgm:layoutNode name="txAndLines2">
                      <dgm:choose name="Name53">
                        <dgm:if name="Name54" func="var" arg="dir" op="equ" val="norm">
                          <dgm:alg type="lin"/>
                        </dgm:if>
                        <dgm:else name="Name55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56">
                        <dgm:if name="Name57" axis="root ch" ptType="all node" func="cnt" op="gte" val="3">
                          <dgm:constrLst>
                            <dgm:constr type="w" for="ch" forName="anchor2" refType="w"/>
                            <dgm:constr type="w" for="ch" forName="backup2" refType="w" fact="-1"/>
                            <dgm:constr type="w" for="ch" forName="preLine2" refType="w" fact="0.11"/>
                            <dgm:constr type="w" for="ch" forName="desTx2" refType="w" fact="0.78"/>
                            <dgm:constr type="w" for="ch" forName="postLine2" refType="w" fact="0.11"/>
                          </dgm:constrLst>
                        </dgm:if>
                        <dgm:else name="Name58">
                          <dgm:constrLst>
                            <dgm:constr type="w" for="ch" forName="anchor2" refType="w" fact="0.89"/>
                            <dgm:constr type="w" for="ch" forName="backup2" refType="w" fact="-0.89"/>
                            <dgm:constr type="w" for="ch" forName="preLine2" refType="w" fact="0.11"/>
                            <dgm:constr type="w" for="ch" forName="desTx2" refType="w" fact="0.78"/>
                          </dgm:constrLst>
                        </dgm:else>
                      </dgm:choose>
                      <dgm:layoutNode name="anchor2" moveWith="desTx2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2" moveWith="desTx2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2" styleLbl="parChTrans1D1" moveWith="desTx2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2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59">
                        <dgm:if name="Name60" axis="root ch" ptType="all node" func="cnt" op="gte" val="3">
                          <dgm:layoutNode name="postLine2" styleLbl="parChTrans1D1" moveWith="desTx2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61"/>
                      </dgm:choose>
                    </dgm:layoutNode>
                  </dgm:forEach>
                  <dgm:choose name="Name62">
                    <dgm:if name="Name63" axis="root ch" ptType="all node" func="cnt" op="gte" val="3">
                      <dgm:forEach name="Name64" axis="self" ptType="parTrans">
                        <dgm:layoutNode name="Name65" styleLbl="parChTrans1D1">
                          <dgm:choose name="Name66">
                            <dgm:if name="Name67" func="var" arg="dir" op="equ" val="norm">
                              <dgm:alg type="conn">
                                <dgm:param type="srcNode" val="parTx3"/>
                                <dgm:param type="dstNode" val="anchor2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68">
                              <dgm:alg type="conn">
                                <dgm:param type="srcNode" val="parTx3"/>
                                <dgm:param type="dstNode" val="anchor2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69"/>
                  </dgm:choose>
                </dgm:forEach>
              </dgm:layoutNode>
              <dgm:choose name="Name70">
                <dgm:if name="Name71" axis="root ch" ptType="all node" func="cnt" op="gte" val="3">
                  <dgm:layoutNode name="spPost2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72"/>
              </dgm:choose>
            </dgm:if>
            <dgm:else name="Name73"/>
          </dgm:choose>
        </dgm:if>
        <dgm:if name="Name74" axis="self" ptType="node" func="pos" op="equ" val="3">
          <dgm:layoutNode name="parTx3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75">
            <dgm:if name="Name76" axis="ch" ptType="node" func="cnt" op="gte" val="1">
              <dgm:layoutNode name="spPre3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3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3" refType="w" fact="0.77"/>
                  <dgm:constr type="w" for="ch" forName="top3" refType="w" refFor="ch" refForName="txAndLines3" fact="0.78"/>
                </dgm:constrLst>
                <dgm:forEach name="Name77" axis="ch">
                  <dgm:forEach name="Name78" axis="self" ptType="parTrans">
                    <dgm:layoutNode name="Name79" styleLbl="parChTrans1D1">
                      <dgm:choose name="Name80">
                        <dgm:if name="Name81" func="var" arg="dir" op="equ" val="norm">
                          <dgm:alg type="conn">
                            <dgm:param type="dstNode" val="anchor3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82">
                          <dgm:alg type="conn">
                            <dgm:param type="srcNode" val="parTx3"/>
                            <dgm:param type="dstNode" val="anchor3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83" axis="self" ptType="node">
                    <dgm:choose name="Name84">
                      <dgm:if name="Name85" axis="par ch" ptType="node node" func="cnt" op="equ" val="1">
                        <dgm:layoutNode name="top3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86"/>
                    </dgm:choose>
                    <dgm:layoutNode name="txAndLines3">
                      <dgm:choose name="Name87">
                        <dgm:if name="Name88" func="var" arg="dir" op="equ" val="norm">
                          <dgm:alg type="lin"/>
                        </dgm:if>
                        <dgm:else name="Name89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90">
                        <dgm:if name="Name91" axis="root ch" ptType="all node" func="cnt" op="gte" val="4">
                          <dgm:constrLst>
                            <dgm:constr type="w" for="ch" forName="anchor3" refType="w"/>
                            <dgm:constr type="w" for="ch" forName="backup3" refType="w" fact="-1"/>
                            <dgm:constr type="w" for="ch" forName="preLine3" refType="w" fact="0.11"/>
                            <dgm:constr type="w" for="ch" forName="desTx3" refType="w" fact="0.78"/>
                            <dgm:constr type="w" for="ch" forName="postLine3" refType="w" fact="0.11"/>
                          </dgm:constrLst>
                        </dgm:if>
                        <dgm:else name="Name92">
                          <dgm:constrLst>
                            <dgm:constr type="w" for="ch" forName="anchor3" refType="w" fact="0.89"/>
                            <dgm:constr type="w" for="ch" forName="backup3" refType="w" fact="-0.89"/>
                            <dgm:constr type="w" for="ch" forName="preLine3" refType="w" fact="0.11"/>
                            <dgm:constr type="w" for="ch" forName="desTx3" refType="w" fact="0.78"/>
                          </dgm:constrLst>
                        </dgm:else>
                      </dgm:choose>
                      <dgm:layoutNode name="anchor3" moveWith="desTx3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3" moveWith="desTx3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3" styleLbl="parChTrans1D1" moveWith="desTx3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3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93">
                        <dgm:if name="Name94" axis="root ch" ptType="all node" func="cnt" op="gte" val="4">
                          <dgm:layoutNode name="postLine3" styleLbl="parChTrans1D1" moveWith="desTx3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95"/>
                      </dgm:choose>
                    </dgm:layoutNode>
                  </dgm:forEach>
                  <dgm:choose name="Name96">
                    <dgm:if name="Name97" axis="root ch" ptType="all node" func="cnt" op="gte" val="4">
                      <dgm:forEach name="Name98" axis="self" ptType="parTrans">
                        <dgm:layoutNode name="Name99" styleLbl="parChTrans1D1">
                          <dgm:choose name="Name100">
                            <dgm:if name="Name101" func="var" arg="dir" op="equ" val="norm">
                              <dgm:alg type="conn">
                                <dgm:param type="srcNode" val="parTx4"/>
                                <dgm:param type="dstNode" val="anchor3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02">
                              <dgm:alg type="conn">
                                <dgm:param type="srcNode" val="parTx4"/>
                                <dgm:param type="dstNode" val="anchor3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03"/>
                  </dgm:choose>
                </dgm:forEach>
              </dgm:layoutNode>
              <dgm:choose name="Name104">
                <dgm:if name="Name105" axis="root ch" ptType="all node" func="cnt" op="gte" val="4">
                  <dgm:layoutNode name="spPost3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06"/>
              </dgm:choose>
            </dgm:if>
            <dgm:else name="Name107"/>
          </dgm:choose>
        </dgm:if>
        <dgm:if name="Name108" axis="self" ptType="node" func="pos" op="equ" val="4">
          <dgm:layoutNode name="parTx4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09">
            <dgm:if name="Name110" axis="ch" ptType="node" func="cnt" op="gte" val="1">
              <dgm:layoutNode name="spPre4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4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4" refType="w" fact="0.77"/>
                  <dgm:constr type="w" for="ch" forName="top4" refType="w" refFor="ch" refForName="txAndLines4" fact="0.78"/>
                </dgm:constrLst>
                <dgm:forEach name="Name111" axis="ch">
                  <dgm:forEach name="Name112" axis="self" ptType="parTrans">
                    <dgm:layoutNode name="Name113" styleLbl="parChTrans1D1">
                      <dgm:choose name="Name114">
                        <dgm:if name="Name115" func="var" arg="dir" op="equ" val="norm">
                          <dgm:alg type="conn">
                            <dgm:param type="dstNode" val="anchor4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16">
                          <dgm:alg type="conn">
                            <dgm:param type="srcNode" val="parTx4"/>
                            <dgm:param type="dstNode" val="anchor4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17" axis="self" ptType="node">
                    <dgm:choose name="Name118">
                      <dgm:if name="Name119" axis="par ch" ptType="node node" func="cnt" op="equ" val="1">
                        <dgm:layoutNode name="top4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20"/>
                    </dgm:choose>
                    <dgm:layoutNode name="txAndLines4">
                      <dgm:choose name="Name121">
                        <dgm:if name="Name122" func="var" arg="dir" op="equ" val="norm">
                          <dgm:alg type="lin"/>
                        </dgm:if>
                        <dgm:else name="Name123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24">
                        <dgm:if name="Name125" axis="root ch" ptType="all node" func="cnt" op="gte" val="5">
                          <dgm:constrLst>
                            <dgm:constr type="w" for="ch" forName="anchor4" refType="w"/>
                            <dgm:constr type="w" for="ch" forName="backup4" refType="w" fact="-1"/>
                            <dgm:constr type="w" for="ch" forName="preLine4" refType="w" fact="0.11"/>
                            <dgm:constr type="w" for="ch" forName="desTx4" refType="w" fact="0.78"/>
                            <dgm:constr type="w" for="ch" forName="postLine4" refType="w" fact="0.11"/>
                          </dgm:constrLst>
                        </dgm:if>
                        <dgm:else name="Name126">
                          <dgm:constrLst>
                            <dgm:constr type="w" for="ch" forName="anchor4" refType="w" fact="0.89"/>
                            <dgm:constr type="w" for="ch" forName="backup4" refType="w" fact="-0.89"/>
                            <dgm:constr type="w" for="ch" forName="preLine4" refType="w" fact="0.11"/>
                            <dgm:constr type="w" for="ch" forName="desTx4" refType="w" fact="0.78"/>
                          </dgm:constrLst>
                        </dgm:else>
                      </dgm:choose>
                      <dgm:layoutNode name="anchor4" moveWith="desTx4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4" moveWith="desTx4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4" styleLbl="parChTrans1D1" moveWith="desTx4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4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27">
                        <dgm:if name="Name128" axis="root ch" ptType="all node" func="cnt" op="gte" val="5">
                          <dgm:layoutNode name="postLine4" styleLbl="parChTrans1D1" moveWith="desTx4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29"/>
                      </dgm:choose>
                    </dgm:layoutNode>
                  </dgm:forEach>
                  <dgm:choose name="Name130">
                    <dgm:if name="Name131" axis="root ch" ptType="all node" func="cnt" op="gte" val="5">
                      <dgm:forEach name="Name132" axis="self" ptType="parTrans">
                        <dgm:layoutNode name="Name133" styleLbl="parChTrans1D1">
                          <dgm:choose name="Name134">
                            <dgm:if name="Name135" func="var" arg="dir" op="equ" val="norm">
                              <dgm:alg type="conn">
                                <dgm:param type="srcNode" val="parTx5"/>
                                <dgm:param type="dstNode" val="anchor4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36">
                              <dgm:alg type="conn">
                                <dgm:param type="srcNode" val="parTx5"/>
                                <dgm:param type="dstNode" val="anchor4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37"/>
                  </dgm:choose>
                </dgm:forEach>
              </dgm:layoutNode>
              <dgm:choose name="Name138">
                <dgm:if name="Name139" axis="root ch" ptType="all node" func="cnt" op="gte" val="5">
                  <dgm:layoutNode name="spPost4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40"/>
              </dgm:choose>
            </dgm:if>
            <dgm:else name="Name141"/>
          </dgm:choose>
        </dgm:if>
        <dgm:if name="Name142" axis="self" ptType="node" func="pos" op="equ" val="5">
          <dgm:layoutNode name="parTx5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43">
            <dgm:if name="Name144" axis="ch" ptType="node" func="cnt" op="gte" val="1">
              <dgm:layoutNode name="spPre5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5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5" refType="w" fact="0.77"/>
                  <dgm:constr type="w" for="ch" forName="top5" refType="w" refFor="ch" refForName="txAndLines5" fact="0.78"/>
                </dgm:constrLst>
                <dgm:forEach name="Name145" axis="ch">
                  <dgm:forEach name="Name146" axis="self" ptType="parTrans">
                    <dgm:layoutNode name="Name147" styleLbl="parChTrans1D1">
                      <dgm:choose name="Name148">
                        <dgm:if name="Name149" func="var" arg="dir" op="equ" val="norm">
                          <dgm:alg type="conn">
                            <dgm:param type="dstNode" val="anchor5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50">
                          <dgm:alg type="conn">
                            <dgm:param type="srcNode" val="parTx5"/>
                            <dgm:param type="dstNode" val="anchor5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51" axis="self" ptType="node">
                    <dgm:choose name="Name152">
                      <dgm:if name="Name153" axis="par ch" ptType="node node" func="cnt" op="equ" val="1">
                        <dgm:layoutNode name="top5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54"/>
                    </dgm:choose>
                    <dgm:layoutNode name="txAndLines5">
                      <dgm:choose name="Name155">
                        <dgm:if name="Name156" func="var" arg="dir" op="equ" val="norm">
                          <dgm:alg type="lin"/>
                        </dgm:if>
                        <dgm:else name="Name157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58">
                        <dgm:if name="Name159" axis="root ch" ptType="all node" func="cnt" op="gte" val="6">
                          <dgm:constrLst>
                            <dgm:constr type="w" for="ch" forName="anchor5" refType="w"/>
                            <dgm:constr type="w" for="ch" forName="backup5" refType="w" fact="-1"/>
                            <dgm:constr type="w" for="ch" forName="preLine5" refType="w" fact="0.11"/>
                            <dgm:constr type="w" for="ch" forName="desTx5" refType="w" fact="0.78"/>
                            <dgm:constr type="w" for="ch" forName="postLine5" refType="w" fact="0.11"/>
                          </dgm:constrLst>
                        </dgm:if>
                        <dgm:else name="Name160">
                          <dgm:constrLst>
                            <dgm:constr type="w" for="ch" forName="anchor5" refType="w" fact="0.89"/>
                            <dgm:constr type="w" for="ch" forName="backup5" refType="w" fact="-0.89"/>
                            <dgm:constr type="w" for="ch" forName="preLine5" refType="w" fact="0.11"/>
                            <dgm:constr type="w" for="ch" forName="desTx5" refType="w" fact="0.78"/>
                          </dgm:constrLst>
                        </dgm:else>
                      </dgm:choose>
                      <dgm:layoutNode name="anchor5" moveWith="desTx5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5" moveWith="desTx5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5" styleLbl="parChTrans1D1" moveWith="desTx5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5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61">
                        <dgm:if name="Name162" axis="root ch" ptType="all node" func="cnt" op="gte" val="6">
                          <dgm:layoutNode name="postLine5" styleLbl="parChTrans1D1" moveWith="desTx5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63"/>
                      </dgm:choose>
                    </dgm:layoutNode>
                  </dgm:forEach>
                  <dgm:choose name="Name164">
                    <dgm:if name="Name165" axis="root ch" ptType="all node" func="cnt" op="gte" val="6">
                      <dgm:forEach name="Name166" axis="self" ptType="parTrans">
                        <dgm:layoutNode name="Name167" styleLbl="parChTrans1D1">
                          <dgm:choose name="Name168">
                            <dgm:if name="Name169" func="var" arg="dir" op="equ" val="norm">
                              <dgm:alg type="conn">
                                <dgm:param type="srcNode" val="parTx6"/>
                                <dgm:param type="dstNode" val="anchor5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170">
                              <dgm:alg type="conn">
                                <dgm:param type="srcNode" val="parTx6"/>
                                <dgm:param type="dstNode" val="anchor5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171"/>
                  </dgm:choose>
                </dgm:forEach>
              </dgm:layoutNode>
              <dgm:choose name="Name172">
                <dgm:if name="Name173" axis="root ch" ptType="all node" func="cnt" op="gte" val="6">
                  <dgm:layoutNode name="spPost5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174"/>
              </dgm:choose>
            </dgm:if>
            <dgm:else name="Name175"/>
          </dgm:choose>
        </dgm:if>
        <dgm:if name="Name176" axis="self" ptType="node" func="pos" op="equ" val="6">
          <dgm:layoutNode name="parTx6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177">
            <dgm:if name="Name178" axis="ch" ptType="node" func="cnt" op="gte" val="1">
              <dgm:layoutNode name="spPre6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6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6" refType="w" fact="0.77"/>
                  <dgm:constr type="w" for="ch" forName="top6" refType="w" refFor="ch" refForName="txAndLines6" fact="0.78"/>
                </dgm:constrLst>
                <dgm:forEach name="Name179" axis="ch">
                  <dgm:forEach name="Name180" axis="self" ptType="parTrans">
                    <dgm:layoutNode name="Name181" styleLbl="parChTrans1D1">
                      <dgm:choose name="Name182">
                        <dgm:if name="Name183" func="var" arg="dir" op="equ" val="norm">
                          <dgm:alg type="conn">
                            <dgm:param type="dstNode" val="anchor6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184">
                          <dgm:alg type="conn">
                            <dgm:param type="srcNode" val="parTx6"/>
                            <dgm:param type="dstNode" val="anchor6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185" axis="self" ptType="node">
                    <dgm:choose name="Name186">
                      <dgm:if name="Name187" axis="par ch" ptType="node node" func="cnt" op="equ" val="1">
                        <dgm:layoutNode name="top6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188"/>
                    </dgm:choose>
                    <dgm:layoutNode name="txAndLines6">
                      <dgm:choose name="Name189">
                        <dgm:if name="Name190" func="var" arg="dir" op="equ" val="norm">
                          <dgm:alg type="lin"/>
                        </dgm:if>
                        <dgm:else name="Name191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hoose name="Name192">
                        <dgm:if name="Name193" axis="root ch" ptType="all node" func="cnt" op="gte" val="7">
                          <dgm:constrLst>
                            <dgm:constr type="w" for="ch" forName="anchor6" refType="w"/>
                            <dgm:constr type="w" for="ch" forName="backup6" refType="w" fact="-1"/>
                            <dgm:constr type="w" for="ch" forName="preLine6" refType="w" fact="0.11"/>
                            <dgm:constr type="w" for="ch" forName="desTx6" refType="w" fact="0.78"/>
                            <dgm:constr type="w" for="ch" forName="postLine6" refType="w" fact="0.11"/>
                          </dgm:constrLst>
                        </dgm:if>
                        <dgm:else name="Name194">
                          <dgm:constrLst>
                            <dgm:constr type="w" for="ch" forName="anchor6" refType="w" fact="0.89"/>
                            <dgm:constr type="w" for="ch" forName="backup6" refType="w" fact="-0.89"/>
                            <dgm:constr type="w" for="ch" forName="preLine6" refType="w" fact="0.11"/>
                            <dgm:constr type="w" for="ch" forName="desTx6" refType="w" fact="0.78"/>
                          </dgm:constrLst>
                        </dgm:else>
                      </dgm:choose>
                      <dgm:layoutNode name="anchor6" moveWith="desTx6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6" moveWith="desTx6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6" styleLbl="parChTrans1D1" moveWith="desTx6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6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  <dgm:choose name="Name195">
                        <dgm:if name="Name196" axis="root ch" ptType="all node" func="cnt" op="gte" val="7">
                          <dgm:layoutNode name="postLine6" styleLbl="parChTrans1D1" moveWith="desTx6">
                            <dgm:alg type="sp"/>
                            <dgm:shape xmlns:r="http://schemas.openxmlformats.org/officeDocument/2006/relationships" type="line" r:blip="">
                              <dgm:adjLst/>
                            </dgm:shape>
                            <dgm:presOf/>
                          </dgm:layoutNode>
                        </dgm:if>
                        <dgm:else name="Name197"/>
                      </dgm:choose>
                    </dgm:layoutNode>
                  </dgm:forEach>
                  <dgm:choose name="Name198">
                    <dgm:if name="Name199" axis="root ch" ptType="all node" func="cnt" op="gte" val="7">
                      <dgm:forEach name="Name200" axis="self" ptType="parTrans">
                        <dgm:layoutNode name="Name201" styleLbl="parChTrans1D1">
                          <dgm:choose name="Name202">
                            <dgm:if name="Name203" func="var" arg="dir" op="equ" val="norm">
                              <dgm:alg type="conn">
                                <dgm:param type="srcNode" val="parTx7"/>
                                <dgm:param type="dstNode" val="anchor6"/>
                                <dgm:param type="dim" val="1D"/>
                                <dgm:param type="endSty" val="noArr"/>
                                <dgm:param type="begPts" val="midL"/>
                              </dgm:alg>
                            </dgm:if>
                            <dgm:else name="Name204">
                              <dgm:alg type="conn">
                                <dgm:param type="srcNode" val="parTx7"/>
                                <dgm:param type="dstNode" val="anchor6"/>
                                <dgm:param type="dim" val="1D"/>
                                <dgm:param type="endSty" val="noArr"/>
                                <dgm:param type="begPts" val="midR"/>
                              </dgm:alg>
                            </dgm:else>
                          </dgm:choose>
                          <dgm:shape xmlns:r="http://schemas.openxmlformats.org/officeDocument/2006/relationships" type="conn" r:blip="">
                            <dgm:adjLst/>
                          </dgm:shape>
                          <dgm:presOf/>
                          <dgm:constrLst>
                            <dgm:constr type="connDist"/>
                            <dgm:constr type="begPad" refType="connDist" fact="0.11"/>
                            <dgm:constr type="endPad"/>
                          </dgm:constrLst>
                        </dgm:layoutNode>
                      </dgm:forEach>
                    </dgm:if>
                    <dgm:else name="Name205"/>
                  </dgm:choose>
                </dgm:forEach>
              </dgm:layoutNode>
              <dgm:choose name="Name206">
                <dgm:if name="Name207" axis="root ch" ptType="all node" func="cnt" op="gte" val="7">
                  <dgm:layoutNode name="spPost6">
                    <dgm:alg type="sp"/>
                    <dgm:shape xmlns:r="http://schemas.openxmlformats.org/officeDocument/2006/relationships" r:blip="">
                      <dgm:adjLst/>
                    </dgm:shape>
                  </dgm:layoutNode>
                </dgm:if>
                <dgm:else name="Name208"/>
              </dgm:choose>
            </dgm:if>
            <dgm:else name="Name209"/>
          </dgm:choose>
        </dgm:if>
        <dgm:if name="Name210" axis="self" ptType="node" func="pos" op="equ" val="7">
          <dgm:layoutNode name="parTx7" styleLbl="node1">
            <dgm:alg type="tx"/>
            <dgm:shape xmlns:r="http://schemas.openxmlformats.org/officeDocument/2006/relationships" type="ellipse" r:blip="">
              <dgm:adjLst/>
            </dgm:shape>
            <dgm:presOf axis="self" ptType="node"/>
            <dgm:constrLst>
              <dgm:constr type="h" refType="w"/>
              <dgm:constr type="w" refType="h" op="lte"/>
              <dgm:constr type="tMarg"/>
              <dgm:constr type="bMarg"/>
              <dgm:constr type="lMarg"/>
              <dgm:constr type="rMarg"/>
            </dgm:constrLst>
            <dgm:ruleLst>
              <dgm:rule type="primFontSz" val="5" fact="NaN" max="NaN"/>
            </dgm:ruleLst>
          </dgm:layoutNode>
          <dgm:choose name="Name211">
            <dgm:if name="Name212" axis="ch" ptType="node" func="cnt" op="gte" val="1">
              <dgm:layoutNode name="spPre7">
                <dgm:alg type="sp"/>
                <dgm:shape xmlns:r="http://schemas.openxmlformats.org/officeDocument/2006/relationships" r:blip="">
                  <dgm:adjLst/>
                </dgm:shape>
              </dgm:layoutNode>
              <dgm:layoutNode name="chLin7">
                <dgm:alg type="lin">
                  <dgm:param type="linDir" val="fromT"/>
                </dgm:alg>
                <dgm:shape xmlns:r="http://schemas.openxmlformats.org/officeDocument/2006/relationships" r:blip="">
                  <dgm:adjLst/>
                </dgm:shape>
                <dgm:presOf/>
                <dgm:constrLst>
                  <dgm:constr type="w" for="ch" forName="txAndLines7" refType="w" fact="0.77"/>
                  <dgm:constr type="w" for="ch" forName="top7" refType="w" refFor="ch" refForName="txAndLines7" fact="0.78"/>
                </dgm:constrLst>
                <dgm:forEach name="Name213" axis="ch">
                  <dgm:forEach name="Name214" axis="self" ptType="parTrans">
                    <dgm:layoutNode name="Name215" styleLbl="parChTrans1D1">
                      <dgm:choose name="Name216">
                        <dgm:if name="Name217" func="var" arg="dir" op="equ" val="norm">
                          <dgm:alg type="conn">
                            <dgm:param type="dstNode" val="anchor7"/>
                            <dgm:param type="dim" val="1D"/>
                            <dgm:param type="endSty" val="noArr"/>
                            <dgm:param type="begPts" val="midR"/>
                          </dgm:alg>
                        </dgm:if>
                        <dgm:else name="Name218">
                          <dgm:alg type="conn">
                            <dgm:param type="srcNode" val="parTx7"/>
                            <dgm:param type="dstNode" val="anchor7"/>
                            <dgm:param type="dim" val="1D"/>
                            <dgm:param type="endSty" val="noArr"/>
                            <dgm:param type="begPts" val="midL"/>
                          </dgm:alg>
                        </dgm:else>
                      </dgm:choose>
                      <dgm:shape xmlns:r="http://schemas.openxmlformats.org/officeDocument/2006/relationships" type="conn" r:blip="">
                        <dgm:adjLst/>
                      </dgm:shape>
                      <dgm:presOf/>
                      <dgm:constrLst>
                        <dgm:constr type="connDist"/>
                        <dgm:constr type="begPad" refType="connDist" fact="0.11"/>
                        <dgm:constr type="endPad"/>
                      </dgm:constrLst>
                    </dgm:layoutNode>
                  </dgm:forEach>
                  <dgm:forEach name="Name219" axis="self" ptType="node">
                    <dgm:choose name="Name220">
                      <dgm:if name="Name221" axis="par ch" ptType="node node" func="cnt" op="equ" val="1">
                        <dgm:layoutNode name="top7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constrLst>
                            <dgm:constr type="h" refType="w" fact="0.6"/>
                          </dgm:constrLst>
                        </dgm:layoutNode>
                      </dgm:if>
                      <dgm:else name="Name222"/>
                    </dgm:choose>
                    <dgm:layoutNode name="txAndLines7">
                      <dgm:choose name="Name223">
                        <dgm:if name="Name224" func="var" arg="dir" op="equ" val="norm">
                          <dgm:alg type="lin"/>
                        </dgm:if>
                        <dgm:else name="Name225">
                          <dgm:alg type="lin">
                            <dgm:param type="linDir" val="fromR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>
                        <dgm:constr type="w" for="ch" forName="anchor7" refType="w" fact="0.89"/>
                        <dgm:constr type="w" for="ch" forName="backup7" refType="w" fact="-0.89"/>
                        <dgm:constr type="w" for="ch" forName="preLine7" refType="w" fact="0.11"/>
                        <dgm:constr type="w" for="ch" forName="desTx7" refType="w" fact="0.78"/>
                      </dgm:constrLst>
                      <dgm:layoutNode name="anchor7" moveWith="desTx7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backup7" moveWith="desTx7">
                        <dgm:alg type="sp"/>
                        <dgm:shape xmlns:r="http://schemas.openxmlformats.org/officeDocument/2006/relationships" r:blip="">
                          <dgm:adjLst/>
                        </dgm:shape>
                      </dgm:layoutNode>
                      <dgm:layoutNode name="preLine7" styleLbl="parChTrans1D1" moveWith="desTx7">
                        <dgm:alg type="sp"/>
                        <dgm:shape xmlns:r="http://schemas.openxmlformats.org/officeDocument/2006/relationships" type="line" r:blip="">
                          <dgm:adjLst/>
                        </dgm:shape>
                        <dgm:presOf/>
                      </dgm:layoutNode>
                      <dgm:layoutNode name="desTx7" styleLbl="revTx">
                        <dgm:varLst>
                          <dgm:bulletEnabled val="1"/>
                        </dgm:varLst>
                        <dgm:alg type="tx"/>
                        <dgm:shape xmlns:r="http://schemas.openxmlformats.org/officeDocument/2006/relationships" type="rect" r:blip="" hideGeom="1">
                          <dgm:adjLst/>
                        </dgm:shape>
                        <dgm:presOf axis="desOrSelf" ptType="node"/>
                        <dgm:constrLst>
                          <dgm:constr type="h" refType="w" fact="0.6"/>
                        </dgm:constrLst>
                        <dgm:ruleLst>
                          <dgm:rule type="primFontSz" val="5" fact="NaN" max="NaN"/>
                        </dgm:ruleLst>
                      </dgm:layoutNode>
                    </dgm:layoutNode>
                  </dgm:forEach>
                </dgm:forEach>
              </dgm:layoutNode>
            </dgm:if>
            <dgm:else name="Name226"/>
          </dgm:choose>
        </dgm:if>
        <dgm:else name="Name227"/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vList4#2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#4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#5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#6">
  <dgm:title val=""/>
  <dgm:desc val=""/>
  <dgm:catLst>
    <dgm:cat type="simple" pri="10100"/>
  </dgm:catLst>
  <dgm:scene3d>
    <a:camera prst="orthographicFront"/>
    <a:lightRig rig="threePt" dir="t"/>
  </dgm:scene3d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29D598-1AA0-4DDE-AF3A-81C8D326E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4DA442-7296-4D63-8276-4145B228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E03ABB-306E-40CE-A73B-AAA41914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5B6E6B-8649-4325-8B1E-7E5CFFE0E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A5149C6-C0BB-486B-B5CA-97BF7F2D0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DF02-E107-4605-A642-1718591E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B42-9844-4471-B2F3-DC729F2E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B4E-F91F-4F50-AA37-AEBFC0EB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DEF-7E79-431A-A80C-5A1D6525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345-845F-4721-A0E1-970C781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C312-F32E-4F9B-B0DE-5EED2B5F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1FF-976B-4CAB-A7BC-4752C707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1F3F-6EB5-4701-8DCD-819DB410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9D26-C81A-4742-A8AD-55B87246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596-4498-4500-8577-59C36894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D2E-0403-4EC8-ABAB-D19F2D7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44D-09F3-4AC6-8D1F-63DD83C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53000" cy="64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3263760" y="6458040"/>
            <a:ext cx="5879880" cy="399600"/>
          </a:xfrm>
          <a:prstGeom prst="rect">
            <a:avLst/>
          </a:prstGeom>
          <a:solidFill>
            <a:srgbClr val="ff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2" name="矩形 6"/>
          <p:cNvSpPr/>
          <p:nvPr/>
        </p:nvSpPr>
        <p:spPr>
          <a:xfrm>
            <a:off x="0" y="6458040"/>
            <a:ext cx="6587640" cy="399600"/>
          </a:xfrm>
          <a:prstGeom prst="rect">
            <a:avLst/>
          </a:prstGeom>
          <a:solidFill>
            <a:srgbClr val="43bbe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lIns="86400" rIns="86400" tIns="43200" bIns="432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000" spc="-1" strike="noStrike">
                <a:solidFill>
                  <a:srgbClr val="716f7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079308A-4F46-4E72-9853-322E9970BD42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"/>
          <p:cNvSpPr/>
          <p:nvPr/>
        </p:nvSpPr>
        <p:spPr>
          <a:xfrm>
            <a:off x="0" y="0"/>
            <a:ext cx="9153000" cy="6479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3263760" y="6458040"/>
            <a:ext cx="5879880" cy="399600"/>
          </a:xfrm>
          <a:prstGeom prst="rect">
            <a:avLst/>
          </a:prstGeom>
          <a:solidFill>
            <a:srgbClr val="ffcc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0" y="6458040"/>
            <a:ext cx="6587640" cy="399600"/>
          </a:xfrm>
          <a:prstGeom prst="rect">
            <a:avLst/>
          </a:prstGeom>
          <a:solidFill>
            <a:srgbClr val="43bbe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ctr">
            <a:noAutofit/>
          </a:bodyPr>
          <a:p>
            <a:pPr algn="ctr">
              <a:lnSpc>
                <a:spcPct val="100000"/>
              </a:lnSpc>
            </a:pPr>
            <a:endParaRPr b="0" lang="en-US" sz="17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716f70"/>
                </a:solidFill>
                <a:latin typeface="Franklin Gothic Medium"/>
              </a:rPr>
              <a:t>Click to edit the outline text format</a:t>
            </a:r>
            <a:endParaRPr b="0" lang="en-US" sz="2200" spc="-1" strike="noStrike">
              <a:solidFill>
                <a:srgbClr val="716f70"/>
              </a:solidFill>
              <a:latin typeface="Franklin Gothic Medium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Secon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Third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716f70"/>
                </a:solidFill>
                <a:latin typeface="Franklin Gothic Medium"/>
              </a:rPr>
              <a:t>Fourth Outline Level</a:t>
            </a:r>
            <a:endParaRPr b="0" lang="en-US" sz="1700" spc="-1" strike="noStrike">
              <a:solidFill>
                <a:srgbClr val="716f70"/>
              </a:solidFill>
              <a:latin typeface="Franklin Gothic Medium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716f7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716f7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microsoft.com/office/2007/relationships/diagramDrawing" Target="../diagrams/drawing3.xm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2" descr=""/>
          <p:cNvPicPr/>
          <p:nvPr/>
        </p:nvPicPr>
        <p:blipFill>
          <a:blip r:embed="rId1"/>
          <a:stretch/>
        </p:blipFill>
        <p:spPr>
          <a:xfrm>
            <a:off x="2407680" y="1724760"/>
            <a:ext cx="4289760" cy="30304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grpSp>
        <p:nvGrpSpPr>
          <p:cNvPr id="92" name="组合 13336"/>
          <p:cNvGrpSpPr/>
          <p:nvPr/>
        </p:nvGrpSpPr>
        <p:grpSpPr>
          <a:xfrm>
            <a:off x="2384280" y="2033640"/>
            <a:ext cx="4257720" cy="2468160"/>
            <a:chOff x="2384280" y="2033640"/>
            <a:chExt cx="4257720" cy="2468160"/>
          </a:xfrm>
        </p:grpSpPr>
        <p:sp>
          <p:nvSpPr>
            <p:cNvPr id="93" name="矩形 42"/>
            <p:cNvSpPr/>
            <p:nvPr/>
          </p:nvSpPr>
          <p:spPr>
            <a:xfrm>
              <a:off x="2397240" y="2033640"/>
              <a:ext cx="4244760" cy="2468160"/>
            </a:xfrm>
            <a:prstGeom prst="rect">
              <a:avLst/>
            </a:prstGeom>
            <a:solidFill>
              <a:schemeClr val="bg1">
                <a:alpha val="33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rgbClr val="ffffff"/>
                </a:solidFill>
                <a:latin typeface="Franklin Gothic Medium"/>
                <a:ea typeface="微软雅黑"/>
              </a:endParaRPr>
            </a:p>
          </p:txBody>
        </p:sp>
        <p:sp>
          <p:nvSpPr>
            <p:cNvPr id="94" name="矩形 47"/>
            <p:cNvSpPr/>
            <p:nvPr/>
          </p:nvSpPr>
          <p:spPr>
            <a:xfrm>
              <a:off x="2384280" y="2149920"/>
              <a:ext cx="4257360" cy="1369800"/>
            </a:xfrm>
            <a:prstGeom prst="rect">
              <a:avLst/>
            </a:prstGeom>
            <a:solidFill>
              <a:schemeClr val="bg1">
                <a:alpha val="2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60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咏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[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清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]</a:t>
              </a:r>
              <a:r>
                <a:rPr b="1" lang="zh-CN" sz="24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高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圆角矩形 66"/>
          <p:cNvSpPr/>
          <p:nvPr/>
        </p:nvSpPr>
        <p:spPr>
          <a:xfrm>
            <a:off x="939960" y="1476360"/>
            <a:ext cx="722592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>
            <a:solidFill>
              <a:srgbClr val="539f36"/>
            </a:solidFill>
            <a:round/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Franklin Gothic Medium"/>
              <a:ea typeface="微软雅黑"/>
            </a:endParaRPr>
          </a:p>
        </p:txBody>
      </p:sp>
      <p:pic>
        <p:nvPicPr>
          <p:cNvPr id="96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200" cy="36324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3338"/>
          <p:cNvGrpSpPr/>
          <p:nvPr/>
        </p:nvGrpSpPr>
        <p:grpSpPr>
          <a:xfrm>
            <a:off x="2247840" y="482760"/>
            <a:ext cx="5962320" cy="1180800"/>
            <a:chOff x="2247840" y="482760"/>
            <a:chExt cx="5962320" cy="1180800"/>
          </a:xfrm>
        </p:grpSpPr>
        <p:sp>
          <p:nvSpPr>
            <p:cNvPr id="98" name="Text Box 2"/>
            <p:cNvSpPr/>
            <p:nvPr/>
          </p:nvSpPr>
          <p:spPr>
            <a:xfrm>
              <a:off x="2448720" y="588960"/>
              <a:ext cx="576144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两首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组合 13337"/>
            <p:cNvGrpSpPr/>
            <p:nvPr/>
          </p:nvGrpSpPr>
          <p:grpSpPr>
            <a:xfrm>
              <a:off x="2247840" y="482760"/>
              <a:ext cx="1180440" cy="1180800"/>
              <a:chOff x="2247840" y="482760"/>
              <a:chExt cx="1180440" cy="1180800"/>
            </a:xfrm>
          </p:grpSpPr>
          <p:sp>
            <p:nvSpPr>
              <p:cNvPr id="100" name="AutoShape 11"/>
              <p:cNvSpPr/>
              <p:nvPr/>
            </p:nvSpPr>
            <p:spPr>
              <a:xfrm>
                <a:off x="2247840" y="482760"/>
                <a:ext cx="1180440" cy="1180800"/>
              </a:xfrm>
              <a:prstGeom prst="diamond">
                <a:avLst/>
              </a:prstGeom>
              <a:solidFill>
                <a:srgbClr val="236b2a"/>
              </a:solidFill>
              <a:ln w="38100">
                <a:solidFill>
                  <a:srgbClr val="ffffff"/>
                </a:solidFill>
                <a:miter/>
              </a:ln>
              <a:effectLst>
                <a:outerShdw rotWithShape="0" sy="5000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ff"/>
                  </a:solidFill>
                  <a:latin typeface="Calibri"/>
                  <a:ea typeface="Gulim"/>
                </a:endParaRPr>
              </a:p>
            </p:txBody>
          </p:sp>
          <p:sp>
            <p:nvSpPr>
              <p:cNvPr id="101" name="文本框 13"/>
              <p:cNvSpPr/>
              <p:nvPr/>
            </p:nvSpPr>
            <p:spPr>
              <a:xfrm>
                <a:off x="2538720" y="615240"/>
                <a:ext cx="59256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54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组合 1"/>
          <p:cNvGrpSpPr/>
          <p:nvPr/>
        </p:nvGrpSpPr>
        <p:grpSpPr>
          <a:xfrm>
            <a:off x="1512720" y="4883400"/>
            <a:ext cx="6460920" cy="804240"/>
            <a:chOff x="1512720" y="4883400"/>
            <a:chExt cx="6460920" cy="804240"/>
          </a:xfrm>
        </p:grpSpPr>
        <p:sp>
          <p:nvSpPr>
            <p:cNvPr id="103" name="任意多边形 21"/>
            <p:cNvSpPr/>
            <p:nvPr/>
          </p:nvSpPr>
          <p:spPr>
            <a:xfrm>
              <a:off x="1512720" y="489636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c0504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hueOff val="0"/>
                <a:satOff val="0"/>
                <a:lumOff val="0"/>
                <a:alphaOff val="0"/>
              </a:schemeClr>
            </a:fillRef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助读资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任意多边形 22"/>
            <p:cNvSpPr/>
            <p:nvPr/>
          </p:nvSpPr>
          <p:spPr>
            <a:xfrm>
              <a:off x="2612880" y="489636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字词精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23"/>
            <p:cNvSpPr/>
            <p:nvPr/>
          </p:nvSpPr>
          <p:spPr>
            <a:xfrm>
              <a:off x="4812840" y="489636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000000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品读释疑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任意多边形 25"/>
            <p:cNvSpPr/>
            <p:nvPr/>
          </p:nvSpPr>
          <p:spPr>
            <a:xfrm>
              <a:off x="3713040" y="489636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初读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任意多边形 34"/>
            <p:cNvSpPr/>
            <p:nvPr/>
          </p:nvSpPr>
          <p:spPr>
            <a:xfrm>
              <a:off x="5913000" y="489636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ff996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构主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流程图: 摘录 35"/>
            <p:cNvSpPr/>
            <p:nvPr/>
          </p:nvSpPr>
          <p:spPr>
            <a:xfrm rot="5400000">
              <a:off x="2448360" y="5197680"/>
              <a:ext cx="190080" cy="1900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c0504d"/>
              </a:solidFill>
              <a:round/>
            </a:ln>
          </p:spPr>
          <p:style>
            <a:lnRef idx="2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流程图: 摘录 36"/>
            <p:cNvSpPr/>
            <p:nvPr/>
          </p:nvSpPr>
          <p:spPr>
            <a:xfrm rot="5400000">
              <a:off x="3548520" y="5197680"/>
              <a:ext cx="190080" cy="1900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accent3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流程图: 摘录 37"/>
            <p:cNvSpPr/>
            <p:nvPr/>
          </p:nvSpPr>
          <p:spPr>
            <a:xfrm rot="5400000">
              <a:off x="4648680" y="5197680"/>
              <a:ext cx="190080" cy="1900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1f497d">
                  <a:lumMod val="60000"/>
                  <a:lumOff val="40000"/>
                </a:srgbClr>
              </a:solidFill>
              <a:round/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流程图: 摘录 38"/>
            <p:cNvSpPr/>
            <p:nvPr/>
          </p:nvSpPr>
          <p:spPr>
            <a:xfrm rot="5400000">
              <a:off x="5748840" y="5197680"/>
              <a:ext cx="190080" cy="1900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000000"/>
              </a:solidFill>
              <a:round/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39"/>
            <p:cNvSpPr/>
            <p:nvPr/>
          </p:nvSpPr>
          <p:spPr>
            <a:xfrm>
              <a:off x="7012800" y="4883400"/>
              <a:ext cx="960840" cy="791280"/>
            </a:xfrm>
            <a:custGeom>
              <a:avLst/>
              <a:gdLst>
                <a:gd name="textAreaLeft" fmla="*/ 0 w 960840"/>
                <a:gd name="textAreaRight" fmla="*/ 961200 w 96084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accent5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10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流程图: 摘录 40"/>
            <p:cNvSpPr/>
            <p:nvPr/>
          </p:nvSpPr>
          <p:spPr>
            <a:xfrm rot="5400000">
              <a:off x="6849000" y="5197680"/>
              <a:ext cx="190080" cy="1900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ae4845">
                  <a:lumMod val="75000"/>
                </a:srgbClr>
              </a:solidFill>
              <a:round/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矩形 26"/>
          <p:cNvSpPr/>
          <p:nvPr/>
        </p:nvSpPr>
        <p:spPr>
          <a:xfrm>
            <a:off x="2854080" y="590688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reeform 38"/>
          <p:cNvSpPr/>
          <p:nvPr/>
        </p:nvSpPr>
        <p:spPr>
          <a:xfrm>
            <a:off x="5475240" y="3521160"/>
            <a:ext cx="634680" cy="374400"/>
          </a:xfrm>
          <a:custGeom>
            <a:avLst/>
            <a:gdLst>
              <a:gd name="textAreaLeft" fmla="*/ 0 w 634680"/>
              <a:gd name="textAreaRight" fmla="*/ 635040 w 634680"/>
              <a:gd name="textAreaTop" fmla="*/ 0 h 374400"/>
              <a:gd name="textAreaBottom" fmla="*/ 374760 h 374400"/>
            </a:gdLst>
            <a:ahLst/>
            <a:rect l="textAreaLeft" t="textAreaTop" r="textAreaRight" b="textAreaBottom"/>
            <a:pathLst>
              <a:path w="1000" h="591">
                <a:moveTo>
                  <a:pt x="576" y="186"/>
                </a:moveTo>
                <a:lnTo>
                  <a:pt x="661" y="135"/>
                </a:lnTo>
                <a:lnTo>
                  <a:pt x="746" y="101"/>
                </a:lnTo>
                <a:lnTo>
                  <a:pt x="830" y="67"/>
                </a:lnTo>
                <a:lnTo>
                  <a:pt x="881" y="34"/>
                </a:lnTo>
                <a:lnTo>
                  <a:pt x="932" y="17"/>
                </a:lnTo>
                <a:lnTo>
                  <a:pt x="966" y="17"/>
                </a:lnTo>
                <a:lnTo>
                  <a:pt x="983" y="0"/>
                </a:lnTo>
                <a:lnTo>
                  <a:pt x="1000" y="0"/>
                </a:lnTo>
                <a:lnTo>
                  <a:pt x="1000" y="17"/>
                </a:lnTo>
                <a:lnTo>
                  <a:pt x="983" y="34"/>
                </a:lnTo>
                <a:lnTo>
                  <a:pt x="949" y="51"/>
                </a:lnTo>
                <a:lnTo>
                  <a:pt x="915" y="101"/>
                </a:lnTo>
                <a:lnTo>
                  <a:pt x="864" y="135"/>
                </a:lnTo>
                <a:lnTo>
                  <a:pt x="797" y="186"/>
                </a:lnTo>
                <a:lnTo>
                  <a:pt x="712" y="253"/>
                </a:lnTo>
                <a:lnTo>
                  <a:pt x="627" y="321"/>
                </a:lnTo>
                <a:lnTo>
                  <a:pt x="525" y="388"/>
                </a:lnTo>
                <a:lnTo>
                  <a:pt x="441" y="439"/>
                </a:lnTo>
                <a:lnTo>
                  <a:pt x="373" y="490"/>
                </a:lnTo>
                <a:lnTo>
                  <a:pt x="322" y="541"/>
                </a:lnTo>
                <a:lnTo>
                  <a:pt x="271" y="557"/>
                </a:lnTo>
                <a:lnTo>
                  <a:pt x="237" y="591"/>
                </a:lnTo>
                <a:lnTo>
                  <a:pt x="204" y="591"/>
                </a:lnTo>
                <a:lnTo>
                  <a:pt x="187" y="591"/>
                </a:lnTo>
                <a:lnTo>
                  <a:pt x="170" y="591"/>
                </a:lnTo>
                <a:lnTo>
                  <a:pt x="136" y="574"/>
                </a:lnTo>
                <a:lnTo>
                  <a:pt x="102" y="541"/>
                </a:lnTo>
                <a:lnTo>
                  <a:pt x="68" y="507"/>
                </a:lnTo>
                <a:lnTo>
                  <a:pt x="34" y="473"/>
                </a:lnTo>
                <a:lnTo>
                  <a:pt x="17" y="439"/>
                </a:lnTo>
                <a:lnTo>
                  <a:pt x="0" y="405"/>
                </a:lnTo>
                <a:lnTo>
                  <a:pt x="0" y="372"/>
                </a:lnTo>
                <a:lnTo>
                  <a:pt x="17" y="355"/>
                </a:lnTo>
                <a:lnTo>
                  <a:pt x="17" y="338"/>
                </a:lnTo>
                <a:lnTo>
                  <a:pt x="51" y="338"/>
                </a:lnTo>
                <a:lnTo>
                  <a:pt x="68" y="355"/>
                </a:lnTo>
                <a:lnTo>
                  <a:pt x="119" y="372"/>
                </a:lnTo>
                <a:lnTo>
                  <a:pt x="136" y="372"/>
                </a:lnTo>
                <a:lnTo>
                  <a:pt x="153" y="355"/>
                </a:lnTo>
                <a:lnTo>
                  <a:pt x="170" y="355"/>
                </a:lnTo>
                <a:lnTo>
                  <a:pt x="187" y="355"/>
                </a:lnTo>
                <a:lnTo>
                  <a:pt x="220" y="338"/>
                </a:lnTo>
                <a:lnTo>
                  <a:pt x="271" y="321"/>
                </a:lnTo>
                <a:lnTo>
                  <a:pt x="322" y="287"/>
                </a:lnTo>
                <a:lnTo>
                  <a:pt x="407" y="270"/>
                </a:lnTo>
                <a:lnTo>
                  <a:pt x="475" y="220"/>
                </a:lnTo>
                <a:lnTo>
                  <a:pt x="576" y="18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28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0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1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2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3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4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6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37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8" name="TextBox 57"/>
          <p:cNvSpPr/>
          <p:nvPr/>
        </p:nvSpPr>
        <p:spPr>
          <a:xfrm>
            <a:off x="4579920" y="4870440"/>
            <a:ext cx="385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窄右宽，第三笔是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33"/>
          <p:cNvSpPr/>
          <p:nvPr/>
        </p:nvSpPr>
        <p:spPr>
          <a:xfrm>
            <a:off x="8571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绿色  绿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4"/>
          <p:cNvSpPr/>
          <p:nvPr/>
        </p:nvSpPr>
        <p:spPr>
          <a:xfrm>
            <a:off x="857160" y="504828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柳树的叶子就像垂下的万条绿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3465000" y="22874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36"/>
          <p:cNvSpPr/>
          <p:nvPr/>
        </p:nvSpPr>
        <p:spPr>
          <a:xfrm>
            <a:off x="5562720" y="2287440"/>
            <a:ext cx="450360" cy="739440"/>
          </a:xfrm>
          <a:custGeom>
            <a:avLst/>
            <a:gdLst>
              <a:gd name="textAreaLeft" fmla="*/ 0 w 450360"/>
              <a:gd name="textAreaRight" fmla="*/ 450720 w 450360"/>
              <a:gd name="textAreaTop" fmla="*/ 0 h 739440"/>
              <a:gd name="textAreaBottom" fmla="*/ 739800 h 739440"/>
            </a:gdLst>
            <a:ahLst/>
            <a:rect l="textAreaLeft" t="textAreaTop" r="textAreaRight" b="textAreaBottom"/>
            <a:pathLst>
              <a:path w="711" h="1166">
                <a:moveTo>
                  <a:pt x="373" y="710"/>
                </a:moveTo>
                <a:lnTo>
                  <a:pt x="322" y="794"/>
                </a:lnTo>
                <a:lnTo>
                  <a:pt x="288" y="862"/>
                </a:lnTo>
                <a:lnTo>
                  <a:pt x="271" y="895"/>
                </a:lnTo>
                <a:lnTo>
                  <a:pt x="271" y="912"/>
                </a:lnTo>
                <a:lnTo>
                  <a:pt x="288" y="929"/>
                </a:lnTo>
                <a:lnTo>
                  <a:pt x="305" y="929"/>
                </a:lnTo>
                <a:lnTo>
                  <a:pt x="339" y="929"/>
                </a:lnTo>
                <a:lnTo>
                  <a:pt x="389" y="929"/>
                </a:lnTo>
                <a:lnTo>
                  <a:pt x="457" y="929"/>
                </a:lnTo>
                <a:lnTo>
                  <a:pt x="525" y="929"/>
                </a:lnTo>
                <a:lnTo>
                  <a:pt x="610" y="929"/>
                </a:lnTo>
                <a:lnTo>
                  <a:pt x="711" y="912"/>
                </a:lnTo>
                <a:lnTo>
                  <a:pt x="711" y="1014"/>
                </a:lnTo>
                <a:lnTo>
                  <a:pt x="610" y="1031"/>
                </a:lnTo>
                <a:lnTo>
                  <a:pt x="491" y="1047"/>
                </a:lnTo>
                <a:lnTo>
                  <a:pt x="373" y="1064"/>
                </a:lnTo>
                <a:lnTo>
                  <a:pt x="254" y="1115"/>
                </a:lnTo>
                <a:lnTo>
                  <a:pt x="186" y="1132"/>
                </a:lnTo>
                <a:lnTo>
                  <a:pt x="135" y="1149"/>
                </a:lnTo>
                <a:lnTo>
                  <a:pt x="101" y="1166"/>
                </a:lnTo>
                <a:lnTo>
                  <a:pt x="68" y="1166"/>
                </a:lnTo>
                <a:lnTo>
                  <a:pt x="51" y="1166"/>
                </a:lnTo>
                <a:lnTo>
                  <a:pt x="34" y="1149"/>
                </a:lnTo>
                <a:lnTo>
                  <a:pt x="17" y="1115"/>
                </a:lnTo>
                <a:lnTo>
                  <a:pt x="0" y="1081"/>
                </a:lnTo>
                <a:lnTo>
                  <a:pt x="0" y="1031"/>
                </a:lnTo>
                <a:lnTo>
                  <a:pt x="0" y="980"/>
                </a:lnTo>
                <a:lnTo>
                  <a:pt x="17" y="946"/>
                </a:lnTo>
                <a:lnTo>
                  <a:pt x="34" y="929"/>
                </a:lnTo>
                <a:lnTo>
                  <a:pt x="51" y="912"/>
                </a:lnTo>
                <a:lnTo>
                  <a:pt x="101" y="895"/>
                </a:lnTo>
                <a:lnTo>
                  <a:pt x="152" y="828"/>
                </a:lnTo>
                <a:lnTo>
                  <a:pt x="186" y="794"/>
                </a:lnTo>
                <a:lnTo>
                  <a:pt x="220" y="726"/>
                </a:lnTo>
                <a:lnTo>
                  <a:pt x="271" y="642"/>
                </a:lnTo>
                <a:lnTo>
                  <a:pt x="339" y="541"/>
                </a:lnTo>
                <a:lnTo>
                  <a:pt x="389" y="422"/>
                </a:lnTo>
                <a:lnTo>
                  <a:pt x="423" y="338"/>
                </a:lnTo>
                <a:lnTo>
                  <a:pt x="457" y="270"/>
                </a:lnTo>
                <a:lnTo>
                  <a:pt x="474" y="203"/>
                </a:lnTo>
                <a:lnTo>
                  <a:pt x="474" y="152"/>
                </a:lnTo>
                <a:lnTo>
                  <a:pt x="474" y="118"/>
                </a:lnTo>
                <a:lnTo>
                  <a:pt x="474" y="84"/>
                </a:lnTo>
                <a:lnTo>
                  <a:pt x="474" y="67"/>
                </a:lnTo>
                <a:lnTo>
                  <a:pt x="457" y="51"/>
                </a:lnTo>
                <a:lnTo>
                  <a:pt x="457" y="34"/>
                </a:lnTo>
                <a:lnTo>
                  <a:pt x="457" y="17"/>
                </a:lnTo>
                <a:lnTo>
                  <a:pt x="474" y="0"/>
                </a:lnTo>
                <a:lnTo>
                  <a:pt x="491" y="0"/>
                </a:lnTo>
                <a:lnTo>
                  <a:pt x="525" y="0"/>
                </a:lnTo>
                <a:lnTo>
                  <a:pt x="559" y="17"/>
                </a:lnTo>
                <a:lnTo>
                  <a:pt x="610" y="34"/>
                </a:lnTo>
                <a:lnTo>
                  <a:pt x="644" y="67"/>
                </a:lnTo>
                <a:lnTo>
                  <a:pt x="677" y="101"/>
                </a:lnTo>
                <a:lnTo>
                  <a:pt x="694" y="135"/>
                </a:lnTo>
                <a:lnTo>
                  <a:pt x="711" y="169"/>
                </a:lnTo>
                <a:lnTo>
                  <a:pt x="694" y="203"/>
                </a:lnTo>
                <a:lnTo>
                  <a:pt x="677" y="253"/>
                </a:lnTo>
                <a:lnTo>
                  <a:pt x="644" y="304"/>
                </a:lnTo>
                <a:lnTo>
                  <a:pt x="610" y="372"/>
                </a:lnTo>
                <a:lnTo>
                  <a:pt x="559" y="439"/>
                </a:lnTo>
                <a:lnTo>
                  <a:pt x="491" y="524"/>
                </a:lnTo>
                <a:lnTo>
                  <a:pt x="373" y="71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Freeform 37"/>
          <p:cNvSpPr/>
          <p:nvPr/>
        </p:nvSpPr>
        <p:spPr>
          <a:xfrm>
            <a:off x="5605560" y="2630520"/>
            <a:ext cx="612360" cy="826560"/>
          </a:xfrm>
          <a:custGeom>
            <a:avLst/>
            <a:gdLst>
              <a:gd name="textAreaLeft" fmla="*/ 0 w 612360"/>
              <a:gd name="textAreaRight" fmla="*/ 612720 w 612360"/>
              <a:gd name="textAreaTop" fmla="*/ 0 h 826560"/>
              <a:gd name="textAreaBottom" fmla="*/ 826920 h 826560"/>
            </a:gdLst>
            <a:ahLst/>
            <a:rect l="textAreaLeft" t="textAreaTop" r="textAreaRight" b="textAreaBottom"/>
            <a:pathLst>
              <a:path w="965" h="1301">
                <a:moveTo>
                  <a:pt x="50" y="1199"/>
                </a:moveTo>
                <a:lnTo>
                  <a:pt x="33" y="1148"/>
                </a:lnTo>
                <a:lnTo>
                  <a:pt x="16" y="1115"/>
                </a:lnTo>
                <a:lnTo>
                  <a:pt x="0" y="1098"/>
                </a:lnTo>
                <a:lnTo>
                  <a:pt x="16" y="1081"/>
                </a:lnTo>
                <a:lnTo>
                  <a:pt x="33" y="1064"/>
                </a:lnTo>
                <a:lnTo>
                  <a:pt x="84" y="1030"/>
                </a:lnTo>
                <a:lnTo>
                  <a:pt x="118" y="1013"/>
                </a:lnTo>
                <a:lnTo>
                  <a:pt x="169" y="980"/>
                </a:lnTo>
                <a:lnTo>
                  <a:pt x="237" y="912"/>
                </a:lnTo>
                <a:lnTo>
                  <a:pt x="305" y="811"/>
                </a:lnTo>
                <a:lnTo>
                  <a:pt x="389" y="726"/>
                </a:lnTo>
                <a:lnTo>
                  <a:pt x="457" y="608"/>
                </a:lnTo>
                <a:lnTo>
                  <a:pt x="542" y="490"/>
                </a:lnTo>
                <a:lnTo>
                  <a:pt x="626" y="371"/>
                </a:lnTo>
                <a:lnTo>
                  <a:pt x="694" y="253"/>
                </a:lnTo>
                <a:lnTo>
                  <a:pt x="745" y="169"/>
                </a:lnTo>
                <a:lnTo>
                  <a:pt x="762" y="101"/>
                </a:lnTo>
                <a:lnTo>
                  <a:pt x="762" y="67"/>
                </a:lnTo>
                <a:lnTo>
                  <a:pt x="762" y="33"/>
                </a:lnTo>
                <a:lnTo>
                  <a:pt x="762" y="16"/>
                </a:lnTo>
                <a:lnTo>
                  <a:pt x="779" y="0"/>
                </a:lnTo>
                <a:lnTo>
                  <a:pt x="813" y="16"/>
                </a:lnTo>
                <a:lnTo>
                  <a:pt x="847" y="33"/>
                </a:lnTo>
                <a:lnTo>
                  <a:pt x="881" y="50"/>
                </a:lnTo>
                <a:lnTo>
                  <a:pt x="914" y="67"/>
                </a:lnTo>
                <a:lnTo>
                  <a:pt x="931" y="118"/>
                </a:lnTo>
                <a:lnTo>
                  <a:pt x="948" y="152"/>
                </a:lnTo>
                <a:lnTo>
                  <a:pt x="965" y="169"/>
                </a:lnTo>
                <a:lnTo>
                  <a:pt x="965" y="185"/>
                </a:lnTo>
                <a:lnTo>
                  <a:pt x="965" y="202"/>
                </a:lnTo>
                <a:lnTo>
                  <a:pt x="948" y="236"/>
                </a:lnTo>
                <a:lnTo>
                  <a:pt x="914" y="270"/>
                </a:lnTo>
                <a:lnTo>
                  <a:pt x="881" y="321"/>
                </a:lnTo>
                <a:lnTo>
                  <a:pt x="830" y="371"/>
                </a:lnTo>
                <a:lnTo>
                  <a:pt x="762" y="456"/>
                </a:lnTo>
                <a:lnTo>
                  <a:pt x="694" y="523"/>
                </a:lnTo>
                <a:lnTo>
                  <a:pt x="609" y="625"/>
                </a:lnTo>
                <a:lnTo>
                  <a:pt x="525" y="726"/>
                </a:lnTo>
                <a:lnTo>
                  <a:pt x="457" y="811"/>
                </a:lnTo>
                <a:lnTo>
                  <a:pt x="406" y="878"/>
                </a:lnTo>
                <a:lnTo>
                  <a:pt x="355" y="929"/>
                </a:lnTo>
                <a:lnTo>
                  <a:pt x="305" y="980"/>
                </a:lnTo>
                <a:lnTo>
                  <a:pt x="288" y="1013"/>
                </a:lnTo>
                <a:lnTo>
                  <a:pt x="271" y="1030"/>
                </a:lnTo>
                <a:lnTo>
                  <a:pt x="271" y="1047"/>
                </a:lnTo>
                <a:lnTo>
                  <a:pt x="288" y="1047"/>
                </a:lnTo>
                <a:lnTo>
                  <a:pt x="321" y="1047"/>
                </a:lnTo>
                <a:lnTo>
                  <a:pt x="338" y="1047"/>
                </a:lnTo>
                <a:lnTo>
                  <a:pt x="389" y="1030"/>
                </a:lnTo>
                <a:lnTo>
                  <a:pt x="423" y="1013"/>
                </a:lnTo>
                <a:lnTo>
                  <a:pt x="491" y="996"/>
                </a:lnTo>
                <a:lnTo>
                  <a:pt x="559" y="963"/>
                </a:lnTo>
                <a:lnTo>
                  <a:pt x="609" y="946"/>
                </a:lnTo>
                <a:lnTo>
                  <a:pt x="677" y="929"/>
                </a:lnTo>
                <a:lnTo>
                  <a:pt x="711" y="929"/>
                </a:lnTo>
                <a:lnTo>
                  <a:pt x="762" y="912"/>
                </a:lnTo>
                <a:lnTo>
                  <a:pt x="796" y="912"/>
                </a:lnTo>
                <a:lnTo>
                  <a:pt x="813" y="912"/>
                </a:lnTo>
                <a:lnTo>
                  <a:pt x="830" y="912"/>
                </a:lnTo>
                <a:lnTo>
                  <a:pt x="830" y="929"/>
                </a:lnTo>
                <a:lnTo>
                  <a:pt x="830" y="946"/>
                </a:lnTo>
                <a:lnTo>
                  <a:pt x="813" y="946"/>
                </a:lnTo>
                <a:lnTo>
                  <a:pt x="796" y="963"/>
                </a:lnTo>
                <a:lnTo>
                  <a:pt x="762" y="980"/>
                </a:lnTo>
                <a:lnTo>
                  <a:pt x="728" y="1013"/>
                </a:lnTo>
                <a:lnTo>
                  <a:pt x="677" y="1030"/>
                </a:lnTo>
                <a:lnTo>
                  <a:pt x="609" y="1064"/>
                </a:lnTo>
                <a:lnTo>
                  <a:pt x="559" y="1098"/>
                </a:lnTo>
                <a:lnTo>
                  <a:pt x="474" y="1115"/>
                </a:lnTo>
                <a:lnTo>
                  <a:pt x="423" y="1148"/>
                </a:lnTo>
                <a:lnTo>
                  <a:pt x="372" y="1165"/>
                </a:lnTo>
                <a:lnTo>
                  <a:pt x="321" y="1199"/>
                </a:lnTo>
                <a:lnTo>
                  <a:pt x="288" y="1216"/>
                </a:lnTo>
                <a:lnTo>
                  <a:pt x="254" y="1233"/>
                </a:lnTo>
                <a:lnTo>
                  <a:pt x="237" y="1250"/>
                </a:lnTo>
                <a:lnTo>
                  <a:pt x="220" y="1250"/>
                </a:lnTo>
                <a:lnTo>
                  <a:pt x="186" y="1284"/>
                </a:lnTo>
                <a:lnTo>
                  <a:pt x="152" y="1301"/>
                </a:lnTo>
                <a:lnTo>
                  <a:pt x="118" y="1284"/>
                </a:lnTo>
                <a:lnTo>
                  <a:pt x="101" y="1267"/>
                </a:lnTo>
                <a:lnTo>
                  <a:pt x="67" y="1250"/>
                </a:lnTo>
                <a:lnTo>
                  <a:pt x="50" y="119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7" name="Freeform 39"/>
          <p:cNvSpPr/>
          <p:nvPr/>
        </p:nvSpPr>
        <p:spPr>
          <a:xfrm>
            <a:off x="6035760" y="3510000"/>
            <a:ext cx="483840" cy="375840"/>
          </a:xfrm>
          <a:custGeom>
            <a:avLst/>
            <a:gdLst>
              <a:gd name="textAreaLeft" fmla="*/ 0 w 483840"/>
              <a:gd name="textAreaRight" fmla="*/ 484200 w 483840"/>
              <a:gd name="textAreaTop" fmla="*/ 0 h 375840"/>
              <a:gd name="textAreaBottom" fmla="*/ 376200 h 375840"/>
            </a:gdLst>
            <a:ahLst/>
            <a:rect l="textAreaLeft" t="textAreaTop" r="textAreaRight" b="textAreaBottom"/>
            <a:pathLst>
              <a:path w="763" h="591">
                <a:moveTo>
                  <a:pt x="458" y="152"/>
                </a:moveTo>
                <a:lnTo>
                  <a:pt x="525" y="118"/>
                </a:lnTo>
                <a:lnTo>
                  <a:pt x="593" y="84"/>
                </a:lnTo>
                <a:lnTo>
                  <a:pt x="627" y="51"/>
                </a:lnTo>
                <a:lnTo>
                  <a:pt x="678" y="17"/>
                </a:lnTo>
                <a:lnTo>
                  <a:pt x="712" y="0"/>
                </a:lnTo>
                <a:lnTo>
                  <a:pt x="729" y="0"/>
                </a:lnTo>
                <a:lnTo>
                  <a:pt x="746" y="0"/>
                </a:lnTo>
                <a:lnTo>
                  <a:pt x="763" y="0"/>
                </a:lnTo>
                <a:lnTo>
                  <a:pt x="746" y="17"/>
                </a:lnTo>
                <a:lnTo>
                  <a:pt x="729" y="51"/>
                </a:lnTo>
                <a:lnTo>
                  <a:pt x="695" y="84"/>
                </a:lnTo>
                <a:lnTo>
                  <a:pt x="661" y="118"/>
                </a:lnTo>
                <a:lnTo>
                  <a:pt x="610" y="169"/>
                </a:lnTo>
                <a:lnTo>
                  <a:pt x="559" y="237"/>
                </a:lnTo>
                <a:lnTo>
                  <a:pt x="492" y="287"/>
                </a:lnTo>
                <a:lnTo>
                  <a:pt x="424" y="372"/>
                </a:lnTo>
                <a:lnTo>
                  <a:pt x="373" y="422"/>
                </a:lnTo>
                <a:lnTo>
                  <a:pt x="305" y="473"/>
                </a:lnTo>
                <a:lnTo>
                  <a:pt x="271" y="507"/>
                </a:lnTo>
                <a:lnTo>
                  <a:pt x="237" y="541"/>
                </a:lnTo>
                <a:lnTo>
                  <a:pt x="204" y="574"/>
                </a:lnTo>
                <a:lnTo>
                  <a:pt x="187" y="574"/>
                </a:lnTo>
                <a:lnTo>
                  <a:pt x="170" y="591"/>
                </a:lnTo>
                <a:lnTo>
                  <a:pt x="153" y="574"/>
                </a:lnTo>
                <a:lnTo>
                  <a:pt x="119" y="558"/>
                </a:lnTo>
                <a:lnTo>
                  <a:pt x="85" y="541"/>
                </a:lnTo>
                <a:lnTo>
                  <a:pt x="51" y="507"/>
                </a:lnTo>
                <a:lnTo>
                  <a:pt x="34" y="456"/>
                </a:lnTo>
                <a:lnTo>
                  <a:pt x="0" y="422"/>
                </a:lnTo>
                <a:lnTo>
                  <a:pt x="0" y="389"/>
                </a:lnTo>
                <a:lnTo>
                  <a:pt x="0" y="372"/>
                </a:lnTo>
                <a:lnTo>
                  <a:pt x="0" y="338"/>
                </a:lnTo>
                <a:lnTo>
                  <a:pt x="17" y="338"/>
                </a:lnTo>
                <a:lnTo>
                  <a:pt x="34" y="338"/>
                </a:lnTo>
                <a:lnTo>
                  <a:pt x="51" y="338"/>
                </a:lnTo>
                <a:lnTo>
                  <a:pt x="102" y="355"/>
                </a:lnTo>
                <a:lnTo>
                  <a:pt x="119" y="355"/>
                </a:lnTo>
                <a:lnTo>
                  <a:pt x="136" y="355"/>
                </a:lnTo>
                <a:lnTo>
                  <a:pt x="153" y="338"/>
                </a:lnTo>
                <a:lnTo>
                  <a:pt x="187" y="338"/>
                </a:lnTo>
                <a:lnTo>
                  <a:pt x="204" y="321"/>
                </a:lnTo>
                <a:lnTo>
                  <a:pt x="237" y="304"/>
                </a:lnTo>
                <a:lnTo>
                  <a:pt x="288" y="270"/>
                </a:lnTo>
                <a:lnTo>
                  <a:pt x="339" y="237"/>
                </a:lnTo>
                <a:lnTo>
                  <a:pt x="458" y="15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8" name="Freeform 42"/>
          <p:cNvSpPr/>
          <p:nvPr/>
        </p:nvSpPr>
        <p:spPr>
          <a:xfrm>
            <a:off x="6357960" y="3006720"/>
            <a:ext cx="301320" cy="1199880"/>
          </a:xfrm>
          <a:custGeom>
            <a:avLst/>
            <a:gdLst>
              <a:gd name="textAreaLeft" fmla="*/ 0 w 301320"/>
              <a:gd name="textAreaRight" fmla="*/ 301680 w 301320"/>
              <a:gd name="textAreaTop" fmla="*/ 0 h 1199880"/>
              <a:gd name="textAreaBottom" fmla="*/ 1200240 h 1199880"/>
            </a:gdLst>
            <a:ahLst/>
            <a:rect l="textAreaLeft" t="textAreaTop" r="textAreaRight" b="textAreaBottom"/>
            <a:pathLst>
              <a:path w="475" h="1892">
                <a:moveTo>
                  <a:pt x="238" y="1825"/>
                </a:moveTo>
                <a:lnTo>
                  <a:pt x="221" y="1774"/>
                </a:lnTo>
                <a:lnTo>
                  <a:pt x="204" y="1723"/>
                </a:lnTo>
                <a:lnTo>
                  <a:pt x="170" y="1673"/>
                </a:lnTo>
                <a:lnTo>
                  <a:pt x="119" y="1605"/>
                </a:lnTo>
                <a:lnTo>
                  <a:pt x="68" y="1537"/>
                </a:lnTo>
                <a:lnTo>
                  <a:pt x="17" y="1504"/>
                </a:lnTo>
                <a:lnTo>
                  <a:pt x="0" y="1470"/>
                </a:lnTo>
                <a:lnTo>
                  <a:pt x="0" y="1453"/>
                </a:lnTo>
                <a:lnTo>
                  <a:pt x="17" y="1453"/>
                </a:lnTo>
                <a:lnTo>
                  <a:pt x="51" y="1453"/>
                </a:lnTo>
                <a:lnTo>
                  <a:pt x="85" y="1470"/>
                </a:lnTo>
                <a:lnTo>
                  <a:pt x="136" y="1487"/>
                </a:lnTo>
                <a:lnTo>
                  <a:pt x="170" y="1504"/>
                </a:lnTo>
                <a:lnTo>
                  <a:pt x="204" y="1504"/>
                </a:lnTo>
                <a:lnTo>
                  <a:pt x="238" y="1504"/>
                </a:lnTo>
                <a:lnTo>
                  <a:pt x="272" y="1504"/>
                </a:lnTo>
                <a:lnTo>
                  <a:pt x="289" y="1487"/>
                </a:lnTo>
                <a:lnTo>
                  <a:pt x="305" y="1436"/>
                </a:lnTo>
                <a:lnTo>
                  <a:pt x="322" y="1368"/>
                </a:lnTo>
                <a:lnTo>
                  <a:pt x="322" y="1318"/>
                </a:lnTo>
                <a:lnTo>
                  <a:pt x="322" y="1267"/>
                </a:lnTo>
                <a:lnTo>
                  <a:pt x="339" y="1166"/>
                </a:lnTo>
                <a:lnTo>
                  <a:pt x="339" y="1031"/>
                </a:lnTo>
                <a:lnTo>
                  <a:pt x="339" y="895"/>
                </a:lnTo>
                <a:lnTo>
                  <a:pt x="339" y="743"/>
                </a:lnTo>
                <a:lnTo>
                  <a:pt x="339" y="574"/>
                </a:lnTo>
                <a:lnTo>
                  <a:pt x="322" y="405"/>
                </a:lnTo>
                <a:lnTo>
                  <a:pt x="305" y="203"/>
                </a:lnTo>
                <a:lnTo>
                  <a:pt x="272" y="0"/>
                </a:lnTo>
                <a:lnTo>
                  <a:pt x="356" y="67"/>
                </a:lnTo>
                <a:lnTo>
                  <a:pt x="424" y="118"/>
                </a:lnTo>
                <a:lnTo>
                  <a:pt x="458" y="186"/>
                </a:lnTo>
                <a:lnTo>
                  <a:pt x="475" y="220"/>
                </a:lnTo>
                <a:lnTo>
                  <a:pt x="475" y="287"/>
                </a:lnTo>
                <a:lnTo>
                  <a:pt x="475" y="372"/>
                </a:lnTo>
                <a:lnTo>
                  <a:pt x="458" y="473"/>
                </a:lnTo>
                <a:lnTo>
                  <a:pt x="458" y="591"/>
                </a:lnTo>
                <a:lnTo>
                  <a:pt x="458" y="878"/>
                </a:lnTo>
                <a:lnTo>
                  <a:pt x="458" y="1166"/>
                </a:lnTo>
                <a:lnTo>
                  <a:pt x="458" y="1318"/>
                </a:lnTo>
                <a:lnTo>
                  <a:pt x="458" y="1436"/>
                </a:lnTo>
                <a:lnTo>
                  <a:pt x="458" y="1537"/>
                </a:lnTo>
                <a:lnTo>
                  <a:pt x="441" y="1622"/>
                </a:lnTo>
                <a:lnTo>
                  <a:pt x="441" y="1689"/>
                </a:lnTo>
                <a:lnTo>
                  <a:pt x="424" y="1740"/>
                </a:lnTo>
                <a:lnTo>
                  <a:pt x="390" y="1791"/>
                </a:lnTo>
                <a:lnTo>
                  <a:pt x="373" y="1825"/>
                </a:lnTo>
                <a:lnTo>
                  <a:pt x="339" y="1858"/>
                </a:lnTo>
                <a:lnTo>
                  <a:pt x="322" y="1875"/>
                </a:lnTo>
                <a:lnTo>
                  <a:pt x="305" y="1892"/>
                </a:lnTo>
                <a:lnTo>
                  <a:pt x="289" y="1892"/>
                </a:lnTo>
                <a:lnTo>
                  <a:pt x="272" y="1875"/>
                </a:lnTo>
                <a:lnTo>
                  <a:pt x="255" y="1858"/>
                </a:lnTo>
                <a:lnTo>
                  <a:pt x="238" y="182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Freeform 43"/>
          <p:cNvSpPr/>
          <p:nvPr/>
        </p:nvSpPr>
        <p:spPr>
          <a:xfrm>
            <a:off x="6326280" y="2651040"/>
            <a:ext cx="364680" cy="118800"/>
          </a:xfrm>
          <a:custGeom>
            <a:avLst/>
            <a:gdLst>
              <a:gd name="textAreaLeft" fmla="*/ 0 w 364680"/>
              <a:gd name="textAreaRight" fmla="*/ 365040 w 36468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576" h="186">
                <a:moveTo>
                  <a:pt x="186" y="34"/>
                </a:moveTo>
                <a:lnTo>
                  <a:pt x="305" y="17"/>
                </a:lnTo>
                <a:lnTo>
                  <a:pt x="406" y="0"/>
                </a:lnTo>
                <a:lnTo>
                  <a:pt x="474" y="0"/>
                </a:lnTo>
                <a:lnTo>
                  <a:pt x="542" y="17"/>
                </a:lnTo>
                <a:lnTo>
                  <a:pt x="559" y="34"/>
                </a:lnTo>
                <a:lnTo>
                  <a:pt x="576" y="34"/>
                </a:lnTo>
                <a:lnTo>
                  <a:pt x="576" y="68"/>
                </a:lnTo>
                <a:lnTo>
                  <a:pt x="576" y="85"/>
                </a:lnTo>
                <a:lnTo>
                  <a:pt x="542" y="102"/>
                </a:lnTo>
                <a:lnTo>
                  <a:pt x="474" y="119"/>
                </a:lnTo>
                <a:lnTo>
                  <a:pt x="389" y="136"/>
                </a:lnTo>
                <a:lnTo>
                  <a:pt x="305" y="152"/>
                </a:lnTo>
                <a:lnTo>
                  <a:pt x="237" y="169"/>
                </a:lnTo>
                <a:lnTo>
                  <a:pt x="186" y="169"/>
                </a:lnTo>
                <a:lnTo>
                  <a:pt x="169" y="186"/>
                </a:lnTo>
                <a:lnTo>
                  <a:pt x="118" y="169"/>
                </a:lnTo>
                <a:lnTo>
                  <a:pt x="67" y="136"/>
                </a:lnTo>
                <a:lnTo>
                  <a:pt x="34" y="119"/>
                </a:lnTo>
                <a:lnTo>
                  <a:pt x="17" y="102"/>
                </a:lnTo>
                <a:lnTo>
                  <a:pt x="0" y="85"/>
                </a:lnTo>
                <a:lnTo>
                  <a:pt x="0" y="68"/>
                </a:lnTo>
                <a:lnTo>
                  <a:pt x="34" y="68"/>
                </a:lnTo>
                <a:lnTo>
                  <a:pt x="67" y="68"/>
                </a:lnTo>
                <a:lnTo>
                  <a:pt x="135" y="51"/>
                </a:lnTo>
                <a:lnTo>
                  <a:pt x="186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Freeform 45"/>
          <p:cNvSpPr/>
          <p:nvPr/>
        </p:nvSpPr>
        <p:spPr>
          <a:xfrm>
            <a:off x="6218280" y="3263760"/>
            <a:ext cx="193320" cy="193320"/>
          </a:xfrm>
          <a:custGeom>
            <a:avLst/>
            <a:gdLst>
              <a:gd name="textAreaLeft" fmla="*/ 0 w 193320"/>
              <a:gd name="textAreaRight" fmla="*/ 193680 w 19332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305" h="305">
                <a:moveTo>
                  <a:pt x="0" y="34"/>
                </a:move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0"/>
                </a:lnTo>
                <a:lnTo>
                  <a:pt x="119" y="0"/>
                </a:lnTo>
                <a:lnTo>
                  <a:pt x="170" y="17"/>
                </a:lnTo>
                <a:lnTo>
                  <a:pt x="204" y="34"/>
                </a:lnTo>
                <a:lnTo>
                  <a:pt x="237" y="68"/>
                </a:lnTo>
                <a:lnTo>
                  <a:pt x="288" y="152"/>
                </a:lnTo>
                <a:lnTo>
                  <a:pt x="288" y="186"/>
                </a:lnTo>
                <a:lnTo>
                  <a:pt x="305" y="220"/>
                </a:lnTo>
                <a:lnTo>
                  <a:pt x="305" y="271"/>
                </a:lnTo>
                <a:lnTo>
                  <a:pt x="288" y="305"/>
                </a:lnTo>
                <a:lnTo>
                  <a:pt x="271" y="305"/>
                </a:lnTo>
                <a:lnTo>
                  <a:pt x="254" y="305"/>
                </a:lnTo>
                <a:lnTo>
                  <a:pt x="220" y="305"/>
                </a:lnTo>
                <a:lnTo>
                  <a:pt x="204" y="288"/>
                </a:lnTo>
                <a:lnTo>
                  <a:pt x="170" y="271"/>
                </a:lnTo>
                <a:lnTo>
                  <a:pt x="136" y="237"/>
                </a:lnTo>
                <a:lnTo>
                  <a:pt x="102" y="203"/>
                </a:lnTo>
                <a:lnTo>
                  <a:pt x="85" y="152"/>
                </a:lnTo>
                <a:lnTo>
                  <a:pt x="51" y="102"/>
                </a:lnTo>
                <a:lnTo>
                  <a:pt x="17" y="68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1" name="Freeform 46"/>
          <p:cNvSpPr/>
          <p:nvPr/>
        </p:nvSpPr>
        <p:spPr>
          <a:xfrm>
            <a:off x="6303960" y="2308320"/>
            <a:ext cx="657000" cy="644040"/>
          </a:xfrm>
          <a:custGeom>
            <a:avLst/>
            <a:gdLst>
              <a:gd name="textAreaLeft" fmla="*/ 0 w 657000"/>
              <a:gd name="textAreaRight" fmla="*/ 657360 w 657000"/>
              <a:gd name="textAreaTop" fmla="*/ 0 h 644040"/>
              <a:gd name="textAreaBottom" fmla="*/ 644400 h 644040"/>
            </a:gdLst>
            <a:ahLst/>
            <a:rect l="textAreaLeft" t="textAreaTop" r="textAreaRight" b="textAreaBottom"/>
            <a:pathLst>
              <a:path w="1033" h="1013">
                <a:moveTo>
                  <a:pt x="169" y="321"/>
                </a:moveTo>
                <a:lnTo>
                  <a:pt x="135" y="304"/>
                </a:lnTo>
                <a:lnTo>
                  <a:pt x="84" y="287"/>
                </a:lnTo>
                <a:lnTo>
                  <a:pt x="51" y="270"/>
                </a:lnTo>
                <a:lnTo>
                  <a:pt x="17" y="253"/>
                </a:lnTo>
                <a:lnTo>
                  <a:pt x="0" y="236"/>
                </a:lnTo>
                <a:lnTo>
                  <a:pt x="0" y="219"/>
                </a:lnTo>
                <a:lnTo>
                  <a:pt x="68" y="202"/>
                </a:lnTo>
                <a:lnTo>
                  <a:pt x="135" y="202"/>
                </a:lnTo>
                <a:lnTo>
                  <a:pt x="237" y="186"/>
                </a:lnTo>
                <a:lnTo>
                  <a:pt x="339" y="152"/>
                </a:lnTo>
                <a:lnTo>
                  <a:pt x="457" y="135"/>
                </a:lnTo>
                <a:lnTo>
                  <a:pt x="542" y="118"/>
                </a:lnTo>
                <a:lnTo>
                  <a:pt x="610" y="101"/>
                </a:lnTo>
                <a:lnTo>
                  <a:pt x="644" y="84"/>
                </a:lnTo>
                <a:lnTo>
                  <a:pt x="694" y="67"/>
                </a:lnTo>
                <a:lnTo>
                  <a:pt x="711" y="50"/>
                </a:lnTo>
                <a:lnTo>
                  <a:pt x="728" y="33"/>
                </a:lnTo>
                <a:lnTo>
                  <a:pt x="745" y="17"/>
                </a:lnTo>
                <a:lnTo>
                  <a:pt x="796" y="0"/>
                </a:lnTo>
                <a:lnTo>
                  <a:pt x="813" y="17"/>
                </a:lnTo>
                <a:lnTo>
                  <a:pt x="830" y="33"/>
                </a:lnTo>
                <a:lnTo>
                  <a:pt x="881" y="50"/>
                </a:lnTo>
                <a:lnTo>
                  <a:pt x="932" y="84"/>
                </a:lnTo>
                <a:lnTo>
                  <a:pt x="965" y="135"/>
                </a:lnTo>
                <a:lnTo>
                  <a:pt x="999" y="152"/>
                </a:lnTo>
                <a:lnTo>
                  <a:pt x="1033" y="186"/>
                </a:lnTo>
                <a:lnTo>
                  <a:pt x="1033" y="202"/>
                </a:lnTo>
                <a:lnTo>
                  <a:pt x="1016" y="236"/>
                </a:lnTo>
                <a:lnTo>
                  <a:pt x="999" y="270"/>
                </a:lnTo>
                <a:lnTo>
                  <a:pt x="965" y="287"/>
                </a:lnTo>
                <a:lnTo>
                  <a:pt x="949" y="321"/>
                </a:lnTo>
                <a:lnTo>
                  <a:pt x="932" y="371"/>
                </a:lnTo>
                <a:lnTo>
                  <a:pt x="915" y="439"/>
                </a:lnTo>
                <a:lnTo>
                  <a:pt x="898" y="473"/>
                </a:lnTo>
                <a:lnTo>
                  <a:pt x="881" y="523"/>
                </a:lnTo>
                <a:lnTo>
                  <a:pt x="864" y="574"/>
                </a:lnTo>
                <a:lnTo>
                  <a:pt x="847" y="642"/>
                </a:lnTo>
                <a:lnTo>
                  <a:pt x="847" y="726"/>
                </a:lnTo>
                <a:lnTo>
                  <a:pt x="830" y="811"/>
                </a:lnTo>
                <a:lnTo>
                  <a:pt x="813" y="912"/>
                </a:lnTo>
                <a:lnTo>
                  <a:pt x="796" y="1013"/>
                </a:lnTo>
                <a:lnTo>
                  <a:pt x="661" y="1013"/>
                </a:lnTo>
                <a:lnTo>
                  <a:pt x="677" y="878"/>
                </a:lnTo>
                <a:lnTo>
                  <a:pt x="694" y="743"/>
                </a:lnTo>
                <a:lnTo>
                  <a:pt x="711" y="625"/>
                </a:lnTo>
                <a:lnTo>
                  <a:pt x="728" y="523"/>
                </a:lnTo>
                <a:lnTo>
                  <a:pt x="728" y="456"/>
                </a:lnTo>
                <a:lnTo>
                  <a:pt x="745" y="388"/>
                </a:lnTo>
                <a:lnTo>
                  <a:pt x="745" y="354"/>
                </a:lnTo>
                <a:lnTo>
                  <a:pt x="745" y="321"/>
                </a:lnTo>
                <a:lnTo>
                  <a:pt x="745" y="270"/>
                </a:lnTo>
                <a:lnTo>
                  <a:pt x="745" y="236"/>
                </a:lnTo>
                <a:lnTo>
                  <a:pt x="745" y="219"/>
                </a:lnTo>
                <a:lnTo>
                  <a:pt x="728" y="219"/>
                </a:lnTo>
                <a:lnTo>
                  <a:pt x="711" y="219"/>
                </a:lnTo>
                <a:lnTo>
                  <a:pt x="694" y="219"/>
                </a:lnTo>
                <a:lnTo>
                  <a:pt x="661" y="219"/>
                </a:lnTo>
                <a:lnTo>
                  <a:pt x="627" y="236"/>
                </a:lnTo>
                <a:lnTo>
                  <a:pt x="576" y="236"/>
                </a:lnTo>
                <a:lnTo>
                  <a:pt x="525" y="253"/>
                </a:lnTo>
                <a:lnTo>
                  <a:pt x="474" y="270"/>
                </a:lnTo>
                <a:lnTo>
                  <a:pt x="356" y="287"/>
                </a:lnTo>
                <a:lnTo>
                  <a:pt x="271" y="304"/>
                </a:lnTo>
                <a:lnTo>
                  <a:pt x="203" y="321"/>
                </a:lnTo>
                <a:lnTo>
                  <a:pt x="169" y="32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6121440" y="2867040"/>
            <a:ext cx="1087200" cy="23472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711" h="372">
                <a:moveTo>
                  <a:pt x="0" y="254"/>
                </a:moveTo>
                <a:lnTo>
                  <a:pt x="101" y="254"/>
                </a:lnTo>
                <a:lnTo>
                  <a:pt x="220" y="237"/>
                </a:lnTo>
                <a:lnTo>
                  <a:pt x="356" y="220"/>
                </a:lnTo>
                <a:lnTo>
                  <a:pt x="508" y="186"/>
                </a:lnTo>
                <a:lnTo>
                  <a:pt x="779" y="119"/>
                </a:lnTo>
                <a:lnTo>
                  <a:pt x="1067" y="68"/>
                </a:lnTo>
                <a:lnTo>
                  <a:pt x="1186" y="34"/>
                </a:lnTo>
                <a:lnTo>
                  <a:pt x="1304" y="17"/>
                </a:lnTo>
                <a:lnTo>
                  <a:pt x="1389" y="0"/>
                </a:lnTo>
                <a:lnTo>
                  <a:pt x="1457" y="0"/>
                </a:lnTo>
                <a:lnTo>
                  <a:pt x="1508" y="0"/>
                </a:lnTo>
                <a:lnTo>
                  <a:pt x="1558" y="0"/>
                </a:lnTo>
                <a:lnTo>
                  <a:pt x="1609" y="17"/>
                </a:lnTo>
                <a:lnTo>
                  <a:pt x="1643" y="51"/>
                </a:lnTo>
                <a:lnTo>
                  <a:pt x="1660" y="68"/>
                </a:lnTo>
                <a:lnTo>
                  <a:pt x="1694" y="85"/>
                </a:lnTo>
                <a:lnTo>
                  <a:pt x="1694" y="102"/>
                </a:lnTo>
                <a:lnTo>
                  <a:pt x="1711" y="119"/>
                </a:lnTo>
                <a:lnTo>
                  <a:pt x="1694" y="135"/>
                </a:lnTo>
                <a:lnTo>
                  <a:pt x="1694" y="152"/>
                </a:lnTo>
                <a:lnTo>
                  <a:pt x="1660" y="169"/>
                </a:lnTo>
                <a:lnTo>
                  <a:pt x="1626" y="169"/>
                </a:lnTo>
                <a:lnTo>
                  <a:pt x="1542" y="169"/>
                </a:lnTo>
                <a:lnTo>
                  <a:pt x="1457" y="169"/>
                </a:lnTo>
                <a:lnTo>
                  <a:pt x="1355" y="169"/>
                </a:lnTo>
                <a:lnTo>
                  <a:pt x="1253" y="186"/>
                </a:lnTo>
                <a:lnTo>
                  <a:pt x="1084" y="203"/>
                </a:lnTo>
                <a:lnTo>
                  <a:pt x="982" y="220"/>
                </a:lnTo>
                <a:lnTo>
                  <a:pt x="864" y="237"/>
                </a:lnTo>
                <a:lnTo>
                  <a:pt x="728" y="271"/>
                </a:lnTo>
                <a:lnTo>
                  <a:pt x="559" y="287"/>
                </a:lnTo>
                <a:lnTo>
                  <a:pt x="474" y="321"/>
                </a:lnTo>
                <a:lnTo>
                  <a:pt x="389" y="338"/>
                </a:lnTo>
                <a:lnTo>
                  <a:pt x="339" y="338"/>
                </a:lnTo>
                <a:lnTo>
                  <a:pt x="271" y="355"/>
                </a:lnTo>
                <a:lnTo>
                  <a:pt x="237" y="372"/>
                </a:lnTo>
                <a:lnTo>
                  <a:pt x="186" y="372"/>
                </a:lnTo>
                <a:lnTo>
                  <a:pt x="169" y="372"/>
                </a:lnTo>
                <a:lnTo>
                  <a:pt x="152" y="372"/>
                </a:lnTo>
                <a:lnTo>
                  <a:pt x="118" y="372"/>
                </a:lnTo>
                <a:lnTo>
                  <a:pt x="68" y="355"/>
                </a:lnTo>
                <a:lnTo>
                  <a:pt x="51" y="338"/>
                </a:lnTo>
                <a:lnTo>
                  <a:pt x="17" y="304"/>
                </a:lnTo>
                <a:lnTo>
                  <a:pt x="0" y="25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Freeform 40"/>
          <p:cNvSpPr/>
          <p:nvPr/>
        </p:nvSpPr>
        <p:spPr>
          <a:xfrm>
            <a:off x="6594480" y="3112920"/>
            <a:ext cx="409320" cy="353520"/>
          </a:xfrm>
          <a:custGeom>
            <a:avLst/>
            <a:gdLst>
              <a:gd name="textAreaLeft" fmla="*/ 0 w 409320"/>
              <a:gd name="textAreaRight" fmla="*/ 409680 w 40932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644" h="557">
                <a:moveTo>
                  <a:pt x="424" y="0"/>
                </a:moveTo>
                <a:lnTo>
                  <a:pt x="458" y="0"/>
                </a:lnTo>
                <a:lnTo>
                  <a:pt x="492" y="0"/>
                </a:lnTo>
                <a:lnTo>
                  <a:pt x="525" y="17"/>
                </a:lnTo>
                <a:lnTo>
                  <a:pt x="559" y="51"/>
                </a:lnTo>
                <a:lnTo>
                  <a:pt x="610" y="84"/>
                </a:lnTo>
                <a:lnTo>
                  <a:pt x="627" y="118"/>
                </a:lnTo>
                <a:lnTo>
                  <a:pt x="644" y="135"/>
                </a:lnTo>
                <a:lnTo>
                  <a:pt x="644" y="169"/>
                </a:lnTo>
                <a:lnTo>
                  <a:pt x="644" y="203"/>
                </a:lnTo>
                <a:lnTo>
                  <a:pt x="593" y="236"/>
                </a:lnTo>
                <a:lnTo>
                  <a:pt x="525" y="287"/>
                </a:lnTo>
                <a:lnTo>
                  <a:pt x="424" y="355"/>
                </a:lnTo>
                <a:lnTo>
                  <a:pt x="322" y="422"/>
                </a:lnTo>
                <a:lnTo>
                  <a:pt x="204" y="490"/>
                </a:lnTo>
                <a:lnTo>
                  <a:pt x="102" y="524"/>
                </a:lnTo>
                <a:lnTo>
                  <a:pt x="0" y="557"/>
                </a:lnTo>
                <a:lnTo>
                  <a:pt x="102" y="456"/>
                </a:lnTo>
                <a:lnTo>
                  <a:pt x="204" y="355"/>
                </a:lnTo>
                <a:lnTo>
                  <a:pt x="271" y="287"/>
                </a:lnTo>
                <a:lnTo>
                  <a:pt x="339" y="220"/>
                </a:lnTo>
                <a:lnTo>
                  <a:pt x="373" y="152"/>
                </a:lnTo>
                <a:lnTo>
                  <a:pt x="407" y="118"/>
                </a:lnTo>
                <a:lnTo>
                  <a:pt x="424" y="84"/>
                </a:lnTo>
                <a:lnTo>
                  <a:pt x="424" y="51"/>
                </a:lnTo>
                <a:lnTo>
                  <a:pt x="424" y="34"/>
                </a:lnTo>
                <a:lnTo>
                  <a:pt x="407" y="17"/>
                </a:lnTo>
                <a:lnTo>
                  <a:pt x="424" y="17"/>
                </a:lnTo>
                <a:lnTo>
                  <a:pt x="424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4" name="Freeform 41"/>
          <p:cNvSpPr/>
          <p:nvPr/>
        </p:nvSpPr>
        <p:spPr>
          <a:xfrm>
            <a:off x="6605640" y="3424320"/>
            <a:ext cx="763200" cy="461520"/>
          </a:xfrm>
          <a:custGeom>
            <a:avLst/>
            <a:gdLst>
              <a:gd name="textAreaLeft" fmla="*/ 0 w 763200"/>
              <a:gd name="textAreaRight" fmla="*/ 763560 w 76320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1203" h="726">
                <a:moveTo>
                  <a:pt x="1203" y="574"/>
                </a:moveTo>
                <a:lnTo>
                  <a:pt x="1186" y="591"/>
                </a:lnTo>
                <a:lnTo>
                  <a:pt x="1169" y="608"/>
                </a:lnTo>
                <a:lnTo>
                  <a:pt x="1135" y="625"/>
                </a:lnTo>
                <a:lnTo>
                  <a:pt x="1068" y="642"/>
                </a:lnTo>
                <a:lnTo>
                  <a:pt x="1017" y="676"/>
                </a:lnTo>
                <a:lnTo>
                  <a:pt x="966" y="693"/>
                </a:lnTo>
                <a:lnTo>
                  <a:pt x="915" y="709"/>
                </a:lnTo>
                <a:lnTo>
                  <a:pt x="864" y="709"/>
                </a:lnTo>
                <a:lnTo>
                  <a:pt x="796" y="709"/>
                </a:lnTo>
                <a:lnTo>
                  <a:pt x="729" y="726"/>
                </a:lnTo>
                <a:lnTo>
                  <a:pt x="712" y="709"/>
                </a:lnTo>
                <a:lnTo>
                  <a:pt x="661" y="676"/>
                </a:lnTo>
                <a:lnTo>
                  <a:pt x="610" y="625"/>
                </a:lnTo>
                <a:lnTo>
                  <a:pt x="525" y="557"/>
                </a:lnTo>
                <a:lnTo>
                  <a:pt x="424" y="456"/>
                </a:lnTo>
                <a:lnTo>
                  <a:pt x="305" y="338"/>
                </a:lnTo>
                <a:lnTo>
                  <a:pt x="170" y="203"/>
                </a:lnTo>
                <a:lnTo>
                  <a:pt x="0" y="51"/>
                </a:lnTo>
                <a:lnTo>
                  <a:pt x="51" y="0"/>
                </a:lnTo>
                <a:lnTo>
                  <a:pt x="102" y="34"/>
                </a:lnTo>
                <a:lnTo>
                  <a:pt x="187" y="84"/>
                </a:lnTo>
                <a:lnTo>
                  <a:pt x="271" y="152"/>
                </a:lnTo>
                <a:lnTo>
                  <a:pt x="373" y="219"/>
                </a:lnTo>
                <a:lnTo>
                  <a:pt x="491" y="304"/>
                </a:lnTo>
                <a:lnTo>
                  <a:pt x="627" y="372"/>
                </a:lnTo>
                <a:lnTo>
                  <a:pt x="763" y="439"/>
                </a:lnTo>
                <a:lnTo>
                  <a:pt x="898" y="473"/>
                </a:lnTo>
                <a:lnTo>
                  <a:pt x="966" y="490"/>
                </a:lnTo>
                <a:lnTo>
                  <a:pt x="1034" y="507"/>
                </a:lnTo>
                <a:lnTo>
                  <a:pt x="1084" y="524"/>
                </a:lnTo>
                <a:lnTo>
                  <a:pt x="1118" y="540"/>
                </a:lnTo>
                <a:lnTo>
                  <a:pt x="1152" y="557"/>
                </a:lnTo>
                <a:lnTo>
                  <a:pt x="1186" y="574"/>
                </a:lnTo>
                <a:lnTo>
                  <a:pt x="1203" y="57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0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ī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58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2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3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68" name="TextBox 57"/>
          <p:cNvSpPr/>
          <p:nvPr/>
        </p:nvSpPr>
        <p:spPr>
          <a:xfrm>
            <a:off x="4594320" y="4857840"/>
            <a:ext cx="392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上半部分左右保持一致，最后一笔要长而且平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3"/>
          <p:cNvSpPr/>
          <p:nvPr/>
        </p:nvSpPr>
        <p:spPr>
          <a:xfrm>
            <a:off x="8589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丝绦  丝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4"/>
          <p:cNvSpPr/>
          <p:nvPr/>
        </p:nvSpPr>
        <p:spPr>
          <a:xfrm>
            <a:off x="857160" y="503568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柳树的叶子就像垂下的万条绿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1"/>
          <p:cNvSpPr/>
          <p:nvPr/>
        </p:nvSpPr>
        <p:spPr>
          <a:xfrm>
            <a:off x="22399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5471640" y="2279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3"/>
          <p:cNvSpPr/>
          <p:nvPr/>
        </p:nvSpPr>
        <p:spPr>
          <a:xfrm>
            <a:off x="5492880" y="3727440"/>
            <a:ext cx="1806120" cy="225000"/>
          </a:xfrm>
          <a:custGeom>
            <a:avLst/>
            <a:gdLst>
              <a:gd name="textAreaLeft" fmla="*/ 0 w 1806120"/>
              <a:gd name="textAreaRight" fmla="*/ 1806480 w 1806120"/>
              <a:gd name="textAreaTop" fmla="*/ 0 h 225000"/>
              <a:gd name="textAreaBottom" fmla="*/ 225360 h 225000"/>
            </a:gdLst>
            <a:ahLst/>
            <a:rect l="textAreaLeft" t="textAreaTop" r="textAreaRight" b="textAreaBottom"/>
            <a:pathLst>
              <a:path w="2845" h="355">
                <a:moveTo>
                  <a:pt x="931" y="270"/>
                </a:moveTo>
                <a:lnTo>
                  <a:pt x="677" y="304"/>
                </a:lnTo>
                <a:lnTo>
                  <a:pt x="559" y="304"/>
                </a:lnTo>
                <a:lnTo>
                  <a:pt x="457" y="321"/>
                </a:lnTo>
                <a:lnTo>
                  <a:pt x="356" y="338"/>
                </a:lnTo>
                <a:lnTo>
                  <a:pt x="288" y="355"/>
                </a:lnTo>
                <a:lnTo>
                  <a:pt x="237" y="355"/>
                </a:lnTo>
                <a:lnTo>
                  <a:pt x="220" y="355"/>
                </a:lnTo>
                <a:lnTo>
                  <a:pt x="186" y="338"/>
                </a:lnTo>
                <a:lnTo>
                  <a:pt x="135" y="304"/>
                </a:lnTo>
                <a:lnTo>
                  <a:pt x="85" y="253"/>
                </a:lnTo>
                <a:lnTo>
                  <a:pt x="0" y="203"/>
                </a:lnTo>
                <a:lnTo>
                  <a:pt x="34" y="186"/>
                </a:lnTo>
                <a:lnTo>
                  <a:pt x="102" y="169"/>
                </a:lnTo>
                <a:lnTo>
                  <a:pt x="169" y="152"/>
                </a:lnTo>
                <a:lnTo>
                  <a:pt x="271" y="152"/>
                </a:lnTo>
                <a:lnTo>
                  <a:pt x="373" y="152"/>
                </a:lnTo>
                <a:lnTo>
                  <a:pt x="508" y="152"/>
                </a:lnTo>
                <a:lnTo>
                  <a:pt x="644" y="135"/>
                </a:lnTo>
                <a:lnTo>
                  <a:pt x="796" y="135"/>
                </a:lnTo>
                <a:lnTo>
                  <a:pt x="965" y="118"/>
                </a:lnTo>
                <a:lnTo>
                  <a:pt x="1186" y="101"/>
                </a:lnTo>
                <a:lnTo>
                  <a:pt x="1406" y="84"/>
                </a:lnTo>
                <a:lnTo>
                  <a:pt x="1660" y="50"/>
                </a:lnTo>
                <a:lnTo>
                  <a:pt x="1795" y="34"/>
                </a:lnTo>
                <a:lnTo>
                  <a:pt x="1914" y="34"/>
                </a:lnTo>
                <a:lnTo>
                  <a:pt x="2015" y="17"/>
                </a:lnTo>
                <a:lnTo>
                  <a:pt x="2100" y="17"/>
                </a:lnTo>
                <a:lnTo>
                  <a:pt x="2185" y="0"/>
                </a:lnTo>
                <a:lnTo>
                  <a:pt x="2269" y="0"/>
                </a:lnTo>
                <a:lnTo>
                  <a:pt x="2337" y="0"/>
                </a:lnTo>
                <a:lnTo>
                  <a:pt x="2388" y="0"/>
                </a:lnTo>
                <a:lnTo>
                  <a:pt x="2473" y="0"/>
                </a:lnTo>
                <a:lnTo>
                  <a:pt x="2557" y="17"/>
                </a:lnTo>
                <a:lnTo>
                  <a:pt x="2642" y="34"/>
                </a:lnTo>
                <a:lnTo>
                  <a:pt x="2710" y="67"/>
                </a:lnTo>
                <a:lnTo>
                  <a:pt x="2778" y="118"/>
                </a:lnTo>
                <a:lnTo>
                  <a:pt x="2811" y="135"/>
                </a:lnTo>
                <a:lnTo>
                  <a:pt x="2828" y="152"/>
                </a:lnTo>
                <a:lnTo>
                  <a:pt x="2845" y="169"/>
                </a:lnTo>
                <a:lnTo>
                  <a:pt x="2828" y="203"/>
                </a:lnTo>
                <a:lnTo>
                  <a:pt x="2811" y="219"/>
                </a:lnTo>
                <a:lnTo>
                  <a:pt x="2778" y="236"/>
                </a:lnTo>
                <a:lnTo>
                  <a:pt x="2727" y="236"/>
                </a:lnTo>
                <a:lnTo>
                  <a:pt x="2642" y="236"/>
                </a:lnTo>
                <a:lnTo>
                  <a:pt x="2524" y="219"/>
                </a:lnTo>
                <a:lnTo>
                  <a:pt x="2388" y="203"/>
                </a:lnTo>
                <a:lnTo>
                  <a:pt x="2253" y="203"/>
                </a:lnTo>
                <a:lnTo>
                  <a:pt x="1982" y="203"/>
                </a:lnTo>
                <a:lnTo>
                  <a:pt x="1694" y="203"/>
                </a:lnTo>
                <a:lnTo>
                  <a:pt x="1440" y="219"/>
                </a:lnTo>
                <a:lnTo>
                  <a:pt x="1186" y="236"/>
                </a:lnTo>
                <a:lnTo>
                  <a:pt x="931" y="27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6" name="Freeform 31"/>
          <p:cNvSpPr/>
          <p:nvPr/>
        </p:nvSpPr>
        <p:spPr>
          <a:xfrm>
            <a:off x="6396120" y="2440080"/>
            <a:ext cx="483840" cy="729720"/>
          </a:xfrm>
          <a:custGeom>
            <a:avLst/>
            <a:gdLst>
              <a:gd name="textAreaLeft" fmla="*/ 0 w 483840"/>
              <a:gd name="textAreaRight" fmla="*/ 484200 w 483840"/>
              <a:gd name="textAreaTop" fmla="*/ 0 h 729720"/>
              <a:gd name="textAreaBottom" fmla="*/ 730080 h 729720"/>
            </a:gdLst>
            <a:ahLst/>
            <a:rect l="textAreaLeft" t="textAreaTop" r="textAreaRight" b="textAreaBottom"/>
            <a:pathLst>
              <a:path w="762" h="1149">
                <a:moveTo>
                  <a:pt x="50" y="946"/>
                </a:moveTo>
                <a:lnTo>
                  <a:pt x="84" y="930"/>
                </a:lnTo>
                <a:lnTo>
                  <a:pt x="118" y="896"/>
                </a:lnTo>
                <a:lnTo>
                  <a:pt x="169" y="828"/>
                </a:lnTo>
                <a:lnTo>
                  <a:pt x="220" y="761"/>
                </a:lnTo>
                <a:lnTo>
                  <a:pt x="288" y="659"/>
                </a:lnTo>
                <a:lnTo>
                  <a:pt x="338" y="575"/>
                </a:lnTo>
                <a:lnTo>
                  <a:pt x="389" y="457"/>
                </a:lnTo>
                <a:lnTo>
                  <a:pt x="457" y="338"/>
                </a:lnTo>
                <a:lnTo>
                  <a:pt x="474" y="288"/>
                </a:lnTo>
                <a:lnTo>
                  <a:pt x="508" y="237"/>
                </a:lnTo>
                <a:lnTo>
                  <a:pt x="525" y="152"/>
                </a:lnTo>
                <a:lnTo>
                  <a:pt x="542" y="85"/>
                </a:lnTo>
                <a:lnTo>
                  <a:pt x="542" y="68"/>
                </a:lnTo>
                <a:lnTo>
                  <a:pt x="542" y="17"/>
                </a:lnTo>
                <a:lnTo>
                  <a:pt x="559" y="0"/>
                </a:lnTo>
                <a:lnTo>
                  <a:pt x="575" y="0"/>
                </a:lnTo>
                <a:lnTo>
                  <a:pt x="592" y="0"/>
                </a:lnTo>
                <a:lnTo>
                  <a:pt x="643" y="17"/>
                </a:lnTo>
                <a:lnTo>
                  <a:pt x="677" y="51"/>
                </a:lnTo>
                <a:lnTo>
                  <a:pt x="728" y="85"/>
                </a:lnTo>
                <a:lnTo>
                  <a:pt x="745" y="119"/>
                </a:lnTo>
                <a:lnTo>
                  <a:pt x="762" y="152"/>
                </a:lnTo>
                <a:lnTo>
                  <a:pt x="762" y="169"/>
                </a:lnTo>
                <a:lnTo>
                  <a:pt x="762" y="186"/>
                </a:lnTo>
                <a:lnTo>
                  <a:pt x="745" y="220"/>
                </a:lnTo>
                <a:lnTo>
                  <a:pt x="728" y="254"/>
                </a:lnTo>
                <a:lnTo>
                  <a:pt x="694" y="288"/>
                </a:lnTo>
                <a:lnTo>
                  <a:pt x="660" y="355"/>
                </a:lnTo>
                <a:lnTo>
                  <a:pt x="609" y="423"/>
                </a:lnTo>
                <a:lnTo>
                  <a:pt x="559" y="490"/>
                </a:lnTo>
                <a:lnTo>
                  <a:pt x="491" y="575"/>
                </a:lnTo>
                <a:lnTo>
                  <a:pt x="423" y="659"/>
                </a:lnTo>
                <a:lnTo>
                  <a:pt x="372" y="744"/>
                </a:lnTo>
                <a:lnTo>
                  <a:pt x="338" y="794"/>
                </a:lnTo>
                <a:lnTo>
                  <a:pt x="304" y="862"/>
                </a:lnTo>
                <a:lnTo>
                  <a:pt x="271" y="896"/>
                </a:lnTo>
                <a:lnTo>
                  <a:pt x="271" y="930"/>
                </a:lnTo>
                <a:lnTo>
                  <a:pt x="254" y="946"/>
                </a:lnTo>
                <a:lnTo>
                  <a:pt x="271" y="963"/>
                </a:lnTo>
                <a:lnTo>
                  <a:pt x="304" y="963"/>
                </a:lnTo>
                <a:lnTo>
                  <a:pt x="338" y="980"/>
                </a:lnTo>
                <a:lnTo>
                  <a:pt x="389" y="980"/>
                </a:lnTo>
                <a:lnTo>
                  <a:pt x="457" y="980"/>
                </a:lnTo>
                <a:lnTo>
                  <a:pt x="542" y="980"/>
                </a:lnTo>
                <a:lnTo>
                  <a:pt x="626" y="980"/>
                </a:lnTo>
                <a:lnTo>
                  <a:pt x="728" y="980"/>
                </a:lnTo>
                <a:lnTo>
                  <a:pt x="728" y="1048"/>
                </a:lnTo>
                <a:lnTo>
                  <a:pt x="609" y="1048"/>
                </a:lnTo>
                <a:lnTo>
                  <a:pt x="508" y="1065"/>
                </a:lnTo>
                <a:lnTo>
                  <a:pt x="406" y="1082"/>
                </a:lnTo>
                <a:lnTo>
                  <a:pt x="321" y="1099"/>
                </a:lnTo>
                <a:lnTo>
                  <a:pt x="237" y="1115"/>
                </a:lnTo>
                <a:lnTo>
                  <a:pt x="169" y="1149"/>
                </a:lnTo>
                <a:lnTo>
                  <a:pt x="118" y="1149"/>
                </a:lnTo>
                <a:lnTo>
                  <a:pt x="101" y="1149"/>
                </a:lnTo>
                <a:lnTo>
                  <a:pt x="84" y="1149"/>
                </a:lnTo>
                <a:lnTo>
                  <a:pt x="67" y="1132"/>
                </a:lnTo>
                <a:lnTo>
                  <a:pt x="34" y="1082"/>
                </a:lnTo>
                <a:lnTo>
                  <a:pt x="0" y="1031"/>
                </a:lnTo>
                <a:lnTo>
                  <a:pt x="0" y="980"/>
                </a:lnTo>
                <a:lnTo>
                  <a:pt x="0" y="963"/>
                </a:lnTo>
                <a:lnTo>
                  <a:pt x="17" y="963"/>
                </a:lnTo>
                <a:lnTo>
                  <a:pt x="50" y="94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7" name="Freeform 32"/>
          <p:cNvSpPr/>
          <p:nvPr/>
        </p:nvSpPr>
        <p:spPr>
          <a:xfrm>
            <a:off x="5686560" y="2482920"/>
            <a:ext cx="493200" cy="729720"/>
          </a:xfrm>
          <a:custGeom>
            <a:avLst/>
            <a:gdLst>
              <a:gd name="textAreaLeft" fmla="*/ 0 w 493200"/>
              <a:gd name="textAreaRight" fmla="*/ 493560 w 493200"/>
              <a:gd name="textAreaTop" fmla="*/ 0 h 729720"/>
              <a:gd name="textAreaBottom" fmla="*/ 730080 h 729720"/>
            </a:gdLst>
            <a:ahLst/>
            <a:rect l="textAreaLeft" t="textAreaTop" r="textAreaRight" b="textAreaBottom"/>
            <a:pathLst>
              <a:path w="779" h="1149">
                <a:moveTo>
                  <a:pt x="728" y="203"/>
                </a:moveTo>
                <a:lnTo>
                  <a:pt x="728" y="220"/>
                </a:lnTo>
                <a:lnTo>
                  <a:pt x="711" y="253"/>
                </a:lnTo>
                <a:lnTo>
                  <a:pt x="694" y="287"/>
                </a:lnTo>
                <a:lnTo>
                  <a:pt x="660" y="338"/>
                </a:lnTo>
                <a:lnTo>
                  <a:pt x="643" y="389"/>
                </a:lnTo>
                <a:lnTo>
                  <a:pt x="593" y="439"/>
                </a:lnTo>
                <a:lnTo>
                  <a:pt x="559" y="507"/>
                </a:lnTo>
                <a:lnTo>
                  <a:pt x="508" y="591"/>
                </a:lnTo>
                <a:lnTo>
                  <a:pt x="457" y="676"/>
                </a:lnTo>
                <a:lnTo>
                  <a:pt x="406" y="743"/>
                </a:lnTo>
                <a:lnTo>
                  <a:pt x="372" y="794"/>
                </a:lnTo>
                <a:lnTo>
                  <a:pt x="339" y="845"/>
                </a:lnTo>
                <a:lnTo>
                  <a:pt x="322" y="878"/>
                </a:lnTo>
                <a:lnTo>
                  <a:pt x="305" y="912"/>
                </a:lnTo>
                <a:lnTo>
                  <a:pt x="288" y="929"/>
                </a:lnTo>
                <a:lnTo>
                  <a:pt x="305" y="929"/>
                </a:lnTo>
                <a:lnTo>
                  <a:pt x="355" y="946"/>
                </a:lnTo>
                <a:lnTo>
                  <a:pt x="406" y="929"/>
                </a:lnTo>
                <a:lnTo>
                  <a:pt x="491" y="929"/>
                </a:lnTo>
                <a:lnTo>
                  <a:pt x="576" y="929"/>
                </a:lnTo>
                <a:lnTo>
                  <a:pt x="643" y="912"/>
                </a:lnTo>
                <a:lnTo>
                  <a:pt x="711" y="912"/>
                </a:lnTo>
                <a:lnTo>
                  <a:pt x="779" y="912"/>
                </a:lnTo>
                <a:lnTo>
                  <a:pt x="779" y="1014"/>
                </a:lnTo>
                <a:lnTo>
                  <a:pt x="660" y="1014"/>
                </a:lnTo>
                <a:lnTo>
                  <a:pt x="559" y="1031"/>
                </a:lnTo>
                <a:lnTo>
                  <a:pt x="457" y="1047"/>
                </a:lnTo>
                <a:lnTo>
                  <a:pt x="355" y="1081"/>
                </a:lnTo>
                <a:lnTo>
                  <a:pt x="254" y="1115"/>
                </a:lnTo>
                <a:lnTo>
                  <a:pt x="169" y="1132"/>
                </a:lnTo>
                <a:lnTo>
                  <a:pt x="118" y="1149"/>
                </a:lnTo>
                <a:lnTo>
                  <a:pt x="101" y="1149"/>
                </a:lnTo>
                <a:lnTo>
                  <a:pt x="84" y="1132"/>
                </a:lnTo>
                <a:lnTo>
                  <a:pt x="68" y="1115"/>
                </a:lnTo>
                <a:lnTo>
                  <a:pt x="51" y="1098"/>
                </a:lnTo>
                <a:lnTo>
                  <a:pt x="34" y="1047"/>
                </a:lnTo>
                <a:lnTo>
                  <a:pt x="17" y="997"/>
                </a:lnTo>
                <a:lnTo>
                  <a:pt x="0" y="963"/>
                </a:lnTo>
                <a:lnTo>
                  <a:pt x="17" y="946"/>
                </a:lnTo>
                <a:lnTo>
                  <a:pt x="34" y="929"/>
                </a:lnTo>
                <a:lnTo>
                  <a:pt x="84" y="895"/>
                </a:lnTo>
                <a:lnTo>
                  <a:pt x="118" y="878"/>
                </a:lnTo>
                <a:lnTo>
                  <a:pt x="169" y="845"/>
                </a:lnTo>
                <a:lnTo>
                  <a:pt x="203" y="794"/>
                </a:lnTo>
                <a:lnTo>
                  <a:pt x="271" y="710"/>
                </a:lnTo>
                <a:lnTo>
                  <a:pt x="355" y="524"/>
                </a:lnTo>
                <a:lnTo>
                  <a:pt x="406" y="439"/>
                </a:lnTo>
                <a:lnTo>
                  <a:pt x="457" y="321"/>
                </a:lnTo>
                <a:lnTo>
                  <a:pt x="491" y="220"/>
                </a:lnTo>
                <a:lnTo>
                  <a:pt x="508" y="135"/>
                </a:lnTo>
                <a:lnTo>
                  <a:pt x="508" y="84"/>
                </a:lnTo>
                <a:lnTo>
                  <a:pt x="491" y="51"/>
                </a:lnTo>
                <a:lnTo>
                  <a:pt x="474" y="51"/>
                </a:lnTo>
                <a:lnTo>
                  <a:pt x="474" y="34"/>
                </a:lnTo>
                <a:lnTo>
                  <a:pt x="474" y="0"/>
                </a:lnTo>
                <a:lnTo>
                  <a:pt x="491" y="0"/>
                </a:lnTo>
                <a:lnTo>
                  <a:pt x="525" y="0"/>
                </a:lnTo>
                <a:lnTo>
                  <a:pt x="576" y="0"/>
                </a:lnTo>
                <a:lnTo>
                  <a:pt x="643" y="34"/>
                </a:lnTo>
                <a:lnTo>
                  <a:pt x="711" y="84"/>
                </a:lnTo>
                <a:lnTo>
                  <a:pt x="728" y="118"/>
                </a:lnTo>
                <a:lnTo>
                  <a:pt x="745" y="152"/>
                </a:lnTo>
                <a:lnTo>
                  <a:pt x="745" y="186"/>
                </a:lnTo>
                <a:lnTo>
                  <a:pt x="728" y="20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8" name="Freeform 34"/>
          <p:cNvSpPr/>
          <p:nvPr/>
        </p:nvSpPr>
        <p:spPr>
          <a:xfrm>
            <a:off x="6427800" y="2816280"/>
            <a:ext cx="645840" cy="771120"/>
          </a:xfrm>
          <a:custGeom>
            <a:avLst/>
            <a:gdLst>
              <a:gd name="textAreaLeft" fmla="*/ 0 w 645840"/>
              <a:gd name="textAreaRight" fmla="*/ 646200 w 645840"/>
              <a:gd name="textAreaTop" fmla="*/ 0 h 771120"/>
              <a:gd name="textAreaBottom" fmla="*/ 771480 h 771120"/>
            </a:gdLst>
            <a:ahLst/>
            <a:rect l="textAreaLeft" t="textAreaTop" r="textAreaRight" b="textAreaBottom"/>
            <a:pathLst>
              <a:path w="1017" h="1216">
                <a:moveTo>
                  <a:pt x="525" y="963"/>
                </a:moveTo>
                <a:lnTo>
                  <a:pt x="644" y="946"/>
                </a:lnTo>
                <a:lnTo>
                  <a:pt x="729" y="946"/>
                </a:lnTo>
                <a:lnTo>
                  <a:pt x="796" y="946"/>
                </a:lnTo>
                <a:lnTo>
                  <a:pt x="864" y="929"/>
                </a:lnTo>
                <a:lnTo>
                  <a:pt x="898" y="946"/>
                </a:lnTo>
                <a:lnTo>
                  <a:pt x="932" y="946"/>
                </a:lnTo>
                <a:lnTo>
                  <a:pt x="966" y="963"/>
                </a:lnTo>
                <a:lnTo>
                  <a:pt x="966" y="980"/>
                </a:lnTo>
                <a:lnTo>
                  <a:pt x="966" y="997"/>
                </a:lnTo>
                <a:lnTo>
                  <a:pt x="932" y="1013"/>
                </a:lnTo>
                <a:lnTo>
                  <a:pt x="881" y="1030"/>
                </a:lnTo>
                <a:lnTo>
                  <a:pt x="813" y="1030"/>
                </a:lnTo>
                <a:lnTo>
                  <a:pt x="644" y="1064"/>
                </a:lnTo>
                <a:lnTo>
                  <a:pt x="559" y="1081"/>
                </a:lnTo>
                <a:lnTo>
                  <a:pt x="458" y="1098"/>
                </a:lnTo>
                <a:lnTo>
                  <a:pt x="356" y="1115"/>
                </a:lnTo>
                <a:lnTo>
                  <a:pt x="288" y="1132"/>
                </a:lnTo>
                <a:lnTo>
                  <a:pt x="221" y="1149"/>
                </a:lnTo>
                <a:lnTo>
                  <a:pt x="187" y="1182"/>
                </a:lnTo>
                <a:lnTo>
                  <a:pt x="153" y="1199"/>
                </a:lnTo>
                <a:lnTo>
                  <a:pt x="136" y="1216"/>
                </a:lnTo>
                <a:lnTo>
                  <a:pt x="119" y="1216"/>
                </a:lnTo>
                <a:lnTo>
                  <a:pt x="102" y="1216"/>
                </a:lnTo>
                <a:lnTo>
                  <a:pt x="85" y="1216"/>
                </a:lnTo>
                <a:lnTo>
                  <a:pt x="68" y="1199"/>
                </a:lnTo>
                <a:lnTo>
                  <a:pt x="51" y="1165"/>
                </a:lnTo>
                <a:lnTo>
                  <a:pt x="51" y="1132"/>
                </a:lnTo>
                <a:lnTo>
                  <a:pt x="17" y="1081"/>
                </a:lnTo>
                <a:lnTo>
                  <a:pt x="17" y="1030"/>
                </a:lnTo>
                <a:lnTo>
                  <a:pt x="0" y="1030"/>
                </a:lnTo>
                <a:lnTo>
                  <a:pt x="17" y="997"/>
                </a:lnTo>
                <a:lnTo>
                  <a:pt x="51" y="980"/>
                </a:lnTo>
                <a:lnTo>
                  <a:pt x="85" y="946"/>
                </a:lnTo>
                <a:lnTo>
                  <a:pt x="136" y="912"/>
                </a:lnTo>
                <a:lnTo>
                  <a:pt x="204" y="861"/>
                </a:lnTo>
                <a:lnTo>
                  <a:pt x="271" y="794"/>
                </a:lnTo>
                <a:lnTo>
                  <a:pt x="373" y="692"/>
                </a:lnTo>
                <a:lnTo>
                  <a:pt x="542" y="507"/>
                </a:lnTo>
                <a:lnTo>
                  <a:pt x="627" y="405"/>
                </a:lnTo>
                <a:lnTo>
                  <a:pt x="695" y="304"/>
                </a:lnTo>
                <a:lnTo>
                  <a:pt x="746" y="219"/>
                </a:lnTo>
                <a:lnTo>
                  <a:pt x="780" y="152"/>
                </a:lnTo>
                <a:lnTo>
                  <a:pt x="796" y="84"/>
                </a:lnTo>
                <a:lnTo>
                  <a:pt x="796" y="50"/>
                </a:lnTo>
                <a:lnTo>
                  <a:pt x="796" y="33"/>
                </a:lnTo>
                <a:lnTo>
                  <a:pt x="796" y="17"/>
                </a:lnTo>
                <a:lnTo>
                  <a:pt x="813" y="0"/>
                </a:lnTo>
                <a:lnTo>
                  <a:pt x="847" y="17"/>
                </a:lnTo>
                <a:lnTo>
                  <a:pt x="915" y="33"/>
                </a:lnTo>
                <a:lnTo>
                  <a:pt x="966" y="84"/>
                </a:lnTo>
                <a:lnTo>
                  <a:pt x="1000" y="118"/>
                </a:lnTo>
                <a:lnTo>
                  <a:pt x="1017" y="152"/>
                </a:lnTo>
                <a:lnTo>
                  <a:pt x="1017" y="186"/>
                </a:lnTo>
                <a:lnTo>
                  <a:pt x="1000" y="219"/>
                </a:lnTo>
                <a:lnTo>
                  <a:pt x="966" y="270"/>
                </a:lnTo>
                <a:lnTo>
                  <a:pt x="898" y="338"/>
                </a:lnTo>
                <a:lnTo>
                  <a:pt x="813" y="422"/>
                </a:lnTo>
                <a:lnTo>
                  <a:pt x="729" y="523"/>
                </a:lnTo>
                <a:lnTo>
                  <a:pt x="627" y="625"/>
                </a:lnTo>
                <a:lnTo>
                  <a:pt x="542" y="709"/>
                </a:lnTo>
                <a:lnTo>
                  <a:pt x="458" y="777"/>
                </a:lnTo>
                <a:lnTo>
                  <a:pt x="373" y="861"/>
                </a:lnTo>
                <a:lnTo>
                  <a:pt x="322" y="912"/>
                </a:lnTo>
                <a:lnTo>
                  <a:pt x="305" y="946"/>
                </a:lnTo>
                <a:lnTo>
                  <a:pt x="305" y="963"/>
                </a:lnTo>
                <a:lnTo>
                  <a:pt x="322" y="963"/>
                </a:lnTo>
                <a:lnTo>
                  <a:pt x="373" y="963"/>
                </a:lnTo>
                <a:lnTo>
                  <a:pt x="441" y="963"/>
                </a:lnTo>
                <a:lnTo>
                  <a:pt x="525" y="96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Freeform 30"/>
          <p:cNvSpPr/>
          <p:nvPr/>
        </p:nvSpPr>
        <p:spPr>
          <a:xfrm>
            <a:off x="5749920" y="2816280"/>
            <a:ext cx="634680" cy="782280"/>
          </a:xfrm>
          <a:custGeom>
            <a:avLst/>
            <a:gdLst>
              <a:gd name="textAreaLeft" fmla="*/ 0 w 634680"/>
              <a:gd name="textAreaRight" fmla="*/ 635040 w 634680"/>
              <a:gd name="textAreaTop" fmla="*/ 0 h 782280"/>
              <a:gd name="textAreaBottom" fmla="*/ 782640 h 782280"/>
            </a:gdLst>
            <a:ahLst/>
            <a:rect l="textAreaLeft" t="textAreaTop" r="textAreaRight" b="textAreaBottom"/>
            <a:pathLst>
              <a:path w="1000" h="1233">
                <a:moveTo>
                  <a:pt x="661" y="354"/>
                </a:moveTo>
                <a:lnTo>
                  <a:pt x="729" y="253"/>
                </a:lnTo>
                <a:lnTo>
                  <a:pt x="780" y="169"/>
                </a:lnTo>
                <a:lnTo>
                  <a:pt x="813" y="101"/>
                </a:lnTo>
                <a:lnTo>
                  <a:pt x="813" y="67"/>
                </a:lnTo>
                <a:lnTo>
                  <a:pt x="796" y="33"/>
                </a:lnTo>
                <a:lnTo>
                  <a:pt x="796" y="17"/>
                </a:lnTo>
                <a:lnTo>
                  <a:pt x="813" y="17"/>
                </a:lnTo>
                <a:lnTo>
                  <a:pt x="830" y="0"/>
                </a:lnTo>
                <a:lnTo>
                  <a:pt x="864" y="0"/>
                </a:lnTo>
                <a:lnTo>
                  <a:pt x="898" y="0"/>
                </a:lnTo>
                <a:lnTo>
                  <a:pt x="915" y="17"/>
                </a:lnTo>
                <a:lnTo>
                  <a:pt x="949" y="50"/>
                </a:lnTo>
                <a:lnTo>
                  <a:pt x="966" y="84"/>
                </a:lnTo>
                <a:lnTo>
                  <a:pt x="983" y="118"/>
                </a:lnTo>
                <a:lnTo>
                  <a:pt x="1000" y="186"/>
                </a:lnTo>
                <a:lnTo>
                  <a:pt x="1000" y="202"/>
                </a:lnTo>
                <a:lnTo>
                  <a:pt x="983" y="219"/>
                </a:lnTo>
                <a:lnTo>
                  <a:pt x="949" y="270"/>
                </a:lnTo>
                <a:lnTo>
                  <a:pt x="915" y="304"/>
                </a:lnTo>
                <a:lnTo>
                  <a:pt x="847" y="371"/>
                </a:lnTo>
                <a:lnTo>
                  <a:pt x="796" y="439"/>
                </a:lnTo>
                <a:lnTo>
                  <a:pt x="712" y="507"/>
                </a:lnTo>
                <a:lnTo>
                  <a:pt x="627" y="591"/>
                </a:lnTo>
                <a:lnTo>
                  <a:pt x="542" y="676"/>
                </a:lnTo>
                <a:lnTo>
                  <a:pt x="475" y="760"/>
                </a:lnTo>
                <a:lnTo>
                  <a:pt x="424" y="811"/>
                </a:lnTo>
                <a:lnTo>
                  <a:pt x="373" y="878"/>
                </a:lnTo>
                <a:lnTo>
                  <a:pt x="322" y="912"/>
                </a:lnTo>
                <a:lnTo>
                  <a:pt x="305" y="946"/>
                </a:lnTo>
                <a:lnTo>
                  <a:pt x="288" y="963"/>
                </a:lnTo>
                <a:lnTo>
                  <a:pt x="288" y="980"/>
                </a:lnTo>
                <a:lnTo>
                  <a:pt x="305" y="980"/>
                </a:lnTo>
                <a:lnTo>
                  <a:pt x="322" y="980"/>
                </a:lnTo>
                <a:lnTo>
                  <a:pt x="356" y="980"/>
                </a:lnTo>
                <a:lnTo>
                  <a:pt x="390" y="980"/>
                </a:lnTo>
                <a:lnTo>
                  <a:pt x="441" y="963"/>
                </a:lnTo>
                <a:lnTo>
                  <a:pt x="492" y="963"/>
                </a:lnTo>
                <a:lnTo>
                  <a:pt x="559" y="946"/>
                </a:lnTo>
                <a:lnTo>
                  <a:pt x="627" y="929"/>
                </a:lnTo>
                <a:lnTo>
                  <a:pt x="712" y="929"/>
                </a:lnTo>
                <a:lnTo>
                  <a:pt x="780" y="912"/>
                </a:lnTo>
                <a:lnTo>
                  <a:pt x="830" y="912"/>
                </a:lnTo>
                <a:lnTo>
                  <a:pt x="864" y="912"/>
                </a:lnTo>
                <a:lnTo>
                  <a:pt x="915" y="895"/>
                </a:lnTo>
                <a:lnTo>
                  <a:pt x="932" y="895"/>
                </a:lnTo>
                <a:lnTo>
                  <a:pt x="949" y="912"/>
                </a:lnTo>
                <a:lnTo>
                  <a:pt x="949" y="929"/>
                </a:lnTo>
                <a:lnTo>
                  <a:pt x="932" y="929"/>
                </a:lnTo>
                <a:lnTo>
                  <a:pt x="898" y="946"/>
                </a:lnTo>
                <a:lnTo>
                  <a:pt x="864" y="963"/>
                </a:lnTo>
                <a:lnTo>
                  <a:pt x="813" y="980"/>
                </a:lnTo>
                <a:lnTo>
                  <a:pt x="746" y="997"/>
                </a:lnTo>
                <a:lnTo>
                  <a:pt x="678" y="1030"/>
                </a:lnTo>
                <a:lnTo>
                  <a:pt x="593" y="1047"/>
                </a:lnTo>
                <a:lnTo>
                  <a:pt x="509" y="1081"/>
                </a:lnTo>
                <a:lnTo>
                  <a:pt x="441" y="1098"/>
                </a:lnTo>
                <a:lnTo>
                  <a:pt x="373" y="1115"/>
                </a:lnTo>
                <a:lnTo>
                  <a:pt x="322" y="1132"/>
                </a:lnTo>
                <a:lnTo>
                  <a:pt x="271" y="1149"/>
                </a:lnTo>
                <a:lnTo>
                  <a:pt x="238" y="1165"/>
                </a:lnTo>
                <a:lnTo>
                  <a:pt x="204" y="1182"/>
                </a:lnTo>
                <a:lnTo>
                  <a:pt x="187" y="1182"/>
                </a:lnTo>
                <a:lnTo>
                  <a:pt x="136" y="1216"/>
                </a:lnTo>
                <a:lnTo>
                  <a:pt x="102" y="1233"/>
                </a:lnTo>
                <a:lnTo>
                  <a:pt x="85" y="1216"/>
                </a:lnTo>
                <a:lnTo>
                  <a:pt x="68" y="1199"/>
                </a:lnTo>
                <a:lnTo>
                  <a:pt x="51" y="1182"/>
                </a:lnTo>
                <a:lnTo>
                  <a:pt x="34" y="1149"/>
                </a:lnTo>
                <a:lnTo>
                  <a:pt x="17" y="1098"/>
                </a:lnTo>
                <a:lnTo>
                  <a:pt x="0" y="1047"/>
                </a:lnTo>
                <a:lnTo>
                  <a:pt x="0" y="1030"/>
                </a:lnTo>
                <a:lnTo>
                  <a:pt x="34" y="997"/>
                </a:lnTo>
                <a:lnTo>
                  <a:pt x="68" y="980"/>
                </a:lnTo>
                <a:lnTo>
                  <a:pt x="119" y="929"/>
                </a:lnTo>
                <a:lnTo>
                  <a:pt x="170" y="895"/>
                </a:lnTo>
                <a:lnTo>
                  <a:pt x="238" y="844"/>
                </a:lnTo>
                <a:lnTo>
                  <a:pt x="356" y="726"/>
                </a:lnTo>
                <a:lnTo>
                  <a:pt x="424" y="642"/>
                </a:lnTo>
                <a:lnTo>
                  <a:pt x="492" y="557"/>
                </a:lnTo>
                <a:lnTo>
                  <a:pt x="576" y="456"/>
                </a:lnTo>
                <a:lnTo>
                  <a:pt x="661" y="35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wipe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0"/>
          <p:cNvSpPr/>
          <p:nvPr/>
        </p:nvSpPr>
        <p:spPr>
          <a:xfrm>
            <a:off x="126684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ǎ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83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4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5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6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7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8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9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0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1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2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93" name="TextBox 57"/>
          <p:cNvSpPr/>
          <p:nvPr/>
        </p:nvSpPr>
        <p:spPr>
          <a:xfrm>
            <a:off x="4502160" y="4857840"/>
            <a:ext cx="421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第一二画要短小，第三画要平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33"/>
          <p:cNvSpPr/>
          <p:nvPr/>
        </p:nvSpPr>
        <p:spPr>
          <a:xfrm>
            <a:off x="806400" y="45259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剪刀  剪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4"/>
          <p:cNvSpPr/>
          <p:nvPr/>
        </p:nvSpPr>
        <p:spPr>
          <a:xfrm>
            <a:off x="806400" y="500868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不知绿叶谁裁出，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1"/>
          <p:cNvSpPr/>
          <p:nvPr/>
        </p:nvSpPr>
        <p:spPr>
          <a:xfrm>
            <a:off x="22399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7"/>
          <p:cNvSpPr/>
          <p:nvPr/>
        </p:nvSpPr>
        <p:spPr>
          <a:xfrm>
            <a:off x="3409560" y="214488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40"/>
          <p:cNvSpPr/>
          <p:nvPr/>
        </p:nvSpPr>
        <p:spPr>
          <a:xfrm>
            <a:off x="6710400" y="2562120"/>
            <a:ext cx="236160" cy="729720"/>
          </a:xfrm>
          <a:custGeom>
            <a:avLst/>
            <a:gdLst>
              <a:gd name="textAreaLeft" fmla="*/ 0 w 236160"/>
              <a:gd name="textAreaRight" fmla="*/ 236520 w 236160"/>
              <a:gd name="textAreaTop" fmla="*/ 0 h 729720"/>
              <a:gd name="textAreaBottom" fmla="*/ 730080 h 729720"/>
            </a:gdLst>
            <a:ahLst/>
            <a:rect l="textAreaLeft" t="textAreaTop" r="textAreaRight" b="textAreaBottom"/>
            <a:pathLst>
              <a:path w="372" h="1149">
                <a:moveTo>
                  <a:pt x="169" y="878"/>
                </a:moveTo>
                <a:lnTo>
                  <a:pt x="186" y="845"/>
                </a:lnTo>
                <a:lnTo>
                  <a:pt x="203" y="794"/>
                </a:lnTo>
                <a:lnTo>
                  <a:pt x="203" y="693"/>
                </a:lnTo>
                <a:lnTo>
                  <a:pt x="203" y="574"/>
                </a:lnTo>
                <a:lnTo>
                  <a:pt x="203" y="456"/>
                </a:lnTo>
                <a:lnTo>
                  <a:pt x="203" y="372"/>
                </a:lnTo>
                <a:lnTo>
                  <a:pt x="203" y="287"/>
                </a:lnTo>
                <a:lnTo>
                  <a:pt x="203" y="219"/>
                </a:lnTo>
                <a:lnTo>
                  <a:pt x="186" y="186"/>
                </a:lnTo>
                <a:lnTo>
                  <a:pt x="169" y="152"/>
                </a:lnTo>
                <a:lnTo>
                  <a:pt x="152" y="101"/>
                </a:lnTo>
                <a:lnTo>
                  <a:pt x="118" y="67"/>
                </a:lnTo>
                <a:lnTo>
                  <a:pt x="101" y="34"/>
                </a:lnTo>
                <a:lnTo>
                  <a:pt x="118" y="17"/>
                </a:lnTo>
                <a:lnTo>
                  <a:pt x="135" y="0"/>
                </a:lnTo>
                <a:lnTo>
                  <a:pt x="169" y="0"/>
                </a:lnTo>
                <a:lnTo>
                  <a:pt x="203" y="17"/>
                </a:lnTo>
                <a:lnTo>
                  <a:pt x="288" y="34"/>
                </a:lnTo>
                <a:lnTo>
                  <a:pt x="321" y="51"/>
                </a:lnTo>
                <a:lnTo>
                  <a:pt x="355" y="67"/>
                </a:lnTo>
                <a:lnTo>
                  <a:pt x="372" y="101"/>
                </a:lnTo>
                <a:lnTo>
                  <a:pt x="372" y="135"/>
                </a:lnTo>
                <a:lnTo>
                  <a:pt x="355" y="169"/>
                </a:lnTo>
                <a:lnTo>
                  <a:pt x="355" y="203"/>
                </a:lnTo>
                <a:lnTo>
                  <a:pt x="355" y="236"/>
                </a:lnTo>
                <a:lnTo>
                  <a:pt x="355" y="287"/>
                </a:lnTo>
                <a:lnTo>
                  <a:pt x="355" y="338"/>
                </a:lnTo>
                <a:lnTo>
                  <a:pt x="355" y="388"/>
                </a:lnTo>
                <a:lnTo>
                  <a:pt x="355" y="473"/>
                </a:lnTo>
                <a:lnTo>
                  <a:pt x="355" y="540"/>
                </a:lnTo>
                <a:lnTo>
                  <a:pt x="355" y="625"/>
                </a:lnTo>
                <a:lnTo>
                  <a:pt x="355" y="726"/>
                </a:lnTo>
                <a:lnTo>
                  <a:pt x="338" y="794"/>
                </a:lnTo>
                <a:lnTo>
                  <a:pt x="338" y="862"/>
                </a:lnTo>
                <a:lnTo>
                  <a:pt x="338" y="929"/>
                </a:lnTo>
                <a:lnTo>
                  <a:pt x="321" y="980"/>
                </a:lnTo>
                <a:lnTo>
                  <a:pt x="305" y="1014"/>
                </a:lnTo>
                <a:lnTo>
                  <a:pt x="305" y="1047"/>
                </a:lnTo>
                <a:lnTo>
                  <a:pt x="288" y="1064"/>
                </a:lnTo>
                <a:lnTo>
                  <a:pt x="254" y="1098"/>
                </a:lnTo>
                <a:lnTo>
                  <a:pt x="237" y="1132"/>
                </a:lnTo>
                <a:lnTo>
                  <a:pt x="203" y="1149"/>
                </a:lnTo>
                <a:lnTo>
                  <a:pt x="186" y="1149"/>
                </a:lnTo>
                <a:lnTo>
                  <a:pt x="169" y="1149"/>
                </a:lnTo>
                <a:lnTo>
                  <a:pt x="152" y="1132"/>
                </a:lnTo>
                <a:lnTo>
                  <a:pt x="152" y="1098"/>
                </a:lnTo>
                <a:lnTo>
                  <a:pt x="135" y="1064"/>
                </a:lnTo>
                <a:lnTo>
                  <a:pt x="118" y="1014"/>
                </a:lnTo>
                <a:lnTo>
                  <a:pt x="101" y="980"/>
                </a:lnTo>
                <a:lnTo>
                  <a:pt x="67" y="963"/>
                </a:lnTo>
                <a:lnTo>
                  <a:pt x="17" y="912"/>
                </a:lnTo>
                <a:lnTo>
                  <a:pt x="17" y="895"/>
                </a:lnTo>
                <a:lnTo>
                  <a:pt x="0" y="862"/>
                </a:lnTo>
                <a:lnTo>
                  <a:pt x="67" y="878"/>
                </a:lnTo>
                <a:lnTo>
                  <a:pt x="118" y="895"/>
                </a:lnTo>
                <a:lnTo>
                  <a:pt x="152" y="895"/>
                </a:lnTo>
                <a:lnTo>
                  <a:pt x="169" y="87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1" name="Freeform 35"/>
          <p:cNvSpPr/>
          <p:nvPr/>
        </p:nvSpPr>
        <p:spPr>
          <a:xfrm>
            <a:off x="6097680" y="2219400"/>
            <a:ext cx="204480" cy="193320"/>
          </a:xfrm>
          <a:custGeom>
            <a:avLst/>
            <a:gdLst>
              <a:gd name="textAreaLeft" fmla="*/ 0 w 204480"/>
              <a:gd name="textAreaRight" fmla="*/ 204840 w 20448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322" h="304">
                <a:moveTo>
                  <a:pt x="0" y="51"/>
                </a:moveTo>
                <a:lnTo>
                  <a:pt x="0" y="34"/>
                </a:lnTo>
                <a:lnTo>
                  <a:pt x="0" y="17"/>
                </a:lnTo>
                <a:lnTo>
                  <a:pt x="17" y="0"/>
                </a:lnTo>
                <a:lnTo>
                  <a:pt x="51" y="0"/>
                </a:lnTo>
                <a:lnTo>
                  <a:pt x="85" y="17"/>
                </a:lnTo>
                <a:lnTo>
                  <a:pt x="119" y="17"/>
                </a:lnTo>
                <a:lnTo>
                  <a:pt x="204" y="51"/>
                </a:lnTo>
                <a:lnTo>
                  <a:pt x="271" y="102"/>
                </a:lnTo>
                <a:lnTo>
                  <a:pt x="305" y="118"/>
                </a:lnTo>
                <a:lnTo>
                  <a:pt x="322" y="152"/>
                </a:lnTo>
                <a:lnTo>
                  <a:pt x="322" y="203"/>
                </a:lnTo>
                <a:lnTo>
                  <a:pt x="322" y="254"/>
                </a:lnTo>
                <a:lnTo>
                  <a:pt x="322" y="287"/>
                </a:lnTo>
                <a:lnTo>
                  <a:pt x="288" y="304"/>
                </a:lnTo>
                <a:lnTo>
                  <a:pt x="271" y="304"/>
                </a:lnTo>
                <a:lnTo>
                  <a:pt x="237" y="304"/>
                </a:lnTo>
                <a:lnTo>
                  <a:pt x="204" y="287"/>
                </a:lnTo>
                <a:lnTo>
                  <a:pt x="170" y="254"/>
                </a:lnTo>
                <a:lnTo>
                  <a:pt x="119" y="203"/>
                </a:lnTo>
                <a:lnTo>
                  <a:pt x="68" y="169"/>
                </a:lnTo>
                <a:lnTo>
                  <a:pt x="34" y="118"/>
                </a:lnTo>
                <a:lnTo>
                  <a:pt x="17" y="85"/>
                </a:lnTo>
                <a:lnTo>
                  <a:pt x="0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2" name="Freeform 37"/>
          <p:cNvSpPr/>
          <p:nvPr/>
        </p:nvSpPr>
        <p:spPr>
          <a:xfrm>
            <a:off x="5883120" y="2692440"/>
            <a:ext cx="95040" cy="610920"/>
          </a:xfrm>
          <a:custGeom>
            <a:avLst/>
            <a:gdLst>
              <a:gd name="textAreaLeft" fmla="*/ 0 w 95040"/>
              <a:gd name="textAreaRight" fmla="*/ 95400 w 95040"/>
              <a:gd name="textAreaTop" fmla="*/ 0 h 610920"/>
              <a:gd name="textAreaBottom" fmla="*/ 611280 h 610920"/>
            </a:gdLst>
            <a:ahLst/>
            <a:rect l="textAreaLeft" t="textAreaTop" r="textAreaRight" b="textAreaBottom"/>
            <a:pathLst>
              <a:path w="152" h="963">
                <a:moveTo>
                  <a:pt x="16" y="67"/>
                </a:moveTo>
                <a:lnTo>
                  <a:pt x="16" y="33"/>
                </a:lnTo>
                <a:lnTo>
                  <a:pt x="16" y="16"/>
                </a:lnTo>
                <a:lnTo>
                  <a:pt x="16" y="0"/>
                </a:lnTo>
                <a:lnTo>
                  <a:pt x="33" y="0"/>
                </a:lnTo>
                <a:lnTo>
                  <a:pt x="50" y="0"/>
                </a:lnTo>
                <a:lnTo>
                  <a:pt x="67" y="0"/>
                </a:lnTo>
                <a:lnTo>
                  <a:pt x="118" y="16"/>
                </a:lnTo>
                <a:lnTo>
                  <a:pt x="152" y="33"/>
                </a:lnTo>
                <a:lnTo>
                  <a:pt x="152" y="152"/>
                </a:lnTo>
                <a:lnTo>
                  <a:pt x="152" y="253"/>
                </a:lnTo>
                <a:lnTo>
                  <a:pt x="152" y="354"/>
                </a:lnTo>
                <a:lnTo>
                  <a:pt x="135" y="439"/>
                </a:lnTo>
                <a:lnTo>
                  <a:pt x="135" y="506"/>
                </a:lnTo>
                <a:lnTo>
                  <a:pt x="135" y="557"/>
                </a:lnTo>
                <a:lnTo>
                  <a:pt x="135" y="591"/>
                </a:lnTo>
                <a:lnTo>
                  <a:pt x="135" y="608"/>
                </a:lnTo>
                <a:lnTo>
                  <a:pt x="135" y="709"/>
                </a:lnTo>
                <a:lnTo>
                  <a:pt x="118" y="760"/>
                </a:lnTo>
                <a:lnTo>
                  <a:pt x="118" y="827"/>
                </a:lnTo>
                <a:lnTo>
                  <a:pt x="101" y="895"/>
                </a:lnTo>
                <a:lnTo>
                  <a:pt x="101" y="929"/>
                </a:lnTo>
                <a:lnTo>
                  <a:pt x="84" y="963"/>
                </a:lnTo>
                <a:lnTo>
                  <a:pt x="67" y="963"/>
                </a:lnTo>
                <a:lnTo>
                  <a:pt x="50" y="963"/>
                </a:lnTo>
                <a:lnTo>
                  <a:pt x="33" y="946"/>
                </a:lnTo>
                <a:lnTo>
                  <a:pt x="16" y="912"/>
                </a:lnTo>
                <a:lnTo>
                  <a:pt x="0" y="844"/>
                </a:lnTo>
                <a:lnTo>
                  <a:pt x="0" y="811"/>
                </a:lnTo>
                <a:lnTo>
                  <a:pt x="0" y="777"/>
                </a:lnTo>
                <a:lnTo>
                  <a:pt x="0" y="726"/>
                </a:lnTo>
                <a:lnTo>
                  <a:pt x="16" y="675"/>
                </a:lnTo>
                <a:lnTo>
                  <a:pt x="16" y="591"/>
                </a:lnTo>
                <a:lnTo>
                  <a:pt x="33" y="422"/>
                </a:lnTo>
                <a:lnTo>
                  <a:pt x="33" y="337"/>
                </a:lnTo>
                <a:lnTo>
                  <a:pt x="50" y="270"/>
                </a:lnTo>
                <a:lnTo>
                  <a:pt x="33" y="202"/>
                </a:lnTo>
                <a:lnTo>
                  <a:pt x="33" y="152"/>
                </a:lnTo>
                <a:lnTo>
                  <a:pt x="33" y="101"/>
                </a:lnTo>
                <a:lnTo>
                  <a:pt x="16" y="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Freeform 38"/>
          <p:cNvSpPr/>
          <p:nvPr/>
        </p:nvSpPr>
        <p:spPr>
          <a:xfrm>
            <a:off x="5946840" y="2638440"/>
            <a:ext cx="441000" cy="696600"/>
          </a:xfrm>
          <a:custGeom>
            <a:avLst/>
            <a:gdLst>
              <a:gd name="textAreaLeft" fmla="*/ 0 w 441000"/>
              <a:gd name="textAreaRight" fmla="*/ 441360 w 44100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695" h="1098">
                <a:moveTo>
                  <a:pt x="661" y="591"/>
                </a:moveTo>
                <a:lnTo>
                  <a:pt x="661" y="693"/>
                </a:lnTo>
                <a:lnTo>
                  <a:pt x="661" y="760"/>
                </a:lnTo>
                <a:lnTo>
                  <a:pt x="661" y="828"/>
                </a:lnTo>
                <a:lnTo>
                  <a:pt x="661" y="879"/>
                </a:lnTo>
                <a:lnTo>
                  <a:pt x="644" y="929"/>
                </a:lnTo>
                <a:lnTo>
                  <a:pt x="644" y="963"/>
                </a:lnTo>
                <a:lnTo>
                  <a:pt x="644" y="997"/>
                </a:lnTo>
                <a:lnTo>
                  <a:pt x="627" y="1014"/>
                </a:lnTo>
                <a:lnTo>
                  <a:pt x="593" y="1048"/>
                </a:lnTo>
                <a:lnTo>
                  <a:pt x="576" y="1081"/>
                </a:lnTo>
                <a:lnTo>
                  <a:pt x="559" y="1081"/>
                </a:lnTo>
                <a:lnTo>
                  <a:pt x="542" y="1098"/>
                </a:lnTo>
                <a:lnTo>
                  <a:pt x="525" y="1081"/>
                </a:lnTo>
                <a:lnTo>
                  <a:pt x="508" y="1081"/>
                </a:lnTo>
                <a:lnTo>
                  <a:pt x="508" y="1048"/>
                </a:lnTo>
                <a:lnTo>
                  <a:pt x="508" y="1014"/>
                </a:lnTo>
                <a:lnTo>
                  <a:pt x="474" y="963"/>
                </a:lnTo>
                <a:lnTo>
                  <a:pt x="424" y="896"/>
                </a:lnTo>
                <a:lnTo>
                  <a:pt x="373" y="862"/>
                </a:lnTo>
                <a:lnTo>
                  <a:pt x="373" y="845"/>
                </a:lnTo>
                <a:lnTo>
                  <a:pt x="356" y="845"/>
                </a:lnTo>
                <a:lnTo>
                  <a:pt x="373" y="828"/>
                </a:lnTo>
                <a:lnTo>
                  <a:pt x="424" y="828"/>
                </a:lnTo>
                <a:lnTo>
                  <a:pt x="457" y="828"/>
                </a:lnTo>
                <a:lnTo>
                  <a:pt x="474" y="828"/>
                </a:lnTo>
                <a:lnTo>
                  <a:pt x="491" y="828"/>
                </a:lnTo>
                <a:lnTo>
                  <a:pt x="508" y="811"/>
                </a:lnTo>
                <a:lnTo>
                  <a:pt x="525" y="811"/>
                </a:lnTo>
                <a:lnTo>
                  <a:pt x="525" y="777"/>
                </a:lnTo>
                <a:lnTo>
                  <a:pt x="525" y="760"/>
                </a:lnTo>
                <a:lnTo>
                  <a:pt x="525" y="727"/>
                </a:lnTo>
                <a:lnTo>
                  <a:pt x="525" y="676"/>
                </a:lnTo>
                <a:lnTo>
                  <a:pt x="525" y="625"/>
                </a:lnTo>
                <a:lnTo>
                  <a:pt x="525" y="558"/>
                </a:lnTo>
                <a:lnTo>
                  <a:pt x="525" y="490"/>
                </a:lnTo>
                <a:lnTo>
                  <a:pt x="525" y="406"/>
                </a:lnTo>
                <a:lnTo>
                  <a:pt x="525" y="355"/>
                </a:lnTo>
                <a:lnTo>
                  <a:pt x="525" y="304"/>
                </a:lnTo>
                <a:lnTo>
                  <a:pt x="525" y="254"/>
                </a:lnTo>
                <a:lnTo>
                  <a:pt x="508" y="220"/>
                </a:lnTo>
                <a:lnTo>
                  <a:pt x="508" y="186"/>
                </a:lnTo>
                <a:lnTo>
                  <a:pt x="508" y="169"/>
                </a:lnTo>
                <a:lnTo>
                  <a:pt x="508" y="152"/>
                </a:lnTo>
                <a:lnTo>
                  <a:pt x="474" y="152"/>
                </a:lnTo>
                <a:lnTo>
                  <a:pt x="441" y="152"/>
                </a:lnTo>
                <a:lnTo>
                  <a:pt x="373" y="152"/>
                </a:lnTo>
                <a:lnTo>
                  <a:pt x="288" y="169"/>
                </a:lnTo>
                <a:lnTo>
                  <a:pt x="186" y="186"/>
                </a:lnTo>
                <a:lnTo>
                  <a:pt x="119" y="203"/>
                </a:lnTo>
                <a:lnTo>
                  <a:pt x="51" y="203"/>
                </a:lnTo>
                <a:lnTo>
                  <a:pt x="0" y="203"/>
                </a:lnTo>
                <a:lnTo>
                  <a:pt x="0" y="118"/>
                </a:lnTo>
                <a:lnTo>
                  <a:pt x="85" y="101"/>
                </a:lnTo>
                <a:lnTo>
                  <a:pt x="170" y="85"/>
                </a:lnTo>
                <a:lnTo>
                  <a:pt x="237" y="85"/>
                </a:lnTo>
                <a:lnTo>
                  <a:pt x="305" y="68"/>
                </a:lnTo>
                <a:lnTo>
                  <a:pt x="356" y="51"/>
                </a:lnTo>
                <a:lnTo>
                  <a:pt x="390" y="51"/>
                </a:lnTo>
                <a:lnTo>
                  <a:pt x="424" y="34"/>
                </a:lnTo>
                <a:lnTo>
                  <a:pt x="441" y="34"/>
                </a:lnTo>
                <a:lnTo>
                  <a:pt x="474" y="17"/>
                </a:lnTo>
                <a:lnTo>
                  <a:pt x="508" y="0"/>
                </a:lnTo>
                <a:lnTo>
                  <a:pt x="525" y="17"/>
                </a:lnTo>
                <a:lnTo>
                  <a:pt x="542" y="34"/>
                </a:lnTo>
                <a:lnTo>
                  <a:pt x="576" y="51"/>
                </a:lnTo>
                <a:lnTo>
                  <a:pt x="610" y="68"/>
                </a:lnTo>
                <a:lnTo>
                  <a:pt x="644" y="101"/>
                </a:lnTo>
                <a:lnTo>
                  <a:pt x="678" y="118"/>
                </a:lnTo>
                <a:lnTo>
                  <a:pt x="678" y="135"/>
                </a:lnTo>
                <a:lnTo>
                  <a:pt x="695" y="152"/>
                </a:lnTo>
                <a:lnTo>
                  <a:pt x="695" y="186"/>
                </a:lnTo>
                <a:lnTo>
                  <a:pt x="678" y="220"/>
                </a:lnTo>
                <a:lnTo>
                  <a:pt x="678" y="237"/>
                </a:lnTo>
                <a:lnTo>
                  <a:pt x="661" y="254"/>
                </a:lnTo>
                <a:lnTo>
                  <a:pt x="661" y="287"/>
                </a:lnTo>
                <a:lnTo>
                  <a:pt x="661" y="321"/>
                </a:lnTo>
                <a:lnTo>
                  <a:pt x="661" y="372"/>
                </a:lnTo>
                <a:lnTo>
                  <a:pt x="661" y="439"/>
                </a:lnTo>
                <a:lnTo>
                  <a:pt x="661" y="507"/>
                </a:lnTo>
                <a:lnTo>
                  <a:pt x="661" y="5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Freeform 39"/>
          <p:cNvSpPr/>
          <p:nvPr/>
        </p:nvSpPr>
        <p:spPr>
          <a:xfrm>
            <a:off x="6539040" y="2692440"/>
            <a:ext cx="105840" cy="460080"/>
          </a:xfrm>
          <a:custGeom>
            <a:avLst/>
            <a:gdLst>
              <a:gd name="textAreaLeft" fmla="*/ 0 w 105840"/>
              <a:gd name="textAreaRight" fmla="*/ 106200 w 105840"/>
              <a:gd name="textAreaTop" fmla="*/ 0 h 460080"/>
              <a:gd name="textAreaBottom" fmla="*/ 460440 h 460080"/>
            </a:gdLst>
            <a:ahLst/>
            <a:rect l="textAreaLeft" t="textAreaTop" r="textAreaRight" b="textAreaBottom"/>
            <a:pathLst>
              <a:path w="169" h="726">
                <a:moveTo>
                  <a:pt x="0" y="101"/>
                </a:moveTo>
                <a:lnTo>
                  <a:pt x="0" y="50"/>
                </a:lnTo>
                <a:lnTo>
                  <a:pt x="0" y="16"/>
                </a:lnTo>
                <a:lnTo>
                  <a:pt x="0" y="0"/>
                </a:lnTo>
                <a:lnTo>
                  <a:pt x="17" y="0"/>
                </a:lnTo>
                <a:lnTo>
                  <a:pt x="34" y="0"/>
                </a:lnTo>
                <a:lnTo>
                  <a:pt x="50" y="0"/>
                </a:lnTo>
                <a:lnTo>
                  <a:pt x="84" y="16"/>
                </a:lnTo>
                <a:lnTo>
                  <a:pt x="118" y="50"/>
                </a:lnTo>
                <a:lnTo>
                  <a:pt x="135" y="84"/>
                </a:lnTo>
                <a:lnTo>
                  <a:pt x="152" y="135"/>
                </a:lnTo>
                <a:lnTo>
                  <a:pt x="169" y="219"/>
                </a:lnTo>
                <a:lnTo>
                  <a:pt x="169" y="304"/>
                </a:lnTo>
                <a:lnTo>
                  <a:pt x="152" y="422"/>
                </a:lnTo>
                <a:lnTo>
                  <a:pt x="152" y="506"/>
                </a:lnTo>
                <a:lnTo>
                  <a:pt x="135" y="557"/>
                </a:lnTo>
                <a:lnTo>
                  <a:pt x="135" y="608"/>
                </a:lnTo>
                <a:lnTo>
                  <a:pt x="135" y="659"/>
                </a:lnTo>
                <a:lnTo>
                  <a:pt x="118" y="709"/>
                </a:lnTo>
                <a:lnTo>
                  <a:pt x="101" y="726"/>
                </a:lnTo>
                <a:lnTo>
                  <a:pt x="84" y="726"/>
                </a:lnTo>
                <a:lnTo>
                  <a:pt x="67" y="709"/>
                </a:lnTo>
                <a:lnTo>
                  <a:pt x="67" y="692"/>
                </a:lnTo>
                <a:lnTo>
                  <a:pt x="50" y="659"/>
                </a:lnTo>
                <a:lnTo>
                  <a:pt x="50" y="591"/>
                </a:lnTo>
                <a:lnTo>
                  <a:pt x="34" y="506"/>
                </a:lnTo>
                <a:lnTo>
                  <a:pt x="34" y="405"/>
                </a:lnTo>
                <a:lnTo>
                  <a:pt x="34" y="321"/>
                </a:lnTo>
                <a:lnTo>
                  <a:pt x="34" y="219"/>
                </a:lnTo>
                <a:lnTo>
                  <a:pt x="17" y="152"/>
                </a:lnTo>
                <a:lnTo>
                  <a:pt x="0" y="10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5" name="Freeform 41"/>
          <p:cNvSpPr/>
          <p:nvPr/>
        </p:nvSpPr>
        <p:spPr>
          <a:xfrm>
            <a:off x="5946840" y="2852640"/>
            <a:ext cx="236160" cy="74160"/>
          </a:xfrm>
          <a:custGeom>
            <a:avLst/>
            <a:gdLst>
              <a:gd name="textAreaLeft" fmla="*/ 0 w 236160"/>
              <a:gd name="textAreaRight" fmla="*/ 236520 w 2361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373" h="118">
                <a:moveTo>
                  <a:pt x="203" y="0"/>
                </a:moveTo>
                <a:lnTo>
                  <a:pt x="254" y="0"/>
                </a:lnTo>
                <a:lnTo>
                  <a:pt x="271" y="0"/>
                </a:lnTo>
                <a:lnTo>
                  <a:pt x="288" y="0"/>
                </a:lnTo>
                <a:lnTo>
                  <a:pt x="305" y="0"/>
                </a:lnTo>
                <a:lnTo>
                  <a:pt x="322" y="17"/>
                </a:lnTo>
                <a:lnTo>
                  <a:pt x="356" y="17"/>
                </a:lnTo>
                <a:lnTo>
                  <a:pt x="373" y="34"/>
                </a:lnTo>
                <a:lnTo>
                  <a:pt x="373" y="51"/>
                </a:lnTo>
                <a:lnTo>
                  <a:pt x="356" y="68"/>
                </a:lnTo>
                <a:lnTo>
                  <a:pt x="322" y="84"/>
                </a:lnTo>
                <a:lnTo>
                  <a:pt x="271" y="101"/>
                </a:lnTo>
                <a:lnTo>
                  <a:pt x="203" y="118"/>
                </a:lnTo>
                <a:lnTo>
                  <a:pt x="102" y="118"/>
                </a:lnTo>
                <a:lnTo>
                  <a:pt x="0" y="118"/>
                </a:lnTo>
                <a:lnTo>
                  <a:pt x="0" y="51"/>
                </a:lnTo>
                <a:lnTo>
                  <a:pt x="68" y="34"/>
                </a:lnTo>
                <a:lnTo>
                  <a:pt x="119" y="34"/>
                </a:lnTo>
                <a:lnTo>
                  <a:pt x="170" y="17"/>
                </a:lnTo>
                <a:lnTo>
                  <a:pt x="203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Freeform 42"/>
          <p:cNvSpPr/>
          <p:nvPr/>
        </p:nvSpPr>
        <p:spPr>
          <a:xfrm>
            <a:off x="5946840" y="3013200"/>
            <a:ext cx="236160" cy="85320"/>
          </a:xfrm>
          <a:custGeom>
            <a:avLst/>
            <a:gdLst>
              <a:gd name="textAreaLeft" fmla="*/ 0 w 236160"/>
              <a:gd name="textAreaRight" fmla="*/ 236520 w 236160"/>
              <a:gd name="textAreaTop" fmla="*/ 0 h 85320"/>
              <a:gd name="textAreaBottom" fmla="*/ 85680 h 85320"/>
            </a:gdLst>
            <a:ahLst/>
            <a:rect l="textAreaLeft" t="textAreaTop" r="textAreaRight" b="textAreaBottom"/>
            <a:pathLst>
              <a:path w="373" h="136">
                <a:moveTo>
                  <a:pt x="0" y="51"/>
                </a:moveTo>
                <a:lnTo>
                  <a:pt x="119" y="34"/>
                </a:lnTo>
                <a:lnTo>
                  <a:pt x="203" y="17"/>
                </a:lnTo>
                <a:lnTo>
                  <a:pt x="271" y="0"/>
                </a:lnTo>
                <a:lnTo>
                  <a:pt x="288" y="0"/>
                </a:lnTo>
                <a:lnTo>
                  <a:pt x="305" y="0"/>
                </a:lnTo>
                <a:lnTo>
                  <a:pt x="339" y="0"/>
                </a:lnTo>
                <a:lnTo>
                  <a:pt x="373" y="17"/>
                </a:lnTo>
                <a:lnTo>
                  <a:pt x="373" y="34"/>
                </a:lnTo>
                <a:lnTo>
                  <a:pt x="356" y="51"/>
                </a:lnTo>
                <a:lnTo>
                  <a:pt x="339" y="85"/>
                </a:lnTo>
                <a:lnTo>
                  <a:pt x="288" y="102"/>
                </a:lnTo>
                <a:lnTo>
                  <a:pt x="153" y="119"/>
                </a:lnTo>
                <a:lnTo>
                  <a:pt x="68" y="136"/>
                </a:lnTo>
                <a:lnTo>
                  <a:pt x="0" y="136"/>
                </a:lnTo>
                <a:lnTo>
                  <a:pt x="0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Freeform 44"/>
          <p:cNvSpPr/>
          <p:nvPr/>
        </p:nvSpPr>
        <p:spPr>
          <a:xfrm>
            <a:off x="5892840" y="3324240"/>
            <a:ext cx="1053720" cy="739440"/>
          </a:xfrm>
          <a:custGeom>
            <a:avLst/>
            <a:gdLst>
              <a:gd name="textAreaLeft" fmla="*/ 0 w 1053720"/>
              <a:gd name="textAreaRight" fmla="*/ 1054080 w 1053720"/>
              <a:gd name="textAreaTop" fmla="*/ 0 h 739440"/>
              <a:gd name="textAreaBottom" fmla="*/ 739800 h 739440"/>
            </a:gdLst>
            <a:ahLst/>
            <a:rect l="textAreaLeft" t="textAreaTop" r="textAreaRight" b="textAreaBottom"/>
            <a:pathLst>
              <a:path w="1660" h="1166">
                <a:moveTo>
                  <a:pt x="1288" y="626"/>
                </a:moveTo>
                <a:lnTo>
                  <a:pt x="1305" y="524"/>
                </a:lnTo>
                <a:lnTo>
                  <a:pt x="1338" y="440"/>
                </a:lnTo>
                <a:lnTo>
                  <a:pt x="1338" y="355"/>
                </a:lnTo>
                <a:lnTo>
                  <a:pt x="1355" y="288"/>
                </a:lnTo>
                <a:lnTo>
                  <a:pt x="1355" y="237"/>
                </a:lnTo>
                <a:lnTo>
                  <a:pt x="1355" y="203"/>
                </a:lnTo>
                <a:lnTo>
                  <a:pt x="1355" y="169"/>
                </a:lnTo>
                <a:lnTo>
                  <a:pt x="1338" y="169"/>
                </a:lnTo>
                <a:lnTo>
                  <a:pt x="1322" y="152"/>
                </a:lnTo>
                <a:lnTo>
                  <a:pt x="1305" y="152"/>
                </a:lnTo>
                <a:lnTo>
                  <a:pt x="1254" y="152"/>
                </a:lnTo>
                <a:lnTo>
                  <a:pt x="1186" y="152"/>
                </a:lnTo>
                <a:lnTo>
                  <a:pt x="1067" y="152"/>
                </a:lnTo>
                <a:lnTo>
                  <a:pt x="1000" y="152"/>
                </a:lnTo>
                <a:lnTo>
                  <a:pt x="949" y="169"/>
                </a:lnTo>
                <a:lnTo>
                  <a:pt x="898" y="169"/>
                </a:lnTo>
                <a:lnTo>
                  <a:pt x="796" y="186"/>
                </a:lnTo>
                <a:lnTo>
                  <a:pt x="695" y="203"/>
                </a:lnTo>
                <a:lnTo>
                  <a:pt x="542" y="220"/>
                </a:lnTo>
                <a:lnTo>
                  <a:pt x="475" y="237"/>
                </a:lnTo>
                <a:lnTo>
                  <a:pt x="407" y="254"/>
                </a:lnTo>
                <a:lnTo>
                  <a:pt x="356" y="254"/>
                </a:lnTo>
                <a:lnTo>
                  <a:pt x="305" y="271"/>
                </a:lnTo>
                <a:lnTo>
                  <a:pt x="255" y="271"/>
                </a:lnTo>
                <a:lnTo>
                  <a:pt x="221" y="271"/>
                </a:lnTo>
                <a:lnTo>
                  <a:pt x="204" y="271"/>
                </a:lnTo>
                <a:lnTo>
                  <a:pt x="187" y="271"/>
                </a:lnTo>
                <a:lnTo>
                  <a:pt x="119" y="271"/>
                </a:lnTo>
                <a:lnTo>
                  <a:pt x="85" y="254"/>
                </a:lnTo>
                <a:lnTo>
                  <a:pt x="51" y="220"/>
                </a:lnTo>
                <a:lnTo>
                  <a:pt x="34" y="203"/>
                </a:lnTo>
                <a:lnTo>
                  <a:pt x="17" y="186"/>
                </a:lnTo>
                <a:lnTo>
                  <a:pt x="0" y="152"/>
                </a:lnTo>
                <a:lnTo>
                  <a:pt x="187" y="152"/>
                </a:lnTo>
                <a:lnTo>
                  <a:pt x="373" y="136"/>
                </a:lnTo>
                <a:lnTo>
                  <a:pt x="576" y="119"/>
                </a:lnTo>
                <a:lnTo>
                  <a:pt x="796" y="85"/>
                </a:lnTo>
                <a:lnTo>
                  <a:pt x="881" y="68"/>
                </a:lnTo>
                <a:lnTo>
                  <a:pt x="966" y="68"/>
                </a:lnTo>
                <a:lnTo>
                  <a:pt x="1034" y="51"/>
                </a:lnTo>
                <a:lnTo>
                  <a:pt x="1101" y="34"/>
                </a:lnTo>
                <a:lnTo>
                  <a:pt x="1152" y="34"/>
                </a:lnTo>
                <a:lnTo>
                  <a:pt x="1203" y="17"/>
                </a:lnTo>
                <a:lnTo>
                  <a:pt x="1220" y="17"/>
                </a:lnTo>
                <a:lnTo>
                  <a:pt x="1237" y="17"/>
                </a:lnTo>
                <a:lnTo>
                  <a:pt x="1288" y="0"/>
                </a:lnTo>
                <a:lnTo>
                  <a:pt x="1322" y="0"/>
                </a:lnTo>
                <a:lnTo>
                  <a:pt x="1338" y="0"/>
                </a:lnTo>
                <a:lnTo>
                  <a:pt x="1389" y="17"/>
                </a:lnTo>
                <a:lnTo>
                  <a:pt x="1440" y="34"/>
                </a:lnTo>
                <a:lnTo>
                  <a:pt x="1508" y="68"/>
                </a:lnTo>
                <a:lnTo>
                  <a:pt x="1576" y="102"/>
                </a:lnTo>
                <a:lnTo>
                  <a:pt x="1626" y="136"/>
                </a:lnTo>
                <a:lnTo>
                  <a:pt x="1660" y="169"/>
                </a:lnTo>
                <a:lnTo>
                  <a:pt x="1660" y="186"/>
                </a:lnTo>
                <a:lnTo>
                  <a:pt x="1643" y="220"/>
                </a:lnTo>
                <a:lnTo>
                  <a:pt x="1643" y="237"/>
                </a:lnTo>
                <a:lnTo>
                  <a:pt x="1609" y="237"/>
                </a:lnTo>
                <a:lnTo>
                  <a:pt x="1593" y="271"/>
                </a:lnTo>
                <a:lnTo>
                  <a:pt x="1559" y="321"/>
                </a:lnTo>
                <a:lnTo>
                  <a:pt x="1542" y="389"/>
                </a:lnTo>
                <a:lnTo>
                  <a:pt x="1525" y="507"/>
                </a:lnTo>
                <a:lnTo>
                  <a:pt x="1508" y="626"/>
                </a:lnTo>
                <a:lnTo>
                  <a:pt x="1474" y="727"/>
                </a:lnTo>
                <a:lnTo>
                  <a:pt x="1440" y="828"/>
                </a:lnTo>
                <a:lnTo>
                  <a:pt x="1389" y="930"/>
                </a:lnTo>
                <a:lnTo>
                  <a:pt x="1355" y="997"/>
                </a:lnTo>
                <a:lnTo>
                  <a:pt x="1305" y="1048"/>
                </a:lnTo>
                <a:lnTo>
                  <a:pt x="1271" y="1099"/>
                </a:lnTo>
                <a:lnTo>
                  <a:pt x="1237" y="1116"/>
                </a:lnTo>
                <a:lnTo>
                  <a:pt x="1186" y="1149"/>
                </a:lnTo>
                <a:lnTo>
                  <a:pt x="1135" y="1166"/>
                </a:lnTo>
                <a:lnTo>
                  <a:pt x="1118" y="1149"/>
                </a:lnTo>
                <a:lnTo>
                  <a:pt x="1101" y="1116"/>
                </a:lnTo>
                <a:lnTo>
                  <a:pt x="1084" y="1065"/>
                </a:lnTo>
                <a:lnTo>
                  <a:pt x="1084" y="1031"/>
                </a:lnTo>
                <a:lnTo>
                  <a:pt x="1051" y="980"/>
                </a:lnTo>
                <a:lnTo>
                  <a:pt x="1017" y="947"/>
                </a:lnTo>
                <a:lnTo>
                  <a:pt x="983" y="913"/>
                </a:lnTo>
                <a:lnTo>
                  <a:pt x="932" y="879"/>
                </a:lnTo>
                <a:lnTo>
                  <a:pt x="898" y="845"/>
                </a:lnTo>
                <a:lnTo>
                  <a:pt x="881" y="828"/>
                </a:lnTo>
                <a:lnTo>
                  <a:pt x="881" y="811"/>
                </a:lnTo>
                <a:lnTo>
                  <a:pt x="881" y="795"/>
                </a:lnTo>
                <a:lnTo>
                  <a:pt x="915" y="795"/>
                </a:lnTo>
                <a:lnTo>
                  <a:pt x="949" y="811"/>
                </a:lnTo>
                <a:lnTo>
                  <a:pt x="1000" y="828"/>
                </a:lnTo>
                <a:lnTo>
                  <a:pt x="1067" y="845"/>
                </a:lnTo>
                <a:lnTo>
                  <a:pt x="1118" y="845"/>
                </a:lnTo>
                <a:lnTo>
                  <a:pt x="1152" y="845"/>
                </a:lnTo>
                <a:lnTo>
                  <a:pt x="1186" y="845"/>
                </a:lnTo>
                <a:lnTo>
                  <a:pt x="1203" y="828"/>
                </a:lnTo>
                <a:lnTo>
                  <a:pt x="1237" y="778"/>
                </a:lnTo>
                <a:lnTo>
                  <a:pt x="1254" y="727"/>
                </a:lnTo>
                <a:lnTo>
                  <a:pt x="1288" y="62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8" name="Freeform 45"/>
          <p:cNvSpPr/>
          <p:nvPr/>
        </p:nvSpPr>
        <p:spPr>
          <a:xfrm>
            <a:off x="6496200" y="2133720"/>
            <a:ext cx="321840" cy="342720"/>
          </a:xfrm>
          <a:custGeom>
            <a:avLst/>
            <a:gdLst>
              <a:gd name="textAreaLeft" fmla="*/ 0 w 321840"/>
              <a:gd name="textAreaRight" fmla="*/ 322200 w 3218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508" h="541">
                <a:moveTo>
                  <a:pt x="102" y="541"/>
                </a:moveTo>
                <a:lnTo>
                  <a:pt x="0" y="541"/>
                </a:lnTo>
                <a:lnTo>
                  <a:pt x="85" y="422"/>
                </a:lnTo>
                <a:lnTo>
                  <a:pt x="152" y="321"/>
                </a:lnTo>
                <a:lnTo>
                  <a:pt x="203" y="253"/>
                </a:lnTo>
                <a:lnTo>
                  <a:pt x="237" y="186"/>
                </a:lnTo>
                <a:lnTo>
                  <a:pt x="254" y="152"/>
                </a:lnTo>
                <a:lnTo>
                  <a:pt x="271" y="118"/>
                </a:lnTo>
                <a:lnTo>
                  <a:pt x="254" y="101"/>
                </a:lnTo>
                <a:lnTo>
                  <a:pt x="237" y="84"/>
                </a:lnTo>
                <a:lnTo>
                  <a:pt x="237" y="68"/>
                </a:lnTo>
                <a:lnTo>
                  <a:pt x="220" y="34"/>
                </a:lnTo>
                <a:lnTo>
                  <a:pt x="237" y="17"/>
                </a:lnTo>
                <a:lnTo>
                  <a:pt x="254" y="0"/>
                </a:lnTo>
                <a:lnTo>
                  <a:pt x="305" y="0"/>
                </a:lnTo>
                <a:lnTo>
                  <a:pt x="339" y="0"/>
                </a:lnTo>
                <a:lnTo>
                  <a:pt x="373" y="17"/>
                </a:lnTo>
                <a:lnTo>
                  <a:pt x="406" y="34"/>
                </a:lnTo>
                <a:lnTo>
                  <a:pt x="440" y="51"/>
                </a:lnTo>
                <a:lnTo>
                  <a:pt x="491" y="101"/>
                </a:lnTo>
                <a:lnTo>
                  <a:pt x="508" y="118"/>
                </a:lnTo>
                <a:lnTo>
                  <a:pt x="508" y="135"/>
                </a:lnTo>
                <a:lnTo>
                  <a:pt x="508" y="152"/>
                </a:lnTo>
                <a:lnTo>
                  <a:pt x="491" y="186"/>
                </a:lnTo>
                <a:lnTo>
                  <a:pt x="457" y="220"/>
                </a:lnTo>
                <a:lnTo>
                  <a:pt x="406" y="270"/>
                </a:lnTo>
                <a:lnTo>
                  <a:pt x="356" y="321"/>
                </a:lnTo>
                <a:lnTo>
                  <a:pt x="288" y="389"/>
                </a:lnTo>
                <a:lnTo>
                  <a:pt x="203" y="456"/>
                </a:lnTo>
                <a:lnTo>
                  <a:pt x="102" y="54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Freeform 36"/>
          <p:cNvSpPr/>
          <p:nvPr/>
        </p:nvSpPr>
        <p:spPr>
          <a:xfrm>
            <a:off x="5559480" y="2390760"/>
            <a:ext cx="1763280" cy="213840"/>
          </a:xfrm>
          <a:custGeom>
            <a:avLst/>
            <a:gdLst>
              <a:gd name="textAreaLeft" fmla="*/ 0 w 1763280"/>
              <a:gd name="textAreaRight" fmla="*/ 1763640 w 1763280"/>
              <a:gd name="textAreaTop" fmla="*/ 0 h 213840"/>
              <a:gd name="textAreaBottom" fmla="*/ 214200 h 213840"/>
            </a:gdLst>
            <a:ahLst/>
            <a:rect l="textAreaLeft" t="textAreaTop" r="textAreaRight" b="textAreaBottom"/>
            <a:pathLst>
              <a:path w="2778" h="338">
                <a:moveTo>
                  <a:pt x="1897" y="51"/>
                </a:moveTo>
                <a:lnTo>
                  <a:pt x="1999" y="34"/>
                </a:lnTo>
                <a:lnTo>
                  <a:pt x="2084" y="34"/>
                </a:lnTo>
                <a:lnTo>
                  <a:pt x="2151" y="17"/>
                </a:lnTo>
                <a:lnTo>
                  <a:pt x="2219" y="17"/>
                </a:lnTo>
                <a:lnTo>
                  <a:pt x="2270" y="0"/>
                </a:lnTo>
                <a:lnTo>
                  <a:pt x="2321" y="0"/>
                </a:lnTo>
                <a:lnTo>
                  <a:pt x="2355" y="0"/>
                </a:lnTo>
                <a:lnTo>
                  <a:pt x="2389" y="0"/>
                </a:lnTo>
                <a:lnTo>
                  <a:pt x="2490" y="0"/>
                </a:lnTo>
                <a:lnTo>
                  <a:pt x="2575" y="17"/>
                </a:lnTo>
                <a:lnTo>
                  <a:pt x="2626" y="34"/>
                </a:lnTo>
                <a:lnTo>
                  <a:pt x="2660" y="51"/>
                </a:lnTo>
                <a:lnTo>
                  <a:pt x="2727" y="85"/>
                </a:lnTo>
                <a:lnTo>
                  <a:pt x="2744" y="119"/>
                </a:lnTo>
                <a:lnTo>
                  <a:pt x="2761" y="136"/>
                </a:lnTo>
                <a:lnTo>
                  <a:pt x="2778" y="153"/>
                </a:lnTo>
                <a:lnTo>
                  <a:pt x="2761" y="153"/>
                </a:lnTo>
                <a:lnTo>
                  <a:pt x="2744" y="153"/>
                </a:lnTo>
                <a:lnTo>
                  <a:pt x="2710" y="169"/>
                </a:lnTo>
                <a:lnTo>
                  <a:pt x="2660" y="169"/>
                </a:lnTo>
                <a:lnTo>
                  <a:pt x="2592" y="169"/>
                </a:lnTo>
                <a:lnTo>
                  <a:pt x="2507" y="169"/>
                </a:lnTo>
                <a:lnTo>
                  <a:pt x="2405" y="169"/>
                </a:lnTo>
                <a:lnTo>
                  <a:pt x="2304" y="169"/>
                </a:lnTo>
                <a:lnTo>
                  <a:pt x="2067" y="169"/>
                </a:lnTo>
                <a:lnTo>
                  <a:pt x="1863" y="169"/>
                </a:lnTo>
                <a:lnTo>
                  <a:pt x="1660" y="186"/>
                </a:lnTo>
                <a:lnTo>
                  <a:pt x="1457" y="203"/>
                </a:lnTo>
                <a:lnTo>
                  <a:pt x="1288" y="220"/>
                </a:lnTo>
                <a:lnTo>
                  <a:pt x="1084" y="237"/>
                </a:lnTo>
                <a:lnTo>
                  <a:pt x="881" y="271"/>
                </a:lnTo>
                <a:lnTo>
                  <a:pt x="661" y="288"/>
                </a:lnTo>
                <a:lnTo>
                  <a:pt x="542" y="305"/>
                </a:lnTo>
                <a:lnTo>
                  <a:pt x="458" y="322"/>
                </a:lnTo>
                <a:lnTo>
                  <a:pt x="373" y="322"/>
                </a:lnTo>
                <a:lnTo>
                  <a:pt x="305" y="338"/>
                </a:lnTo>
                <a:lnTo>
                  <a:pt x="254" y="338"/>
                </a:lnTo>
                <a:lnTo>
                  <a:pt x="204" y="338"/>
                </a:lnTo>
                <a:lnTo>
                  <a:pt x="187" y="338"/>
                </a:lnTo>
                <a:lnTo>
                  <a:pt x="170" y="338"/>
                </a:lnTo>
                <a:lnTo>
                  <a:pt x="153" y="338"/>
                </a:lnTo>
                <a:lnTo>
                  <a:pt x="119" y="338"/>
                </a:lnTo>
                <a:lnTo>
                  <a:pt x="102" y="322"/>
                </a:lnTo>
                <a:lnTo>
                  <a:pt x="68" y="288"/>
                </a:lnTo>
                <a:lnTo>
                  <a:pt x="34" y="271"/>
                </a:lnTo>
                <a:lnTo>
                  <a:pt x="17" y="237"/>
                </a:lnTo>
                <a:lnTo>
                  <a:pt x="0" y="220"/>
                </a:lnTo>
                <a:lnTo>
                  <a:pt x="17" y="203"/>
                </a:lnTo>
                <a:lnTo>
                  <a:pt x="51" y="203"/>
                </a:lnTo>
                <a:lnTo>
                  <a:pt x="85" y="203"/>
                </a:lnTo>
                <a:lnTo>
                  <a:pt x="136" y="186"/>
                </a:lnTo>
                <a:lnTo>
                  <a:pt x="187" y="186"/>
                </a:lnTo>
                <a:lnTo>
                  <a:pt x="271" y="186"/>
                </a:lnTo>
                <a:lnTo>
                  <a:pt x="356" y="186"/>
                </a:lnTo>
                <a:lnTo>
                  <a:pt x="729" y="153"/>
                </a:lnTo>
                <a:lnTo>
                  <a:pt x="1118" y="136"/>
                </a:lnTo>
                <a:lnTo>
                  <a:pt x="1508" y="102"/>
                </a:lnTo>
                <a:lnTo>
                  <a:pt x="1897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Freeform 43"/>
          <p:cNvSpPr/>
          <p:nvPr/>
        </p:nvSpPr>
        <p:spPr>
          <a:xfrm>
            <a:off x="5602320" y="3421080"/>
            <a:ext cx="817200" cy="642600"/>
          </a:xfrm>
          <a:custGeom>
            <a:avLst/>
            <a:gdLst>
              <a:gd name="textAreaLeft" fmla="*/ 0 w 817200"/>
              <a:gd name="textAreaRight" fmla="*/ 817560 w 81720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1287" h="1014">
                <a:moveTo>
                  <a:pt x="288" y="964"/>
                </a:moveTo>
                <a:lnTo>
                  <a:pt x="220" y="980"/>
                </a:lnTo>
                <a:lnTo>
                  <a:pt x="153" y="997"/>
                </a:lnTo>
                <a:lnTo>
                  <a:pt x="102" y="997"/>
                </a:lnTo>
                <a:lnTo>
                  <a:pt x="68" y="1014"/>
                </a:lnTo>
                <a:lnTo>
                  <a:pt x="34" y="1014"/>
                </a:lnTo>
                <a:lnTo>
                  <a:pt x="17" y="1014"/>
                </a:lnTo>
                <a:lnTo>
                  <a:pt x="0" y="1014"/>
                </a:lnTo>
                <a:lnTo>
                  <a:pt x="0" y="997"/>
                </a:lnTo>
                <a:lnTo>
                  <a:pt x="34" y="980"/>
                </a:lnTo>
                <a:lnTo>
                  <a:pt x="102" y="947"/>
                </a:lnTo>
                <a:lnTo>
                  <a:pt x="186" y="913"/>
                </a:lnTo>
                <a:lnTo>
                  <a:pt x="373" y="811"/>
                </a:lnTo>
                <a:lnTo>
                  <a:pt x="474" y="761"/>
                </a:lnTo>
                <a:lnTo>
                  <a:pt x="576" y="693"/>
                </a:lnTo>
                <a:lnTo>
                  <a:pt x="745" y="558"/>
                </a:lnTo>
                <a:lnTo>
                  <a:pt x="915" y="389"/>
                </a:lnTo>
                <a:lnTo>
                  <a:pt x="983" y="305"/>
                </a:lnTo>
                <a:lnTo>
                  <a:pt x="1033" y="203"/>
                </a:lnTo>
                <a:lnTo>
                  <a:pt x="1084" y="102"/>
                </a:lnTo>
                <a:lnTo>
                  <a:pt x="1101" y="0"/>
                </a:lnTo>
                <a:lnTo>
                  <a:pt x="1186" y="51"/>
                </a:lnTo>
                <a:lnTo>
                  <a:pt x="1237" y="85"/>
                </a:lnTo>
                <a:lnTo>
                  <a:pt x="1270" y="119"/>
                </a:lnTo>
                <a:lnTo>
                  <a:pt x="1287" y="153"/>
                </a:lnTo>
                <a:lnTo>
                  <a:pt x="1287" y="186"/>
                </a:lnTo>
                <a:lnTo>
                  <a:pt x="1270" y="237"/>
                </a:lnTo>
                <a:lnTo>
                  <a:pt x="1220" y="305"/>
                </a:lnTo>
                <a:lnTo>
                  <a:pt x="1152" y="389"/>
                </a:lnTo>
                <a:lnTo>
                  <a:pt x="966" y="575"/>
                </a:lnTo>
                <a:lnTo>
                  <a:pt x="881" y="659"/>
                </a:lnTo>
                <a:lnTo>
                  <a:pt x="779" y="727"/>
                </a:lnTo>
                <a:lnTo>
                  <a:pt x="661" y="795"/>
                </a:lnTo>
                <a:lnTo>
                  <a:pt x="542" y="862"/>
                </a:lnTo>
                <a:lnTo>
                  <a:pt x="424" y="913"/>
                </a:lnTo>
                <a:lnTo>
                  <a:pt x="288" y="96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内容占位符 2"/>
          <p:cNvSpPr/>
          <p:nvPr/>
        </p:nvSpPr>
        <p:spPr>
          <a:xfrm>
            <a:off x="717480" y="2066760"/>
            <a:ext cx="779256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核心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936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首诗表达了诗人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串珠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两首诗描绘的是什么季节的景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描绘的是什么景色？表现了春天的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运用了哪些修辞手法？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687240" y="1241280"/>
            <a:ext cx="3766680" cy="85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组合 31"/>
          <p:cNvGrpSpPr/>
          <p:nvPr/>
        </p:nvGrpSpPr>
        <p:grpSpPr>
          <a:xfrm>
            <a:off x="878040" y="4986360"/>
            <a:ext cx="7584480" cy="1207800"/>
            <a:chOff x="878040" y="4986360"/>
            <a:chExt cx="7584480" cy="1207800"/>
          </a:xfrm>
        </p:grpSpPr>
        <p:sp>
          <p:nvSpPr>
            <p:cNvPr id="314" name="单圆角矩形 33"/>
            <p:cNvSpPr/>
            <p:nvPr/>
          </p:nvSpPr>
          <p:spPr>
            <a:xfrm>
              <a:off x="1911240" y="5207040"/>
              <a:ext cx="6551280" cy="860040"/>
            </a:xfrm>
            <a:prstGeom prst="snipRoundRect">
              <a:avLst>
                <a:gd name="adj1" fmla="val 16667"/>
                <a:gd name="adj2" fmla="val 16667"/>
              </a:avLst>
            </a:prstGeom>
            <a:noFill/>
            <a:ln>
              <a:solidFill>
                <a:srgbClr val="1f497d">
                  <a:lumMod val="20000"/>
                  <a:lumOff val="80000"/>
                </a:srgbClr>
              </a:solidFill>
              <a:round/>
            </a:ln>
          </p:spPr>
          <p:style>
            <a:lnRef idx="2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20600" rIns="120600" tIns="120600" bIns="120600" anchor="ctr">
              <a:noAutofit/>
            </a:bodyPr>
            <a:p>
              <a:pPr>
                <a:lnSpc>
                  <a:spcPct val="100000"/>
                </a:lnSpc>
                <a:spcAft>
                  <a:spcPts val="420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微软雅黑"/>
                </a:rPr>
                <a:t>这首古诗表达了诗人怎样的思想感情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32"/>
            <p:cNvSpPr/>
            <p:nvPr/>
          </p:nvSpPr>
          <p:spPr>
            <a:xfrm>
              <a:off x="878040" y="4986360"/>
              <a:ext cx="1169640" cy="1207800"/>
            </a:xfrm>
            <a:custGeom>
              <a:avLst/>
              <a:gdLst>
                <a:gd name="textAreaLeft" fmla="*/ 0 w 1169640"/>
                <a:gd name="textAreaRight" fmla="*/ 1170000 w 1169640"/>
                <a:gd name="textAreaTop" fmla="*/ 0 h 1207800"/>
                <a:gd name="textAreaBottom" fmla="*/ 1208160 h 1207800"/>
              </a:gdLst>
              <a:ahLst/>
              <a:rect l="textAreaLeft" t="textAreaTop" r="textAreaRight" b="textAreaBottom"/>
              <a:pathLst>
                <a:path w="846331" h="846331">
                  <a:moveTo>
                    <a:pt x="600729" y="134938"/>
                  </a:moveTo>
                  <a:lnTo>
                    <a:pt x="666560" y="79696"/>
                  </a:lnTo>
                  <a:lnTo>
                    <a:pt x="719152" y="123825"/>
                  </a:lnTo>
                  <a:lnTo>
                    <a:pt x="676181" y="198249"/>
                  </a:lnTo>
                  <a:cubicBezTo>
                    <a:pt x="706736" y="232621"/>
                    <a:pt x="729967" y="272859"/>
                    <a:pt x="744457" y="316506"/>
                  </a:cubicBezTo>
                  <a:lnTo>
                    <a:pt x="830395" y="316504"/>
                  </a:lnTo>
                  <a:lnTo>
                    <a:pt x="842316" y="384114"/>
                  </a:lnTo>
                  <a:lnTo>
                    <a:pt x="761560" y="413505"/>
                  </a:lnTo>
                  <a:cubicBezTo>
                    <a:pt x="762872" y="459476"/>
                    <a:pt x="754804" y="505232"/>
                    <a:pt x="737848" y="547982"/>
                  </a:cubicBezTo>
                  <a:lnTo>
                    <a:pt x="803682" y="603220"/>
                  </a:lnTo>
                  <a:lnTo>
                    <a:pt x="769355" y="662675"/>
                  </a:lnTo>
                  <a:lnTo>
                    <a:pt x="688601" y="633281"/>
                  </a:lnTo>
                  <a:cubicBezTo>
                    <a:pt x="660057" y="669340"/>
                    <a:pt x="624465" y="699206"/>
                    <a:pt x="583997" y="721055"/>
                  </a:cubicBezTo>
                  <a:lnTo>
                    <a:pt x="598921" y="805687"/>
                  </a:lnTo>
                  <a:lnTo>
                    <a:pt x="534408" y="829167"/>
                  </a:lnTo>
                  <a:lnTo>
                    <a:pt x="491441" y="754741"/>
                  </a:lnTo>
                  <a:cubicBezTo>
                    <a:pt x="446396" y="764016"/>
                    <a:pt x="399934" y="764016"/>
                    <a:pt x="354890" y="754741"/>
                  </a:cubicBezTo>
                  <a:lnTo>
                    <a:pt x="311923" y="829167"/>
                  </a:lnTo>
                  <a:lnTo>
                    <a:pt x="247410" y="805687"/>
                  </a:lnTo>
                  <a:lnTo>
                    <a:pt x="262335" y="721054"/>
                  </a:lnTo>
                  <a:cubicBezTo>
                    <a:pt x="221867" y="699205"/>
                    <a:pt x="186275" y="669340"/>
                    <a:pt x="157731" y="633281"/>
                  </a:cubicBezTo>
                  <a:lnTo>
                    <a:pt x="76976" y="662675"/>
                  </a:lnTo>
                  <a:lnTo>
                    <a:pt x="42649" y="603220"/>
                  </a:lnTo>
                  <a:lnTo>
                    <a:pt x="108483" y="547982"/>
                  </a:lnTo>
                  <a:cubicBezTo>
                    <a:pt x="91527" y="505232"/>
                    <a:pt x="83459" y="459476"/>
                    <a:pt x="84771" y="413505"/>
                  </a:cubicBezTo>
                  <a:lnTo>
                    <a:pt x="4015" y="384114"/>
                  </a:lnTo>
                  <a:lnTo>
                    <a:pt x="15936" y="316504"/>
                  </a:lnTo>
                  <a:lnTo>
                    <a:pt x="101874" y="316506"/>
                  </a:lnTo>
                  <a:cubicBezTo>
                    <a:pt x="116364" y="272859"/>
                    <a:pt x="139595" y="232621"/>
                    <a:pt x="170150" y="198249"/>
                  </a:cubicBezTo>
                  <a:lnTo>
                    <a:pt x="127179" y="123825"/>
                  </a:lnTo>
                  <a:lnTo>
                    <a:pt x="179771" y="79696"/>
                  </a:lnTo>
                  <a:lnTo>
                    <a:pt x="245602" y="134938"/>
                  </a:lnTo>
                  <a:cubicBezTo>
                    <a:pt x="284758" y="110816"/>
                    <a:pt x="328418" y="94925"/>
                    <a:pt x="373918" y="88235"/>
                  </a:cubicBezTo>
                  <a:lnTo>
                    <a:pt x="388839" y="3601"/>
                  </a:lnTo>
                  <a:lnTo>
                    <a:pt x="457492" y="3601"/>
                  </a:lnTo>
                  <a:lnTo>
                    <a:pt x="472413" y="88234"/>
                  </a:lnTo>
                  <a:cubicBezTo>
                    <a:pt x="517913" y="94924"/>
                    <a:pt x="561574" y="110815"/>
                    <a:pt x="600729" y="134937"/>
                  </a:cubicBezTo>
                  <a:lnTo>
                    <a:pt x="600729" y="134938"/>
                  </a:lnTo>
                  <a:close/>
                </a:path>
              </a:pathLst>
            </a:custGeom>
            <a:solidFill>
              <a:schemeClr val="tx2">
                <a:lumMod val="40000"/>
                <a:lumOff val="6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hueOff val="0"/>
                <a:satOff val="0"/>
                <a:lumOff val="0"/>
                <a:alphaOff val="0"/>
              </a:schemeClr>
            </a:fillRef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87920" rIns="187920" tIns="216000" bIns="230760" anchor="ctr">
              <a:noAutofit/>
            </a:bodyPr>
            <a:p>
              <a:pPr algn="ctr"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方正卡通简体"/>
                  <a:ea typeface="方正卡通简体"/>
                </a:rPr>
                <a:t>边听边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图文框 38"/>
          <p:cNvSpPr/>
          <p:nvPr/>
        </p:nvSpPr>
        <p:spPr>
          <a:xfrm>
            <a:off x="2335320" y="1216080"/>
            <a:ext cx="4473360" cy="906120"/>
          </a:xfrm>
          <a:prstGeom prst="frame">
            <a:avLst>
              <a:gd name="adj1" fmla="val 12500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alpha val="90000"/>
              <a:hueOff val="0"/>
              <a:satOff val="0"/>
              <a:lumOff val="0"/>
              <a:alphaOff val="0"/>
            </a:schemeClr>
          </a:fillRef>
          <a:effectRef idx="0">
            <a:schemeClr val="accent1"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81440" rIns="181440" tIns="181440" bIns="181440" anchor="ctr">
            <a:noAutofit/>
          </a:bodyPr>
          <a:p>
            <a:pPr algn="ctr">
              <a:lnSpc>
                <a:spcPct val="9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chemeClr val="lt1"/>
                </a:solidFill>
                <a:latin typeface="Franklin Gothic Medium"/>
                <a:ea typeface="微软雅黑"/>
              </a:rPr>
              <a:t>听录音回顾课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1"/>
          <a:stretch/>
        </p:blipFill>
        <p:spPr>
          <a:xfrm>
            <a:off x="2655720" y="2246400"/>
            <a:ext cx="3831840" cy="286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4"/>
          <p:cNvSpPr/>
          <p:nvPr/>
        </p:nvSpPr>
        <p:spPr>
          <a:xfrm>
            <a:off x="1095480" y="1755720"/>
            <a:ext cx="7480080" cy="24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唐】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碧玉妆成一树高，万条垂下绿丝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40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7"/>
          <p:cNvSpPr/>
          <p:nvPr/>
        </p:nvSpPr>
        <p:spPr>
          <a:xfrm>
            <a:off x="519120" y="2049480"/>
            <a:ext cx="296820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碧玉：碧绿色的玉。这里用以比喻春天嫩绿的柳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8"/>
          <p:cNvSpPr/>
          <p:nvPr/>
        </p:nvSpPr>
        <p:spPr>
          <a:xfrm>
            <a:off x="1028880" y="4578480"/>
            <a:ext cx="7370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棵高高的柳树长满了翠绿的新叶，看上去就像是用碧绿的玉石装扮成的。从树上垂下无数条柳条就像绿色的丝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9"/>
          <p:cNvSpPr/>
          <p:nvPr/>
        </p:nvSpPr>
        <p:spPr>
          <a:xfrm>
            <a:off x="752400" y="3378240"/>
            <a:ext cx="222516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妆：装饰，打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"/>
          <p:cNvSpPr/>
          <p:nvPr/>
        </p:nvSpPr>
        <p:spPr>
          <a:xfrm>
            <a:off x="3056040" y="3325680"/>
            <a:ext cx="378900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树：满树。一：满，全。在中国古典诗词和文章中，数量词在使用中并不一定表示确切的数量。下一句的“万”，就是表示很多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0"/>
          <p:cNvSpPr/>
          <p:nvPr/>
        </p:nvSpPr>
        <p:spPr>
          <a:xfrm>
            <a:off x="6805440" y="1679400"/>
            <a:ext cx="201744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绦：用丝编成的绳带。这里指像丝带一样的柳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286080" y="254160"/>
            <a:ext cx="2571480" cy="6728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325" name="组合 2"/>
          <p:cNvGrpSpPr/>
          <p:nvPr/>
        </p:nvGrpSpPr>
        <p:grpSpPr>
          <a:xfrm>
            <a:off x="582480" y="1069920"/>
            <a:ext cx="2904840" cy="666360"/>
            <a:chOff x="582480" y="1069920"/>
            <a:chExt cx="2904840" cy="666360"/>
          </a:xfrm>
        </p:grpSpPr>
        <p:sp>
          <p:nvSpPr>
            <p:cNvPr id="326" name="圆角矩形 13"/>
            <p:cNvSpPr/>
            <p:nvPr/>
          </p:nvSpPr>
          <p:spPr>
            <a:xfrm>
              <a:off x="139860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2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8248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文本框 16"/>
            <p:cNvSpPr/>
            <p:nvPr/>
          </p:nvSpPr>
          <p:spPr>
            <a:xfrm>
              <a:off x="16581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梳理文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7"/>
          <p:cNvSpPr/>
          <p:nvPr/>
        </p:nvSpPr>
        <p:spPr>
          <a:xfrm>
            <a:off x="1650960" y="2698920"/>
            <a:ext cx="592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细叶谁裁出，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2"/>
          <p:cNvSpPr/>
          <p:nvPr/>
        </p:nvSpPr>
        <p:spPr>
          <a:xfrm>
            <a:off x="1050840" y="3497400"/>
            <a:ext cx="74800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满树细细的柳叶是谁裁剪出来的呢？二月的春风就像剪刀一样裁剪出这满树的柳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13"/>
          <p:cNvSpPr/>
          <p:nvPr/>
        </p:nvSpPr>
        <p:spPr>
          <a:xfrm>
            <a:off x="6243840" y="2046240"/>
            <a:ext cx="29232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似：如同，好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0"/>
          <p:cNvSpPr/>
          <p:nvPr/>
        </p:nvSpPr>
        <p:spPr>
          <a:xfrm>
            <a:off x="3119400" y="2046240"/>
            <a:ext cx="292320" cy="363960"/>
          </a:xfrm>
          <a:prstGeom prst="rect">
            <a:avLst/>
          </a:prstGeom>
          <a:solidFill>
            <a:schemeClr val="bg1"/>
          </a:solidFill>
          <a:ln w="4445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裁：裁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"/>
          <p:cNvSpPr/>
          <p:nvPr/>
        </p:nvSpPr>
        <p:spPr>
          <a:xfrm>
            <a:off x="808200" y="1984320"/>
            <a:ext cx="7656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诗的前两句： “妆”字写柳树像是精心打扮过一样；“高”字衬托出柳树袅袅婷婷的风姿；“碧玉”表现了柳树鲜嫩新翠。此句运用了比喻的修辞手法写出了柳树的全貌，突出了柳树绿、高的特点。“垂”写出了柳枝的长和柔；用“绿丝绦”来比喻柳枝，写出了柳枝随风飘拂的样子，形象展现了柳枝的美丽。这一句，把柳枝茂密、柔软、下垂的特点充分地表现了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诗的后两句：“细叶”一词，写出了柳叶细巧的特点。巧用设问，用“谁裁出”表达自己对柳叶的赞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组合 2"/>
          <p:cNvGrpSpPr/>
          <p:nvPr/>
        </p:nvGrpSpPr>
        <p:grpSpPr>
          <a:xfrm>
            <a:off x="582480" y="1069920"/>
            <a:ext cx="2904840" cy="666360"/>
            <a:chOff x="582480" y="1069920"/>
            <a:chExt cx="2904840" cy="666360"/>
          </a:xfrm>
        </p:grpSpPr>
        <p:sp>
          <p:nvSpPr>
            <p:cNvPr id="335" name="圆角矩形 5"/>
            <p:cNvSpPr/>
            <p:nvPr/>
          </p:nvSpPr>
          <p:spPr>
            <a:xfrm>
              <a:off x="139860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3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8248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文本框 16"/>
            <p:cNvSpPr/>
            <p:nvPr/>
          </p:nvSpPr>
          <p:spPr>
            <a:xfrm>
              <a:off x="16581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整体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矩形 1"/>
          <p:cNvSpPr/>
          <p:nvPr/>
        </p:nvSpPr>
        <p:spPr>
          <a:xfrm>
            <a:off x="1108080" y="1712880"/>
            <a:ext cx="700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拓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把柳枝比作丝绦，你觉得柳枝还像什么？请仿写一个比喻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图片 24" descr="花盆.png"/>
          <p:cNvPicPr/>
          <p:nvPr/>
        </p:nvPicPr>
        <p:blipFill>
          <a:blip r:embed="rId1"/>
          <a:stretch/>
        </p:blipFill>
        <p:spPr>
          <a:xfrm>
            <a:off x="865080" y="1868400"/>
            <a:ext cx="321840" cy="367920"/>
          </a:xfrm>
          <a:prstGeom prst="rect">
            <a:avLst/>
          </a:prstGeom>
          <a:ln w="0">
            <a:noFill/>
          </a:ln>
        </p:spPr>
      </p:pic>
      <p:sp>
        <p:nvSpPr>
          <p:cNvPr id="340" name="矩形 2"/>
          <p:cNvSpPr/>
          <p:nvPr/>
        </p:nvSpPr>
        <p:spPr>
          <a:xfrm>
            <a:off x="1158840" y="3597120"/>
            <a:ext cx="6887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细细的柳枝像婀娜的少女在风中翩翩起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文本框 23"/>
          <p:cNvSpPr/>
          <p:nvPr/>
        </p:nvSpPr>
        <p:spPr>
          <a:xfrm>
            <a:off x="784080" y="1720800"/>
            <a:ext cx="772776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50000"/>
              </a:lnSpc>
              <a:buSzPct val="100000"/>
              <a:buBlip>
                <a:blip r:embed="rId1"/>
              </a:buBlip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是设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设问，是为了强调某部分内容，故意先提出问题，然后回答，即明知故问，自问自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找中心句的方法有哪些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确的运用设问，能引人注意，启发思考；有助于层次分明，结构紧凑；可以更好地描写人物的思想活动；突出某些内容，使文章起波澜，有变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答题模式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此处通过一问一答的设问形式，强烈地表达了作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情感并引起读者的深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组合 9"/>
          <p:cNvGrpSpPr/>
          <p:nvPr/>
        </p:nvGrpSpPr>
        <p:grpSpPr>
          <a:xfrm>
            <a:off x="650880" y="939960"/>
            <a:ext cx="8102160" cy="834840"/>
            <a:chOff x="650880" y="939960"/>
            <a:chExt cx="8102160" cy="834840"/>
          </a:xfrm>
        </p:grpSpPr>
        <p:sp>
          <p:nvSpPr>
            <p:cNvPr id="343" name="矩形 1"/>
            <p:cNvSpPr/>
            <p:nvPr/>
          </p:nvSpPr>
          <p:spPr>
            <a:xfrm>
              <a:off x="3729240" y="976680"/>
              <a:ext cx="5023800" cy="7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认识设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Picture 6" descr=""/>
            <p:cNvPicPr/>
            <p:nvPr/>
          </p:nvPicPr>
          <p:blipFill>
            <a:blip r:embed="rId4"/>
            <a:stretch/>
          </p:blipFill>
          <p:spPr>
            <a:xfrm>
              <a:off x="650880" y="939960"/>
              <a:ext cx="3078000" cy="834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9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4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9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6"/>
          <p:cNvSpPr/>
          <p:nvPr/>
        </p:nvSpPr>
        <p:spPr>
          <a:xfrm>
            <a:off x="914400" y="2359080"/>
            <a:ext cx="7490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认、会写生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、背诵古诗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通过理解古诗的意思，激发学生热爱大自然，热爱生活的情感。（难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579757916"/>
              </p:ext>
            </p:extLst>
          </p:nvPr>
        </p:nvGraphicFramePr>
        <p:xfrm>
          <a:off x="89028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内容占位符 2"/>
          <p:cNvSpPr/>
          <p:nvPr/>
        </p:nvSpPr>
        <p:spPr>
          <a:xfrm>
            <a:off x="635040" y="2031840"/>
            <a:ext cx="2203200" cy="5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核心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1125360" y="3535200"/>
            <a:ext cx="7313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表达了作者对柳树、春天和大自然的赞美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5"/>
          <p:cNvSpPr/>
          <p:nvPr/>
        </p:nvSpPr>
        <p:spPr>
          <a:xfrm>
            <a:off x="1033560" y="2832120"/>
            <a:ext cx="7222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首古诗表达了诗人怎样的思想感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7720" cy="85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内容占位符 2"/>
          <p:cNvSpPr/>
          <p:nvPr/>
        </p:nvSpPr>
        <p:spPr>
          <a:xfrm>
            <a:off x="674640" y="2454120"/>
            <a:ext cx="7644960" cy="7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首诗描绘的是什么季节的景色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"/>
          <p:cNvSpPr/>
          <p:nvPr/>
        </p:nvSpPr>
        <p:spPr>
          <a:xfrm>
            <a:off x="938160" y="3209760"/>
            <a:ext cx="7251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首诗描写了春天的景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内容占位符 2"/>
          <p:cNvSpPr/>
          <p:nvPr/>
        </p:nvSpPr>
        <p:spPr>
          <a:xfrm>
            <a:off x="635040" y="1733400"/>
            <a:ext cx="22032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串珠问题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内容占位符 2"/>
          <p:cNvSpPr/>
          <p:nvPr/>
        </p:nvSpPr>
        <p:spPr>
          <a:xfrm>
            <a:off x="620640" y="1762200"/>
            <a:ext cx="784656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描绘的是什么景色？表现了春天的什么特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1"/>
          <p:cNvSpPr/>
          <p:nvPr/>
        </p:nvSpPr>
        <p:spPr>
          <a:xfrm>
            <a:off x="1081080" y="2630520"/>
            <a:ext cx="7252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4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写了柳树和春风。柳树高大、碧绿，枝条长而柔软，叶子细小。春风温暖。表现了春天生机勃勃和无穷的创造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内容占位符 2"/>
          <p:cNvSpPr/>
          <p:nvPr/>
        </p:nvSpPr>
        <p:spPr>
          <a:xfrm>
            <a:off x="593640" y="1339920"/>
            <a:ext cx="784656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61800" indent="-36180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运用了哪些修辞手法？有什么好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"/>
          <p:cNvSpPr/>
          <p:nvPr/>
        </p:nvSpPr>
        <p:spPr>
          <a:xfrm>
            <a:off x="966960" y="2004840"/>
            <a:ext cx="7416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24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运用了比喻和设问的修辞方法。运用比喻的好处是：诗人把柳树的枝叶比作碧玉，写出了柳树颜色绿、生机勃勃的特点，让人感觉到柳树的颜色很美；把柳枝比作绿丝绦，写出 柳枝随风飘拂、轻柔美丽、颜色翠绿的特点，让人感觉柳树的样子很美；吧二月春风比作剪刀，把无形的春风写得有形可循，让人感觉到春的勃勃生机和无穷的创造力，表达了作者对春的喜爱之情。运用设问的好处是：不但写出了柳叶的特点，更主要的是引起读者的思考，巧妙过渡，表达了自己对春的热爱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文本框 26"/>
          <p:cNvSpPr/>
          <p:nvPr/>
        </p:nvSpPr>
        <p:spPr>
          <a:xfrm>
            <a:off x="1386000" y="3187800"/>
            <a:ext cx="73944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咏 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4"/>
          <p:cNvSpPr/>
          <p:nvPr/>
        </p:nvSpPr>
        <p:spPr>
          <a:xfrm>
            <a:off x="2311560" y="2489040"/>
            <a:ext cx="341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写：碧玉———树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左大括号 6"/>
          <p:cNvSpPr/>
          <p:nvPr/>
        </p:nvSpPr>
        <p:spPr>
          <a:xfrm>
            <a:off x="2085840" y="2597040"/>
            <a:ext cx="258480" cy="2398320"/>
          </a:xfrm>
          <a:prstGeom prst="leftBrace">
            <a:avLst>
              <a:gd name="adj1" fmla="val 8333"/>
              <a:gd name="adj2" fmla="val 50000"/>
            </a:avLst>
          </a:prstGeom>
          <a:noFill/>
          <a:ln w="12700"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Franklin Gothic Medium"/>
              <a:ea typeface="微软雅黑"/>
            </a:endParaRPr>
          </a:p>
        </p:txBody>
      </p:sp>
      <p:sp>
        <p:nvSpPr>
          <p:cNvPr id="359" name="左大括号 23"/>
          <p:cNvSpPr/>
          <p:nvPr/>
        </p:nvSpPr>
        <p:spPr>
          <a:xfrm flipH="1">
            <a:off x="6646320" y="2606760"/>
            <a:ext cx="255240" cy="2442960"/>
          </a:xfrm>
          <a:prstGeom prst="leftBrace">
            <a:avLst>
              <a:gd name="adj1" fmla="val 8333"/>
              <a:gd name="adj2" fmla="val 50000"/>
            </a:avLst>
          </a:prstGeom>
          <a:noFill/>
          <a:ln w="12700"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7254720" y="2971800"/>
            <a:ext cx="729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柳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春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大自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247920" y="279360"/>
            <a:ext cx="2647440" cy="6948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362" name="矩形 8"/>
          <p:cNvSpPr/>
          <p:nvPr/>
        </p:nvSpPr>
        <p:spPr>
          <a:xfrm>
            <a:off x="4159080" y="3164040"/>
            <a:ext cx="17172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柳条  万条——绿丝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柳叶  细叶——谁裁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9"/>
          <p:cNvSpPr/>
          <p:nvPr/>
        </p:nvSpPr>
        <p:spPr>
          <a:xfrm>
            <a:off x="2533320" y="354024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1"/>
          <p:cNvSpPr/>
          <p:nvPr/>
        </p:nvSpPr>
        <p:spPr>
          <a:xfrm>
            <a:off x="2311560" y="4611600"/>
            <a:ext cx="3568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象：春风——似剪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左大括号 12"/>
          <p:cNvSpPr/>
          <p:nvPr/>
        </p:nvSpPr>
        <p:spPr>
          <a:xfrm>
            <a:off x="3111480" y="3370320"/>
            <a:ext cx="194760" cy="821880"/>
          </a:xfrm>
          <a:prstGeom prst="leftBrace">
            <a:avLst>
              <a:gd name="adj1" fmla="val 8333"/>
              <a:gd name="adj2" fmla="val 50000"/>
            </a:avLst>
          </a:prstGeom>
          <a:noFill/>
          <a:ln w="12700">
            <a:solidFill>
              <a:srgbClr val="00000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24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366" name="组合 2"/>
          <p:cNvGrpSpPr/>
          <p:nvPr/>
        </p:nvGrpSpPr>
        <p:grpSpPr>
          <a:xfrm>
            <a:off x="582480" y="1069920"/>
            <a:ext cx="2904840" cy="666360"/>
            <a:chOff x="582480" y="1069920"/>
            <a:chExt cx="2904840" cy="666360"/>
          </a:xfrm>
        </p:grpSpPr>
        <p:sp>
          <p:nvSpPr>
            <p:cNvPr id="367" name="圆角矩形 14"/>
            <p:cNvSpPr/>
            <p:nvPr/>
          </p:nvSpPr>
          <p:spPr>
            <a:xfrm>
              <a:off x="139860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6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8248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文本框 16"/>
            <p:cNvSpPr/>
            <p:nvPr/>
          </p:nvSpPr>
          <p:spPr>
            <a:xfrm>
              <a:off x="16581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内容占位符 2"/>
          <p:cNvSpPr/>
          <p:nvPr/>
        </p:nvSpPr>
        <p:spPr>
          <a:xfrm>
            <a:off x="1035000" y="2516040"/>
            <a:ext cx="741636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是一首咏物诗，通过描写在春风吹拂下柳树迷人的姿态，表达了诗人对柳树、对春天的喜爱和对大自然的赞美之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2"/>
          <p:cNvGrpSpPr/>
          <p:nvPr/>
        </p:nvGrpSpPr>
        <p:grpSpPr>
          <a:xfrm>
            <a:off x="582480" y="1069920"/>
            <a:ext cx="2904840" cy="666360"/>
            <a:chOff x="582480" y="1069920"/>
            <a:chExt cx="2904840" cy="666360"/>
          </a:xfrm>
        </p:grpSpPr>
        <p:sp>
          <p:nvSpPr>
            <p:cNvPr id="372" name="圆角矩形 8"/>
            <p:cNvSpPr/>
            <p:nvPr/>
          </p:nvSpPr>
          <p:spPr>
            <a:xfrm>
              <a:off x="139860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7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8248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文本框 16"/>
            <p:cNvSpPr/>
            <p:nvPr/>
          </p:nvSpPr>
          <p:spPr>
            <a:xfrm>
              <a:off x="16581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1"/>
          <p:cNvSpPr/>
          <p:nvPr/>
        </p:nvSpPr>
        <p:spPr>
          <a:xfrm>
            <a:off x="571680" y="2403360"/>
            <a:ext cx="77785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送 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隋）无名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杨柳青青著地垂，杨花漫漫搅天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柳条折尽花飞尽，借问行人归不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图片 16" descr=""/>
          <p:cNvPicPr/>
          <p:nvPr/>
        </p:nvPicPr>
        <p:blipFill>
          <a:blip r:embed="rId1"/>
          <a:stretch/>
        </p:blipFill>
        <p:spPr>
          <a:xfrm>
            <a:off x="3284640" y="311040"/>
            <a:ext cx="2585520" cy="6012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377" name="组合 2"/>
          <p:cNvGrpSpPr/>
          <p:nvPr/>
        </p:nvGrpSpPr>
        <p:grpSpPr>
          <a:xfrm>
            <a:off x="582480" y="1187280"/>
            <a:ext cx="2904840" cy="666360"/>
            <a:chOff x="582480" y="1187280"/>
            <a:chExt cx="2904840" cy="666360"/>
          </a:xfrm>
        </p:grpSpPr>
        <p:sp>
          <p:nvSpPr>
            <p:cNvPr id="378" name="圆角矩形 13"/>
            <p:cNvSpPr/>
            <p:nvPr/>
          </p:nvSpPr>
          <p:spPr>
            <a:xfrm>
              <a:off x="1398600" y="13255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79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82480" y="118728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文本框 16"/>
            <p:cNvSpPr/>
            <p:nvPr/>
          </p:nvSpPr>
          <p:spPr>
            <a:xfrm>
              <a:off x="1658160" y="13446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矩形 1"/>
          <p:cNvSpPr/>
          <p:nvPr/>
        </p:nvSpPr>
        <p:spPr>
          <a:xfrm>
            <a:off x="2670120" y="2166840"/>
            <a:ext cx="4350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赋得古原草送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唐】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离离原上草，一岁一枯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野火烧不尽，春风吹又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远芳侵古道，晴翠接荒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又送王孙去，萋萋满别情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2"/>
          <p:cNvGrpSpPr/>
          <p:nvPr/>
        </p:nvGrpSpPr>
        <p:grpSpPr>
          <a:xfrm>
            <a:off x="582480" y="1187280"/>
            <a:ext cx="2904840" cy="666360"/>
            <a:chOff x="582480" y="1187280"/>
            <a:chExt cx="2904840" cy="666360"/>
          </a:xfrm>
        </p:grpSpPr>
        <p:sp>
          <p:nvSpPr>
            <p:cNvPr id="383" name="圆角矩形 8"/>
            <p:cNvSpPr/>
            <p:nvPr/>
          </p:nvSpPr>
          <p:spPr>
            <a:xfrm>
              <a:off x="1398600" y="13255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8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82480" y="118728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文本框 16"/>
            <p:cNvSpPr/>
            <p:nvPr/>
          </p:nvSpPr>
          <p:spPr>
            <a:xfrm>
              <a:off x="1658160" y="13446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内容占位符 2"/>
          <p:cNvSpPr/>
          <p:nvPr/>
        </p:nvSpPr>
        <p:spPr>
          <a:xfrm>
            <a:off x="779400" y="1981080"/>
            <a:ext cx="766728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【与柳有关风俗文化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国古代民间有插柳迎春的风俗。寒食节，家家户户门前常插柳以迎接春天的到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人有折柳枝赠别亲友的风俗。折柳送别有两层寓意：其一，“柳”与“留”谐音，折柳含有“挽留”之意；其二 ，柳树极易生长，用它赠送亲友，期望亲友无论漂泊何方都能“枝繁叶茂，落叶生根”，顽强生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2"/>
          <p:cNvGrpSpPr/>
          <p:nvPr/>
        </p:nvGrpSpPr>
        <p:grpSpPr>
          <a:xfrm>
            <a:off x="517680" y="1096920"/>
            <a:ext cx="3990600" cy="666360"/>
            <a:chOff x="517680" y="1096920"/>
            <a:chExt cx="3990600" cy="666360"/>
          </a:xfrm>
        </p:grpSpPr>
        <p:sp>
          <p:nvSpPr>
            <p:cNvPr id="388" name="圆角矩形 11"/>
            <p:cNvSpPr/>
            <p:nvPr/>
          </p:nvSpPr>
          <p:spPr>
            <a:xfrm>
              <a:off x="1449360" y="1235160"/>
              <a:ext cx="30589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389" name="图片 13" descr="book.gif"/>
            <p:cNvPicPr/>
            <p:nvPr/>
          </p:nvPicPr>
          <p:blipFill>
            <a:blip r:embed="rId1"/>
            <a:stretch/>
          </p:blipFill>
          <p:spPr>
            <a:xfrm>
              <a:off x="517680" y="10969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文本框 16"/>
            <p:cNvSpPr/>
            <p:nvPr/>
          </p:nvSpPr>
          <p:spPr>
            <a:xfrm>
              <a:off x="1566720" y="1267200"/>
              <a:ext cx="2874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10"/>
          <p:cNvSpPr/>
          <p:nvPr/>
        </p:nvSpPr>
        <p:spPr>
          <a:xfrm>
            <a:off x="950760" y="2671920"/>
            <a:ext cx="7300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咏柳》这首诗是唐代诗人贺知章千古佳作，诗人用独特的笔触描写了春天的柳树，借物抒情，歌颂和赞美了春天的创造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056110098"/>
              </p:ext>
            </p:extLst>
          </p:nvPr>
        </p:nvGraphicFramePr>
        <p:xfrm>
          <a:off x="68724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p:transition>
    <p:wipe dir="r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"/>
          <p:cNvSpPr/>
          <p:nvPr/>
        </p:nvSpPr>
        <p:spPr>
          <a:xfrm>
            <a:off x="3592440" y="1973160"/>
            <a:ext cx="4898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贺知章（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659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74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，唐代诗人，字季真，晚年自号“四明狂客”，越州永兴（今浙江萧山）人。贺知章与张若虚、张旭、包融齐名，合称为“吴中四士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主要作品：《回乡偶书》《采莲曲》《咏柳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600" cy="7124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118" name="图片 62"/>
          <p:cNvSpPr/>
          <p:nvPr/>
        </p:nvSpPr>
        <p:spPr>
          <a:xfrm>
            <a:off x="698040" y="2496240"/>
            <a:ext cx="2730600" cy="28188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2"/>
          <p:cNvGrpSpPr/>
          <p:nvPr/>
        </p:nvGrpSpPr>
        <p:grpSpPr>
          <a:xfrm>
            <a:off x="647640" y="1069920"/>
            <a:ext cx="2904840" cy="666360"/>
            <a:chOff x="647640" y="1069920"/>
            <a:chExt cx="2904840" cy="666360"/>
          </a:xfrm>
        </p:grpSpPr>
        <p:sp>
          <p:nvSpPr>
            <p:cNvPr id="120" name="圆角矩形 10"/>
            <p:cNvSpPr/>
            <p:nvPr/>
          </p:nvSpPr>
          <p:spPr>
            <a:xfrm>
              <a:off x="146376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121" name="图片 9" descr="book.gif"/>
            <p:cNvPicPr/>
            <p:nvPr/>
          </p:nvPicPr>
          <p:blipFill>
            <a:blip r:embed="rId3"/>
            <a:stretch/>
          </p:blipFill>
          <p:spPr>
            <a:xfrm>
              <a:off x="64764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文本框 16"/>
            <p:cNvSpPr/>
            <p:nvPr/>
          </p:nvSpPr>
          <p:spPr>
            <a:xfrm>
              <a:off x="17229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作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矩形 12"/>
          <p:cNvSpPr/>
          <p:nvPr/>
        </p:nvSpPr>
        <p:spPr>
          <a:xfrm>
            <a:off x="600120" y="1668600"/>
            <a:ext cx="755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读课文。想象画面，说说诗句中春天的美景。背诵课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455760" y="2203560"/>
            <a:ext cx="8178480" cy="40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朗读课文。（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想象画面，说说诗句中春天的美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背诵课文。（略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7" descr=""/>
          <p:cNvPicPr/>
          <p:nvPr/>
        </p:nvPicPr>
        <p:blipFill>
          <a:blip r:embed="rId1"/>
          <a:stretch/>
        </p:blipFill>
        <p:spPr>
          <a:xfrm>
            <a:off x="25200" y="663840"/>
            <a:ext cx="4098600" cy="1029960"/>
          </a:xfrm>
          <a:prstGeom prst="rect">
            <a:avLst/>
          </a:prstGeom>
          <a:ln w="0">
            <a:noFill/>
          </a:ln>
          <a:effectLst>
            <a:glow rad="101520">
              <a:srgbClr val="ffffff">
                <a:alpha val="60000"/>
              </a:srgbClr>
            </a:glow>
            <a:outerShdw algn="ctr" blurRad="216000" dir="2700000" dist="35638" rotWithShape="0" sx="30000" sy="30000">
              <a:schemeClr val="bg1">
                <a:lumMod val="95000"/>
              </a:schemeClr>
            </a:outerShdw>
            <a:softEdge rad="31680"/>
          </a:effectLst>
        </p:spPr>
      </p:pic>
      <p:sp>
        <p:nvSpPr>
          <p:cNvPr id="395" name="TextBox 2"/>
          <p:cNvSpPr/>
          <p:nvPr/>
        </p:nvSpPr>
        <p:spPr>
          <a:xfrm>
            <a:off x="1117440" y="3143160"/>
            <a:ext cx="7281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参考答案：《村居》中春天的美景：早春二月，小草长出了嫩绿的芽儿；黄莺在天上飞着，欢快地 歌唱。堤旁柳树长长的枝条，轻轻地拂着地面，仿佛在春天的烟雾里醉得直摇晃。儿童早早放学归来，忙趁着东风，兴致勃勃地放起了风筝。《咏柳》中春天的美景：高高的柳树长满了翠绿的新叶，轻柔的柳枝垂下来，就像无数条随风轻轻飘动的绿色丝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12"/>
          <p:cNvSpPr/>
          <p:nvPr/>
        </p:nvSpPr>
        <p:spPr>
          <a:xfrm>
            <a:off x="725400" y="1143000"/>
            <a:ext cx="755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，填一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1116000" y="3030480"/>
            <a:ext cx="721800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师点拨：这是本课两首诗中的名句，注意在熟读古诗或背诵古诗的基础上进行。填写诗注意前后的衔接，不要丢字加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参考答案：草长莺飞二月天，拂堤扬柳醉春烟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细叶谁裁出，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6"/>
          <p:cNvSpPr/>
          <p:nvPr/>
        </p:nvSpPr>
        <p:spPr>
          <a:xfrm>
            <a:off x="3173040" y="1790640"/>
            <a:ext cx="27932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莺飞       ，拂堤杨柳醉        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知细叶谁裁出，                      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矩形 12"/>
          <p:cNvSpPr/>
          <p:nvPr/>
        </p:nvSpPr>
        <p:spPr>
          <a:xfrm>
            <a:off x="901800" y="1427040"/>
            <a:ext cx="75560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一读，记一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"/>
          <p:cNvSpPr/>
          <p:nvPr/>
        </p:nvSpPr>
        <p:spPr>
          <a:xfrm>
            <a:off x="1069920" y="4251240"/>
            <a:ext cx="7262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师点拨：这是本课会认的字组成的词语，注意读一读，记一记，了解生字的意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7"/>
          <p:cNvSpPr/>
          <p:nvPr/>
        </p:nvSpPr>
        <p:spPr>
          <a:xfrm>
            <a:off x="1828800" y="2306520"/>
            <a:ext cx="5839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河堤     堤岸      杨柳     柳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吹拂   春风拂面    化妆   梳妆打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7167"/>
          <p:cNvSpPr/>
          <p:nvPr/>
        </p:nvSpPr>
        <p:spPr>
          <a:xfrm>
            <a:off x="1036800" y="2157480"/>
            <a:ext cx="739728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给加点字选择正确的读音，打“√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草长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yī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īng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飞二月天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f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ó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dī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í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杨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li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iú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醉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zuì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uì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春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碧玉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zuāng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uāng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成一树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条垂下绿丝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sī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hī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tāo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iáo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6"/>
          <p:cNvSpPr/>
          <p:nvPr/>
        </p:nvSpPr>
        <p:spPr>
          <a:xfrm>
            <a:off x="3383280" y="30510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520" cy="6012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405" name="文本框 17"/>
          <p:cNvSpPr/>
          <p:nvPr/>
        </p:nvSpPr>
        <p:spPr>
          <a:xfrm>
            <a:off x="3386160" y="1284120"/>
            <a:ext cx="2371320" cy="484920"/>
          </a:xfrm>
          <a:prstGeom prst="frame">
            <a:avLst>
              <a:gd name="adj1" fmla="val 12500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4f81b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Franklin Gothic Medium"/>
                <a:ea typeface="微软雅黑"/>
              </a:rPr>
              <a:t>习题源于《典中点》的“基础练习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6"/>
          <p:cNvSpPr/>
          <p:nvPr/>
        </p:nvSpPr>
        <p:spPr>
          <a:xfrm>
            <a:off x="1933920" y="35449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6"/>
          <p:cNvSpPr/>
          <p:nvPr/>
        </p:nvSpPr>
        <p:spPr>
          <a:xfrm>
            <a:off x="3257640" y="35784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6"/>
          <p:cNvSpPr/>
          <p:nvPr/>
        </p:nvSpPr>
        <p:spPr>
          <a:xfrm>
            <a:off x="4820040" y="359244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6"/>
          <p:cNvSpPr/>
          <p:nvPr/>
        </p:nvSpPr>
        <p:spPr>
          <a:xfrm>
            <a:off x="6255000" y="35449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6"/>
          <p:cNvSpPr/>
          <p:nvPr/>
        </p:nvSpPr>
        <p:spPr>
          <a:xfrm>
            <a:off x="4023000" y="41497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6"/>
          <p:cNvSpPr/>
          <p:nvPr/>
        </p:nvSpPr>
        <p:spPr>
          <a:xfrm>
            <a:off x="3518280" y="469116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4981680" y="469116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"/>
          <p:cNvSpPr/>
          <p:nvPr/>
        </p:nvSpPr>
        <p:spPr>
          <a:xfrm>
            <a:off x="2280240" y="29242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3"/>
          <p:cNvSpPr/>
          <p:nvPr/>
        </p:nvSpPr>
        <p:spPr>
          <a:xfrm>
            <a:off x="1675440" y="351144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4"/>
          <p:cNvSpPr/>
          <p:nvPr/>
        </p:nvSpPr>
        <p:spPr>
          <a:xfrm>
            <a:off x="2947320" y="35164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5"/>
          <p:cNvSpPr/>
          <p:nvPr/>
        </p:nvSpPr>
        <p:spPr>
          <a:xfrm>
            <a:off x="4498200" y="35002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6"/>
          <p:cNvSpPr/>
          <p:nvPr/>
        </p:nvSpPr>
        <p:spPr>
          <a:xfrm>
            <a:off x="5842080" y="348624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7"/>
          <p:cNvSpPr/>
          <p:nvPr/>
        </p:nvSpPr>
        <p:spPr>
          <a:xfrm>
            <a:off x="2312280" y="40528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28"/>
          <p:cNvSpPr/>
          <p:nvPr/>
        </p:nvSpPr>
        <p:spPr>
          <a:xfrm>
            <a:off x="3210840" y="458136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29"/>
          <p:cNvSpPr/>
          <p:nvPr/>
        </p:nvSpPr>
        <p:spPr>
          <a:xfrm>
            <a:off x="4615560" y="460548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表格 21"/>
          <p:cNvGraphicFramePr/>
          <p:nvPr/>
        </p:nvGraphicFramePr>
        <p:xfrm>
          <a:off x="4013280" y="44416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2" name="矩形 3"/>
          <p:cNvSpPr/>
          <p:nvPr/>
        </p:nvSpPr>
        <p:spPr>
          <a:xfrm>
            <a:off x="826920" y="1197000"/>
            <a:ext cx="736740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读拼音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gǔ      shī                cūn    jū                  ér    tó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ì      yù               hu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zhuāng             lǜ      s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ǔ     sī                 jiǎn   d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4006800" y="4325760"/>
            <a:ext cx="15123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剪 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表格 12"/>
          <p:cNvGraphicFramePr/>
          <p:nvPr/>
        </p:nvGraphicFramePr>
        <p:xfrm>
          <a:off x="1692360" y="22654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表格 14"/>
          <p:cNvGraphicFramePr/>
          <p:nvPr/>
        </p:nvGraphicFramePr>
        <p:xfrm>
          <a:off x="3995640" y="22654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6" name="表格 15"/>
          <p:cNvGraphicFramePr/>
          <p:nvPr/>
        </p:nvGraphicFramePr>
        <p:xfrm>
          <a:off x="6300720" y="22654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7" name="表格 16"/>
          <p:cNvGraphicFramePr/>
          <p:nvPr/>
        </p:nvGraphicFramePr>
        <p:xfrm>
          <a:off x="1695600" y="33400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8" name="表格 17"/>
          <p:cNvGraphicFramePr/>
          <p:nvPr/>
        </p:nvGraphicFramePr>
        <p:xfrm>
          <a:off x="4000680" y="33400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9" name="表格 19"/>
          <p:cNvGraphicFramePr/>
          <p:nvPr/>
        </p:nvGraphicFramePr>
        <p:xfrm>
          <a:off x="6303960" y="33400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0" name="表格 20"/>
          <p:cNvGraphicFramePr/>
          <p:nvPr/>
        </p:nvGraphicFramePr>
        <p:xfrm>
          <a:off x="1709640" y="4441680"/>
          <a:ext cx="1439640" cy="7329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58560"/>
              </a:tblGrid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1" name="矩形 4"/>
          <p:cNvSpPr/>
          <p:nvPr/>
        </p:nvSpPr>
        <p:spPr>
          <a:xfrm>
            <a:off x="6754320" y="321480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绿 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"/>
          <p:cNvSpPr/>
          <p:nvPr/>
        </p:nvSpPr>
        <p:spPr>
          <a:xfrm>
            <a:off x="4410360" y="324180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化 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6"/>
          <p:cNvSpPr/>
          <p:nvPr/>
        </p:nvSpPr>
        <p:spPr>
          <a:xfrm>
            <a:off x="4421520" y="214776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村 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7"/>
          <p:cNvSpPr/>
          <p:nvPr/>
        </p:nvSpPr>
        <p:spPr>
          <a:xfrm>
            <a:off x="2157840" y="324180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碧 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8"/>
          <p:cNvSpPr/>
          <p:nvPr/>
        </p:nvSpPr>
        <p:spPr>
          <a:xfrm>
            <a:off x="6714720" y="214776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儿 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9"/>
          <p:cNvSpPr/>
          <p:nvPr/>
        </p:nvSpPr>
        <p:spPr>
          <a:xfrm>
            <a:off x="2106360" y="214776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古 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矩形 10"/>
          <p:cNvSpPr/>
          <p:nvPr/>
        </p:nvSpPr>
        <p:spPr>
          <a:xfrm>
            <a:off x="2131560" y="4325760"/>
            <a:ext cx="5148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雨 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矩形 3"/>
          <p:cNvSpPr/>
          <p:nvPr/>
        </p:nvSpPr>
        <p:spPr>
          <a:xfrm>
            <a:off x="1485000" y="1231920"/>
            <a:ext cx="7272000" cy="29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三、比一比，选字填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　　　过　　　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庄　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去　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里　　　童　　　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        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　　　丝　　　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        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考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"/>
          <p:cNvSpPr/>
          <p:nvPr/>
        </p:nvSpPr>
        <p:spPr>
          <a:xfrm>
            <a:off x="1933920" y="2465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2"/>
          <p:cNvSpPr/>
          <p:nvPr/>
        </p:nvSpPr>
        <p:spPr>
          <a:xfrm>
            <a:off x="6748560" y="4653000"/>
            <a:ext cx="580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5"/>
          <p:cNvSpPr/>
          <p:nvPr/>
        </p:nvSpPr>
        <p:spPr>
          <a:xfrm>
            <a:off x="4381560" y="2481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6"/>
          <p:cNvSpPr/>
          <p:nvPr/>
        </p:nvSpPr>
        <p:spPr>
          <a:xfrm>
            <a:off x="6812280" y="24652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2221200" y="3543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9"/>
          <p:cNvSpPr/>
          <p:nvPr/>
        </p:nvSpPr>
        <p:spPr>
          <a:xfrm>
            <a:off x="4803840" y="3543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0"/>
          <p:cNvSpPr/>
          <p:nvPr/>
        </p:nvSpPr>
        <p:spPr>
          <a:xfrm>
            <a:off x="6836760" y="35733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14"/>
          <p:cNvSpPr/>
          <p:nvPr/>
        </p:nvSpPr>
        <p:spPr>
          <a:xfrm>
            <a:off x="2225880" y="4653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15"/>
          <p:cNvSpPr/>
          <p:nvPr/>
        </p:nvSpPr>
        <p:spPr>
          <a:xfrm>
            <a:off x="4412520" y="46530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7"/>
          <p:cNvSpPr/>
          <p:nvPr/>
        </p:nvSpPr>
        <p:spPr>
          <a:xfrm>
            <a:off x="1071720" y="1711440"/>
            <a:ext cx="7353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柳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柳树是落叶乔木或灌木，为喜光树种。耐水能力强，在遭受水淹时，能生出许多不定根，漂浮水中，有吸收和运输养分的机能。柳树以插条繁殖为主，也可种子繁殖。柳树木材质轻洁白，坚韧细致，纹理通直，容易切削，干燥后不易变形。柳属植物药用历史悠久，公元前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5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古埃及文献记载。有旱柳、垂柳、白柳、镘头柳等品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2"/>
          <p:cNvGrpSpPr/>
          <p:nvPr/>
        </p:nvGrpSpPr>
        <p:grpSpPr>
          <a:xfrm>
            <a:off x="647640" y="1069920"/>
            <a:ext cx="2904840" cy="666360"/>
            <a:chOff x="647640" y="1069920"/>
            <a:chExt cx="2904840" cy="666360"/>
          </a:xfrm>
        </p:grpSpPr>
        <p:sp>
          <p:nvSpPr>
            <p:cNvPr id="125" name="圆角矩形 8"/>
            <p:cNvSpPr/>
            <p:nvPr/>
          </p:nvSpPr>
          <p:spPr>
            <a:xfrm>
              <a:off x="1463760" y="12081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1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文本框 16"/>
            <p:cNvSpPr/>
            <p:nvPr/>
          </p:nvSpPr>
          <p:spPr>
            <a:xfrm>
              <a:off x="1722960" y="12272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2840" cy="647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129" name="组合 19"/>
          <p:cNvGrpSpPr/>
          <p:nvPr/>
        </p:nvGrpSpPr>
        <p:grpSpPr>
          <a:xfrm>
            <a:off x="1685880" y="1746000"/>
            <a:ext cx="2850840" cy="3548520"/>
            <a:chOff x="1685880" y="1746000"/>
            <a:chExt cx="2850840" cy="3548520"/>
          </a:xfrm>
        </p:grpSpPr>
        <p:sp>
          <p:nvSpPr>
            <p:cNvPr id="130" name="Oval 677"/>
            <p:cNvSpPr/>
            <p:nvPr/>
          </p:nvSpPr>
          <p:spPr>
            <a:xfrm rot="21275400">
              <a:off x="1955520" y="1849320"/>
              <a:ext cx="2307960" cy="2311200"/>
            </a:xfrm>
            <a:prstGeom prst="ellipse">
              <a:avLst/>
            </a:prstGeom>
            <a:gradFill rotWithShape="0">
              <a:gsLst>
                <a:gs pos="0">
                  <a:srgbClr val="eea420"/>
                </a:gs>
                <a:gs pos="100000">
                  <a:srgbClr val="df6421"/>
                </a:gs>
              </a:gsLst>
              <a:lin ang="5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31" name="Oval 510"/>
            <p:cNvSpPr/>
            <p:nvPr/>
          </p:nvSpPr>
          <p:spPr>
            <a:xfrm>
              <a:off x="2069640" y="3324240"/>
              <a:ext cx="2086560" cy="7441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c6c6c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32" name="Oval 512"/>
            <p:cNvSpPr/>
            <p:nvPr/>
          </p:nvSpPr>
          <p:spPr>
            <a:xfrm>
              <a:off x="2374560" y="2090880"/>
              <a:ext cx="615240" cy="620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33" name="AutoShape 513"/>
            <p:cNvSpPr/>
            <p:nvPr/>
          </p:nvSpPr>
          <p:spPr>
            <a:xfrm>
              <a:off x="1685880" y="3479400"/>
              <a:ext cx="2837880" cy="1815120"/>
            </a:xfrm>
            <a:prstGeom prst="roundRect">
              <a:avLst>
                <a:gd name="adj" fmla="val 5801"/>
              </a:avLst>
            </a:prstGeom>
            <a:solidFill>
              <a:schemeClr val="bg1"/>
            </a:solidFill>
            <a:ln w="57150">
              <a:solidFill>
                <a:srgbClr val="f69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34" name="TextBox 6"/>
            <p:cNvSpPr/>
            <p:nvPr/>
          </p:nvSpPr>
          <p:spPr>
            <a:xfrm>
              <a:off x="2276640" y="2236680"/>
              <a:ext cx="1879200" cy="10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c00000"/>
                  </a:solidFill>
                  <a:latin typeface="Adobe 黑体 Std R"/>
                  <a:ea typeface="Adobe 黑体 Std R"/>
                </a:rPr>
                <a:t>   </a:t>
              </a: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点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听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 53"/>
            <p:cNvGrpSpPr/>
            <p:nvPr/>
          </p:nvGrpSpPr>
          <p:grpSpPr>
            <a:xfrm>
              <a:off x="2304000" y="2147400"/>
              <a:ext cx="655200" cy="654840"/>
              <a:chOff x="2304000" y="2147400"/>
              <a:chExt cx="655200" cy="654840"/>
            </a:xfrm>
          </p:grpSpPr>
          <p:sp>
            <p:nvSpPr>
              <p:cNvPr id="136" name="椭圆 26"/>
              <p:cNvSpPr/>
              <p:nvPr/>
            </p:nvSpPr>
            <p:spPr>
              <a:xfrm>
                <a:off x="2579760" y="2298600"/>
                <a:ext cx="207720" cy="207720"/>
              </a:xfrm>
              <a:prstGeom prst="ellipse">
                <a:avLst/>
              </a:prstGeom>
              <a:noFill/>
              <a:ln w="28575">
                <a:solidFill>
                  <a:srgbClr val="ffffff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Franklin Gothic Medium"/>
                  <a:ea typeface="微软雅黑"/>
                </a:endParaRPr>
              </a:p>
            </p:txBody>
          </p:sp>
          <p:pic>
            <p:nvPicPr>
              <p:cNvPr id="137" name="图片 10" descr=""/>
              <p:cNvPicPr/>
              <p:nvPr/>
            </p:nvPicPr>
            <p:blipFill>
              <a:blip r:embed="rId2"/>
              <a:stretch/>
            </p:blipFill>
            <p:spPr>
              <a:xfrm rot="2700000">
                <a:off x="2434680" y="2208240"/>
                <a:ext cx="393480" cy="53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8" name="矩形 11"/>
            <p:cNvSpPr/>
            <p:nvPr/>
          </p:nvSpPr>
          <p:spPr>
            <a:xfrm>
              <a:off x="1689840" y="3492720"/>
              <a:ext cx="28468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3501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听范读，边听边画出课文中的生字词。同时认准字音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理解诗词意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2"/>
          <p:cNvSpPr/>
          <p:nvPr/>
        </p:nvSpPr>
        <p:spPr>
          <a:xfrm>
            <a:off x="1060560" y="3211560"/>
            <a:ext cx="1582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ǒ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185840" y="358452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3494160" y="358308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6"/>
          <p:cNvSpPr/>
          <p:nvPr/>
        </p:nvSpPr>
        <p:spPr>
          <a:xfrm>
            <a:off x="3724200" y="321300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s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3"/>
          <p:cNvSpPr/>
          <p:nvPr/>
        </p:nvSpPr>
        <p:spPr>
          <a:xfrm>
            <a:off x="2195640" y="3211560"/>
            <a:ext cx="139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u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"/>
          <p:cNvSpPr/>
          <p:nvPr/>
        </p:nvSpPr>
        <p:spPr>
          <a:xfrm>
            <a:off x="2340000" y="359244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6"/>
          <p:cNvSpPr/>
          <p:nvPr/>
        </p:nvSpPr>
        <p:spPr>
          <a:xfrm>
            <a:off x="4649760" y="357840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7"/>
          <p:cNvSpPr/>
          <p:nvPr/>
        </p:nvSpPr>
        <p:spPr>
          <a:xfrm>
            <a:off x="4749840" y="321300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ā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5803920" y="357516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0"/>
          <p:cNvSpPr/>
          <p:nvPr/>
        </p:nvSpPr>
        <p:spPr>
          <a:xfrm>
            <a:off x="5935680" y="321156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á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6958080" y="3570120"/>
            <a:ext cx="112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2"/>
          <p:cNvSpPr/>
          <p:nvPr/>
        </p:nvSpPr>
        <p:spPr>
          <a:xfrm>
            <a:off x="7015320" y="3211560"/>
            <a:ext cx="101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701837758"/>
              </p:ext>
            </p:extLst>
          </p:nvPr>
        </p:nvGraphicFramePr>
        <p:xfrm>
          <a:off x="2802960" y="1049400"/>
          <a:ext cx="3648600" cy="10022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1" name="图片 7" descr="花盆.png"/>
          <p:cNvPicPr/>
          <p:nvPr/>
        </p:nvPicPr>
        <p:blipFill>
          <a:blip r:embed="rId6"/>
          <a:stretch/>
        </p:blipFill>
        <p:spPr>
          <a:xfrm>
            <a:off x="741240" y="2225520"/>
            <a:ext cx="507600" cy="595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0"/>
          <p:cNvSpPr/>
          <p:nvPr/>
        </p:nvSpPr>
        <p:spPr>
          <a:xfrm>
            <a:off x="1665360" y="22305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5"/>
          <p:cNvGrpSpPr/>
          <p:nvPr/>
        </p:nvGrpSpPr>
        <p:grpSpPr>
          <a:xfrm>
            <a:off x="3224160" y="2664000"/>
            <a:ext cx="3184200" cy="1369080"/>
            <a:chOff x="3224160" y="2664000"/>
            <a:chExt cx="3184200" cy="1369080"/>
          </a:xfrm>
        </p:grpSpPr>
        <p:sp>
          <p:nvSpPr>
            <p:cNvPr id="154" name="左大括号 11"/>
            <p:cNvSpPr/>
            <p:nvPr/>
          </p:nvSpPr>
          <p:spPr>
            <a:xfrm>
              <a:off x="3224160" y="2933640"/>
              <a:ext cx="150480" cy="94896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sp>
          <p:nvSpPr>
            <p:cNvPr id="155" name="TextBox 15"/>
            <p:cNvSpPr/>
            <p:nvPr/>
          </p:nvSpPr>
          <p:spPr>
            <a:xfrm>
              <a:off x="3398400" y="2664000"/>
              <a:ext cx="300996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   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似乎</a:t>
              </a: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)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（似的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"/>
          <p:cNvSpPr/>
          <p:nvPr/>
        </p:nvSpPr>
        <p:spPr>
          <a:xfrm>
            <a:off x="2649600" y="316548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花盆.png"/>
          <p:cNvPicPr/>
          <p:nvPr/>
        </p:nvPicPr>
        <p:blipFill>
          <a:blip r:embed="rId1"/>
          <a:stretch/>
        </p:blipFill>
        <p:spPr>
          <a:xfrm>
            <a:off x="741240" y="1754280"/>
            <a:ext cx="507600" cy="595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0"/>
          <p:cNvSpPr/>
          <p:nvPr/>
        </p:nvSpPr>
        <p:spPr>
          <a:xfrm>
            <a:off x="1771200" y="175896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0"/>
          <p:cNvSpPr/>
          <p:nvPr/>
        </p:nvSpPr>
        <p:spPr>
          <a:xfrm>
            <a:off x="152892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162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4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5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2" name="TextBox 57"/>
          <p:cNvSpPr/>
          <p:nvPr/>
        </p:nvSpPr>
        <p:spPr>
          <a:xfrm>
            <a:off x="4606920" y="4797360"/>
            <a:ext cx="3844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上下比例匀称、宽窄基本相似，笔画复杂注意结构紧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碧玉  碧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4"/>
          <p:cNvSpPr/>
          <p:nvPr/>
        </p:nvSpPr>
        <p:spPr>
          <a:xfrm>
            <a:off x="909720" y="5060880"/>
            <a:ext cx="335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碧绿的湖水就像美玉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22273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3301560" y="22082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47"/>
          <p:cNvSpPr/>
          <p:nvPr/>
        </p:nvSpPr>
        <p:spPr>
          <a:xfrm>
            <a:off x="6567480" y="2197080"/>
            <a:ext cx="334440" cy="333000"/>
          </a:xfrm>
          <a:custGeom>
            <a:avLst/>
            <a:gdLst>
              <a:gd name="textAreaLeft" fmla="*/ 0 w 334440"/>
              <a:gd name="textAreaRight" fmla="*/ 334800 w 334440"/>
              <a:gd name="textAreaTop" fmla="*/ 0 h 333000"/>
              <a:gd name="textAreaBottom" fmla="*/ 333360 h 333000"/>
            </a:gdLst>
            <a:ahLst/>
            <a:rect l="textAreaLeft" t="textAreaTop" r="textAreaRight" b="textAreaBottom"/>
            <a:pathLst>
              <a:path w="527" h="524">
                <a:moveTo>
                  <a:pt x="306" y="355"/>
                </a:moveTo>
                <a:lnTo>
                  <a:pt x="221" y="439"/>
                </a:lnTo>
                <a:lnTo>
                  <a:pt x="136" y="490"/>
                </a:lnTo>
                <a:lnTo>
                  <a:pt x="68" y="524"/>
                </a:lnTo>
                <a:lnTo>
                  <a:pt x="0" y="524"/>
                </a:lnTo>
                <a:lnTo>
                  <a:pt x="68" y="422"/>
                </a:lnTo>
                <a:lnTo>
                  <a:pt x="136" y="338"/>
                </a:lnTo>
                <a:lnTo>
                  <a:pt x="170" y="270"/>
                </a:lnTo>
                <a:lnTo>
                  <a:pt x="221" y="203"/>
                </a:lnTo>
                <a:lnTo>
                  <a:pt x="238" y="152"/>
                </a:lnTo>
                <a:lnTo>
                  <a:pt x="255" y="118"/>
                </a:lnTo>
                <a:lnTo>
                  <a:pt x="255" y="101"/>
                </a:lnTo>
                <a:lnTo>
                  <a:pt x="255" y="84"/>
                </a:lnTo>
                <a:lnTo>
                  <a:pt x="238" y="68"/>
                </a:lnTo>
                <a:lnTo>
                  <a:pt x="238" y="51"/>
                </a:lnTo>
                <a:lnTo>
                  <a:pt x="238" y="34"/>
                </a:lnTo>
                <a:lnTo>
                  <a:pt x="238" y="17"/>
                </a:lnTo>
                <a:lnTo>
                  <a:pt x="272" y="0"/>
                </a:lnTo>
                <a:lnTo>
                  <a:pt x="323" y="0"/>
                </a:lnTo>
                <a:lnTo>
                  <a:pt x="357" y="0"/>
                </a:lnTo>
                <a:lnTo>
                  <a:pt x="391" y="17"/>
                </a:lnTo>
                <a:lnTo>
                  <a:pt x="425" y="34"/>
                </a:lnTo>
                <a:lnTo>
                  <a:pt x="459" y="51"/>
                </a:lnTo>
                <a:lnTo>
                  <a:pt x="493" y="84"/>
                </a:lnTo>
                <a:lnTo>
                  <a:pt x="510" y="101"/>
                </a:lnTo>
                <a:lnTo>
                  <a:pt x="527" y="118"/>
                </a:lnTo>
                <a:lnTo>
                  <a:pt x="527" y="152"/>
                </a:lnTo>
                <a:lnTo>
                  <a:pt x="493" y="169"/>
                </a:lnTo>
                <a:lnTo>
                  <a:pt x="459" y="220"/>
                </a:lnTo>
                <a:lnTo>
                  <a:pt x="391" y="270"/>
                </a:lnTo>
                <a:lnTo>
                  <a:pt x="306" y="35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0" name="Freeform 42"/>
          <p:cNvSpPr/>
          <p:nvPr/>
        </p:nvSpPr>
        <p:spPr>
          <a:xfrm>
            <a:off x="5791320" y="2357280"/>
            <a:ext cx="582120" cy="172800"/>
          </a:xfrm>
          <a:custGeom>
            <a:avLst/>
            <a:gdLst>
              <a:gd name="textAreaLeft" fmla="*/ 0 w 582120"/>
              <a:gd name="textAreaRight" fmla="*/ 582480 w 58212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917" h="271">
                <a:moveTo>
                  <a:pt x="560" y="34"/>
                </a:moveTo>
                <a:lnTo>
                  <a:pt x="662" y="0"/>
                </a:lnTo>
                <a:lnTo>
                  <a:pt x="781" y="0"/>
                </a:lnTo>
                <a:lnTo>
                  <a:pt x="815" y="0"/>
                </a:lnTo>
                <a:lnTo>
                  <a:pt x="849" y="0"/>
                </a:lnTo>
                <a:lnTo>
                  <a:pt x="883" y="0"/>
                </a:lnTo>
                <a:lnTo>
                  <a:pt x="900" y="17"/>
                </a:lnTo>
                <a:lnTo>
                  <a:pt x="900" y="34"/>
                </a:lnTo>
                <a:lnTo>
                  <a:pt x="917" y="51"/>
                </a:lnTo>
                <a:lnTo>
                  <a:pt x="900" y="68"/>
                </a:lnTo>
                <a:lnTo>
                  <a:pt x="883" y="102"/>
                </a:lnTo>
                <a:lnTo>
                  <a:pt x="849" y="119"/>
                </a:lnTo>
                <a:lnTo>
                  <a:pt x="815" y="136"/>
                </a:lnTo>
                <a:lnTo>
                  <a:pt x="781" y="152"/>
                </a:lnTo>
                <a:lnTo>
                  <a:pt x="730" y="169"/>
                </a:lnTo>
                <a:lnTo>
                  <a:pt x="577" y="203"/>
                </a:lnTo>
                <a:lnTo>
                  <a:pt x="407" y="237"/>
                </a:lnTo>
                <a:lnTo>
                  <a:pt x="323" y="254"/>
                </a:lnTo>
                <a:lnTo>
                  <a:pt x="255" y="271"/>
                </a:lnTo>
                <a:lnTo>
                  <a:pt x="204" y="271"/>
                </a:lnTo>
                <a:lnTo>
                  <a:pt x="187" y="271"/>
                </a:lnTo>
                <a:lnTo>
                  <a:pt x="136" y="271"/>
                </a:lnTo>
                <a:lnTo>
                  <a:pt x="85" y="254"/>
                </a:lnTo>
                <a:lnTo>
                  <a:pt x="34" y="254"/>
                </a:lnTo>
                <a:lnTo>
                  <a:pt x="17" y="237"/>
                </a:lnTo>
                <a:lnTo>
                  <a:pt x="0" y="220"/>
                </a:lnTo>
                <a:lnTo>
                  <a:pt x="0" y="203"/>
                </a:lnTo>
                <a:lnTo>
                  <a:pt x="17" y="186"/>
                </a:lnTo>
                <a:lnTo>
                  <a:pt x="51" y="169"/>
                </a:lnTo>
                <a:lnTo>
                  <a:pt x="85" y="152"/>
                </a:lnTo>
                <a:lnTo>
                  <a:pt x="170" y="136"/>
                </a:lnTo>
                <a:lnTo>
                  <a:pt x="255" y="119"/>
                </a:lnTo>
                <a:lnTo>
                  <a:pt x="356" y="85"/>
                </a:lnTo>
                <a:lnTo>
                  <a:pt x="441" y="68"/>
                </a:lnTo>
                <a:lnTo>
                  <a:pt x="509" y="51"/>
                </a:lnTo>
                <a:lnTo>
                  <a:pt x="560" y="3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1" name="Freeform 43"/>
          <p:cNvSpPr/>
          <p:nvPr/>
        </p:nvSpPr>
        <p:spPr>
          <a:xfrm>
            <a:off x="5802480" y="2658960"/>
            <a:ext cx="537840" cy="171000"/>
          </a:xfrm>
          <a:custGeom>
            <a:avLst/>
            <a:gdLst>
              <a:gd name="textAreaLeft" fmla="*/ 0 w 537840"/>
              <a:gd name="textAreaRight" fmla="*/ 538200 w 537840"/>
              <a:gd name="textAreaTop" fmla="*/ 0 h 171000"/>
              <a:gd name="textAreaBottom" fmla="*/ 171360 h 171000"/>
            </a:gdLst>
            <a:ahLst/>
            <a:rect l="textAreaLeft" t="textAreaTop" r="textAreaRight" b="textAreaBottom"/>
            <a:pathLst>
              <a:path w="849" h="270">
                <a:moveTo>
                  <a:pt x="492" y="185"/>
                </a:moveTo>
                <a:lnTo>
                  <a:pt x="407" y="219"/>
                </a:lnTo>
                <a:lnTo>
                  <a:pt x="339" y="236"/>
                </a:lnTo>
                <a:lnTo>
                  <a:pt x="289" y="253"/>
                </a:lnTo>
                <a:lnTo>
                  <a:pt x="221" y="253"/>
                </a:lnTo>
                <a:lnTo>
                  <a:pt x="187" y="270"/>
                </a:lnTo>
                <a:lnTo>
                  <a:pt x="153" y="270"/>
                </a:lnTo>
                <a:lnTo>
                  <a:pt x="119" y="270"/>
                </a:lnTo>
                <a:lnTo>
                  <a:pt x="85" y="253"/>
                </a:lnTo>
                <a:lnTo>
                  <a:pt x="51" y="236"/>
                </a:lnTo>
                <a:lnTo>
                  <a:pt x="34" y="202"/>
                </a:lnTo>
                <a:lnTo>
                  <a:pt x="0" y="168"/>
                </a:lnTo>
                <a:lnTo>
                  <a:pt x="51" y="152"/>
                </a:lnTo>
                <a:lnTo>
                  <a:pt x="136" y="135"/>
                </a:lnTo>
                <a:lnTo>
                  <a:pt x="238" y="101"/>
                </a:lnTo>
                <a:lnTo>
                  <a:pt x="356" y="67"/>
                </a:lnTo>
                <a:lnTo>
                  <a:pt x="424" y="67"/>
                </a:lnTo>
                <a:lnTo>
                  <a:pt x="492" y="50"/>
                </a:lnTo>
                <a:lnTo>
                  <a:pt x="577" y="33"/>
                </a:lnTo>
                <a:lnTo>
                  <a:pt x="645" y="16"/>
                </a:lnTo>
                <a:lnTo>
                  <a:pt x="696" y="0"/>
                </a:lnTo>
                <a:lnTo>
                  <a:pt x="747" y="16"/>
                </a:lnTo>
                <a:lnTo>
                  <a:pt x="798" y="16"/>
                </a:lnTo>
                <a:lnTo>
                  <a:pt x="832" y="33"/>
                </a:lnTo>
                <a:lnTo>
                  <a:pt x="849" y="50"/>
                </a:lnTo>
                <a:lnTo>
                  <a:pt x="849" y="67"/>
                </a:lnTo>
                <a:lnTo>
                  <a:pt x="815" y="84"/>
                </a:lnTo>
                <a:lnTo>
                  <a:pt x="798" y="84"/>
                </a:lnTo>
                <a:lnTo>
                  <a:pt x="747" y="101"/>
                </a:lnTo>
                <a:lnTo>
                  <a:pt x="696" y="118"/>
                </a:lnTo>
                <a:lnTo>
                  <a:pt x="645" y="152"/>
                </a:lnTo>
                <a:lnTo>
                  <a:pt x="577" y="168"/>
                </a:lnTo>
                <a:lnTo>
                  <a:pt x="492" y="1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2" name="Freeform 45"/>
          <p:cNvSpPr/>
          <p:nvPr/>
        </p:nvSpPr>
        <p:spPr>
          <a:xfrm>
            <a:off x="5845320" y="3152880"/>
            <a:ext cx="1250640" cy="225000"/>
          </a:xfrm>
          <a:custGeom>
            <a:avLst/>
            <a:gdLst>
              <a:gd name="textAreaLeft" fmla="*/ 0 w 1250640"/>
              <a:gd name="textAreaRight" fmla="*/ 1251000 w 1250640"/>
              <a:gd name="textAreaTop" fmla="*/ 0 h 225000"/>
              <a:gd name="textAreaBottom" fmla="*/ 225360 h 225000"/>
            </a:gdLst>
            <a:ahLst/>
            <a:rect l="textAreaLeft" t="textAreaTop" r="textAreaRight" b="textAreaBottom"/>
            <a:pathLst>
              <a:path w="1969" h="355">
                <a:moveTo>
                  <a:pt x="1867" y="152"/>
                </a:moveTo>
                <a:lnTo>
                  <a:pt x="1783" y="169"/>
                </a:lnTo>
                <a:lnTo>
                  <a:pt x="1715" y="169"/>
                </a:lnTo>
                <a:lnTo>
                  <a:pt x="1698" y="169"/>
                </a:lnTo>
                <a:lnTo>
                  <a:pt x="1664" y="169"/>
                </a:lnTo>
                <a:lnTo>
                  <a:pt x="1630" y="186"/>
                </a:lnTo>
                <a:lnTo>
                  <a:pt x="1579" y="186"/>
                </a:lnTo>
                <a:lnTo>
                  <a:pt x="1528" y="186"/>
                </a:lnTo>
                <a:lnTo>
                  <a:pt x="1477" y="186"/>
                </a:lnTo>
                <a:lnTo>
                  <a:pt x="1341" y="219"/>
                </a:lnTo>
                <a:lnTo>
                  <a:pt x="1188" y="236"/>
                </a:lnTo>
                <a:lnTo>
                  <a:pt x="1019" y="253"/>
                </a:lnTo>
                <a:lnTo>
                  <a:pt x="849" y="270"/>
                </a:lnTo>
                <a:lnTo>
                  <a:pt x="662" y="304"/>
                </a:lnTo>
                <a:lnTo>
                  <a:pt x="577" y="321"/>
                </a:lnTo>
                <a:lnTo>
                  <a:pt x="492" y="321"/>
                </a:lnTo>
                <a:lnTo>
                  <a:pt x="424" y="338"/>
                </a:lnTo>
                <a:lnTo>
                  <a:pt x="373" y="338"/>
                </a:lnTo>
                <a:lnTo>
                  <a:pt x="322" y="355"/>
                </a:lnTo>
                <a:lnTo>
                  <a:pt x="271" y="355"/>
                </a:lnTo>
                <a:lnTo>
                  <a:pt x="255" y="355"/>
                </a:lnTo>
                <a:lnTo>
                  <a:pt x="221" y="355"/>
                </a:lnTo>
                <a:lnTo>
                  <a:pt x="204" y="355"/>
                </a:lnTo>
                <a:lnTo>
                  <a:pt x="153" y="338"/>
                </a:lnTo>
                <a:lnTo>
                  <a:pt x="119" y="321"/>
                </a:lnTo>
                <a:lnTo>
                  <a:pt x="85" y="304"/>
                </a:lnTo>
                <a:lnTo>
                  <a:pt x="51" y="287"/>
                </a:lnTo>
                <a:lnTo>
                  <a:pt x="17" y="270"/>
                </a:lnTo>
                <a:lnTo>
                  <a:pt x="0" y="253"/>
                </a:lnTo>
                <a:lnTo>
                  <a:pt x="0" y="236"/>
                </a:lnTo>
                <a:lnTo>
                  <a:pt x="153" y="236"/>
                </a:lnTo>
                <a:lnTo>
                  <a:pt x="305" y="219"/>
                </a:lnTo>
                <a:lnTo>
                  <a:pt x="390" y="202"/>
                </a:lnTo>
                <a:lnTo>
                  <a:pt x="492" y="186"/>
                </a:lnTo>
                <a:lnTo>
                  <a:pt x="594" y="169"/>
                </a:lnTo>
                <a:lnTo>
                  <a:pt x="713" y="152"/>
                </a:lnTo>
                <a:lnTo>
                  <a:pt x="849" y="152"/>
                </a:lnTo>
                <a:lnTo>
                  <a:pt x="985" y="118"/>
                </a:lnTo>
                <a:lnTo>
                  <a:pt x="1120" y="101"/>
                </a:lnTo>
                <a:lnTo>
                  <a:pt x="1290" y="67"/>
                </a:lnTo>
                <a:lnTo>
                  <a:pt x="1426" y="34"/>
                </a:lnTo>
                <a:lnTo>
                  <a:pt x="1545" y="17"/>
                </a:lnTo>
                <a:lnTo>
                  <a:pt x="1647" y="0"/>
                </a:lnTo>
                <a:lnTo>
                  <a:pt x="1681" y="0"/>
                </a:lnTo>
                <a:lnTo>
                  <a:pt x="1715" y="0"/>
                </a:lnTo>
                <a:lnTo>
                  <a:pt x="1800" y="17"/>
                </a:lnTo>
                <a:lnTo>
                  <a:pt x="1901" y="34"/>
                </a:lnTo>
                <a:lnTo>
                  <a:pt x="1918" y="50"/>
                </a:lnTo>
                <a:lnTo>
                  <a:pt x="1935" y="67"/>
                </a:lnTo>
                <a:lnTo>
                  <a:pt x="1952" y="84"/>
                </a:lnTo>
                <a:lnTo>
                  <a:pt x="1969" y="101"/>
                </a:lnTo>
                <a:lnTo>
                  <a:pt x="1952" y="101"/>
                </a:lnTo>
                <a:lnTo>
                  <a:pt x="1935" y="118"/>
                </a:lnTo>
                <a:lnTo>
                  <a:pt x="1918" y="135"/>
                </a:lnTo>
                <a:lnTo>
                  <a:pt x="1867" y="15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3" name="Freeform 46"/>
          <p:cNvSpPr/>
          <p:nvPr/>
        </p:nvSpPr>
        <p:spPr>
          <a:xfrm>
            <a:off x="5446800" y="3324240"/>
            <a:ext cx="969480" cy="728280"/>
          </a:xfrm>
          <a:custGeom>
            <a:avLst/>
            <a:gdLst>
              <a:gd name="textAreaLeft" fmla="*/ 0 w 969480"/>
              <a:gd name="textAreaRight" fmla="*/ 969840 w 969480"/>
              <a:gd name="textAreaTop" fmla="*/ 0 h 728280"/>
              <a:gd name="textAreaBottom" fmla="*/ 728640 h 728280"/>
            </a:gdLst>
            <a:ahLst/>
            <a:rect l="textAreaLeft" t="textAreaTop" r="textAreaRight" b="textAreaBottom"/>
            <a:pathLst>
              <a:path w="1528" h="1149">
                <a:moveTo>
                  <a:pt x="849" y="591"/>
                </a:moveTo>
                <a:lnTo>
                  <a:pt x="950" y="507"/>
                </a:lnTo>
                <a:lnTo>
                  <a:pt x="1052" y="422"/>
                </a:lnTo>
                <a:lnTo>
                  <a:pt x="1120" y="355"/>
                </a:lnTo>
                <a:lnTo>
                  <a:pt x="1171" y="287"/>
                </a:lnTo>
                <a:lnTo>
                  <a:pt x="1222" y="220"/>
                </a:lnTo>
                <a:lnTo>
                  <a:pt x="1239" y="152"/>
                </a:lnTo>
                <a:lnTo>
                  <a:pt x="1273" y="101"/>
                </a:lnTo>
                <a:lnTo>
                  <a:pt x="1273" y="51"/>
                </a:lnTo>
                <a:lnTo>
                  <a:pt x="1290" y="17"/>
                </a:lnTo>
                <a:lnTo>
                  <a:pt x="1324" y="0"/>
                </a:lnTo>
                <a:lnTo>
                  <a:pt x="1358" y="0"/>
                </a:lnTo>
                <a:lnTo>
                  <a:pt x="1409" y="17"/>
                </a:lnTo>
                <a:lnTo>
                  <a:pt x="1460" y="51"/>
                </a:lnTo>
                <a:lnTo>
                  <a:pt x="1494" y="68"/>
                </a:lnTo>
                <a:lnTo>
                  <a:pt x="1528" y="101"/>
                </a:lnTo>
                <a:lnTo>
                  <a:pt x="1528" y="118"/>
                </a:lnTo>
                <a:lnTo>
                  <a:pt x="1528" y="135"/>
                </a:lnTo>
                <a:lnTo>
                  <a:pt x="1511" y="169"/>
                </a:lnTo>
                <a:lnTo>
                  <a:pt x="1477" y="237"/>
                </a:lnTo>
                <a:lnTo>
                  <a:pt x="1409" y="304"/>
                </a:lnTo>
                <a:lnTo>
                  <a:pt x="1307" y="406"/>
                </a:lnTo>
                <a:lnTo>
                  <a:pt x="1188" y="524"/>
                </a:lnTo>
                <a:lnTo>
                  <a:pt x="1086" y="625"/>
                </a:lnTo>
                <a:lnTo>
                  <a:pt x="950" y="727"/>
                </a:lnTo>
                <a:lnTo>
                  <a:pt x="832" y="811"/>
                </a:lnTo>
                <a:lnTo>
                  <a:pt x="696" y="879"/>
                </a:lnTo>
                <a:lnTo>
                  <a:pt x="577" y="946"/>
                </a:lnTo>
                <a:lnTo>
                  <a:pt x="441" y="1014"/>
                </a:lnTo>
                <a:lnTo>
                  <a:pt x="305" y="1064"/>
                </a:lnTo>
                <a:lnTo>
                  <a:pt x="237" y="1081"/>
                </a:lnTo>
                <a:lnTo>
                  <a:pt x="169" y="1115"/>
                </a:lnTo>
                <a:lnTo>
                  <a:pt x="118" y="1115"/>
                </a:lnTo>
                <a:lnTo>
                  <a:pt x="85" y="1132"/>
                </a:lnTo>
                <a:lnTo>
                  <a:pt x="51" y="1149"/>
                </a:lnTo>
                <a:lnTo>
                  <a:pt x="34" y="1149"/>
                </a:lnTo>
                <a:lnTo>
                  <a:pt x="17" y="1149"/>
                </a:lnTo>
                <a:lnTo>
                  <a:pt x="0" y="1132"/>
                </a:lnTo>
                <a:lnTo>
                  <a:pt x="17" y="1132"/>
                </a:lnTo>
                <a:lnTo>
                  <a:pt x="51" y="1098"/>
                </a:lnTo>
                <a:lnTo>
                  <a:pt x="102" y="1081"/>
                </a:lnTo>
                <a:lnTo>
                  <a:pt x="186" y="1048"/>
                </a:lnTo>
                <a:lnTo>
                  <a:pt x="356" y="946"/>
                </a:lnTo>
                <a:lnTo>
                  <a:pt x="441" y="896"/>
                </a:lnTo>
                <a:lnTo>
                  <a:pt x="509" y="862"/>
                </a:lnTo>
                <a:lnTo>
                  <a:pt x="577" y="811"/>
                </a:lnTo>
                <a:lnTo>
                  <a:pt x="662" y="743"/>
                </a:lnTo>
                <a:lnTo>
                  <a:pt x="747" y="676"/>
                </a:lnTo>
                <a:lnTo>
                  <a:pt x="849" y="5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4" name="Freeform 48"/>
          <p:cNvSpPr/>
          <p:nvPr/>
        </p:nvSpPr>
        <p:spPr>
          <a:xfrm>
            <a:off x="6438960" y="2496960"/>
            <a:ext cx="193320" cy="579240"/>
          </a:xfrm>
          <a:custGeom>
            <a:avLst/>
            <a:gdLst>
              <a:gd name="textAreaLeft" fmla="*/ 0 w 193320"/>
              <a:gd name="textAreaRight" fmla="*/ 193680 w 19332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305" h="912">
                <a:moveTo>
                  <a:pt x="220" y="17"/>
                </a:moveTo>
                <a:lnTo>
                  <a:pt x="237" y="186"/>
                </a:lnTo>
                <a:lnTo>
                  <a:pt x="254" y="321"/>
                </a:lnTo>
                <a:lnTo>
                  <a:pt x="271" y="456"/>
                </a:lnTo>
                <a:lnTo>
                  <a:pt x="288" y="558"/>
                </a:lnTo>
                <a:lnTo>
                  <a:pt x="305" y="659"/>
                </a:lnTo>
                <a:lnTo>
                  <a:pt x="305" y="727"/>
                </a:lnTo>
                <a:lnTo>
                  <a:pt x="305" y="777"/>
                </a:lnTo>
                <a:lnTo>
                  <a:pt x="305" y="811"/>
                </a:lnTo>
                <a:lnTo>
                  <a:pt x="288" y="862"/>
                </a:lnTo>
                <a:lnTo>
                  <a:pt x="271" y="896"/>
                </a:lnTo>
                <a:lnTo>
                  <a:pt x="254" y="912"/>
                </a:lnTo>
                <a:lnTo>
                  <a:pt x="220" y="912"/>
                </a:lnTo>
                <a:lnTo>
                  <a:pt x="203" y="912"/>
                </a:lnTo>
                <a:lnTo>
                  <a:pt x="186" y="896"/>
                </a:lnTo>
                <a:lnTo>
                  <a:pt x="186" y="862"/>
                </a:lnTo>
                <a:lnTo>
                  <a:pt x="152" y="794"/>
                </a:lnTo>
                <a:lnTo>
                  <a:pt x="135" y="760"/>
                </a:lnTo>
                <a:lnTo>
                  <a:pt x="135" y="727"/>
                </a:lnTo>
                <a:lnTo>
                  <a:pt x="135" y="676"/>
                </a:lnTo>
                <a:lnTo>
                  <a:pt x="135" y="591"/>
                </a:lnTo>
                <a:lnTo>
                  <a:pt x="118" y="490"/>
                </a:lnTo>
                <a:lnTo>
                  <a:pt x="118" y="372"/>
                </a:lnTo>
                <a:lnTo>
                  <a:pt x="101" y="270"/>
                </a:lnTo>
                <a:lnTo>
                  <a:pt x="85" y="220"/>
                </a:lnTo>
                <a:lnTo>
                  <a:pt x="68" y="169"/>
                </a:lnTo>
                <a:lnTo>
                  <a:pt x="68" y="135"/>
                </a:lnTo>
                <a:lnTo>
                  <a:pt x="51" y="118"/>
                </a:lnTo>
                <a:lnTo>
                  <a:pt x="51" y="101"/>
                </a:lnTo>
                <a:lnTo>
                  <a:pt x="34" y="85"/>
                </a:lnTo>
                <a:lnTo>
                  <a:pt x="17" y="85"/>
                </a:lnTo>
                <a:lnTo>
                  <a:pt x="0" y="68"/>
                </a:lnTo>
                <a:lnTo>
                  <a:pt x="0" y="51"/>
                </a:lnTo>
                <a:lnTo>
                  <a:pt x="17" y="34"/>
                </a:lnTo>
                <a:lnTo>
                  <a:pt x="17" y="17"/>
                </a:lnTo>
                <a:lnTo>
                  <a:pt x="68" y="17"/>
                </a:lnTo>
                <a:lnTo>
                  <a:pt x="118" y="0"/>
                </a:lnTo>
                <a:lnTo>
                  <a:pt x="169" y="17"/>
                </a:lnTo>
                <a:lnTo>
                  <a:pt x="22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5" name="Freeform 49"/>
          <p:cNvSpPr/>
          <p:nvPr/>
        </p:nvSpPr>
        <p:spPr>
          <a:xfrm>
            <a:off x="5985000" y="2444760"/>
            <a:ext cx="150480" cy="642600"/>
          </a:xfrm>
          <a:custGeom>
            <a:avLst/>
            <a:gdLst>
              <a:gd name="textAreaLeft" fmla="*/ 0 w 150480"/>
              <a:gd name="textAreaRight" fmla="*/ 150840 w 150480"/>
              <a:gd name="textAreaTop" fmla="*/ 0 h 642600"/>
              <a:gd name="textAreaBottom" fmla="*/ 642960 h 642600"/>
            </a:gdLst>
            <a:ahLst/>
            <a:rect l="textAreaLeft" t="textAreaTop" r="textAreaRight" b="textAreaBottom"/>
            <a:pathLst>
              <a:path w="237" h="1013">
                <a:moveTo>
                  <a:pt x="34" y="16"/>
                </a:moveTo>
                <a:lnTo>
                  <a:pt x="67" y="0"/>
                </a:lnTo>
                <a:lnTo>
                  <a:pt x="101" y="0"/>
                </a:lnTo>
                <a:lnTo>
                  <a:pt x="135" y="0"/>
                </a:lnTo>
                <a:lnTo>
                  <a:pt x="169" y="16"/>
                </a:lnTo>
                <a:lnTo>
                  <a:pt x="186" y="33"/>
                </a:lnTo>
                <a:lnTo>
                  <a:pt x="203" y="67"/>
                </a:lnTo>
                <a:lnTo>
                  <a:pt x="237" y="118"/>
                </a:lnTo>
                <a:lnTo>
                  <a:pt x="237" y="135"/>
                </a:lnTo>
                <a:lnTo>
                  <a:pt x="237" y="185"/>
                </a:lnTo>
                <a:lnTo>
                  <a:pt x="220" y="253"/>
                </a:lnTo>
                <a:lnTo>
                  <a:pt x="220" y="354"/>
                </a:lnTo>
                <a:lnTo>
                  <a:pt x="220" y="473"/>
                </a:lnTo>
                <a:lnTo>
                  <a:pt x="203" y="625"/>
                </a:lnTo>
                <a:lnTo>
                  <a:pt x="203" y="777"/>
                </a:lnTo>
                <a:lnTo>
                  <a:pt x="186" y="980"/>
                </a:lnTo>
                <a:lnTo>
                  <a:pt x="50" y="1013"/>
                </a:lnTo>
                <a:lnTo>
                  <a:pt x="50" y="811"/>
                </a:lnTo>
                <a:lnTo>
                  <a:pt x="50" y="642"/>
                </a:lnTo>
                <a:lnTo>
                  <a:pt x="34" y="506"/>
                </a:lnTo>
                <a:lnTo>
                  <a:pt x="34" y="371"/>
                </a:lnTo>
                <a:lnTo>
                  <a:pt x="34" y="270"/>
                </a:lnTo>
                <a:lnTo>
                  <a:pt x="34" y="202"/>
                </a:lnTo>
                <a:lnTo>
                  <a:pt x="34" y="135"/>
                </a:lnTo>
                <a:lnTo>
                  <a:pt x="17" y="118"/>
                </a:lnTo>
                <a:lnTo>
                  <a:pt x="0" y="84"/>
                </a:lnTo>
                <a:lnTo>
                  <a:pt x="0" y="50"/>
                </a:lnTo>
                <a:lnTo>
                  <a:pt x="17" y="33"/>
                </a:lnTo>
                <a:lnTo>
                  <a:pt x="34" y="1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Freeform 50"/>
          <p:cNvSpPr/>
          <p:nvPr/>
        </p:nvSpPr>
        <p:spPr>
          <a:xfrm>
            <a:off x="6524640" y="2422440"/>
            <a:ext cx="699840" cy="664920"/>
          </a:xfrm>
          <a:custGeom>
            <a:avLst/>
            <a:gdLst>
              <a:gd name="textAreaLeft" fmla="*/ 0 w 699840"/>
              <a:gd name="textAreaRight" fmla="*/ 700200 w 69984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1104" h="1047">
                <a:moveTo>
                  <a:pt x="832" y="963"/>
                </a:moveTo>
                <a:lnTo>
                  <a:pt x="815" y="997"/>
                </a:lnTo>
                <a:lnTo>
                  <a:pt x="798" y="1030"/>
                </a:lnTo>
                <a:lnTo>
                  <a:pt x="781" y="1047"/>
                </a:lnTo>
                <a:lnTo>
                  <a:pt x="764" y="1047"/>
                </a:lnTo>
                <a:lnTo>
                  <a:pt x="747" y="1030"/>
                </a:lnTo>
                <a:lnTo>
                  <a:pt x="731" y="997"/>
                </a:lnTo>
                <a:lnTo>
                  <a:pt x="714" y="963"/>
                </a:lnTo>
                <a:lnTo>
                  <a:pt x="697" y="912"/>
                </a:lnTo>
                <a:lnTo>
                  <a:pt x="680" y="878"/>
                </a:lnTo>
                <a:lnTo>
                  <a:pt x="680" y="861"/>
                </a:lnTo>
                <a:lnTo>
                  <a:pt x="697" y="828"/>
                </a:lnTo>
                <a:lnTo>
                  <a:pt x="714" y="794"/>
                </a:lnTo>
                <a:lnTo>
                  <a:pt x="714" y="743"/>
                </a:lnTo>
                <a:lnTo>
                  <a:pt x="747" y="676"/>
                </a:lnTo>
                <a:lnTo>
                  <a:pt x="764" y="574"/>
                </a:lnTo>
                <a:lnTo>
                  <a:pt x="764" y="473"/>
                </a:lnTo>
                <a:lnTo>
                  <a:pt x="781" y="405"/>
                </a:lnTo>
                <a:lnTo>
                  <a:pt x="781" y="338"/>
                </a:lnTo>
                <a:lnTo>
                  <a:pt x="781" y="287"/>
                </a:lnTo>
                <a:lnTo>
                  <a:pt x="781" y="253"/>
                </a:lnTo>
                <a:lnTo>
                  <a:pt x="781" y="219"/>
                </a:lnTo>
                <a:lnTo>
                  <a:pt x="764" y="203"/>
                </a:lnTo>
                <a:lnTo>
                  <a:pt x="764" y="186"/>
                </a:lnTo>
                <a:lnTo>
                  <a:pt x="731" y="169"/>
                </a:lnTo>
                <a:lnTo>
                  <a:pt x="680" y="169"/>
                </a:lnTo>
                <a:lnTo>
                  <a:pt x="612" y="186"/>
                </a:lnTo>
                <a:lnTo>
                  <a:pt x="510" y="203"/>
                </a:lnTo>
                <a:lnTo>
                  <a:pt x="391" y="219"/>
                </a:lnTo>
                <a:lnTo>
                  <a:pt x="272" y="236"/>
                </a:lnTo>
                <a:lnTo>
                  <a:pt x="136" y="253"/>
                </a:lnTo>
                <a:lnTo>
                  <a:pt x="0" y="270"/>
                </a:lnTo>
                <a:lnTo>
                  <a:pt x="0" y="152"/>
                </a:lnTo>
                <a:lnTo>
                  <a:pt x="153" y="135"/>
                </a:lnTo>
                <a:lnTo>
                  <a:pt x="289" y="118"/>
                </a:lnTo>
                <a:lnTo>
                  <a:pt x="408" y="101"/>
                </a:lnTo>
                <a:lnTo>
                  <a:pt x="510" y="84"/>
                </a:lnTo>
                <a:lnTo>
                  <a:pt x="595" y="67"/>
                </a:lnTo>
                <a:lnTo>
                  <a:pt x="646" y="34"/>
                </a:lnTo>
                <a:lnTo>
                  <a:pt x="697" y="34"/>
                </a:lnTo>
                <a:lnTo>
                  <a:pt x="731" y="17"/>
                </a:lnTo>
                <a:lnTo>
                  <a:pt x="781" y="0"/>
                </a:lnTo>
                <a:lnTo>
                  <a:pt x="832" y="0"/>
                </a:lnTo>
                <a:lnTo>
                  <a:pt x="866" y="17"/>
                </a:lnTo>
                <a:lnTo>
                  <a:pt x="900" y="34"/>
                </a:lnTo>
                <a:lnTo>
                  <a:pt x="934" y="50"/>
                </a:lnTo>
                <a:lnTo>
                  <a:pt x="985" y="84"/>
                </a:lnTo>
                <a:lnTo>
                  <a:pt x="1036" y="101"/>
                </a:lnTo>
                <a:lnTo>
                  <a:pt x="1070" y="135"/>
                </a:lnTo>
                <a:lnTo>
                  <a:pt x="1087" y="152"/>
                </a:lnTo>
                <a:lnTo>
                  <a:pt x="1104" y="169"/>
                </a:lnTo>
                <a:lnTo>
                  <a:pt x="1087" y="203"/>
                </a:lnTo>
                <a:lnTo>
                  <a:pt x="1070" y="253"/>
                </a:lnTo>
                <a:lnTo>
                  <a:pt x="1036" y="287"/>
                </a:lnTo>
                <a:lnTo>
                  <a:pt x="1019" y="355"/>
                </a:lnTo>
                <a:lnTo>
                  <a:pt x="985" y="456"/>
                </a:lnTo>
                <a:lnTo>
                  <a:pt x="968" y="507"/>
                </a:lnTo>
                <a:lnTo>
                  <a:pt x="951" y="574"/>
                </a:lnTo>
                <a:lnTo>
                  <a:pt x="934" y="709"/>
                </a:lnTo>
                <a:lnTo>
                  <a:pt x="900" y="811"/>
                </a:lnTo>
                <a:lnTo>
                  <a:pt x="866" y="895"/>
                </a:lnTo>
                <a:lnTo>
                  <a:pt x="832" y="96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7" name="Freeform 51"/>
          <p:cNvSpPr/>
          <p:nvPr/>
        </p:nvSpPr>
        <p:spPr>
          <a:xfrm>
            <a:off x="6545160" y="2690640"/>
            <a:ext cx="345600" cy="105840"/>
          </a:xfrm>
          <a:custGeom>
            <a:avLst/>
            <a:gdLst>
              <a:gd name="textAreaLeft" fmla="*/ 0 w 345600"/>
              <a:gd name="textAreaRight" fmla="*/ 345960 w 34560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44" h="169">
                <a:moveTo>
                  <a:pt x="0" y="85"/>
                </a:moveTo>
                <a:lnTo>
                  <a:pt x="102" y="68"/>
                </a:lnTo>
                <a:lnTo>
                  <a:pt x="187" y="51"/>
                </a:lnTo>
                <a:lnTo>
                  <a:pt x="255" y="34"/>
                </a:lnTo>
                <a:lnTo>
                  <a:pt x="323" y="17"/>
                </a:lnTo>
                <a:lnTo>
                  <a:pt x="374" y="0"/>
                </a:lnTo>
                <a:lnTo>
                  <a:pt x="425" y="0"/>
                </a:lnTo>
                <a:lnTo>
                  <a:pt x="442" y="0"/>
                </a:lnTo>
                <a:lnTo>
                  <a:pt x="459" y="0"/>
                </a:lnTo>
                <a:lnTo>
                  <a:pt x="493" y="0"/>
                </a:lnTo>
                <a:lnTo>
                  <a:pt x="527" y="17"/>
                </a:lnTo>
                <a:lnTo>
                  <a:pt x="544" y="51"/>
                </a:lnTo>
                <a:lnTo>
                  <a:pt x="544" y="68"/>
                </a:lnTo>
                <a:lnTo>
                  <a:pt x="544" y="85"/>
                </a:lnTo>
                <a:lnTo>
                  <a:pt x="510" y="102"/>
                </a:lnTo>
                <a:lnTo>
                  <a:pt x="442" y="135"/>
                </a:lnTo>
                <a:lnTo>
                  <a:pt x="357" y="152"/>
                </a:lnTo>
                <a:lnTo>
                  <a:pt x="289" y="169"/>
                </a:lnTo>
                <a:lnTo>
                  <a:pt x="221" y="169"/>
                </a:lnTo>
                <a:lnTo>
                  <a:pt x="119" y="169"/>
                </a:lnTo>
                <a:lnTo>
                  <a:pt x="0" y="169"/>
                </a:lnTo>
                <a:lnTo>
                  <a:pt x="0" y="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8" name="Freeform 52"/>
          <p:cNvSpPr/>
          <p:nvPr/>
        </p:nvSpPr>
        <p:spPr>
          <a:xfrm>
            <a:off x="6567480" y="2927520"/>
            <a:ext cx="429840" cy="105840"/>
          </a:xfrm>
          <a:custGeom>
            <a:avLst/>
            <a:gdLst>
              <a:gd name="textAreaLeft" fmla="*/ 0 w 429840"/>
              <a:gd name="textAreaRight" fmla="*/ 430200 w 42984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679" h="169">
                <a:moveTo>
                  <a:pt x="0" y="67"/>
                </a:moveTo>
                <a:lnTo>
                  <a:pt x="119" y="51"/>
                </a:lnTo>
                <a:lnTo>
                  <a:pt x="221" y="51"/>
                </a:lnTo>
                <a:lnTo>
                  <a:pt x="306" y="34"/>
                </a:lnTo>
                <a:lnTo>
                  <a:pt x="408" y="17"/>
                </a:lnTo>
                <a:lnTo>
                  <a:pt x="476" y="17"/>
                </a:lnTo>
                <a:lnTo>
                  <a:pt x="561" y="17"/>
                </a:lnTo>
                <a:lnTo>
                  <a:pt x="629" y="0"/>
                </a:lnTo>
                <a:lnTo>
                  <a:pt x="679" y="0"/>
                </a:lnTo>
                <a:lnTo>
                  <a:pt x="679" y="101"/>
                </a:lnTo>
                <a:lnTo>
                  <a:pt x="561" y="118"/>
                </a:lnTo>
                <a:lnTo>
                  <a:pt x="459" y="135"/>
                </a:lnTo>
                <a:lnTo>
                  <a:pt x="374" y="135"/>
                </a:lnTo>
                <a:lnTo>
                  <a:pt x="289" y="152"/>
                </a:lnTo>
                <a:lnTo>
                  <a:pt x="204" y="152"/>
                </a:lnTo>
                <a:lnTo>
                  <a:pt x="119" y="169"/>
                </a:lnTo>
                <a:lnTo>
                  <a:pt x="68" y="169"/>
                </a:lnTo>
                <a:lnTo>
                  <a:pt x="0" y="169"/>
                </a:lnTo>
                <a:lnTo>
                  <a:pt x="0" y="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Freeform 53"/>
          <p:cNvSpPr/>
          <p:nvPr/>
        </p:nvSpPr>
        <p:spPr>
          <a:xfrm>
            <a:off x="6124680" y="3549600"/>
            <a:ext cx="151920" cy="556920"/>
          </a:xfrm>
          <a:custGeom>
            <a:avLst/>
            <a:gdLst>
              <a:gd name="textAreaLeft" fmla="*/ 0 w 151920"/>
              <a:gd name="textAreaRight" fmla="*/ 152280 w 151920"/>
              <a:gd name="textAreaTop" fmla="*/ 0 h 556920"/>
              <a:gd name="textAreaBottom" fmla="*/ 557280 h 556920"/>
            </a:gdLst>
            <a:ahLst/>
            <a:rect l="textAreaLeft" t="textAreaTop" r="textAreaRight" b="textAreaBottom"/>
            <a:pathLst>
              <a:path w="238" h="878">
                <a:moveTo>
                  <a:pt x="187" y="878"/>
                </a:moveTo>
                <a:lnTo>
                  <a:pt x="170" y="878"/>
                </a:lnTo>
                <a:lnTo>
                  <a:pt x="136" y="862"/>
                </a:lnTo>
                <a:lnTo>
                  <a:pt x="119" y="845"/>
                </a:lnTo>
                <a:lnTo>
                  <a:pt x="102" y="811"/>
                </a:lnTo>
                <a:lnTo>
                  <a:pt x="85" y="777"/>
                </a:lnTo>
                <a:lnTo>
                  <a:pt x="68" y="726"/>
                </a:lnTo>
                <a:lnTo>
                  <a:pt x="68" y="676"/>
                </a:lnTo>
                <a:lnTo>
                  <a:pt x="68" y="608"/>
                </a:lnTo>
                <a:lnTo>
                  <a:pt x="68" y="574"/>
                </a:lnTo>
                <a:lnTo>
                  <a:pt x="51" y="524"/>
                </a:lnTo>
                <a:lnTo>
                  <a:pt x="51" y="473"/>
                </a:lnTo>
                <a:lnTo>
                  <a:pt x="51" y="422"/>
                </a:lnTo>
                <a:lnTo>
                  <a:pt x="34" y="355"/>
                </a:lnTo>
                <a:lnTo>
                  <a:pt x="17" y="287"/>
                </a:lnTo>
                <a:lnTo>
                  <a:pt x="17" y="203"/>
                </a:lnTo>
                <a:lnTo>
                  <a:pt x="0" y="101"/>
                </a:lnTo>
                <a:lnTo>
                  <a:pt x="204" y="0"/>
                </a:lnTo>
                <a:lnTo>
                  <a:pt x="204" y="169"/>
                </a:lnTo>
                <a:lnTo>
                  <a:pt x="221" y="321"/>
                </a:lnTo>
                <a:lnTo>
                  <a:pt x="221" y="456"/>
                </a:lnTo>
                <a:lnTo>
                  <a:pt x="221" y="574"/>
                </a:lnTo>
                <a:lnTo>
                  <a:pt x="238" y="659"/>
                </a:lnTo>
                <a:lnTo>
                  <a:pt x="238" y="726"/>
                </a:lnTo>
                <a:lnTo>
                  <a:pt x="238" y="777"/>
                </a:lnTo>
                <a:lnTo>
                  <a:pt x="238" y="811"/>
                </a:lnTo>
                <a:lnTo>
                  <a:pt x="238" y="845"/>
                </a:lnTo>
                <a:lnTo>
                  <a:pt x="221" y="862"/>
                </a:lnTo>
                <a:lnTo>
                  <a:pt x="204" y="878"/>
                </a:lnTo>
                <a:lnTo>
                  <a:pt x="187" y="87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0" name="Freeform 54"/>
          <p:cNvSpPr/>
          <p:nvPr/>
        </p:nvSpPr>
        <p:spPr>
          <a:xfrm>
            <a:off x="6211800" y="3484440"/>
            <a:ext cx="839520" cy="439200"/>
          </a:xfrm>
          <a:custGeom>
            <a:avLst/>
            <a:gdLst>
              <a:gd name="textAreaLeft" fmla="*/ 0 w 839520"/>
              <a:gd name="textAreaRight" fmla="*/ 839880 w 839520"/>
              <a:gd name="textAreaTop" fmla="*/ 0 h 439200"/>
              <a:gd name="textAreaBottom" fmla="*/ 439560 h 439200"/>
            </a:gdLst>
            <a:ahLst/>
            <a:rect l="textAreaLeft" t="textAreaTop" r="textAreaRight" b="textAreaBottom"/>
            <a:pathLst>
              <a:path w="1324" h="693">
                <a:moveTo>
                  <a:pt x="968" y="203"/>
                </a:moveTo>
                <a:lnTo>
                  <a:pt x="968" y="203"/>
                </a:lnTo>
                <a:lnTo>
                  <a:pt x="934" y="203"/>
                </a:lnTo>
                <a:lnTo>
                  <a:pt x="900" y="186"/>
                </a:lnTo>
                <a:lnTo>
                  <a:pt x="866" y="186"/>
                </a:lnTo>
                <a:lnTo>
                  <a:pt x="798" y="203"/>
                </a:lnTo>
                <a:lnTo>
                  <a:pt x="730" y="203"/>
                </a:lnTo>
                <a:lnTo>
                  <a:pt x="645" y="203"/>
                </a:lnTo>
                <a:lnTo>
                  <a:pt x="560" y="220"/>
                </a:lnTo>
                <a:lnTo>
                  <a:pt x="475" y="237"/>
                </a:lnTo>
                <a:lnTo>
                  <a:pt x="374" y="254"/>
                </a:lnTo>
                <a:lnTo>
                  <a:pt x="221" y="271"/>
                </a:lnTo>
                <a:lnTo>
                  <a:pt x="102" y="288"/>
                </a:lnTo>
                <a:lnTo>
                  <a:pt x="0" y="305"/>
                </a:lnTo>
                <a:lnTo>
                  <a:pt x="0" y="169"/>
                </a:lnTo>
                <a:lnTo>
                  <a:pt x="34" y="169"/>
                </a:lnTo>
                <a:lnTo>
                  <a:pt x="85" y="169"/>
                </a:lnTo>
                <a:lnTo>
                  <a:pt x="136" y="169"/>
                </a:lnTo>
                <a:lnTo>
                  <a:pt x="204" y="153"/>
                </a:lnTo>
                <a:lnTo>
                  <a:pt x="289" y="153"/>
                </a:lnTo>
                <a:lnTo>
                  <a:pt x="374" y="136"/>
                </a:lnTo>
                <a:lnTo>
                  <a:pt x="492" y="119"/>
                </a:lnTo>
                <a:lnTo>
                  <a:pt x="611" y="102"/>
                </a:lnTo>
                <a:lnTo>
                  <a:pt x="730" y="85"/>
                </a:lnTo>
                <a:lnTo>
                  <a:pt x="832" y="68"/>
                </a:lnTo>
                <a:lnTo>
                  <a:pt x="900" y="51"/>
                </a:lnTo>
                <a:lnTo>
                  <a:pt x="934" y="34"/>
                </a:lnTo>
                <a:lnTo>
                  <a:pt x="985" y="17"/>
                </a:lnTo>
                <a:lnTo>
                  <a:pt x="1019" y="0"/>
                </a:lnTo>
                <a:lnTo>
                  <a:pt x="1053" y="0"/>
                </a:lnTo>
                <a:lnTo>
                  <a:pt x="1087" y="17"/>
                </a:lnTo>
                <a:lnTo>
                  <a:pt x="1138" y="51"/>
                </a:lnTo>
                <a:lnTo>
                  <a:pt x="1206" y="85"/>
                </a:lnTo>
                <a:lnTo>
                  <a:pt x="1256" y="119"/>
                </a:lnTo>
                <a:lnTo>
                  <a:pt x="1307" y="153"/>
                </a:lnTo>
                <a:lnTo>
                  <a:pt x="1324" y="186"/>
                </a:lnTo>
                <a:lnTo>
                  <a:pt x="1324" y="203"/>
                </a:lnTo>
                <a:lnTo>
                  <a:pt x="1324" y="220"/>
                </a:lnTo>
                <a:lnTo>
                  <a:pt x="1307" y="237"/>
                </a:lnTo>
                <a:lnTo>
                  <a:pt x="1273" y="254"/>
                </a:lnTo>
                <a:lnTo>
                  <a:pt x="1223" y="305"/>
                </a:lnTo>
                <a:lnTo>
                  <a:pt x="1189" y="372"/>
                </a:lnTo>
                <a:lnTo>
                  <a:pt x="1172" y="423"/>
                </a:lnTo>
                <a:lnTo>
                  <a:pt x="1138" y="490"/>
                </a:lnTo>
                <a:lnTo>
                  <a:pt x="1104" y="592"/>
                </a:lnTo>
                <a:lnTo>
                  <a:pt x="1087" y="693"/>
                </a:lnTo>
                <a:lnTo>
                  <a:pt x="900" y="693"/>
                </a:lnTo>
                <a:lnTo>
                  <a:pt x="917" y="592"/>
                </a:lnTo>
                <a:lnTo>
                  <a:pt x="951" y="490"/>
                </a:lnTo>
                <a:lnTo>
                  <a:pt x="968" y="423"/>
                </a:lnTo>
                <a:lnTo>
                  <a:pt x="968" y="355"/>
                </a:lnTo>
                <a:lnTo>
                  <a:pt x="985" y="305"/>
                </a:lnTo>
                <a:lnTo>
                  <a:pt x="985" y="254"/>
                </a:lnTo>
                <a:lnTo>
                  <a:pt x="985" y="220"/>
                </a:lnTo>
                <a:lnTo>
                  <a:pt x="968" y="20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1" name="Freeform 55"/>
          <p:cNvSpPr/>
          <p:nvPr/>
        </p:nvSpPr>
        <p:spPr>
          <a:xfrm>
            <a:off x="6211800" y="3870360"/>
            <a:ext cx="775800" cy="150480"/>
          </a:xfrm>
          <a:custGeom>
            <a:avLst/>
            <a:gdLst>
              <a:gd name="textAreaLeft" fmla="*/ 0 w 775800"/>
              <a:gd name="textAreaRight" fmla="*/ 776160 w 77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1223" h="236">
                <a:moveTo>
                  <a:pt x="34" y="236"/>
                </a:moveTo>
                <a:lnTo>
                  <a:pt x="0" y="118"/>
                </a:lnTo>
                <a:lnTo>
                  <a:pt x="51" y="101"/>
                </a:lnTo>
                <a:lnTo>
                  <a:pt x="136" y="101"/>
                </a:lnTo>
                <a:lnTo>
                  <a:pt x="238" y="84"/>
                </a:lnTo>
                <a:lnTo>
                  <a:pt x="374" y="67"/>
                </a:lnTo>
                <a:lnTo>
                  <a:pt x="526" y="50"/>
                </a:lnTo>
                <a:lnTo>
                  <a:pt x="713" y="34"/>
                </a:lnTo>
                <a:lnTo>
                  <a:pt x="917" y="17"/>
                </a:lnTo>
                <a:lnTo>
                  <a:pt x="1155" y="0"/>
                </a:lnTo>
                <a:lnTo>
                  <a:pt x="1189" y="17"/>
                </a:lnTo>
                <a:lnTo>
                  <a:pt x="1206" y="50"/>
                </a:lnTo>
                <a:lnTo>
                  <a:pt x="1223" y="84"/>
                </a:lnTo>
                <a:lnTo>
                  <a:pt x="1223" y="101"/>
                </a:lnTo>
                <a:lnTo>
                  <a:pt x="1223" y="135"/>
                </a:lnTo>
                <a:lnTo>
                  <a:pt x="1206" y="152"/>
                </a:lnTo>
                <a:lnTo>
                  <a:pt x="1155" y="169"/>
                </a:lnTo>
                <a:lnTo>
                  <a:pt x="1087" y="169"/>
                </a:lnTo>
                <a:lnTo>
                  <a:pt x="1036" y="169"/>
                </a:lnTo>
                <a:lnTo>
                  <a:pt x="968" y="169"/>
                </a:lnTo>
                <a:lnTo>
                  <a:pt x="883" y="169"/>
                </a:lnTo>
                <a:lnTo>
                  <a:pt x="764" y="186"/>
                </a:lnTo>
                <a:lnTo>
                  <a:pt x="628" y="186"/>
                </a:lnTo>
                <a:lnTo>
                  <a:pt x="458" y="202"/>
                </a:lnTo>
                <a:lnTo>
                  <a:pt x="255" y="219"/>
                </a:lnTo>
                <a:lnTo>
                  <a:pt x="153" y="236"/>
                </a:lnTo>
                <a:lnTo>
                  <a:pt x="34" y="23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2" name="Freeform 44"/>
          <p:cNvSpPr/>
          <p:nvPr/>
        </p:nvSpPr>
        <p:spPr>
          <a:xfrm>
            <a:off x="5629320" y="2927520"/>
            <a:ext cx="775800" cy="320400"/>
          </a:xfrm>
          <a:custGeom>
            <a:avLst/>
            <a:gdLst>
              <a:gd name="textAreaLeft" fmla="*/ 0 w 775800"/>
              <a:gd name="textAreaRight" fmla="*/ 776160 w 775800"/>
              <a:gd name="textAreaTop" fmla="*/ 0 h 320400"/>
              <a:gd name="textAreaBottom" fmla="*/ 320760 h 320400"/>
            </a:gdLst>
            <a:ahLst/>
            <a:rect l="textAreaLeft" t="textAreaTop" r="textAreaRight" b="textAreaBottom"/>
            <a:pathLst>
              <a:path w="1223" h="507">
                <a:moveTo>
                  <a:pt x="0" y="338"/>
                </a:moveTo>
                <a:lnTo>
                  <a:pt x="85" y="338"/>
                </a:lnTo>
                <a:lnTo>
                  <a:pt x="136" y="338"/>
                </a:lnTo>
                <a:lnTo>
                  <a:pt x="187" y="321"/>
                </a:lnTo>
                <a:lnTo>
                  <a:pt x="204" y="321"/>
                </a:lnTo>
                <a:lnTo>
                  <a:pt x="221" y="321"/>
                </a:lnTo>
                <a:lnTo>
                  <a:pt x="255" y="304"/>
                </a:lnTo>
                <a:lnTo>
                  <a:pt x="289" y="304"/>
                </a:lnTo>
                <a:lnTo>
                  <a:pt x="340" y="287"/>
                </a:lnTo>
                <a:lnTo>
                  <a:pt x="408" y="253"/>
                </a:lnTo>
                <a:lnTo>
                  <a:pt x="493" y="236"/>
                </a:lnTo>
                <a:lnTo>
                  <a:pt x="578" y="203"/>
                </a:lnTo>
                <a:lnTo>
                  <a:pt x="679" y="169"/>
                </a:lnTo>
                <a:lnTo>
                  <a:pt x="764" y="118"/>
                </a:lnTo>
                <a:lnTo>
                  <a:pt x="866" y="84"/>
                </a:lnTo>
                <a:lnTo>
                  <a:pt x="934" y="67"/>
                </a:lnTo>
                <a:lnTo>
                  <a:pt x="1002" y="51"/>
                </a:lnTo>
                <a:lnTo>
                  <a:pt x="1070" y="34"/>
                </a:lnTo>
                <a:lnTo>
                  <a:pt x="1104" y="17"/>
                </a:lnTo>
                <a:lnTo>
                  <a:pt x="1138" y="0"/>
                </a:lnTo>
                <a:lnTo>
                  <a:pt x="1172" y="0"/>
                </a:lnTo>
                <a:lnTo>
                  <a:pt x="1189" y="0"/>
                </a:lnTo>
                <a:lnTo>
                  <a:pt x="1206" y="17"/>
                </a:lnTo>
                <a:lnTo>
                  <a:pt x="1223" y="17"/>
                </a:lnTo>
                <a:lnTo>
                  <a:pt x="1223" y="34"/>
                </a:lnTo>
                <a:lnTo>
                  <a:pt x="1206" y="51"/>
                </a:lnTo>
                <a:lnTo>
                  <a:pt x="1155" y="84"/>
                </a:lnTo>
                <a:lnTo>
                  <a:pt x="1104" y="101"/>
                </a:lnTo>
                <a:lnTo>
                  <a:pt x="1036" y="135"/>
                </a:lnTo>
                <a:lnTo>
                  <a:pt x="951" y="186"/>
                </a:lnTo>
                <a:lnTo>
                  <a:pt x="849" y="220"/>
                </a:lnTo>
                <a:lnTo>
                  <a:pt x="747" y="270"/>
                </a:lnTo>
                <a:lnTo>
                  <a:pt x="628" y="338"/>
                </a:lnTo>
                <a:lnTo>
                  <a:pt x="527" y="389"/>
                </a:lnTo>
                <a:lnTo>
                  <a:pt x="425" y="422"/>
                </a:lnTo>
                <a:lnTo>
                  <a:pt x="357" y="456"/>
                </a:lnTo>
                <a:lnTo>
                  <a:pt x="289" y="473"/>
                </a:lnTo>
                <a:lnTo>
                  <a:pt x="255" y="507"/>
                </a:lnTo>
                <a:lnTo>
                  <a:pt x="221" y="507"/>
                </a:lnTo>
                <a:lnTo>
                  <a:pt x="204" y="507"/>
                </a:lnTo>
                <a:lnTo>
                  <a:pt x="170" y="507"/>
                </a:lnTo>
                <a:lnTo>
                  <a:pt x="153" y="507"/>
                </a:lnTo>
                <a:lnTo>
                  <a:pt x="119" y="490"/>
                </a:lnTo>
                <a:lnTo>
                  <a:pt x="85" y="456"/>
                </a:lnTo>
                <a:lnTo>
                  <a:pt x="51" y="439"/>
                </a:lnTo>
                <a:lnTo>
                  <a:pt x="17" y="405"/>
                </a:lnTo>
                <a:lnTo>
                  <a:pt x="0" y="372"/>
                </a:lnTo>
                <a:lnTo>
                  <a:pt x="0" y="33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grpSp>
        <p:nvGrpSpPr>
          <p:cNvPr id="193" name="组合 2"/>
          <p:cNvGrpSpPr/>
          <p:nvPr/>
        </p:nvGrpSpPr>
        <p:grpSpPr>
          <a:xfrm>
            <a:off x="730080" y="1200240"/>
            <a:ext cx="2904840" cy="666360"/>
            <a:chOff x="730080" y="1200240"/>
            <a:chExt cx="2904840" cy="666360"/>
          </a:xfrm>
        </p:grpSpPr>
        <p:sp>
          <p:nvSpPr>
            <p:cNvPr id="194" name="圆角矩形 37"/>
            <p:cNvSpPr/>
            <p:nvPr/>
          </p:nvSpPr>
          <p:spPr>
            <a:xfrm>
              <a:off x="1546200" y="13381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Franklin Gothic Medium"/>
                <a:ea typeface="微软雅黑"/>
              </a:endParaRPr>
            </a:p>
          </p:txBody>
        </p:sp>
        <p:pic>
          <p:nvPicPr>
            <p:cNvPr id="1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文本框 16"/>
            <p:cNvSpPr/>
            <p:nvPr/>
          </p:nvSpPr>
          <p:spPr>
            <a:xfrm>
              <a:off x="1805760" y="13572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320" cy="69336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p:transition>
    <p:wipe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33"/>
          <p:cNvSpPr/>
          <p:nvPr/>
        </p:nvSpPr>
        <p:spPr>
          <a:xfrm>
            <a:off x="5559480" y="2795760"/>
            <a:ext cx="247320" cy="256680"/>
          </a:xfrm>
          <a:custGeom>
            <a:avLst/>
            <a:gdLst>
              <a:gd name="textAreaLeft" fmla="*/ 0 w 247320"/>
              <a:gd name="textAreaRight" fmla="*/ 247680 w 24732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390" h="406">
                <a:moveTo>
                  <a:pt x="0" y="17"/>
                </a:moveTo>
                <a:lnTo>
                  <a:pt x="17" y="0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0"/>
                </a:lnTo>
                <a:lnTo>
                  <a:pt x="170" y="17"/>
                </a:lnTo>
                <a:lnTo>
                  <a:pt x="204" y="51"/>
                </a:lnTo>
                <a:lnTo>
                  <a:pt x="288" y="119"/>
                </a:lnTo>
                <a:lnTo>
                  <a:pt x="356" y="186"/>
                </a:lnTo>
                <a:lnTo>
                  <a:pt x="373" y="237"/>
                </a:lnTo>
                <a:lnTo>
                  <a:pt x="390" y="271"/>
                </a:lnTo>
                <a:lnTo>
                  <a:pt x="390" y="321"/>
                </a:lnTo>
                <a:lnTo>
                  <a:pt x="390" y="355"/>
                </a:lnTo>
                <a:lnTo>
                  <a:pt x="356" y="389"/>
                </a:lnTo>
                <a:lnTo>
                  <a:pt x="339" y="406"/>
                </a:lnTo>
                <a:lnTo>
                  <a:pt x="305" y="406"/>
                </a:lnTo>
                <a:lnTo>
                  <a:pt x="288" y="389"/>
                </a:lnTo>
                <a:lnTo>
                  <a:pt x="237" y="372"/>
                </a:lnTo>
                <a:lnTo>
                  <a:pt x="204" y="338"/>
                </a:lnTo>
                <a:lnTo>
                  <a:pt x="153" y="271"/>
                </a:lnTo>
                <a:lnTo>
                  <a:pt x="119" y="203"/>
                </a:lnTo>
                <a:lnTo>
                  <a:pt x="68" y="119"/>
                </a:lnTo>
                <a:lnTo>
                  <a:pt x="34" y="68"/>
                </a:lnTo>
                <a:lnTo>
                  <a:pt x="17" y="34"/>
                </a:lnTo>
                <a:lnTo>
                  <a:pt x="0" y="1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1116000" y="2027160"/>
            <a:ext cx="1372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uā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02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5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2" name="TextBox 57"/>
          <p:cNvSpPr/>
          <p:nvPr/>
        </p:nvSpPr>
        <p:spPr>
          <a:xfrm>
            <a:off x="4449600" y="4857840"/>
            <a:ext cx="421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窄右宽，“女”的横画较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33"/>
          <p:cNvSpPr/>
          <p:nvPr/>
        </p:nvSpPr>
        <p:spPr>
          <a:xfrm>
            <a:off x="898560" y="464328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组词：化妆  淡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4"/>
          <p:cNvSpPr/>
          <p:nvPr/>
        </p:nvSpPr>
        <p:spPr>
          <a:xfrm>
            <a:off x="898560" y="5191200"/>
            <a:ext cx="3639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化妆品都很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1"/>
          <p:cNvSpPr/>
          <p:nvPr/>
        </p:nvSpPr>
        <p:spPr>
          <a:xfrm>
            <a:off x="22399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5409720" y="22161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31"/>
          <p:cNvSpPr/>
          <p:nvPr/>
        </p:nvSpPr>
        <p:spPr>
          <a:xfrm>
            <a:off x="6311880" y="2227320"/>
            <a:ext cx="742680" cy="1672920"/>
          </a:xfrm>
          <a:custGeom>
            <a:avLst/>
            <a:gdLst>
              <a:gd name="textAreaLeft" fmla="*/ 0 w 742680"/>
              <a:gd name="textAreaRight" fmla="*/ 743040 w 742680"/>
              <a:gd name="textAreaTop" fmla="*/ 0 h 1672920"/>
              <a:gd name="textAreaBottom" fmla="*/ 1673280 h 1672920"/>
            </a:gdLst>
            <a:ahLst/>
            <a:rect l="textAreaLeft" t="textAreaTop" r="textAreaRight" b="textAreaBottom"/>
            <a:pathLst>
              <a:path w="1169" h="2636">
                <a:moveTo>
                  <a:pt x="983" y="2551"/>
                </a:moveTo>
                <a:lnTo>
                  <a:pt x="915" y="2483"/>
                </a:lnTo>
                <a:lnTo>
                  <a:pt x="847" y="2416"/>
                </a:lnTo>
                <a:lnTo>
                  <a:pt x="729" y="2331"/>
                </a:lnTo>
                <a:lnTo>
                  <a:pt x="610" y="2213"/>
                </a:lnTo>
                <a:lnTo>
                  <a:pt x="475" y="2112"/>
                </a:lnTo>
                <a:lnTo>
                  <a:pt x="356" y="2027"/>
                </a:lnTo>
                <a:lnTo>
                  <a:pt x="254" y="1960"/>
                </a:lnTo>
                <a:lnTo>
                  <a:pt x="170" y="1909"/>
                </a:lnTo>
                <a:lnTo>
                  <a:pt x="102" y="1875"/>
                </a:lnTo>
                <a:lnTo>
                  <a:pt x="51" y="1841"/>
                </a:lnTo>
                <a:lnTo>
                  <a:pt x="17" y="1808"/>
                </a:lnTo>
                <a:lnTo>
                  <a:pt x="0" y="1774"/>
                </a:lnTo>
                <a:lnTo>
                  <a:pt x="0" y="1757"/>
                </a:lnTo>
                <a:lnTo>
                  <a:pt x="0" y="1740"/>
                </a:lnTo>
                <a:lnTo>
                  <a:pt x="17" y="1689"/>
                </a:lnTo>
                <a:lnTo>
                  <a:pt x="34" y="1639"/>
                </a:lnTo>
                <a:lnTo>
                  <a:pt x="51" y="1571"/>
                </a:lnTo>
                <a:lnTo>
                  <a:pt x="68" y="1487"/>
                </a:lnTo>
                <a:lnTo>
                  <a:pt x="85" y="1385"/>
                </a:lnTo>
                <a:lnTo>
                  <a:pt x="119" y="1284"/>
                </a:lnTo>
                <a:lnTo>
                  <a:pt x="170" y="1064"/>
                </a:lnTo>
                <a:lnTo>
                  <a:pt x="220" y="861"/>
                </a:lnTo>
                <a:lnTo>
                  <a:pt x="254" y="676"/>
                </a:lnTo>
                <a:lnTo>
                  <a:pt x="288" y="490"/>
                </a:lnTo>
                <a:lnTo>
                  <a:pt x="305" y="405"/>
                </a:lnTo>
                <a:lnTo>
                  <a:pt x="305" y="338"/>
                </a:lnTo>
                <a:lnTo>
                  <a:pt x="322" y="270"/>
                </a:lnTo>
                <a:lnTo>
                  <a:pt x="322" y="219"/>
                </a:lnTo>
                <a:lnTo>
                  <a:pt x="322" y="169"/>
                </a:lnTo>
                <a:lnTo>
                  <a:pt x="322" y="135"/>
                </a:lnTo>
                <a:lnTo>
                  <a:pt x="322" y="101"/>
                </a:lnTo>
                <a:lnTo>
                  <a:pt x="322" y="84"/>
                </a:lnTo>
                <a:lnTo>
                  <a:pt x="305" y="50"/>
                </a:lnTo>
                <a:lnTo>
                  <a:pt x="305" y="34"/>
                </a:lnTo>
                <a:lnTo>
                  <a:pt x="305" y="17"/>
                </a:lnTo>
                <a:lnTo>
                  <a:pt x="322" y="17"/>
                </a:lnTo>
                <a:lnTo>
                  <a:pt x="356" y="0"/>
                </a:lnTo>
                <a:lnTo>
                  <a:pt x="373" y="17"/>
                </a:lnTo>
                <a:lnTo>
                  <a:pt x="424" y="17"/>
                </a:lnTo>
                <a:lnTo>
                  <a:pt x="458" y="50"/>
                </a:lnTo>
                <a:lnTo>
                  <a:pt x="508" y="84"/>
                </a:lnTo>
                <a:lnTo>
                  <a:pt x="542" y="101"/>
                </a:lnTo>
                <a:lnTo>
                  <a:pt x="559" y="135"/>
                </a:lnTo>
                <a:lnTo>
                  <a:pt x="576" y="169"/>
                </a:lnTo>
                <a:lnTo>
                  <a:pt x="559" y="219"/>
                </a:lnTo>
                <a:lnTo>
                  <a:pt x="542" y="253"/>
                </a:lnTo>
                <a:lnTo>
                  <a:pt x="542" y="270"/>
                </a:lnTo>
                <a:lnTo>
                  <a:pt x="525" y="304"/>
                </a:lnTo>
                <a:lnTo>
                  <a:pt x="525" y="338"/>
                </a:lnTo>
                <a:lnTo>
                  <a:pt x="508" y="371"/>
                </a:lnTo>
                <a:lnTo>
                  <a:pt x="492" y="439"/>
                </a:lnTo>
                <a:lnTo>
                  <a:pt x="475" y="490"/>
                </a:lnTo>
                <a:lnTo>
                  <a:pt x="458" y="574"/>
                </a:lnTo>
                <a:lnTo>
                  <a:pt x="441" y="659"/>
                </a:lnTo>
                <a:lnTo>
                  <a:pt x="339" y="1014"/>
                </a:lnTo>
                <a:lnTo>
                  <a:pt x="237" y="1351"/>
                </a:lnTo>
                <a:lnTo>
                  <a:pt x="220" y="1436"/>
                </a:lnTo>
                <a:lnTo>
                  <a:pt x="187" y="1504"/>
                </a:lnTo>
                <a:lnTo>
                  <a:pt x="170" y="1554"/>
                </a:lnTo>
                <a:lnTo>
                  <a:pt x="153" y="1605"/>
                </a:lnTo>
                <a:lnTo>
                  <a:pt x="153" y="1656"/>
                </a:lnTo>
                <a:lnTo>
                  <a:pt x="136" y="1689"/>
                </a:lnTo>
                <a:lnTo>
                  <a:pt x="136" y="1706"/>
                </a:lnTo>
                <a:lnTo>
                  <a:pt x="136" y="1723"/>
                </a:lnTo>
                <a:lnTo>
                  <a:pt x="153" y="1740"/>
                </a:lnTo>
                <a:lnTo>
                  <a:pt x="170" y="1757"/>
                </a:lnTo>
                <a:lnTo>
                  <a:pt x="204" y="1774"/>
                </a:lnTo>
                <a:lnTo>
                  <a:pt x="254" y="1808"/>
                </a:lnTo>
                <a:lnTo>
                  <a:pt x="322" y="1841"/>
                </a:lnTo>
                <a:lnTo>
                  <a:pt x="390" y="1875"/>
                </a:lnTo>
                <a:lnTo>
                  <a:pt x="475" y="1926"/>
                </a:lnTo>
                <a:lnTo>
                  <a:pt x="576" y="1993"/>
                </a:lnTo>
                <a:lnTo>
                  <a:pt x="695" y="2044"/>
                </a:lnTo>
                <a:lnTo>
                  <a:pt x="780" y="2095"/>
                </a:lnTo>
                <a:lnTo>
                  <a:pt x="864" y="2129"/>
                </a:lnTo>
                <a:lnTo>
                  <a:pt x="932" y="2179"/>
                </a:lnTo>
                <a:lnTo>
                  <a:pt x="1000" y="2213"/>
                </a:lnTo>
                <a:lnTo>
                  <a:pt x="1051" y="2247"/>
                </a:lnTo>
                <a:lnTo>
                  <a:pt x="1084" y="2281"/>
                </a:lnTo>
                <a:lnTo>
                  <a:pt x="1118" y="2298"/>
                </a:lnTo>
                <a:lnTo>
                  <a:pt x="1152" y="2348"/>
                </a:lnTo>
                <a:lnTo>
                  <a:pt x="1169" y="2399"/>
                </a:lnTo>
                <a:lnTo>
                  <a:pt x="1169" y="2467"/>
                </a:lnTo>
                <a:lnTo>
                  <a:pt x="1169" y="2517"/>
                </a:lnTo>
                <a:lnTo>
                  <a:pt x="1169" y="2568"/>
                </a:lnTo>
                <a:lnTo>
                  <a:pt x="1152" y="2619"/>
                </a:lnTo>
                <a:lnTo>
                  <a:pt x="1135" y="2636"/>
                </a:lnTo>
                <a:lnTo>
                  <a:pt x="1118" y="2636"/>
                </a:lnTo>
                <a:lnTo>
                  <a:pt x="1084" y="2619"/>
                </a:lnTo>
                <a:lnTo>
                  <a:pt x="1051" y="2602"/>
                </a:lnTo>
                <a:lnTo>
                  <a:pt x="1017" y="2585"/>
                </a:lnTo>
                <a:lnTo>
                  <a:pt x="983" y="25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0" name="Freeform 32"/>
          <p:cNvSpPr/>
          <p:nvPr/>
        </p:nvSpPr>
        <p:spPr>
          <a:xfrm>
            <a:off x="6075360" y="2870280"/>
            <a:ext cx="763200" cy="1018800"/>
          </a:xfrm>
          <a:custGeom>
            <a:avLst/>
            <a:gdLst>
              <a:gd name="textAreaLeft" fmla="*/ 0 w 763200"/>
              <a:gd name="textAreaRight" fmla="*/ 763560 w 763200"/>
              <a:gd name="textAreaTop" fmla="*/ 0 h 1018800"/>
              <a:gd name="textAreaBottom" fmla="*/ 1019160 h 1018800"/>
            </a:gdLst>
            <a:ahLst/>
            <a:rect l="textAreaLeft" t="textAreaTop" r="textAreaRight" b="textAreaBottom"/>
            <a:pathLst>
              <a:path w="1203" h="1605">
                <a:moveTo>
                  <a:pt x="288" y="1554"/>
                </a:moveTo>
                <a:lnTo>
                  <a:pt x="221" y="1571"/>
                </a:lnTo>
                <a:lnTo>
                  <a:pt x="153" y="1588"/>
                </a:lnTo>
                <a:lnTo>
                  <a:pt x="119" y="1588"/>
                </a:lnTo>
                <a:lnTo>
                  <a:pt x="68" y="1605"/>
                </a:lnTo>
                <a:lnTo>
                  <a:pt x="34" y="1605"/>
                </a:lnTo>
                <a:lnTo>
                  <a:pt x="17" y="1605"/>
                </a:lnTo>
                <a:lnTo>
                  <a:pt x="0" y="1605"/>
                </a:lnTo>
                <a:lnTo>
                  <a:pt x="0" y="1588"/>
                </a:lnTo>
                <a:lnTo>
                  <a:pt x="0" y="1571"/>
                </a:lnTo>
                <a:lnTo>
                  <a:pt x="34" y="1554"/>
                </a:lnTo>
                <a:lnTo>
                  <a:pt x="51" y="1537"/>
                </a:lnTo>
                <a:lnTo>
                  <a:pt x="85" y="1520"/>
                </a:lnTo>
                <a:lnTo>
                  <a:pt x="136" y="1486"/>
                </a:lnTo>
                <a:lnTo>
                  <a:pt x="187" y="1469"/>
                </a:lnTo>
                <a:lnTo>
                  <a:pt x="238" y="1436"/>
                </a:lnTo>
                <a:lnTo>
                  <a:pt x="373" y="1368"/>
                </a:lnTo>
                <a:lnTo>
                  <a:pt x="492" y="1267"/>
                </a:lnTo>
                <a:lnTo>
                  <a:pt x="610" y="1165"/>
                </a:lnTo>
                <a:lnTo>
                  <a:pt x="729" y="1030"/>
                </a:lnTo>
                <a:lnTo>
                  <a:pt x="814" y="878"/>
                </a:lnTo>
                <a:lnTo>
                  <a:pt x="881" y="743"/>
                </a:lnTo>
                <a:lnTo>
                  <a:pt x="932" y="591"/>
                </a:lnTo>
                <a:lnTo>
                  <a:pt x="966" y="439"/>
                </a:lnTo>
                <a:lnTo>
                  <a:pt x="966" y="371"/>
                </a:lnTo>
                <a:lnTo>
                  <a:pt x="983" y="304"/>
                </a:lnTo>
                <a:lnTo>
                  <a:pt x="983" y="253"/>
                </a:lnTo>
                <a:lnTo>
                  <a:pt x="983" y="202"/>
                </a:lnTo>
                <a:lnTo>
                  <a:pt x="983" y="135"/>
                </a:lnTo>
                <a:lnTo>
                  <a:pt x="983" y="101"/>
                </a:lnTo>
                <a:lnTo>
                  <a:pt x="966" y="50"/>
                </a:lnTo>
                <a:lnTo>
                  <a:pt x="983" y="16"/>
                </a:lnTo>
                <a:lnTo>
                  <a:pt x="1000" y="0"/>
                </a:lnTo>
                <a:lnTo>
                  <a:pt x="1017" y="0"/>
                </a:lnTo>
                <a:lnTo>
                  <a:pt x="1034" y="16"/>
                </a:lnTo>
                <a:lnTo>
                  <a:pt x="1068" y="16"/>
                </a:lnTo>
                <a:lnTo>
                  <a:pt x="1119" y="50"/>
                </a:lnTo>
                <a:lnTo>
                  <a:pt x="1186" y="84"/>
                </a:lnTo>
                <a:lnTo>
                  <a:pt x="1186" y="101"/>
                </a:lnTo>
                <a:lnTo>
                  <a:pt x="1203" y="118"/>
                </a:lnTo>
                <a:lnTo>
                  <a:pt x="1203" y="152"/>
                </a:lnTo>
                <a:lnTo>
                  <a:pt x="1203" y="202"/>
                </a:lnTo>
                <a:lnTo>
                  <a:pt x="1186" y="270"/>
                </a:lnTo>
                <a:lnTo>
                  <a:pt x="1169" y="354"/>
                </a:lnTo>
                <a:lnTo>
                  <a:pt x="1153" y="473"/>
                </a:lnTo>
                <a:lnTo>
                  <a:pt x="1119" y="608"/>
                </a:lnTo>
                <a:lnTo>
                  <a:pt x="1068" y="760"/>
                </a:lnTo>
                <a:lnTo>
                  <a:pt x="1000" y="912"/>
                </a:lnTo>
                <a:lnTo>
                  <a:pt x="915" y="1047"/>
                </a:lnTo>
                <a:lnTo>
                  <a:pt x="814" y="1182"/>
                </a:lnTo>
                <a:lnTo>
                  <a:pt x="695" y="1300"/>
                </a:lnTo>
                <a:lnTo>
                  <a:pt x="560" y="1402"/>
                </a:lnTo>
                <a:lnTo>
                  <a:pt x="424" y="1486"/>
                </a:lnTo>
                <a:lnTo>
                  <a:pt x="288" y="155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1" name="Freeform 34"/>
          <p:cNvSpPr/>
          <p:nvPr/>
        </p:nvSpPr>
        <p:spPr>
          <a:xfrm>
            <a:off x="5430960" y="3201840"/>
            <a:ext cx="515520" cy="375840"/>
          </a:xfrm>
          <a:custGeom>
            <a:avLst/>
            <a:gdLst>
              <a:gd name="textAreaLeft" fmla="*/ 0 w 515520"/>
              <a:gd name="textAreaRight" fmla="*/ 515880 w 515520"/>
              <a:gd name="textAreaTop" fmla="*/ 0 h 375840"/>
              <a:gd name="textAreaBottom" fmla="*/ 376200 h 375840"/>
            </a:gdLst>
            <a:ahLst/>
            <a:rect l="textAreaLeft" t="textAreaTop" r="textAreaRight" b="textAreaBottom"/>
            <a:pathLst>
              <a:path w="813" h="592">
                <a:moveTo>
                  <a:pt x="0" y="372"/>
                </a:moveTo>
                <a:lnTo>
                  <a:pt x="17" y="355"/>
                </a:lnTo>
                <a:lnTo>
                  <a:pt x="34" y="338"/>
                </a:lnTo>
                <a:lnTo>
                  <a:pt x="51" y="338"/>
                </a:lnTo>
                <a:lnTo>
                  <a:pt x="68" y="355"/>
                </a:lnTo>
                <a:lnTo>
                  <a:pt x="102" y="372"/>
                </a:lnTo>
                <a:lnTo>
                  <a:pt x="119" y="372"/>
                </a:lnTo>
                <a:lnTo>
                  <a:pt x="135" y="372"/>
                </a:lnTo>
                <a:lnTo>
                  <a:pt x="169" y="355"/>
                </a:lnTo>
                <a:lnTo>
                  <a:pt x="237" y="321"/>
                </a:lnTo>
                <a:lnTo>
                  <a:pt x="322" y="271"/>
                </a:lnTo>
                <a:lnTo>
                  <a:pt x="423" y="203"/>
                </a:lnTo>
                <a:lnTo>
                  <a:pt x="542" y="135"/>
                </a:lnTo>
                <a:lnTo>
                  <a:pt x="644" y="85"/>
                </a:lnTo>
                <a:lnTo>
                  <a:pt x="728" y="34"/>
                </a:lnTo>
                <a:lnTo>
                  <a:pt x="813" y="0"/>
                </a:lnTo>
                <a:lnTo>
                  <a:pt x="813" y="51"/>
                </a:lnTo>
                <a:lnTo>
                  <a:pt x="695" y="152"/>
                </a:lnTo>
                <a:lnTo>
                  <a:pt x="593" y="254"/>
                </a:lnTo>
                <a:lnTo>
                  <a:pt x="491" y="338"/>
                </a:lnTo>
                <a:lnTo>
                  <a:pt x="407" y="423"/>
                </a:lnTo>
                <a:lnTo>
                  <a:pt x="322" y="490"/>
                </a:lnTo>
                <a:lnTo>
                  <a:pt x="254" y="541"/>
                </a:lnTo>
                <a:lnTo>
                  <a:pt x="203" y="575"/>
                </a:lnTo>
                <a:lnTo>
                  <a:pt x="169" y="592"/>
                </a:lnTo>
                <a:lnTo>
                  <a:pt x="135" y="592"/>
                </a:lnTo>
                <a:lnTo>
                  <a:pt x="102" y="575"/>
                </a:lnTo>
                <a:lnTo>
                  <a:pt x="68" y="541"/>
                </a:lnTo>
                <a:lnTo>
                  <a:pt x="51" y="490"/>
                </a:lnTo>
                <a:lnTo>
                  <a:pt x="17" y="440"/>
                </a:lnTo>
                <a:lnTo>
                  <a:pt x="0" y="406"/>
                </a:lnTo>
                <a:lnTo>
                  <a:pt x="0" y="389"/>
                </a:lnTo>
                <a:lnTo>
                  <a:pt x="0" y="37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Freeform 35"/>
          <p:cNvSpPr/>
          <p:nvPr/>
        </p:nvSpPr>
        <p:spPr>
          <a:xfrm>
            <a:off x="5861160" y="2259000"/>
            <a:ext cx="182160" cy="1834920"/>
          </a:xfrm>
          <a:custGeom>
            <a:avLst/>
            <a:gdLst>
              <a:gd name="textAreaLeft" fmla="*/ 0 w 182160"/>
              <a:gd name="textAreaRight" fmla="*/ 182520 w 18216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88" h="2890">
                <a:moveTo>
                  <a:pt x="135" y="2839"/>
                </a:moveTo>
                <a:lnTo>
                  <a:pt x="118" y="2873"/>
                </a:lnTo>
                <a:lnTo>
                  <a:pt x="101" y="2890"/>
                </a:lnTo>
                <a:lnTo>
                  <a:pt x="84" y="2890"/>
                </a:lnTo>
                <a:lnTo>
                  <a:pt x="67" y="2890"/>
                </a:lnTo>
                <a:lnTo>
                  <a:pt x="50" y="2873"/>
                </a:lnTo>
                <a:lnTo>
                  <a:pt x="34" y="2822"/>
                </a:lnTo>
                <a:lnTo>
                  <a:pt x="17" y="2771"/>
                </a:lnTo>
                <a:lnTo>
                  <a:pt x="17" y="2704"/>
                </a:lnTo>
                <a:lnTo>
                  <a:pt x="0" y="2653"/>
                </a:lnTo>
                <a:lnTo>
                  <a:pt x="0" y="2619"/>
                </a:lnTo>
                <a:lnTo>
                  <a:pt x="0" y="2586"/>
                </a:lnTo>
                <a:lnTo>
                  <a:pt x="0" y="2552"/>
                </a:lnTo>
                <a:lnTo>
                  <a:pt x="0" y="2501"/>
                </a:lnTo>
                <a:lnTo>
                  <a:pt x="0" y="2433"/>
                </a:lnTo>
                <a:lnTo>
                  <a:pt x="17" y="2349"/>
                </a:lnTo>
                <a:lnTo>
                  <a:pt x="17" y="2231"/>
                </a:lnTo>
                <a:lnTo>
                  <a:pt x="34" y="2112"/>
                </a:lnTo>
                <a:lnTo>
                  <a:pt x="50" y="1977"/>
                </a:lnTo>
                <a:lnTo>
                  <a:pt x="67" y="1673"/>
                </a:lnTo>
                <a:lnTo>
                  <a:pt x="84" y="1386"/>
                </a:lnTo>
                <a:lnTo>
                  <a:pt x="84" y="761"/>
                </a:lnTo>
                <a:lnTo>
                  <a:pt x="84" y="626"/>
                </a:lnTo>
                <a:lnTo>
                  <a:pt x="84" y="490"/>
                </a:lnTo>
                <a:lnTo>
                  <a:pt x="84" y="389"/>
                </a:lnTo>
                <a:lnTo>
                  <a:pt x="84" y="288"/>
                </a:lnTo>
                <a:lnTo>
                  <a:pt x="84" y="220"/>
                </a:lnTo>
                <a:lnTo>
                  <a:pt x="67" y="169"/>
                </a:lnTo>
                <a:lnTo>
                  <a:pt x="67" y="136"/>
                </a:lnTo>
                <a:lnTo>
                  <a:pt x="50" y="119"/>
                </a:lnTo>
                <a:lnTo>
                  <a:pt x="34" y="102"/>
                </a:lnTo>
                <a:lnTo>
                  <a:pt x="17" y="85"/>
                </a:lnTo>
                <a:lnTo>
                  <a:pt x="0" y="34"/>
                </a:lnTo>
                <a:lnTo>
                  <a:pt x="17" y="17"/>
                </a:lnTo>
                <a:lnTo>
                  <a:pt x="34" y="17"/>
                </a:lnTo>
                <a:lnTo>
                  <a:pt x="50" y="0"/>
                </a:lnTo>
                <a:lnTo>
                  <a:pt x="84" y="17"/>
                </a:lnTo>
                <a:lnTo>
                  <a:pt x="169" y="51"/>
                </a:lnTo>
                <a:lnTo>
                  <a:pt x="237" y="85"/>
                </a:lnTo>
                <a:lnTo>
                  <a:pt x="271" y="119"/>
                </a:lnTo>
                <a:lnTo>
                  <a:pt x="271" y="136"/>
                </a:lnTo>
                <a:lnTo>
                  <a:pt x="288" y="169"/>
                </a:lnTo>
                <a:lnTo>
                  <a:pt x="271" y="186"/>
                </a:lnTo>
                <a:lnTo>
                  <a:pt x="271" y="203"/>
                </a:lnTo>
                <a:lnTo>
                  <a:pt x="271" y="220"/>
                </a:lnTo>
                <a:lnTo>
                  <a:pt x="271" y="254"/>
                </a:lnTo>
                <a:lnTo>
                  <a:pt x="271" y="288"/>
                </a:lnTo>
                <a:lnTo>
                  <a:pt x="271" y="338"/>
                </a:lnTo>
                <a:lnTo>
                  <a:pt x="254" y="389"/>
                </a:lnTo>
                <a:lnTo>
                  <a:pt x="254" y="457"/>
                </a:lnTo>
                <a:lnTo>
                  <a:pt x="254" y="524"/>
                </a:lnTo>
                <a:lnTo>
                  <a:pt x="254" y="592"/>
                </a:lnTo>
                <a:lnTo>
                  <a:pt x="237" y="676"/>
                </a:lnTo>
                <a:lnTo>
                  <a:pt x="237" y="778"/>
                </a:lnTo>
                <a:lnTo>
                  <a:pt x="237" y="879"/>
                </a:lnTo>
                <a:lnTo>
                  <a:pt x="237" y="997"/>
                </a:lnTo>
                <a:lnTo>
                  <a:pt x="237" y="1116"/>
                </a:lnTo>
                <a:lnTo>
                  <a:pt x="237" y="1234"/>
                </a:lnTo>
                <a:lnTo>
                  <a:pt x="220" y="1369"/>
                </a:lnTo>
                <a:lnTo>
                  <a:pt x="220" y="1504"/>
                </a:lnTo>
                <a:lnTo>
                  <a:pt x="220" y="1639"/>
                </a:lnTo>
                <a:lnTo>
                  <a:pt x="220" y="1758"/>
                </a:lnTo>
                <a:lnTo>
                  <a:pt x="203" y="1859"/>
                </a:lnTo>
                <a:lnTo>
                  <a:pt x="203" y="1977"/>
                </a:lnTo>
                <a:lnTo>
                  <a:pt x="203" y="2062"/>
                </a:lnTo>
                <a:lnTo>
                  <a:pt x="203" y="2163"/>
                </a:lnTo>
                <a:lnTo>
                  <a:pt x="203" y="2231"/>
                </a:lnTo>
                <a:lnTo>
                  <a:pt x="203" y="2315"/>
                </a:lnTo>
                <a:lnTo>
                  <a:pt x="186" y="2383"/>
                </a:lnTo>
                <a:lnTo>
                  <a:pt x="186" y="2433"/>
                </a:lnTo>
                <a:lnTo>
                  <a:pt x="186" y="2484"/>
                </a:lnTo>
                <a:lnTo>
                  <a:pt x="186" y="2535"/>
                </a:lnTo>
                <a:lnTo>
                  <a:pt x="186" y="2569"/>
                </a:lnTo>
                <a:lnTo>
                  <a:pt x="186" y="2602"/>
                </a:lnTo>
                <a:lnTo>
                  <a:pt x="186" y="2619"/>
                </a:lnTo>
                <a:lnTo>
                  <a:pt x="169" y="2687"/>
                </a:lnTo>
                <a:lnTo>
                  <a:pt x="152" y="2754"/>
                </a:lnTo>
                <a:lnTo>
                  <a:pt x="135" y="2805"/>
                </a:lnTo>
                <a:lnTo>
                  <a:pt x="135" y="283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3" name="Freeform 30"/>
          <p:cNvSpPr/>
          <p:nvPr/>
        </p:nvSpPr>
        <p:spPr>
          <a:xfrm>
            <a:off x="5978520" y="2924280"/>
            <a:ext cx="1323720" cy="25668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256680"/>
              <a:gd name="textAreaBottom" fmla="*/ 257040 h 256680"/>
            </a:gdLst>
            <a:ahLst/>
            <a:rect l="textAreaLeft" t="textAreaTop" r="textAreaRight" b="textAreaBottom"/>
            <a:pathLst>
              <a:path w="2084" h="406">
                <a:moveTo>
                  <a:pt x="1982" y="51"/>
                </a:moveTo>
                <a:lnTo>
                  <a:pt x="2016" y="84"/>
                </a:lnTo>
                <a:lnTo>
                  <a:pt x="2050" y="101"/>
                </a:lnTo>
                <a:lnTo>
                  <a:pt x="2067" y="118"/>
                </a:lnTo>
                <a:lnTo>
                  <a:pt x="2084" y="152"/>
                </a:lnTo>
                <a:lnTo>
                  <a:pt x="2067" y="169"/>
                </a:lnTo>
                <a:lnTo>
                  <a:pt x="2016" y="186"/>
                </a:lnTo>
                <a:lnTo>
                  <a:pt x="1965" y="203"/>
                </a:lnTo>
                <a:lnTo>
                  <a:pt x="1864" y="203"/>
                </a:lnTo>
                <a:lnTo>
                  <a:pt x="1660" y="203"/>
                </a:lnTo>
                <a:lnTo>
                  <a:pt x="1423" y="220"/>
                </a:lnTo>
                <a:lnTo>
                  <a:pt x="1288" y="237"/>
                </a:lnTo>
                <a:lnTo>
                  <a:pt x="1135" y="253"/>
                </a:lnTo>
                <a:lnTo>
                  <a:pt x="949" y="287"/>
                </a:lnTo>
                <a:lnTo>
                  <a:pt x="745" y="321"/>
                </a:lnTo>
                <a:lnTo>
                  <a:pt x="644" y="355"/>
                </a:lnTo>
                <a:lnTo>
                  <a:pt x="542" y="372"/>
                </a:lnTo>
                <a:lnTo>
                  <a:pt x="457" y="389"/>
                </a:lnTo>
                <a:lnTo>
                  <a:pt x="390" y="389"/>
                </a:lnTo>
                <a:lnTo>
                  <a:pt x="339" y="389"/>
                </a:lnTo>
                <a:lnTo>
                  <a:pt x="288" y="406"/>
                </a:lnTo>
                <a:lnTo>
                  <a:pt x="254" y="406"/>
                </a:lnTo>
                <a:lnTo>
                  <a:pt x="220" y="389"/>
                </a:lnTo>
                <a:lnTo>
                  <a:pt x="169" y="372"/>
                </a:lnTo>
                <a:lnTo>
                  <a:pt x="119" y="355"/>
                </a:lnTo>
                <a:lnTo>
                  <a:pt x="68" y="304"/>
                </a:lnTo>
                <a:lnTo>
                  <a:pt x="0" y="237"/>
                </a:lnTo>
                <a:lnTo>
                  <a:pt x="271" y="237"/>
                </a:lnTo>
                <a:lnTo>
                  <a:pt x="559" y="203"/>
                </a:lnTo>
                <a:lnTo>
                  <a:pt x="695" y="186"/>
                </a:lnTo>
                <a:lnTo>
                  <a:pt x="813" y="152"/>
                </a:lnTo>
                <a:lnTo>
                  <a:pt x="932" y="135"/>
                </a:lnTo>
                <a:lnTo>
                  <a:pt x="1050" y="118"/>
                </a:lnTo>
                <a:lnTo>
                  <a:pt x="1152" y="101"/>
                </a:lnTo>
                <a:lnTo>
                  <a:pt x="1271" y="84"/>
                </a:lnTo>
                <a:lnTo>
                  <a:pt x="1389" y="68"/>
                </a:lnTo>
                <a:lnTo>
                  <a:pt x="1508" y="34"/>
                </a:lnTo>
                <a:lnTo>
                  <a:pt x="1626" y="17"/>
                </a:lnTo>
                <a:lnTo>
                  <a:pt x="1728" y="0"/>
                </a:lnTo>
                <a:lnTo>
                  <a:pt x="1796" y="0"/>
                </a:lnTo>
                <a:lnTo>
                  <a:pt x="1830" y="0"/>
                </a:lnTo>
                <a:lnTo>
                  <a:pt x="1864" y="0"/>
                </a:lnTo>
                <a:lnTo>
                  <a:pt x="1898" y="0"/>
                </a:lnTo>
                <a:lnTo>
                  <a:pt x="1931" y="17"/>
                </a:lnTo>
                <a:lnTo>
                  <a:pt x="1982" y="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p:transition>
    <p:wipe dir="r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公司入职培训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公司入职培训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  <Pages>0</Pages>
  <Words>2962</Words>
  <Characters>0</Characters>
  <CharactersWithSpaces>0</CharactersWithSpaces>
  <Paragraphs>26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21T01:11:39Z</dcterms:modified>
  <cp:revision>5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Notes">
    <vt:r8>5</vt:r8>
  </property>
  <property fmtid="{D5CDD505-2E9C-101B-9397-08002B2CF9AE}" pid="4" name="PresentationFormat">
    <vt:lpwstr>全屏显示(4:3)</vt:lpwstr>
  </property>
  <property fmtid="{D5CDD505-2E9C-101B-9397-08002B2CF9AE}" pid="5" name="Slides">
    <vt:r8>36</vt:r8>
  </property>
</Properties>
</file>