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17.png" ContentType="image/png"/>
  <Override PartName="/ppt/media/image23.jpeg" ContentType="image/jpeg"/>
  <Override PartName="/ppt/media/image19.jpeg" ContentType="image/jpeg"/>
  <Override PartName="/ppt/media/image2.gif" ContentType="image/gif"/>
  <Override PartName="/ppt/media/image1.jpeg" ContentType="image/jpeg"/>
  <Override PartName="/ppt/media/image22.gif" ContentType="image/gif"/>
  <Override PartName="/ppt/media/image4.jpeg" ContentType="image/jpeg"/>
  <Override PartName="/ppt/media/image32.png" ContentType="image/png"/>
  <Override PartName="/ppt/media/image25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21.jpeg" ContentType="image/jpeg"/>
  <Override PartName="/ppt/media/image29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14.gif" ContentType="image/gif"/>
  <Override PartName="/ppt/media/image16.gif" ContentType="image/gif"/>
  <Override PartName="/ppt/media/audio1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640559-C6D3-4ED6-98BC-9BBE66CF6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0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3768C2-6D8D-492B-AA34-6DADB10229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53000" cy="647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63760" y="6458040"/>
            <a:ext cx="5879880" cy="399600"/>
          </a:xfrm>
          <a:prstGeom prst="rect">
            <a:avLst/>
          </a:prstGeom>
          <a:solidFill>
            <a:srgbClr val="ffcc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0" y="6458040"/>
            <a:ext cx="6587640" cy="399600"/>
          </a:xfrm>
          <a:prstGeom prst="rect">
            <a:avLst/>
          </a:prstGeom>
          <a:solidFill>
            <a:srgbClr val="43bbe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t">
            <a:noAutofit/>
          </a:bodyPr>
          <a:p>
            <a:pPr marL="324000" indent="-324000">
              <a:lnSpc>
                <a:spcPct val="100000"/>
              </a:lnSpc>
              <a:spcBef>
                <a:spcPts val="439"/>
              </a:spcBef>
              <a:buClr>
                <a:srgbClr val="716f70"/>
              </a:buClr>
              <a:buFont typeface="Arial"/>
              <a:buChar char="•"/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单击此处编辑母版文本样式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03440" indent="-271440">
              <a:lnSpc>
                <a:spcPct val="100000"/>
              </a:lnSpc>
              <a:spcBef>
                <a:spcPts val="360"/>
              </a:spcBef>
              <a:buClr>
                <a:srgbClr val="716f7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第二级</a:t>
            </a:r>
            <a:endParaRPr b="0" lang="en-US" sz="1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082520" indent="-217440">
              <a:lnSpc>
                <a:spcPct val="100000"/>
              </a:lnSpc>
              <a:spcBef>
                <a:spcPts val="340"/>
              </a:spcBef>
              <a:buClr>
                <a:srgbClr val="716f70"/>
              </a:buClr>
              <a:buFont typeface="Arial"/>
              <a:buChar char="•"/>
            </a:pPr>
            <a:r>
              <a:rPr b="0" lang="zh-CN" sz="17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第三级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514520" indent="-216000">
              <a:lnSpc>
                <a:spcPct val="100000"/>
              </a:lnSpc>
              <a:spcBef>
                <a:spcPts val="340"/>
              </a:spcBef>
              <a:buClr>
                <a:srgbClr val="716f70"/>
              </a:buClr>
              <a:buFont typeface="Arial"/>
              <a:buChar char="–"/>
            </a:pPr>
            <a:r>
              <a:rPr b="0" lang="zh-CN" sz="17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第四级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1947960" indent="-217440">
              <a:lnSpc>
                <a:spcPct val="100000"/>
              </a:lnSpc>
              <a:spcBef>
                <a:spcPts val="340"/>
              </a:spcBef>
              <a:buClr>
                <a:srgbClr val="716f70"/>
              </a:buClr>
              <a:buFont typeface="Arial"/>
              <a:buChar char="»"/>
            </a:pPr>
            <a:r>
              <a:rPr b="0" lang="zh-CN" sz="17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第五级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53000" cy="647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3263760" y="6458040"/>
            <a:ext cx="5879880" cy="399600"/>
          </a:xfrm>
          <a:prstGeom prst="rect">
            <a:avLst/>
          </a:prstGeom>
          <a:solidFill>
            <a:srgbClr val="ffcc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0" y="6458040"/>
            <a:ext cx="6587640" cy="399600"/>
          </a:xfrm>
          <a:prstGeom prst="rect">
            <a:avLst/>
          </a:prstGeom>
          <a:solidFill>
            <a:srgbClr val="43bbe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E:/&#22812;&#33394;2/2011527171501.mp3" TargetMode="External"/><Relationship Id="rId3" Type="http://schemas.microsoft.com/office/2007/relationships/media" Target="file:///E:/&#22812;&#33394;2/2011527171501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H:/&#26032;&#24314;&#25991;&#20214;&#22841;/&#33707;&#26031;&#31185;&#37066;&#22806;&#30340;&#26202;&#19978;.mp3" TargetMode="External"/><Relationship Id="rId3" Type="http://schemas.microsoft.com/office/2007/relationships/media" Target="file:///H:/&#26032;&#24314;&#25991;&#20214;&#22841;/&#33707;&#26031;&#31185;&#37066;&#22806;&#30340;&#26202;&#19978;.mp3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0" y="170064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  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2828880" y="57333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c1"/>
          <p:cNvPicPr/>
          <p:nvPr/>
        </p:nvPicPr>
        <p:blipFill>
          <a:blip r:embed="rId1"/>
          <a:stretch/>
        </p:blipFill>
        <p:spPr>
          <a:xfrm>
            <a:off x="468360" y="4724280"/>
            <a:ext cx="1066320" cy="142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1"/>
          <p:cNvPicPr/>
          <p:nvPr/>
        </p:nvPicPr>
        <p:blipFill>
          <a:blip r:embed="rId2"/>
          <a:stretch/>
        </p:blipFill>
        <p:spPr>
          <a:xfrm>
            <a:off x="1619280" y="4724280"/>
            <a:ext cx="1066320" cy="14284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324000" y="3063600"/>
            <a:ext cx="8424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们眼中的夜色是什么样的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图片4"/>
          <p:cNvPicPr/>
          <p:nvPr/>
        </p:nvPicPr>
        <p:blipFill>
          <a:blip r:embed="rId3"/>
          <a:stretch/>
        </p:blipFill>
        <p:spPr>
          <a:xfrm>
            <a:off x="6804000" y="4653000"/>
            <a:ext cx="1875960" cy="1828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图片1"/>
          <p:cNvPicPr/>
          <p:nvPr/>
        </p:nvPicPr>
        <p:blipFill>
          <a:blip r:embed="rId4"/>
          <a:stretch/>
        </p:blipFill>
        <p:spPr>
          <a:xfrm>
            <a:off x="826920" y="1341360"/>
            <a:ext cx="1238040" cy="1285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7"/>
          <p:cNvSpPr/>
          <p:nvPr/>
        </p:nvSpPr>
        <p:spPr>
          <a:xfrm>
            <a:off x="2267640" y="25344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59640" y="915840"/>
            <a:ext cx="7121880" cy="1582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学提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借助汉语拼音自读课文，把儿歌读通顺、读正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标出儿歌共有几句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4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1115640" y="915840"/>
            <a:ext cx="726588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读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我从前胆子很小很小，天一黑就不敢往外瞧。妈妈把勇敢的故事讲了又讲，可我一看窗外心就乱跳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1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1043640" y="915840"/>
            <a:ext cx="733788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读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爸爸晚上偏要拉我出去散步，原来花草都像白天一样微笑。从此再黑再黑的夜晚我也能看见小鸟怎样在月光下睡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332000" y="191628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胆  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476360" y="3500280"/>
            <a:ext cx="1726920" cy="57600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窗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6084720" y="1844640"/>
            <a:ext cx="1726920" cy="57600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往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211640" y="3500280"/>
            <a:ext cx="1726920" cy="57600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乱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3635280" y="1916280"/>
            <a:ext cx="1726920" cy="57600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勇    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258920" y="4724280"/>
            <a:ext cx="1726920" cy="57600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偏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87280" y="148428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ǎn    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635280" y="141300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ǒng  g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507720" y="1413000"/>
            <a:ext cx="91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ù   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1619280" y="2781360"/>
            <a:ext cx="19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uāngw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4589640" y="2924280"/>
            <a:ext cx="978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uànti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544760" y="4221000"/>
            <a:ext cx="115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iānxià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3276720" y="4724280"/>
            <a:ext cx="1726920" cy="57600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散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4932360" y="4724280"/>
            <a:ext cx="1726920" cy="57600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原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6443640" y="4724280"/>
            <a:ext cx="1726920" cy="57600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好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6732720" y="3429000"/>
            <a:ext cx="1726920" cy="57600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微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7170120" y="2924280"/>
            <a:ext cx="93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ēixi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3385440" y="4221000"/>
            <a:ext cx="80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ànb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5017680" y="4221000"/>
            <a:ext cx="965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án l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6858720" y="4221000"/>
            <a:ext cx="110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ǎoxià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539160" y="1557360"/>
            <a:ext cx="1680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色       外    看     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367080" y="3429000"/>
            <a:ext cx="1543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晚         笑       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31880" y="620640"/>
            <a:ext cx="199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è    wài  kàn   b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156680" y="2637000"/>
            <a:ext cx="24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186000" y="2565360"/>
            <a:ext cx="187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ǎn    xiào    z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我会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25520" y="1773360"/>
            <a:ext cx="6918120" cy="41763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t">
            <a:noAutofit/>
          </a:bodyPr>
          <a:p>
            <a:pPr marL="3240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胆      勇      敢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偏      窗      原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爸     再       笑     看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27120" y="45396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能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41300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胆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700360" y="141300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003640" y="1484280"/>
            <a:ext cx="19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勇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2700360" y="2565360"/>
            <a:ext cx="172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窗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932360" y="2637000"/>
            <a:ext cx="194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原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84360" y="4005360"/>
            <a:ext cx="201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晚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700360" y="3933720"/>
            <a:ext cx="187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微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932360" y="4076640"/>
            <a:ext cx="187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散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11280" y="530064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2700360" y="530064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爸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932360" y="530064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外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11280" y="2637000"/>
            <a:ext cx="201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新图像"/>
          <p:cNvPicPr/>
          <p:nvPr/>
        </p:nvPicPr>
        <p:blipFill>
          <a:blip r:embed="rId1"/>
          <a:stretch/>
        </p:blipFill>
        <p:spPr>
          <a:xfrm>
            <a:off x="250920" y="0"/>
            <a:ext cx="3384360" cy="18442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3"/>
          <p:cNvSpPr/>
          <p:nvPr/>
        </p:nvSpPr>
        <p:spPr>
          <a:xfrm>
            <a:off x="3059280" y="333360"/>
            <a:ext cx="1296720" cy="934560"/>
          </a:xfrm>
          <a:prstGeom prst="ellipseRibbon">
            <a:avLst>
              <a:gd name="adj1" fmla="val 25000"/>
              <a:gd name="adj2" fmla="val 50000"/>
              <a:gd name="adj3" fmla="val 12500"/>
            </a:avLst>
          </a:prstGeom>
          <a:solidFill>
            <a:srgbClr val="d8e438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9    </a:t>
            </a:r>
            <a:r>
              <a:rPr b="0" lang="zh-CN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夜 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640" y="198900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t">
            <a:noAutofit/>
          </a:bodyPr>
          <a:p>
            <a:pPr marL="32400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我从前胆子很小很小，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天一黑就不敢往外瞧。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妈妈把勇敢的故事讲了又讲，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可我一看窗外心就乱跳……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爸爸晚上偏要拉我出去散步，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原来花草都像白天一样微笑。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从此再黑再黑的夜晚，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我也能看见小鸟怎样在月光下睡觉……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pic>
        <p:nvPicPr>
          <p:cNvPr id="159" name="Picture 6" descr="15"/>
          <p:cNvPicPr/>
          <p:nvPr/>
        </p:nvPicPr>
        <p:blipFill>
          <a:blip r:embed="rId2"/>
          <a:stretch/>
        </p:blipFill>
        <p:spPr>
          <a:xfrm>
            <a:off x="6659640" y="4705200"/>
            <a:ext cx="2484000" cy="21524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6659640" y="4653000"/>
            <a:ext cx="649080" cy="36000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6659280" y="5013000"/>
            <a:ext cx="649440" cy="6480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2" name="AutoShape 9"/>
          <p:cNvSpPr/>
          <p:nvPr/>
        </p:nvSpPr>
        <p:spPr>
          <a:xfrm rot="5400000">
            <a:off x="6302520" y="5011560"/>
            <a:ext cx="1004400" cy="1007640"/>
          </a:xfrm>
          <a:prstGeom prst="rtTriangle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读课文，思考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t">
            <a:noAutofit/>
          </a:bodyPr>
          <a:p>
            <a:pPr marL="3240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br>
              <a:rPr sz="2200"/>
            </a:b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（</a:t>
            </a:r>
            <a:r>
              <a:rPr b="0" lang="en-US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1</a:t>
            </a: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）开始这个小朋友胆子很小。你是从课文中哪句话体会到的？</a:t>
            </a:r>
            <a:br>
              <a:rPr sz="2200"/>
            </a:b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（</a:t>
            </a:r>
            <a:r>
              <a:rPr b="0" lang="en-US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2</a:t>
            </a: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）后来爸爸带他去散步，他发现原来花草都像白天一样美丽。你能给大家读读这句话吗？ 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381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684360" y="476280"/>
            <a:ext cx="2447640" cy="791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欣赏歌曲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539640" y="1484280"/>
            <a:ext cx="2285640" cy="10285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&lt;&lt;</a:t>
            </a: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小星星</a:t>
            </a: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&gt;&gt;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136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488040" y="1341360"/>
            <a:ext cx="1964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从前胆子很小很小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一黑就不敢往外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妈妈把勇敢的故事讲了又讲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我一看窗外心就乱跳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08000" y="2133720"/>
            <a:ext cx="71496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（</a:t>
            </a:r>
            <a:r>
              <a:rPr b="0" lang="en-US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）天一黑就不敢往外瞧。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27813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79280" y="3357720"/>
            <a:ext cx="61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我一看窗外心就乱跳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619280" y="620640"/>
            <a:ext cx="1582200" cy="720360"/>
          </a:xfrm>
          <a:prstGeom prst="wedgeRoundRectCallout">
            <a:avLst>
              <a:gd name="adj1" fmla="val -58528"/>
              <a:gd name="adj2" fmla="val 111894"/>
              <a:gd name="adj3" fmla="val 16667"/>
            </a:avLst>
          </a:prstGeom>
          <a:solidFill>
            <a:srgbClr val="ff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害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437280" y="1197000"/>
            <a:ext cx="19641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爸爸晚上偏要拉我出去散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原来花草都像白天一样微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此再黑再黑的夜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也能看见小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样在月光下睡觉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26920" y="2205000"/>
            <a:ext cx="7848360" cy="1368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t">
            <a:noAutofit/>
          </a:bodyPr>
          <a:p>
            <a:pPr marL="324000" indent="-324000">
              <a:lnSpc>
                <a:spcPct val="80000"/>
              </a:lnSpc>
              <a:spcBef>
                <a:spcPts val="439"/>
              </a:spcBef>
              <a:buClr>
                <a:srgbClr val="716f7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1.“</a:t>
            </a: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可我一看窗外心就乱跳……”中的省略号是什么意思？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-324000">
              <a:lnSpc>
                <a:spcPct val="80000"/>
              </a:lnSpc>
              <a:spcBef>
                <a:spcPts val="439"/>
              </a:spcBef>
              <a:buClr>
                <a:srgbClr val="716f7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2.“</a:t>
            </a: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我也能看见小鸟怎样在月光下睡觉……”中的省略号是什么意思？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90520" y="3933000"/>
            <a:ext cx="799272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ff"/>
              </a:buClr>
              <a:buSzPct val="55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意思是“我”心里会想外面有没有恶魔，有没有吃人的怪物，有没有吓人的大怪兽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0005"/>
          <p:cNvPicPr/>
          <p:nvPr/>
        </p:nvPicPr>
        <p:blipFill>
          <a:blip r:embed="rId1"/>
          <a:stretch/>
        </p:blipFill>
        <p:spPr>
          <a:xfrm>
            <a:off x="7236000" y="692280"/>
            <a:ext cx="1047240" cy="50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0005"/>
          <p:cNvPicPr/>
          <p:nvPr/>
        </p:nvPicPr>
        <p:blipFill>
          <a:blip r:embed="rId2"/>
          <a:stretch/>
        </p:blipFill>
        <p:spPr>
          <a:xfrm>
            <a:off x="6084720" y="765000"/>
            <a:ext cx="1047240" cy="50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图片1"/>
          <p:cNvPicPr/>
          <p:nvPr/>
        </p:nvPicPr>
        <p:blipFill>
          <a:blip r:embed="rId3"/>
          <a:stretch/>
        </p:blipFill>
        <p:spPr>
          <a:xfrm>
            <a:off x="827640" y="464040"/>
            <a:ext cx="1238040" cy="1285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0"/>
          <p:cNvSpPr/>
          <p:nvPr/>
        </p:nvSpPr>
        <p:spPr>
          <a:xfrm>
            <a:off x="971640" y="5229360"/>
            <a:ext cx="75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意思是“我”还能看见小虫在树叶下爬行，还能看见在萤火虫在空中，跳舞还能听见蟋蟀树上唱歌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4558680"/>
            <a:ext cx="85402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偏要：硬要、一定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90560" y="1698480"/>
            <a:ext cx="6194160" cy="1542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t">
            <a:noAutofit/>
          </a:bodyPr>
          <a:p>
            <a:pPr marL="3240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                </a:t>
            </a: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爸爸晚上偏要拉我出去散步，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原来花草都像白天一样微笑。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pic>
        <p:nvPicPr>
          <p:cNvPr id="179" name="Picture 6" descr="0000"/>
          <p:cNvPicPr/>
          <p:nvPr/>
        </p:nvPicPr>
        <p:blipFill>
          <a:blip r:embed="rId2"/>
          <a:stretch/>
        </p:blipFill>
        <p:spPr>
          <a:xfrm>
            <a:off x="611280" y="549360"/>
            <a:ext cx="1523520" cy="11426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7"/>
          <p:cNvSpPr/>
          <p:nvPr/>
        </p:nvSpPr>
        <p:spPr>
          <a:xfrm>
            <a:off x="2411280" y="189000"/>
            <a:ext cx="1800000" cy="720360"/>
          </a:xfrm>
          <a:prstGeom prst="wedgeEllipseCallout">
            <a:avLst>
              <a:gd name="adj1" fmla="val -59347"/>
              <a:gd name="adj2" fmla="val 64759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偏要”是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图片2"/>
          <p:cNvPicPr/>
          <p:nvPr/>
        </p:nvPicPr>
        <p:blipFill>
          <a:blip r:embed="rId3"/>
          <a:stretch/>
        </p:blipFill>
        <p:spPr>
          <a:xfrm>
            <a:off x="7020000" y="4797360"/>
            <a:ext cx="1926720" cy="18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781200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了（      ），看到了（       ），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900000" y="1268280"/>
            <a:ext cx="730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外面我看到（        ），看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-1116000" y="2924280"/>
            <a:ext cx="730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听到了（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图片7"/>
          <p:cNvPicPr/>
          <p:nvPr/>
        </p:nvPicPr>
        <p:blipFill>
          <a:blip r:embed="rId1"/>
          <a:stretch/>
        </p:blipFill>
        <p:spPr>
          <a:xfrm>
            <a:off x="2050920" y="5157720"/>
            <a:ext cx="1749240" cy="15822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10"/>
          <p:cNvSpPr txBox="1"/>
          <p:nvPr/>
        </p:nvSpPr>
        <p:spPr>
          <a:xfrm>
            <a:off x="3995640" y="4292640"/>
            <a:ext cx="2448000" cy="10285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发挥想象：夜色美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图片3"/>
          <p:cNvPicPr/>
          <p:nvPr/>
        </p:nvPicPr>
        <p:blipFill>
          <a:blip r:embed="rId2"/>
          <a:stretch/>
        </p:blipFill>
        <p:spPr>
          <a:xfrm>
            <a:off x="8028000" y="1484280"/>
            <a:ext cx="856800" cy="2381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图片3"/>
          <p:cNvPicPr/>
          <p:nvPr/>
        </p:nvPicPr>
        <p:blipFill>
          <a:blip r:embed="rId3"/>
          <a:stretch/>
        </p:blipFill>
        <p:spPr>
          <a:xfrm>
            <a:off x="8028000" y="-458640"/>
            <a:ext cx="856800" cy="2381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图片3"/>
          <p:cNvPicPr/>
          <p:nvPr/>
        </p:nvPicPr>
        <p:blipFill>
          <a:blip r:embed="rId4"/>
          <a:stretch/>
        </p:blipFill>
        <p:spPr>
          <a:xfrm>
            <a:off x="8101080" y="3645000"/>
            <a:ext cx="856800" cy="2381040"/>
          </a:xfrm>
          <a:prstGeom prst="rect">
            <a:avLst/>
          </a:prstGeom>
          <a:ln w="0">
            <a:noFill/>
          </a:ln>
        </p:spPr>
      </p:pic>
      <p:sp>
        <p:nvSpPr>
          <p:cNvPr id="190" name="WordArt 7"/>
          <p:cNvSpPr txBox="1"/>
          <p:nvPr/>
        </p:nvSpPr>
        <p:spPr>
          <a:xfrm>
            <a:off x="3492360" y="692280"/>
            <a:ext cx="2518920" cy="791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游戏背诵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78595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t">
            <a:noAutofit/>
          </a:bodyPr>
          <a:p>
            <a:pPr marL="324000" indent="-324000">
              <a:lnSpc>
                <a:spcPct val="100000"/>
              </a:lnSpc>
              <a:spcBef>
                <a:spcPts val="439"/>
              </a:spcBef>
              <a:buClr>
                <a:srgbClr val="716f70"/>
              </a:buClr>
              <a:buFont typeface="Arial"/>
              <a:buChar char="•"/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我从此（       ）很小很小，天一黑就不敢（      ）瞧。妈妈把（                ）讲了又讲，可我一看窗外（      ）就乱跳……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-324000">
              <a:lnSpc>
                <a:spcPct val="100000"/>
              </a:lnSpc>
              <a:spcBef>
                <a:spcPts val="439"/>
              </a:spcBef>
              <a:buClr>
                <a:srgbClr val="716f70"/>
              </a:buClr>
              <a:buFont typeface="Arial"/>
              <a:buChar char="•"/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爸爸（       ）偏要拉我出去（       ），原来（      ）都像白天一样（      ）。从此（             ）的夜晚，我也能看见（       ）怎样在月光下（         ）……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2050920" y="1844640"/>
            <a:ext cx="9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胆 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6659640" y="184464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往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124000" y="2205000"/>
            <a:ext cx="165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勇敢的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7524720" y="2205000"/>
            <a:ext cx="5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835280" y="3429000"/>
            <a:ext cx="71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晚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859280" y="3429000"/>
            <a:ext cx="86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散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6948360" y="3429000"/>
            <a:ext cx="9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花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2700360" y="386064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微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4356000" y="386064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黑再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475640" y="4223880"/>
            <a:ext cx="18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498920" y="421380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734480" y="404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246120" y="404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908080" y="1413000"/>
            <a:ext cx="285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鸟好像（         ） 说：“小朋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见！”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386880" y="4581360"/>
            <a:ext cx="2201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进（    ）了，妈妈送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（     ）娃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944000" y="3213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4031640" y="31417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51445E-007 L 0.05521 0.13642 E">
                                      <p:cBhvr>
                                        <p:cTn id="33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19653E-006 L -0.07726 0.2215 E">
                                      <p:cBhvr>
                                        <p:cTn id="33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4104E-006 L 0.17553 0.1896 E">
                                      <p:cBhvr>
                                        <p:cTn id="33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21387E-006 L -0.1552 0.31537 E">
                                      <p:cBhvr>
                                        <p:cTn id="34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1640" y="332640"/>
            <a:ext cx="8229240" cy="676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t">
            <a:noAutofit/>
          </a:bodyPr>
          <a:p>
            <a:pPr marL="3240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zh-CN" sz="2200" spc="-1" strike="noStrike">
                <a:solidFill>
                  <a:srgbClr val="716f70"/>
                </a:solidFill>
                <a:latin typeface="Franklin Gothic Medium"/>
                <a:ea typeface="微软雅黑"/>
              </a:rPr>
              <a:t>课堂练习：填一填。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marL="3240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2124000" y="1413000"/>
            <a:ext cx="791640" cy="64728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3492360" y="1413000"/>
            <a:ext cx="791640" cy="64728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5076720" y="1413000"/>
            <a:ext cx="790200" cy="64728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6443640" y="1484280"/>
            <a:ext cx="718920" cy="57600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2637000"/>
            <a:ext cx="89388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鸟好像（  　  ）和我说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朋友（　　）再见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进（　   ）了，妈妈送我一个（　　）娃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6443640" y="2637000"/>
            <a:ext cx="791640" cy="64728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2195640" y="2565360"/>
            <a:ext cx="791640" cy="64728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5724360" y="3716280"/>
            <a:ext cx="790200" cy="64728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4"/>
          <p:cNvSpPr/>
          <p:nvPr/>
        </p:nvSpPr>
        <p:spPr>
          <a:xfrm>
            <a:off x="1476360" y="3716280"/>
            <a:ext cx="718920" cy="576000"/>
          </a:xfrm>
          <a:prstGeom prst="ellipse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97920" y="4716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186640" y="189000"/>
            <a:ext cx="455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001880" y="25988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001880" y="47242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097520" y="4716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4093560" y="25988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6689880" y="4716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6761160" y="25988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2165040" y="2349360"/>
            <a:ext cx="455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晚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傍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2254320" y="4508640"/>
            <a:ext cx="514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5094000" y="260280"/>
            <a:ext cx="455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颜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彩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088600" y="2421000"/>
            <a:ext cx="455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外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外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外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7902360" y="260280"/>
            <a:ext cx="4554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爸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7902360" y="2492280"/>
            <a:ext cx="455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微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讥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傻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/>
          <p:cNvSpPr/>
          <p:nvPr/>
        </p:nvSpPr>
        <p:spPr>
          <a:xfrm>
            <a:off x="611280" y="692280"/>
            <a:ext cx="2015640" cy="649080"/>
          </a:xfrm>
          <a:prstGeom prst="cloudCallout">
            <a:avLst>
              <a:gd name="adj1" fmla="val -44644"/>
              <a:gd name="adj2" fmla="val 109903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色欣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990720" y="958680"/>
            <a:ext cx="7670520" cy="589896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34" name="Picture 3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990720" y="958680"/>
            <a:ext cx="7670520" cy="589896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36" name="Group 5"/>
          <p:cNvGrpSpPr/>
          <p:nvPr/>
        </p:nvGrpSpPr>
        <p:grpSpPr>
          <a:xfrm>
            <a:off x="2666880" y="3276720"/>
            <a:ext cx="3305160" cy="3222360"/>
            <a:chOff x="2666880" y="3276720"/>
            <a:chExt cx="3305160" cy="3222360"/>
          </a:xfrm>
        </p:grpSpPr>
        <p:sp>
          <p:nvSpPr>
            <p:cNvPr id="237" name="Rectangle 6"/>
            <p:cNvSpPr/>
            <p:nvPr/>
          </p:nvSpPr>
          <p:spPr>
            <a:xfrm>
              <a:off x="2689920" y="3276720"/>
              <a:ext cx="3243600" cy="3209760"/>
            </a:xfrm>
            <a:prstGeom prst="rect">
              <a:avLst/>
            </a:prstGeom>
            <a:solidFill>
              <a:schemeClr val="tx1"/>
            </a:solidFill>
            <a:ln w="285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>
              <a:off x="2666880" y="4924440"/>
              <a:ext cx="3305160" cy="36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9" name="Line 8"/>
            <p:cNvSpPr/>
            <p:nvPr/>
          </p:nvSpPr>
          <p:spPr>
            <a:xfrm>
              <a:off x="4319280" y="3288960"/>
              <a:ext cx="360" cy="321012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40" name="Picture 9" descr="zai的拼音"/>
          <p:cNvPicPr/>
          <p:nvPr/>
        </p:nvPicPr>
        <p:blipFill>
          <a:blip r:embed="rId2"/>
          <a:stretch/>
        </p:blipFill>
        <p:spPr>
          <a:xfrm>
            <a:off x="2819520" y="1143000"/>
            <a:ext cx="3047760" cy="2123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6765120" y="45720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再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6765840" y="54244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再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再1"/>
          <p:cNvPicPr/>
          <p:nvPr/>
        </p:nvPicPr>
        <p:blipFill>
          <a:blip r:embed="rId3"/>
          <a:stretch/>
        </p:blipFill>
        <p:spPr>
          <a:xfrm>
            <a:off x="2819520" y="3295800"/>
            <a:ext cx="3200040" cy="2989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再2"/>
          <p:cNvPicPr/>
          <p:nvPr/>
        </p:nvPicPr>
        <p:blipFill>
          <a:blip r:embed="rId4"/>
          <a:stretch/>
        </p:blipFill>
        <p:spPr>
          <a:xfrm>
            <a:off x="2819520" y="3295800"/>
            <a:ext cx="3200040" cy="298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再3"/>
          <p:cNvPicPr/>
          <p:nvPr/>
        </p:nvPicPr>
        <p:blipFill>
          <a:blip r:embed="rId5"/>
          <a:stretch/>
        </p:blipFill>
        <p:spPr>
          <a:xfrm>
            <a:off x="2819520" y="3295800"/>
            <a:ext cx="3200040" cy="29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5" descr="再4"/>
          <p:cNvPicPr/>
          <p:nvPr/>
        </p:nvPicPr>
        <p:blipFill>
          <a:blip r:embed="rId6"/>
          <a:stretch/>
        </p:blipFill>
        <p:spPr>
          <a:xfrm>
            <a:off x="2819520" y="3295800"/>
            <a:ext cx="3200040" cy="298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再5"/>
          <p:cNvPicPr/>
          <p:nvPr/>
        </p:nvPicPr>
        <p:blipFill>
          <a:blip r:embed="rId7"/>
          <a:stretch/>
        </p:blipFill>
        <p:spPr>
          <a:xfrm>
            <a:off x="2819520" y="3295800"/>
            <a:ext cx="3200040" cy="29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再6"/>
          <p:cNvPicPr/>
          <p:nvPr/>
        </p:nvPicPr>
        <p:blipFill>
          <a:blip r:embed="rId8"/>
          <a:stretch/>
        </p:blipFill>
        <p:spPr>
          <a:xfrm>
            <a:off x="2819520" y="3295800"/>
            <a:ext cx="3200040" cy="29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457200" y="1447920"/>
            <a:ext cx="8152920" cy="54097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4647960" y="3429000"/>
            <a:ext cx="2590920" cy="2350800"/>
            <a:chOff x="4647960" y="3429000"/>
            <a:chExt cx="2590920" cy="2350800"/>
          </a:xfrm>
        </p:grpSpPr>
        <p:sp>
          <p:nvSpPr>
            <p:cNvPr id="252" name="Rectangle 5"/>
            <p:cNvSpPr/>
            <p:nvPr/>
          </p:nvSpPr>
          <p:spPr>
            <a:xfrm>
              <a:off x="4666320" y="3429000"/>
              <a:ext cx="2542320" cy="2341440"/>
            </a:xfrm>
            <a:prstGeom prst="rect">
              <a:avLst/>
            </a:prstGeom>
            <a:solidFill>
              <a:schemeClr val="tx1"/>
            </a:solidFill>
            <a:ln w="285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>
              <a:off x="4647960" y="4631040"/>
              <a:ext cx="2590920" cy="36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5943600" y="3438000"/>
              <a:ext cx="360" cy="234180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4724280" y="3290760"/>
            <a:ext cx="30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188320" y="1743120"/>
            <a:ext cx="52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4"/>
          <p:cNvGrpSpPr/>
          <p:nvPr/>
        </p:nvGrpSpPr>
        <p:grpSpPr>
          <a:xfrm>
            <a:off x="838080" y="3429000"/>
            <a:ext cx="2666880" cy="2374560"/>
            <a:chOff x="838080" y="3429000"/>
            <a:chExt cx="2666880" cy="2374560"/>
          </a:xfrm>
        </p:grpSpPr>
        <p:sp>
          <p:nvSpPr>
            <p:cNvPr id="258" name="Rectangle 15"/>
            <p:cNvSpPr/>
            <p:nvPr/>
          </p:nvSpPr>
          <p:spPr>
            <a:xfrm>
              <a:off x="856800" y="3429000"/>
              <a:ext cx="2617200" cy="2365200"/>
            </a:xfrm>
            <a:prstGeom prst="rect">
              <a:avLst/>
            </a:prstGeom>
            <a:solidFill>
              <a:schemeClr val="tx1"/>
            </a:solidFill>
            <a:ln w="285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838080" y="4643280"/>
              <a:ext cx="2666880" cy="36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>
              <a:off x="2171520" y="3438000"/>
              <a:ext cx="360" cy="236556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61" name="Text Box 18"/>
          <p:cNvSpPr/>
          <p:nvPr/>
        </p:nvSpPr>
        <p:spPr>
          <a:xfrm>
            <a:off x="1914840" y="31240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1852560" y="164448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990720" y="1295280"/>
            <a:ext cx="7210080" cy="525744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168080" y="29718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581000" y="1447920"/>
            <a:ext cx="54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6324480" y="50292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494"/>
                                    </p:cond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"/>
          <p:cNvSpPr/>
          <p:nvPr/>
        </p:nvSpPr>
        <p:spPr>
          <a:xfrm>
            <a:off x="990720" y="1371600"/>
            <a:ext cx="7238520" cy="548604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700000" y="3716280"/>
            <a:ext cx="3353040" cy="2917800"/>
            <a:chOff x="2700000" y="3716280"/>
            <a:chExt cx="3353040" cy="2917800"/>
          </a:xfrm>
        </p:grpSpPr>
        <p:sp>
          <p:nvSpPr>
            <p:cNvPr id="271" name="Rectangle 5"/>
            <p:cNvSpPr/>
            <p:nvPr/>
          </p:nvSpPr>
          <p:spPr>
            <a:xfrm>
              <a:off x="2723760" y="3716280"/>
              <a:ext cx="3290400" cy="2905920"/>
            </a:xfrm>
            <a:prstGeom prst="rect">
              <a:avLst/>
            </a:prstGeom>
            <a:solidFill>
              <a:schemeClr val="tx1"/>
            </a:solidFill>
            <a:ln w="285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华文宋体"/>
                <a:ea typeface="华文宋体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2700000" y="5208120"/>
              <a:ext cx="3353040" cy="36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4376520" y="3727440"/>
              <a:ext cx="360" cy="290664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74" name="Text Box 8"/>
          <p:cNvSpPr/>
          <p:nvPr/>
        </p:nvSpPr>
        <p:spPr>
          <a:xfrm>
            <a:off x="3581280" y="2286000"/>
            <a:ext cx="182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419640" y="4437000"/>
            <a:ext cx="223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1066680" y="1447920"/>
            <a:ext cx="7110000" cy="54097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2555640" y="3860640"/>
            <a:ext cx="3276720" cy="2689200"/>
            <a:chOff x="2555640" y="3860640"/>
            <a:chExt cx="3276720" cy="2689200"/>
          </a:xfrm>
        </p:grpSpPr>
        <p:sp>
          <p:nvSpPr>
            <p:cNvPr id="279" name="Rectangle 5"/>
            <p:cNvSpPr/>
            <p:nvPr/>
          </p:nvSpPr>
          <p:spPr>
            <a:xfrm>
              <a:off x="2578680" y="3860640"/>
              <a:ext cx="3215520" cy="2678400"/>
            </a:xfrm>
            <a:prstGeom prst="rect">
              <a:avLst/>
            </a:prstGeom>
            <a:solidFill>
              <a:schemeClr val="tx1"/>
            </a:solidFill>
            <a:ln w="285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0" name="Line 6"/>
            <p:cNvSpPr/>
            <p:nvPr/>
          </p:nvSpPr>
          <p:spPr>
            <a:xfrm>
              <a:off x="2555640" y="5235840"/>
              <a:ext cx="3276720" cy="36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1" name="Line 7"/>
            <p:cNvSpPr/>
            <p:nvPr/>
          </p:nvSpPr>
          <p:spPr>
            <a:xfrm>
              <a:off x="4194000" y="3871080"/>
              <a:ext cx="360" cy="267876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82" name="Text Box 8"/>
          <p:cNvSpPr/>
          <p:nvPr/>
        </p:nvSpPr>
        <p:spPr>
          <a:xfrm>
            <a:off x="2916360" y="177336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2556000" y="400536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3"/>
          <p:cNvSpPr/>
          <p:nvPr/>
        </p:nvSpPr>
        <p:spPr>
          <a:xfrm>
            <a:off x="1066680" y="1371600"/>
            <a:ext cx="7057800" cy="533376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971800" y="3276720"/>
            <a:ext cx="3305160" cy="3222360"/>
            <a:chOff x="2971800" y="3276720"/>
            <a:chExt cx="3305160" cy="3222360"/>
          </a:xfrm>
        </p:grpSpPr>
        <p:sp>
          <p:nvSpPr>
            <p:cNvPr id="287" name="Rectangle 5"/>
            <p:cNvSpPr/>
            <p:nvPr/>
          </p:nvSpPr>
          <p:spPr>
            <a:xfrm>
              <a:off x="2994840" y="3276720"/>
              <a:ext cx="3243600" cy="3209760"/>
            </a:xfrm>
            <a:prstGeom prst="rect">
              <a:avLst/>
            </a:prstGeom>
            <a:solidFill>
              <a:schemeClr val="tx1"/>
            </a:solidFill>
            <a:ln w="2857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971800" y="4924440"/>
              <a:ext cx="3305160" cy="36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4624200" y="3288960"/>
              <a:ext cx="360" cy="3210120"/>
            </a:xfrm>
            <a:prstGeom prst="line">
              <a:avLst/>
            </a:prstGeom>
            <a:ln w="28575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90" name="Text Box 8"/>
          <p:cNvSpPr/>
          <p:nvPr/>
        </p:nvSpPr>
        <p:spPr>
          <a:xfrm>
            <a:off x="3733920" y="1676520"/>
            <a:ext cx="3358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4500720" y="3284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4"/>
          <p:cNvSpPr/>
          <p:nvPr/>
        </p:nvSpPr>
        <p:spPr>
          <a:xfrm>
            <a:off x="611280" y="692280"/>
            <a:ext cx="2015640" cy="649080"/>
          </a:xfrm>
          <a:prstGeom prst="cloudCallout">
            <a:avLst>
              <a:gd name="adj1" fmla="val -44644"/>
              <a:gd name="adj2" fmla="val 109903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色欣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324000" y="260280"/>
            <a:ext cx="2015640" cy="649080"/>
          </a:xfrm>
          <a:prstGeom prst="cloudCallout">
            <a:avLst>
              <a:gd name="adj1" fmla="val -44644"/>
              <a:gd name="adj2" fmla="val 109903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色欣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2008080723374697069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4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325725preview4"/>
          <p:cNvPicPr/>
          <p:nvPr/>
        </p:nvPicPr>
        <p:blipFill>
          <a:blip r:embed="rId2"/>
          <a:stretch/>
        </p:blipFill>
        <p:spPr>
          <a:xfrm>
            <a:off x="304920" y="0"/>
            <a:ext cx="8838720" cy="662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732084"/>
          <p:cNvPicPr/>
          <p:nvPr/>
        </p:nvPicPr>
        <p:blipFill>
          <a:blip r:embed="rId3"/>
          <a:stretch/>
        </p:blipFill>
        <p:spPr>
          <a:xfrm>
            <a:off x="-298440" y="0"/>
            <a:ext cx="9442080" cy="685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732084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6073642-"/>
          <p:cNvPicPr/>
          <p:nvPr/>
        </p:nvPicPr>
        <p:blipFill>
          <a:blip r:embed="rId1"/>
          <a:stretch/>
        </p:blipFill>
        <p:spPr>
          <a:xfrm>
            <a:off x="-298440" y="-222120"/>
            <a:ext cx="9747000" cy="730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24701280124891125"/>
          <p:cNvPicPr/>
          <p:nvPr/>
        </p:nvPicPr>
        <p:blipFill>
          <a:blip r:embed="rId2"/>
          <a:stretch/>
        </p:blipFill>
        <p:spPr>
          <a:xfrm>
            <a:off x="-374760" y="-450720"/>
            <a:ext cx="9822960" cy="76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64008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10314_1"/>
          <p:cNvPicPr/>
          <p:nvPr/>
        </p:nvPicPr>
        <p:blipFill>
          <a:blip r:embed="rId5"/>
          <a:stretch/>
        </p:blipFill>
        <p:spPr>
          <a:xfrm>
            <a:off x="-603360" y="0"/>
            <a:ext cx="10356480" cy="70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6073642-"/>
          <p:cNvPicPr/>
          <p:nvPr/>
        </p:nvPicPr>
        <p:blipFill>
          <a:blip r:embed="rId1"/>
          <a:stretch/>
        </p:blipFill>
        <p:spPr>
          <a:xfrm>
            <a:off x="-298440" y="-222120"/>
            <a:ext cx="9747000" cy="73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公司入职培训_2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公司入职培训_2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主题45</Template>
  <TotalTime>348</TotalTime>
  <Application>LibreOffice/7.4.7.2$Linux_X86_64 LibreOffice_project/40$Build-2</Application>
  <AppVersion>15.0000</AppVersion>
  <Words>1493</Words>
  <Paragraphs>2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3:32:02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8-09-18T00:58:33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36</vt:r8>
  </property>
</Properties>
</file>