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11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50.jpeg" ContentType="image/jpeg"/>
  <Override PartName="/ppt/media/image52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61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4.png" ContentType="image/png"/>
  <Override PartName="/ppt/media/image60.jpeg" ContentType="image/jpeg"/>
  <Override PartName="/ppt/media/image30.png" ContentType="image/png"/>
  <Override PartName="/ppt/media/image26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7.jpeg" ContentType="image/jpeg"/>
  <Override PartName="/ppt/media/image17.wmf" ContentType="image/x-wmf"/>
  <Override PartName="/ppt/media/image38.jpeg" ContentType="image/jpeg"/>
  <Override PartName="/ppt/media/image43.jpeg" ContentType="image/jpeg"/>
  <Override PartName="/ppt/media/image28.png" ContentType="image/png"/>
  <Override PartName="/ppt/media/image65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63.jpeg" ContentType="image/jpeg"/>
  <Override PartName="/ppt/media/image29.png" ContentType="image/png"/>
  <Override PartName="/ppt/media/image9.jpeg" ContentType="image/jpeg"/>
  <Override PartName="/ppt/media/image36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37.jpeg" ContentType="image/jpeg"/>
  <Override PartName="/ppt/media/image20.png" ContentType="image/png"/>
  <Override PartName="/ppt/media/image31.png" ContentType="image/png"/>
  <Override PartName="/ppt/media/image32.jpeg" ContentType="image/jpeg"/>
  <Override PartName="/ppt/media/image33.jpeg" ContentType="image/jpeg"/>
  <Override PartName="/ppt/media/image41.jpeg" ContentType="image/jpeg"/>
  <Override PartName="/ppt/media/image54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51.png" ContentType="image/png"/>
  <Override PartName="/ppt/media/image23.png" ContentType="image/pn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A52AD9-BACA-4E8D-9A5C-274C0503A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25.xml"/><Relationship Id="rId24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EAF3F9-B2C2-4430-9F29-8E487F4F7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D5F2FA-B626-4468-9E44-1E5132577A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290172-1E45-4386-8CF5-D68BC424B3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5EFB84-0B1F-4903-93B5-966DEA7C7C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225AF-5909-47BB-B50D-E307A52F87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ACBDD8-5E37-4C36-8A6A-FBBAA009FB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CCF99E-F287-45B3-A27D-B905E022CA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F2467-92D1-4185-BB3D-0BFBE11BE0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0FFC9-A04C-4FBD-8901-E658A3369F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7191C-B3FE-4AA0-A74F-951A86D689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F7F1EC-FB5F-40D6-87C4-C56FBC85B2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9FE486-4D8D-4FFC-9A59-EFEE85E80A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3F4370-79B3-4C82-894F-45B0E0D029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551CA-1BDB-484D-8A3A-DD2F1ACBEF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5A9EA0-753A-4725-BB2F-8213633D2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91918D-D0AC-43F3-BDD8-2FA4A525BD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319669-9F72-4375-9C17-30901687A2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442BB9-CF6E-4442-B3DD-CDBC5E535D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3D199B-EC6E-4757-875D-E7D7A869F6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C3B7C7-510B-4476-B115-527E015F67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931E17-65E5-400A-A0FB-7C45565D39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273BA-8572-4777-80AD-3269A1462B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6E462A-64B5-410E-9038-0C34E583C2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1AD891-15DB-46EE-BBCA-639E2DF67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EE825-7DAC-43E3-9863-9400BA5806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72D185-9EAD-4CEA-8E2C-40F25ECF46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B5EC26-41AA-428A-9BF5-1377196F2B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6C3AE1-0AE1-4AB0-88D8-B3ED33D134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E32-F5E3-4CC1-A2AD-996A773A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288-0266-450B-80F3-5B05AE7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A14-12A2-4F98-9652-A309ABE8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BE6-AFDD-406D-892C-993597C6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B1A8-10F9-40E2-88C0-14927A94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D58E-B319-4416-9471-D365467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8E66-25AC-497D-B0E7-BDC4C3E6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7DFA-5057-4626-920F-AD3F154E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8CE-7AF3-40AA-A3B4-E0CF7C5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CCE1-7F1E-44B1-A1C1-53E627C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992C-9C3B-44C8-ABAC-16AD585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665-DAC8-46CE-BCAF-66BFEA0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A488-64FF-4D47-9D60-07AB005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2F50-8046-4C2C-8CDF-0797476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D37C-E87C-4186-BE65-F7F828A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BD96-440D-4E67-A288-665554B1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4781-F1F3-41F1-B3CD-5CC4ECBE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521B-3B61-430D-BB32-330F2234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8BC8-71D3-4C53-AC9A-0407955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8946-8272-4654-B54E-1FCA9E5D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0565-48F5-418E-B3F2-29201600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8170-21A6-40B4-A369-F6B53EB4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E75-074C-445B-80E6-92525C49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A0E0-C8DC-4134-A51C-EA4B056A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53C4-4142-4101-BED1-D18F6D3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25EE-53F2-46E5-B337-7B85336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CB9E-2004-4850-A712-BE8D4E1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6527-0433-4DD2-8546-53245563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340E-54F5-46A6-8DBA-0306EB07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2F6B-F58B-4C22-89D2-9D511C88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EA2-CB8C-4999-A23E-8FF6CA4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250-9A7D-4DD1-980E-E7DB855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849-1254-4D5D-A1D5-4608EFA8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E56-EC0D-499C-8E41-6BA1BF1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B93-86F9-42B4-B276-C97FC23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E7E-A014-44DD-BC13-E5265797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400" y="6356520"/>
            <a:ext cx="3084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97AD61-EE06-4067-B304-ABE2F4797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16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400" y="6356520"/>
            <a:ext cx="3084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D5660-8C70-41DB-AD69-D4032D527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16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29400" y="6356520"/>
            <a:ext cx="3084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86F2DD-1673-43C4-AC6F-1530966B3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0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http://pic2.ooopic.com/12/48/70/37bOOOPIC2a_1024.jpg"/>
          <p:cNvPicPr/>
          <p:nvPr/>
        </p:nvPicPr>
        <p:blipFill>
          <a:blip r:embed="rId1"/>
          <a:stretch/>
        </p:blipFill>
        <p:spPr>
          <a:xfrm>
            <a:off x="0" y="0"/>
            <a:ext cx="4947480" cy="3932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8"/>
          <p:cNvSpPr/>
          <p:nvPr/>
        </p:nvSpPr>
        <p:spPr>
          <a:xfrm>
            <a:off x="4927320" y="4581000"/>
            <a:ext cx="196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西师大版小学语文三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8"/>
          <p:cNvSpPr/>
          <p:nvPr/>
        </p:nvSpPr>
        <p:spPr>
          <a:xfrm>
            <a:off x="6410880" y="2637360"/>
            <a:ext cx="592560" cy="363960"/>
          </a:xfrm>
          <a:prstGeom prst="rect">
            <a:avLst/>
          </a:prstGeom>
          <a:noFill/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2"/>
          <p:cNvSpPr/>
          <p:nvPr/>
        </p:nvSpPr>
        <p:spPr>
          <a:xfrm>
            <a:off x="3286800" y="2457360"/>
            <a:ext cx="1724040" cy="1655280"/>
          </a:xfrm>
          <a:prstGeom prst="diamond">
            <a:avLst/>
          </a:prstGeom>
          <a:solidFill>
            <a:srgbClr val="a5a5a5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ffffff"/>
              </a:solidFill>
              <a:latin typeface="方正卡通简体"/>
              <a:ea typeface="方正卡通简体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3942360" y="2723400"/>
            <a:ext cx="412560" cy="363960"/>
          </a:xfrm>
          <a:prstGeom prst="rect">
            <a:avLst/>
          </a:prstGeom>
          <a:noFill/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0" y="566100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154800" y="4862520"/>
            <a:ext cx="1892880" cy="1736280"/>
            <a:chOff x="154800" y="4862520"/>
            <a:chExt cx="1892880" cy="1736280"/>
          </a:xfrm>
        </p:grpSpPr>
        <p:sp>
          <p:nvSpPr>
            <p:cNvPr id="289" name="椭圆 29"/>
            <p:cNvSpPr/>
            <p:nvPr/>
          </p:nvSpPr>
          <p:spPr>
            <a:xfrm>
              <a:off x="154800" y="5881680"/>
              <a:ext cx="1892880" cy="717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2f2f2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0" name="图片 30" descr=""/>
            <p:cNvPicPr/>
            <p:nvPr/>
          </p:nvPicPr>
          <p:blipFill>
            <a:blip r:embed="rId1"/>
            <a:stretch/>
          </p:blipFill>
          <p:spPr>
            <a:xfrm>
              <a:off x="255960" y="5956560"/>
              <a:ext cx="173736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Freeform 5619"/>
            <p:cNvSpPr/>
            <p:nvPr/>
          </p:nvSpPr>
          <p:spPr>
            <a:xfrm>
              <a:off x="630000" y="5451480"/>
              <a:ext cx="187920" cy="9525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151" h="690">
                  <a:moveTo>
                    <a:pt x="147" y="690"/>
                  </a:moveTo>
                  <a:lnTo>
                    <a:pt x="13" y="389"/>
                  </a:lnTo>
                  <a:lnTo>
                    <a:pt x="0" y="0"/>
                  </a:lnTo>
                  <a:lnTo>
                    <a:pt x="151" y="241"/>
                  </a:lnTo>
                  <a:lnTo>
                    <a:pt x="147" y="69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92" name="Freeform 5627"/>
            <p:cNvSpPr/>
            <p:nvPr/>
          </p:nvSpPr>
          <p:spPr>
            <a:xfrm>
              <a:off x="585000" y="5172120"/>
              <a:ext cx="705240" cy="290880"/>
            </a:xfrm>
            <a:custGeom>
              <a:avLst/>
              <a:gdLst>
                <a:gd name="textAreaLeft" fmla="*/ 0 w 705240"/>
                <a:gd name="textAreaRight" fmla="*/ 705600 w 70524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566" h="211">
                  <a:moveTo>
                    <a:pt x="52" y="211"/>
                  </a:moveTo>
                  <a:lnTo>
                    <a:pt x="0" y="41"/>
                  </a:lnTo>
                  <a:lnTo>
                    <a:pt x="485" y="0"/>
                  </a:lnTo>
                  <a:lnTo>
                    <a:pt x="566" y="155"/>
                  </a:lnTo>
                  <a:lnTo>
                    <a:pt x="52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93" name="Freeform 5631"/>
            <p:cNvSpPr/>
            <p:nvPr/>
          </p:nvSpPr>
          <p:spPr>
            <a:xfrm>
              <a:off x="1280880" y="5230440"/>
              <a:ext cx="676440" cy="4374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543" h="317">
                  <a:moveTo>
                    <a:pt x="0" y="109"/>
                  </a:moveTo>
                  <a:lnTo>
                    <a:pt x="230" y="0"/>
                  </a:lnTo>
                  <a:lnTo>
                    <a:pt x="543" y="182"/>
                  </a:lnTo>
                  <a:lnTo>
                    <a:pt x="264" y="31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94" name="Freeform 5619"/>
            <p:cNvSpPr/>
            <p:nvPr/>
          </p:nvSpPr>
          <p:spPr>
            <a:xfrm>
              <a:off x="635760" y="5472000"/>
              <a:ext cx="187920" cy="9522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51" h="690">
                  <a:moveTo>
                    <a:pt x="147" y="690"/>
                  </a:moveTo>
                  <a:lnTo>
                    <a:pt x="13" y="389"/>
                  </a:lnTo>
                  <a:lnTo>
                    <a:pt x="0" y="0"/>
                  </a:lnTo>
                  <a:lnTo>
                    <a:pt x="151" y="241"/>
                  </a:lnTo>
                  <a:lnTo>
                    <a:pt x="147" y="690"/>
                  </a:lnTo>
                  <a:close/>
                </a:path>
              </a:pathLst>
            </a:custGeom>
            <a:gradFill rotWithShape="0">
              <a:gsLst>
                <a:gs pos="0">
                  <a:srgbClr val="a6a6a6">
                    <a:alpha val="50196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a6a6a6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95" name="Freeform 5623"/>
            <p:cNvSpPr/>
            <p:nvPr/>
          </p:nvSpPr>
          <p:spPr>
            <a:xfrm>
              <a:off x="299520" y="5357880"/>
              <a:ext cx="532080" cy="44028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178" h="132">
                  <a:moveTo>
                    <a:pt x="178" y="131"/>
                  </a:moveTo>
                  <a:cubicBezTo>
                    <a:pt x="119" y="30"/>
                    <a:pt x="119" y="30"/>
                    <a:pt x="119" y="3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1" y="98"/>
                    <a:pt x="176" y="130"/>
                    <a:pt x="177" y="131"/>
                  </a:cubicBezTo>
                  <a:cubicBezTo>
                    <a:pt x="178" y="131"/>
                    <a:pt x="178" y="132"/>
                    <a:pt x="178" y="132"/>
                  </a:cubicBezTo>
                  <a:lnTo>
                    <a:pt x="17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296" name="Group 5788"/>
            <p:cNvGrpSpPr/>
            <p:nvPr/>
          </p:nvGrpSpPr>
          <p:grpSpPr>
            <a:xfrm>
              <a:off x="644400" y="5749200"/>
              <a:ext cx="172800" cy="653040"/>
              <a:chOff x="644400" y="5749200"/>
              <a:chExt cx="172800" cy="653040"/>
            </a:xfrm>
          </p:grpSpPr>
          <p:sp>
            <p:nvSpPr>
              <p:cNvPr id="297" name="Freeform 5789"/>
              <p:cNvSpPr/>
              <p:nvPr/>
            </p:nvSpPr>
            <p:spPr>
              <a:xfrm>
                <a:off x="644400" y="5749200"/>
                <a:ext cx="172800" cy="6530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53040"/>
                  <a:gd name="textAreaBottom" fmla="*/ 653400 h 653040"/>
                </a:gdLst>
                <a:ahLst/>
                <a:rect l="textAreaLeft" t="textAreaTop" r="textAreaRight" b="textAreaBottom"/>
                <a:pathLst>
                  <a:path w="139" h="474">
                    <a:moveTo>
                      <a:pt x="0" y="0"/>
                    </a:moveTo>
                    <a:lnTo>
                      <a:pt x="5" y="175"/>
                    </a:lnTo>
                    <a:lnTo>
                      <a:pt x="139" y="474"/>
                    </a:lnTo>
                    <a:lnTo>
                      <a:pt x="139" y="2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>
                      <a:alpha val="3215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98" name="Freeform 5790"/>
              <p:cNvSpPr/>
              <p:nvPr/>
            </p:nvSpPr>
            <p:spPr>
              <a:xfrm>
                <a:off x="644400" y="5749200"/>
                <a:ext cx="172800" cy="6530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53040"/>
                  <a:gd name="textAreaBottom" fmla="*/ 653400 h 653040"/>
                </a:gdLst>
                <a:ahLst/>
                <a:rect l="textAreaLeft" t="textAreaTop" r="textAreaRight" b="textAreaBottom"/>
                <a:pathLst>
                  <a:path w="139" h="474">
                    <a:moveTo>
                      <a:pt x="0" y="0"/>
                    </a:moveTo>
                    <a:lnTo>
                      <a:pt x="5" y="175"/>
                    </a:lnTo>
                    <a:lnTo>
                      <a:pt x="139" y="474"/>
                    </a:lnTo>
                    <a:lnTo>
                      <a:pt x="139" y="2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6a6a6">
                      <a:alpha val="3215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299" name="Group 5638"/>
            <p:cNvGrpSpPr/>
            <p:nvPr/>
          </p:nvGrpSpPr>
          <p:grpSpPr>
            <a:xfrm>
              <a:off x="652680" y="5382720"/>
              <a:ext cx="961920" cy="416520"/>
              <a:chOff x="652680" y="5382720"/>
              <a:chExt cx="961920" cy="416520"/>
            </a:xfrm>
          </p:grpSpPr>
          <p:sp>
            <p:nvSpPr>
              <p:cNvPr id="300" name="Freeform 5639"/>
              <p:cNvSpPr/>
              <p:nvPr/>
            </p:nvSpPr>
            <p:spPr>
              <a:xfrm>
                <a:off x="652680" y="5382720"/>
                <a:ext cx="961920" cy="416520"/>
              </a:xfrm>
              <a:custGeom>
                <a:avLst/>
                <a:gdLst>
                  <a:gd name="textAreaLeft" fmla="*/ 0 w 961920"/>
                  <a:gd name="textAreaRight" fmla="*/ 962280 w 96192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772" h="302">
                    <a:moveTo>
                      <a:pt x="510" y="0"/>
                    </a:moveTo>
                    <a:lnTo>
                      <a:pt x="0" y="56"/>
                    </a:lnTo>
                    <a:lnTo>
                      <a:pt x="141" y="302"/>
                    </a:lnTo>
                    <a:lnTo>
                      <a:pt x="772" y="208"/>
                    </a:lnTo>
                    <a:lnTo>
                      <a:pt x="51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01" name="Freeform 5640"/>
              <p:cNvSpPr/>
              <p:nvPr/>
            </p:nvSpPr>
            <p:spPr>
              <a:xfrm>
                <a:off x="652680" y="5382720"/>
                <a:ext cx="961920" cy="416520"/>
              </a:xfrm>
              <a:custGeom>
                <a:avLst/>
                <a:gdLst>
                  <a:gd name="textAreaLeft" fmla="*/ 0 w 961920"/>
                  <a:gd name="textAreaRight" fmla="*/ 962280 w 96192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772" h="302">
                    <a:moveTo>
                      <a:pt x="510" y="0"/>
                    </a:moveTo>
                    <a:lnTo>
                      <a:pt x="0" y="56"/>
                    </a:lnTo>
                    <a:lnTo>
                      <a:pt x="141" y="302"/>
                    </a:lnTo>
                    <a:lnTo>
                      <a:pt x="772" y="208"/>
                    </a:lnTo>
                    <a:lnTo>
                      <a:pt x="510" y="0"/>
                    </a:lnTo>
                  </a:path>
                </a:pathLst>
              </a:custGeom>
              <a:solidFill>
                <a:schemeClr val="bg1">
                  <a:lumMod val="8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302" name="组合 52"/>
            <p:cNvGrpSpPr/>
            <p:nvPr/>
          </p:nvGrpSpPr>
          <p:grpSpPr>
            <a:xfrm>
              <a:off x="617400" y="5074560"/>
              <a:ext cx="427320" cy="990000"/>
              <a:chOff x="617400" y="5074560"/>
              <a:chExt cx="427320" cy="990000"/>
            </a:xfrm>
          </p:grpSpPr>
          <p:sp>
            <p:nvSpPr>
              <p:cNvPr id="303" name="Freeform 5702"/>
              <p:cNvSpPr/>
              <p:nvPr/>
            </p:nvSpPr>
            <p:spPr>
              <a:xfrm>
                <a:off x="935280" y="5981760"/>
                <a:ext cx="109440" cy="82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04" name="Freeform 5704"/>
              <p:cNvSpPr/>
              <p:nvPr/>
            </p:nvSpPr>
            <p:spPr>
              <a:xfrm>
                <a:off x="617400" y="5074560"/>
                <a:ext cx="149040" cy="299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05" name="Freeform 5715"/>
              <p:cNvSpPr/>
              <p:nvPr/>
            </p:nvSpPr>
            <p:spPr>
              <a:xfrm>
                <a:off x="640080" y="5270040"/>
                <a:ext cx="327960" cy="7624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rgbClr val="e3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06" name="Freeform 5716"/>
              <p:cNvSpPr/>
              <p:nvPr/>
            </p:nvSpPr>
            <p:spPr>
              <a:xfrm>
                <a:off x="712080" y="5232600"/>
                <a:ext cx="319320" cy="7812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rgbClr val="e3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07" name="Freeform 5717"/>
              <p:cNvSpPr/>
              <p:nvPr/>
            </p:nvSpPr>
            <p:spPr>
              <a:xfrm>
                <a:off x="676800" y="5263560"/>
                <a:ext cx="330840" cy="76572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08" name="Freeform 5703"/>
              <p:cNvSpPr/>
              <p:nvPr/>
            </p:nvSpPr>
            <p:spPr>
              <a:xfrm>
                <a:off x="618840" y="507996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309" name="组合 59"/>
            <p:cNvGrpSpPr/>
            <p:nvPr/>
          </p:nvGrpSpPr>
          <p:grpSpPr>
            <a:xfrm>
              <a:off x="739800" y="4886280"/>
              <a:ext cx="560880" cy="1061280"/>
              <a:chOff x="739800" y="4886280"/>
              <a:chExt cx="560880" cy="1061280"/>
            </a:xfrm>
          </p:grpSpPr>
          <p:sp>
            <p:nvSpPr>
              <p:cNvPr id="310" name="Freeform 5702"/>
              <p:cNvSpPr/>
              <p:nvPr/>
            </p:nvSpPr>
            <p:spPr>
              <a:xfrm rot="781200">
                <a:off x="1027800" y="5853240"/>
                <a:ext cx="109440" cy="82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1" name="Freeform 5704"/>
              <p:cNvSpPr/>
              <p:nvPr/>
            </p:nvSpPr>
            <p:spPr>
              <a:xfrm rot="781200">
                <a:off x="897120" y="4898880"/>
                <a:ext cx="149040" cy="299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2" name="Freeform 5715"/>
              <p:cNvSpPr/>
              <p:nvPr/>
            </p:nvSpPr>
            <p:spPr>
              <a:xfrm rot="781200">
                <a:off x="821160" y="5109120"/>
                <a:ext cx="327960" cy="7624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rgbClr val="018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3" name="Freeform 5716"/>
              <p:cNvSpPr/>
              <p:nvPr/>
            </p:nvSpPr>
            <p:spPr>
              <a:xfrm rot="781200">
                <a:off x="897480" y="5087880"/>
                <a:ext cx="319320" cy="7812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rgbClr val="018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4" name="Freeform 5717"/>
              <p:cNvSpPr/>
              <p:nvPr/>
            </p:nvSpPr>
            <p:spPr>
              <a:xfrm rot="781200">
                <a:off x="857880" y="5111280"/>
                <a:ext cx="330840" cy="76572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rgbClr val="01ac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5" name="Freeform 5703"/>
              <p:cNvSpPr/>
              <p:nvPr/>
            </p:nvSpPr>
            <p:spPr>
              <a:xfrm rot="781200">
                <a:off x="920880" y="489744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316" name="组合 66"/>
            <p:cNvGrpSpPr/>
            <p:nvPr/>
          </p:nvGrpSpPr>
          <p:grpSpPr>
            <a:xfrm>
              <a:off x="914400" y="4862520"/>
              <a:ext cx="723960" cy="1074240"/>
              <a:chOff x="914400" y="4862520"/>
              <a:chExt cx="723960" cy="1074240"/>
            </a:xfrm>
          </p:grpSpPr>
          <p:sp>
            <p:nvSpPr>
              <p:cNvPr id="317" name="Freeform 5702"/>
              <p:cNvSpPr/>
              <p:nvPr/>
            </p:nvSpPr>
            <p:spPr>
              <a:xfrm rot="1701600">
                <a:off x="1171800" y="5832720"/>
                <a:ext cx="109440" cy="82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8" name="Freeform 5704"/>
              <p:cNvSpPr/>
              <p:nvPr/>
            </p:nvSpPr>
            <p:spPr>
              <a:xfrm rot="1701600">
                <a:off x="1269000" y="4879800"/>
                <a:ext cx="149040" cy="299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19" name="Freeform 5715"/>
              <p:cNvSpPr/>
              <p:nvPr/>
            </p:nvSpPr>
            <p:spPr>
              <a:xfrm rot="1701600">
                <a:off x="1075680" y="5077440"/>
                <a:ext cx="327960" cy="7624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rgbClr val="ffa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0" name="Freeform 5716"/>
              <p:cNvSpPr/>
              <p:nvPr/>
            </p:nvSpPr>
            <p:spPr>
              <a:xfrm rot="1701600">
                <a:off x="1152360" y="5075280"/>
                <a:ext cx="319320" cy="7812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rgbClr val="ffa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1" name="Freeform 5717"/>
              <p:cNvSpPr/>
              <p:nvPr/>
            </p:nvSpPr>
            <p:spPr>
              <a:xfrm rot="1701600">
                <a:off x="1109880" y="5089680"/>
                <a:ext cx="330840" cy="76572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rgbClr val="ffb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2" name="Freeform 5703"/>
              <p:cNvSpPr/>
              <p:nvPr/>
            </p:nvSpPr>
            <p:spPr>
              <a:xfrm rot="1701600">
                <a:off x="1319400" y="487548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323" name="组合 73"/>
            <p:cNvGrpSpPr/>
            <p:nvPr/>
          </p:nvGrpSpPr>
          <p:grpSpPr>
            <a:xfrm>
              <a:off x="1034280" y="5154480"/>
              <a:ext cx="830520" cy="945360"/>
              <a:chOff x="1034280" y="5154480"/>
              <a:chExt cx="830520" cy="945360"/>
            </a:xfrm>
          </p:grpSpPr>
          <p:sp>
            <p:nvSpPr>
              <p:cNvPr id="324" name="Freeform 5702"/>
              <p:cNvSpPr/>
              <p:nvPr/>
            </p:nvSpPr>
            <p:spPr>
              <a:xfrm rot="2920200">
                <a:off x="1237320" y="5992560"/>
                <a:ext cx="120960" cy="745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5" name="Freeform 5704"/>
              <p:cNvSpPr/>
              <p:nvPr/>
            </p:nvSpPr>
            <p:spPr>
              <a:xfrm rot="2920200">
                <a:off x="1538640" y="5170320"/>
                <a:ext cx="165240" cy="2703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6" name="Freeform 5715"/>
              <p:cNvSpPr/>
              <p:nvPr/>
            </p:nvSpPr>
            <p:spPr>
              <a:xfrm rot="2920200">
                <a:off x="1231200" y="5307480"/>
                <a:ext cx="361440" cy="68904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chemeClr val="accent4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7" name="Freeform 5716"/>
              <p:cNvSpPr/>
              <p:nvPr/>
            </p:nvSpPr>
            <p:spPr>
              <a:xfrm rot="2920200">
                <a:off x="1305360" y="5337360"/>
                <a:ext cx="353520" cy="70704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707040"/>
                  <a:gd name="textAreaBottom" fmla="*/ 707400 h 70704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chemeClr val="accent4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8" name="Freeform 5717"/>
              <p:cNvSpPr/>
              <p:nvPr/>
            </p:nvSpPr>
            <p:spPr>
              <a:xfrm rot="2920200">
                <a:off x="1261800" y="5334840"/>
                <a:ext cx="364680" cy="691560"/>
              </a:xfrm>
              <a:custGeom>
                <a:avLst/>
                <a:gdLst>
                  <a:gd name="textAreaLeft" fmla="*/ 0 w 364680"/>
                  <a:gd name="textAreaRight" fmla="*/ 365040 w 364680"/>
                  <a:gd name="textAreaTop" fmla="*/ 0 h 691560"/>
                  <a:gd name="textAreaBottom" fmla="*/ 691920 h 69156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chemeClr val="accent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29" name="Freeform 5703"/>
              <p:cNvSpPr/>
              <p:nvPr/>
            </p:nvSpPr>
            <p:spPr>
              <a:xfrm rot="2920200">
                <a:off x="1619280" y="5166720"/>
                <a:ext cx="63360" cy="94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sp>
          <p:nvSpPr>
            <p:cNvPr id="330" name="AutoShape 5699"/>
            <p:cNvSpPr/>
            <p:nvPr/>
          </p:nvSpPr>
          <p:spPr>
            <a:xfrm>
              <a:off x="557640" y="4869000"/>
              <a:ext cx="42912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331" name="组合 81"/>
            <p:cNvGrpSpPr/>
            <p:nvPr/>
          </p:nvGrpSpPr>
          <p:grpSpPr>
            <a:xfrm>
              <a:off x="818280" y="5660640"/>
              <a:ext cx="788040" cy="749160"/>
              <a:chOff x="818280" y="5660640"/>
              <a:chExt cx="788040" cy="749160"/>
            </a:xfrm>
          </p:grpSpPr>
          <p:sp>
            <p:nvSpPr>
              <p:cNvPr id="332" name="Freeform 5615"/>
              <p:cNvSpPr/>
              <p:nvPr/>
            </p:nvSpPr>
            <p:spPr>
              <a:xfrm>
                <a:off x="818280" y="5660640"/>
                <a:ext cx="787320" cy="7466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632" h="541">
                    <a:moveTo>
                      <a:pt x="575" y="435"/>
                    </a:moveTo>
                    <a:lnTo>
                      <a:pt x="0" y="541"/>
                    </a:lnTo>
                    <a:lnTo>
                      <a:pt x="0" y="94"/>
                    </a:lnTo>
                    <a:lnTo>
                      <a:pt x="632" y="0"/>
                    </a:lnTo>
                    <a:lnTo>
                      <a:pt x="575" y="4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33" name="Freeform 5615"/>
              <p:cNvSpPr/>
              <p:nvPr/>
            </p:nvSpPr>
            <p:spPr>
              <a:xfrm>
                <a:off x="818280" y="5663160"/>
                <a:ext cx="787320" cy="7466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632" h="541">
                    <a:moveTo>
                      <a:pt x="575" y="435"/>
                    </a:moveTo>
                    <a:lnTo>
                      <a:pt x="0" y="541"/>
                    </a:lnTo>
                    <a:lnTo>
                      <a:pt x="0" y="94"/>
                    </a:lnTo>
                    <a:lnTo>
                      <a:pt x="632" y="0"/>
                    </a:lnTo>
                    <a:lnTo>
                      <a:pt x="575" y="4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/>
                  </a:gs>
                  <a:gs pos="100000">
                    <a:srgbClr val="ffffff">
                      <a:alpha val="3137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334" name="Freeform 5615"/>
              <p:cNvSpPr/>
              <p:nvPr/>
            </p:nvSpPr>
            <p:spPr>
              <a:xfrm>
                <a:off x="819000" y="5662440"/>
                <a:ext cx="787320" cy="7466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632" h="541">
                    <a:moveTo>
                      <a:pt x="575" y="435"/>
                    </a:moveTo>
                    <a:lnTo>
                      <a:pt x="0" y="541"/>
                    </a:lnTo>
                    <a:lnTo>
                      <a:pt x="0" y="94"/>
                    </a:lnTo>
                    <a:lnTo>
                      <a:pt x="632" y="0"/>
                    </a:lnTo>
                    <a:lnTo>
                      <a:pt x="575" y="4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>
                      <a:alpha val="61176"/>
                    </a:srgbClr>
                  </a:gs>
                  <a:gs pos="100000">
                    <a:srgbClr val="f2f2f2">
                      <a:alpha val="27058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sp>
          <p:nvSpPr>
            <p:cNvPr id="335" name="Freeform 5785"/>
            <p:cNvSpPr/>
            <p:nvPr/>
          </p:nvSpPr>
          <p:spPr>
            <a:xfrm>
              <a:off x="810000" y="5657760"/>
              <a:ext cx="1038960" cy="205200"/>
            </a:xfrm>
            <a:custGeom>
              <a:avLst/>
              <a:gdLst>
                <a:gd name="textAreaLeft" fmla="*/ 0 w 1038960"/>
                <a:gd name="textAreaRight" fmla="*/ 1039320 w 10389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350" h="60">
                  <a:moveTo>
                    <a:pt x="0" y="38"/>
                  </a:moveTo>
                  <a:cubicBezTo>
                    <a:pt x="266" y="0"/>
                    <a:pt x="266" y="0"/>
                    <a:pt x="266" y="0"/>
                  </a:cubicBezTo>
                  <a:cubicBezTo>
                    <a:pt x="350" y="12"/>
                    <a:pt x="350" y="12"/>
                    <a:pt x="350" y="12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37" y="60"/>
                    <a:pt x="2" y="38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22225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graphicFrame>
        <p:nvGraphicFramePr>
          <p:cNvPr id="336" name="Group 12"/>
          <p:cNvGraphicFramePr/>
          <p:nvPr/>
        </p:nvGraphicFramePr>
        <p:xfrm>
          <a:off x="1789920" y="2521080"/>
          <a:ext cx="1764360" cy="2341440"/>
        </p:xfrm>
        <a:graphic>
          <a:graphicData uri="http://schemas.openxmlformats.org/drawingml/2006/table">
            <a:tbl>
              <a:tblPr/>
              <a:tblGrid>
                <a:gridCol w="882360"/>
                <a:gridCol w="882360"/>
              </a:tblGrid>
              <a:tr h="12153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6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TextBox 23"/>
          <p:cNvSpPr/>
          <p:nvPr/>
        </p:nvSpPr>
        <p:spPr>
          <a:xfrm>
            <a:off x="1957680" y="250668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Group 12"/>
          <p:cNvGraphicFramePr/>
          <p:nvPr/>
        </p:nvGraphicFramePr>
        <p:xfrm>
          <a:off x="4187880" y="2544840"/>
          <a:ext cx="1764360" cy="2341440"/>
        </p:xfrm>
        <a:graphic>
          <a:graphicData uri="http://schemas.openxmlformats.org/drawingml/2006/table">
            <a:tbl>
              <a:tblPr/>
              <a:tblGrid>
                <a:gridCol w="882360"/>
                <a:gridCol w="882360"/>
              </a:tblGrid>
              <a:tr h="12153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608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9" name="TextBox 23"/>
          <p:cNvSpPr/>
          <p:nvPr/>
        </p:nvSpPr>
        <p:spPr>
          <a:xfrm>
            <a:off x="4356000" y="25304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4"/>
          <p:cNvSpPr/>
          <p:nvPr/>
        </p:nvSpPr>
        <p:spPr>
          <a:xfrm>
            <a:off x="1849320" y="1352520"/>
            <a:ext cx="19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h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4356000" y="1422360"/>
            <a:ext cx="1851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y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右箭头 2"/>
          <p:cNvSpPr/>
          <p:nvPr/>
        </p:nvSpPr>
        <p:spPr>
          <a:xfrm>
            <a:off x="3653280" y="3638520"/>
            <a:ext cx="486720" cy="437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文本框 9"/>
          <p:cNvSpPr/>
          <p:nvPr/>
        </p:nvSpPr>
        <p:spPr>
          <a:xfrm>
            <a:off x="338040" y="222120"/>
            <a:ext cx="19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易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文本框 14"/>
          <p:cNvSpPr/>
          <p:nvPr/>
        </p:nvSpPr>
        <p:spPr>
          <a:xfrm>
            <a:off x="666720" y="228600"/>
            <a:ext cx="189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直接连接符 10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46" name="直接连接符 11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47" name="直接连接符 12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48" name="直接连接符 13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349" name="图片 15" descr=""/>
          <p:cNvPicPr/>
          <p:nvPr/>
        </p:nvPicPr>
        <p:blipFill>
          <a:blip r:embed="rId1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"/>
          <p:cNvSpPr/>
          <p:nvPr/>
        </p:nvSpPr>
        <p:spPr>
          <a:xfrm>
            <a:off x="1736280" y="1879560"/>
            <a:ext cx="62082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学们在朗读这篇文章时，要用欢快的语气，读出自己对中国结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ighth-note_27352"/>
          <p:cNvSpPr/>
          <p:nvPr/>
        </p:nvSpPr>
        <p:spPr>
          <a:xfrm>
            <a:off x="1106280" y="2030400"/>
            <a:ext cx="327240" cy="707760"/>
          </a:xfrm>
          <a:custGeom>
            <a:avLst/>
            <a:gdLst>
              <a:gd name="textAreaLeft" fmla="*/ 0 w 327240"/>
              <a:gd name="textAreaRight" fmla="*/ 327600 w 32724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2032" h="3312">
                <a:moveTo>
                  <a:pt x="941" y="3189"/>
                </a:moveTo>
                <a:cubicBezTo>
                  <a:pt x="1302" y="3073"/>
                  <a:pt x="1532" y="2771"/>
                  <a:pt x="1474" y="2500"/>
                </a:cubicBezTo>
                <a:cubicBezTo>
                  <a:pt x="1475" y="2485"/>
                  <a:pt x="1473" y="2469"/>
                  <a:pt x="1467" y="2453"/>
                </a:cubicBezTo>
                <a:lnTo>
                  <a:pt x="872" y="919"/>
                </a:lnTo>
                <a:cubicBezTo>
                  <a:pt x="966" y="923"/>
                  <a:pt x="1130" y="950"/>
                  <a:pt x="1364" y="1066"/>
                </a:cubicBezTo>
                <a:cubicBezTo>
                  <a:pt x="1753" y="1259"/>
                  <a:pt x="1922" y="1544"/>
                  <a:pt x="1922" y="1544"/>
                </a:cubicBezTo>
                <a:cubicBezTo>
                  <a:pt x="2032" y="1222"/>
                  <a:pt x="1664" y="854"/>
                  <a:pt x="1407" y="735"/>
                </a:cubicBezTo>
                <a:cubicBezTo>
                  <a:pt x="1228" y="652"/>
                  <a:pt x="865" y="476"/>
                  <a:pt x="662" y="378"/>
                </a:cubicBezTo>
                <a:lnTo>
                  <a:pt x="548" y="85"/>
                </a:lnTo>
                <a:cubicBezTo>
                  <a:pt x="526" y="29"/>
                  <a:pt x="462" y="0"/>
                  <a:pt x="405" y="23"/>
                </a:cubicBezTo>
                <a:cubicBezTo>
                  <a:pt x="349" y="45"/>
                  <a:pt x="320" y="108"/>
                  <a:pt x="342" y="165"/>
                </a:cubicBezTo>
                <a:lnTo>
                  <a:pt x="1116" y="2158"/>
                </a:lnTo>
                <a:cubicBezTo>
                  <a:pt x="968" y="2116"/>
                  <a:pt x="791" y="2118"/>
                  <a:pt x="614" y="2175"/>
                </a:cubicBezTo>
                <a:cubicBezTo>
                  <a:pt x="234" y="2297"/>
                  <a:pt x="0" y="2624"/>
                  <a:pt x="90" y="2904"/>
                </a:cubicBezTo>
                <a:cubicBezTo>
                  <a:pt x="180" y="3184"/>
                  <a:pt x="561" y="3312"/>
                  <a:pt x="941" y="3189"/>
                </a:cubicBezTo>
                <a:close/>
              </a:path>
            </a:pathLst>
          </a:custGeom>
          <a:solidFill>
            <a:srgbClr val="2d29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52" name="demisemiquaver_153783"/>
          <p:cNvSpPr/>
          <p:nvPr/>
        </p:nvSpPr>
        <p:spPr>
          <a:xfrm>
            <a:off x="5639400" y="3787920"/>
            <a:ext cx="270000" cy="360000"/>
          </a:xfrm>
          <a:custGeom>
            <a:avLst/>
            <a:gdLst>
              <a:gd name="textAreaLeft" fmla="*/ 0 w 270000"/>
              <a:gd name="textAreaRight" fmla="*/ 270360 w 27000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4400" h="4406">
                <a:moveTo>
                  <a:pt x="4331" y="55"/>
                </a:moveTo>
                <a:cubicBezTo>
                  <a:pt x="4287" y="17"/>
                  <a:pt x="4229" y="0"/>
                  <a:pt x="4172" y="8"/>
                </a:cubicBezTo>
                <a:lnTo>
                  <a:pt x="1372" y="408"/>
                </a:lnTo>
                <a:cubicBezTo>
                  <a:pt x="1273" y="422"/>
                  <a:pt x="1200" y="506"/>
                  <a:pt x="1200" y="606"/>
                </a:cubicBezTo>
                <a:lnTo>
                  <a:pt x="1200" y="1406"/>
                </a:lnTo>
                <a:lnTo>
                  <a:pt x="1200" y="3038"/>
                </a:lnTo>
                <a:cubicBezTo>
                  <a:pt x="1082" y="2975"/>
                  <a:pt x="946" y="2939"/>
                  <a:pt x="800" y="2939"/>
                </a:cubicBezTo>
                <a:cubicBezTo>
                  <a:pt x="359" y="2939"/>
                  <a:pt x="0" y="3268"/>
                  <a:pt x="0" y="3673"/>
                </a:cubicBezTo>
                <a:cubicBezTo>
                  <a:pt x="0" y="4077"/>
                  <a:pt x="359" y="4406"/>
                  <a:pt x="800" y="4406"/>
                </a:cubicBezTo>
                <a:cubicBezTo>
                  <a:pt x="1241" y="4406"/>
                  <a:pt x="1600" y="4077"/>
                  <a:pt x="1600" y="3673"/>
                </a:cubicBezTo>
                <a:lnTo>
                  <a:pt x="1600" y="1579"/>
                </a:lnTo>
                <a:lnTo>
                  <a:pt x="4000" y="1237"/>
                </a:lnTo>
                <a:lnTo>
                  <a:pt x="4000" y="2705"/>
                </a:lnTo>
                <a:cubicBezTo>
                  <a:pt x="3882" y="2642"/>
                  <a:pt x="3746" y="2606"/>
                  <a:pt x="3600" y="2606"/>
                </a:cubicBezTo>
                <a:cubicBezTo>
                  <a:pt x="3159" y="2606"/>
                  <a:pt x="2800" y="2935"/>
                  <a:pt x="2800" y="3339"/>
                </a:cubicBezTo>
                <a:cubicBezTo>
                  <a:pt x="2800" y="3744"/>
                  <a:pt x="3159" y="4073"/>
                  <a:pt x="3600" y="4073"/>
                </a:cubicBezTo>
                <a:cubicBezTo>
                  <a:pt x="4041" y="4073"/>
                  <a:pt x="4400" y="3744"/>
                  <a:pt x="4400" y="3339"/>
                </a:cubicBezTo>
                <a:lnTo>
                  <a:pt x="4400" y="1006"/>
                </a:lnTo>
                <a:lnTo>
                  <a:pt x="4400" y="206"/>
                </a:lnTo>
                <a:cubicBezTo>
                  <a:pt x="4400" y="148"/>
                  <a:pt x="4375" y="93"/>
                  <a:pt x="4331" y="55"/>
                </a:cubicBezTo>
                <a:close/>
              </a:path>
            </a:pathLst>
          </a:custGeom>
          <a:solidFill>
            <a:srgbClr val="565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53" name="musical-note_20122"/>
          <p:cNvSpPr/>
          <p:nvPr/>
        </p:nvSpPr>
        <p:spPr>
          <a:xfrm>
            <a:off x="534600" y="1454040"/>
            <a:ext cx="309240" cy="707760"/>
          </a:xfrm>
          <a:custGeom>
            <a:avLst/>
            <a:gdLst>
              <a:gd name="textAreaLeft" fmla="*/ 0 w 309240"/>
              <a:gd name="textAreaRight" fmla="*/ 309600 w 30924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3165" h="5424">
                <a:moveTo>
                  <a:pt x="2257" y="248"/>
                </a:moveTo>
                <a:lnTo>
                  <a:pt x="3052" y="1044"/>
                </a:lnTo>
                <a:lnTo>
                  <a:pt x="3165" y="931"/>
                </a:lnTo>
                <a:lnTo>
                  <a:pt x="2234" y="0"/>
                </a:lnTo>
                <a:lnTo>
                  <a:pt x="2098" y="56"/>
                </a:lnTo>
                <a:lnTo>
                  <a:pt x="2098" y="3775"/>
                </a:lnTo>
                <a:cubicBezTo>
                  <a:pt x="1995" y="3686"/>
                  <a:pt x="1848" y="3637"/>
                  <a:pt x="1672" y="3637"/>
                </a:cubicBezTo>
                <a:cubicBezTo>
                  <a:pt x="1401" y="3637"/>
                  <a:pt x="1082" y="3750"/>
                  <a:pt x="797" y="3946"/>
                </a:cubicBezTo>
                <a:cubicBezTo>
                  <a:pt x="251" y="4322"/>
                  <a:pt x="0" y="4874"/>
                  <a:pt x="226" y="5202"/>
                </a:cubicBezTo>
                <a:cubicBezTo>
                  <a:pt x="324" y="5345"/>
                  <a:pt x="503" y="5424"/>
                  <a:pt x="728" y="5424"/>
                </a:cubicBezTo>
                <a:cubicBezTo>
                  <a:pt x="1000" y="5424"/>
                  <a:pt x="1319" y="5311"/>
                  <a:pt x="1603" y="5115"/>
                </a:cubicBezTo>
                <a:cubicBezTo>
                  <a:pt x="2005" y="4838"/>
                  <a:pt x="2247" y="4466"/>
                  <a:pt x="2256" y="4159"/>
                </a:cubicBezTo>
                <a:lnTo>
                  <a:pt x="2257" y="4159"/>
                </a:lnTo>
                <a:lnTo>
                  <a:pt x="2257" y="4151"/>
                </a:lnTo>
                <a:cubicBezTo>
                  <a:pt x="2257" y="4144"/>
                  <a:pt x="2257" y="4137"/>
                  <a:pt x="2257" y="4130"/>
                </a:cubicBezTo>
                <a:lnTo>
                  <a:pt x="2257" y="1179"/>
                </a:lnTo>
                <a:lnTo>
                  <a:pt x="2999" y="1921"/>
                </a:lnTo>
                <a:lnTo>
                  <a:pt x="3111" y="1809"/>
                </a:lnTo>
                <a:lnTo>
                  <a:pt x="2257" y="954"/>
                </a:lnTo>
                <a:lnTo>
                  <a:pt x="2257" y="248"/>
                </a:lnTo>
                <a:close/>
                <a:moveTo>
                  <a:pt x="1513" y="4984"/>
                </a:moveTo>
                <a:cubicBezTo>
                  <a:pt x="1254" y="5162"/>
                  <a:pt x="968" y="5264"/>
                  <a:pt x="728" y="5264"/>
                </a:cubicBezTo>
                <a:cubicBezTo>
                  <a:pt x="557" y="5264"/>
                  <a:pt x="425" y="5210"/>
                  <a:pt x="357" y="5112"/>
                </a:cubicBezTo>
                <a:cubicBezTo>
                  <a:pt x="187" y="4866"/>
                  <a:pt x="431" y="4392"/>
                  <a:pt x="888" y="4077"/>
                </a:cubicBezTo>
                <a:cubicBezTo>
                  <a:pt x="1146" y="3899"/>
                  <a:pt x="1432" y="3797"/>
                  <a:pt x="1672" y="3797"/>
                </a:cubicBezTo>
                <a:cubicBezTo>
                  <a:pt x="1844" y="3797"/>
                  <a:pt x="1976" y="3851"/>
                  <a:pt x="2044" y="3949"/>
                </a:cubicBezTo>
                <a:cubicBezTo>
                  <a:pt x="2213" y="4195"/>
                  <a:pt x="1970" y="4669"/>
                  <a:pt x="1513" y="4984"/>
                </a:cubicBezTo>
                <a:close/>
              </a:path>
            </a:pathLst>
          </a:custGeom>
          <a:solidFill>
            <a:srgbClr val="2d29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54" name="g-clef-musical-note_26274"/>
          <p:cNvSpPr/>
          <p:nvPr/>
        </p:nvSpPr>
        <p:spPr>
          <a:xfrm>
            <a:off x="8421120" y="1743120"/>
            <a:ext cx="218880" cy="707760"/>
          </a:xfrm>
          <a:custGeom>
            <a:avLst/>
            <a:gdLst>
              <a:gd name="textAreaLeft" fmla="*/ 0 w 218880"/>
              <a:gd name="textAreaRight" fmla="*/ 219240 w 21888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2326" h="5649">
                <a:moveTo>
                  <a:pt x="201" y="3652"/>
                </a:moveTo>
                <a:cubicBezTo>
                  <a:pt x="395" y="4137"/>
                  <a:pt x="1190" y="4491"/>
                  <a:pt x="1678" y="4239"/>
                </a:cubicBezTo>
                <a:cubicBezTo>
                  <a:pt x="1859" y="4666"/>
                  <a:pt x="1908" y="5649"/>
                  <a:pt x="949" y="5357"/>
                </a:cubicBezTo>
                <a:cubicBezTo>
                  <a:pt x="947" y="5358"/>
                  <a:pt x="908" y="5342"/>
                  <a:pt x="870" y="5312"/>
                </a:cubicBezTo>
                <a:cubicBezTo>
                  <a:pt x="1085" y="5362"/>
                  <a:pt x="1298" y="5198"/>
                  <a:pt x="1298" y="4971"/>
                </a:cubicBezTo>
                <a:cubicBezTo>
                  <a:pt x="1298" y="4778"/>
                  <a:pt x="1141" y="4621"/>
                  <a:pt x="948" y="4621"/>
                </a:cubicBezTo>
                <a:cubicBezTo>
                  <a:pt x="448" y="4621"/>
                  <a:pt x="503" y="5394"/>
                  <a:pt x="1032" y="5464"/>
                </a:cubicBezTo>
                <a:cubicBezTo>
                  <a:pt x="1251" y="5493"/>
                  <a:pt x="1419" y="5464"/>
                  <a:pt x="1544" y="5396"/>
                </a:cubicBezTo>
                <a:cubicBezTo>
                  <a:pt x="1995" y="5151"/>
                  <a:pt x="1846" y="4617"/>
                  <a:pt x="1748" y="4217"/>
                </a:cubicBezTo>
                <a:cubicBezTo>
                  <a:pt x="1822" y="4166"/>
                  <a:pt x="2173" y="4008"/>
                  <a:pt x="2243" y="3652"/>
                </a:cubicBezTo>
                <a:cubicBezTo>
                  <a:pt x="2326" y="3026"/>
                  <a:pt x="1918" y="2779"/>
                  <a:pt x="1431" y="2828"/>
                </a:cubicBezTo>
                <a:lnTo>
                  <a:pt x="1292" y="2200"/>
                </a:lnTo>
                <a:cubicBezTo>
                  <a:pt x="1448" y="2066"/>
                  <a:pt x="1604" y="1924"/>
                  <a:pt x="1717" y="1751"/>
                </a:cubicBezTo>
                <a:cubicBezTo>
                  <a:pt x="2061" y="1223"/>
                  <a:pt x="1992" y="546"/>
                  <a:pt x="1605" y="49"/>
                </a:cubicBezTo>
                <a:cubicBezTo>
                  <a:pt x="1567" y="0"/>
                  <a:pt x="1500" y="0"/>
                  <a:pt x="1461" y="48"/>
                </a:cubicBezTo>
                <a:cubicBezTo>
                  <a:pt x="1031" y="583"/>
                  <a:pt x="1021" y="1011"/>
                  <a:pt x="1070" y="1346"/>
                </a:cubicBezTo>
                <a:cubicBezTo>
                  <a:pt x="1091" y="1476"/>
                  <a:pt x="1123" y="1604"/>
                  <a:pt x="1139" y="1734"/>
                </a:cubicBezTo>
                <a:cubicBezTo>
                  <a:pt x="1014" y="1844"/>
                  <a:pt x="878" y="1961"/>
                  <a:pt x="748" y="2092"/>
                </a:cubicBezTo>
                <a:cubicBezTo>
                  <a:pt x="359" y="2497"/>
                  <a:pt x="0" y="3067"/>
                  <a:pt x="201" y="3652"/>
                </a:cubicBezTo>
                <a:close/>
                <a:moveTo>
                  <a:pt x="1717" y="4129"/>
                </a:moveTo>
                <a:cubicBezTo>
                  <a:pt x="1641" y="3782"/>
                  <a:pt x="1572" y="3471"/>
                  <a:pt x="1497" y="3129"/>
                </a:cubicBezTo>
                <a:cubicBezTo>
                  <a:pt x="2120" y="3121"/>
                  <a:pt x="2186" y="3853"/>
                  <a:pt x="1717" y="4129"/>
                </a:cubicBezTo>
                <a:close/>
                <a:moveTo>
                  <a:pt x="1321" y="635"/>
                </a:moveTo>
                <a:cubicBezTo>
                  <a:pt x="1392" y="490"/>
                  <a:pt x="1478" y="322"/>
                  <a:pt x="1620" y="358"/>
                </a:cubicBezTo>
                <a:cubicBezTo>
                  <a:pt x="1823" y="409"/>
                  <a:pt x="1870" y="734"/>
                  <a:pt x="1764" y="1019"/>
                </a:cubicBezTo>
                <a:cubicBezTo>
                  <a:pt x="1665" y="1286"/>
                  <a:pt x="1466" y="1446"/>
                  <a:pt x="1423" y="1499"/>
                </a:cubicBezTo>
                <a:cubicBezTo>
                  <a:pt x="1343" y="1599"/>
                  <a:pt x="1262" y="1677"/>
                  <a:pt x="1188" y="1698"/>
                </a:cubicBezTo>
                <a:cubicBezTo>
                  <a:pt x="1146" y="1475"/>
                  <a:pt x="1166" y="953"/>
                  <a:pt x="1321" y="635"/>
                </a:cubicBezTo>
                <a:close/>
                <a:moveTo>
                  <a:pt x="1228" y="2253"/>
                </a:moveTo>
                <a:lnTo>
                  <a:pt x="1355" y="2828"/>
                </a:lnTo>
                <a:cubicBezTo>
                  <a:pt x="838" y="2919"/>
                  <a:pt x="582" y="3618"/>
                  <a:pt x="1077" y="3854"/>
                </a:cubicBezTo>
                <a:cubicBezTo>
                  <a:pt x="1133" y="3881"/>
                  <a:pt x="1139" y="3867"/>
                  <a:pt x="1098" y="3820"/>
                </a:cubicBezTo>
                <a:cubicBezTo>
                  <a:pt x="887" y="3573"/>
                  <a:pt x="1043" y="3150"/>
                  <a:pt x="1422" y="3129"/>
                </a:cubicBezTo>
                <a:cubicBezTo>
                  <a:pt x="1501" y="3487"/>
                  <a:pt x="1571" y="3807"/>
                  <a:pt x="1650" y="4164"/>
                </a:cubicBezTo>
                <a:cubicBezTo>
                  <a:pt x="1184" y="4382"/>
                  <a:pt x="589" y="4194"/>
                  <a:pt x="432" y="3669"/>
                </a:cubicBezTo>
                <a:cubicBezTo>
                  <a:pt x="413" y="3640"/>
                  <a:pt x="411" y="3608"/>
                  <a:pt x="410" y="3574"/>
                </a:cubicBezTo>
                <a:cubicBezTo>
                  <a:pt x="305" y="2931"/>
                  <a:pt x="807" y="2606"/>
                  <a:pt x="1228" y="2253"/>
                </a:cubicBezTo>
                <a:close/>
              </a:path>
            </a:pathLst>
          </a:custGeom>
          <a:solidFill>
            <a:srgbClr val="2d29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55" name="musical-notes-symbols_11178"/>
          <p:cNvSpPr/>
          <p:nvPr/>
        </p:nvSpPr>
        <p:spPr>
          <a:xfrm>
            <a:off x="8226000" y="5516640"/>
            <a:ext cx="391320" cy="709200"/>
          </a:xfrm>
          <a:custGeom>
            <a:avLst/>
            <a:gdLst>
              <a:gd name="textAreaLeft" fmla="*/ 0 w 391320"/>
              <a:gd name="textAreaRight" fmla="*/ 391680 w 39132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216" h="293">
                <a:moveTo>
                  <a:pt x="106" y="117"/>
                </a:moveTo>
                <a:lnTo>
                  <a:pt x="215" y="99"/>
                </a:lnTo>
                <a:lnTo>
                  <a:pt x="215" y="246"/>
                </a:lnTo>
                <a:cubicBezTo>
                  <a:pt x="215" y="259"/>
                  <a:pt x="206" y="268"/>
                  <a:pt x="191" y="272"/>
                </a:cubicBezTo>
                <a:cubicBezTo>
                  <a:pt x="176" y="276"/>
                  <a:pt x="161" y="269"/>
                  <a:pt x="158" y="257"/>
                </a:cubicBezTo>
                <a:cubicBezTo>
                  <a:pt x="155" y="245"/>
                  <a:pt x="165" y="233"/>
                  <a:pt x="181" y="229"/>
                </a:cubicBezTo>
                <a:cubicBezTo>
                  <a:pt x="188" y="227"/>
                  <a:pt x="195" y="227"/>
                  <a:pt x="200" y="229"/>
                </a:cubicBezTo>
                <a:lnTo>
                  <a:pt x="200" y="141"/>
                </a:lnTo>
                <a:lnTo>
                  <a:pt x="121" y="155"/>
                </a:lnTo>
                <a:lnTo>
                  <a:pt x="120" y="266"/>
                </a:lnTo>
                <a:cubicBezTo>
                  <a:pt x="120" y="276"/>
                  <a:pt x="111" y="286"/>
                  <a:pt x="97" y="290"/>
                </a:cubicBezTo>
                <a:cubicBezTo>
                  <a:pt x="82" y="293"/>
                  <a:pt x="66" y="286"/>
                  <a:pt x="64" y="275"/>
                </a:cubicBezTo>
                <a:cubicBezTo>
                  <a:pt x="61" y="263"/>
                  <a:pt x="71" y="251"/>
                  <a:pt x="87" y="247"/>
                </a:cubicBezTo>
                <a:cubicBezTo>
                  <a:pt x="94" y="245"/>
                  <a:pt x="100" y="245"/>
                  <a:pt x="106" y="247"/>
                </a:cubicBezTo>
                <a:lnTo>
                  <a:pt x="106" y="117"/>
                </a:lnTo>
                <a:close/>
                <a:moveTo>
                  <a:pt x="65" y="171"/>
                </a:moveTo>
                <a:lnTo>
                  <a:pt x="66" y="34"/>
                </a:lnTo>
                <a:cubicBezTo>
                  <a:pt x="66" y="34"/>
                  <a:pt x="95" y="33"/>
                  <a:pt x="124" y="78"/>
                </a:cubicBezTo>
                <a:cubicBezTo>
                  <a:pt x="124" y="78"/>
                  <a:pt x="124" y="55"/>
                  <a:pt x="102" y="38"/>
                </a:cubicBezTo>
                <a:cubicBezTo>
                  <a:pt x="58" y="7"/>
                  <a:pt x="59" y="0"/>
                  <a:pt x="59" y="0"/>
                </a:cubicBezTo>
                <a:cubicBezTo>
                  <a:pt x="50" y="1"/>
                  <a:pt x="49" y="7"/>
                  <a:pt x="49" y="7"/>
                </a:cubicBezTo>
                <a:lnTo>
                  <a:pt x="49" y="151"/>
                </a:lnTo>
                <a:cubicBezTo>
                  <a:pt x="43" y="149"/>
                  <a:pt x="36" y="148"/>
                  <a:pt x="28" y="150"/>
                </a:cubicBezTo>
                <a:cubicBezTo>
                  <a:pt x="11" y="154"/>
                  <a:pt x="0" y="168"/>
                  <a:pt x="3" y="181"/>
                </a:cubicBezTo>
                <a:cubicBezTo>
                  <a:pt x="5" y="193"/>
                  <a:pt x="23" y="201"/>
                  <a:pt x="40" y="197"/>
                </a:cubicBezTo>
                <a:cubicBezTo>
                  <a:pt x="55" y="194"/>
                  <a:pt x="65" y="182"/>
                  <a:pt x="65" y="171"/>
                </a:cubicBezTo>
                <a:close/>
                <a:moveTo>
                  <a:pt x="144" y="83"/>
                </a:moveTo>
                <a:cubicBezTo>
                  <a:pt x="149" y="81"/>
                  <a:pt x="153" y="77"/>
                  <a:pt x="153" y="73"/>
                </a:cubicBezTo>
                <a:lnTo>
                  <a:pt x="153" y="26"/>
                </a:lnTo>
                <a:cubicBezTo>
                  <a:pt x="153" y="26"/>
                  <a:pt x="163" y="25"/>
                  <a:pt x="174" y="41"/>
                </a:cubicBezTo>
                <a:cubicBezTo>
                  <a:pt x="174" y="41"/>
                  <a:pt x="174" y="33"/>
                  <a:pt x="166" y="27"/>
                </a:cubicBezTo>
                <a:cubicBezTo>
                  <a:pt x="151" y="17"/>
                  <a:pt x="151" y="14"/>
                  <a:pt x="151" y="14"/>
                </a:cubicBezTo>
                <a:cubicBezTo>
                  <a:pt x="148" y="14"/>
                  <a:pt x="148" y="17"/>
                  <a:pt x="148" y="17"/>
                </a:cubicBezTo>
                <a:lnTo>
                  <a:pt x="148" y="67"/>
                </a:lnTo>
                <a:cubicBezTo>
                  <a:pt x="145" y="66"/>
                  <a:pt x="143" y="66"/>
                  <a:pt x="140" y="66"/>
                </a:cubicBezTo>
                <a:cubicBezTo>
                  <a:pt x="134" y="68"/>
                  <a:pt x="130" y="73"/>
                  <a:pt x="131" y="77"/>
                </a:cubicBezTo>
                <a:cubicBezTo>
                  <a:pt x="132" y="81"/>
                  <a:pt x="138" y="84"/>
                  <a:pt x="144" y="83"/>
                </a:cubicBezTo>
                <a:close/>
                <a:moveTo>
                  <a:pt x="195" y="83"/>
                </a:moveTo>
                <a:cubicBezTo>
                  <a:pt x="199" y="82"/>
                  <a:pt x="202" y="79"/>
                  <a:pt x="202" y="76"/>
                </a:cubicBezTo>
                <a:lnTo>
                  <a:pt x="202" y="43"/>
                </a:lnTo>
                <a:cubicBezTo>
                  <a:pt x="202" y="43"/>
                  <a:pt x="209" y="43"/>
                  <a:pt x="216" y="54"/>
                </a:cubicBezTo>
                <a:cubicBezTo>
                  <a:pt x="216" y="54"/>
                  <a:pt x="216" y="48"/>
                  <a:pt x="210" y="44"/>
                </a:cubicBezTo>
                <a:cubicBezTo>
                  <a:pt x="200" y="37"/>
                  <a:pt x="200" y="35"/>
                  <a:pt x="200" y="35"/>
                </a:cubicBezTo>
                <a:cubicBezTo>
                  <a:pt x="198" y="35"/>
                  <a:pt x="198" y="37"/>
                  <a:pt x="198" y="37"/>
                </a:cubicBezTo>
                <a:lnTo>
                  <a:pt x="198" y="72"/>
                </a:lnTo>
                <a:cubicBezTo>
                  <a:pt x="196" y="71"/>
                  <a:pt x="194" y="71"/>
                  <a:pt x="193" y="71"/>
                </a:cubicBezTo>
                <a:cubicBezTo>
                  <a:pt x="188" y="72"/>
                  <a:pt x="186" y="76"/>
                  <a:pt x="187" y="79"/>
                </a:cubicBezTo>
                <a:cubicBezTo>
                  <a:pt x="187" y="82"/>
                  <a:pt x="191" y="84"/>
                  <a:pt x="195" y="83"/>
                </a:cubicBezTo>
                <a:close/>
              </a:path>
            </a:pathLst>
          </a:custGeom>
          <a:solidFill>
            <a:srgbClr val="2d29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56" name="musical-notes-symbols_11178"/>
          <p:cNvSpPr/>
          <p:nvPr/>
        </p:nvSpPr>
        <p:spPr>
          <a:xfrm>
            <a:off x="6786360" y="3421080"/>
            <a:ext cx="392760" cy="707760"/>
          </a:xfrm>
          <a:custGeom>
            <a:avLst/>
            <a:gdLst>
              <a:gd name="textAreaLeft" fmla="*/ 0 w 392760"/>
              <a:gd name="textAreaRight" fmla="*/ 393120 w 39276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216" h="293">
                <a:moveTo>
                  <a:pt x="106" y="117"/>
                </a:moveTo>
                <a:lnTo>
                  <a:pt x="215" y="99"/>
                </a:lnTo>
                <a:lnTo>
                  <a:pt x="215" y="246"/>
                </a:lnTo>
                <a:cubicBezTo>
                  <a:pt x="215" y="259"/>
                  <a:pt x="206" y="268"/>
                  <a:pt x="191" y="272"/>
                </a:cubicBezTo>
                <a:cubicBezTo>
                  <a:pt x="176" y="276"/>
                  <a:pt x="161" y="269"/>
                  <a:pt x="158" y="257"/>
                </a:cubicBezTo>
                <a:cubicBezTo>
                  <a:pt x="155" y="245"/>
                  <a:pt x="165" y="233"/>
                  <a:pt x="181" y="229"/>
                </a:cubicBezTo>
                <a:cubicBezTo>
                  <a:pt x="188" y="227"/>
                  <a:pt x="195" y="227"/>
                  <a:pt x="200" y="229"/>
                </a:cubicBezTo>
                <a:lnTo>
                  <a:pt x="200" y="141"/>
                </a:lnTo>
                <a:lnTo>
                  <a:pt x="121" y="155"/>
                </a:lnTo>
                <a:lnTo>
                  <a:pt x="120" y="266"/>
                </a:lnTo>
                <a:cubicBezTo>
                  <a:pt x="120" y="276"/>
                  <a:pt x="111" y="286"/>
                  <a:pt x="97" y="290"/>
                </a:cubicBezTo>
                <a:cubicBezTo>
                  <a:pt x="82" y="293"/>
                  <a:pt x="66" y="286"/>
                  <a:pt x="64" y="275"/>
                </a:cubicBezTo>
                <a:cubicBezTo>
                  <a:pt x="61" y="263"/>
                  <a:pt x="71" y="251"/>
                  <a:pt x="87" y="247"/>
                </a:cubicBezTo>
                <a:cubicBezTo>
                  <a:pt x="94" y="245"/>
                  <a:pt x="100" y="245"/>
                  <a:pt x="106" y="247"/>
                </a:cubicBezTo>
                <a:lnTo>
                  <a:pt x="106" y="117"/>
                </a:lnTo>
                <a:close/>
                <a:moveTo>
                  <a:pt x="65" y="171"/>
                </a:moveTo>
                <a:lnTo>
                  <a:pt x="66" y="34"/>
                </a:lnTo>
                <a:cubicBezTo>
                  <a:pt x="66" y="34"/>
                  <a:pt x="95" y="33"/>
                  <a:pt x="124" y="78"/>
                </a:cubicBezTo>
                <a:cubicBezTo>
                  <a:pt x="124" y="78"/>
                  <a:pt x="124" y="55"/>
                  <a:pt x="102" y="38"/>
                </a:cubicBezTo>
                <a:cubicBezTo>
                  <a:pt x="58" y="7"/>
                  <a:pt x="59" y="0"/>
                  <a:pt x="59" y="0"/>
                </a:cubicBezTo>
                <a:cubicBezTo>
                  <a:pt x="50" y="1"/>
                  <a:pt x="49" y="7"/>
                  <a:pt x="49" y="7"/>
                </a:cubicBezTo>
                <a:lnTo>
                  <a:pt x="49" y="151"/>
                </a:lnTo>
                <a:cubicBezTo>
                  <a:pt x="43" y="149"/>
                  <a:pt x="36" y="148"/>
                  <a:pt x="28" y="150"/>
                </a:cubicBezTo>
                <a:cubicBezTo>
                  <a:pt x="11" y="154"/>
                  <a:pt x="0" y="168"/>
                  <a:pt x="3" y="181"/>
                </a:cubicBezTo>
                <a:cubicBezTo>
                  <a:pt x="5" y="193"/>
                  <a:pt x="23" y="201"/>
                  <a:pt x="40" y="197"/>
                </a:cubicBezTo>
                <a:cubicBezTo>
                  <a:pt x="55" y="194"/>
                  <a:pt x="65" y="182"/>
                  <a:pt x="65" y="171"/>
                </a:cubicBezTo>
                <a:close/>
                <a:moveTo>
                  <a:pt x="144" y="83"/>
                </a:moveTo>
                <a:cubicBezTo>
                  <a:pt x="149" y="81"/>
                  <a:pt x="153" y="77"/>
                  <a:pt x="153" y="73"/>
                </a:cubicBezTo>
                <a:lnTo>
                  <a:pt x="153" y="26"/>
                </a:lnTo>
                <a:cubicBezTo>
                  <a:pt x="153" y="26"/>
                  <a:pt x="163" y="25"/>
                  <a:pt x="174" y="41"/>
                </a:cubicBezTo>
                <a:cubicBezTo>
                  <a:pt x="174" y="41"/>
                  <a:pt x="174" y="33"/>
                  <a:pt x="166" y="27"/>
                </a:cubicBezTo>
                <a:cubicBezTo>
                  <a:pt x="151" y="17"/>
                  <a:pt x="151" y="14"/>
                  <a:pt x="151" y="14"/>
                </a:cubicBezTo>
                <a:cubicBezTo>
                  <a:pt x="148" y="14"/>
                  <a:pt x="148" y="17"/>
                  <a:pt x="148" y="17"/>
                </a:cubicBezTo>
                <a:lnTo>
                  <a:pt x="148" y="67"/>
                </a:lnTo>
                <a:cubicBezTo>
                  <a:pt x="145" y="66"/>
                  <a:pt x="143" y="66"/>
                  <a:pt x="140" y="66"/>
                </a:cubicBezTo>
                <a:cubicBezTo>
                  <a:pt x="134" y="68"/>
                  <a:pt x="130" y="73"/>
                  <a:pt x="131" y="77"/>
                </a:cubicBezTo>
                <a:cubicBezTo>
                  <a:pt x="132" y="81"/>
                  <a:pt x="138" y="84"/>
                  <a:pt x="144" y="83"/>
                </a:cubicBezTo>
                <a:close/>
                <a:moveTo>
                  <a:pt x="195" y="83"/>
                </a:moveTo>
                <a:cubicBezTo>
                  <a:pt x="199" y="82"/>
                  <a:pt x="202" y="79"/>
                  <a:pt x="202" y="76"/>
                </a:cubicBezTo>
                <a:lnTo>
                  <a:pt x="202" y="43"/>
                </a:lnTo>
                <a:cubicBezTo>
                  <a:pt x="202" y="43"/>
                  <a:pt x="209" y="43"/>
                  <a:pt x="216" y="54"/>
                </a:cubicBezTo>
                <a:cubicBezTo>
                  <a:pt x="216" y="54"/>
                  <a:pt x="216" y="48"/>
                  <a:pt x="210" y="44"/>
                </a:cubicBezTo>
                <a:cubicBezTo>
                  <a:pt x="200" y="37"/>
                  <a:pt x="200" y="35"/>
                  <a:pt x="200" y="35"/>
                </a:cubicBezTo>
                <a:cubicBezTo>
                  <a:pt x="198" y="35"/>
                  <a:pt x="198" y="37"/>
                  <a:pt x="198" y="37"/>
                </a:cubicBezTo>
                <a:lnTo>
                  <a:pt x="198" y="72"/>
                </a:lnTo>
                <a:cubicBezTo>
                  <a:pt x="196" y="71"/>
                  <a:pt x="194" y="71"/>
                  <a:pt x="193" y="71"/>
                </a:cubicBezTo>
                <a:cubicBezTo>
                  <a:pt x="188" y="72"/>
                  <a:pt x="186" y="76"/>
                  <a:pt x="187" y="79"/>
                </a:cubicBezTo>
                <a:cubicBezTo>
                  <a:pt x="187" y="82"/>
                  <a:pt x="191" y="84"/>
                  <a:pt x="195" y="83"/>
                </a:cubicBezTo>
                <a:close/>
              </a:path>
            </a:pathLst>
          </a:custGeom>
          <a:solidFill>
            <a:srgbClr val="2d29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50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17" descr="15-150F30TKW21.jpg"/>
          <p:cNvPicPr/>
          <p:nvPr/>
        </p:nvPicPr>
        <p:blipFill>
          <a:blip r:embed="rId1"/>
          <a:stretch/>
        </p:blipFill>
        <p:spPr>
          <a:xfrm>
            <a:off x="1601640" y="1557360"/>
            <a:ext cx="6751440" cy="4032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1655280" y="1700280"/>
            <a:ext cx="58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国结造型各式各样，文中都有哪些种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7" descr=""/>
          <p:cNvPicPr/>
          <p:nvPr/>
        </p:nvPicPr>
        <p:blipFill>
          <a:blip r:embed="rId2"/>
          <a:stretch/>
        </p:blipFill>
        <p:spPr>
          <a:xfrm>
            <a:off x="578880" y="4635360"/>
            <a:ext cx="2014560" cy="2222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"/>
          <p:cNvSpPr/>
          <p:nvPr/>
        </p:nvSpPr>
        <p:spPr>
          <a:xfrm>
            <a:off x="2306520" y="3774960"/>
            <a:ext cx="46616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2140920" y="2637000"/>
            <a:ext cx="4393440" cy="21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课文中提到的中国结有蝴蝶、金鱼、兔子、熊猫等可爱的动物，也有编钟、琵琶、古筝、二胡等乐器的造型，还有发卡、钥匙扣、花篮等日常用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4"/>
          <p:cNvSpPr/>
          <p:nvPr/>
        </p:nvSpPr>
        <p:spPr>
          <a:xfrm>
            <a:off x="666720" y="228600"/>
            <a:ext cx="186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直接连接符 10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64" name="直接连接符 11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65" name="直接连接符 12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66" name="直接连接符 13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367" name="图片 15" descr=""/>
          <p:cNvPicPr/>
          <p:nvPr/>
        </p:nvPicPr>
        <p:blipFill>
          <a:blip r:embed="rId3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13" descr=""/>
          <p:cNvPicPr/>
          <p:nvPr/>
        </p:nvPicPr>
        <p:blipFill>
          <a:blip r:embed="rId1"/>
          <a:stretch/>
        </p:blipFill>
        <p:spPr>
          <a:xfrm>
            <a:off x="1060920" y="1916280"/>
            <a:ext cx="7130160" cy="31683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14" descr=""/>
          <p:cNvPicPr/>
          <p:nvPr/>
        </p:nvPicPr>
        <p:blipFill>
          <a:blip r:embed="rId2"/>
          <a:stretch/>
        </p:blipFill>
        <p:spPr>
          <a:xfrm>
            <a:off x="1060920" y="1522440"/>
            <a:ext cx="999720" cy="1501560"/>
          </a:xfrm>
          <a:prstGeom prst="rect">
            <a:avLst/>
          </a:prstGeom>
          <a:ln w="0">
            <a:noFill/>
          </a:ln>
        </p:spPr>
      </p:pic>
      <p:sp>
        <p:nvSpPr>
          <p:cNvPr id="370" name="文本框 3"/>
          <p:cNvSpPr/>
          <p:nvPr/>
        </p:nvSpPr>
        <p:spPr>
          <a:xfrm>
            <a:off x="1817280" y="2565360"/>
            <a:ext cx="5779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　　这篇课文的题目是“中国结”，那你对中国结了解多少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4"/>
          <p:cNvSpPr/>
          <p:nvPr/>
        </p:nvSpPr>
        <p:spPr>
          <a:xfrm>
            <a:off x="666720" y="228600"/>
            <a:ext cx="182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精读细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直接连接符 8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73" name="直接连接符 9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74" name="直接连接符 10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75" name="直接连接符 11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376" name="图片 12" descr=""/>
          <p:cNvPicPr/>
          <p:nvPr/>
        </p:nvPicPr>
        <p:blipFill>
          <a:blip r:embed="rId3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1757520" y="2028960"/>
            <a:ext cx="118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 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4"/>
          <a:stretch/>
        </p:blipFill>
        <p:spPr>
          <a:xfrm>
            <a:off x="7003080" y="936720"/>
            <a:ext cx="906840" cy="1209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http://img13.360buyimg.com/n0/jfs/t2296/296/1102038653/185502/207a9126/5678a723N5555407a.jpg"/>
          <p:cNvPicPr/>
          <p:nvPr/>
        </p:nvPicPr>
        <p:blipFill>
          <a:blip r:embed="rId1"/>
          <a:stretch/>
        </p:blipFill>
        <p:spPr>
          <a:xfrm>
            <a:off x="1872000" y="0"/>
            <a:ext cx="6029640" cy="6857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11.360buyimg.com/n0/jfs/t1837/286/1856793306/453859/c196e2e0/568b1952Nfda8d0dc.jpg"/>
          <p:cNvPicPr/>
          <p:nvPr/>
        </p:nvPicPr>
        <p:blipFill>
          <a:blip r:embed="rId2"/>
          <a:stretch/>
        </p:blipFill>
        <p:spPr>
          <a:xfrm>
            <a:off x="1655280" y="0"/>
            <a:ext cx="5650920" cy="681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://gb.cri.cn/mmsource/images/2006/02/07/eo060207952.jpg"/>
          <p:cNvPicPr/>
          <p:nvPr/>
        </p:nvPicPr>
        <p:blipFill>
          <a:blip r:embed="rId3"/>
          <a:stretch/>
        </p:blipFill>
        <p:spPr>
          <a:xfrm>
            <a:off x="0" y="0"/>
            <a:ext cx="6853680" cy="6857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img001.hc360.cn/y3/M03/E1/5D/wKhQh1Uo3CyEcHEPAAAAAG6DQ0k356.jpg"/>
          <p:cNvPicPr/>
          <p:nvPr/>
        </p:nvPicPr>
        <p:blipFill>
          <a:blip r:embed="rId4"/>
          <a:stretch/>
        </p:blipFill>
        <p:spPr>
          <a:xfrm>
            <a:off x="2411280" y="23760"/>
            <a:ext cx="5239080" cy="6833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981360" y="1928880"/>
            <a:ext cx="4886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外国朋友到中国家庭做客，常常会对一个个身披彩衣、造型奇特的饰物感到好奇：“这是什么呀？”这是中国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"/>
          <p:cNvSpPr/>
          <p:nvPr/>
        </p:nvSpPr>
        <p:spPr>
          <a:xfrm>
            <a:off x="0" y="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85" name="AutoShape 2"/>
          <p:cNvSpPr/>
          <p:nvPr/>
        </p:nvSpPr>
        <p:spPr>
          <a:xfrm>
            <a:off x="0" y="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386" name="矩形 4"/>
          <p:cNvSpPr/>
          <p:nvPr/>
        </p:nvSpPr>
        <p:spPr>
          <a:xfrm>
            <a:off x="4464360" y="2492280"/>
            <a:ext cx="1178640" cy="504360"/>
          </a:xfrm>
          <a:prstGeom prst="rect">
            <a:avLst/>
          </a:prstGeom>
          <a:noFill/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矩形 5"/>
          <p:cNvSpPr/>
          <p:nvPr/>
        </p:nvSpPr>
        <p:spPr>
          <a:xfrm>
            <a:off x="2897280" y="2492280"/>
            <a:ext cx="1231920" cy="576000"/>
          </a:xfrm>
          <a:prstGeom prst="rect">
            <a:avLst/>
          </a:prstGeom>
          <a:noFill/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圆角矩形标注 7"/>
          <p:cNvSpPr/>
          <p:nvPr/>
        </p:nvSpPr>
        <p:spPr>
          <a:xfrm>
            <a:off x="6084720" y="3645000"/>
            <a:ext cx="2673000" cy="2857320"/>
          </a:xfrm>
          <a:prstGeom prst="wedgeRoundRectCallout">
            <a:avLst>
              <a:gd name="adj1" fmla="val -87886"/>
              <a:gd name="adj2" fmla="val -45935"/>
              <a:gd name="adj3" fmla="val 16667"/>
            </a:avLst>
          </a:prstGeom>
          <a:solidFill>
            <a:srgbClr val="ffffff"/>
          </a:solidFill>
          <a:ln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zh-CN" sz="1800" spc="-1" strike="noStrike">
                <a:solidFill>
                  <a:schemeClr val="dk1"/>
                </a:solidFill>
                <a:latin typeface="Calibri"/>
              </a:rPr>
              <a:t>从外国友人的嘴里写出中国结的外形特点：工艺精美，颜色喜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2"/>
          <p:cNvGrpSpPr/>
          <p:nvPr/>
        </p:nvGrpSpPr>
        <p:grpSpPr>
          <a:xfrm>
            <a:off x="683280" y="1628640"/>
            <a:ext cx="5184720" cy="2592360"/>
            <a:chOff x="683280" y="1628640"/>
            <a:chExt cx="5184720" cy="2592360"/>
          </a:xfrm>
        </p:grpSpPr>
        <p:cxnSp>
          <p:nvCxnSpPr>
            <p:cNvPr id="390" name="直接连接符 13"/>
            <p:cNvCxnSpPr/>
            <p:nvPr/>
          </p:nvCxnSpPr>
          <p:spPr>
            <a:xfrm flipH="1">
              <a:off x="683280" y="4221000"/>
              <a:ext cx="5185080" cy="360"/>
            </a:xfrm>
            <a:prstGeom prst="straightConnector1">
              <a:avLst/>
            </a:prstGeom>
            <a:ln w="12700">
              <a:solidFill>
                <a:srgbClr val="854343"/>
              </a:solidFill>
            </a:ln>
          </p:spPr>
        </p:cxnSp>
        <p:grpSp>
          <p:nvGrpSpPr>
            <p:cNvPr id="391" name="组合 13"/>
            <p:cNvGrpSpPr/>
            <p:nvPr/>
          </p:nvGrpSpPr>
          <p:grpSpPr>
            <a:xfrm>
              <a:off x="683280" y="1628640"/>
              <a:ext cx="5184720" cy="2592360"/>
              <a:chOff x="683280" y="1628640"/>
              <a:chExt cx="5184720" cy="2592360"/>
            </a:xfrm>
          </p:grpSpPr>
          <p:cxnSp>
            <p:nvCxnSpPr>
              <p:cNvPr id="392" name="直接连接符 15"/>
              <p:cNvCxnSpPr/>
              <p:nvPr/>
            </p:nvCxnSpPr>
            <p:spPr>
              <a:xfrm>
                <a:off x="5868000" y="1887480"/>
                <a:ext cx="360" cy="233388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393" name="直接连接符 16"/>
              <p:cNvCxnSpPr/>
              <p:nvPr/>
            </p:nvCxnSpPr>
            <p:spPr>
              <a:xfrm flipH="1">
                <a:off x="683280" y="1628640"/>
                <a:ext cx="2171160" cy="36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394" name="直接连接符 17"/>
              <p:cNvCxnSpPr/>
              <p:nvPr/>
            </p:nvCxnSpPr>
            <p:spPr>
              <a:xfrm>
                <a:off x="683280" y="1628640"/>
                <a:ext cx="360" cy="259272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</p:grpSp>
      </p:grpSp>
      <p:pic>
        <p:nvPicPr>
          <p:cNvPr id="395" name="图片 18" descr=""/>
          <p:cNvPicPr/>
          <p:nvPr/>
        </p:nvPicPr>
        <p:blipFill>
          <a:blip r:embed="rId1"/>
          <a:srcRect l="0" t="0" r="-23217" b="-19286"/>
          <a:stretch/>
        </p:blipFill>
        <p:spPr>
          <a:xfrm>
            <a:off x="3951000" y="857160"/>
            <a:ext cx="1241640" cy="1218960"/>
          </a:xfrm>
          <a:prstGeom prst="rect">
            <a:avLst/>
          </a:prstGeom>
          <a:ln w="0">
            <a:noFill/>
          </a:ln>
        </p:spPr>
      </p:pic>
      <p:sp>
        <p:nvSpPr>
          <p:cNvPr id="396" name="文本框 14"/>
          <p:cNvSpPr/>
          <p:nvPr/>
        </p:nvSpPr>
        <p:spPr>
          <a:xfrm>
            <a:off x="666720" y="228600"/>
            <a:ext cx="182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精读细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直接连接符 20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98" name="直接连接符 21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399" name="直接连接符 22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400" name="直接连接符 23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401" name="图片 24" descr=""/>
          <p:cNvPicPr/>
          <p:nvPr/>
        </p:nvPicPr>
        <p:blipFill>
          <a:blip r:embed="rId2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628560" y="4365720"/>
            <a:ext cx="2269440" cy="223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1" descr=""/>
          <p:cNvPicPr/>
          <p:nvPr/>
        </p:nvPicPr>
        <p:blipFill>
          <a:blip r:embed="rId1"/>
          <a:stretch/>
        </p:blipFill>
        <p:spPr>
          <a:xfrm>
            <a:off x="196560" y="620640"/>
            <a:ext cx="4015080" cy="1800000"/>
          </a:xfrm>
          <a:prstGeom prst="rect">
            <a:avLst/>
          </a:prstGeom>
          <a:ln w="0">
            <a:noFill/>
          </a:ln>
        </p:spPr>
      </p:pic>
      <p:sp>
        <p:nvSpPr>
          <p:cNvPr id="404" name="文本框 6"/>
          <p:cNvSpPr/>
          <p:nvPr/>
        </p:nvSpPr>
        <p:spPr>
          <a:xfrm>
            <a:off x="996840" y="1198440"/>
            <a:ext cx="2877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谁知道中国结的历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3" descr=""/>
          <p:cNvPicPr/>
          <p:nvPr/>
        </p:nvPicPr>
        <p:blipFill>
          <a:blip r:embed="rId2"/>
          <a:stretch/>
        </p:blipFill>
        <p:spPr>
          <a:xfrm>
            <a:off x="282240" y="231840"/>
            <a:ext cx="854640" cy="12855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"/>
          <p:cNvSpPr/>
          <p:nvPr/>
        </p:nvSpPr>
        <p:spPr>
          <a:xfrm>
            <a:off x="989640" y="552600"/>
            <a:ext cx="118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 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6"/>
          <p:cNvSpPr/>
          <p:nvPr/>
        </p:nvSpPr>
        <p:spPr>
          <a:xfrm>
            <a:off x="927720" y="3500280"/>
            <a:ext cx="3427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们的祖先为了生活的需要，发明了“结绳记事”的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6"/>
          <p:cNvGrpSpPr/>
          <p:nvPr/>
        </p:nvGrpSpPr>
        <p:grpSpPr>
          <a:xfrm>
            <a:off x="766800" y="3214440"/>
            <a:ext cx="3643560" cy="2357640"/>
            <a:chOff x="766800" y="3214440"/>
            <a:chExt cx="3643560" cy="2357640"/>
          </a:xfrm>
        </p:grpSpPr>
        <p:cxnSp>
          <p:nvCxnSpPr>
            <p:cNvPr id="409" name="直接连接符 7"/>
            <p:cNvCxnSpPr/>
            <p:nvPr/>
          </p:nvCxnSpPr>
          <p:spPr>
            <a:xfrm flipH="1">
              <a:off x="766800" y="5572080"/>
              <a:ext cx="3643920" cy="360"/>
            </a:xfrm>
            <a:prstGeom prst="straightConnector1">
              <a:avLst/>
            </a:prstGeom>
            <a:ln w="12700">
              <a:solidFill>
                <a:srgbClr val="854343"/>
              </a:solidFill>
            </a:ln>
          </p:spPr>
        </p:cxnSp>
        <p:grpSp>
          <p:nvGrpSpPr>
            <p:cNvPr id="410" name="组合 18"/>
            <p:cNvGrpSpPr/>
            <p:nvPr/>
          </p:nvGrpSpPr>
          <p:grpSpPr>
            <a:xfrm>
              <a:off x="766800" y="3214440"/>
              <a:ext cx="3643560" cy="2357640"/>
              <a:chOff x="766800" y="3214440"/>
              <a:chExt cx="3643560" cy="2357640"/>
            </a:xfrm>
          </p:grpSpPr>
          <p:cxnSp>
            <p:nvCxnSpPr>
              <p:cNvPr id="411" name="直接连接符 9"/>
              <p:cNvCxnSpPr/>
              <p:nvPr/>
            </p:nvCxnSpPr>
            <p:spPr>
              <a:xfrm>
                <a:off x="4410360" y="3449520"/>
                <a:ext cx="360" cy="212292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412" name="直接连接符 10"/>
              <p:cNvCxnSpPr/>
              <p:nvPr/>
            </p:nvCxnSpPr>
            <p:spPr>
              <a:xfrm flipH="1">
                <a:off x="766800" y="3214440"/>
                <a:ext cx="1525680" cy="36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413" name="直接连接符 11"/>
              <p:cNvCxnSpPr/>
              <p:nvPr/>
            </p:nvCxnSpPr>
            <p:spPr>
              <a:xfrm>
                <a:off x="766800" y="3214440"/>
                <a:ext cx="360" cy="235800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</p:grpSp>
      </p:grpSp>
      <p:pic>
        <p:nvPicPr>
          <p:cNvPr id="414" name="图片 12" descr=""/>
          <p:cNvPicPr/>
          <p:nvPr/>
        </p:nvPicPr>
        <p:blipFill>
          <a:blip r:embed="rId3"/>
          <a:srcRect l="0" t="0" r="-23228" b="-19291"/>
          <a:stretch/>
        </p:blipFill>
        <p:spPr>
          <a:xfrm>
            <a:off x="3231720" y="2500200"/>
            <a:ext cx="1123560" cy="1103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s://timgsa.baidu.com/timg?image&amp;quality=80&amp;size=b9999_10000&amp;sec=1524366479878&amp;di=ef095e503a5b1ce4a578b97db4bab7fc&amp;imgtype=0&amp;src=http%3A%2F%2Fimg.naseng.com%2Fcontentimage%2F20170504%2F149387206614580.jpg"/>
          <p:cNvPicPr/>
          <p:nvPr/>
        </p:nvPicPr>
        <p:blipFill>
          <a:blip r:embed="rId4"/>
          <a:stretch/>
        </p:blipFill>
        <p:spPr>
          <a:xfrm>
            <a:off x="4786920" y="1714680"/>
            <a:ext cx="4087440" cy="3730320"/>
          </a:xfrm>
          <a:prstGeom prst="rect">
            <a:avLst/>
          </a:prstGeom>
          <a:ln w="0">
            <a:noFill/>
          </a:ln>
        </p:spPr>
      </p:pic>
      <p:sp>
        <p:nvSpPr>
          <p:cNvPr id="416" name="矩形 15"/>
          <p:cNvSpPr/>
          <p:nvPr/>
        </p:nvSpPr>
        <p:spPr>
          <a:xfrm>
            <a:off x="6076080" y="642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结绳记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直接箭头连接符 34"/>
          <p:cNvCxnSpPr/>
          <p:nvPr/>
        </p:nvCxnSpPr>
        <p:spPr>
          <a:xfrm>
            <a:off x="6662160" y="1357200"/>
            <a:ext cx="696960" cy="1643400"/>
          </a:xfrm>
          <a:prstGeom prst="straightConnector1">
            <a:avLst/>
          </a:prstGeom>
          <a:ln>
            <a:solidFill>
              <a:srgbClr val="ff0000"/>
            </a:solidFill>
            <a:tailEnd len="med" type="arrow" w="med"/>
          </a:ln>
        </p:spPr>
      </p:cxnSp>
    </p:spTree>
  </p:cSld>
  <p:transition spd="slow"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s://timgsa.baidu.com/timg?image&amp;quality=80&amp;size=b9999_10000&amp;sec=1524366743202&amp;di=655c84ae58aee5f5e168f02b243f8d29&amp;imgtype=0&amp;src=http%3A%2F%2Fp5.qhimg.com%2Ft0130129d536e561164.jpg"/>
          <p:cNvPicPr/>
          <p:nvPr/>
        </p:nvPicPr>
        <p:blipFill>
          <a:blip r:embed="rId1"/>
          <a:stretch/>
        </p:blipFill>
        <p:spPr>
          <a:xfrm>
            <a:off x="981360" y="0"/>
            <a:ext cx="2786040" cy="2857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s://timgsa.baidu.com/timg?image&amp;quality=80&amp;size=b9999_10000&amp;sec=1524366768375&amp;di=6701b2e6b37306163f662521d1e91fe6&amp;imgtype=0&amp;src=http%3A%2F%2Fww1.sinaimg.cn%2Fthumb180%2F006pVyZ2jw1f3kf9zmu0fj30tj0w7n2x.jpg"/>
          <p:cNvPicPr/>
          <p:nvPr/>
        </p:nvPicPr>
        <p:blipFill>
          <a:blip r:embed="rId2"/>
          <a:stretch/>
        </p:blipFill>
        <p:spPr>
          <a:xfrm>
            <a:off x="5429880" y="0"/>
            <a:ext cx="2357280" cy="314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s://timgsa.baidu.com/timg?image&amp;quality=80&amp;size=b9999_10000&amp;sec=1524366801715&amp;di=62eb4968e54d7bbd0f046ae789284ea2&amp;imgtype=0&amp;src=http%3A%2F%2Fphotocdn.sohu.com%2F20151130%2Fmp45200091_1448848865723_2.jpeg"/>
          <p:cNvPicPr/>
          <p:nvPr/>
        </p:nvPicPr>
        <p:blipFill>
          <a:blip r:embed="rId3"/>
          <a:stretch/>
        </p:blipFill>
        <p:spPr>
          <a:xfrm>
            <a:off x="820440" y="3071880"/>
            <a:ext cx="2910960" cy="2917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4"/>
          <a:stretch/>
        </p:blipFill>
        <p:spPr>
          <a:xfrm>
            <a:off x="5537160" y="3143160"/>
            <a:ext cx="2796840" cy="2785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7"/>
          <p:cNvSpPr/>
          <p:nvPr/>
        </p:nvSpPr>
        <p:spPr>
          <a:xfrm>
            <a:off x="4633920" y="2428920"/>
            <a:ext cx="455400" cy="638280"/>
          </a:xfrm>
          <a:prstGeom prst="rect">
            <a:avLst/>
          </a:prstGeom>
          <a:noFill/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结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记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8"/>
          <p:cNvSpPr/>
          <p:nvPr/>
        </p:nvSpPr>
        <p:spPr>
          <a:xfrm>
            <a:off x="3632040" y="6148440"/>
            <a:ext cx="210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就是古代劳动人民的聪明才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图片 12" descr=""/>
          <p:cNvPicPr/>
          <p:nvPr/>
        </p:nvPicPr>
        <p:blipFill>
          <a:blip r:embed="rId1"/>
          <a:stretch/>
        </p:blipFill>
        <p:spPr>
          <a:xfrm>
            <a:off x="898920" y="1657440"/>
            <a:ext cx="6372720" cy="2271240"/>
          </a:xfrm>
          <a:prstGeom prst="rect">
            <a:avLst/>
          </a:prstGeom>
          <a:ln w="0">
            <a:noFill/>
          </a:ln>
        </p:spPr>
      </p:pic>
      <p:sp>
        <p:nvSpPr>
          <p:cNvPr id="425" name="文本框 6"/>
          <p:cNvSpPr/>
          <p:nvPr/>
        </p:nvSpPr>
        <p:spPr>
          <a:xfrm>
            <a:off x="2320920" y="2428920"/>
            <a:ext cx="4969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国结有哪些造型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13" descr=""/>
          <p:cNvPicPr/>
          <p:nvPr/>
        </p:nvPicPr>
        <p:blipFill>
          <a:blip r:embed="rId2"/>
          <a:stretch/>
        </p:blipFill>
        <p:spPr>
          <a:xfrm>
            <a:off x="1007280" y="1125360"/>
            <a:ext cx="998640" cy="15015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"/>
          <p:cNvSpPr/>
          <p:nvPr/>
        </p:nvSpPr>
        <p:spPr>
          <a:xfrm>
            <a:off x="1763640" y="1657440"/>
            <a:ext cx="118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 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https://ss0.bdstatic.com/70cFuHSh_Q1YnxGkpoWK1HF6hhy/it/u=1010790512,1424406367&amp;fm=27&amp;gp=0.jpg"/>
          <p:cNvPicPr/>
          <p:nvPr/>
        </p:nvPicPr>
        <p:blipFill>
          <a:blip r:embed="rId1"/>
          <a:stretch/>
        </p:blipFill>
        <p:spPr>
          <a:xfrm>
            <a:off x="5537160" y="1428840"/>
            <a:ext cx="3196800" cy="4262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s://ss0.bdstatic.com/70cFvHSh_Q1YnxGkpoWK1HF6hhy/it/u=654960013,2389282187&amp;fm=27&amp;gp=0.jpg"/>
          <p:cNvPicPr/>
          <p:nvPr/>
        </p:nvPicPr>
        <p:blipFill>
          <a:blip r:embed="rId2"/>
          <a:stretch/>
        </p:blipFill>
        <p:spPr>
          <a:xfrm>
            <a:off x="338040" y="1428840"/>
            <a:ext cx="5037840" cy="433656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6"/>
          <p:cNvSpPr/>
          <p:nvPr/>
        </p:nvSpPr>
        <p:spPr>
          <a:xfrm>
            <a:off x="3446280" y="428760"/>
            <a:ext cx="2144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蝴蝶  金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"/>
          <p:cNvPicPr/>
          <p:nvPr/>
        </p:nvPicPr>
        <p:blipFill>
          <a:blip r:embed="rId1"/>
          <a:stretch/>
        </p:blipFill>
        <p:spPr>
          <a:xfrm>
            <a:off x="1968480" y="181080"/>
            <a:ext cx="5019840" cy="6676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3"/>
          <p:cNvSpPr/>
          <p:nvPr/>
        </p:nvSpPr>
        <p:spPr>
          <a:xfrm>
            <a:off x="3429360" y="1157400"/>
            <a:ext cx="230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目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42"/>
          <p:cNvGrpSpPr/>
          <p:nvPr/>
        </p:nvGrpSpPr>
        <p:grpSpPr>
          <a:xfrm>
            <a:off x="2681640" y="2052720"/>
            <a:ext cx="1320120" cy="926640"/>
            <a:chOff x="2681640" y="2052720"/>
            <a:chExt cx="1320120" cy="926640"/>
          </a:xfrm>
        </p:grpSpPr>
        <p:pic>
          <p:nvPicPr>
            <p:cNvPr id="138" name="图片 4" descr=""/>
            <p:cNvPicPr/>
            <p:nvPr/>
          </p:nvPicPr>
          <p:blipFill>
            <a:blip r:embed="rId2"/>
            <a:stretch/>
          </p:blipFill>
          <p:spPr>
            <a:xfrm>
              <a:off x="2681640" y="2052720"/>
              <a:ext cx="1320120" cy="9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32"/>
            <p:cNvSpPr/>
            <p:nvPr/>
          </p:nvSpPr>
          <p:spPr>
            <a:xfrm>
              <a:off x="2780640" y="2304000"/>
              <a:ext cx="1114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预习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36"/>
          <p:cNvGrpSpPr/>
          <p:nvPr/>
        </p:nvGrpSpPr>
        <p:grpSpPr>
          <a:xfrm>
            <a:off x="1757520" y="4916520"/>
            <a:ext cx="5442840" cy="1928520"/>
            <a:chOff x="1757520" y="4916520"/>
            <a:chExt cx="5442840" cy="1928520"/>
          </a:xfrm>
        </p:grpSpPr>
        <p:pic>
          <p:nvPicPr>
            <p:cNvPr id="141" name="图片 7" descr=""/>
            <p:cNvPicPr/>
            <p:nvPr/>
          </p:nvPicPr>
          <p:blipFill>
            <a:blip r:embed="rId3"/>
            <a:stretch/>
          </p:blipFill>
          <p:spPr>
            <a:xfrm>
              <a:off x="1757520" y="5923800"/>
              <a:ext cx="5442840" cy="92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38" descr=""/>
            <p:cNvPicPr/>
            <p:nvPr/>
          </p:nvPicPr>
          <p:blipFill>
            <a:blip r:embed="rId4"/>
            <a:stretch/>
          </p:blipFill>
          <p:spPr>
            <a:xfrm>
              <a:off x="1978920" y="5783760"/>
              <a:ext cx="82260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39" descr=""/>
            <p:cNvPicPr/>
            <p:nvPr/>
          </p:nvPicPr>
          <p:blipFill>
            <a:blip r:embed="rId5"/>
            <a:stretch/>
          </p:blipFill>
          <p:spPr>
            <a:xfrm>
              <a:off x="4015440" y="5946840"/>
              <a:ext cx="1105920" cy="77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8" descr=""/>
            <p:cNvPicPr/>
            <p:nvPr/>
          </p:nvPicPr>
          <p:blipFill>
            <a:blip r:embed="rId6"/>
            <a:stretch/>
          </p:blipFill>
          <p:spPr>
            <a:xfrm>
              <a:off x="6121440" y="5893560"/>
              <a:ext cx="65016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图片 41" descr=""/>
            <p:cNvPicPr/>
            <p:nvPr/>
          </p:nvPicPr>
          <p:blipFill>
            <a:blip r:embed="rId7"/>
            <a:stretch/>
          </p:blipFill>
          <p:spPr>
            <a:xfrm>
              <a:off x="2641320" y="4916520"/>
              <a:ext cx="3641400" cy="158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组合 46"/>
          <p:cNvGrpSpPr/>
          <p:nvPr/>
        </p:nvGrpSpPr>
        <p:grpSpPr>
          <a:xfrm>
            <a:off x="4812120" y="2052720"/>
            <a:ext cx="1321560" cy="925200"/>
            <a:chOff x="4812120" y="2052720"/>
            <a:chExt cx="1321560" cy="925200"/>
          </a:xfrm>
        </p:grpSpPr>
        <p:pic>
          <p:nvPicPr>
            <p:cNvPr id="147" name="图片 47" descr=""/>
            <p:cNvPicPr/>
            <p:nvPr/>
          </p:nvPicPr>
          <p:blipFill>
            <a:blip r:embed="rId8"/>
            <a:stretch/>
          </p:blipFill>
          <p:spPr>
            <a:xfrm>
              <a:off x="4812120" y="2052720"/>
              <a:ext cx="132156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48"/>
            <p:cNvSpPr/>
            <p:nvPr/>
          </p:nvSpPr>
          <p:spPr>
            <a:xfrm>
              <a:off x="4911120" y="2303640"/>
              <a:ext cx="1115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242080" y="3484440"/>
            <a:ext cx="1321560" cy="926640"/>
            <a:chOff x="2242080" y="3484440"/>
            <a:chExt cx="1321560" cy="926640"/>
          </a:xfrm>
        </p:grpSpPr>
        <p:pic>
          <p:nvPicPr>
            <p:cNvPr id="150" name="图片 12" descr=""/>
            <p:cNvPicPr/>
            <p:nvPr/>
          </p:nvPicPr>
          <p:blipFill>
            <a:blip r:embed="rId9"/>
            <a:stretch/>
          </p:blipFill>
          <p:spPr>
            <a:xfrm>
              <a:off x="2242080" y="3484440"/>
              <a:ext cx="1321560" cy="9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13"/>
            <p:cNvSpPr/>
            <p:nvPr/>
          </p:nvSpPr>
          <p:spPr>
            <a:xfrm>
              <a:off x="2341440" y="3736080"/>
              <a:ext cx="1115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读细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1"/>
          <p:cNvGrpSpPr/>
          <p:nvPr/>
        </p:nvGrpSpPr>
        <p:grpSpPr>
          <a:xfrm>
            <a:off x="3796200" y="3503520"/>
            <a:ext cx="1321560" cy="926640"/>
            <a:chOff x="3796200" y="3503520"/>
            <a:chExt cx="1321560" cy="926640"/>
          </a:xfrm>
        </p:grpSpPr>
        <p:pic>
          <p:nvPicPr>
            <p:cNvPr id="153" name="图片 23" descr=""/>
            <p:cNvPicPr/>
            <p:nvPr/>
          </p:nvPicPr>
          <p:blipFill>
            <a:blip r:embed="rId10"/>
            <a:stretch/>
          </p:blipFill>
          <p:spPr>
            <a:xfrm>
              <a:off x="3796200" y="3503520"/>
              <a:ext cx="1321560" cy="9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30"/>
            <p:cNvSpPr/>
            <p:nvPr/>
          </p:nvSpPr>
          <p:spPr>
            <a:xfrm>
              <a:off x="3895200" y="3755160"/>
              <a:ext cx="1115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结概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33"/>
          <p:cNvGrpSpPr/>
          <p:nvPr/>
        </p:nvGrpSpPr>
        <p:grpSpPr>
          <a:xfrm>
            <a:off x="5309640" y="3484440"/>
            <a:ext cx="1320120" cy="926640"/>
            <a:chOff x="5309640" y="3484440"/>
            <a:chExt cx="1320120" cy="926640"/>
          </a:xfrm>
        </p:grpSpPr>
        <p:pic>
          <p:nvPicPr>
            <p:cNvPr id="156" name="图片 58" descr=""/>
            <p:cNvPicPr/>
            <p:nvPr/>
          </p:nvPicPr>
          <p:blipFill>
            <a:blip r:embed="rId11"/>
            <a:stretch/>
          </p:blipFill>
          <p:spPr>
            <a:xfrm>
              <a:off x="5309640" y="3484440"/>
              <a:ext cx="1320120" cy="92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59"/>
            <p:cNvSpPr/>
            <p:nvPr/>
          </p:nvSpPr>
          <p:spPr>
            <a:xfrm>
              <a:off x="5408640" y="3736080"/>
              <a:ext cx="1114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拓展运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" fill="hold">
                                          <p:stCondLst>
                                            <p:cond delay="6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" fill="hold">
                                          <p:stCondLst>
                                            <p:cond delay="6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s://timgsa.baidu.com/timg?image&amp;quality=80&amp;size=b9999_10000&amp;sec=1524367308615&amp;di=105a9a1673f9006150704a016553fb9d&amp;imgtype=0&amp;src=http%3A%2F%2Fa.hiphotos.baidu.com%2Fzhidao%2Fpic%2Fitem%2F0824ab18972bd40725e6379c7b899e510fb309a9.jpg"/>
          <p:cNvPicPr/>
          <p:nvPr/>
        </p:nvPicPr>
        <p:blipFill>
          <a:blip r:embed="rId1"/>
          <a:stretch/>
        </p:blipFill>
        <p:spPr>
          <a:xfrm>
            <a:off x="874080" y="1857240"/>
            <a:ext cx="4572360" cy="3785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s://timgsa.baidu.com/timg?image&amp;quality=80&amp;size=b9999_10000&amp;sec=1524367419555&amp;di=3efe70cc2f1f1ab12a272af54461bbbf&amp;imgtype=jpg&amp;src=http%3A%2F%2Fimg0.imgtn.bdimg.com%2Fit%2Fu%3D218526775%2C3262278541%26fm%3D214%26gp%3D0.jpg"/>
          <p:cNvPicPr/>
          <p:nvPr/>
        </p:nvPicPr>
        <p:blipFill>
          <a:blip r:embed="rId2"/>
          <a:stretch/>
        </p:blipFill>
        <p:spPr>
          <a:xfrm>
            <a:off x="5751360" y="1857240"/>
            <a:ext cx="2678760" cy="3714480"/>
          </a:xfrm>
          <a:prstGeom prst="rect">
            <a:avLst/>
          </a:prstGeom>
          <a:ln w="0">
            <a:noFill/>
          </a:ln>
        </p:spPr>
      </p:pic>
      <p:sp>
        <p:nvSpPr>
          <p:cNvPr id="433" name="文本框 6"/>
          <p:cNvSpPr/>
          <p:nvPr/>
        </p:nvSpPr>
        <p:spPr>
          <a:xfrm>
            <a:off x="3446280" y="428760"/>
            <a:ext cx="2144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兔子  熊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https://timgsa.baidu.com/timg?image&amp;quality=80&amp;size=b9999_10000&amp;sec=1524367602923&amp;di=f6b7ba519a7d47c49c322cfebd807bd9&amp;imgtype=0&amp;src=http%3A%2F%2Fcdn.rouding.com%2Fimagesrc-s%2Fjpg%2F201409-11-54115F63C55167081C407179-t.jpg"/>
          <p:cNvPicPr/>
          <p:nvPr/>
        </p:nvPicPr>
        <p:blipFill>
          <a:blip r:embed="rId1"/>
          <a:stretch/>
        </p:blipFill>
        <p:spPr>
          <a:xfrm>
            <a:off x="391680" y="1000080"/>
            <a:ext cx="4071960" cy="5071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https://timgsa.baidu.com/timg?image&amp;quality=80&amp;size=b9999_10000&amp;sec=1524367656913&amp;di=a0f39a267062164958f20e3cc98def59&amp;imgtype=0&amp;src=http%3A%2F%2Fimg10.360buyimg.com%2Fimgzone%2Fjfs%2Ft2131%2F63%2F1707213301%2F99648%2Ff0ac98a5%2F56725b53N15bbf057.jpg"/>
          <p:cNvPicPr/>
          <p:nvPr/>
        </p:nvPicPr>
        <p:blipFill>
          <a:blip r:embed="rId2"/>
          <a:stretch/>
        </p:blipFill>
        <p:spPr>
          <a:xfrm>
            <a:off x="4626360" y="1285920"/>
            <a:ext cx="3846960" cy="471456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6"/>
          <p:cNvSpPr/>
          <p:nvPr/>
        </p:nvSpPr>
        <p:spPr>
          <a:xfrm>
            <a:off x="3446280" y="357120"/>
            <a:ext cx="2144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琵琶   古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s://timgsa.baidu.com/timg?image&amp;quality=80&amp;size=b9999_10000&amp;sec=1524313624408&amp;di=d5446dc093461f5015d9e616294b062c&amp;imgtype=0&amp;src=http%3A%2F%2Fe.hiphotos.baidu.com%2Fzhidao%2Fpic%2Fitem%2Fb21bb051f8198618ca32d08d4ced2e738bd4e646.jpg"/>
          <p:cNvPicPr/>
          <p:nvPr/>
        </p:nvPicPr>
        <p:blipFill>
          <a:blip r:embed="rId1"/>
          <a:stretch/>
        </p:blipFill>
        <p:spPr>
          <a:xfrm>
            <a:off x="659520" y="785880"/>
            <a:ext cx="7288560" cy="5721120"/>
          </a:xfrm>
          <a:prstGeom prst="rect">
            <a:avLst/>
          </a:prstGeom>
          <a:ln w="0">
            <a:noFill/>
          </a:ln>
        </p:spPr>
      </p:pic>
      <p:sp>
        <p:nvSpPr>
          <p:cNvPr id="438" name="文本框 6"/>
          <p:cNvSpPr/>
          <p:nvPr/>
        </p:nvSpPr>
        <p:spPr>
          <a:xfrm>
            <a:off x="2427840" y="125280"/>
            <a:ext cx="3805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造型各异，形态逼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2" descr=""/>
          <p:cNvPicPr/>
          <p:nvPr/>
        </p:nvPicPr>
        <p:blipFill>
          <a:blip r:embed="rId1"/>
          <a:stretch/>
        </p:blipFill>
        <p:spPr>
          <a:xfrm>
            <a:off x="898920" y="1657440"/>
            <a:ext cx="6372720" cy="364284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6"/>
          <p:cNvSpPr/>
          <p:nvPr/>
        </p:nvSpPr>
        <p:spPr>
          <a:xfrm>
            <a:off x="1817280" y="2405160"/>
            <a:ext cx="4968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国结千变万化，如同孙悟空的“七十二变”，都能变出什么模样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13" descr=""/>
          <p:cNvPicPr/>
          <p:nvPr/>
        </p:nvPicPr>
        <p:blipFill>
          <a:blip r:embed="rId2"/>
          <a:stretch/>
        </p:blipFill>
        <p:spPr>
          <a:xfrm>
            <a:off x="1007280" y="1125360"/>
            <a:ext cx="998640" cy="15015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2"/>
          <p:cNvSpPr/>
          <p:nvPr/>
        </p:nvSpPr>
        <p:spPr>
          <a:xfrm>
            <a:off x="1763640" y="1657440"/>
            <a:ext cx="118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 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8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444" name="AutoShape 15"/>
          <p:cNvSpPr/>
          <p:nvPr/>
        </p:nvSpPr>
        <p:spPr>
          <a:xfrm>
            <a:off x="231120" y="792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445" name="TextBox 9"/>
          <p:cNvSpPr/>
          <p:nvPr/>
        </p:nvSpPr>
        <p:spPr>
          <a:xfrm>
            <a:off x="4423680" y="5000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同的模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图片 10" descr=""/>
          <p:cNvPicPr/>
          <p:nvPr/>
        </p:nvPicPr>
        <p:blipFill>
          <a:blip r:embed="rId1"/>
          <a:stretch/>
        </p:blipFill>
        <p:spPr>
          <a:xfrm>
            <a:off x="3222360" y="189000"/>
            <a:ext cx="552240" cy="8298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https://timgsa.baidu.com/timg?image&amp;quality=80&amp;size=b9999_10000&amp;sec=1524911424&amp;di=e213625db240dd0996bea76e9c0db434&amp;imgtype=jpg&amp;er=1&amp;src=http%3A%2F%2Fpic.58pic.com%2F00%2F87%2F42%2F32bOOOPIC08.jpg"/>
          <p:cNvPicPr/>
          <p:nvPr/>
        </p:nvPicPr>
        <p:blipFill>
          <a:blip r:embed="rId2"/>
          <a:stretch/>
        </p:blipFill>
        <p:spPr>
          <a:xfrm>
            <a:off x="898920" y="1413000"/>
            <a:ext cx="4373280" cy="483660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1"/>
          <p:cNvSpPr/>
          <p:nvPr/>
        </p:nvSpPr>
        <p:spPr>
          <a:xfrm>
            <a:off x="7150680" y="1989000"/>
            <a:ext cx="1004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寿桃结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送给爷爷奶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身体健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长命百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19"/>
          <p:cNvSpPr/>
          <p:nvPr/>
        </p:nvSpPr>
        <p:spPr>
          <a:xfrm>
            <a:off x="1899720" y="23796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9"/>
          <p:cNvSpPr/>
          <p:nvPr/>
        </p:nvSpPr>
        <p:spPr>
          <a:xfrm>
            <a:off x="539640" y="1197000"/>
            <a:ext cx="343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变一个代表长寿的“寿桃结”，送给爷爷、奶奶；变一个代表幸福的“同心结”，送给爸爸、妈妈；变一个代表和美的“团锦结”，送给兄弟姐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11" descr=""/>
          <p:cNvPicPr/>
          <p:nvPr/>
        </p:nvPicPr>
        <p:blipFill>
          <a:blip r:embed="rId1"/>
          <a:stretch/>
        </p:blipFill>
        <p:spPr>
          <a:xfrm>
            <a:off x="3978360" y="1341360"/>
            <a:ext cx="4612680" cy="159984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2" descr=""/>
          <p:cNvPicPr/>
          <p:nvPr/>
        </p:nvPicPr>
        <p:blipFill>
          <a:blip r:embed="rId2"/>
          <a:stretch/>
        </p:blipFill>
        <p:spPr>
          <a:xfrm>
            <a:off x="4089240" y="857160"/>
            <a:ext cx="855720" cy="1285560"/>
          </a:xfrm>
          <a:prstGeom prst="rect">
            <a:avLst/>
          </a:prstGeom>
          <a:ln w="0">
            <a:noFill/>
          </a:ln>
        </p:spPr>
      </p:pic>
      <p:sp>
        <p:nvSpPr>
          <p:cNvPr id="453" name="矩形 15"/>
          <p:cNvSpPr/>
          <p:nvPr/>
        </p:nvSpPr>
        <p:spPr>
          <a:xfrm>
            <a:off x="4356000" y="1773360"/>
            <a:ext cx="3761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句话运用了哪些修辞手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6"/>
          <p:cNvSpPr/>
          <p:nvPr/>
        </p:nvSpPr>
        <p:spPr>
          <a:xfrm>
            <a:off x="5706360" y="3284640"/>
            <a:ext cx="953280" cy="36396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排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7"/>
          <p:cNvGrpSpPr/>
          <p:nvPr/>
        </p:nvGrpSpPr>
        <p:grpSpPr>
          <a:xfrm>
            <a:off x="445320" y="1071360"/>
            <a:ext cx="3643560" cy="4214880"/>
            <a:chOff x="445320" y="1071360"/>
            <a:chExt cx="3643560" cy="4214880"/>
          </a:xfrm>
        </p:grpSpPr>
        <p:cxnSp>
          <p:nvCxnSpPr>
            <p:cNvPr id="456" name="直接连接符 8"/>
            <p:cNvCxnSpPr/>
            <p:nvPr/>
          </p:nvCxnSpPr>
          <p:spPr>
            <a:xfrm flipH="1">
              <a:off x="445320" y="5286240"/>
              <a:ext cx="3643920" cy="360"/>
            </a:xfrm>
            <a:prstGeom prst="straightConnector1">
              <a:avLst/>
            </a:prstGeom>
            <a:ln w="12700">
              <a:solidFill>
                <a:srgbClr val="854343"/>
              </a:solidFill>
            </a:ln>
          </p:spPr>
        </p:cxnSp>
        <p:grpSp>
          <p:nvGrpSpPr>
            <p:cNvPr id="457" name="组合 14"/>
            <p:cNvGrpSpPr/>
            <p:nvPr/>
          </p:nvGrpSpPr>
          <p:grpSpPr>
            <a:xfrm>
              <a:off x="445320" y="1071360"/>
              <a:ext cx="3643560" cy="4214880"/>
              <a:chOff x="445320" y="1071360"/>
              <a:chExt cx="3643560" cy="4214880"/>
            </a:xfrm>
          </p:grpSpPr>
          <p:cxnSp>
            <p:nvCxnSpPr>
              <p:cNvPr id="458" name="直接连接符 10"/>
              <p:cNvCxnSpPr/>
              <p:nvPr/>
            </p:nvCxnSpPr>
            <p:spPr>
              <a:xfrm>
                <a:off x="4088880" y="1492200"/>
                <a:ext cx="360" cy="379440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459" name="直接连接符 13"/>
              <p:cNvCxnSpPr/>
              <p:nvPr/>
            </p:nvCxnSpPr>
            <p:spPr>
              <a:xfrm flipH="1">
                <a:off x="445320" y="1071360"/>
                <a:ext cx="1525680" cy="36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460" name="直接连接符 18"/>
              <p:cNvCxnSpPr/>
              <p:nvPr/>
            </p:nvCxnSpPr>
            <p:spPr>
              <a:xfrm>
                <a:off x="445320" y="1071360"/>
                <a:ext cx="360" cy="421524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</p:grpSp>
      </p:grpSp>
      <p:pic>
        <p:nvPicPr>
          <p:cNvPr id="461" name="图片 19" descr=""/>
          <p:cNvPicPr/>
          <p:nvPr/>
        </p:nvPicPr>
        <p:blipFill>
          <a:blip r:embed="rId3"/>
          <a:srcRect l="0" t="0" r="-23211" b="-19292"/>
          <a:stretch/>
        </p:blipFill>
        <p:spPr>
          <a:xfrm>
            <a:off x="2481480" y="0"/>
            <a:ext cx="1650240" cy="16189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2"/>
          <p:cNvSpPr/>
          <p:nvPr/>
        </p:nvSpPr>
        <p:spPr>
          <a:xfrm>
            <a:off x="4786920" y="1143000"/>
            <a:ext cx="118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 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icture 2"/>
          <p:cNvSpPr/>
          <p:nvPr/>
        </p:nvSpPr>
        <p:spPr>
          <a:xfrm>
            <a:off x="6786360" y="4221000"/>
            <a:ext cx="1967040" cy="2100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6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4470120" y="4046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同的模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9" descr=""/>
          <p:cNvPicPr/>
          <p:nvPr/>
        </p:nvPicPr>
        <p:blipFill>
          <a:blip r:embed="rId1"/>
          <a:stretch/>
        </p:blipFill>
        <p:spPr>
          <a:xfrm>
            <a:off x="3167640" y="189000"/>
            <a:ext cx="552240" cy="8298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2505600" y="2060640"/>
            <a:ext cx="1004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双鱼结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送给新婚夫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幸福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吉庆有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2"/>
          <a:stretch/>
        </p:blipFill>
        <p:spPr>
          <a:xfrm>
            <a:off x="4734000" y="1124640"/>
            <a:ext cx="3402360" cy="530928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chemeClr val="bg2"/>
            </a:outerShdw>
            <a:softEdge rad="317520"/>
          </a:effectLst>
        </p:spPr>
      </p:pic>
    </p:spTree>
  </p:cSld>
  <p:transition spd="slow">
    <p:random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6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4470120" y="4046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同的模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图片 9" descr=""/>
          <p:cNvPicPr/>
          <p:nvPr/>
        </p:nvPicPr>
        <p:blipFill>
          <a:blip r:embed="rId1"/>
          <a:stretch/>
        </p:blipFill>
        <p:spPr>
          <a:xfrm>
            <a:off x="3167640" y="189000"/>
            <a:ext cx="552240" cy="82980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0"/>
          <p:cNvSpPr/>
          <p:nvPr/>
        </p:nvSpPr>
        <p:spPr>
          <a:xfrm>
            <a:off x="5544360" y="1773360"/>
            <a:ext cx="286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佩玉上装饰的“如意结”，寓意为称心如意，万事如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https://timgsa.baidu.com/timg?image&amp;quality=80&amp;size=b9999_10000&amp;sec=1524321980022&amp;di=2a95910aa5fb9fad4fc6ee13ab819e96&amp;imgtype=0&amp;src=http%3A%2F%2Fwww.sucaitianxia.com%2Fsheji%2Fpic%2F200711%2F20071123014105761.jpg"/>
          <p:cNvPicPr/>
          <p:nvPr/>
        </p:nvPicPr>
        <p:blipFill>
          <a:blip r:embed="rId2"/>
          <a:stretch/>
        </p:blipFill>
        <p:spPr>
          <a:xfrm>
            <a:off x="1007280" y="1125360"/>
            <a:ext cx="3829320" cy="5162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6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4470120" y="40464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同的模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图片 9" descr=""/>
          <p:cNvPicPr/>
          <p:nvPr/>
        </p:nvPicPr>
        <p:blipFill>
          <a:blip r:embed="rId1"/>
          <a:stretch/>
        </p:blipFill>
        <p:spPr>
          <a:xfrm>
            <a:off x="3167640" y="189000"/>
            <a:ext cx="552240" cy="829800"/>
          </a:xfrm>
          <a:prstGeom prst="rect">
            <a:avLst/>
          </a:prstGeom>
          <a:ln w="0">
            <a:noFill/>
          </a:ln>
        </p:spPr>
      </p:pic>
      <p:sp>
        <p:nvSpPr>
          <p:cNvPr id="477" name="TextBox 10"/>
          <p:cNvSpPr/>
          <p:nvPr/>
        </p:nvSpPr>
        <p:spPr>
          <a:xfrm>
            <a:off x="1115640" y="1557360"/>
            <a:ext cx="3293280" cy="10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在扇子上装饰一个“吉祥结”，代表大吉大利、吉人天相、祥瑞、美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https://timgsa.baidu.com/timg?image&amp;quality=80&amp;size=b9999_10000&amp;sec=1524322497868&amp;di=e546b93ee434805596b52f5abdcdd538&amp;imgtype=0&amp;src=http%3A%2F%2Fimg.ibabyzone.cn%2Falbum%2F03%2F72%2F54%2Fzhongguojie.jpg"/>
          <p:cNvPicPr/>
          <p:nvPr/>
        </p:nvPicPr>
        <p:blipFill>
          <a:blip r:embed="rId2"/>
          <a:stretch/>
        </p:blipFill>
        <p:spPr>
          <a:xfrm>
            <a:off x="4409280" y="1341360"/>
            <a:ext cx="3850560" cy="440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1"/>
          <p:cNvSpPr/>
          <p:nvPr/>
        </p:nvSpPr>
        <p:spPr>
          <a:xfrm>
            <a:off x="4626360" y="1357200"/>
            <a:ext cx="3750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中国结不同的含义中可以看出中国结具有深厚的内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https://timgsa.baidu.com/timg?image&amp;quality=80&amp;size=b9999_10000&amp;sec=1524368325910&amp;di=39f86ee52056f25324dea052fd37ad51&amp;imgtype=0&amp;src=http%3A%2F%2Fec4.images-amazon.com%2Fimages%2FI%2F616Ms-63lZL._SL1000_.jpg"/>
          <p:cNvPicPr/>
          <p:nvPr/>
        </p:nvPicPr>
        <p:blipFill>
          <a:blip r:embed="rId1"/>
          <a:stretch/>
        </p:blipFill>
        <p:spPr>
          <a:xfrm>
            <a:off x="338040" y="428760"/>
            <a:ext cx="4125600" cy="5500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image4.suning.cn/b2c/catentries/000000000125638674_2_800x800.jpg"/>
          <p:cNvPicPr/>
          <p:nvPr/>
        </p:nvPicPr>
        <p:blipFill>
          <a:blip r:embed="rId1"/>
          <a:stretch/>
        </p:blipFill>
        <p:spPr>
          <a:xfrm>
            <a:off x="7542360" y="3716280"/>
            <a:ext cx="1601280" cy="31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" descr="C:\Users\wzsdth\Documents\Tencent Files\332333193\Image\C2C\8ZPF8)40O0644HB%$0R_B2G.png"/>
          <p:cNvPicPr/>
          <p:nvPr/>
        </p:nvPicPr>
        <p:blipFill>
          <a:blip r:embed="rId2"/>
          <a:srcRect l="14524" t="0" r="4324" b="0"/>
          <a:stretch/>
        </p:blipFill>
        <p:spPr>
          <a:xfrm>
            <a:off x="2369520" y="1362240"/>
            <a:ext cx="5658120" cy="3665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8"/>
          <p:cNvSpPr/>
          <p:nvPr/>
        </p:nvSpPr>
        <p:spPr>
          <a:xfrm>
            <a:off x="3019320" y="1773360"/>
            <a:ext cx="4500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同学们，假如让你给一位外国的小朋友寄去一件最能代表中国特色，反映中国传统文化的礼物，你们会寄去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pic18.nipic.com/20120112/8535392_125934593000_2.jpg"/>
          <p:cNvPicPr/>
          <p:nvPr/>
        </p:nvPicPr>
        <p:blipFill>
          <a:blip r:embed="rId3"/>
          <a:stretch/>
        </p:blipFill>
        <p:spPr>
          <a:xfrm>
            <a:off x="391680" y="0"/>
            <a:ext cx="2732400" cy="600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3" descr=""/>
          <p:cNvPicPr/>
          <p:nvPr/>
        </p:nvPicPr>
        <p:blipFill>
          <a:blip r:embed="rId1"/>
          <a:stretch/>
        </p:blipFill>
        <p:spPr>
          <a:xfrm>
            <a:off x="0" y="1214280"/>
            <a:ext cx="4591440" cy="18000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14" descr=""/>
          <p:cNvPicPr/>
          <p:nvPr/>
        </p:nvPicPr>
        <p:blipFill>
          <a:blip r:embed="rId2"/>
          <a:stretch/>
        </p:blipFill>
        <p:spPr>
          <a:xfrm>
            <a:off x="790560" y="333360"/>
            <a:ext cx="779760" cy="12855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2"/>
          <p:cNvSpPr/>
          <p:nvPr/>
        </p:nvSpPr>
        <p:spPr>
          <a:xfrm>
            <a:off x="1331280" y="907920"/>
            <a:ext cx="118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 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3"/>
          <p:cNvSpPr/>
          <p:nvPr/>
        </p:nvSpPr>
        <p:spPr>
          <a:xfrm>
            <a:off x="647640" y="1646280"/>
            <a:ext cx="340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结的意义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https://timgsa.baidu.com/timg?image&amp;quality=80&amp;size=b9999_10000&amp;sec=1524323502809&amp;di=465788485fd257783e4383cb6ba84c3a&amp;imgtype=0&amp;src=http%3A%2F%2Fd6.yihaodianimg.com%2FN03%2FM06%2FC1%2F2F%2FCgQCtVPcXtWAF6JYAA3h0HlgUiM27600.jpg"/>
          <p:cNvPicPr/>
          <p:nvPr/>
        </p:nvPicPr>
        <p:blipFill>
          <a:blip r:embed="rId3"/>
          <a:stretch/>
        </p:blipFill>
        <p:spPr>
          <a:xfrm>
            <a:off x="4626360" y="1214280"/>
            <a:ext cx="391356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A_图片 4" descr=""/>
          <p:cNvPicPr/>
          <p:nvPr/>
        </p:nvPicPr>
        <p:blipFill>
          <a:blip r:embed="rId1"/>
          <a:stretch/>
        </p:blipFill>
        <p:spPr>
          <a:xfrm>
            <a:off x="4841640" y="2421000"/>
            <a:ext cx="3888720" cy="3981240"/>
          </a:xfrm>
          <a:prstGeom prst="rect">
            <a:avLst/>
          </a:prstGeom>
          <a:ln w="0">
            <a:noFill/>
          </a:ln>
        </p:spPr>
      </p:pic>
      <p:sp>
        <p:nvSpPr>
          <p:cNvPr id="487" name="矩形 1"/>
          <p:cNvSpPr/>
          <p:nvPr/>
        </p:nvSpPr>
        <p:spPr>
          <a:xfrm>
            <a:off x="952560" y="1557360"/>
            <a:ext cx="35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凝结中国人勤劳和智慧的中国结，传送着国人美好的祝福和心愿。让光彩耀眼的中国结走出国门，让世界各地的人了解我们的传统文化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2"/>
          <p:cNvSpPr/>
          <p:nvPr/>
        </p:nvSpPr>
        <p:spPr>
          <a:xfrm>
            <a:off x="5058360" y="3357720"/>
            <a:ext cx="350280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一段介绍了中国结体现了中国人民的智慧，表达了让世界各地的人都了解中国结的美好愿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组合 12"/>
          <p:cNvGrpSpPr/>
          <p:nvPr/>
        </p:nvGrpSpPr>
        <p:grpSpPr>
          <a:xfrm>
            <a:off x="883440" y="866520"/>
            <a:ext cx="3696120" cy="5119920"/>
            <a:chOff x="883440" y="866520"/>
            <a:chExt cx="3696120" cy="5119920"/>
          </a:xfrm>
        </p:grpSpPr>
        <p:cxnSp>
          <p:nvCxnSpPr>
            <p:cNvPr id="490" name="直接连接符 13"/>
            <p:cNvCxnSpPr/>
            <p:nvPr/>
          </p:nvCxnSpPr>
          <p:spPr>
            <a:xfrm flipH="1">
              <a:off x="883440" y="5986440"/>
              <a:ext cx="3696480" cy="360"/>
            </a:xfrm>
            <a:prstGeom prst="straightConnector1">
              <a:avLst/>
            </a:prstGeom>
            <a:ln w="12700">
              <a:solidFill>
                <a:srgbClr val="854343"/>
              </a:solidFill>
            </a:ln>
          </p:spPr>
        </p:cxnSp>
        <p:grpSp>
          <p:nvGrpSpPr>
            <p:cNvPr id="491" name="组合 14"/>
            <p:cNvGrpSpPr/>
            <p:nvPr/>
          </p:nvGrpSpPr>
          <p:grpSpPr>
            <a:xfrm>
              <a:off x="883440" y="866520"/>
              <a:ext cx="3696120" cy="5119920"/>
              <a:chOff x="883440" y="866520"/>
              <a:chExt cx="3696120" cy="5119920"/>
            </a:xfrm>
          </p:grpSpPr>
          <p:cxnSp>
            <p:nvCxnSpPr>
              <p:cNvPr id="492" name="直接连接符 17"/>
              <p:cNvCxnSpPr/>
              <p:nvPr/>
            </p:nvCxnSpPr>
            <p:spPr>
              <a:xfrm>
                <a:off x="4579560" y="1377720"/>
                <a:ext cx="360" cy="460908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493" name="直接连接符 18"/>
              <p:cNvCxnSpPr/>
              <p:nvPr/>
            </p:nvCxnSpPr>
            <p:spPr>
              <a:xfrm flipH="1">
                <a:off x="883440" y="866520"/>
                <a:ext cx="1548360" cy="36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494" name="直接连接符 19"/>
              <p:cNvCxnSpPr/>
              <p:nvPr/>
            </p:nvCxnSpPr>
            <p:spPr>
              <a:xfrm>
                <a:off x="883440" y="866520"/>
                <a:ext cx="360" cy="512028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</p:grpSp>
      </p:grpSp>
      <p:pic>
        <p:nvPicPr>
          <p:cNvPr id="495" name="图片 20" descr=""/>
          <p:cNvPicPr/>
          <p:nvPr/>
        </p:nvPicPr>
        <p:blipFill>
          <a:blip r:embed="rId2"/>
          <a:srcRect l="0" t="0" r="-23228" b="-19291"/>
          <a:stretch/>
        </p:blipFill>
        <p:spPr>
          <a:xfrm>
            <a:off x="3005640" y="189000"/>
            <a:ext cx="1123560" cy="1101240"/>
          </a:xfrm>
          <a:prstGeom prst="rect">
            <a:avLst/>
          </a:prstGeom>
          <a:ln w="0">
            <a:noFill/>
          </a:ln>
        </p:spPr>
      </p:pic>
      <p:cxnSp>
        <p:nvCxnSpPr>
          <p:cNvPr id="496" name="直接箭头连接符 23"/>
          <p:cNvCxnSpPr/>
          <p:nvPr/>
        </p:nvCxnSpPr>
        <p:spPr>
          <a:xfrm flipV="1">
            <a:off x="4031640" y="1844640"/>
            <a:ext cx="865080" cy="1656000"/>
          </a:xfrm>
          <a:prstGeom prst="straightConnector1">
            <a:avLst/>
          </a:prstGeom>
          <a:ln>
            <a:solidFill>
              <a:srgbClr val="5b9bd5"/>
            </a:solidFill>
            <a:tailEnd len="med" type="arrow" w="med"/>
          </a:ln>
        </p:spPr>
      </p:cxnSp>
      <p:sp>
        <p:nvSpPr>
          <p:cNvPr id="497" name="矩形 24"/>
          <p:cNvSpPr/>
          <p:nvPr/>
        </p:nvSpPr>
        <p:spPr>
          <a:xfrm>
            <a:off x="6060960" y="162864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形容人或事物十分美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492200" y="4175280"/>
            <a:ext cx="2321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99" name="矩形 54"/>
          <p:cNvSpPr/>
          <p:nvPr/>
        </p:nvSpPr>
        <p:spPr>
          <a:xfrm>
            <a:off x="1708920" y="1052640"/>
            <a:ext cx="542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想一想：你还了解中国哪些传统手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https://timgsa.baidu.com/timg?image&amp;quality=80&amp;size=b9999_10000&amp;sec=1524368818167&amp;di=027fdeebc0d7c82a769fbfb932e13974&amp;imgtype=jpg&amp;src=http%3A%2F%2Fimg0.imgtn.bdimg.com%2Fit%2Fu%3D25323815%2C87476376%26fm%3D214%26gp%3D0.jpg"/>
          <p:cNvPicPr/>
          <p:nvPr/>
        </p:nvPicPr>
        <p:blipFill>
          <a:blip r:embed="rId1"/>
          <a:stretch/>
        </p:blipFill>
        <p:spPr>
          <a:xfrm>
            <a:off x="284760" y="2143080"/>
            <a:ext cx="3873240" cy="3379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https://timgsa.baidu.com/timg?image&amp;quality=80&amp;size=b9999_10000&amp;sec=1524368904892&amp;di=d5e7455d1e3429e3e1098cf1dc971c85&amp;imgtype=0&amp;src=http%3A%2F%2Fimg13.house365.com%2Fbbsuserpic%2F2014%2F06%2F02%2F1401686200_62.jpg"/>
          <p:cNvPicPr/>
          <p:nvPr/>
        </p:nvPicPr>
        <p:blipFill>
          <a:blip r:embed="rId2"/>
          <a:stretch/>
        </p:blipFill>
        <p:spPr>
          <a:xfrm>
            <a:off x="4356000" y="2119320"/>
            <a:ext cx="46616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MH_SubTitle_1"/>
          <p:cNvSpPr/>
          <p:nvPr/>
        </p:nvSpPr>
        <p:spPr>
          <a:xfrm flipH="1">
            <a:off x="1546920" y="1619280"/>
            <a:ext cx="6103440" cy="3825360"/>
          </a:xfrm>
          <a:prstGeom prst="round2DiagRect">
            <a:avLst>
              <a:gd name="adj1" fmla="val 13988"/>
              <a:gd name="adj2" fmla="val 0"/>
            </a:avLst>
          </a:prstGeom>
          <a:solidFill>
            <a:srgbClr val="f3efef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2000" rIns="90000" tIns="45000" bIns="45000" anchor="ctr">
            <a:normAutofit/>
          </a:bodyPr>
          <a:p>
            <a:pPr>
              <a:lnSpc>
                <a:spcPct val="120000"/>
              </a:lnSpc>
            </a:pPr>
            <a:endParaRPr b="0" lang="da-DK" sz="16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03" name="MH_Other_1"/>
          <p:cNvSpPr/>
          <p:nvPr/>
        </p:nvSpPr>
        <p:spPr>
          <a:xfrm flipH="1">
            <a:off x="1574640" y="1604880"/>
            <a:ext cx="1871640" cy="2817360"/>
          </a:xfrm>
          <a:custGeom>
            <a:avLst/>
            <a:gdLst>
              <a:gd name="textAreaLeft" fmla="*/ -360 w 1871640"/>
              <a:gd name="textAreaRight" fmla="*/ 1871640 w 1871640"/>
              <a:gd name="textAreaTop" fmla="*/ 0 h 2817360"/>
              <a:gd name="textAreaBottom" fmla="*/ 2817720 h 2817360"/>
            </a:gdLst>
            <a:ahLst/>
            <a:rect l="textAreaLeft" t="textAreaTop" r="textAreaRight" b="textAreaBottom"/>
            <a:pathLst>
              <a:path w="1467218" h="1393371">
                <a:moveTo>
                  <a:pt x="1467218" y="0"/>
                </a:moveTo>
                <a:lnTo>
                  <a:pt x="0" y="0"/>
                </a:lnTo>
                <a:lnTo>
                  <a:pt x="1158617" y="1393371"/>
                </a:lnTo>
                <a:lnTo>
                  <a:pt x="1272313" y="1393371"/>
                </a:lnTo>
                <a:cubicBezTo>
                  <a:pt x="1379956" y="1393371"/>
                  <a:pt x="1467218" y="1306109"/>
                  <a:pt x="1467218" y="1198466"/>
                </a:cubicBezTo>
                <a:close/>
              </a:path>
            </a:pathLst>
          </a:custGeom>
          <a:solidFill>
            <a:schemeClr val="accent3"/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612000" tIns="45000" bIns="45000" anchor="t">
            <a:normAutofit/>
          </a:bodyPr>
          <a:p>
            <a:pPr algn="ctr">
              <a:lnSpc>
                <a:spcPct val="130000"/>
              </a:lnSpc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MH_Text_1"/>
          <p:cNvSpPr/>
          <p:nvPr/>
        </p:nvSpPr>
        <p:spPr>
          <a:xfrm>
            <a:off x="2681640" y="2163600"/>
            <a:ext cx="496872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这篇课文通过对中国结的由来、中国结的形态和中国结的蕴意的描写，展示了中国结的独特魅力，表达了作者对中国结的喜爱之情和民族自豪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4"/>
          <p:cNvSpPr/>
          <p:nvPr/>
        </p:nvSpPr>
        <p:spPr>
          <a:xfrm>
            <a:off x="666720" y="228600"/>
            <a:ext cx="196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总结概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直接连接符 7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07" name="直接连接符 8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08" name="直接连接符 9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09" name="直接连接符 11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510" name="图片 12" descr=""/>
          <p:cNvPicPr/>
          <p:nvPr/>
        </p:nvPicPr>
        <p:blipFill>
          <a:blip r:embed="rId1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9"/>
          <p:cNvSpPr/>
          <p:nvPr/>
        </p:nvSpPr>
        <p:spPr>
          <a:xfrm>
            <a:off x="1523160" y="1604880"/>
            <a:ext cx="19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主题思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icture 2"/>
          <p:cNvSpPr/>
          <p:nvPr/>
        </p:nvSpPr>
        <p:spPr>
          <a:xfrm>
            <a:off x="1169280" y="3069000"/>
            <a:ext cx="1458000" cy="309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5"/>
          <p:cNvSpPr/>
          <p:nvPr/>
        </p:nvSpPr>
        <p:spPr>
          <a:xfrm>
            <a:off x="2737440" y="1690560"/>
            <a:ext cx="1761840" cy="5770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结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4581000" y="3065400"/>
            <a:ext cx="1665720" cy="5770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丽、独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54"/>
          <p:cNvSpPr/>
          <p:nvPr/>
        </p:nvSpPr>
        <p:spPr>
          <a:xfrm>
            <a:off x="9282240" y="5084640"/>
            <a:ext cx="55440" cy="78840"/>
          </a:xfrm>
          <a:custGeom>
            <a:avLst/>
            <a:gdLst>
              <a:gd name="textAreaLeft" fmla="*/ 0 w 55440"/>
              <a:gd name="textAreaRight" fmla="*/ 55800 w 554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25" h="27">
                <a:moveTo>
                  <a:pt x="3" y="10"/>
                </a:moveTo>
                <a:cubicBezTo>
                  <a:pt x="7" y="13"/>
                  <a:pt x="10" y="17"/>
                  <a:pt x="13" y="21"/>
                </a:cubicBezTo>
                <a:cubicBezTo>
                  <a:pt x="16" y="27"/>
                  <a:pt x="25" y="22"/>
                  <a:pt x="22" y="16"/>
                </a:cubicBezTo>
                <a:cubicBezTo>
                  <a:pt x="18" y="10"/>
                  <a:pt x="14" y="5"/>
                  <a:pt x="8" y="1"/>
                </a:cubicBezTo>
                <a:cubicBezTo>
                  <a:pt x="6" y="0"/>
                  <a:pt x="2" y="1"/>
                  <a:pt x="1" y="3"/>
                </a:cubicBezTo>
                <a:cubicBezTo>
                  <a:pt x="0" y="6"/>
                  <a:pt x="1" y="8"/>
                  <a:pt x="3" y="10"/>
                </a:cubicBezTo>
                <a:close/>
              </a:path>
            </a:pathLst>
          </a:custGeom>
          <a:solidFill>
            <a:srgbClr val="ef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16" name="Freeform 355"/>
          <p:cNvSpPr/>
          <p:nvPr/>
        </p:nvSpPr>
        <p:spPr>
          <a:xfrm>
            <a:off x="9248760" y="5164200"/>
            <a:ext cx="33120" cy="60120"/>
          </a:xfrm>
          <a:custGeom>
            <a:avLst/>
            <a:gdLst>
              <a:gd name="textAreaLeft" fmla="*/ 0 w 33120"/>
              <a:gd name="textAreaRight" fmla="*/ 33480 w 331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21">
                <a:moveTo>
                  <a:pt x="5" y="3"/>
                </a:moveTo>
                <a:cubicBezTo>
                  <a:pt x="3" y="6"/>
                  <a:pt x="2" y="9"/>
                  <a:pt x="1" y="12"/>
                </a:cubicBezTo>
                <a:cubicBezTo>
                  <a:pt x="0" y="15"/>
                  <a:pt x="0" y="18"/>
                  <a:pt x="3" y="19"/>
                </a:cubicBezTo>
                <a:cubicBezTo>
                  <a:pt x="5" y="21"/>
                  <a:pt x="8" y="20"/>
                  <a:pt x="10" y="17"/>
                </a:cubicBezTo>
                <a:cubicBezTo>
                  <a:pt x="11" y="14"/>
                  <a:pt x="12" y="11"/>
                  <a:pt x="13" y="8"/>
                </a:cubicBezTo>
                <a:cubicBezTo>
                  <a:pt x="15" y="6"/>
                  <a:pt x="14" y="3"/>
                  <a:pt x="12" y="1"/>
                </a:cubicBezTo>
                <a:cubicBezTo>
                  <a:pt x="9" y="0"/>
                  <a:pt x="6" y="1"/>
                  <a:pt x="5" y="3"/>
                </a:cubicBezTo>
                <a:close/>
              </a:path>
            </a:pathLst>
          </a:custGeom>
          <a:solidFill>
            <a:srgbClr val="ef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17" name="Freeform 356"/>
          <p:cNvSpPr/>
          <p:nvPr/>
        </p:nvSpPr>
        <p:spPr>
          <a:xfrm>
            <a:off x="9271440" y="5381640"/>
            <a:ext cx="50760" cy="61560"/>
          </a:xfrm>
          <a:custGeom>
            <a:avLst/>
            <a:gdLst>
              <a:gd name="textAreaLeft" fmla="*/ 0 w 50760"/>
              <a:gd name="textAreaRight" fmla="*/ 51120 w 5076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3" h="21">
                <a:moveTo>
                  <a:pt x="5" y="12"/>
                </a:moveTo>
                <a:cubicBezTo>
                  <a:pt x="8" y="13"/>
                  <a:pt x="9" y="15"/>
                  <a:pt x="11" y="16"/>
                </a:cubicBezTo>
                <a:cubicBezTo>
                  <a:pt x="16" y="21"/>
                  <a:pt x="23" y="14"/>
                  <a:pt x="18" y="9"/>
                </a:cubicBezTo>
                <a:cubicBezTo>
                  <a:pt x="16" y="7"/>
                  <a:pt x="13" y="5"/>
                  <a:pt x="11" y="3"/>
                </a:cubicBezTo>
                <a:cubicBezTo>
                  <a:pt x="5" y="0"/>
                  <a:pt x="0" y="9"/>
                  <a:pt x="5" y="12"/>
                </a:cubicBezTo>
                <a:close/>
              </a:path>
            </a:pathLst>
          </a:custGeom>
          <a:solidFill>
            <a:srgbClr val="efb7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736360" y="3738600"/>
            <a:ext cx="1763280" cy="5770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结的蕴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左大括号 1"/>
          <p:cNvSpPr/>
          <p:nvPr/>
        </p:nvSpPr>
        <p:spPr>
          <a:xfrm>
            <a:off x="2241000" y="1658880"/>
            <a:ext cx="277200" cy="3465000"/>
          </a:xfrm>
          <a:prstGeom prst="leftBrace">
            <a:avLst>
              <a:gd name="adj1" fmla="val 8333"/>
              <a:gd name="adj2" fmla="val 50000"/>
            </a:avLst>
          </a:prstGeom>
          <a:noFill/>
          <a:ln w="76200">
            <a:solidFill>
              <a:srgbClr val="a5a5a5">
                <a:lumMod val="75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0" name="组合 3"/>
          <p:cNvGrpSpPr/>
          <p:nvPr/>
        </p:nvGrpSpPr>
        <p:grpSpPr>
          <a:xfrm>
            <a:off x="1080360" y="1789560"/>
            <a:ext cx="988560" cy="3516480"/>
            <a:chOff x="1080360" y="1789560"/>
            <a:chExt cx="988560" cy="3516480"/>
          </a:xfrm>
        </p:grpSpPr>
        <p:grpSp>
          <p:nvGrpSpPr>
            <p:cNvPr id="521" name="组合 61"/>
            <p:cNvGrpSpPr/>
            <p:nvPr/>
          </p:nvGrpSpPr>
          <p:grpSpPr>
            <a:xfrm>
              <a:off x="1080360" y="1789560"/>
              <a:ext cx="798840" cy="3516480"/>
              <a:chOff x="1080360" y="1789560"/>
              <a:chExt cx="798840" cy="3516480"/>
            </a:xfrm>
          </p:grpSpPr>
          <p:sp>
            <p:nvSpPr>
              <p:cNvPr id="522" name="圆角矩形 62"/>
              <p:cNvSpPr/>
              <p:nvPr/>
            </p:nvSpPr>
            <p:spPr>
              <a:xfrm rot="16800">
                <a:off x="1107000" y="2327040"/>
                <a:ext cx="676800" cy="1922040"/>
              </a:xfrm>
              <a:prstGeom prst="roundRect">
                <a:avLst>
                  <a:gd name="adj" fmla="val 16667"/>
                </a:avLst>
              </a:prstGeom>
              <a:noFill/>
              <a:ln w="25400">
                <a:solidFill>
                  <a:srgbClr val="ffffff"/>
                </a:solidFill>
                <a:prstDash val="sysDot"/>
                <a:round/>
              </a:ln>
              <a:effectLst>
                <a:outerShdw algn="l" dist="12600" rotWithShape="0">
                  <a:srgbClr val="98480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23" name="圆角矩形 63"/>
              <p:cNvSpPr/>
              <p:nvPr/>
            </p:nvSpPr>
            <p:spPr>
              <a:xfrm rot="25200">
                <a:off x="1092960" y="1792080"/>
                <a:ext cx="773280" cy="351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9d04"/>
                  </a:gs>
                  <a:gs pos="100000">
                    <a:srgbClr val="ec6a00"/>
                  </a:gs>
                </a:gsLst>
                <a:path path="circle">
                  <a:fillToRect l="50000" t="50000" r="50000" b="50000"/>
                </a:path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4" name="矩形 18"/>
              <p:cNvSpPr/>
              <p:nvPr/>
            </p:nvSpPr>
            <p:spPr>
              <a:xfrm>
                <a:off x="1145160" y="2332440"/>
                <a:ext cx="417600" cy="19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中国结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右箭头 2"/>
            <p:cNvSpPr/>
            <p:nvPr/>
          </p:nvSpPr>
          <p:spPr>
            <a:xfrm>
              <a:off x="1824120" y="2833560"/>
              <a:ext cx="244800" cy="9363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accent3">
                <a:lumMod val="75000"/>
              </a:schemeClr>
            </a:solidFill>
            <a:ln>
              <a:solidFill>
                <a:srgbClr val="a5a5a5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26" name="Text Box 5"/>
          <p:cNvSpPr/>
          <p:nvPr/>
        </p:nvSpPr>
        <p:spPr>
          <a:xfrm>
            <a:off x="2737440" y="2714760"/>
            <a:ext cx="1761840" cy="5770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结的形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6"/>
          <p:cNvSpPr/>
          <p:nvPr/>
        </p:nvSpPr>
        <p:spPr>
          <a:xfrm>
            <a:off x="6570720" y="2492280"/>
            <a:ext cx="208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喜爱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2736360" y="4762440"/>
            <a:ext cx="1763280" cy="57708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结的流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左大括号 18"/>
          <p:cNvSpPr/>
          <p:nvPr/>
        </p:nvSpPr>
        <p:spPr>
          <a:xfrm flipH="1">
            <a:off x="6287400" y="1714680"/>
            <a:ext cx="275760" cy="3465000"/>
          </a:xfrm>
          <a:prstGeom prst="leftBrace">
            <a:avLst>
              <a:gd name="adj1" fmla="val 8333"/>
              <a:gd name="adj2" fmla="val 50000"/>
            </a:avLst>
          </a:prstGeom>
          <a:noFill/>
          <a:ln w="76200">
            <a:solidFill>
              <a:srgbClr val="a5a5a5">
                <a:lumMod val="75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466920" y="260280"/>
            <a:ext cx="177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结构导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1"/>
          <p:cNvSpPr/>
          <p:nvPr/>
        </p:nvSpPr>
        <p:spPr>
          <a:xfrm>
            <a:off x="6624360" y="3716280"/>
            <a:ext cx="208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自豪之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组合 10"/>
          <p:cNvGrpSpPr/>
          <p:nvPr/>
        </p:nvGrpSpPr>
        <p:grpSpPr>
          <a:xfrm>
            <a:off x="874080" y="2428920"/>
            <a:ext cx="1875240" cy="2285640"/>
            <a:chOff x="874080" y="2428920"/>
            <a:chExt cx="1875240" cy="2285640"/>
          </a:xfrm>
        </p:grpSpPr>
        <p:sp>
          <p:nvSpPr>
            <p:cNvPr id="533" name="椭圆 6"/>
            <p:cNvSpPr/>
            <p:nvPr/>
          </p:nvSpPr>
          <p:spPr>
            <a:xfrm>
              <a:off x="874080" y="2428920"/>
              <a:ext cx="1875240" cy="2285640"/>
            </a:xfrm>
            <a:prstGeom prst="ellipse">
              <a:avLst/>
            </a:prstGeom>
            <a:solidFill>
              <a:schemeClr val="accent2"/>
            </a:solidFill>
            <a:ln>
              <a:solidFill>
                <a:srgbClr val="43729d"/>
              </a:solidFill>
            </a:ln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4" name="矩形 38"/>
            <p:cNvSpPr/>
            <p:nvPr/>
          </p:nvSpPr>
          <p:spPr>
            <a:xfrm>
              <a:off x="1384560" y="3077640"/>
              <a:ext cx="954360" cy="8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排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矩形 7"/>
          <p:cNvSpPr/>
          <p:nvPr/>
        </p:nvSpPr>
        <p:spPr>
          <a:xfrm>
            <a:off x="3286080" y="857160"/>
            <a:ext cx="5390640" cy="63828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  <a:scene3d>
            <a:camera prst="orthographicFront"/>
            <a:lightRig dir="t" rig="threePt"/>
          </a:scene3d>
          <a:sp3d>
            <a:bevelT prst="hardEdge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定义：是一种把结构相同或相似、意思密切相关、语气一致的词语或句子成串地排列的一种修辞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"/>
          <p:cNvSpPr/>
          <p:nvPr/>
        </p:nvSpPr>
        <p:spPr>
          <a:xfrm>
            <a:off x="3339360" y="3143160"/>
            <a:ext cx="5401080" cy="464400"/>
          </a:xfrm>
          <a:prstGeom prst="rect">
            <a:avLst/>
          </a:prstGeom>
          <a:solidFill>
            <a:schemeClr val="accent3">
              <a:lumMod val="75000"/>
            </a:schemeClr>
          </a:solidFill>
          <a:ln w="9525">
            <a:noFill/>
          </a:ln>
          <a:scene3d>
            <a:camera prst="orthographicFront"/>
            <a:lightRig dir="t" rig="threePt"/>
          </a:scene3d>
          <a:sp3d>
            <a:bevelT prst="hardEdge" w="114300"/>
          </a:sp3d>
        </p:spPr>
        <p:style>
          <a:lnRef idx="0"/>
          <a:fillRef idx="0"/>
          <a:effectRef idx="0"/>
          <a:fontRef idx="minor"/>
        </p:style>
        <p:txBody>
          <a:bodyPr lIns="0" rIns="0" tIns="95400" bIns="954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特点：恰当地运用排比能表达强烈奔放的感情，增强语言的气势和表达效果。活泼、亲近，使文章更加生动形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"/>
          <p:cNvSpPr/>
          <p:nvPr/>
        </p:nvSpPr>
        <p:spPr>
          <a:xfrm>
            <a:off x="3339360" y="4879080"/>
            <a:ext cx="5401080" cy="1013040"/>
          </a:xfrm>
          <a:prstGeom prst="rect">
            <a:avLst/>
          </a:prstGeom>
          <a:solidFill>
            <a:srgbClr val="00b050"/>
          </a:solidFill>
          <a:ln w="9525">
            <a:noFill/>
          </a:ln>
          <a:scene3d>
            <a:camera prst="orthographicFront"/>
            <a:lightRig dir="t" rig="threePt"/>
          </a:scene3d>
          <a:sp3d>
            <a:bevelT prst="hardEdge" w="114300"/>
          </a:sp3d>
        </p:spPr>
        <p:style>
          <a:lnRef idx="0"/>
          <a:fillRef idx="0"/>
          <a:effectRef idx="0"/>
          <a:fontRef idx="minor"/>
        </p:style>
        <p:txBody>
          <a:bodyPr lIns="0" rIns="0" tIns="95400" bIns="954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例句：选择博爱，就是选择对情感的珍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选择博爱，就是选择对万物的眷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选择博爱，就是选择高远的人生志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9"/>
          <p:cNvSpPr/>
          <p:nvPr/>
        </p:nvSpPr>
        <p:spPr>
          <a:xfrm>
            <a:off x="1076400" y="1400040"/>
            <a:ext cx="177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法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22"/>
          <p:cNvGrpSpPr/>
          <p:nvPr/>
        </p:nvGrpSpPr>
        <p:grpSpPr>
          <a:xfrm>
            <a:off x="1439280" y="260640"/>
            <a:ext cx="6967440" cy="5976360"/>
            <a:chOff x="1439280" y="260640"/>
            <a:chExt cx="6967440" cy="5976360"/>
          </a:xfrm>
        </p:grpSpPr>
        <p:sp>
          <p:nvSpPr>
            <p:cNvPr id="540" name="椭圆 23"/>
            <p:cNvSpPr/>
            <p:nvPr/>
          </p:nvSpPr>
          <p:spPr>
            <a:xfrm>
              <a:off x="1439280" y="260640"/>
              <a:ext cx="6967440" cy="597636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  <a:effectLst>
              <a:outerShdw algn="tr" blurRad="444600" dir="8100000" dist="254049" rotWithShape="0">
                <a:srgbClr val="000000">
                  <a:alpha val="5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1" name="TextBox 376"/>
            <p:cNvSpPr/>
            <p:nvPr/>
          </p:nvSpPr>
          <p:spPr>
            <a:xfrm>
              <a:off x="3544200" y="1359720"/>
              <a:ext cx="18432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endParaRPr b="1" lang="en-US" sz="32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sp>
        <p:nvSpPr>
          <p:cNvPr id="542" name="Text Box 17"/>
          <p:cNvSpPr/>
          <p:nvPr/>
        </p:nvSpPr>
        <p:spPr>
          <a:xfrm>
            <a:off x="2268000" y="1125000"/>
            <a:ext cx="56714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想想你还知道哪些不同蕴意的中国结，试着用一段话写下来，别忘记加上排比的修辞。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： “如意结”，意为称心如意、万事如意；“吉祥结”，代表大吉大利、吉人天相、祥瑞、美好；“蝴蝶结”，“蝴”与“福”谐音，寓意福在眼前，福运迭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9"/>
          <p:cNvSpPr/>
          <p:nvPr/>
        </p:nvSpPr>
        <p:spPr>
          <a:xfrm>
            <a:off x="683640" y="493560"/>
            <a:ext cx="177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练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icture 2"/>
          <p:cNvSpPr/>
          <p:nvPr/>
        </p:nvSpPr>
        <p:spPr>
          <a:xfrm>
            <a:off x="499680" y="3571920"/>
            <a:ext cx="1854360" cy="2430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75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75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1"/>
          <p:cNvSpPr/>
          <p:nvPr/>
        </p:nvSpPr>
        <p:spPr>
          <a:xfrm>
            <a:off x="3870000" y="1557360"/>
            <a:ext cx="5022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剪纸艺术是最古老的中国民间艺术之一，通过一把剪刀，一张纸，就可以表达生活中的各种喜怒哀乐。每逢过节或新婚喜庆，人们便用剪刀将鲜艳的纸剪成各种各样的图案贴在家中窗户、墙壁、门和灯笼上，节日的气氛也因此被烘托得更加热烈。作为一种镂空艺术，它能给人以视觉上以透空的感觉和艺术享受。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4"/>
          <p:cNvSpPr/>
          <p:nvPr/>
        </p:nvSpPr>
        <p:spPr>
          <a:xfrm>
            <a:off x="5865480" y="4762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剪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"/>
          <p:cNvSpPr/>
          <p:nvPr/>
        </p:nvSpPr>
        <p:spPr>
          <a:xfrm>
            <a:off x="666720" y="228600"/>
            <a:ext cx="18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拓展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直接连接符 6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49" name="直接连接符 7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50" name="直接连接符 8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51" name="直接连接符 9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552" name="图片 10" descr=""/>
          <p:cNvPicPr/>
          <p:nvPr/>
        </p:nvPicPr>
        <p:blipFill>
          <a:blip r:embed="rId1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https://timgsa.baidu.com/timg?image&amp;quality=80&amp;size=b9999_10000&amp;sec=1526448311750&amp;di=5e68bdab9d57a8dd150783d3e49b2887&amp;imgtype=0&amp;src=http%3A%2F%2Fpic.qiantucdn.com%2F58pic%2F17%2F49%2F22%2F51Z58PICdV7_1024.jpg"/>
          <p:cNvPicPr/>
          <p:nvPr/>
        </p:nvPicPr>
        <p:blipFill>
          <a:blip r:embed="rId2"/>
          <a:stretch/>
        </p:blipFill>
        <p:spPr>
          <a:xfrm>
            <a:off x="683640" y="1628640"/>
            <a:ext cx="2917080" cy="462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https://timgsa.baidu.com/timg?image&amp;quality=80&amp;size=b9999_10000&amp;sec=1524337400841&amp;di=1c12e66f5cabfc44d65c7ae10510b154&amp;imgtype=0&amp;src=http%3A%2F%2Fdocs.ebdoor.com%2FImage%2FProductImage%2F0%2F142%2F1427813_1.jpg"/>
          <p:cNvPicPr/>
          <p:nvPr/>
        </p:nvPicPr>
        <p:blipFill>
          <a:blip r:embed="rId1"/>
          <a:stretch/>
        </p:blipFill>
        <p:spPr>
          <a:xfrm>
            <a:off x="196560" y="1268280"/>
            <a:ext cx="2179800" cy="516204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14"/>
          <p:cNvSpPr/>
          <p:nvPr/>
        </p:nvSpPr>
        <p:spPr>
          <a:xfrm>
            <a:off x="666720" y="228600"/>
            <a:ext cx="182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随堂演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直接连接符 19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57" name="直接连接符 20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58" name="直接连接符 21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559" name="直接连接符 22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560" name="图片 23" descr=""/>
          <p:cNvPicPr/>
          <p:nvPr/>
        </p:nvPicPr>
        <p:blipFill>
          <a:blip r:embed="rId2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2464920" y="1341360"/>
            <a:ext cx="4338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、给下面的形近字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2140920" y="2568240"/>
            <a:ext cx="73814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庭（         ）   型（         ）    绳（         ）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挺（         ）   形（         ）    蝇（         ）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2034000" y="4223880"/>
            <a:ext cx="7109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扣（         ）      兄（         ）   弟（         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拍（         ）      兑（         ）   第（  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1"/>
          <p:cNvSpPr/>
          <p:nvPr/>
        </p:nvSpPr>
        <p:spPr>
          <a:xfrm>
            <a:off x="2087280" y="1125360"/>
            <a:ext cx="5833440" cy="4714560"/>
          </a:xfrm>
          <a:prstGeom prst="rect">
            <a:avLst/>
          </a:prstGeom>
          <a:noFill/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矩形 13"/>
          <p:cNvSpPr/>
          <p:nvPr/>
        </p:nvSpPr>
        <p:spPr>
          <a:xfrm>
            <a:off x="3226680" y="2349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4"/>
          <p:cNvSpPr/>
          <p:nvPr/>
        </p:nvSpPr>
        <p:spPr>
          <a:xfrm>
            <a:off x="3171960" y="2852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挺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5"/>
          <p:cNvSpPr/>
          <p:nvPr/>
        </p:nvSpPr>
        <p:spPr>
          <a:xfrm>
            <a:off x="4829400" y="2349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4829400" y="2852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形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7"/>
          <p:cNvSpPr/>
          <p:nvPr/>
        </p:nvSpPr>
        <p:spPr>
          <a:xfrm>
            <a:off x="6737040" y="2349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细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4"/>
          <p:cNvSpPr/>
          <p:nvPr/>
        </p:nvSpPr>
        <p:spPr>
          <a:xfrm>
            <a:off x="6737040" y="2852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苍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25"/>
          <p:cNvSpPr/>
          <p:nvPr/>
        </p:nvSpPr>
        <p:spPr>
          <a:xfrm>
            <a:off x="2742480" y="4005360"/>
            <a:ext cx="80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扣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6"/>
          <p:cNvSpPr/>
          <p:nvPr/>
        </p:nvSpPr>
        <p:spPr>
          <a:xfrm>
            <a:off x="3064680" y="4508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拍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7"/>
          <p:cNvSpPr/>
          <p:nvPr/>
        </p:nvSpPr>
        <p:spPr>
          <a:xfrm>
            <a:off x="5009400" y="4005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兄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29"/>
          <p:cNvSpPr/>
          <p:nvPr/>
        </p:nvSpPr>
        <p:spPr>
          <a:xfrm>
            <a:off x="5009400" y="4508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兑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31"/>
          <p:cNvSpPr/>
          <p:nvPr/>
        </p:nvSpPr>
        <p:spPr>
          <a:xfrm>
            <a:off x="6790680" y="4005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弟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32"/>
          <p:cNvSpPr/>
          <p:nvPr/>
        </p:nvSpPr>
        <p:spPr>
          <a:xfrm>
            <a:off x="6790680" y="4508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0" descr="PPT素材-21"/>
          <p:cNvPicPr/>
          <p:nvPr/>
        </p:nvPicPr>
        <p:blipFill>
          <a:blip r:embed="rId1"/>
          <a:stretch/>
        </p:blipFill>
        <p:spPr>
          <a:xfrm>
            <a:off x="1439640" y="649440"/>
            <a:ext cx="6401160" cy="62002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2352960" y="1924200"/>
            <a:ext cx="4574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《中国结》这篇课文运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___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修辞手法，展示了中国结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表达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683640" y="4192560"/>
            <a:ext cx="1310760" cy="19778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790560" y="476280"/>
            <a:ext cx="4991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、回忆课文，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96560" y="1773360"/>
            <a:ext cx="124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735280" y="2924280"/>
            <a:ext cx="683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排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2464920" y="3789360"/>
            <a:ext cx="70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3384360" y="3789360"/>
            <a:ext cx="700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4409280" y="3789360"/>
            <a:ext cx="70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蕴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145240" y="5174280"/>
            <a:ext cx="4990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作者对中国结的喜爱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icture 2"/>
          <p:cNvSpPr/>
          <p:nvPr/>
        </p:nvSpPr>
        <p:spPr>
          <a:xfrm>
            <a:off x="6875280" y="2061000"/>
            <a:ext cx="2268360" cy="3024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"/>
          <p:cNvSpPr/>
          <p:nvPr/>
        </p:nvSpPr>
        <p:spPr>
          <a:xfrm>
            <a:off x="1403640" y="17787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preview.quanjing.com/bjisub008/bji90010471.jpg"/>
          <p:cNvPicPr/>
          <p:nvPr/>
        </p:nvPicPr>
        <p:blipFill>
          <a:blip r:embed="rId1"/>
          <a:stretch/>
        </p:blipFill>
        <p:spPr>
          <a:xfrm>
            <a:off x="0" y="0"/>
            <a:ext cx="5375880" cy="6756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8"/>
          <p:cNvSpPr/>
          <p:nvPr/>
        </p:nvSpPr>
        <p:spPr>
          <a:xfrm>
            <a:off x="5376240" y="1541520"/>
            <a:ext cx="348264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缕红丝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交错结龙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心似双丝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有千千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8"/>
          <p:cNvSpPr/>
          <p:nvPr/>
        </p:nvSpPr>
        <p:spPr>
          <a:xfrm>
            <a:off x="6587280" y="357120"/>
            <a:ext cx="591120" cy="363960"/>
          </a:xfrm>
          <a:prstGeom prst="rect">
            <a:avLst/>
          </a:prstGeom>
          <a:noFill/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猜一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"/>
          <p:cNvSpPr/>
          <p:nvPr/>
        </p:nvSpPr>
        <p:spPr>
          <a:xfrm>
            <a:off x="-51120" y="-14400"/>
            <a:ext cx="9241200" cy="3371400"/>
          </a:xfrm>
          <a:prstGeom prst="rect">
            <a:avLst/>
          </a:pr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矩形 107"/>
          <p:cNvSpPr/>
          <p:nvPr/>
        </p:nvSpPr>
        <p:spPr>
          <a:xfrm>
            <a:off x="-51120" y="-14400"/>
            <a:ext cx="9241200" cy="3371400"/>
          </a:xfrm>
          <a:prstGeom prst="rect">
            <a:avLst/>
          </a:prstGeom>
          <a:solidFill>
            <a:srgbClr val="ff6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AutoShape 2"/>
          <p:cNvSpPr/>
          <p:nvPr/>
        </p:nvSpPr>
        <p:spPr>
          <a:xfrm>
            <a:off x="5165640" y="870120"/>
            <a:ext cx="3265920" cy="6014520"/>
          </a:xfrm>
          <a:custGeom>
            <a:avLst/>
            <a:gdLst>
              <a:gd name="textAreaLeft" fmla="*/ 0 w 3265920"/>
              <a:gd name="textAreaRight" fmla="*/ 3266280 w 3265920"/>
              <a:gd name="textAreaTop" fmla="*/ 0 h 6014520"/>
              <a:gd name="textAreaBottom" fmla="*/ 6014880 h 6014520"/>
            </a:gdLst>
            <a:ahLst/>
            <a:rect l="textAreaLeft" t="textAreaTop" r="textAreaRight" b="textAreaBottom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700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7241040" y="2851200"/>
            <a:ext cx="312840" cy="617040"/>
          </a:xfrm>
          <a:custGeom>
            <a:avLst/>
            <a:gdLst>
              <a:gd name="textAreaLeft" fmla="*/ 0 w 312840"/>
              <a:gd name="textAreaRight" fmla="*/ 313200 w 312840"/>
              <a:gd name="textAreaTop" fmla="*/ 0 h 617040"/>
              <a:gd name="textAreaBottom" fmla="*/ 617400 h 617040"/>
            </a:gdLst>
            <a:ahLst/>
            <a:rect l="textAreaLeft" t="textAreaTop" r="textAreaRight" b="textAreaBottom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7691400" y="2606760"/>
            <a:ext cx="294840" cy="634680"/>
          </a:xfrm>
          <a:custGeom>
            <a:avLst/>
            <a:gdLst>
              <a:gd name="textAreaLeft" fmla="*/ 0 w 294840"/>
              <a:gd name="textAreaRight" fmla="*/ 295200 w 294840"/>
              <a:gd name="textAreaTop" fmla="*/ 0 h 634680"/>
              <a:gd name="textAreaBottom" fmla="*/ 635040 h 634680"/>
            </a:gdLst>
            <a:ahLst/>
            <a:rect l="textAreaLeft" t="textAreaTop" r="textAreaRight" b="textAreaBottom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8191440" y="2217600"/>
            <a:ext cx="348480" cy="745920"/>
          </a:xfrm>
          <a:custGeom>
            <a:avLst/>
            <a:gdLst>
              <a:gd name="textAreaLeft" fmla="*/ 0 w 348480"/>
              <a:gd name="textAreaRight" fmla="*/ 348840 w 34848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8580600" y="2689200"/>
            <a:ext cx="563040" cy="417240"/>
          </a:xfrm>
          <a:custGeom>
            <a:avLst/>
            <a:gdLst>
              <a:gd name="textAreaLeft" fmla="*/ 0 w 563040"/>
              <a:gd name="textAreaRight" fmla="*/ 563400 w 56304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5" name="AutoShape 7"/>
          <p:cNvSpPr/>
          <p:nvPr/>
        </p:nvSpPr>
        <p:spPr>
          <a:xfrm>
            <a:off x="8332920" y="3375000"/>
            <a:ext cx="485640" cy="383760"/>
          </a:xfrm>
          <a:custGeom>
            <a:avLst/>
            <a:gdLst>
              <a:gd name="textAreaLeft" fmla="*/ 0 w 485640"/>
              <a:gd name="textAreaRight" fmla="*/ 486000 w 485640"/>
              <a:gd name="textAreaTop" fmla="*/ 0 h 383760"/>
              <a:gd name="textAreaBottom" fmla="*/ 384120 h 383760"/>
            </a:gdLst>
            <a:ahLst/>
            <a:rect l="textAreaLeft" t="textAreaTop" r="textAreaRight" b="textAreaBottom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6" name="AutoShape 8"/>
          <p:cNvSpPr/>
          <p:nvPr/>
        </p:nvSpPr>
        <p:spPr>
          <a:xfrm>
            <a:off x="8020080" y="3627360"/>
            <a:ext cx="397440" cy="518760"/>
          </a:xfrm>
          <a:custGeom>
            <a:avLst/>
            <a:gdLst>
              <a:gd name="textAreaLeft" fmla="*/ 0 w 397440"/>
              <a:gd name="textAreaRight" fmla="*/ 397800 w 397440"/>
              <a:gd name="textAreaTop" fmla="*/ 0 h 518760"/>
              <a:gd name="textAreaBottom" fmla="*/ 519120 h 518760"/>
            </a:gdLst>
            <a:ahLst/>
            <a:rect l="textAreaLeft" t="textAreaTop" r="textAreaRight" b="textAreaBottom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7" name="AutoShape 9"/>
          <p:cNvSpPr/>
          <p:nvPr/>
        </p:nvSpPr>
        <p:spPr>
          <a:xfrm>
            <a:off x="7691400" y="4030560"/>
            <a:ext cx="422280" cy="488520"/>
          </a:xfrm>
          <a:custGeom>
            <a:avLst/>
            <a:gdLst>
              <a:gd name="textAreaLeft" fmla="*/ 0 w 422280"/>
              <a:gd name="textAreaRight" fmla="*/ 422640 w 422280"/>
              <a:gd name="textAreaTop" fmla="*/ 0 h 488520"/>
              <a:gd name="textAreaBottom" fmla="*/ 488880 h 488520"/>
            </a:gdLst>
            <a:ahLst/>
            <a:rect l="textAreaLeft" t="textAreaTop" r="textAreaRight" b="textAreaBottom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8" name="AutoShape 10"/>
          <p:cNvSpPr/>
          <p:nvPr/>
        </p:nvSpPr>
        <p:spPr>
          <a:xfrm>
            <a:off x="5792040" y="2851200"/>
            <a:ext cx="294840" cy="569520"/>
          </a:xfrm>
          <a:custGeom>
            <a:avLst/>
            <a:gdLst>
              <a:gd name="textAreaLeft" fmla="*/ 0 w 294840"/>
              <a:gd name="textAreaRight" fmla="*/ 295200 w 294840"/>
              <a:gd name="textAreaTop" fmla="*/ 0 h 569520"/>
              <a:gd name="textAreaBottom" fmla="*/ 569880 h 569520"/>
            </a:gdLst>
            <a:ahLst/>
            <a:rect l="textAreaLeft" t="textAreaTop" r="textAreaRight" b="textAreaBottom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5425200" y="2568600"/>
            <a:ext cx="292680" cy="645840"/>
          </a:xfrm>
          <a:custGeom>
            <a:avLst/>
            <a:gdLst>
              <a:gd name="textAreaLeft" fmla="*/ 0 w 292680"/>
              <a:gd name="textAreaRight" fmla="*/ 293040 w 29268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0" name="AutoShape 12"/>
          <p:cNvSpPr/>
          <p:nvPr/>
        </p:nvSpPr>
        <p:spPr>
          <a:xfrm>
            <a:off x="4941720" y="2475000"/>
            <a:ext cx="305640" cy="659880"/>
          </a:xfrm>
          <a:custGeom>
            <a:avLst/>
            <a:gdLst>
              <a:gd name="textAreaLeft" fmla="*/ 0 w 305640"/>
              <a:gd name="textAreaRight" fmla="*/ 306000 w 30564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1" name="AutoShape 13"/>
          <p:cNvSpPr/>
          <p:nvPr/>
        </p:nvSpPr>
        <p:spPr>
          <a:xfrm>
            <a:off x="4409280" y="3110040"/>
            <a:ext cx="586800" cy="390240"/>
          </a:xfrm>
          <a:custGeom>
            <a:avLst/>
            <a:gdLst>
              <a:gd name="textAreaLeft" fmla="*/ 0 w 586800"/>
              <a:gd name="textAreaRight" fmla="*/ 587160 w 5868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2" name="AutoShape 14"/>
          <p:cNvSpPr/>
          <p:nvPr/>
        </p:nvSpPr>
        <p:spPr>
          <a:xfrm>
            <a:off x="4845240" y="3576600"/>
            <a:ext cx="459360" cy="577440"/>
          </a:xfrm>
          <a:custGeom>
            <a:avLst/>
            <a:gdLst>
              <a:gd name="textAreaLeft" fmla="*/ 0 w 459360"/>
              <a:gd name="textAreaRight" fmla="*/ 459720 w 45936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3" name="AutoShape 15"/>
          <p:cNvSpPr/>
          <p:nvPr/>
        </p:nvSpPr>
        <p:spPr>
          <a:xfrm>
            <a:off x="5372640" y="3881520"/>
            <a:ext cx="397440" cy="614160"/>
          </a:xfrm>
          <a:custGeom>
            <a:avLst/>
            <a:gdLst>
              <a:gd name="textAreaLeft" fmla="*/ 0 w 397440"/>
              <a:gd name="textAreaRight" fmla="*/ 397800 w 3974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4" name="AutoShape 16"/>
          <p:cNvSpPr/>
          <p:nvPr/>
        </p:nvSpPr>
        <p:spPr>
          <a:xfrm>
            <a:off x="7134120" y="23760"/>
            <a:ext cx="354600" cy="725040"/>
          </a:xfrm>
          <a:custGeom>
            <a:avLst/>
            <a:gdLst>
              <a:gd name="textAreaLeft" fmla="*/ 0 w 354600"/>
              <a:gd name="textAreaRight" fmla="*/ 354960 w 354600"/>
              <a:gd name="textAreaTop" fmla="*/ 0 h 725040"/>
              <a:gd name="textAreaBottom" fmla="*/ 725400 h 725040"/>
            </a:gdLst>
            <a:ahLst/>
            <a:rect l="textAreaLeft" t="textAreaTop" r="textAreaRight" b="textAreaBottom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5" name="AutoShape 17"/>
          <p:cNvSpPr/>
          <p:nvPr/>
        </p:nvSpPr>
        <p:spPr>
          <a:xfrm>
            <a:off x="6699240" y="264960"/>
            <a:ext cx="317520" cy="685440"/>
          </a:xfrm>
          <a:custGeom>
            <a:avLst/>
            <a:gdLst>
              <a:gd name="textAreaLeft" fmla="*/ 0 w 317520"/>
              <a:gd name="textAreaRight" fmla="*/ 317880 w 31752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7268400" y="890640"/>
            <a:ext cx="516600" cy="387000"/>
          </a:xfrm>
          <a:custGeom>
            <a:avLst/>
            <a:gdLst>
              <a:gd name="textAreaLeft" fmla="*/ 0 w 516600"/>
              <a:gd name="textAreaRight" fmla="*/ 516960 w 516600"/>
              <a:gd name="textAreaTop" fmla="*/ 0 h 387000"/>
              <a:gd name="textAreaBottom" fmla="*/ 387360 h 387000"/>
            </a:gdLst>
            <a:ahLst/>
            <a:rect l="textAreaLeft" t="textAreaTop" r="textAreaRight" b="textAreaBottom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7" name="AutoShape 19"/>
          <p:cNvSpPr/>
          <p:nvPr/>
        </p:nvSpPr>
        <p:spPr>
          <a:xfrm>
            <a:off x="7016040" y="1500120"/>
            <a:ext cx="554400" cy="363240"/>
          </a:xfrm>
          <a:custGeom>
            <a:avLst/>
            <a:gdLst>
              <a:gd name="textAreaLeft" fmla="*/ 0 w 554400"/>
              <a:gd name="textAreaRight" fmla="*/ 554760 w 55440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8" name="AutoShape 20"/>
          <p:cNvSpPr/>
          <p:nvPr/>
        </p:nvSpPr>
        <p:spPr>
          <a:xfrm>
            <a:off x="7041240" y="2081160"/>
            <a:ext cx="490320" cy="523440"/>
          </a:xfrm>
          <a:custGeom>
            <a:avLst/>
            <a:gdLst>
              <a:gd name="textAreaLeft" fmla="*/ 0 w 490320"/>
              <a:gd name="textAreaRight" fmla="*/ 490680 w 490320"/>
              <a:gd name="textAreaTop" fmla="*/ 0 h 523440"/>
              <a:gd name="textAreaBottom" fmla="*/ 523800 h 523440"/>
            </a:gdLst>
            <a:ahLst/>
            <a:rect l="textAreaLeft" t="textAreaTop" r="textAreaRight" b="textAreaBottom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09" name="AutoShape 21"/>
          <p:cNvSpPr/>
          <p:nvPr/>
        </p:nvSpPr>
        <p:spPr>
          <a:xfrm>
            <a:off x="6009840" y="2360520"/>
            <a:ext cx="550800" cy="441000"/>
          </a:xfrm>
          <a:custGeom>
            <a:avLst/>
            <a:gdLst>
              <a:gd name="textAreaLeft" fmla="*/ 0 w 550800"/>
              <a:gd name="textAreaRight" fmla="*/ 551160 w 55080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0" name="AutoShape 22"/>
          <p:cNvSpPr/>
          <p:nvPr/>
        </p:nvSpPr>
        <p:spPr>
          <a:xfrm>
            <a:off x="5756400" y="1728720"/>
            <a:ext cx="501120" cy="340920"/>
          </a:xfrm>
          <a:custGeom>
            <a:avLst/>
            <a:gdLst>
              <a:gd name="textAreaLeft" fmla="*/ 0 w 501120"/>
              <a:gd name="textAreaRight" fmla="*/ 501480 w 50112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1" name="AutoShape 23"/>
          <p:cNvSpPr/>
          <p:nvPr/>
        </p:nvSpPr>
        <p:spPr>
          <a:xfrm>
            <a:off x="5618160" y="658800"/>
            <a:ext cx="343800" cy="560160"/>
          </a:xfrm>
          <a:custGeom>
            <a:avLst/>
            <a:gdLst>
              <a:gd name="textAreaLeft" fmla="*/ 0 w 343800"/>
              <a:gd name="textAreaRight" fmla="*/ 344160 w 3438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2" name="AutoShape 24"/>
          <p:cNvSpPr/>
          <p:nvPr/>
        </p:nvSpPr>
        <p:spPr>
          <a:xfrm>
            <a:off x="6152760" y="590400"/>
            <a:ext cx="367560" cy="690120"/>
          </a:xfrm>
          <a:custGeom>
            <a:avLst/>
            <a:gdLst>
              <a:gd name="textAreaLeft" fmla="*/ 0 w 367560"/>
              <a:gd name="textAreaRight" fmla="*/ 367920 w 367560"/>
              <a:gd name="textAreaTop" fmla="*/ 0 h 690120"/>
              <a:gd name="textAreaBottom" fmla="*/ 690480 h 690120"/>
            </a:gdLst>
            <a:ahLst/>
            <a:rect l="textAreaLeft" t="textAreaTop" r="textAreaRight" b="textAreaBottom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3" name="AutoShape 25"/>
          <p:cNvSpPr/>
          <p:nvPr/>
        </p:nvSpPr>
        <p:spPr>
          <a:xfrm>
            <a:off x="7812720" y="1463760"/>
            <a:ext cx="405720" cy="693360"/>
          </a:xfrm>
          <a:custGeom>
            <a:avLst/>
            <a:gdLst>
              <a:gd name="textAreaLeft" fmla="*/ 0 w 405720"/>
              <a:gd name="textAreaRight" fmla="*/ 406080 w 405720"/>
              <a:gd name="textAreaTop" fmla="*/ 0 h 693360"/>
              <a:gd name="textAreaBottom" fmla="*/ 693720 h 693360"/>
            </a:gdLst>
            <a:ahLst/>
            <a:rect l="textAreaLeft" t="textAreaTop" r="textAreaRight" b="textAreaBottom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4" name="AutoShape 26"/>
          <p:cNvSpPr/>
          <p:nvPr/>
        </p:nvSpPr>
        <p:spPr>
          <a:xfrm>
            <a:off x="7819920" y="479520"/>
            <a:ext cx="306720" cy="649080"/>
          </a:xfrm>
          <a:custGeom>
            <a:avLst/>
            <a:gdLst>
              <a:gd name="textAreaLeft" fmla="*/ 0 w 306720"/>
              <a:gd name="textAreaRight" fmla="*/ 307080 w 306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5" name="AutoShape 27"/>
          <p:cNvSpPr/>
          <p:nvPr/>
        </p:nvSpPr>
        <p:spPr>
          <a:xfrm>
            <a:off x="5137200" y="1704960"/>
            <a:ext cx="327240" cy="658440"/>
          </a:xfrm>
          <a:custGeom>
            <a:avLst/>
            <a:gdLst>
              <a:gd name="textAreaLeft" fmla="*/ 0 w 327240"/>
              <a:gd name="textAreaRight" fmla="*/ 327600 w 327240"/>
              <a:gd name="textAreaTop" fmla="*/ 0 h 658440"/>
              <a:gd name="textAreaBottom" fmla="*/ 658800 h 658440"/>
            </a:gdLst>
            <a:ahLst/>
            <a:rect l="textAreaLeft" t="textAreaTop" r="textAreaRight" b="textAreaBottom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6" name="AutoShape 28"/>
          <p:cNvSpPr/>
          <p:nvPr/>
        </p:nvSpPr>
        <p:spPr>
          <a:xfrm>
            <a:off x="4511880" y="1839960"/>
            <a:ext cx="383040" cy="693360"/>
          </a:xfrm>
          <a:custGeom>
            <a:avLst/>
            <a:gdLst>
              <a:gd name="textAreaLeft" fmla="*/ 0 w 383040"/>
              <a:gd name="textAreaRight" fmla="*/ 383400 w 383040"/>
              <a:gd name="textAreaTop" fmla="*/ 0 h 693360"/>
              <a:gd name="textAreaBottom" fmla="*/ 693720 h 693360"/>
            </a:gdLst>
            <a:ahLst/>
            <a:rect l="textAreaLeft" t="textAreaTop" r="textAreaRight" b="textAreaBottom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617" name="AutoShape 29"/>
          <p:cNvSpPr/>
          <p:nvPr/>
        </p:nvSpPr>
        <p:spPr>
          <a:xfrm>
            <a:off x="5194080" y="879480"/>
            <a:ext cx="316440" cy="601200"/>
          </a:xfrm>
          <a:custGeom>
            <a:avLst/>
            <a:gdLst>
              <a:gd name="textAreaLeft" fmla="*/ 0 w 316440"/>
              <a:gd name="textAreaRight" fmla="*/ 316800 w 316440"/>
              <a:gd name="textAreaTop" fmla="*/ 0 h 601200"/>
              <a:gd name="textAreaBottom" fmla="*/ 601560 h 601200"/>
            </a:gdLst>
            <a:ahLst/>
            <a:rect l="textAreaLeft" t="textAreaTop" r="textAreaRight" b="textAreaBottom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575">
            <a:solidFill>
              <a:srgbClr val="ffffff"/>
            </a:solidFill>
            <a:round/>
          </a:ln>
          <a:effectLst>
            <a:outerShdw algn="ctr" dir="8100000" dist="6313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grpSp>
        <p:nvGrpSpPr>
          <p:cNvPr id="618" name="组合 136"/>
          <p:cNvGrpSpPr/>
          <p:nvPr/>
        </p:nvGrpSpPr>
        <p:grpSpPr>
          <a:xfrm>
            <a:off x="466920" y="-579240"/>
            <a:ext cx="2646720" cy="3374640"/>
            <a:chOff x="466920" y="-579240"/>
            <a:chExt cx="2646720" cy="3374640"/>
          </a:xfrm>
        </p:grpSpPr>
        <p:grpSp>
          <p:nvGrpSpPr>
            <p:cNvPr id="619" name="组合 137"/>
            <p:cNvGrpSpPr/>
            <p:nvPr/>
          </p:nvGrpSpPr>
          <p:grpSpPr>
            <a:xfrm>
              <a:off x="466920" y="-579240"/>
              <a:ext cx="2646720" cy="3374640"/>
              <a:chOff x="466920" y="-579240"/>
              <a:chExt cx="2646720" cy="3374640"/>
            </a:xfrm>
          </p:grpSpPr>
          <p:sp>
            <p:nvSpPr>
              <p:cNvPr id="620" name="圆角矩形 139"/>
              <p:cNvSpPr/>
              <p:nvPr/>
            </p:nvSpPr>
            <p:spPr>
              <a:xfrm>
                <a:off x="466920" y="1413000"/>
                <a:ext cx="2646720" cy="1382400"/>
              </a:xfrm>
              <a:prstGeom prst="roundRect">
                <a:avLst>
                  <a:gd name="adj" fmla="val 9069"/>
                </a:avLst>
              </a:prstGeom>
              <a:solidFill>
                <a:schemeClr val="accent5">
                  <a:lumMod val="20000"/>
                  <a:lumOff val="80000"/>
                </a:scheme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621" name="组合 140"/>
              <p:cNvGrpSpPr/>
              <p:nvPr/>
            </p:nvGrpSpPr>
            <p:grpSpPr>
              <a:xfrm>
                <a:off x="969120" y="-579240"/>
                <a:ext cx="178200" cy="2075760"/>
                <a:chOff x="969120" y="-579240"/>
                <a:chExt cx="178200" cy="2075760"/>
              </a:xfrm>
            </p:grpSpPr>
            <p:pic>
              <p:nvPicPr>
                <p:cNvPr id="622" name="图片 1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69120" y="1214280"/>
                  <a:ext cx="178200" cy="282240"/>
                </a:xfrm>
                <a:prstGeom prst="rect">
                  <a:avLst/>
                </a:prstGeom>
                <a:ln w="0">
                  <a:noFill/>
                </a:ln>
                <a:effectLst>
                  <a:outerShdw algn="t" blurRad="50760" dir="5400000" dist="38160" rotWithShape="0">
                    <a:srgbClr val="000000">
                      <a:alpha val="40000"/>
                    </a:srgbClr>
                  </a:outerShdw>
                </a:effectLst>
              </p:spPr>
            </p:pic>
            <p:cxnSp>
              <p:nvCxnSpPr>
                <p:cNvPr id="623" name="直接连接符 145"/>
                <p:cNvCxnSpPr/>
                <p:nvPr/>
              </p:nvCxnSpPr>
              <p:spPr>
                <a:xfrm>
                  <a:off x="1051200" y="-579240"/>
                  <a:ext cx="360" cy="1816200"/>
                </a:xfrm>
                <a:prstGeom prst="straightConnector1">
                  <a:avLst/>
                </a:prstGeom>
                <a:ln>
                  <a:solidFill>
                    <a:srgbClr val="3c3b37"/>
                  </a:solidFill>
                </a:ln>
              </p:spPr>
            </p:cxnSp>
          </p:grpSp>
          <p:grpSp>
            <p:nvGrpSpPr>
              <p:cNvPr id="624" name="组合 141"/>
              <p:cNvGrpSpPr/>
              <p:nvPr/>
            </p:nvGrpSpPr>
            <p:grpSpPr>
              <a:xfrm>
                <a:off x="2526840" y="-579240"/>
                <a:ext cx="179280" cy="2075760"/>
                <a:chOff x="2526840" y="-579240"/>
                <a:chExt cx="179280" cy="2075760"/>
              </a:xfrm>
            </p:grpSpPr>
            <p:pic>
              <p:nvPicPr>
                <p:cNvPr id="625" name="图片 14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26840" y="1214280"/>
                  <a:ext cx="179280" cy="282240"/>
                </a:xfrm>
                <a:prstGeom prst="rect">
                  <a:avLst/>
                </a:prstGeom>
                <a:ln w="0">
                  <a:noFill/>
                </a:ln>
                <a:effectLst>
                  <a:outerShdw algn="t" blurRad="50760" dir="5400000" dist="38160" rotWithShape="0">
                    <a:srgbClr val="000000">
                      <a:alpha val="40000"/>
                    </a:srgbClr>
                  </a:outerShdw>
                </a:effectLst>
              </p:spPr>
            </p:pic>
            <p:cxnSp>
              <p:nvCxnSpPr>
                <p:cNvPr id="626" name="直接连接符 143"/>
                <p:cNvCxnSpPr/>
                <p:nvPr/>
              </p:nvCxnSpPr>
              <p:spPr>
                <a:xfrm>
                  <a:off x="2607480" y="-579240"/>
                  <a:ext cx="360" cy="1816200"/>
                </a:xfrm>
                <a:prstGeom prst="straightConnector1">
                  <a:avLst/>
                </a:prstGeom>
                <a:ln>
                  <a:solidFill>
                    <a:srgbClr val="3c3b37"/>
                  </a:solidFill>
                </a:ln>
              </p:spPr>
            </p:cxnSp>
          </p:grpSp>
        </p:grpSp>
        <p:sp>
          <p:nvSpPr>
            <p:cNvPr id="627" name="TextBox 138"/>
            <p:cNvSpPr/>
            <p:nvPr/>
          </p:nvSpPr>
          <p:spPr>
            <a:xfrm>
              <a:off x="612360" y="1773000"/>
              <a:ext cx="22312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下课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图片 146" descr=""/>
          <p:cNvPicPr/>
          <p:nvPr/>
        </p:nvPicPr>
        <p:blipFill>
          <a:blip r:embed="rId3"/>
          <a:stretch/>
        </p:blipFill>
        <p:spPr>
          <a:xfrm>
            <a:off x="104760" y="3759120"/>
            <a:ext cx="4736520" cy="312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75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7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7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71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7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8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9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1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2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83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4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5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6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8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8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95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6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7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8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0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01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2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3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5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6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0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2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13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1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4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25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6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7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0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31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2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3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4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5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6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3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8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9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0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1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2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43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4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5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6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4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4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55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6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7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8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61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2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3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4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5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6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8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9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1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73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4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5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6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8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7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85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6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7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91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2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3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4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5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49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8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9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0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1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503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4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5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6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8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50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515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521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2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3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4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5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6" nodeType="withEffect" fill="hold" presetClass="emph" presetID="32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527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8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9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0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1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539640" y="3709080"/>
            <a:ext cx="5112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在没有汉字之前，人们用长短不同、颜色有别的细绳，根据记事的需要，在间隔不等的距离打上不同形式的结，然后再依次拴在一根较粗的主绳上。后来慢慢演变成了今天的装饰手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https://timgsa.baidu.com/timg?image&amp;quality=80&amp;size=b9999_10000&amp;sec=1524332546264&amp;di=eb9e87ff9472914bcd9e2fea5554ca44&amp;imgtype=0&amp;src=http%3A%2F%2Fs15.sinaimg.cn%2Fbmiddle%2F5994da5agc7daf75eb07e%26690"/>
          <p:cNvPicPr/>
          <p:nvPr/>
        </p:nvPicPr>
        <p:blipFill>
          <a:blip r:embed="rId1"/>
          <a:stretch/>
        </p:blipFill>
        <p:spPr>
          <a:xfrm>
            <a:off x="6192000" y="2060640"/>
            <a:ext cx="1836000" cy="2758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925640" y="659160"/>
            <a:ext cx="5022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结的最初由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结绳记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106"/>
          <p:cNvGrpSpPr/>
          <p:nvPr/>
        </p:nvGrpSpPr>
        <p:grpSpPr>
          <a:xfrm>
            <a:off x="3275640" y="1340640"/>
            <a:ext cx="3240360" cy="1173240"/>
            <a:chOff x="3275640" y="1340640"/>
            <a:chExt cx="3240360" cy="1173240"/>
          </a:xfrm>
        </p:grpSpPr>
        <p:sp>
          <p:nvSpPr>
            <p:cNvPr id="170" name="圆角矩形 108"/>
            <p:cNvSpPr/>
            <p:nvPr/>
          </p:nvSpPr>
          <p:spPr>
            <a:xfrm>
              <a:off x="3275640" y="1340640"/>
              <a:ext cx="3240360" cy="117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alibri"/>
              </a:endParaRPr>
            </a:p>
          </p:txBody>
        </p:sp>
        <p:sp>
          <p:nvSpPr>
            <p:cNvPr id="171" name="圆角矩形 109"/>
            <p:cNvSpPr/>
            <p:nvPr/>
          </p:nvSpPr>
          <p:spPr>
            <a:xfrm>
              <a:off x="3315960" y="1377720"/>
              <a:ext cx="3159720" cy="109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f0f0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alibri"/>
              </a:endParaRPr>
            </a:p>
          </p:txBody>
        </p:sp>
      </p:grpSp>
      <p:grpSp>
        <p:nvGrpSpPr>
          <p:cNvPr id="172" name="组合 111"/>
          <p:cNvGrpSpPr/>
          <p:nvPr/>
        </p:nvGrpSpPr>
        <p:grpSpPr>
          <a:xfrm>
            <a:off x="3383640" y="2781000"/>
            <a:ext cx="3294360" cy="1128600"/>
            <a:chOff x="3383640" y="2781000"/>
            <a:chExt cx="3294360" cy="1128600"/>
          </a:xfrm>
        </p:grpSpPr>
        <p:sp>
          <p:nvSpPr>
            <p:cNvPr id="173" name="圆角矩形 113"/>
            <p:cNvSpPr/>
            <p:nvPr/>
          </p:nvSpPr>
          <p:spPr>
            <a:xfrm>
              <a:off x="3383640" y="2781000"/>
              <a:ext cx="3294360" cy="11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alibri"/>
              </a:endParaRPr>
            </a:p>
          </p:txBody>
        </p:sp>
        <p:sp>
          <p:nvSpPr>
            <p:cNvPr id="174" name="圆角矩形 114"/>
            <p:cNvSpPr/>
            <p:nvPr/>
          </p:nvSpPr>
          <p:spPr>
            <a:xfrm>
              <a:off x="3424680" y="2816280"/>
              <a:ext cx="3212280" cy="1057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f0f0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alibri"/>
              </a:endParaRPr>
            </a:p>
          </p:txBody>
        </p:sp>
      </p:grpSp>
      <p:sp>
        <p:nvSpPr>
          <p:cNvPr id="175" name="TextBox 22"/>
          <p:cNvSpPr/>
          <p:nvPr/>
        </p:nvSpPr>
        <p:spPr>
          <a:xfrm>
            <a:off x="4124880" y="1557360"/>
            <a:ext cx="83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x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3"/>
          <p:cNvSpPr/>
          <p:nvPr/>
        </p:nvSpPr>
        <p:spPr>
          <a:xfrm>
            <a:off x="4178520" y="2957400"/>
            <a:ext cx="83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x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2487600" y="4365720"/>
            <a:ext cx="560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国结不但造型优美，而且形式多样，因此被人们所喜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87" descr=""/>
          <p:cNvPicPr/>
          <p:nvPr/>
        </p:nvPicPr>
        <p:blipFill>
          <a:blip r:embed="rId1"/>
          <a:stretch/>
        </p:blipFill>
        <p:spPr>
          <a:xfrm>
            <a:off x="464400" y="3141720"/>
            <a:ext cx="1690560" cy="306972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>
            <a:off x="5382360" y="1557360"/>
            <a:ext cx="11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5382360" y="2924280"/>
            <a:ext cx="14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4"/>
          <p:cNvSpPr/>
          <p:nvPr/>
        </p:nvSpPr>
        <p:spPr>
          <a:xfrm>
            <a:off x="645480" y="196920"/>
            <a:ext cx="211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预习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23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183" name="直接连接符 24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184" name="直接连接符 25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185" name="直接连接符 26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186" name="图片 27" descr=""/>
          <p:cNvPicPr/>
          <p:nvPr/>
        </p:nvPicPr>
        <p:blipFill>
          <a:blip r:embed="rId2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"/>
          <p:cNvSpPr/>
          <p:nvPr/>
        </p:nvSpPr>
        <p:spPr>
          <a:xfrm>
            <a:off x="1081080" y="2109960"/>
            <a:ext cx="7075080" cy="10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1"/>
          <p:cNvGrpSpPr/>
          <p:nvPr/>
        </p:nvGrpSpPr>
        <p:grpSpPr>
          <a:xfrm>
            <a:off x="1044000" y="1628640"/>
            <a:ext cx="7038720" cy="3960720"/>
            <a:chOff x="1044000" y="1628640"/>
            <a:chExt cx="7038720" cy="3960720"/>
          </a:xfrm>
        </p:grpSpPr>
        <p:cxnSp>
          <p:nvCxnSpPr>
            <p:cNvPr id="189" name="直接连接符 12"/>
            <p:cNvCxnSpPr/>
            <p:nvPr/>
          </p:nvCxnSpPr>
          <p:spPr>
            <a:xfrm flipH="1">
              <a:off x="1044000" y="5589360"/>
              <a:ext cx="7039080" cy="360"/>
            </a:xfrm>
            <a:prstGeom prst="straightConnector1">
              <a:avLst/>
            </a:prstGeom>
            <a:ln w="12700">
              <a:solidFill>
                <a:srgbClr val="854343"/>
              </a:solidFill>
            </a:ln>
          </p:spPr>
        </p:cxnSp>
        <p:grpSp>
          <p:nvGrpSpPr>
            <p:cNvPr id="190" name="组合 13"/>
            <p:cNvGrpSpPr/>
            <p:nvPr/>
          </p:nvGrpSpPr>
          <p:grpSpPr>
            <a:xfrm>
              <a:off x="1044000" y="1628640"/>
              <a:ext cx="7038720" cy="3960720"/>
              <a:chOff x="1044000" y="1628640"/>
              <a:chExt cx="7038720" cy="3960720"/>
            </a:xfrm>
          </p:grpSpPr>
          <p:cxnSp>
            <p:nvCxnSpPr>
              <p:cNvPr id="191" name="直接连接符 14"/>
              <p:cNvCxnSpPr/>
              <p:nvPr/>
            </p:nvCxnSpPr>
            <p:spPr>
              <a:xfrm>
                <a:off x="8082720" y="2023920"/>
                <a:ext cx="360" cy="356580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192" name="直接连接符 15"/>
              <p:cNvCxnSpPr/>
              <p:nvPr/>
            </p:nvCxnSpPr>
            <p:spPr>
              <a:xfrm flipH="1">
                <a:off x="1044000" y="1628640"/>
                <a:ext cx="2947680" cy="36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  <p:cxnSp>
            <p:nvCxnSpPr>
              <p:cNvPr id="193" name="直接连接符 19"/>
              <p:cNvCxnSpPr/>
              <p:nvPr/>
            </p:nvCxnSpPr>
            <p:spPr>
              <a:xfrm>
                <a:off x="1044000" y="1628640"/>
                <a:ext cx="360" cy="3961080"/>
              </a:xfrm>
              <a:prstGeom prst="straightConnector1">
                <a:avLst/>
              </a:prstGeom>
              <a:ln w="12700">
                <a:solidFill>
                  <a:srgbClr val="854343"/>
                </a:solidFill>
              </a:ln>
            </p:spPr>
          </p:cxnSp>
        </p:grpSp>
      </p:grpSp>
      <p:sp>
        <p:nvSpPr>
          <p:cNvPr id="194" name="文本框 14"/>
          <p:cNvSpPr/>
          <p:nvPr/>
        </p:nvSpPr>
        <p:spPr>
          <a:xfrm>
            <a:off x="666720" y="228600"/>
            <a:ext cx="246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预习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连接符 22"/>
          <p:cNvCxnSpPr/>
          <p:nvPr/>
        </p:nvCxnSpPr>
        <p:spPr>
          <a:xfrm>
            <a:off x="476280" y="645840"/>
            <a:ext cx="360" cy="3844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196" name="直接连接符 23"/>
          <p:cNvCxnSpPr/>
          <p:nvPr/>
        </p:nvCxnSpPr>
        <p:spPr>
          <a:xfrm>
            <a:off x="483120" y="1039680"/>
            <a:ext cx="111852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197" name="直接连接符 24"/>
          <p:cNvCxnSpPr/>
          <p:nvPr/>
        </p:nvCxnSpPr>
        <p:spPr>
          <a:xfrm>
            <a:off x="1439640" y="179280"/>
            <a:ext cx="1047960" cy="36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cxnSp>
        <p:nvCxnSpPr>
          <p:cNvPr id="198" name="直接连接符 25"/>
          <p:cNvCxnSpPr/>
          <p:nvPr/>
        </p:nvCxnSpPr>
        <p:spPr>
          <a:xfrm>
            <a:off x="2487240" y="196560"/>
            <a:ext cx="360" cy="641880"/>
          </a:xfrm>
          <a:prstGeom prst="straightConnector1">
            <a:avLst/>
          </a:prstGeom>
          <a:ln w="12700">
            <a:solidFill>
              <a:srgbClr val="854343"/>
            </a:solidFill>
          </a:ln>
        </p:spPr>
      </p:cxnSp>
      <p:pic>
        <p:nvPicPr>
          <p:cNvPr id="199" name="图片 26" descr=""/>
          <p:cNvPicPr/>
          <p:nvPr/>
        </p:nvPicPr>
        <p:blipFill>
          <a:blip r:embed="rId1"/>
          <a:srcRect l="-23187" t="0" r="0" b="-19282"/>
          <a:stretch/>
        </p:blipFill>
        <p:spPr>
          <a:xfrm>
            <a:off x="-84600" y="-57240"/>
            <a:ext cx="864000" cy="9140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7" descr=""/>
          <p:cNvPicPr/>
          <p:nvPr/>
        </p:nvPicPr>
        <p:blipFill>
          <a:blip r:embed="rId2"/>
          <a:srcRect l="0" t="0" r="-23204" b="-19287"/>
          <a:stretch/>
        </p:blipFill>
        <p:spPr>
          <a:xfrm>
            <a:off x="6408720" y="476280"/>
            <a:ext cx="2027520" cy="1990440"/>
          </a:xfrm>
          <a:prstGeom prst="rect">
            <a:avLst/>
          </a:prstGeom>
          <a:ln w="0">
            <a:noFill/>
          </a:ln>
        </p:spPr>
      </p:pic>
      <p:sp>
        <p:nvSpPr>
          <p:cNvPr id="201" name="矩形 20"/>
          <p:cNvSpPr/>
          <p:nvPr/>
        </p:nvSpPr>
        <p:spPr>
          <a:xfrm>
            <a:off x="1329840" y="2031480"/>
            <a:ext cx="6427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结是由（                   ）发展而来。“结绳记事”就是我们的祖先为了生活的需要，运用（                 ）、（                   ）的结，记录生活中发生的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8"/>
          <p:cNvSpPr/>
          <p:nvPr/>
        </p:nvSpPr>
        <p:spPr>
          <a:xfrm>
            <a:off x="4988880" y="1989000"/>
            <a:ext cx="94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结绳记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9"/>
          <p:cNvSpPr/>
          <p:nvPr/>
        </p:nvSpPr>
        <p:spPr>
          <a:xfrm>
            <a:off x="2511720" y="3505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大小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0"/>
          <p:cNvSpPr/>
          <p:nvPr/>
        </p:nvSpPr>
        <p:spPr>
          <a:xfrm>
            <a:off x="5263920" y="3485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形状各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Group 12"/>
          <p:cNvGraphicFramePr/>
          <p:nvPr/>
        </p:nvGraphicFramePr>
        <p:xfrm>
          <a:off x="925200" y="232884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TextBox 23"/>
          <p:cNvSpPr/>
          <p:nvPr/>
        </p:nvSpPr>
        <p:spPr>
          <a:xfrm>
            <a:off x="937080" y="2262240"/>
            <a:ext cx="88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1060920" y="1422360"/>
            <a:ext cx="88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4"/>
          <p:cNvSpPr/>
          <p:nvPr/>
        </p:nvSpPr>
        <p:spPr>
          <a:xfrm>
            <a:off x="2464920" y="1422360"/>
            <a:ext cx="108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x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3923640" y="1422360"/>
            <a:ext cx="124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h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5814720" y="1484280"/>
            <a:ext cx="137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Group 12"/>
          <p:cNvGraphicFramePr/>
          <p:nvPr/>
        </p:nvGraphicFramePr>
        <p:xfrm>
          <a:off x="2325600" y="232884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" name="TextBox 23"/>
          <p:cNvSpPr/>
          <p:nvPr/>
        </p:nvSpPr>
        <p:spPr>
          <a:xfrm>
            <a:off x="2417400" y="22622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Group 12"/>
          <p:cNvGraphicFramePr/>
          <p:nvPr/>
        </p:nvGraphicFramePr>
        <p:xfrm>
          <a:off x="3934440" y="232884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TextBox 23"/>
          <p:cNvSpPr/>
          <p:nvPr/>
        </p:nvSpPr>
        <p:spPr>
          <a:xfrm>
            <a:off x="3934440" y="22622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Group 12"/>
          <p:cNvGraphicFramePr/>
          <p:nvPr/>
        </p:nvGraphicFramePr>
        <p:xfrm>
          <a:off x="5508720" y="232884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6" name="TextBox 23"/>
          <p:cNvSpPr/>
          <p:nvPr/>
        </p:nvSpPr>
        <p:spPr>
          <a:xfrm>
            <a:off x="5573880" y="22622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Group 12"/>
          <p:cNvGraphicFramePr/>
          <p:nvPr/>
        </p:nvGraphicFramePr>
        <p:xfrm>
          <a:off x="1899360" y="510372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23"/>
          <p:cNvSpPr/>
          <p:nvPr/>
        </p:nvSpPr>
        <p:spPr>
          <a:xfrm>
            <a:off x="1910160" y="5037120"/>
            <a:ext cx="88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4"/>
          <p:cNvSpPr/>
          <p:nvPr/>
        </p:nvSpPr>
        <p:spPr>
          <a:xfrm>
            <a:off x="2034000" y="4197240"/>
            <a:ext cx="88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k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3276000" y="4221000"/>
            <a:ext cx="98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h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4985640" y="4197240"/>
            <a:ext cx="115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xiō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679080" y="4197240"/>
            <a:ext cx="69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Group 12"/>
          <p:cNvGraphicFramePr/>
          <p:nvPr/>
        </p:nvGraphicFramePr>
        <p:xfrm>
          <a:off x="3298320" y="510372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23"/>
          <p:cNvSpPr/>
          <p:nvPr/>
        </p:nvSpPr>
        <p:spPr>
          <a:xfrm>
            <a:off x="3391200" y="50371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Group 12"/>
          <p:cNvGraphicFramePr/>
          <p:nvPr/>
        </p:nvGraphicFramePr>
        <p:xfrm>
          <a:off x="4907160" y="510372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23"/>
          <p:cNvSpPr/>
          <p:nvPr/>
        </p:nvSpPr>
        <p:spPr>
          <a:xfrm>
            <a:off x="4907160" y="50371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Group 12"/>
          <p:cNvGraphicFramePr/>
          <p:nvPr/>
        </p:nvGraphicFramePr>
        <p:xfrm>
          <a:off x="6482520" y="5103720"/>
          <a:ext cx="973800" cy="1190160"/>
        </p:xfrm>
        <a:graphic>
          <a:graphicData uri="http://schemas.openxmlformats.org/drawingml/2006/table">
            <a:tbl>
              <a:tblPr/>
              <a:tblGrid>
                <a:gridCol w="486720"/>
                <a:gridCol w="486720"/>
              </a:tblGrid>
              <a:tr h="606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5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23"/>
          <p:cNvSpPr/>
          <p:nvPr/>
        </p:nvSpPr>
        <p:spPr>
          <a:xfrm>
            <a:off x="6546960" y="50371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29" descr=""/>
          <p:cNvPicPr/>
          <p:nvPr/>
        </p:nvPicPr>
        <p:blipFill>
          <a:blip r:embed="rId1"/>
          <a:stretch/>
        </p:blipFill>
        <p:spPr>
          <a:xfrm flipH="1" rot="1163400">
            <a:off x="7835760" y="3219120"/>
            <a:ext cx="225720" cy="152532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9"/>
          <p:cNvSpPr/>
          <p:nvPr/>
        </p:nvSpPr>
        <p:spPr>
          <a:xfrm>
            <a:off x="7166160" y="2492280"/>
            <a:ext cx="1024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Group 12"/>
          <p:cNvGraphicFramePr/>
          <p:nvPr/>
        </p:nvGraphicFramePr>
        <p:xfrm>
          <a:off x="898920" y="2394000"/>
          <a:ext cx="1481040" cy="2037960"/>
        </p:xfrm>
        <a:graphic>
          <a:graphicData uri="http://schemas.openxmlformats.org/drawingml/2006/table">
            <a:tbl>
              <a:tblPr/>
              <a:tblGrid>
                <a:gridCol w="740520"/>
                <a:gridCol w="740520"/>
              </a:tblGrid>
              <a:tr h="103860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93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32" name="组合 1"/>
          <p:cNvGrpSpPr/>
          <p:nvPr/>
        </p:nvGrpSpPr>
        <p:grpSpPr>
          <a:xfrm>
            <a:off x="154800" y="4862520"/>
            <a:ext cx="1892880" cy="1736280"/>
            <a:chOff x="154800" y="4862520"/>
            <a:chExt cx="1892880" cy="1736280"/>
          </a:xfrm>
        </p:grpSpPr>
        <p:sp>
          <p:nvSpPr>
            <p:cNvPr id="233" name="椭圆 29"/>
            <p:cNvSpPr/>
            <p:nvPr/>
          </p:nvSpPr>
          <p:spPr>
            <a:xfrm>
              <a:off x="154800" y="5881680"/>
              <a:ext cx="1892880" cy="717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2f2f2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34" name="图片 30" descr=""/>
            <p:cNvPicPr/>
            <p:nvPr/>
          </p:nvPicPr>
          <p:blipFill>
            <a:blip r:embed="rId1"/>
            <a:stretch/>
          </p:blipFill>
          <p:spPr>
            <a:xfrm>
              <a:off x="255960" y="5956560"/>
              <a:ext cx="173736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5619"/>
            <p:cNvSpPr/>
            <p:nvPr/>
          </p:nvSpPr>
          <p:spPr>
            <a:xfrm>
              <a:off x="630000" y="5451480"/>
              <a:ext cx="187920" cy="9525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151" h="690">
                  <a:moveTo>
                    <a:pt x="147" y="690"/>
                  </a:moveTo>
                  <a:lnTo>
                    <a:pt x="13" y="389"/>
                  </a:lnTo>
                  <a:lnTo>
                    <a:pt x="0" y="0"/>
                  </a:lnTo>
                  <a:lnTo>
                    <a:pt x="151" y="241"/>
                  </a:lnTo>
                  <a:lnTo>
                    <a:pt x="147" y="69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36" name="Freeform 5627"/>
            <p:cNvSpPr/>
            <p:nvPr/>
          </p:nvSpPr>
          <p:spPr>
            <a:xfrm>
              <a:off x="585000" y="5172120"/>
              <a:ext cx="705240" cy="290880"/>
            </a:xfrm>
            <a:custGeom>
              <a:avLst/>
              <a:gdLst>
                <a:gd name="textAreaLeft" fmla="*/ 0 w 705240"/>
                <a:gd name="textAreaRight" fmla="*/ 705600 w 70524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566" h="211">
                  <a:moveTo>
                    <a:pt x="52" y="211"/>
                  </a:moveTo>
                  <a:lnTo>
                    <a:pt x="0" y="41"/>
                  </a:lnTo>
                  <a:lnTo>
                    <a:pt x="485" y="0"/>
                  </a:lnTo>
                  <a:lnTo>
                    <a:pt x="566" y="155"/>
                  </a:lnTo>
                  <a:lnTo>
                    <a:pt x="52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37" name="Freeform 5631"/>
            <p:cNvSpPr/>
            <p:nvPr/>
          </p:nvSpPr>
          <p:spPr>
            <a:xfrm>
              <a:off x="1280880" y="5230440"/>
              <a:ext cx="676440" cy="4374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543" h="317">
                  <a:moveTo>
                    <a:pt x="0" y="109"/>
                  </a:moveTo>
                  <a:lnTo>
                    <a:pt x="230" y="0"/>
                  </a:lnTo>
                  <a:lnTo>
                    <a:pt x="543" y="182"/>
                  </a:lnTo>
                  <a:lnTo>
                    <a:pt x="264" y="31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38" name="Freeform 5619"/>
            <p:cNvSpPr/>
            <p:nvPr/>
          </p:nvSpPr>
          <p:spPr>
            <a:xfrm>
              <a:off x="635760" y="5472000"/>
              <a:ext cx="187920" cy="9522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51" h="690">
                  <a:moveTo>
                    <a:pt x="147" y="690"/>
                  </a:moveTo>
                  <a:lnTo>
                    <a:pt x="13" y="389"/>
                  </a:lnTo>
                  <a:lnTo>
                    <a:pt x="0" y="0"/>
                  </a:lnTo>
                  <a:lnTo>
                    <a:pt x="151" y="241"/>
                  </a:lnTo>
                  <a:lnTo>
                    <a:pt x="147" y="690"/>
                  </a:lnTo>
                  <a:close/>
                </a:path>
              </a:pathLst>
            </a:custGeom>
            <a:gradFill rotWithShape="0">
              <a:gsLst>
                <a:gs pos="0">
                  <a:srgbClr val="a6a6a6">
                    <a:alpha val="50196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a6a6a6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39" name="Freeform 5623"/>
            <p:cNvSpPr/>
            <p:nvPr/>
          </p:nvSpPr>
          <p:spPr>
            <a:xfrm>
              <a:off x="299520" y="5357880"/>
              <a:ext cx="532080" cy="44028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178" h="132">
                  <a:moveTo>
                    <a:pt x="178" y="131"/>
                  </a:moveTo>
                  <a:cubicBezTo>
                    <a:pt x="119" y="30"/>
                    <a:pt x="119" y="30"/>
                    <a:pt x="119" y="3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1" y="98"/>
                    <a:pt x="176" y="130"/>
                    <a:pt x="177" y="131"/>
                  </a:cubicBezTo>
                  <a:cubicBezTo>
                    <a:pt x="178" y="131"/>
                    <a:pt x="178" y="132"/>
                    <a:pt x="178" y="132"/>
                  </a:cubicBezTo>
                  <a:lnTo>
                    <a:pt x="17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240" name="Group 5788"/>
            <p:cNvGrpSpPr/>
            <p:nvPr/>
          </p:nvGrpSpPr>
          <p:grpSpPr>
            <a:xfrm>
              <a:off x="644400" y="5749200"/>
              <a:ext cx="172800" cy="653040"/>
              <a:chOff x="644400" y="5749200"/>
              <a:chExt cx="172800" cy="653040"/>
            </a:xfrm>
          </p:grpSpPr>
          <p:sp>
            <p:nvSpPr>
              <p:cNvPr id="241" name="Freeform 5789"/>
              <p:cNvSpPr/>
              <p:nvPr/>
            </p:nvSpPr>
            <p:spPr>
              <a:xfrm>
                <a:off x="644400" y="5749200"/>
                <a:ext cx="172800" cy="6530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53040"/>
                  <a:gd name="textAreaBottom" fmla="*/ 653400 h 653040"/>
                </a:gdLst>
                <a:ahLst/>
                <a:rect l="textAreaLeft" t="textAreaTop" r="textAreaRight" b="textAreaBottom"/>
                <a:pathLst>
                  <a:path w="139" h="474">
                    <a:moveTo>
                      <a:pt x="0" y="0"/>
                    </a:moveTo>
                    <a:lnTo>
                      <a:pt x="5" y="175"/>
                    </a:lnTo>
                    <a:lnTo>
                      <a:pt x="139" y="474"/>
                    </a:lnTo>
                    <a:lnTo>
                      <a:pt x="139" y="2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>
                      <a:alpha val="3215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42" name="Freeform 5790"/>
              <p:cNvSpPr/>
              <p:nvPr/>
            </p:nvSpPr>
            <p:spPr>
              <a:xfrm>
                <a:off x="644400" y="5749200"/>
                <a:ext cx="172800" cy="6530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53040"/>
                  <a:gd name="textAreaBottom" fmla="*/ 653400 h 653040"/>
                </a:gdLst>
                <a:ahLst/>
                <a:rect l="textAreaLeft" t="textAreaTop" r="textAreaRight" b="textAreaBottom"/>
                <a:pathLst>
                  <a:path w="139" h="474">
                    <a:moveTo>
                      <a:pt x="0" y="0"/>
                    </a:moveTo>
                    <a:lnTo>
                      <a:pt x="5" y="175"/>
                    </a:lnTo>
                    <a:lnTo>
                      <a:pt x="139" y="474"/>
                    </a:lnTo>
                    <a:lnTo>
                      <a:pt x="139" y="2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6a6a6">
                      <a:alpha val="3215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243" name="Group 5638"/>
            <p:cNvGrpSpPr/>
            <p:nvPr/>
          </p:nvGrpSpPr>
          <p:grpSpPr>
            <a:xfrm>
              <a:off x="652680" y="5382720"/>
              <a:ext cx="961920" cy="416520"/>
              <a:chOff x="652680" y="5382720"/>
              <a:chExt cx="961920" cy="416520"/>
            </a:xfrm>
          </p:grpSpPr>
          <p:sp>
            <p:nvSpPr>
              <p:cNvPr id="244" name="Freeform 5639"/>
              <p:cNvSpPr/>
              <p:nvPr/>
            </p:nvSpPr>
            <p:spPr>
              <a:xfrm>
                <a:off x="652680" y="5382720"/>
                <a:ext cx="961920" cy="416520"/>
              </a:xfrm>
              <a:custGeom>
                <a:avLst/>
                <a:gdLst>
                  <a:gd name="textAreaLeft" fmla="*/ 0 w 961920"/>
                  <a:gd name="textAreaRight" fmla="*/ 962280 w 96192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772" h="302">
                    <a:moveTo>
                      <a:pt x="510" y="0"/>
                    </a:moveTo>
                    <a:lnTo>
                      <a:pt x="0" y="56"/>
                    </a:lnTo>
                    <a:lnTo>
                      <a:pt x="141" y="302"/>
                    </a:lnTo>
                    <a:lnTo>
                      <a:pt x="772" y="208"/>
                    </a:lnTo>
                    <a:lnTo>
                      <a:pt x="51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45" name="Freeform 5640"/>
              <p:cNvSpPr/>
              <p:nvPr/>
            </p:nvSpPr>
            <p:spPr>
              <a:xfrm>
                <a:off x="652680" y="5382720"/>
                <a:ext cx="961920" cy="416520"/>
              </a:xfrm>
              <a:custGeom>
                <a:avLst/>
                <a:gdLst>
                  <a:gd name="textAreaLeft" fmla="*/ 0 w 961920"/>
                  <a:gd name="textAreaRight" fmla="*/ 962280 w 961920"/>
                  <a:gd name="textAreaTop" fmla="*/ 0 h 416520"/>
                  <a:gd name="textAreaBottom" fmla="*/ 416880 h 416520"/>
                </a:gdLst>
                <a:ahLst/>
                <a:rect l="textAreaLeft" t="textAreaTop" r="textAreaRight" b="textAreaBottom"/>
                <a:pathLst>
                  <a:path w="772" h="302">
                    <a:moveTo>
                      <a:pt x="510" y="0"/>
                    </a:moveTo>
                    <a:lnTo>
                      <a:pt x="0" y="56"/>
                    </a:lnTo>
                    <a:lnTo>
                      <a:pt x="141" y="302"/>
                    </a:lnTo>
                    <a:lnTo>
                      <a:pt x="772" y="208"/>
                    </a:lnTo>
                    <a:lnTo>
                      <a:pt x="510" y="0"/>
                    </a:lnTo>
                  </a:path>
                </a:pathLst>
              </a:custGeom>
              <a:solidFill>
                <a:schemeClr val="bg1">
                  <a:lumMod val="8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246" name="组合 52"/>
            <p:cNvGrpSpPr/>
            <p:nvPr/>
          </p:nvGrpSpPr>
          <p:grpSpPr>
            <a:xfrm>
              <a:off x="617400" y="5074560"/>
              <a:ext cx="427320" cy="990000"/>
              <a:chOff x="617400" y="5074560"/>
              <a:chExt cx="427320" cy="990000"/>
            </a:xfrm>
          </p:grpSpPr>
          <p:sp>
            <p:nvSpPr>
              <p:cNvPr id="247" name="Freeform 5702"/>
              <p:cNvSpPr/>
              <p:nvPr/>
            </p:nvSpPr>
            <p:spPr>
              <a:xfrm>
                <a:off x="935280" y="5981760"/>
                <a:ext cx="109440" cy="82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48" name="Freeform 5704"/>
              <p:cNvSpPr/>
              <p:nvPr/>
            </p:nvSpPr>
            <p:spPr>
              <a:xfrm>
                <a:off x="617400" y="5074560"/>
                <a:ext cx="149040" cy="299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49" name="Freeform 5715"/>
              <p:cNvSpPr/>
              <p:nvPr/>
            </p:nvSpPr>
            <p:spPr>
              <a:xfrm>
                <a:off x="640080" y="5270040"/>
                <a:ext cx="327960" cy="7624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rgbClr val="e3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0" name="Freeform 5716"/>
              <p:cNvSpPr/>
              <p:nvPr/>
            </p:nvSpPr>
            <p:spPr>
              <a:xfrm>
                <a:off x="712080" y="5232600"/>
                <a:ext cx="319320" cy="7812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rgbClr val="e3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1" name="Freeform 5717"/>
              <p:cNvSpPr/>
              <p:nvPr/>
            </p:nvSpPr>
            <p:spPr>
              <a:xfrm>
                <a:off x="676800" y="5263560"/>
                <a:ext cx="330840" cy="76572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2" name="Freeform 5703"/>
              <p:cNvSpPr/>
              <p:nvPr/>
            </p:nvSpPr>
            <p:spPr>
              <a:xfrm>
                <a:off x="618840" y="507996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253" name="组合 59"/>
            <p:cNvGrpSpPr/>
            <p:nvPr/>
          </p:nvGrpSpPr>
          <p:grpSpPr>
            <a:xfrm>
              <a:off x="739800" y="4886280"/>
              <a:ext cx="560880" cy="1061280"/>
              <a:chOff x="739800" y="4886280"/>
              <a:chExt cx="560880" cy="1061280"/>
            </a:xfrm>
          </p:grpSpPr>
          <p:sp>
            <p:nvSpPr>
              <p:cNvPr id="254" name="Freeform 5702"/>
              <p:cNvSpPr/>
              <p:nvPr/>
            </p:nvSpPr>
            <p:spPr>
              <a:xfrm rot="781200">
                <a:off x="1027800" y="5853240"/>
                <a:ext cx="109440" cy="82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5" name="Freeform 5704"/>
              <p:cNvSpPr/>
              <p:nvPr/>
            </p:nvSpPr>
            <p:spPr>
              <a:xfrm rot="781200">
                <a:off x="897120" y="4898880"/>
                <a:ext cx="149040" cy="299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6" name="Freeform 5715"/>
              <p:cNvSpPr/>
              <p:nvPr/>
            </p:nvSpPr>
            <p:spPr>
              <a:xfrm rot="781200">
                <a:off x="821160" y="5109120"/>
                <a:ext cx="327960" cy="7624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rgbClr val="018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7" name="Freeform 5716"/>
              <p:cNvSpPr/>
              <p:nvPr/>
            </p:nvSpPr>
            <p:spPr>
              <a:xfrm rot="781200">
                <a:off x="897480" y="5087880"/>
                <a:ext cx="319320" cy="7812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rgbClr val="018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8" name="Freeform 5717"/>
              <p:cNvSpPr/>
              <p:nvPr/>
            </p:nvSpPr>
            <p:spPr>
              <a:xfrm rot="781200">
                <a:off x="857880" y="5111280"/>
                <a:ext cx="330840" cy="76572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rgbClr val="01ac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59" name="Freeform 5703"/>
              <p:cNvSpPr/>
              <p:nvPr/>
            </p:nvSpPr>
            <p:spPr>
              <a:xfrm rot="781200">
                <a:off x="920880" y="489744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260" name="组合 66"/>
            <p:cNvGrpSpPr/>
            <p:nvPr/>
          </p:nvGrpSpPr>
          <p:grpSpPr>
            <a:xfrm>
              <a:off x="914400" y="4862520"/>
              <a:ext cx="723960" cy="1074240"/>
              <a:chOff x="914400" y="4862520"/>
              <a:chExt cx="723960" cy="1074240"/>
            </a:xfrm>
          </p:grpSpPr>
          <p:sp>
            <p:nvSpPr>
              <p:cNvPr id="261" name="Freeform 5702"/>
              <p:cNvSpPr/>
              <p:nvPr/>
            </p:nvSpPr>
            <p:spPr>
              <a:xfrm rot="1701600">
                <a:off x="1171800" y="5832720"/>
                <a:ext cx="109440" cy="82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62" name="Freeform 5704"/>
              <p:cNvSpPr/>
              <p:nvPr/>
            </p:nvSpPr>
            <p:spPr>
              <a:xfrm rot="1701600">
                <a:off x="1269000" y="4879800"/>
                <a:ext cx="149040" cy="299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63" name="Freeform 5715"/>
              <p:cNvSpPr/>
              <p:nvPr/>
            </p:nvSpPr>
            <p:spPr>
              <a:xfrm rot="1701600">
                <a:off x="1075680" y="5077440"/>
                <a:ext cx="327960" cy="7624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rgbClr val="ffa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64" name="Freeform 5716"/>
              <p:cNvSpPr/>
              <p:nvPr/>
            </p:nvSpPr>
            <p:spPr>
              <a:xfrm rot="1701600">
                <a:off x="1152360" y="5075280"/>
                <a:ext cx="319320" cy="7812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781200"/>
                  <a:gd name="textAreaBottom" fmla="*/ 781560 h 78120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rgbClr val="ffa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65" name="Freeform 5717"/>
              <p:cNvSpPr/>
              <p:nvPr/>
            </p:nvSpPr>
            <p:spPr>
              <a:xfrm rot="1701600">
                <a:off x="1109880" y="5089680"/>
                <a:ext cx="330840" cy="76572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rgbClr val="ffb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66" name="Freeform 5703"/>
              <p:cNvSpPr/>
              <p:nvPr/>
            </p:nvSpPr>
            <p:spPr>
              <a:xfrm rot="1701600">
                <a:off x="1319400" y="4875480"/>
                <a:ext cx="56880" cy="104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grpSp>
          <p:nvGrpSpPr>
            <p:cNvPr id="267" name="组合 73"/>
            <p:cNvGrpSpPr/>
            <p:nvPr/>
          </p:nvGrpSpPr>
          <p:grpSpPr>
            <a:xfrm>
              <a:off x="1034280" y="5154480"/>
              <a:ext cx="830520" cy="945360"/>
              <a:chOff x="1034280" y="5154480"/>
              <a:chExt cx="830520" cy="945360"/>
            </a:xfrm>
          </p:grpSpPr>
          <p:sp>
            <p:nvSpPr>
              <p:cNvPr id="268" name="Freeform 5702"/>
              <p:cNvSpPr/>
              <p:nvPr/>
            </p:nvSpPr>
            <p:spPr>
              <a:xfrm rot="2920200">
                <a:off x="1237320" y="5992560"/>
                <a:ext cx="120960" cy="745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39" y="11"/>
                    </a:moveTo>
                    <a:cubicBezTo>
                      <a:pt x="39" y="11"/>
                      <a:pt x="39" y="12"/>
                      <a:pt x="39" y="12"/>
                    </a:cubicBezTo>
                    <a:cubicBezTo>
                      <a:pt x="39" y="12"/>
                      <a:pt x="38" y="13"/>
                      <a:pt x="38" y="13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0" y="20"/>
                    </a:cubicBezTo>
                    <a:cubicBezTo>
                      <a:pt x="30" y="20"/>
                      <a:pt x="29" y="21"/>
                      <a:pt x="29" y="21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7" y="26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6" y="26"/>
                      <a:pt x="6" y="26"/>
                      <a:pt x="6" y="26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9" y="11"/>
                    </a:lnTo>
                    <a:close/>
                  </a:path>
                </a:pathLst>
              </a:custGeom>
              <a:solidFill>
                <a:srgbClr val="e87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69" name="Freeform 5704"/>
              <p:cNvSpPr/>
              <p:nvPr/>
            </p:nvSpPr>
            <p:spPr>
              <a:xfrm rot="2920200">
                <a:off x="1538640" y="5170320"/>
                <a:ext cx="165240" cy="2703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10074" h="10261">
                    <a:moveTo>
                      <a:pt x="5168" y="10248"/>
                    </a:moveTo>
                    <a:lnTo>
                      <a:pt x="7432" y="9722"/>
                    </a:lnTo>
                    <a:lnTo>
                      <a:pt x="9507" y="9196"/>
                    </a:lnTo>
                    <a:cubicBezTo>
                      <a:pt x="10263" y="8986"/>
                      <a:pt x="10263" y="8146"/>
                      <a:pt x="9507" y="7304"/>
                    </a:cubicBezTo>
                    <a:lnTo>
                      <a:pt x="8187" y="5623"/>
                    </a:lnTo>
                    <a:cubicBezTo>
                      <a:pt x="7810" y="5097"/>
                      <a:pt x="7620" y="4886"/>
                      <a:pt x="7055" y="4571"/>
                    </a:cubicBezTo>
                    <a:lnTo>
                      <a:pt x="450" y="366"/>
                    </a:lnTo>
                    <a:lnTo>
                      <a:pt x="73" y="261"/>
                    </a:lnTo>
                    <a:cubicBezTo>
                      <a:pt x="73" y="331"/>
                      <a:pt x="-92" y="-492"/>
                      <a:pt x="73" y="471"/>
                    </a:cubicBezTo>
                    <a:cubicBezTo>
                      <a:pt x="238" y="1434"/>
                      <a:pt x="813" y="4917"/>
                      <a:pt x="1066" y="6039"/>
                    </a:cubicBezTo>
                    <a:cubicBezTo>
                      <a:pt x="1318" y="7160"/>
                      <a:pt x="1399" y="6778"/>
                      <a:pt x="1587" y="7199"/>
                    </a:cubicBezTo>
                    <a:cubicBezTo>
                      <a:pt x="2909" y="8881"/>
                      <a:pt x="2812" y="8881"/>
                      <a:pt x="2812" y="8881"/>
                    </a:cubicBezTo>
                    <a:cubicBezTo>
                      <a:pt x="3566" y="9827"/>
                      <a:pt x="4601" y="10353"/>
                      <a:pt x="5168" y="10248"/>
                    </a:cubicBezTo>
                  </a:path>
                </a:pathLst>
              </a:custGeom>
              <a:solidFill>
                <a:srgbClr val="f3d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70" name="Freeform 5715"/>
              <p:cNvSpPr/>
              <p:nvPr/>
            </p:nvSpPr>
            <p:spPr>
              <a:xfrm rot="2920200">
                <a:off x="1231200" y="5307480"/>
                <a:ext cx="361440" cy="68904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117" h="248">
                    <a:moveTo>
                      <a:pt x="105" y="24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7" y="0"/>
                      <a:pt x="12" y="4"/>
                      <a:pt x="13" y="5"/>
                    </a:cubicBezTo>
                    <a:cubicBezTo>
                      <a:pt x="117" y="247"/>
                      <a:pt x="117" y="247"/>
                      <a:pt x="117" y="247"/>
                    </a:cubicBezTo>
                    <a:lnTo>
                      <a:pt x="105" y="248"/>
                    </a:lnTo>
                    <a:close/>
                  </a:path>
                </a:pathLst>
              </a:custGeom>
              <a:solidFill>
                <a:schemeClr val="accent4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71" name="Freeform 5716"/>
              <p:cNvSpPr/>
              <p:nvPr/>
            </p:nvSpPr>
            <p:spPr>
              <a:xfrm rot="2920200">
                <a:off x="1305360" y="5337360"/>
                <a:ext cx="353520" cy="70704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707040"/>
                  <a:gd name="textAreaBottom" fmla="*/ 707400 h 707040"/>
                </a:gdLst>
                <a:ahLst/>
                <a:rect l="textAreaLeft" t="textAreaTop" r="textAreaRight" b="textAreaBottom"/>
                <a:pathLst>
                  <a:path w="114" h="254">
                    <a:moveTo>
                      <a:pt x="105" y="254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4"/>
                      <a:pt x="6" y="2"/>
                    </a:cubicBezTo>
                    <a:cubicBezTo>
                      <a:pt x="10" y="0"/>
                      <a:pt x="10" y="3"/>
                      <a:pt x="11" y="5"/>
                    </a:cubicBezTo>
                    <a:cubicBezTo>
                      <a:pt x="114" y="245"/>
                      <a:pt x="114" y="245"/>
                      <a:pt x="114" y="245"/>
                    </a:cubicBezTo>
                    <a:lnTo>
                      <a:pt x="105" y="254"/>
                    </a:lnTo>
                    <a:close/>
                  </a:path>
                </a:pathLst>
              </a:custGeom>
              <a:solidFill>
                <a:schemeClr val="accent4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72" name="Freeform 5717"/>
              <p:cNvSpPr/>
              <p:nvPr/>
            </p:nvSpPr>
            <p:spPr>
              <a:xfrm rot="2920200">
                <a:off x="1261800" y="5334840"/>
                <a:ext cx="364680" cy="691560"/>
              </a:xfrm>
              <a:custGeom>
                <a:avLst/>
                <a:gdLst>
                  <a:gd name="textAreaLeft" fmla="*/ 0 w 364680"/>
                  <a:gd name="textAreaRight" fmla="*/ 365040 w 364680"/>
                  <a:gd name="textAreaTop" fmla="*/ 0 h 691560"/>
                  <a:gd name="textAreaBottom" fmla="*/ 691920 h 691560"/>
                </a:gdLst>
                <a:ahLst/>
                <a:rect l="textAreaLeft" t="textAreaTop" r="textAreaRight" b="textAreaBottom"/>
                <a:pathLst>
                  <a:path w="118" h="249">
                    <a:moveTo>
                      <a:pt x="104" y="249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8"/>
                      <a:pt x="1" y="4"/>
                      <a:pt x="5" y="2"/>
                    </a:cubicBezTo>
                    <a:cubicBezTo>
                      <a:pt x="11" y="0"/>
                      <a:pt x="13" y="3"/>
                      <a:pt x="14" y="4"/>
                    </a:cubicBezTo>
                    <a:cubicBezTo>
                      <a:pt x="118" y="244"/>
                      <a:pt x="118" y="244"/>
                      <a:pt x="118" y="244"/>
                    </a:cubicBezTo>
                    <a:lnTo>
                      <a:pt x="104" y="249"/>
                    </a:lnTo>
                    <a:close/>
                  </a:path>
                </a:pathLst>
              </a:custGeom>
              <a:solidFill>
                <a:schemeClr val="accent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73" name="Freeform 5703"/>
              <p:cNvSpPr/>
              <p:nvPr/>
            </p:nvSpPr>
            <p:spPr>
              <a:xfrm rot="2920200">
                <a:off x="1619280" y="5166720"/>
                <a:ext cx="63360" cy="94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2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30"/>
                      <a:pt x="10" y="30"/>
                      <a:pt x="12" y="29"/>
                    </a:cubicBezTo>
                    <a:cubicBezTo>
                      <a:pt x="15" y="27"/>
                      <a:pt x="17" y="25"/>
                      <a:pt x="18" y="22"/>
                    </a:cubicBez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sp>
          <p:nvSpPr>
            <p:cNvPr id="274" name="AutoShape 5699"/>
            <p:cNvSpPr/>
            <p:nvPr/>
          </p:nvSpPr>
          <p:spPr>
            <a:xfrm>
              <a:off x="557640" y="4869000"/>
              <a:ext cx="42912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275" name="组合 81"/>
            <p:cNvGrpSpPr/>
            <p:nvPr/>
          </p:nvGrpSpPr>
          <p:grpSpPr>
            <a:xfrm>
              <a:off x="818280" y="5660640"/>
              <a:ext cx="788040" cy="749160"/>
              <a:chOff x="818280" y="5660640"/>
              <a:chExt cx="788040" cy="749160"/>
            </a:xfrm>
          </p:grpSpPr>
          <p:sp>
            <p:nvSpPr>
              <p:cNvPr id="276" name="Freeform 5615"/>
              <p:cNvSpPr/>
              <p:nvPr/>
            </p:nvSpPr>
            <p:spPr>
              <a:xfrm>
                <a:off x="818280" y="5660640"/>
                <a:ext cx="787320" cy="7466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632" h="541">
                    <a:moveTo>
                      <a:pt x="575" y="435"/>
                    </a:moveTo>
                    <a:lnTo>
                      <a:pt x="0" y="541"/>
                    </a:lnTo>
                    <a:lnTo>
                      <a:pt x="0" y="94"/>
                    </a:lnTo>
                    <a:lnTo>
                      <a:pt x="632" y="0"/>
                    </a:lnTo>
                    <a:lnTo>
                      <a:pt x="575" y="4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77" name="Freeform 5615"/>
              <p:cNvSpPr/>
              <p:nvPr/>
            </p:nvSpPr>
            <p:spPr>
              <a:xfrm>
                <a:off x="818280" y="5663160"/>
                <a:ext cx="787320" cy="7466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632" h="541">
                    <a:moveTo>
                      <a:pt x="575" y="435"/>
                    </a:moveTo>
                    <a:lnTo>
                      <a:pt x="0" y="541"/>
                    </a:lnTo>
                    <a:lnTo>
                      <a:pt x="0" y="94"/>
                    </a:lnTo>
                    <a:lnTo>
                      <a:pt x="632" y="0"/>
                    </a:lnTo>
                    <a:lnTo>
                      <a:pt x="575" y="4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/>
                  </a:gs>
                  <a:gs pos="100000">
                    <a:srgbClr val="ffffff">
                      <a:alpha val="3137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  <p:sp>
            <p:nvSpPr>
              <p:cNvPr id="278" name="Freeform 5615"/>
              <p:cNvSpPr/>
              <p:nvPr/>
            </p:nvSpPr>
            <p:spPr>
              <a:xfrm>
                <a:off x="819000" y="5662440"/>
                <a:ext cx="787320" cy="7466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632" h="541">
                    <a:moveTo>
                      <a:pt x="575" y="435"/>
                    </a:moveTo>
                    <a:lnTo>
                      <a:pt x="0" y="541"/>
                    </a:lnTo>
                    <a:lnTo>
                      <a:pt x="0" y="94"/>
                    </a:lnTo>
                    <a:lnTo>
                      <a:pt x="632" y="0"/>
                    </a:lnTo>
                    <a:lnTo>
                      <a:pt x="575" y="4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>
                      <a:alpha val="61176"/>
                    </a:srgbClr>
                  </a:gs>
                  <a:gs pos="100000">
                    <a:srgbClr val="f2f2f2">
                      <a:alpha val="27058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endParaRPr>
              </a:p>
            </p:txBody>
          </p:sp>
        </p:grpSp>
        <p:sp>
          <p:nvSpPr>
            <p:cNvPr id="279" name="Freeform 5785"/>
            <p:cNvSpPr/>
            <p:nvPr/>
          </p:nvSpPr>
          <p:spPr>
            <a:xfrm>
              <a:off x="810000" y="5657760"/>
              <a:ext cx="1038960" cy="205200"/>
            </a:xfrm>
            <a:custGeom>
              <a:avLst/>
              <a:gdLst>
                <a:gd name="textAreaLeft" fmla="*/ 0 w 1038960"/>
                <a:gd name="textAreaRight" fmla="*/ 1039320 w 10389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350" h="60">
                  <a:moveTo>
                    <a:pt x="0" y="38"/>
                  </a:moveTo>
                  <a:cubicBezTo>
                    <a:pt x="266" y="0"/>
                    <a:pt x="266" y="0"/>
                    <a:pt x="266" y="0"/>
                  </a:cubicBezTo>
                  <a:cubicBezTo>
                    <a:pt x="350" y="12"/>
                    <a:pt x="350" y="12"/>
                    <a:pt x="350" y="12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37" y="60"/>
                    <a:pt x="2" y="38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22225">
              <a:noFill/>
            </a:ln>
            <a:scene3d>
              <a:camera prst="orthographicFront"/>
              <a:lightRig dir="t" rig="threePt"/>
            </a:scene3d>
            <a:sp3d>
              <a:bevelT prst="angle" w="12700" h="12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280" name="TextBox 23"/>
          <p:cNvSpPr/>
          <p:nvPr/>
        </p:nvSpPr>
        <p:spPr>
          <a:xfrm>
            <a:off x="937080" y="226224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4"/>
          <p:cNvSpPr/>
          <p:nvPr/>
        </p:nvSpPr>
        <p:spPr>
          <a:xfrm>
            <a:off x="925200" y="1084320"/>
            <a:ext cx="205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Group 12"/>
          <p:cNvGraphicFramePr/>
          <p:nvPr/>
        </p:nvGraphicFramePr>
        <p:xfrm>
          <a:off x="4896360" y="2347920"/>
          <a:ext cx="1674000" cy="2201400"/>
        </p:xfrm>
        <a:graphic>
          <a:graphicData uri="http://schemas.openxmlformats.org/drawingml/2006/table">
            <a:tbl>
              <a:tblPr/>
              <a:tblGrid>
                <a:gridCol w="837000"/>
                <a:gridCol w="837000"/>
              </a:tblGrid>
              <a:tr h="11426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876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3" name="TextBox 23"/>
          <p:cNvSpPr/>
          <p:nvPr/>
        </p:nvSpPr>
        <p:spPr>
          <a:xfrm>
            <a:off x="5009760" y="2225520"/>
            <a:ext cx="10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5220360" y="1090440"/>
            <a:ext cx="1541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2832840" y="2462040"/>
            <a:ext cx="156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易错提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半部分不能少写一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6"/>
          <p:cNvSpPr/>
          <p:nvPr/>
        </p:nvSpPr>
        <p:spPr>
          <a:xfrm>
            <a:off x="6948360" y="2492280"/>
            <a:ext cx="156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易错提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间部分不能少写一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9"/>
          <p:cNvSpPr/>
          <p:nvPr/>
        </p:nvSpPr>
        <p:spPr>
          <a:xfrm>
            <a:off x="455040" y="252360"/>
            <a:ext cx="19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易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2546</Words>
  <Paragraphs>253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5T06:25:0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5T06:28:21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9</vt:r8>
  </property>
  <property fmtid="{D5CDD505-2E9C-101B-9397-08002B2CF9AE}" pid="3" name="PresentationFormat">
    <vt:lpwstr>全屏显示(4:3)</vt:lpwstr>
  </property>
  <property fmtid="{D5CDD505-2E9C-101B-9397-08002B2CF9AE}" pid="4" name="Slides">
    <vt:r8>41</vt:r8>
  </property>
</Properties>
</file>