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gif" ContentType="image/gif"/>
  <Override PartName="/ppt/media/audio5.wav" ContentType="audio/x-wav"/>
  <Override PartName="/ppt/media/audio3.wav" ContentType="audio/x-wav"/>
  <Override PartName="/ppt/media/image11.jpeg" ContentType="image/jpeg"/>
  <Override PartName="/ppt/media/image8.png" ContentType="image/png"/>
  <Override PartName="/ppt/media/image10.gif" ContentType="image/gif"/>
  <Override PartName="/ppt/media/audio7.wav" ContentType="audio/x-wav"/>
  <Override PartName="/ppt/media/image5.png" ContentType="image/png"/>
  <Override PartName="/ppt/media/audio1.wav" ContentType="audio/x-wav"/>
  <Override PartName="/ppt/media/image3.gif" ContentType="image/gif"/>
  <Override PartName="/ppt/media/image1.jpeg" ContentType="image/jpeg"/>
  <Override PartName="/ppt/media/image7.png" ContentType="image/png"/>
  <Override PartName="/ppt/media/audio4.wav" ContentType="audio/x-wav"/>
  <Override PartName="/ppt/media/image2.png" ContentType="image/png"/>
  <Override PartName="/ppt/media/image4.jpeg" ContentType="image/jpeg"/>
  <Override PartName="/ppt/media/image6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62A589-CF99-47FA-9B40-295FD2E31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E560B7-2AF6-4EE7-96F0-4C2FD970FE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2FB7-7D0D-4023-9B07-05FA7E21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402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2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64E7-ABDE-426D-B32C-F0671123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080" y="198108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080" y="401076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060F-455D-40B6-BC09-FA1BA709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27496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1080"/>
            <a:ext cx="27496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1080"/>
            <a:ext cx="27496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3E11-67EB-43F5-B117-26F5B783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F1F3-C9C1-4216-AF39-56D56B01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981080"/>
            <a:ext cx="854028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474B-8558-41A2-80BE-16406B01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4028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E15A-3215-4357-BD91-323C4D02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736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1080" y="1981080"/>
            <a:ext cx="416736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D48E-D9C7-40F5-A66D-4D1130EC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2E17-70F0-4B00-8F8E-6060EE08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1680" y="685800"/>
            <a:ext cx="854028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CCFA-8E4B-4304-B1C8-66522679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080" y="1981080"/>
            <a:ext cx="416736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3E67-C84C-4099-BEB7-E26FC117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1080"/>
            <a:ext cx="854028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6310-D3D4-4B65-8320-6383A954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736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1080" y="198108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1080" y="401076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A666-544C-49D4-B585-5747FD33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080" y="198108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2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5439-5B76-434D-8885-C8166B19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402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2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931C-BEA5-4F4F-9AC0-E35E1EAC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080" y="198108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1080" y="401076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0253-8520-4D02-B656-E7068F50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27496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2480" y="1981080"/>
            <a:ext cx="27496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80040" y="1981080"/>
            <a:ext cx="27496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B99F-473D-449C-8A78-44F5FB9B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47DB9-BE96-438E-B935-89809133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920" y="1981080"/>
            <a:ext cx="854028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35847-3531-4F63-971D-7B62333B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4028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37B3B-86EB-4952-8060-80F42FD2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736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1080" y="1981080"/>
            <a:ext cx="416736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9A2E4-F098-4D98-BA1A-87AC09ED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00277-09DB-4804-877D-44794544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4028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667-59F6-4E3F-8C5E-9013DD33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1680" y="685800"/>
            <a:ext cx="854028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84A12-E47F-4345-BD80-12E6A0F8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080" y="1981080"/>
            <a:ext cx="416736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A5B5F-DEB1-4FB3-A764-481C39A9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736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080" y="198108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1080" y="401076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7539F-8176-4690-9FC9-9B0B2E5E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1080" y="198108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2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5FDCC-09C8-4DA9-BBA9-BD34CBD5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402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2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95DD4-060F-4526-B9E3-7739F284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080" y="198108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1080" y="401076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892E9-8275-4408-B142-DA43AC2A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27496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92480" y="1981080"/>
            <a:ext cx="27496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80040" y="1981080"/>
            <a:ext cx="27496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D913C-8B2D-4F44-807D-D491E42B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4C53D-8F06-49A7-9A10-86A41FD54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04920" y="1981080"/>
            <a:ext cx="854028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FBB03-D743-48E8-B641-DA9C9742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4028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2B36A-D38C-485E-86D1-50421BC3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736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080" y="1981080"/>
            <a:ext cx="416736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117F-AC06-42D7-B0C6-D1D89D28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736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1080" y="1981080"/>
            <a:ext cx="416736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6193E-49D2-496F-809E-CE79D707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50E73-205E-4579-96C0-CEB0D4CA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01680" y="685800"/>
            <a:ext cx="854028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EB69C-8F45-4794-84B1-AA480555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080" y="1981080"/>
            <a:ext cx="416736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D2365-4FF9-4656-A409-EB5BB2EF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736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1080" y="198108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1080" y="401076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A10FD-E942-4011-A39D-E83BA03E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1080" y="198108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2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0696A-589A-43C8-8C69-5D8010E2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402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2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A14F5-0771-4D24-8B3A-4E00AF20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080" y="198108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1080" y="401076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FB0E5-CE73-4E42-88F1-6B4C8115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27496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92480" y="1981080"/>
            <a:ext cx="27496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80040" y="1981080"/>
            <a:ext cx="27496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647CC-1BBC-4B8A-AB04-71372074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01A3-22B9-4D7D-8772-97421488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800"/>
            <a:ext cx="854028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35DC-2E97-4DFE-8DF9-D527E055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080" y="1981080"/>
            <a:ext cx="416736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C5CB-BD5F-4B9C-AF29-D8CD4EEB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736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080" y="198108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080" y="401076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5CFA-7DE3-4BE5-9C2C-81743780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080" y="1981080"/>
            <a:ext cx="416736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28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CFF7-16D5-475C-B466-FE65E66B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2DA60B-86B2-4C6A-9F9B-69A7D5262A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609480" y="1566720"/>
            <a:ext cx="7957800" cy="109080"/>
          </a:xfrm>
          <a:custGeom>
            <a:avLst/>
            <a:gdLst>
              <a:gd name="textAreaLeft" fmla="*/ 25171560 w 7957800"/>
              <a:gd name="textAreaRight" fmla="*/ 146724480 w 7957800"/>
              <a:gd name="textAreaTop" fmla="*/ 345960 h 109080"/>
              <a:gd name="textAreaBottom" fmla="*/ 2017440 h 10908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chemeClr val="accent2"/>
          </a:solidFill>
          <a:ln w="9525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42" name="Line 5"/>
          <p:cNvSpPr/>
          <p:nvPr/>
        </p:nvSpPr>
        <p:spPr>
          <a:xfrm>
            <a:off x="609480" y="6172200"/>
            <a:ext cx="7924680" cy="360"/>
          </a:xfrm>
          <a:prstGeom prst="line">
            <a:avLst/>
          </a:prstGeom>
          <a:ln w="3175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609480" y="6245280"/>
            <a:ext cx="19807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19807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EB2A41-D694-4B0A-B5FC-0708C97CDE26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4"/>
          <p:cNvSpPr/>
          <p:nvPr/>
        </p:nvSpPr>
        <p:spPr>
          <a:xfrm>
            <a:off x="609480" y="1566720"/>
            <a:ext cx="7957800" cy="109080"/>
          </a:xfrm>
          <a:custGeom>
            <a:avLst/>
            <a:gdLst>
              <a:gd name="textAreaLeft" fmla="*/ 25171560 w 7957800"/>
              <a:gd name="textAreaRight" fmla="*/ 146724480 w 7957800"/>
              <a:gd name="textAreaTop" fmla="*/ 345960 h 109080"/>
              <a:gd name="textAreaBottom" fmla="*/ 2017440 h 10908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chemeClr val="accent2"/>
          </a:solidFill>
          <a:ln w="9525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85" name="Line 5"/>
          <p:cNvSpPr/>
          <p:nvPr/>
        </p:nvSpPr>
        <p:spPr>
          <a:xfrm>
            <a:off x="609480" y="6172200"/>
            <a:ext cx="7924680" cy="360"/>
          </a:xfrm>
          <a:prstGeom prst="line">
            <a:avLst/>
          </a:prstGeom>
          <a:ln w="3175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  <a:ea typeface="宋体"/>
              </a:rPr>
              <a:t>单击此处编辑母版标题样式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单击此处编辑母版文本样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cc0000"/>
              </a:buClr>
              <a:buFont typeface="Wingdings" charset="2"/>
              <a:buChar char=""/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第二级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cc0000"/>
              </a:buClr>
              <a:buFont typeface="Wingdings" charset="2"/>
              <a:buChar char=""/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宋体"/>
              </a:rPr>
              <a:t>第三级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09480" y="6245280"/>
            <a:ext cx="19807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19807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88B50C-002B-49CA-BE30-D37EEC9F04CF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8360" rIns="108360" tIns="54360" bIns="5436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5200" spc="-1" strike="noStrike">
                <a:solidFill>
                  <a:srgbClr val="007572"/>
                </a:solidFill>
                <a:latin typeface="Arial"/>
                <a:ea typeface="宋体"/>
              </a:rPr>
              <a:t>单击此处编辑母版标题样式</a:t>
            </a:r>
            <a:endParaRPr b="0" lang="en-US" sz="5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04920" y="1981080"/>
            <a:ext cx="8540280" cy="3885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8360" rIns="108360" tIns="54360" bIns="54360" anchor="t">
            <a:noAutofit/>
          </a:bodyPr>
          <a:p>
            <a:pPr marL="406440" indent="-406440">
              <a:lnSpc>
                <a:spcPct val="100000"/>
              </a:lnSpc>
              <a:spcBef>
                <a:spcPts val="740"/>
              </a:spcBef>
              <a:buClr>
                <a:srgbClr val="cc0066"/>
              </a:buClr>
              <a:buSzPct val="70000"/>
              <a:buFont typeface="Wingdings" charset="2"/>
              <a:buChar char=""/>
            </a:pPr>
            <a:r>
              <a:rPr b="0" lang="zh-CN" sz="3700" spc="-1" strike="noStrike">
                <a:solidFill>
                  <a:srgbClr val="0033cc"/>
                </a:solidFill>
                <a:latin typeface="Arial"/>
                <a:ea typeface="宋体"/>
              </a:rPr>
              <a:t>单击此处编辑母版文本样式</a:t>
            </a: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  <a:p>
            <a:pPr lvl="1" marL="879480" indent="-338040">
              <a:lnSpc>
                <a:spcPct val="100000"/>
              </a:lnSpc>
              <a:spcBef>
                <a:spcPts val="660"/>
              </a:spcBef>
              <a:buClr>
                <a:srgbClr val="3399ff"/>
              </a:buClr>
              <a:buSzPct val="85000"/>
              <a:buFont typeface="Wingdings" charset="2"/>
              <a:buChar char=""/>
            </a:pPr>
            <a:r>
              <a:rPr b="0" lang="zh-CN" sz="3300" spc="-1" strike="noStrike">
                <a:solidFill>
                  <a:srgbClr val="0033cc"/>
                </a:solidFill>
                <a:latin typeface="Arial"/>
                <a:ea typeface="宋体"/>
              </a:rPr>
              <a:t>第二级</a:t>
            </a:r>
            <a:endParaRPr b="0" lang="en-US" sz="3300" spc="-1" strike="noStrike">
              <a:solidFill>
                <a:srgbClr val="0033cc"/>
              </a:solidFill>
              <a:latin typeface="Arial"/>
            </a:endParaRPr>
          </a:p>
          <a:p>
            <a:pPr lvl="2" marL="1353960" indent="-270000">
              <a:lnSpc>
                <a:spcPct val="100000"/>
              </a:lnSpc>
              <a:spcBef>
                <a:spcPts val="561"/>
              </a:spcBef>
              <a:buClr>
                <a:srgbClr val="cc0066"/>
              </a:buClr>
              <a:buSzPct val="80000"/>
              <a:buFont typeface="Wingdings" charset="2"/>
              <a:buChar char=""/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第三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895400" indent="-270000">
              <a:lnSpc>
                <a:spcPct val="100000"/>
              </a:lnSpc>
              <a:spcBef>
                <a:spcPts val="459"/>
              </a:spcBef>
              <a:buClr>
                <a:srgbClr val="3399ff"/>
              </a:buClr>
              <a:buSzPct val="90000"/>
              <a:buFont typeface="Wingdings" charset="2"/>
              <a:buChar char=""/>
            </a:pPr>
            <a:r>
              <a:rPr b="0" lang="zh-CN" sz="2300" spc="-1" strike="noStrike">
                <a:solidFill>
                  <a:srgbClr val="0033cc"/>
                </a:solidFill>
                <a:latin typeface="Arial"/>
                <a:ea typeface="宋体"/>
              </a:rPr>
              <a:t>第四级</a:t>
            </a:r>
            <a:endParaRPr b="0" lang="en-US" sz="2300" spc="-1" strike="noStrike">
              <a:solidFill>
                <a:srgbClr val="0033cc"/>
              </a:solidFill>
              <a:latin typeface="Arial"/>
            </a:endParaRPr>
          </a:p>
          <a:p>
            <a:pPr lvl="4" marL="2438280" indent="-270000">
              <a:lnSpc>
                <a:spcPct val="100000"/>
              </a:lnSpc>
              <a:spcBef>
                <a:spcPts val="459"/>
              </a:spcBef>
              <a:buClr>
                <a:srgbClr val="cc0066"/>
              </a:buClr>
              <a:buSzPct val="85000"/>
              <a:buFont typeface="Wingdings" charset="2"/>
              <a:buChar char=""/>
            </a:pPr>
            <a:r>
              <a:rPr b="0" lang="zh-CN" sz="2300" spc="-1" strike="noStrike">
                <a:solidFill>
                  <a:srgbClr val="0033cc"/>
                </a:solidFill>
                <a:latin typeface="Arial"/>
                <a:ea typeface="宋体"/>
              </a:rPr>
              <a:t>第五级</a:t>
            </a:r>
            <a:endParaRPr b="0" lang="en-US" sz="2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301680" y="6019920"/>
            <a:ext cx="22888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8360" rIns="108360" tIns="54360" bIns="5436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01992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8360" rIns="108360" tIns="54360" bIns="5436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019920"/>
            <a:ext cx="22888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8360" rIns="108360" tIns="54360" bIns="5436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600" spc="-1" strike="noStrike">
                <a:solidFill>
                  <a:srgbClr val="0033cc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81204F-FFD2-46A2-BAFE-0D8EDE4A06A5}" type="slidenum">
              <a:rPr b="0" lang="en-US" sz="1600" spc="-1" strike="noStrike">
                <a:solidFill>
                  <a:srgbClr val="0033cc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1.xml"/><Relationship Id="rId3" Type="http://schemas.openxmlformats.org/officeDocument/2006/relationships/image" Target="../media/image8.png"/><Relationship Id="rId4" Type="http://schemas.openxmlformats.org/officeDocument/2006/relationships/audio" Target="../media/audio1.wav"/><Relationship Id="rId5" Type="http://schemas.openxmlformats.org/officeDocument/2006/relationships/audio" Target="../media/audio1.wav"/><Relationship Id="rId6" Type="http://schemas.openxmlformats.org/officeDocument/2006/relationships/audio" Target="../media/audio3.wav"/><Relationship Id="rId7" Type="http://schemas.openxmlformats.org/officeDocument/2006/relationships/audio" Target="../media/audio4.wav"/><Relationship Id="rId8" Type="http://schemas.openxmlformats.org/officeDocument/2006/relationships/audio" Target="../media/audio5.wav"/><Relationship Id="rId9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audio7.wav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hyperlink" Target="http://image.baidu.com/i?ct=503316480&amp;z=651811051&amp;tn=baiduimagedetail&amp;word=&#26753;&#21551;&#36229;&amp;in=27" TargetMode="External"/><Relationship Id="rId4" Type="http://schemas.openxmlformats.org/officeDocument/2006/relationships/image" Target="../media/image4.jpeg"/><Relationship Id="rId5" Type="http://schemas.openxmlformats.org/officeDocument/2006/relationships/audio" Target="../media/audio1.wav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606960" y="1494000"/>
            <a:ext cx="8015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苦与最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4202640" y="3564000"/>
            <a:ext cx="72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梁启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2372040" y="5590080"/>
            <a:ext cx="4485240" cy="4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特软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DUOT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3"/>
          <p:cNvSpPr txBox="1"/>
          <p:nvPr/>
        </p:nvSpPr>
        <p:spPr>
          <a:xfrm>
            <a:off x="380880" y="228600"/>
            <a:ext cx="3885840" cy="15015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oubleWave1">
              <a:avLst>
                <a:gd name="adj1" fmla="val 6500"/>
                <a:gd name="adj2" fmla="val 4944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分析第二部分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497040" y="1600200"/>
            <a:ext cx="3029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翻过来看”在文中起什么作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57360" y="2286000"/>
            <a:ext cx="80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起过渡作用。有第一部分的“苦”过度到第二部分的“乐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533520" y="3352680"/>
            <a:ext cx="8610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支撑“尽责任是人生最大的快乐”这观点的句子是哪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657360" y="4689360"/>
            <a:ext cx="8486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抵天下事从苦中得来的乐才算真乐。”道出了苦和乐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s4-3"/>
          <p:cNvPicPr/>
          <p:nvPr/>
        </p:nvPicPr>
        <p:blipFill>
          <a:blip r:embed="rId1"/>
          <a:stretch/>
        </p:blipFill>
        <p:spPr>
          <a:xfrm>
            <a:off x="0" y="2637000"/>
            <a:ext cx="2709360" cy="4220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69120" y="4800600"/>
            <a:ext cx="1874520" cy="18698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4"/>
          <p:cNvSpPr/>
          <p:nvPr/>
        </p:nvSpPr>
        <p:spPr>
          <a:xfrm>
            <a:off x="609480" y="457200"/>
            <a:ext cx="8000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再来看最乐的部分（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自然段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685800" y="1143000"/>
            <a:ext cx="8457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从第三自然段得知：作者认为人生什么事最“乐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914400" y="1600200"/>
            <a:ext cx="7162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[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尽了责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762120" y="1981080"/>
            <a:ext cx="8076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者引用古语“如释重负”、俗话“心上一块石头落了地”其目的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762120" y="2743200"/>
            <a:ext cx="8152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来比喻尽了责任后的轻松和愉快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762120" y="3124080"/>
            <a:ext cx="8229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此，作者说了一句很有哲理性的话，它就是——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324000" y="3505320"/>
            <a:ext cx="881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处处尽责任，便处处快乐；时时尽责任，便时时快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250920" y="4114800"/>
            <a:ext cx="8892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看第四自然段：作者认为那些仁人志士的忧国忧民的思想是苦还是乐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826920" y="5013360"/>
            <a:ext cx="791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表面上看他们一辈子在感受苦痛，其实……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250920" y="5445000"/>
            <a:ext cx="8652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他日日在那里尽责任，便日日在那里得苦中真乐，所以他到底是乐，不是苦呀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94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0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16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6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2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7" name="audio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33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8" name="audio5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 rot="16200000">
            <a:off x="3577320" y="-3144960"/>
            <a:ext cx="1537920" cy="82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者是怎样具体阐述苦与乐的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 rot="16200000">
            <a:off x="2331360" y="-249480"/>
            <a:ext cx="4615920" cy="86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者认为：“责任越重大，负责的日子越久长，到责任完了时，海阔天空，心安理德，那快乐还要加几倍哩！”“人生须知道有负责任的苦处，才能知道尽责任的乐处。”“处处尽责任，便处处快乐；时时尽责任，便时时快乐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就说明：快乐和责任是分不开的，快乐是建立在责任之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4439880" y="228600"/>
            <a:ext cx="219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段用了哪些论证方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971640" y="1271520"/>
            <a:ext cx="6629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证论：引用了古语“如释重负”，俗语“心上的石头落了地”。孔子的话“无入而不自得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2960280" y="3305160"/>
            <a:ext cx="1863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比喻论证“海阔天空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061640" y="4238640"/>
            <a:ext cx="76485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比论证“却是不尽责任，受良心责备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的证明了本段的论点：尽责任是人生最大的快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F:\素材\动画\新建文件夹 (2)\4.gif"/>
          <p:cNvPicPr/>
          <p:nvPr/>
        </p:nvPicPr>
        <p:blipFill>
          <a:blip r:embed="rId1"/>
          <a:stretch/>
        </p:blipFill>
        <p:spPr>
          <a:xfrm>
            <a:off x="7162920" y="4800600"/>
            <a:ext cx="1980720" cy="20570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F:\素材\动画\新建文件夹 (2)\10.gif"/>
          <p:cNvPicPr/>
          <p:nvPr/>
        </p:nvPicPr>
        <p:blipFill>
          <a:blip r:embed="rId2"/>
          <a:stretch/>
        </p:blipFill>
        <p:spPr>
          <a:xfrm>
            <a:off x="0" y="0"/>
            <a:ext cx="1828440" cy="18284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4"/>
          <p:cNvSpPr/>
          <p:nvPr/>
        </p:nvSpPr>
        <p:spPr>
          <a:xfrm>
            <a:off x="0" y="2438280"/>
            <a:ext cx="2377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负责任是人生最大的痛苦，尽责任是人生最大的快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2286000" y="990720"/>
            <a:ext cx="304560" cy="4571640"/>
          </a:xfrm>
          <a:prstGeom prst="leftBrace">
            <a:avLst>
              <a:gd name="adj1" fmla="val 181806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0000"/>
              </a:solidFill>
              <a:latin typeface="Times New Roman"/>
              <a:ea typeface="宋体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2930760" y="533520"/>
            <a:ext cx="1430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负责任是人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大的痛苦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论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438280" y="2666880"/>
            <a:ext cx="236196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尽责任是人生最大的快乐（分论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3234960" y="4572000"/>
            <a:ext cx="20098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生当勇于负责，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能逃避责任（结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9"/>
          <p:cNvSpPr/>
          <p:nvPr/>
        </p:nvSpPr>
        <p:spPr>
          <a:xfrm>
            <a:off x="4724280" y="380880"/>
            <a:ext cx="228240" cy="1828440"/>
          </a:xfrm>
          <a:prstGeom prst="leftBrace">
            <a:avLst>
              <a:gd name="adj1" fmla="val 66667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0000"/>
              </a:solidFill>
              <a:latin typeface="Times New Roman"/>
              <a:ea typeface="宋体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6650280" y="228600"/>
            <a:ext cx="695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贫老失意死不是最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4724280" y="685800"/>
            <a:ext cx="4206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最大的痛苦是负了未 了的责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6567120" y="1676520"/>
            <a:ext cx="924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负责任情况及痛苦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3"/>
          <p:cNvSpPr/>
          <p:nvPr/>
        </p:nvSpPr>
        <p:spPr>
          <a:xfrm>
            <a:off x="4648320" y="2666880"/>
            <a:ext cx="304560" cy="1904760"/>
          </a:xfrm>
          <a:prstGeom prst="leftBrace">
            <a:avLst>
              <a:gd name="adj1" fmla="val 52083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4952880" y="2438280"/>
            <a:ext cx="4190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证法：古语、俗语、名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5302800" y="335268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比喻论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5379120" y="403848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比论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7"/>
          <p:cNvSpPr/>
          <p:nvPr/>
        </p:nvSpPr>
        <p:spPr>
          <a:xfrm>
            <a:off x="5867280" y="4572000"/>
            <a:ext cx="75960" cy="1828440"/>
          </a:xfrm>
          <a:prstGeom prst="leftBrace">
            <a:avLst>
              <a:gd name="adj1" fmla="val 200000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7018200" y="4800600"/>
            <a:ext cx="330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勇于负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6369840" y="579132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能逃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0"/>
          <p:cNvSpPr/>
          <p:nvPr/>
        </p:nvSpPr>
        <p:spPr>
          <a:xfrm>
            <a:off x="730800" y="441972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心论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372643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3640" cy="3885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8360" rIns="108360" tIns="54360" bIns="54360" anchor="t">
            <a:noAutofit/>
          </a:bodyPr>
          <a:p>
            <a:pPr marL="406440" indent="-406440">
              <a:lnSpc>
                <a:spcPct val="100000"/>
              </a:lnSpc>
              <a:spcBef>
                <a:spcPts val="740"/>
              </a:spcBef>
              <a:buClr>
                <a:srgbClr val="cc0066"/>
              </a:buClr>
              <a:buSzPct val="70000"/>
              <a:buFont typeface="Wingdings" charset="2"/>
              <a:buChar char=""/>
            </a:pPr>
            <a:r>
              <a:rPr b="0" lang="en-US" sz="3700" spc="-1" strike="noStrike">
                <a:solidFill>
                  <a:srgbClr val="0033cc"/>
                </a:solidFill>
                <a:latin typeface="Arial"/>
                <a:ea typeface="宋体"/>
              </a:rPr>
              <a:t>       </a:t>
            </a:r>
            <a:r>
              <a:rPr b="0" lang="zh-CN" sz="3700" spc="-1" strike="noStrike">
                <a:solidFill>
                  <a:srgbClr val="0033cc"/>
                </a:solidFill>
                <a:latin typeface="Arial"/>
                <a:ea typeface="宋体"/>
              </a:rPr>
              <a:t>学习了本文后，我想大家都应该明白，“未尽责任是人生最大的痛苦，尽责任是人生最大的快乐”，这是本文的中心论点，也是我们学习本文的收获。</a:t>
            </a: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39640" y="333360"/>
            <a:ext cx="2879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四、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47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7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40280" cy="2518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8360" rIns="108360" tIns="54360" bIns="54360" anchor="t">
            <a:noAutofit/>
          </a:bodyPr>
          <a:p>
            <a:pPr marL="406440" indent="-406440">
              <a:lnSpc>
                <a:spcPct val="90000"/>
              </a:lnSpc>
              <a:spcBef>
                <a:spcPts val="740"/>
              </a:spcBef>
              <a:buClr>
                <a:srgbClr val="cc0066"/>
              </a:buClr>
              <a:buSzPct val="70000"/>
              <a:buFont typeface="Wingdings" charset="2"/>
              <a:buChar char=""/>
            </a:pPr>
            <a:r>
              <a:rPr b="0" lang="en-US" sz="3700" spc="-1" strike="noStrike">
                <a:solidFill>
                  <a:srgbClr val="0033cc"/>
                </a:solidFill>
                <a:latin typeface="Arial"/>
                <a:ea typeface="宋体"/>
              </a:rPr>
              <a:t>1.</a:t>
            </a:r>
            <a:r>
              <a:rPr b="0" lang="zh-CN" sz="3700" spc="-1" strike="noStrike">
                <a:solidFill>
                  <a:srgbClr val="0033cc"/>
                </a:solidFill>
                <a:latin typeface="Arial"/>
                <a:ea typeface="宋体"/>
              </a:rPr>
              <a:t>中央电视台对抗“非典”战士钟南山等人的采访。当记者问他们进入疫区时怕不怕，他们的回答是“怕”，“但还是要进去，因为这是医护人员的责任”。 </a:t>
            </a: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740"/>
              </a:spcBef>
              <a:buClr>
                <a:srgbClr val="cc0066"/>
              </a:buClr>
              <a:buSzPct val="70000"/>
              <a:buFont typeface="Wingdings" charset="2"/>
              <a:buChar char=""/>
            </a:pPr>
            <a:r>
              <a:rPr b="0" lang="en-US" sz="3700" spc="-1" strike="noStrike">
                <a:solidFill>
                  <a:srgbClr val="0033cc"/>
                </a:solidFill>
                <a:latin typeface="Arial"/>
                <a:ea typeface="宋体"/>
              </a:rPr>
              <a:t>2.</a:t>
            </a:r>
            <a:r>
              <a:rPr b="0" lang="zh-CN" sz="3700" spc="-1" strike="noStrike">
                <a:solidFill>
                  <a:srgbClr val="0033cc"/>
                </a:solidFill>
                <a:latin typeface="Arial"/>
                <a:ea typeface="宋体"/>
              </a:rPr>
              <a:t>当下正是“甲流”肆虐之时，据悉：会同一中、三中校内已有几位同学感染了“甲流”病毒，因这些同学自觉上报和及时接受隔离，才使病毒没有继续扩散。</a:t>
            </a: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AutoShape 3"/>
          <p:cNvSpPr/>
          <p:nvPr/>
        </p:nvSpPr>
        <p:spPr>
          <a:xfrm>
            <a:off x="324000" y="3789360"/>
            <a:ext cx="8569080" cy="2592000"/>
          </a:xfrm>
          <a:prstGeom prst="horizontalScroll">
            <a:avLst>
              <a:gd name="adj" fmla="val 12500"/>
            </a:avLst>
          </a:prstGeom>
          <a:solidFill>
            <a:schemeClr val="accent1"/>
          </a:solidFill>
          <a:ln w="9525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人是社会的人，社会是人的社会，人离不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社会，社会、家庭都需要人能负责任，同时对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人负责任就是对自己负责任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684360" y="981000"/>
            <a:ext cx="4681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你是怎样看待责任的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987200" y="333360"/>
            <a:ext cx="321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五、拓展迁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鸟3"/>
          <p:cNvPicPr/>
          <p:nvPr/>
        </p:nvPicPr>
        <p:blipFill>
          <a:blip r:embed="rId1"/>
          <a:stretch/>
        </p:blipFill>
        <p:spPr>
          <a:xfrm>
            <a:off x="7848720" y="0"/>
            <a:ext cx="1294920" cy="114264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3"/>
          <p:cNvSpPr/>
          <p:nvPr/>
        </p:nvSpPr>
        <p:spPr>
          <a:xfrm>
            <a:off x="609480" y="380880"/>
            <a:ext cx="3352320" cy="1066320"/>
          </a:xfrm>
          <a:prstGeom prst="flowChartPunchedTape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197000" y="593640"/>
            <a:ext cx="5866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认识作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鸟"/>
          <p:cNvPicPr/>
          <p:nvPr/>
        </p:nvPicPr>
        <p:blipFill>
          <a:blip r:embed="rId2"/>
          <a:stretch/>
        </p:blipFill>
        <p:spPr>
          <a:xfrm>
            <a:off x="8381880" y="6172200"/>
            <a:ext cx="761760" cy="685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u=4287434316,1873052629&amp;gp=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844640"/>
            <a:ext cx="3649320" cy="5013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3941640" y="1314360"/>
            <a:ext cx="48765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梁启超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873—192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字卓如，号任公，别号饮冰室主人，近代改良主义思想家、教育家。广东新会人，出生地主家庭。                                                                         早年求学于广州学海堂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88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中举人。他主张“变法”、“育人才”、“开学校”等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89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参与戊戌变法，变法失败后流亡日本。晚年任清华学校研究院导师。著有《饮冰室合集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3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345960" y="563400"/>
            <a:ext cx="85356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注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545280" y="380880"/>
            <a:ext cx="30402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契（     ）约   悲天悯（     ）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揽（     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684520" y="304920"/>
            <a:ext cx="418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6815880" y="380880"/>
            <a:ext cx="656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ǐ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2745000" y="998640"/>
            <a:ext cx="554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ǎ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431640" y="2889360"/>
            <a:ext cx="86148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重点词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275640" y="3564000"/>
            <a:ext cx="230220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达观          如释重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任重道远       悲天悯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413640"/>
            <a:ext cx="9207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释词语：　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达观：对不如意的事情看得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失意：不得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任重道远：任务繁重，道路遥远。比喻责任重大而艰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悲天悯人：哀叹时世的艰危，同情人民的困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释重负：好像放下了沉重的负担。形容心情紧张后的轻松愉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矩形 11"/>
          <p:cNvSpPr/>
          <p:nvPr/>
        </p:nvSpPr>
        <p:spPr>
          <a:xfrm>
            <a:off x="1918440" y="319860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moban/                  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素材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suca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背景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beijing/                   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表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tubiao/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载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xiazai/                     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教程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powerpoint/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资料下载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ziliao/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范文下载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fanwen/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试卷下载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shiti/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教案下载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jiaoan/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论坛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n                                     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课件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kejian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文课件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kejian/yuwen/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学课件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kejian/shuxue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英语课件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kejian/yingyu/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美术课件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kejian/meishu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科学课件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kejian/kexue/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物理课件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kejian/wuli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课件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kejian/huaxue/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生物课件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kejian/shengwu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理课件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kejian/dili/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历史课件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kejian/lishi/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2286000" y="2682720"/>
            <a:ext cx="45716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286000" y="2682720"/>
            <a:ext cx="45716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11280" y="503280"/>
            <a:ext cx="6025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速读全文，请思考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55760" y="2428920"/>
            <a:ext cx="7515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⑴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文有几个自然段？                              ⑵哪些自然段主要写最苦？                            ⑶哪些自然段主要写最乐？                           ⑷ 全文是按什么结构来写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F:\素材\动画\新建文件夹 (2)\13.gif"/>
          <p:cNvPicPr/>
          <p:nvPr/>
        </p:nvPicPr>
        <p:blipFill>
          <a:blip r:embed="rId1"/>
          <a:stretch/>
        </p:blipFill>
        <p:spPr>
          <a:xfrm>
            <a:off x="6642000" y="324000"/>
            <a:ext cx="1987200" cy="23619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7"/>
          <p:cNvSpPr/>
          <p:nvPr/>
        </p:nvSpPr>
        <p:spPr>
          <a:xfrm>
            <a:off x="6372360" y="2394000"/>
            <a:ext cx="807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6705720" y="3083040"/>
            <a:ext cx="1753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7497720" y="3654360"/>
            <a:ext cx="436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7407360" y="4284720"/>
            <a:ext cx="1706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2727360" y="279360"/>
            <a:ext cx="6400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文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49240" y="1714320"/>
            <a:ext cx="6762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论述“未尽责任是人生最大的痛苦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841320" y="3411360"/>
            <a:ext cx="7543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二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论述“尽完责任是人生最大的快乐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865080" y="4959000"/>
            <a:ext cx="7559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三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论述“人生当勇于负责，而不能逃避责任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387360" y="593640"/>
            <a:ext cx="855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作者认为：贫、失意、老、死是最苦的事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612720" y="1854360"/>
            <a:ext cx="2383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5202360" y="2889360"/>
            <a:ext cx="630000" cy="269640"/>
          </a:xfrm>
          <a:prstGeom prst="rightArrow">
            <a:avLst>
              <a:gd name="adj1" fmla="val 50000"/>
              <a:gd name="adj2" fmla="val 58382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43080" y="3159000"/>
            <a:ext cx="2565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1106640" y="2619360"/>
            <a:ext cx="315720" cy="615600"/>
          </a:xfrm>
          <a:prstGeom prst="downArrow">
            <a:avLst>
              <a:gd name="adj1" fmla="val 50000"/>
              <a:gd name="adj2" fmla="val 48744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10" name="AutoShape 7"/>
          <p:cNvSpPr/>
          <p:nvPr/>
        </p:nvSpPr>
        <p:spPr>
          <a:xfrm flipH="1">
            <a:off x="2637000" y="2798640"/>
            <a:ext cx="360000" cy="1709280"/>
          </a:xfrm>
          <a:prstGeom prst="rightBrace">
            <a:avLst>
              <a:gd name="adj1" fmla="val 39537"/>
              <a:gd name="adj2" fmla="val 50000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3178080" y="2619360"/>
            <a:ext cx="1988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能知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3714480" y="338472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能安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3267000" y="4059360"/>
            <a:ext cx="2101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能达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6102360" y="2664000"/>
            <a:ext cx="1934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虽贫不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2"/>
          <p:cNvSpPr/>
          <p:nvPr/>
        </p:nvSpPr>
        <p:spPr>
          <a:xfrm>
            <a:off x="5248440" y="3610080"/>
            <a:ext cx="630000" cy="267840"/>
          </a:xfrm>
          <a:prstGeom prst="rightArrow">
            <a:avLst>
              <a:gd name="adj1" fmla="val 50000"/>
              <a:gd name="adj2" fmla="val 58728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16" name="AutoShape 13"/>
          <p:cNvSpPr/>
          <p:nvPr/>
        </p:nvSpPr>
        <p:spPr>
          <a:xfrm>
            <a:off x="5337000" y="4194000"/>
            <a:ext cx="630000" cy="267840"/>
          </a:xfrm>
          <a:prstGeom prst="rightArrow">
            <a:avLst>
              <a:gd name="adj1" fmla="val 50000"/>
              <a:gd name="adj2" fmla="val 58728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6146640" y="3473280"/>
            <a:ext cx="2476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虽失意不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6012000" y="4103640"/>
            <a:ext cx="3374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老、死也不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2052720" y="1943280"/>
            <a:ext cx="3406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排比、设问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387360" y="144360"/>
            <a:ext cx="3708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析第一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701640" y="189000"/>
            <a:ext cx="8505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那他认为人生最苦的事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376280" y="863640"/>
            <a:ext cx="701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莫若身上背着一种未了的责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3897360" y="1359000"/>
            <a:ext cx="315720" cy="615600"/>
          </a:xfrm>
          <a:prstGeom prst="downArrow">
            <a:avLst>
              <a:gd name="adj1" fmla="val 50000"/>
              <a:gd name="adj2" fmla="val 48744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4437000" y="1449360"/>
            <a:ext cx="180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阐述理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 flipH="1">
            <a:off x="1601640" y="2124000"/>
            <a:ext cx="313920" cy="1215720"/>
          </a:xfrm>
          <a:prstGeom prst="rightBrace">
            <a:avLst>
              <a:gd name="adj1" fmla="val 32239"/>
              <a:gd name="adj2" fmla="val 50000"/>
            </a:avLst>
          </a:prstGeom>
          <a:solidFill>
            <a:srgbClr val="339966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1962000" y="2033640"/>
            <a:ext cx="630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凡人生在世间一天，便有应该做的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006640" y="2484360"/>
            <a:ext cx="6318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该做的事没有做完，便像是有几千斤重担子压在肩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17360" y="2438280"/>
            <a:ext cx="1844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比论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8037360" y="2019960"/>
            <a:ext cx="142380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4976640" y="2920320"/>
            <a:ext cx="121572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反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2"/>
          <p:cNvSpPr/>
          <p:nvPr/>
        </p:nvSpPr>
        <p:spPr>
          <a:xfrm flipH="1">
            <a:off x="1645560" y="3654360"/>
            <a:ext cx="315720" cy="1485720"/>
          </a:xfrm>
          <a:prstGeom prst="rightBrace">
            <a:avLst>
              <a:gd name="adj1" fmla="val 39196"/>
              <a:gd name="adj2" fmla="val 50000"/>
            </a:avLst>
          </a:prstGeom>
          <a:solidFill>
            <a:srgbClr val="339966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117360" y="4090320"/>
            <a:ext cx="161244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举例论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2050920" y="3564720"/>
            <a:ext cx="248256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事未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2097000" y="3969360"/>
            <a:ext cx="142848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钱未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2050920" y="4420440"/>
            <a:ext cx="169524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恩未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2097000" y="4825080"/>
            <a:ext cx="178704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罪未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8"/>
          <p:cNvSpPr/>
          <p:nvPr/>
        </p:nvSpPr>
        <p:spPr>
          <a:xfrm flipV="1">
            <a:off x="3402000" y="4149720"/>
            <a:ext cx="1034640" cy="539280"/>
          </a:xfrm>
          <a:prstGeom prst="notchedRightArrow">
            <a:avLst>
              <a:gd name="adj1" fmla="val 50000"/>
              <a:gd name="adj2" fmla="val 47941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38" name="Text Box 19"/>
          <p:cNvSpPr/>
          <p:nvPr/>
        </p:nvSpPr>
        <p:spPr>
          <a:xfrm>
            <a:off x="4527720" y="4180680"/>
            <a:ext cx="365724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个人的责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20"/>
          <p:cNvSpPr/>
          <p:nvPr/>
        </p:nvSpPr>
        <p:spPr>
          <a:xfrm>
            <a:off x="5967360" y="4689360"/>
            <a:ext cx="315720" cy="436320"/>
          </a:xfrm>
          <a:prstGeom prst="downArrow">
            <a:avLst>
              <a:gd name="adj1" fmla="val 50000"/>
              <a:gd name="adj2" fmla="val 34548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40" name="Text Box 21"/>
          <p:cNvSpPr/>
          <p:nvPr/>
        </p:nvSpPr>
        <p:spPr>
          <a:xfrm>
            <a:off x="3446640" y="5203800"/>
            <a:ext cx="499536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家庭、对社会、对国家，乃至于对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6191280" y="4555080"/>
            <a:ext cx="118404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5472000" y="5441400"/>
            <a:ext cx="270000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个“凡属”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4"/>
          <p:cNvSpPr/>
          <p:nvPr/>
        </p:nvSpPr>
        <p:spPr>
          <a:xfrm>
            <a:off x="8263080" y="5543640"/>
            <a:ext cx="461520" cy="990360"/>
          </a:xfrm>
          <a:prstGeom prst="curvedLeftArrow">
            <a:avLst>
              <a:gd name="adj1" fmla="val 42887"/>
              <a:gd name="adj2" fmla="val 85773"/>
              <a:gd name="adj3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611280" y="5996160"/>
            <a:ext cx="774036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责任未尽会出现怎样的痛苦状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F:\素材\动画\新建文件夹 (2)\2004910191520734.gif"/>
          <p:cNvPicPr/>
          <p:nvPr/>
        </p:nvPicPr>
        <p:blipFill>
          <a:blip r:embed="rId1"/>
          <a:stretch/>
        </p:blipFill>
        <p:spPr>
          <a:xfrm>
            <a:off x="1447920" y="5181480"/>
            <a:ext cx="6476760" cy="14252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3"/>
          <p:cNvSpPr/>
          <p:nvPr/>
        </p:nvSpPr>
        <p:spPr>
          <a:xfrm>
            <a:off x="117360" y="324000"/>
            <a:ext cx="890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自然段与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自然段是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431640" y="1620720"/>
            <a:ext cx="8594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自然段是主论，提出作者的观点：   人生最大的痛苦在于负了未了的责任。第二自然段是辅论，进一步指出负责任的种种情况和由此产生的痛苦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默认设计模板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rofile">
  <a:themeElements>
    <a:clrScheme name="Profile 9">
      <a:dk1>
        <a:srgbClr val="000000"/>
      </a:dk1>
      <a:lt1>
        <a:srgbClr val="ffffff"/>
      </a:lt1>
      <a:dk2>
        <a:srgbClr val="000000"/>
      </a:dk2>
      <a:lt2>
        <a:srgbClr val="dddddd"/>
      </a:lt2>
      <a:accent1>
        <a:srgbClr val="a3b2c1"/>
      </a:accent1>
      <a:accent2>
        <a:srgbClr val="cc0000"/>
      </a:accent2>
      <a:accent3>
        <a:srgbClr val="ffffff"/>
      </a:accent3>
      <a:accent4>
        <a:srgbClr val="000000"/>
      </a:accent4>
      <a:accent5>
        <a:srgbClr val="ced5dd"/>
      </a:accent5>
      <a:accent6>
        <a:srgbClr val="b90000"/>
      </a:accent6>
      <a:hlink>
        <a:srgbClr val="336699"/>
      </a:hlink>
      <a:folHlink>
        <a:srgbClr val="0033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rofile">
  <a:themeElements>
    <a:clrScheme name="Profile 9">
      <a:dk1>
        <a:srgbClr val="000000"/>
      </a:dk1>
      <a:lt1>
        <a:srgbClr val="ffffff"/>
      </a:lt1>
      <a:dk2>
        <a:srgbClr val="000000"/>
      </a:dk2>
      <a:lt2>
        <a:srgbClr val="dddddd"/>
      </a:lt2>
      <a:accent1>
        <a:srgbClr val="a3b2c1"/>
      </a:accent1>
      <a:accent2>
        <a:srgbClr val="cc0000"/>
      </a:accent2>
      <a:accent3>
        <a:srgbClr val="ffffff"/>
      </a:accent3>
      <a:accent4>
        <a:srgbClr val="000000"/>
      </a:accent4>
      <a:accent5>
        <a:srgbClr val="ced5dd"/>
      </a:accent5>
      <a:accent6>
        <a:srgbClr val="b90000"/>
      </a:accent6>
      <a:hlink>
        <a:srgbClr val="336699"/>
      </a:hlink>
      <a:folHlink>
        <a:srgbClr val="0033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古瓶荷花">
  <a:themeElements>
    <a:clrScheme name="古瓶荷花 1">
      <a:dk1>
        <a:srgbClr val="0033cc"/>
      </a:dk1>
      <a:lt1>
        <a:srgbClr val="ffffff"/>
      </a:lt1>
      <a:dk2>
        <a:srgbClr val="007572"/>
      </a:dk2>
      <a:lt2>
        <a:srgbClr val="c0c0c0"/>
      </a:lt2>
      <a:accent1>
        <a:srgbClr val="ccecff"/>
      </a:accent1>
      <a:accent2>
        <a:srgbClr val="3399ff"/>
      </a:accent2>
      <a:accent3>
        <a:srgbClr val="ffffff"/>
      </a:accent3>
      <a:accent4>
        <a:srgbClr val="002aae"/>
      </a:accent4>
      <a:accent5>
        <a:srgbClr val="e2f4ff"/>
      </a:accent5>
      <a:accent6>
        <a:srgbClr val="2d8ae7"/>
      </a:accent6>
      <a:hlink>
        <a:srgbClr val="cc0066"/>
      </a:hlink>
      <a:folHlink>
        <a:srgbClr val="7d7d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  <Pages>0</Pages>
  <Words>2133</Words>
  <Characters>0</Characters>
  <CharactersWithSpaces>0</CharactersWithSpaces>
  <Paragraphs>14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07:59:58Z</dcterms:created>
  <dc:creator>第一PPT模板网-WWW.1PPT.COM</dc:creator>
  <dc:description/>
  <cp:keywords>第一PPT模板网-WWW.1PPT.COM</cp:keywords>
  <dc:language>en-US</dc:language>
  <cp:lastModifiedBy>123</cp:lastModifiedBy>
  <cp:lastPrinted>1899-12-30T00:00:00Z</cp:lastPrinted>
  <dcterms:modified xsi:type="dcterms:W3CDTF">2019-01-22T01:08:40Z</dcterms:modified>
  <cp:revision>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1</vt:r8>
  </property>
  <property fmtid="{D5CDD505-2E9C-101B-9397-08002B2CF9AE}" pid="3" name="KSOProductBuildVer">
    <vt:lpwstr>2052-8.1.0.3166</vt:lpwstr>
  </property>
  <property fmtid="{D5CDD505-2E9C-101B-9397-08002B2CF9AE}" pid="4" name="Notes">
    <vt:r8>2</vt:r8>
  </property>
  <property fmtid="{D5CDD505-2E9C-101B-9397-08002B2CF9AE}" pid="5" name="PresentationFormat">
    <vt:lpwstr>全屏显示(4:3)</vt:lpwstr>
  </property>
  <property fmtid="{D5CDD505-2E9C-101B-9397-08002B2CF9AE}" pid="6" name="Slides">
    <vt:r8>17</vt:r8>
  </property>
</Properties>
</file>