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audio1.wav" ContentType="audio/x-wav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38D450-39DC-4AEC-B548-5CD19D24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2B1-D734-4957-A4B9-14D313BE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4C1-F802-4E6C-9266-065211FF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C14-12F5-4037-A613-6841F77A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7B6-5CEB-460E-BC12-494C6246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95C-6C06-4B8C-88F0-673E53EC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5DD-C739-4648-B1FA-6AE89283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2770-FE4D-4250-A7BC-1AB06CDF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3221-107A-40A5-8552-9E2FB7F8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295F-4D18-45BF-8EE0-6165E1F1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3635-488F-45FF-9CC0-D571A52F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BA2-12C6-4297-8944-BD0C2056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A6F8-6B93-4098-8C55-7D0F52B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7631-2507-4391-8131-6F7E461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7EA1-6906-4E26-8C17-EA88953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D5E7-9F3F-451E-A030-4C8FFD3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1C63-D251-41BF-9B2E-DAA55D46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407E-C6CF-4216-B97A-FFA2A356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4718-E21E-4B6A-B531-5ED18633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747A-D570-4AE9-A892-1B30BEE1D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7374-A9C1-4772-B894-26111A7B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CE4A-B4BE-4EE7-A15C-A58A91DF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9B6-AB34-40CE-9950-C522E76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894A-A4FA-4B85-8E38-E09359A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4BC0-471D-41FC-91E2-72A8460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807D-B0A2-46A9-B9E0-E9EEC3C6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D62A-6CD9-4A5C-8147-130A085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93A28-E0CF-4B69-B1E5-76E717C5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038D3-4DEA-4BC6-98FE-71FA801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9038-A043-465B-AB32-41622C14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4306-CE48-4E08-A02F-94E6EF5E7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FE04D-0789-4D61-B92C-9E9BEF4C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58C-EE16-4757-A2ED-FD97DCAE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DEF-A5CD-43C6-8A0A-42C6370E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6B2-B26A-4993-B4B9-B59D44F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873-0A2D-497C-978E-E606F92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FA2-091F-46DE-9475-9995C98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3BED3AA-17FA-46F6-A0F9-12BE8A71F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AD720FD-154D-4EE4-8DF7-AAA10A4345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720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4683960"/>
            <a:ext cx="289512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3080" y="4683960"/>
            <a:ext cx="2133360" cy="3567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72E99AE-AB1B-485B-BA13-4C436FB40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udio1.wav"/><Relationship Id="rId3" Type="http://schemas.openxmlformats.org/officeDocument/2006/relationships/audio" Target="../media/audio1.wav"/><Relationship Id="rId4" Type="http://schemas.openxmlformats.org/officeDocument/2006/relationships/audio" Target="../media/audio1.wav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3"/>
          <p:cNvSpPr/>
          <p:nvPr/>
        </p:nvSpPr>
        <p:spPr>
          <a:xfrm>
            <a:off x="1043640" y="1491480"/>
            <a:ext cx="352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苦与最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1"/>
          <a:stretch/>
        </p:blipFill>
        <p:spPr>
          <a:xfrm>
            <a:off x="5603760" y="477360"/>
            <a:ext cx="2958840" cy="3809520"/>
          </a:xfrm>
          <a:prstGeom prst="rect">
            <a:avLst/>
          </a:prstGeom>
          <a:ln w="0">
            <a:noFill/>
          </a:ln>
        </p:spPr>
      </p:pic>
      <p:sp>
        <p:nvSpPr>
          <p:cNvPr id="169" name="矩形 5"/>
          <p:cNvSpPr/>
          <p:nvPr/>
        </p:nvSpPr>
        <p:spPr>
          <a:xfrm>
            <a:off x="0" y="42742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组合 8"/>
          <p:cNvGrpSpPr/>
          <p:nvPr/>
        </p:nvGrpSpPr>
        <p:grpSpPr>
          <a:xfrm>
            <a:off x="0" y="627480"/>
            <a:ext cx="2006280" cy="516240"/>
            <a:chOff x="0" y="627480"/>
            <a:chExt cx="2006280" cy="516240"/>
          </a:xfrm>
        </p:grpSpPr>
        <p:sp>
          <p:nvSpPr>
            <p:cNvPr id="305" name="文本框 6"/>
            <p:cNvSpPr/>
            <p:nvPr/>
          </p:nvSpPr>
          <p:spPr>
            <a:xfrm>
              <a:off x="67860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直线连接符 9"/>
            <p:cNvCxnSpPr/>
            <p:nvPr/>
          </p:nvCxnSpPr>
          <p:spPr>
            <a:xfrm>
              <a:off x="0" y="991440"/>
              <a:ext cx="20066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07" name="菱形 6"/>
            <p:cNvSpPr/>
            <p:nvPr/>
          </p:nvSpPr>
          <p:spPr>
            <a:xfrm>
              <a:off x="34920" y="728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08" name="文本框 65544"/>
          <p:cNvSpPr/>
          <p:nvPr/>
        </p:nvSpPr>
        <p:spPr>
          <a:xfrm>
            <a:off x="1691640" y="1815840"/>
            <a:ext cx="7416360" cy="13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人生最大的痛苦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人生最大的快乐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人生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而不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65547"/>
          <p:cNvSpPr/>
          <p:nvPr/>
        </p:nvSpPr>
        <p:spPr>
          <a:xfrm>
            <a:off x="2678040" y="1856160"/>
            <a:ext cx="1749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未尽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65548"/>
          <p:cNvSpPr/>
          <p:nvPr/>
        </p:nvSpPr>
        <p:spPr>
          <a:xfrm>
            <a:off x="3149280" y="232380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65550"/>
          <p:cNvSpPr/>
          <p:nvPr/>
        </p:nvSpPr>
        <p:spPr>
          <a:xfrm>
            <a:off x="4017600" y="2831760"/>
            <a:ext cx="59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负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65551"/>
          <p:cNvSpPr/>
          <p:nvPr/>
        </p:nvSpPr>
        <p:spPr>
          <a:xfrm>
            <a:off x="6892920" y="283176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逃避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"/>
          <p:cNvSpPr/>
          <p:nvPr/>
        </p:nvSpPr>
        <p:spPr>
          <a:xfrm>
            <a:off x="2092320" y="1113480"/>
            <a:ext cx="234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同学们略读全文，提取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图片 1" descr=""/>
          <p:cNvPicPr/>
          <p:nvPr/>
        </p:nvPicPr>
        <p:blipFill>
          <a:blip r:embed="rId1"/>
          <a:stretch/>
        </p:blipFill>
        <p:spPr>
          <a:xfrm>
            <a:off x="996120" y="2289240"/>
            <a:ext cx="1318680" cy="1416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68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3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3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4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276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5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16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18" name="菱形 13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pic>
        <p:nvPicPr>
          <p:cNvPr id="319" name="圆角矩形 14" descr=""/>
          <p:cNvPicPr/>
          <p:nvPr/>
        </p:nvPicPr>
        <p:blipFill>
          <a:blip r:embed="rId1"/>
          <a:stretch/>
        </p:blipFill>
        <p:spPr>
          <a:xfrm>
            <a:off x="1574640" y="1214280"/>
            <a:ext cx="6946560" cy="24951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1" descr=""/>
          <p:cNvPicPr/>
          <p:nvPr/>
        </p:nvPicPr>
        <p:blipFill>
          <a:blip r:embed="rId2"/>
          <a:stretch/>
        </p:blipFill>
        <p:spPr>
          <a:xfrm>
            <a:off x="900000" y="1869120"/>
            <a:ext cx="1104480" cy="1186560"/>
          </a:xfrm>
          <a:prstGeom prst="rect">
            <a:avLst/>
          </a:prstGeom>
          <a:ln w="0">
            <a:noFill/>
          </a:ln>
        </p:spPr>
      </p:pic>
      <p:sp>
        <p:nvSpPr>
          <p:cNvPr id="321" name="矩形 2"/>
          <p:cNvSpPr/>
          <p:nvPr/>
        </p:nvSpPr>
        <p:spPr>
          <a:xfrm>
            <a:off x="2340000" y="1888920"/>
            <a:ext cx="5760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读课文，说说作者是如何论述这三方面内容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23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4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25" name="菱形 13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26" name="矩形 1"/>
          <p:cNvSpPr/>
          <p:nvPr/>
        </p:nvSpPr>
        <p:spPr>
          <a:xfrm>
            <a:off x="502560" y="1113480"/>
            <a:ext cx="469260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未尽责任是人生最大的痛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484920" y="1631520"/>
            <a:ext cx="415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是怎样得出答案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9"/>
          <p:cNvSpPr/>
          <p:nvPr/>
        </p:nvSpPr>
        <p:spPr>
          <a:xfrm>
            <a:off x="612000" y="3790440"/>
            <a:ext cx="78483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认为它们可以从心态上、观念上去排解，不算最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4"/>
          <p:cNvSpPr/>
          <p:nvPr/>
        </p:nvSpPr>
        <p:spPr>
          <a:xfrm>
            <a:off x="901080" y="2103480"/>
            <a:ext cx="1726920" cy="110556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105560"/>
              <a:gd name="textAreaBottom" fmla="*/ 1105920 h 1105560"/>
            </a:gdLst>
            <a:ahLst/>
            <a:rect l="textAreaLeft" t="textAreaTop" r="textAreaRight" b="textAreaBottom"/>
            <a:pathLst>
              <a:path w="1728192" h="1473820">
                <a:moveTo>
                  <a:pt x="252028" y="1473820"/>
                </a:moveTo>
                <a:cubicBezTo>
                  <a:pt x="96235" y="1317654"/>
                  <a:pt x="0" y="1102113"/>
                  <a:pt x="0" y="864096"/>
                </a:cubicBezTo>
                <a:cubicBezTo>
                  <a:pt x="0" y="386869"/>
                  <a:pt x="386869" y="0"/>
                  <a:pt x="864096" y="0"/>
                </a:cubicBezTo>
                <a:cubicBezTo>
                  <a:pt x="1341323" y="0"/>
                  <a:pt x="1728192" y="386869"/>
                  <a:pt x="1728192" y="864096"/>
                </a:cubicBezTo>
                <a:cubicBezTo>
                  <a:pt x="1728192" y="1102113"/>
                  <a:pt x="1631958" y="1317654"/>
                  <a:pt x="1476164" y="1473820"/>
                </a:cubicBezTo>
              </a:path>
            </a:pathLst>
          </a:custGeom>
          <a:solidFill>
            <a:schemeClr val="accent2">
              <a:lumMod val="20000"/>
              <a:lumOff val="80000"/>
            </a:schemeClr>
          </a:solidFill>
          <a:ln w="25400">
            <a:solidFill>
              <a:srgbClr val="bbe0e3">
                <a:lumMod val="40000"/>
                <a:lumOff val="60000"/>
              </a:srgbClr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tIns="180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11"/>
          <p:cNvSpPr/>
          <p:nvPr/>
        </p:nvSpPr>
        <p:spPr>
          <a:xfrm>
            <a:off x="1040760" y="3209760"/>
            <a:ext cx="1447560" cy="387720"/>
          </a:xfrm>
          <a:prstGeom prst="roundRect">
            <a:avLst>
              <a:gd name="adj" fmla="val 10916"/>
            </a:avLst>
          </a:prstGeom>
          <a:gradFill rotWithShape="0">
            <a:gsLst>
              <a:gs pos="0">
                <a:srgbClr val="9ee256"/>
              </a:gs>
              <a:gs pos="100000">
                <a:srgbClr val="5276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lIns="36000" rIns="36000" tIns="36000" bIns="36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知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4"/>
          <p:cNvSpPr/>
          <p:nvPr/>
        </p:nvSpPr>
        <p:spPr>
          <a:xfrm>
            <a:off x="3468240" y="2103480"/>
            <a:ext cx="1726920" cy="110556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105560"/>
              <a:gd name="textAreaBottom" fmla="*/ 1105920 h 1105560"/>
            </a:gdLst>
            <a:ahLst/>
            <a:rect l="textAreaLeft" t="textAreaTop" r="textAreaRight" b="textAreaBottom"/>
            <a:pathLst>
              <a:path w="1728192" h="1473820">
                <a:moveTo>
                  <a:pt x="252028" y="1473820"/>
                </a:moveTo>
                <a:cubicBezTo>
                  <a:pt x="96235" y="1317654"/>
                  <a:pt x="0" y="1102113"/>
                  <a:pt x="0" y="864096"/>
                </a:cubicBezTo>
                <a:cubicBezTo>
                  <a:pt x="0" y="386869"/>
                  <a:pt x="386869" y="0"/>
                  <a:pt x="864096" y="0"/>
                </a:cubicBezTo>
                <a:cubicBezTo>
                  <a:pt x="1341323" y="0"/>
                  <a:pt x="1728192" y="386869"/>
                  <a:pt x="1728192" y="864096"/>
                </a:cubicBezTo>
                <a:cubicBezTo>
                  <a:pt x="1728192" y="1102113"/>
                  <a:pt x="1631958" y="1317654"/>
                  <a:pt x="1476164" y="1473820"/>
                </a:cubicBezTo>
              </a:path>
            </a:pathLst>
          </a:custGeom>
          <a:solidFill>
            <a:schemeClr val="accent3">
              <a:lumMod val="60000"/>
              <a:lumOff val="40000"/>
            </a:schemeClr>
          </a:solidFill>
          <a:ln w="25400">
            <a:solidFill>
              <a:srgbClr val="333399">
                <a:lumMod val="40000"/>
                <a:lumOff val="60000"/>
              </a:srgbClr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tIns="180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失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15"/>
          <p:cNvSpPr/>
          <p:nvPr/>
        </p:nvSpPr>
        <p:spPr>
          <a:xfrm>
            <a:off x="3607920" y="3209760"/>
            <a:ext cx="1447560" cy="387720"/>
          </a:xfrm>
          <a:prstGeom prst="roundRect">
            <a:avLst>
              <a:gd name="adj" fmla="val 10916"/>
            </a:avLst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lIns="36000" rIns="36000" tIns="36000" bIns="36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4"/>
          <p:cNvSpPr/>
          <p:nvPr/>
        </p:nvSpPr>
        <p:spPr>
          <a:xfrm>
            <a:off x="6027480" y="2103480"/>
            <a:ext cx="1726920" cy="110556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105560"/>
              <a:gd name="textAreaBottom" fmla="*/ 1105920 h 1105560"/>
            </a:gdLst>
            <a:ahLst/>
            <a:rect l="textAreaLeft" t="textAreaTop" r="textAreaRight" b="textAreaBottom"/>
            <a:pathLst>
              <a:path w="1728192" h="1473820">
                <a:moveTo>
                  <a:pt x="252028" y="1473820"/>
                </a:moveTo>
                <a:cubicBezTo>
                  <a:pt x="96235" y="1317654"/>
                  <a:pt x="0" y="1102113"/>
                  <a:pt x="0" y="864096"/>
                </a:cubicBezTo>
                <a:cubicBezTo>
                  <a:pt x="0" y="386869"/>
                  <a:pt x="386869" y="0"/>
                  <a:pt x="864096" y="0"/>
                </a:cubicBezTo>
                <a:cubicBezTo>
                  <a:pt x="1341323" y="0"/>
                  <a:pt x="1728192" y="386869"/>
                  <a:pt x="1728192" y="864096"/>
                </a:cubicBezTo>
                <a:cubicBezTo>
                  <a:pt x="1728192" y="1102113"/>
                  <a:pt x="1631958" y="1317654"/>
                  <a:pt x="1476164" y="1473820"/>
                </a:cubicBezTo>
              </a:path>
            </a:pathLst>
          </a:custGeom>
          <a:solidFill>
            <a:schemeClr val="accent6">
              <a:lumMod val="60000"/>
              <a:lumOff val="40000"/>
            </a:schemeClr>
          </a:solidFill>
          <a:ln w="25400">
            <a:solidFill>
              <a:srgbClr val="ffffff">
                <a:lumMod val="40000"/>
                <a:lumOff val="60000"/>
              </a:srgbClr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tIns="18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17"/>
          <p:cNvSpPr/>
          <p:nvPr/>
        </p:nvSpPr>
        <p:spPr>
          <a:xfrm>
            <a:off x="6167160" y="3209760"/>
            <a:ext cx="1447560" cy="387720"/>
          </a:xfrm>
          <a:prstGeom prst="roundRect">
            <a:avLst>
              <a:gd name="adj" fmla="val 10916"/>
            </a:avLst>
          </a:prstGeom>
          <a:gradFill rotWithShape="0">
            <a:gsLst>
              <a:gs pos="0">
                <a:srgbClr val="fecf40"/>
              </a:gs>
              <a:gs pos="100000">
                <a:srgbClr val="846c2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lIns="36000" rIns="36000" tIns="36000" bIns="36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达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36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38" name="菱形 13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39" name="矩形 1"/>
          <p:cNvSpPr/>
          <p:nvPr/>
        </p:nvSpPr>
        <p:spPr>
          <a:xfrm>
            <a:off x="777600" y="1221480"/>
            <a:ext cx="6746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为什么“身上背着一种未来的责任”最苦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67640" y="1725480"/>
            <a:ext cx="8241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正面）凡人在世间一天，便有一天应该做的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反面）该做的事没有做完，便像是有几千斤重担压在肩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"/>
          <p:cNvSpPr/>
          <p:nvPr/>
        </p:nvSpPr>
        <p:spPr>
          <a:xfrm>
            <a:off x="1833840" y="300384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而推论出最苦的原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"/>
          <p:cNvSpPr/>
          <p:nvPr/>
        </p:nvSpPr>
        <p:spPr>
          <a:xfrm>
            <a:off x="6387480" y="300384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受良心责备，无处逃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44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5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46" name="菱形 13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47" name="矩形 1"/>
          <p:cNvSpPr/>
          <p:nvPr/>
        </p:nvSpPr>
        <p:spPr>
          <a:xfrm>
            <a:off x="502560" y="1145520"/>
            <a:ext cx="435708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尽责任是人生最大的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484920" y="1631520"/>
            <a:ext cx="552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是怎样引用名言来论述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899640" y="2085840"/>
            <a:ext cx="6984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语说得好，“如释重负”；俗语亦说得是，“心上一块石头落了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4"/>
          <p:cNvSpPr/>
          <p:nvPr/>
        </p:nvSpPr>
        <p:spPr>
          <a:xfrm>
            <a:off x="395640" y="3057840"/>
            <a:ext cx="8424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引用古语、俗语，形象生动地论证了尽责任之后轻松愉快的心情和快乐自由的境界，浅显易懂，趣味横生，大大增强了文章的感染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圆角矩形 3"/>
          <p:cNvSpPr/>
          <p:nvPr/>
        </p:nvSpPr>
        <p:spPr>
          <a:xfrm>
            <a:off x="3564000" y="2139840"/>
            <a:ext cx="1511640" cy="34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2" name="圆角矩形 4"/>
          <p:cNvSpPr/>
          <p:nvPr/>
        </p:nvSpPr>
        <p:spPr>
          <a:xfrm>
            <a:off x="1047600" y="2571840"/>
            <a:ext cx="3272040" cy="323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</p:spTree>
  </p:cSld>
  <p:transition spd="slow"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54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5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56" name="菱形 4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57" name="矩形 1"/>
          <p:cNvSpPr/>
          <p:nvPr/>
        </p:nvSpPr>
        <p:spPr>
          <a:xfrm>
            <a:off x="251640" y="1113480"/>
            <a:ext cx="863964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为什么说“仁人志士的忧国忧民”“诸圣诸佛的悲天悯人”是乐而不是苦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"/>
          <p:cNvSpPr/>
          <p:nvPr/>
        </p:nvSpPr>
        <p:spPr>
          <a:xfrm>
            <a:off x="2195640" y="2174040"/>
            <a:ext cx="6120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“尽得大的责任，就得大快乐”，“日日尽责任，便日日得苦中真乐。”所以苦中真乐，是乐，不是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图片 1" descr=""/>
          <p:cNvPicPr/>
          <p:nvPr/>
        </p:nvPicPr>
        <p:blipFill>
          <a:blip r:embed="rId1"/>
          <a:stretch/>
        </p:blipFill>
        <p:spPr>
          <a:xfrm>
            <a:off x="827640" y="2355840"/>
            <a:ext cx="1104480" cy="118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文本框 1"/>
          <p:cNvSpPr/>
          <p:nvPr/>
        </p:nvSpPr>
        <p:spPr>
          <a:xfrm>
            <a:off x="539640" y="1221480"/>
            <a:ext cx="54370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引用这些名言佳句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62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3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64" name="菱形 13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65" name="Text Box 5"/>
          <p:cNvSpPr/>
          <p:nvPr/>
        </p:nvSpPr>
        <p:spPr>
          <a:xfrm>
            <a:off x="1308600" y="1818000"/>
            <a:ext cx="4817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孟子——君子有终身之忧。   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308600" y="2233440"/>
            <a:ext cx="727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曾子——任重而道远。死而后已，不亦远乎？   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5"/>
          <p:cNvSpPr/>
          <p:nvPr/>
        </p:nvSpPr>
        <p:spPr>
          <a:xfrm>
            <a:off x="429840" y="2841840"/>
            <a:ext cx="8534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证明天下事从苦中得来的乐才是真乐，从而得出了“人生当勇于承担负责”的结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组合 6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69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71" name="菱形 12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72" name="Text Box 1040"/>
          <p:cNvSpPr/>
          <p:nvPr/>
        </p:nvSpPr>
        <p:spPr>
          <a:xfrm>
            <a:off x="467640" y="1656360"/>
            <a:ext cx="6598080" cy="44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卸却责任”和“解除责任”有什么不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41"/>
          <p:cNvSpPr/>
          <p:nvPr/>
        </p:nvSpPr>
        <p:spPr>
          <a:xfrm>
            <a:off x="395640" y="2301840"/>
            <a:ext cx="8209080" cy="802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卸却责任”指未尽责任，丢开不管；“解除责任”指尽了责任，再无负担。责任是要解除了才没有，并不是卸了就没有。想躲责任，只是自投苦海，痛苦永远不能解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"/>
          <p:cNvSpPr/>
          <p:nvPr/>
        </p:nvSpPr>
        <p:spPr>
          <a:xfrm>
            <a:off x="502560" y="1145520"/>
            <a:ext cx="522108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三、人生当负责任，而不能推卸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3"/>
          <p:cNvSpPr/>
          <p:nvPr/>
        </p:nvSpPr>
        <p:spPr>
          <a:xfrm>
            <a:off x="467640" y="1818360"/>
            <a:ext cx="8193600" cy="802440"/>
          </a:xfrm>
          <a:prstGeom prst="rect">
            <a:avLst/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者认为：人因有责任而苦，尽大责得大快乐，尽小责得小快乐。你想解脱痛苦，就要尽责，想卸却责任将永远痛苦，快乐之权操在你手，苦中有乐，苦乐循环，人间趣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论：要在尽责中寻找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"/>
          <p:cNvSpPr/>
          <p:nvPr/>
        </p:nvSpPr>
        <p:spPr>
          <a:xfrm>
            <a:off x="3794400" y="1233720"/>
            <a:ext cx="409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：苦乐与责任之间有怎样的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8"/>
          <p:cNvGrpSpPr/>
          <p:nvPr/>
        </p:nvGrpSpPr>
        <p:grpSpPr>
          <a:xfrm>
            <a:off x="44280" y="613080"/>
            <a:ext cx="2006640" cy="516240"/>
            <a:chOff x="44280" y="613080"/>
            <a:chExt cx="2006640" cy="516240"/>
          </a:xfrm>
        </p:grpSpPr>
        <p:sp>
          <p:nvSpPr>
            <p:cNvPr id="378" name="文本框 6"/>
            <p:cNvSpPr/>
            <p:nvPr/>
          </p:nvSpPr>
          <p:spPr>
            <a:xfrm>
              <a:off x="723600" y="6130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直线连接符 9"/>
            <p:cNvCxnSpPr/>
            <p:nvPr/>
          </p:nvCxnSpPr>
          <p:spPr>
            <a:xfrm>
              <a:off x="44280" y="97632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80" name="菱形 13"/>
            <p:cNvSpPr/>
            <p:nvPr/>
          </p:nvSpPr>
          <p:spPr>
            <a:xfrm>
              <a:off x="79200" y="713160"/>
              <a:ext cx="350640" cy="26316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p:transition spd="slow"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3"/>
          <p:cNvSpPr/>
          <p:nvPr/>
        </p:nvSpPr>
        <p:spPr>
          <a:xfrm>
            <a:off x="395640" y="1059480"/>
            <a:ext cx="849672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看文中运用了哪些不同的句式，找找本文有哪些修辞手法。不同句式和修辞的使用有什么好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83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4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85" name="菱形 1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86" name="矩形 1"/>
          <p:cNvSpPr/>
          <p:nvPr/>
        </p:nvSpPr>
        <p:spPr>
          <a:xfrm>
            <a:off x="539640" y="2272320"/>
            <a:ext cx="83527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⑴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生什么事最苦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若于身上背着一种未了的责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8"/>
          <p:cNvSpPr/>
          <p:nvPr/>
        </p:nvSpPr>
        <p:spPr>
          <a:xfrm>
            <a:off x="6618240" y="2758320"/>
            <a:ext cx="1828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问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571680" y="3152880"/>
            <a:ext cx="752832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⑵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了长成，责任自然压在你的肩头上，如何能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11"/>
          <p:cNvSpPr/>
          <p:nvPr/>
        </p:nvSpPr>
        <p:spPr>
          <a:xfrm>
            <a:off x="6618240" y="3556080"/>
            <a:ext cx="2034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反问句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611640" y="1923840"/>
            <a:ext cx="180000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句式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文本框 1"/>
          <p:cNvSpPr/>
          <p:nvPr/>
        </p:nvSpPr>
        <p:spPr>
          <a:xfrm>
            <a:off x="467640" y="699480"/>
            <a:ext cx="8412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人说：“快乐和痛苦都是生活的孩子，他们是形影不离的一对，我们都是在快乐和痛苦的交织中感受着生活。”那么在这悲喜交织、苦乐参半的人生路上，究竟何为最苦，何为最乐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467640" y="3219840"/>
            <a:ext cx="8208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或许我们甚少去思考，但今天我们要学习的梁启超先生的《最苦与最乐》，能给我们带来一些启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392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394" name="菱形 1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395" name="Text Box 2"/>
          <p:cNvSpPr/>
          <p:nvPr/>
        </p:nvSpPr>
        <p:spPr>
          <a:xfrm>
            <a:off x="444240" y="2355840"/>
            <a:ext cx="8475480" cy="473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却是不尽责任，受良心责备，这些苦都是自己找来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4"/>
          <p:cNvSpPr/>
          <p:nvPr/>
        </p:nvSpPr>
        <p:spPr>
          <a:xfrm>
            <a:off x="6605280" y="2010600"/>
            <a:ext cx="192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叹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5"/>
          <p:cNvSpPr/>
          <p:nvPr/>
        </p:nvSpPr>
        <p:spPr>
          <a:xfrm>
            <a:off x="6660360" y="2841840"/>
            <a:ext cx="18003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动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"/>
          <p:cNvSpPr/>
          <p:nvPr/>
        </p:nvSpPr>
        <p:spPr>
          <a:xfrm>
            <a:off x="395640" y="1186920"/>
            <a:ext cx="8220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责任越重大，负责的日子越久长，到责任完了时，海阔天空，心安理得，那快乐还要加几倍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7"/>
          <p:cNvSpPr/>
          <p:nvPr/>
        </p:nvSpPr>
        <p:spPr>
          <a:xfrm>
            <a:off x="467640" y="3435840"/>
            <a:ext cx="80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却不然，责任是要解除了才没有，并不是卸了就没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3"/>
          <p:cNvSpPr/>
          <p:nvPr/>
        </p:nvSpPr>
        <p:spPr>
          <a:xfrm>
            <a:off x="6973560" y="3813840"/>
            <a:ext cx="11044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否定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02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3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04" name="菱形 1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05" name="Text Box 2"/>
          <p:cNvSpPr/>
          <p:nvPr/>
        </p:nvSpPr>
        <p:spPr>
          <a:xfrm>
            <a:off x="395640" y="3273840"/>
            <a:ext cx="70563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然则为什么孟子又说：“君子有终身之忧”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"/>
          <p:cNvSpPr/>
          <p:nvPr/>
        </p:nvSpPr>
        <p:spPr>
          <a:xfrm>
            <a:off x="7439400" y="2085840"/>
            <a:ext cx="1026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比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308720" y="2841840"/>
            <a:ext cx="967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5"/>
          <p:cNvSpPr/>
          <p:nvPr/>
        </p:nvSpPr>
        <p:spPr>
          <a:xfrm>
            <a:off x="7373880" y="3597840"/>
            <a:ext cx="1026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引用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467640" y="1113480"/>
            <a:ext cx="1800000" cy="3639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修辞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"/>
          <p:cNvSpPr/>
          <p:nvPr/>
        </p:nvSpPr>
        <p:spPr>
          <a:xfrm>
            <a:off x="395640" y="1479960"/>
            <a:ext cx="8352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若能知足，虽贫不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能安分，虽然失意不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、死乃人生难免的事，达观的人看得很平常，也不算什么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7"/>
          <p:cNvSpPr/>
          <p:nvPr/>
        </p:nvSpPr>
        <p:spPr>
          <a:xfrm>
            <a:off x="395640" y="2463840"/>
            <a:ext cx="727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孔子所以说：“无入而不自得”，正是这种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13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15" name="菱形 1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16" name="文本框 1"/>
          <p:cNvSpPr/>
          <p:nvPr/>
        </p:nvSpPr>
        <p:spPr>
          <a:xfrm>
            <a:off x="2771640" y="1368000"/>
            <a:ext cx="57603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处：运用多种句式和修辞手法，使行文富于变化，或引出下文，发人深思；或风趣幽默，侃侃而谈；或语重心长，思想引领……道理于作者语言文字深入浅出之间，让人知晓，让人接受，文章妙趣横生，浅显易懂，极具感染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图片 1" descr=""/>
          <p:cNvPicPr/>
          <p:nvPr/>
        </p:nvPicPr>
        <p:blipFill>
          <a:blip r:embed="rId1"/>
          <a:stretch/>
        </p:blipFill>
        <p:spPr>
          <a:xfrm>
            <a:off x="899640" y="2205360"/>
            <a:ext cx="1295640" cy="1392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19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0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21" name="菱形 1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22" name="文本框 99"/>
          <p:cNvSpPr/>
          <p:nvPr/>
        </p:nvSpPr>
        <p:spPr>
          <a:xfrm>
            <a:off x="355680" y="3579840"/>
            <a:ext cx="8504280" cy="41868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示例三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每个人对“痛苦”和“快乐”都有不同的理解。人生百味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苦乐相随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这就是真实的生活。只要你能积极乐观地面对生活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相信你的人生必定是多彩而快乐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"/>
          <p:cNvSpPr/>
          <p:nvPr/>
        </p:nvSpPr>
        <p:spPr>
          <a:xfrm>
            <a:off x="452880" y="1199520"/>
            <a:ext cx="721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生活实际，谈谈“痛苦”和“快乐”的含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"/>
          <p:cNvSpPr/>
          <p:nvPr/>
        </p:nvSpPr>
        <p:spPr>
          <a:xfrm>
            <a:off x="311760" y="1667160"/>
            <a:ext cx="8580240" cy="41868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示例一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人生短暂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何必为了功名利禄而在人生的舞台上痛苦地挣扎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你只需有一颗平常心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便可享受到生活的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"/>
          <p:cNvSpPr/>
          <p:nvPr/>
        </p:nvSpPr>
        <p:spPr>
          <a:xfrm>
            <a:off x="395640" y="2601000"/>
            <a:ext cx="8424720" cy="418680"/>
          </a:xfrm>
          <a:prstGeom prst="rect">
            <a:avLst/>
          </a:prstGeom>
          <a:noFill/>
          <a:ln>
            <a:noFill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示例二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空虚无聊的生活最痛苦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为了工作付出心血</a:t>
            </a: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获得成功时最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1"/>
          <p:cNvSpPr/>
          <p:nvPr/>
        </p:nvSpPr>
        <p:spPr>
          <a:xfrm>
            <a:off x="539640" y="1189800"/>
            <a:ext cx="8424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人认为，讲责任太沉重，担责任太劳累，不轻松，不潇洒，对此你怎样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7"/>
          <p:cNvGrpSpPr/>
          <p:nvPr/>
        </p:nvGrpSpPr>
        <p:grpSpPr>
          <a:xfrm>
            <a:off x="28440" y="640440"/>
            <a:ext cx="2006640" cy="516240"/>
            <a:chOff x="28440" y="640440"/>
            <a:chExt cx="2006640" cy="516240"/>
          </a:xfrm>
        </p:grpSpPr>
        <p:sp>
          <p:nvSpPr>
            <p:cNvPr id="428" name="文本框 6"/>
            <p:cNvSpPr/>
            <p:nvPr/>
          </p:nvSpPr>
          <p:spPr>
            <a:xfrm>
              <a:off x="707760" y="64044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9" name="直线连接符 9"/>
            <p:cNvCxnSpPr/>
            <p:nvPr/>
          </p:nvCxnSpPr>
          <p:spPr>
            <a:xfrm>
              <a:off x="28440" y="100368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30" name="菱形 10"/>
            <p:cNvSpPr/>
            <p:nvPr/>
          </p:nvSpPr>
          <p:spPr>
            <a:xfrm>
              <a:off x="63360" y="74052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31" name="文本框 2"/>
          <p:cNvSpPr/>
          <p:nvPr/>
        </p:nvSpPr>
        <p:spPr>
          <a:xfrm>
            <a:off x="539640" y="2031840"/>
            <a:ext cx="8064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作为社会中的人，不可能脱离责任而生存。讲责任，体现着生活的价值和人生的意义。逃避责任的人生没有价值。勇敢地担负起自己的责任，人生才会充实，生活才有意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1"/>
          <p:cNvGrpSpPr/>
          <p:nvPr/>
        </p:nvGrpSpPr>
        <p:grpSpPr>
          <a:xfrm>
            <a:off x="3352680" y="1329480"/>
            <a:ext cx="1742760" cy="635760"/>
            <a:chOff x="3352680" y="1329480"/>
            <a:chExt cx="1742760" cy="635760"/>
          </a:xfrm>
        </p:grpSpPr>
        <p:sp>
          <p:nvSpPr>
            <p:cNvPr id="433" name="圆角矩形 19"/>
            <p:cNvSpPr/>
            <p:nvPr/>
          </p:nvSpPr>
          <p:spPr>
            <a:xfrm rot="555600">
              <a:off x="4620960" y="141768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4" name="圆角矩形 20"/>
            <p:cNvSpPr/>
            <p:nvPr/>
          </p:nvSpPr>
          <p:spPr>
            <a:xfrm rot="20470800">
              <a:off x="4216320" y="14223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5" name="圆角矩形 21"/>
            <p:cNvSpPr/>
            <p:nvPr/>
          </p:nvSpPr>
          <p:spPr>
            <a:xfrm rot="319200">
              <a:off x="3796920" y="14220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6" name="圆角矩形 22"/>
            <p:cNvSpPr/>
            <p:nvPr/>
          </p:nvSpPr>
          <p:spPr>
            <a:xfrm rot="21148200">
              <a:off x="3387600" y="142812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37" name="矩形 1"/>
            <p:cNvSpPr/>
            <p:nvPr/>
          </p:nvSpPr>
          <p:spPr>
            <a:xfrm>
              <a:off x="3352680" y="132948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概括主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13"/>
          <p:cNvGrpSpPr/>
          <p:nvPr/>
        </p:nvGrpSpPr>
        <p:grpSpPr>
          <a:xfrm>
            <a:off x="28440" y="681120"/>
            <a:ext cx="2006640" cy="516240"/>
            <a:chOff x="28440" y="681120"/>
            <a:chExt cx="2006640" cy="516240"/>
          </a:xfrm>
        </p:grpSpPr>
        <p:sp>
          <p:nvSpPr>
            <p:cNvPr id="439" name="文本框 6"/>
            <p:cNvSpPr/>
            <p:nvPr/>
          </p:nvSpPr>
          <p:spPr>
            <a:xfrm>
              <a:off x="707760" y="6811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0" name="直线连接符 9"/>
            <p:cNvCxnSpPr/>
            <p:nvPr/>
          </p:nvCxnSpPr>
          <p:spPr>
            <a:xfrm>
              <a:off x="28440" y="10440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41" name="菱形 16"/>
            <p:cNvSpPr/>
            <p:nvPr/>
          </p:nvSpPr>
          <p:spPr>
            <a:xfrm>
              <a:off x="63360" y="78120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42" name="文本框 1"/>
          <p:cNvSpPr/>
          <p:nvPr/>
        </p:nvSpPr>
        <p:spPr>
          <a:xfrm>
            <a:off x="753840" y="1806480"/>
            <a:ext cx="76363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从最苦和最乐两方面来谈人生的责任，告诫我们：人生在世，必须要对家庭、社会、国家及自己尽到应尽的责任，这样才能得到真正的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组合 2"/>
          <p:cNvGrpSpPr/>
          <p:nvPr/>
        </p:nvGrpSpPr>
        <p:grpSpPr>
          <a:xfrm>
            <a:off x="3476880" y="1282680"/>
            <a:ext cx="1742760" cy="635760"/>
            <a:chOff x="3476880" y="1282680"/>
            <a:chExt cx="1742760" cy="635760"/>
          </a:xfrm>
        </p:grpSpPr>
        <p:sp>
          <p:nvSpPr>
            <p:cNvPr id="444" name="圆角矩形 19"/>
            <p:cNvSpPr/>
            <p:nvPr/>
          </p:nvSpPr>
          <p:spPr>
            <a:xfrm rot="555600">
              <a:off x="4745160" y="13705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45" name="圆角矩形 20"/>
            <p:cNvSpPr/>
            <p:nvPr/>
          </p:nvSpPr>
          <p:spPr>
            <a:xfrm rot="20470800">
              <a:off x="4340520" y="13755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46" name="圆角矩形 21"/>
            <p:cNvSpPr/>
            <p:nvPr/>
          </p:nvSpPr>
          <p:spPr>
            <a:xfrm rot="319200">
              <a:off x="3921120" y="13752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47" name="圆角矩形 22"/>
            <p:cNvSpPr/>
            <p:nvPr/>
          </p:nvSpPr>
          <p:spPr>
            <a:xfrm rot="21148200">
              <a:off x="3511800" y="1380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448" name="矩形 1"/>
            <p:cNvSpPr/>
            <p:nvPr/>
          </p:nvSpPr>
          <p:spPr>
            <a:xfrm>
              <a:off x="3476880" y="128268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学后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13"/>
          <p:cNvGrpSpPr/>
          <p:nvPr/>
        </p:nvGrpSpPr>
        <p:grpSpPr>
          <a:xfrm>
            <a:off x="28440" y="681120"/>
            <a:ext cx="2006640" cy="516240"/>
            <a:chOff x="28440" y="681120"/>
            <a:chExt cx="2006640" cy="516240"/>
          </a:xfrm>
        </p:grpSpPr>
        <p:sp>
          <p:nvSpPr>
            <p:cNvPr id="450" name="文本框 6"/>
            <p:cNvSpPr/>
            <p:nvPr/>
          </p:nvSpPr>
          <p:spPr>
            <a:xfrm>
              <a:off x="707760" y="6811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直线连接符 9"/>
            <p:cNvCxnSpPr/>
            <p:nvPr/>
          </p:nvCxnSpPr>
          <p:spPr>
            <a:xfrm>
              <a:off x="28440" y="1044000"/>
              <a:ext cx="200700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52" name="菱形 16"/>
            <p:cNvSpPr/>
            <p:nvPr/>
          </p:nvSpPr>
          <p:spPr>
            <a:xfrm>
              <a:off x="63360" y="78120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53" name="文本框 2"/>
          <p:cNvSpPr/>
          <p:nvPr/>
        </p:nvSpPr>
        <p:spPr>
          <a:xfrm>
            <a:off x="467640" y="1775880"/>
            <a:ext cx="82807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些人以欲望得到满足为人生快事，有些人则以清心寡欲为快乐。把欲望作为快乐的前提的人，就会穷奢极欲、挖空心思、不择手段地去满足自己的欲望。这种人实际上活得太累了。因为人的欲望是没有满足的时候的，欲望越大，活得越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455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作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6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57" name="菱形 14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58" name="矩形 2"/>
          <p:cNvSpPr/>
          <p:nvPr/>
        </p:nvSpPr>
        <p:spPr>
          <a:xfrm>
            <a:off x="2129760" y="1353600"/>
            <a:ext cx="55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证严谨，思路清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"/>
          <p:cNvSpPr/>
          <p:nvPr/>
        </p:nvSpPr>
        <p:spPr>
          <a:xfrm>
            <a:off x="628200" y="1923840"/>
            <a:ext cx="7903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章开篇用了一串排比、设问句，首先提出了关于人生最大的痛苦的许多答案，并且一一加以否定，指出人生最苦的是背负着未来的责任。然后再进一步论述尽责任是人生最大的快乐。最后得出结论，论述人生应当勇于负责任，而不应当逃避责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461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写作特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2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63" name="菱形 13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64" name="文本框 1"/>
          <p:cNvSpPr/>
          <p:nvPr/>
        </p:nvSpPr>
        <p:spPr>
          <a:xfrm>
            <a:off x="2523960" y="1329480"/>
            <a:ext cx="551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言凝重轻灵，流畅简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"/>
          <p:cNvSpPr/>
          <p:nvPr/>
        </p:nvSpPr>
        <p:spPr>
          <a:xfrm>
            <a:off x="651960" y="1791360"/>
            <a:ext cx="7857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所谈论的话题是关于人生观的问题，谈论起来自然多一分审慎，多一分深思熟虑，于是就形成了本文的凝重风格。文章的轻灵表现为各种不同的句式、各种不同的表达方式、各种不同的论证方法的灵活运用。就句式而言，有陈述句、设问句、反问句、感叹句、肯定句和否定句。就表达方式而言，有议论、记叙、抒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467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板书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69" name="菱形 13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70" name="文本框 6"/>
          <p:cNvSpPr/>
          <p:nvPr/>
        </p:nvSpPr>
        <p:spPr>
          <a:xfrm>
            <a:off x="960120" y="1756800"/>
            <a:ext cx="525960" cy="912600"/>
          </a:xfrm>
          <a:prstGeom prst="rect">
            <a:avLst/>
          </a:prstGeom>
          <a:noFill/>
          <a:ln w="2540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苦与最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直接连接符 7"/>
          <p:cNvCxnSpPr>
            <a:stCxn id="470" idx="3"/>
          </p:cNvCxnSpPr>
          <p:nvPr/>
        </p:nvCxnSpPr>
        <p:spPr>
          <a:xfrm flipV="1">
            <a:off x="1486440" y="2031480"/>
            <a:ext cx="637920" cy="10029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472" name="直接连接符 8"/>
          <p:cNvCxnSpPr/>
          <p:nvPr/>
        </p:nvCxnSpPr>
        <p:spPr>
          <a:xfrm>
            <a:off x="1486440" y="2714400"/>
            <a:ext cx="637920" cy="77544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sp>
        <p:nvSpPr>
          <p:cNvPr id="473" name="椭圆 9"/>
          <p:cNvSpPr/>
          <p:nvPr/>
        </p:nvSpPr>
        <p:spPr>
          <a:xfrm>
            <a:off x="2043360" y="1692000"/>
            <a:ext cx="1368000" cy="48528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最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10"/>
          <p:cNvSpPr/>
          <p:nvPr/>
        </p:nvSpPr>
        <p:spPr>
          <a:xfrm>
            <a:off x="2124000" y="3253320"/>
            <a:ext cx="1368000" cy="485280"/>
          </a:xfrm>
          <a:prstGeom prst="ellipse">
            <a:avLst/>
          </a:prstGeom>
          <a:solidFill>
            <a:srgbClr val="ffffff"/>
          </a:solidFill>
          <a:ln>
            <a:solidFill>
              <a:srgbClr val="000000"/>
            </a:solidFill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最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直接连接符 11"/>
          <p:cNvCxnSpPr/>
          <p:nvPr/>
        </p:nvCxnSpPr>
        <p:spPr>
          <a:xfrm>
            <a:off x="3420000" y="1923480"/>
            <a:ext cx="864360" cy="3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476" name="直接连接符 14"/>
          <p:cNvCxnSpPr/>
          <p:nvPr/>
        </p:nvCxnSpPr>
        <p:spPr>
          <a:xfrm>
            <a:off x="3492360" y="3489480"/>
            <a:ext cx="864720" cy="3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sp>
        <p:nvSpPr>
          <p:cNvPr id="477" name="文本框 15"/>
          <p:cNvSpPr/>
          <p:nvPr/>
        </p:nvSpPr>
        <p:spPr>
          <a:xfrm>
            <a:off x="4284360" y="1728000"/>
            <a:ext cx="13107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负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6"/>
          <p:cNvSpPr/>
          <p:nvPr/>
        </p:nvSpPr>
        <p:spPr>
          <a:xfrm>
            <a:off x="4356720" y="3280320"/>
            <a:ext cx="13107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尽责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直接箭头连接符 17"/>
          <p:cNvCxnSpPr/>
          <p:nvPr/>
        </p:nvCxnSpPr>
        <p:spPr>
          <a:xfrm>
            <a:off x="6063480" y="1873800"/>
            <a:ext cx="20520" cy="1724040"/>
          </a:xfrm>
          <a:prstGeom prst="straightConnector1">
            <a:avLst/>
          </a:prstGeom>
          <a:ln w="38100">
            <a:solidFill>
              <a:srgbClr val="000000"/>
            </a:solidFill>
            <a:tailEnd len="med" type="arrow" w="med"/>
          </a:ln>
        </p:spPr>
      </p:cxnSp>
      <p:sp>
        <p:nvSpPr>
          <p:cNvPr id="480" name="文本框 18"/>
          <p:cNvSpPr/>
          <p:nvPr/>
        </p:nvSpPr>
        <p:spPr>
          <a:xfrm>
            <a:off x="6084000" y="2315520"/>
            <a:ext cx="2270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苦中真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承担责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1"/>
          <p:cNvGrpSpPr/>
          <p:nvPr/>
        </p:nvGrpSpPr>
        <p:grpSpPr>
          <a:xfrm>
            <a:off x="0" y="681480"/>
            <a:ext cx="2050920" cy="516240"/>
            <a:chOff x="0" y="681480"/>
            <a:chExt cx="2050920" cy="516240"/>
          </a:xfrm>
        </p:grpSpPr>
        <p:sp>
          <p:nvSpPr>
            <p:cNvPr id="173" name="文本框 6"/>
            <p:cNvSpPr/>
            <p:nvPr/>
          </p:nvSpPr>
          <p:spPr>
            <a:xfrm>
              <a:off x="723240" y="681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直线连接符 9"/>
            <p:cNvCxnSpPr/>
            <p:nvPr/>
          </p:nvCxnSpPr>
          <p:spPr>
            <a:xfrm>
              <a:off x="0" y="104580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75" name="菱形 15"/>
            <p:cNvSpPr/>
            <p:nvPr/>
          </p:nvSpPr>
          <p:spPr>
            <a:xfrm>
              <a:off x="79200" y="78264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176" name="文本框 1"/>
          <p:cNvSpPr/>
          <p:nvPr/>
        </p:nvSpPr>
        <p:spPr>
          <a:xfrm>
            <a:off x="276120" y="1436400"/>
            <a:ext cx="8831880" cy="212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掌握有关议论文的知识，理解文章的内容，明确作者的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本文流畅而凝练的语言，学习课文在论述过程中展现中心论点的写法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悟作者伟大的智慧及苦乐观，培养对他人、对社会、对自己的责任感。（素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482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3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84" name="菱形 18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85" name="文本框 99"/>
          <p:cNvSpPr/>
          <p:nvPr/>
        </p:nvSpPr>
        <p:spPr>
          <a:xfrm>
            <a:off x="550080" y="1523520"/>
            <a:ext cx="74779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契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qiè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揽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lǎ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悲天悯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mǐ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卸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xiè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赔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pé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如释重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h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恩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hu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缠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chán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自投苦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tó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坟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mù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大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dǐ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心安理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ā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"/>
          <p:cNvSpPr/>
          <p:nvPr/>
        </p:nvSpPr>
        <p:spPr>
          <a:xfrm>
            <a:off x="5777280" y="1131120"/>
            <a:ext cx="33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3"/>
          <p:cNvSpPr/>
          <p:nvPr/>
        </p:nvSpPr>
        <p:spPr>
          <a:xfrm>
            <a:off x="1664280" y="4083840"/>
            <a:ext cx="216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解析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契”应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"/>
          <p:cNvSpPr/>
          <p:nvPr/>
        </p:nvSpPr>
        <p:spPr>
          <a:xfrm>
            <a:off x="550080" y="1145520"/>
            <a:ext cx="648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列加线字的注音有误的一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 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1"/>
          <p:cNvSpPr/>
          <p:nvPr/>
        </p:nvSpPr>
        <p:spPr>
          <a:xfrm>
            <a:off x="467640" y="1383480"/>
            <a:ext cx="8123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治理雾霾任重道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时候蓝天才能成为生活常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这场英超比赛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曼联在主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∶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战胜了斯托克城。赛后林加德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场比赛让人如释重负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其争得头破血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如各退一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阔天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说自己当村干部几十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群众办事就是图个心平气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得起自己的良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"/>
          <p:cNvSpPr/>
          <p:nvPr/>
        </p:nvSpPr>
        <p:spPr>
          <a:xfrm>
            <a:off x="6410520" y="109152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4"/>
          <p:cNvSpPr/>
          <p:nvPr/>
        </p:nvSpPr>
        <p:spPr>
          <a:xfrm>
            <a:off x="253080" y="4435560"/>
            <a:ext cx="80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解析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平气和”指心里平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急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生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在此处不符合语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改为“心安理得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493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4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495" name="菱形 18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496" name="矩形 2"/>
          <p:cNvSpPr/>
          <p:nvPr/>
        </p:nvSpPr>
        <p:spPr>
          <a:xfrm>
            <a:off x="467640" y="1091520"/>
            <a:ext cx="763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列句子中加线成语使用有误的一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文本框 1"/>
          <p:cNvSpPr/>
          <p:nvPr/>
        </p:nvSpPr>
        <p:spPr>
          <a:xfrm>
            <a:off x="425520" y="1577160"/>
            <a:ext cx="825048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生什么事最苦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贫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是。失意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是。老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死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不是。我说人生最苦的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若于身上背着一种未了的责任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孔子所以说“无入而不自得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是这种作用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得大的责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就得大快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得小的责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就得小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3"/>
          <p:cNvSpPr/>
          <p:nvPr/>
        </p:nvSpPr>
        <p:spPr>
          <a:xfrm>
            <a:off x="1646640" y="2334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设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4"/>
          <p:cNvSpPr/>
          <p:nvPr/>
        </p:nvSpPr>
        <p:spPr>
          <a:xfrm>
            <a:off x="7482240" y="2658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引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5"/>
          <p:cNvSpPr/>
          <p:nvPr/>
        </p:nvSpPr>
        <p:spPr>
          <a:xfrm>
            <a:off x="7911360" y="3381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02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04" name="菱形 18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05" name="矩形 2"/>
          <p:cNvSpPr/>
          <p:nvPr/>
        </p:nvSpPr>
        <p:spPr>
          <a:xfrm>
            <a:off x="2579400" y="1167480"/>
            <a:ext cx="64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指出下列句子使用的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1"/>
          <p:cNvSpPr/>
          <p:nvPr/>
        </p:nvSpPr>
        <p:spPr>
          <a:xfrm>
            <a:off x="251640" y="1602000"/>
            <a:ext cx="837216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个人如果要开创自己的光明前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键在于要靠持之以恒的努力和付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年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国出境游的公民素质明显加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境外受访者多表示中国游客的形象大有改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州白云国际机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航站楼已经全面启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是建设广州国际航空港的一项重大举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广深港高铁香港段总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由香港特区政府出资并委托港铁公司兴建和规划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3"/>
          <p:cNvSpPr/>
          <p:nvPr/>
        </p:nvSpPr>
        <p:spPr>
          <a:xfrm>
            <a:off x="5052960" y="115416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09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11" name="菱形 18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12" name="矩形 2"/>
          <p:cNvSpPr/>
          <p:nvPr/>
        </p:nvSpPr>
        <p:spPr>
          <a:xfrm>
            <a:off x="245160" y="1171080"/>
            <a:ext cx="7062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列句子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没有语病的一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文本框 1"/>
          <p:cNvSpPr/>
          <p:nvPr/>
        </p:nvSpPr>
        <p:spPr>
          <a:xfrm>
            <a:off x="323640" y="1427760"/>
            <a:ext cx="8443080" cy="15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的中心句是“人生最苦的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若于身上背着一种未来的责任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“但是他日日在那里尽责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便日日在那里得苦中真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以他到底还是乐不是苦呀”中的“他”指代的是仁人志士和诸圣诸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段中引用了孟子和曾子的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孟子的话用作论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曾子的话用作论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以《最苦与最乐》为题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不以《苦与乐》为题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因为本文是从“最苦”和“最乐”两个侧面来谈“人要尽责任”的道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苦与乐”与本文的主要内容“尽责任”关系不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以不以《苦与乐》为题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2"/>
          <p:cNvSpPr/>
          <p:nvPr/>
        </p:nvSpPr>
        <p:spPr>
          <a:xfrm>
            <a:off x="375120" y="4569480"/>
            <a:ext cx="655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孟子和曾子的话都是论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3"/>
          <p:cNvSpPr/>
          <p:nvPr/>
        </p:nvSpPr>
        <p:spPr>
          <a:xfrm>
            <a:off x="4135680" y="105948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5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17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堂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19" name="菱形 18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20" name="矩形 4"/>
          <p:cNvSpPr/>
          <p:nvPr/>
        </p:nvSpPr>
        <p:spPr>
          <a:xfrm>
            <a:off x="1919880" y="1081800"/>
            <a:ext cx="142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列说法有误的一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矩形 2"/>
          <p:cNvSpPr/>
          <p:nvPr/>
        </p:nvSpPr>
        <p:spPr>
          <a:xfrm>
            <a:off x="394200" y="1815840"/>
            <a:ext cx="8641800" cy="191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14b3d2"/>
                </a:solidFill>
                <a:latin typeface="幼圆"/>
                <a:ea typeface="幼圆"/>
              </a:rPr>
              <a:t>    </a:t>
            </a:r>
            <a:r>
              <a:rPr b="0" lang="zh-CN" sz="2000" spc="-1" strike="noStrike">
                <a:solidFill>
                  <a:srgbClr val="14b3d2"/>
                </a:solidFill>
                <a:latin typeface="幼圆"/>
                <a:ea typeface="幼圆"/>
              </a:rPr>
              <a:t>天下兴亡，匹夫有责。——顾炎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14b3d2"/>
                </a:solidFill>
                <a:latin typeface="幼圆"/>
                <a:ea typeface="幼圆"/>
              </a:rPr>
              <a:t>    </a:t>
            </a:r>
            <a:r>
              <a:rPr b="0" lang="zh-CN" sz="2000" spc="-1" strike="noStrike">
                <a:solidFill>
                  <a:srgbClr val="14b3d2"/>
                </a:solidFill>
                <a:latin typeface="幼圆"/>
                <a:ea typeface="幼圆"/>
              </a:rPr>
              <a:t>铁肩担道义。——李大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14b3d2"/>
                </a:solidFill>
                <a:latin typeface="幼圆"/>
                <a:ea typeface="幼圆"/>
              </a:rPr>
              <a:t>    </a:t>
            </a:r>
            <a:r>
              <a:rPr b="0" lang="zh-CN" sz="2000" spc="-1" strike="noStrike">
                <a:solidFill>
                  <a:srgbClr val="14b3d2"/>
                </a:solidFill>
                <a:latin typeface="幼圆"/>
                <a:ea typeface="幼圆"/>
              </a:rPr>
              <a:t>高尚、伟大的代价就是责任。——（英）丘吉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14b3d2"/>
                </a:solidFill>
                <a:latin typeface="幼圆"/>
                <a:ea typeface="幼圆"/>
              </a:rPr>
              <a:t>    </a:t>
            </a:r>
            <a:r>
              <a:rPr b="0" lang="zh-CN" sz="2000" spc="-1" strike="noStrike">
                <a:solidFill>
                  <a:srgbClr val="14b3d2"/>
                </a:solidFill>
                <a:latin typeface="幼圆"/>
                <a:ea typeface="幼圆"/>
              </a:rPr>
              <a:t>每一个人都应该有这样的信心：人所能负的责任，我必能负；人所不能负的责任，我亦能负。如此，你才能磨炼自己，求得更高的知识而进入更高的境界。——（美）林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23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4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25" name="菱形 9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26" name="TextBox 1"/>
          <p:cNvSpPr/>
          <p:nvPr/>
        </p:nvSpPr>
        <p:spPr>
          <a:xfrm>
            <a:off x="2843640" y="1221480"/>
            <a:ext cx="3600000" cy="3639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于“责任”的名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1"/>
          <p:cNvGrpSpPr/>
          <p:nvPr/>
        </p:nvGrpSpPr>
        <p:grpSpPr>
          <a:xfrm>
            <a:off x="3866400" y="1005840"/>
            <a:ext cx="1717560" cy="441000"/>
            <a:chOff x="3866400" y="1005840"/>
            <a:chExt cx="1717560" cy="441000"/>
          </a:xfrm>
        </p:grpSpPr>
        <p:sp>
          <p:nvSpPr>
            <p:cNvPr id="528" name="圆角矩形 16"/>
            <p:cNvSpPr/>
            <p:nvPr/>
          </p:nvSpPr>
          <p:spPr>
            <a:xfrm rot="555600">
              <a:off x="5118480" y="1063800"/>
              <a:ext cx="44280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29" name="圆角矩形 18"/>
            <p:cNvSpPr/>
            <p:nvPr/>
          </p:nvSpPr>
          <p:spPr>
            <a:xfrm rot="20470800">
              <a:off x="4713480" y="1068840"/>
              <a:ext cx="44280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30" name="圆角矩形 19"/>
            <p:cNvSpPr/>
            <p:nvPr/>
          </p:nvSpPr>
          <p:spPr>
            <a:xfrm rot="319200">
              <a:off x="4294440" y="1068480"/>
              <a:ext cx="44064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531" name="圆角矩形 20"/>
            <p:cNvSpPr/>
            <p:nvPr/>
          </p:nvSpPr>
          <p:spPr>
            <a:xfrm rot="21148200">
              <a:off x="3885120" y="1074600"/>
              <a:ext cx="440640" cy="31536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32" name="矩形 1"/>
          <p:cNvSpPr/>
          <p:nvPr/>
        </p:nvSpPr>
        <p:spPr>
          <a:xfrm>
            <a:off x="3852000" y="955800"/>
            <a:ext cx="1742760" cy="63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43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拓展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34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5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36" name="菱形 15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37" name="文本框 1"/>
          <p:cNvSpPr/>
          <p:nvPr/>
        </p:nvSpPr>
        <p:spPr>
          <a:xfrm>
            <a:off x="201600" y="1383480"/>
            <a:ext cx="8834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做难事必有所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徐长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金一南说：“做难事必有所得。”诚哉斯言！这也是金一南的亲身体验与成功之道。金一南年轻时，在一家制造玻璃瓶的工厂当工人，他开始吹拉的玻璃瓶都是奇形怪状的，没有一个成形的。他下定决心，刻苦钻研，三个手指头的肉都烫坏了，终于制作的玻璃瓶子又好又快又多。后来，金一南考取了军事院校，以顽强的毅力学习英语，毕业后在大学任教并从事学术研究工作。他常常废寝忘食地研读与搜集大量红军资料，不畏劳累地写出了多部有关红军研究的著作，深受广大读者的敬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"/>
          <p:cNvSpPr/>
          <p:nvPr/>
        </p:nvSpPr>
        <p:spPr>
          <a:xfrm>
            <a:off x="395640" y="1129680"/>
            <a:ext cx="84967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年前，画家、航海家翟墨明知一人驾着无动力帆船进行环球航行，是无比艰难的，更有生命危险，但他觉得这样的航海可以为祖国争光，可以在征服海洋的同时征服自己、超越自我。于是，在缺乏航海经验的情况下，他还是买了条旧帆船，毅然决然地从山东日照出发，进行远航。途中，他经历了千难万险，在穿越印度洋时，遇上狂风暴雨，浪高七米，随时都有被大海吞没的危险。那时，他把自己绑在船的甲板上，小腿上绑着水手刀，任凭风吹浪打，随时做着死亡的准备。经历了七天七夜，他才脱离了险境。在经过海上美军某基地时，被美军关押。美军在搞清他的真实身份后，又帮他修好了船，友好地送他继续航行。在大西洋的一个海域，虽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40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1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42" name="菱形 5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文本框 1"/>
          <p:cNvSpPr/>
          <p:nvPr/>
        </p:nvSpPr>
        <p:spPr>
          <a:xfrm>
            <a:off x="418680" y="1121400"/>
            <a:ext cx="84013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平浪静，长久的寂寞又给他带来了无限的恐惧，但他挺了过来。有一条巨鲨，尾随在他的船后很多天，他也没有被吓倒。在南太平洋的一个岛上，土著人待他很友好，酋长的女儿还想嫁给他，但为了完成环球航行的大业，他毅然地“逃”了。经过好望角时，那里的人们被他的勇敢行为所感动，举办宴会邀请他。当他继续航行时，停在那里的所有船舶都鸣笛为他壮行。经过两年多的拼搏，翟墨终于又回到了日照。翟墨实践了“做难事必有所得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达尔文年轻时就在学习和钻研动植物学上下功夫，能细心地对一些动植物进行反复观察，有时连吃饭也忘掉了。他大量采集植物和昆虫，把它们制成标本。后来，他大胆地好不容易在英国乘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45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6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47" name="菱形 15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文本框 1"/>
          <p:cNvSpPr/>
          <p:nvPr/>
        </p:nvSpPr>
        <p:spPr>
          <a:xfrm>
            <a:off x="200880" y="1059480"/>
            <a:ext cx="861948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一艘到南美洲去的邮轮，孤身一人到南美洲进行动植物考察和收集样品。在那里，他风餐露宿，忍饥挨饿，经历了很多风险和磨难。通过多年考察、搜集和研究，达尔文撰写了巨著《物种起源》，表达了“物竞天择，适者生存”的观点，推动了世界生物学的进步。可以说，达尔文的卓越成就是他不畏艰苦和敢于做难事而取得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常言道：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”一个人要想做出令人惊羡的成就，不想做难事是不行的。有些人贪图安逸，做事拈轻怕重，生怕吃苦受累，生怕多费了心血多动了脑筋。这样想这样做，怎么能做出更大的成就呢？“世上无难事，只要肯登攀。”难事不难，只要肯做，就会有意想不到的收获。不妨敢于、乐于多做点难事大事，迎难而上，知难而进，必有所得。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自《做人与处世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50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1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52" name="菱形 15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8"/>
          <p:cNvGrpSpPr/>
          <p:nvPr/>
        </p:nvGrpSpPr>
        <p:grpSpPr>
          <a:xfrm>
            <a:off x="0" y="666720"/>
            <a:ext cx="2050920" cy="516240"/>
            <a:chOff x="0" y="666720"/>
            <a:chExt cx="2050920" cy="516240"/>
          </a:xfrm>
        </p:grpSpPr>
        <p:sp>
          <p:nvSpPr>
            <p:cNvPr id="178" name="文本框 6"/>
            <p:cNvSpPr/>
            <p:nvPr/>
          </p:nvSpPr>
          <p:spPr>
            <a:xfrm>
              <a:off x="430560" y="666720"/>
              <a:ext cx="16203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直线连接符 9"/>
            <p:cNvCxnSpPr/>
            <p:nvPr/>
          </p:nvCxnSpPr>
          <p:spPr>
            <a:xfrm>
              <a:off x="0" y="103104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80" name="菱形 21"/>
            <p:cNvSpPr/>
            <p:nvPr/>
          </p:nvSpPr>
          <p:spPr>
            <a:xfrm>
              <a:off x="79200" y="767880"/>
              <a:ext cx="350640" cy="2624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3404880" y="998280"/>
            <a:ext cx="1742760" cy="635760"/>
            <a:chOff x="3404880" y="998280"/>
            <a:chExt cx="1742760" cy="635760"/>
          </a:xfrm>
        </p:grpSpPr>
        <p:sp>
          <p:nvSpPr>
            <p:cNvPr id="182" name="圆角矩形 14"/>
            <p:cNvSpPr/>
            <p:nvPr/>
          </p:nvSpPr>
          <p:spPr>
            <a:xfrm rot="555600">
              <a:off x="4673160" y="115128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3" name="圆角矩形 15"/>
            <p:cNvSpPr/>
            <p:nvPr/>
          </p:nvSpPr>
          <p:spPr>
            <a:xfrm rot="20470800">
              <a:off x="4268520" y="115632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4" name="圆角矩形 16"/>
            <p:cNvSpPr/>
            <p:nvPr/>
          </p:nvSpPr>
          <p:spPr>
            <a:xfrm rot="319200">
              <a:off x="3849120" y="1155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5" name="圆角矩形 17"/>
            <p:cNvSpPr/>
            <p:nvPr/>
          </p:nvSpPr>
          <p:spPr>
            <a:xfrm rot="21148200">
              <a:off x="3439800" y="116208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86" name="矩形 1"/>
            <p:cNvSpPr/>
            <p:nvPr/>
          </p:nvSpPr>
          <p:spPr>
            <a:xfrm>
              <a:off x="3404880" y="99828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作者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文本框 2"/>
          <p:cNvSpPr/>
          <p:nvPr/>
        </p:nvSpPr>
        <p:spPr>
          <a:xfrm>
            <a:off x="611640" y="1714320"/>
            <a:ext cx="5588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梁启超，字卓如，号任公，别号饮冰室主人。近代资产阶级改良主义者、学者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9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，他参与“戊戌变法”，变法失败后流亡日本。晚年他任清华学校研究院导师。他的文风流畅、犀利、凝炼。著有《饮冰室合集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s://ss1.bdstatic.com/70cFuXSh_Q1YnxGkpoWK1HF6hhy/it/u=2003041279,1061520280&amp;fm=26&amp;gp=0.jpg"/>
          <p:cNvPicPr/>
          <p:nvPr/>
        </p:nvPicPr>
        <p:blipFill>
          <a:blip r:embed="rId1"/>
          <a:stretch/>
        </p:blipFill>
        <p:spPr>
          <a:xfrm>
            <a:off x="6372360" y="1695600"/>
            <a:ext cx="2088000" cy="2387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1"/>
          <p:cNvSpPr/>
          <p:nvPr/>
        </p:nvSpPr>
        <p:spPr>
          <a:xfrm>
            <a:off x="407880" y="2988360"/>
            <a:ext cx="71881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面对文章结构层次划分正确的一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/②③//④         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/②③④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①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/③④           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①②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/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2"/>
          <p:cNvSpPr/>
          <p:nvPr/>
        </p:nvSpPr>
        <p:spPr>
          <a:xfrm>
            <a:off x="2458080" y="1369080"/>
            <a:ext cx="261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做难事必有所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文本框 3"/>
          <p:cNvSpPr/>
          <p:nvPr/>
        </p:nvSpPr>
        <p:spPr>
          <a:xfrm>
            <a:off x="452520" y="2301840"/>
            <a:ext cx="83674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例论证。通过列举大量例子有力地证明了“做难事必有所得”的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4"/>
          <p:cNvSpPr/>
          <p:nvPr/>
        </p:nvSpPr>
        <p:spPr>
          <a:xfrm>
            <a:off x="6217920" y="3057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58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60" name="菱形 15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61" name="矩形 5"/>
          <p:cNvSpPr/>
          <p:nvPr/>
        </p:nvSpPr>
        <p:spPr>
          <a:xfrm>
            <a:off x="349200" y="1037520"/>
            <a:ext cx="731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阅读全文，你认为本文的中心论点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6"/>
          <p:cNvSpPr/>
          <p:nvPr/>
        </p:nvSpPr>
        <p:spPr>
          <a:xfrm>
            <a:off x="323640" y="1653480"/>
            <a:ext cx="864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在论证论点的过程中，主要采用了哪种论证方法？有什么作用？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文本框 1"/>
          <p:cNvSpPr/>
          <p:nvPr/>
        </p:nvSpPr>
        <p:spPr>
          <a:xfrm>
            <a:off x="297360" y="1923840"/>
            <a:ext cx="8666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最苦与最乐》中说：“什么事最快乐呢？自然责任完了，算是人生第一件乐事。古语说得好，‘如释重负’；俗语亦说的是，‘心上一块石头落了地’。人到这个时候，那种轻松愉快，真是不可以言语形容。”结合本文内容，谈谈你对“最苦与最乐”的理解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2"/>
          <p:cNvSpPr/>
          <p:nvPr/>
        </p:nvSpPr>
        <p:spPr>
          <a:xfrm>
            <a:off x="2043000" y="1491480"/>
            <a:ext cx="480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宝剑锋从磨砺出，梅花香自苦寒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3"/>
          <p:cNvSpPr/>
          <p:nvPr/>
        </p:nvSpPr>
        <p:spPr>
          <a:xfrm>
            <a:off x="236160" y="3450600"/>
            <a:ext cx="86871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示例：一个人为了心中的追求，迎难而上，知难而进，必有所得。这份所得除了物质上的收获，更重要的是精神上的满足与享受，所有的磨难在成功的喜悦面前，都会显得一文不值。“最苦与最乐”是一种过程和结果，经历过的苦难最难忘，历经苦难后的快乐最令人陶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12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67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69" name="菱形 15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70" name="矩形 4"/>
          <p:cNvSpPr/>
          <p:nvPr/>
        </p:nvSpPr>
        <p:spPr>
          <a:xfrm>
            <a:off x="461160" y="1091520"/>
            <a:ext cx="864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结合文意在第④段的横线处补写一句诗。【补充论据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组合 8"/>
          <p:cNvGrpSpPr/>
          <p:nvPr/>
        </p:nvGrpSpPr>
        <p:grpSpPr>
          <a:xfrm>
            <a:off x="34920" y="627480"/>
            <a:ext cx="2008080" cy="516240"/>
            <a:chOff x="34920" y="627480"/>
            <a:chExt cx="2008080" cy="516240"/>
          </a:xfrm>
        </p:grpSpPr>
        <p:sp>
          <p:nvSpPr>
            <p:cNvPr id="572" name="文本框 6"/>
            <p:cNvSpPr/>
            <p:nvPr/>
          </p:nvSpPr>
          <p:spPr>
            <a:xfrm>
              <a:off x="713880" y="62748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课下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3" name="直线连接符 9"/>
            <p:cNvCxnSpPr/>
            <p:nvPr/>
          </p:nvCxnSpPr>
          <p:spPr>
            <a:xfrm>
              <a:off x="34920" y="991440"/>
              <a:ext cx="200844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574" name="菱形 13"/>
            <p:cNvSpPr/>
            <p:nvPr/>
          </p:nvSpPr>
          <p:spPr>
            <a:xfrm>
              <a:off x="69840" y="728640"/>
              <a:ext cx="35028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75" name="TextBox 2"/>
          <p:cNvSpPr/>
          <p:nvPr/>
        </p:nvSpPr>
        <p:spPr>
          <a:xfrm>
            <a:off x="1259640" y="1588320"/>
            <a:ext cx="6696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同意文中作者的观点吗？联系生活实际，说说你认为最苦或最乐的是什么，并简要论述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8"/>
          <p:cNvGrpSpPr/>
          <p:nvPr/>
        </p:nvGrpSpPr>
        <p:grpSpPr>
          <a:xfrm>
            <a:off x="0" y="666720"/>
            <a:ext cx="2050920" cy="516240"/>
            <a:chOff x="0" y="666720"/>
            <a:chExt cx="2050920" cy="516240"/>
          </a:xfrm>
        </p:grpSpPr>
        <p:sp>
          <p:nvSpPr>
            <p:cNvPr id="190" name="文本框 6"/>
            <p:cNvSpPr/>
            <p:nvPr/>
          </p:nvSpPr>
          <p:spPr>
            <a:xfrm>
              <a:off x="430560" y="666720"/>
              <a:ext cx="16203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直线连接符 9"/>
            <p:cNvCxnSpPr/>
            <p:nvPr/>
          </p:nvCxnSpPr>
          <p:spPr>
            <a:xfrm>
              <a:off x="0" y="103104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192" name="菱形 21"/>
            <p:cNvSpPr/>
            <p:nvPr/>
          </p:nvSpPr>
          <p:spPr>
            <a:xfrm>
              <a:off x="79200" y="767880"/>
              <a:ext cx="350640" cy="26244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193" name="组合 1"/>
          <p:cNvGrpSpPr/>
          <p:nvPr/>
        </p:nvGrpSpPr>
        <p:grpSpPr>
          <a:xfrm>
            <a:off x="3404880" y="955800"/>
            <a:ext cx="1742760" cy="635760"/>
            <a:chOff x="3404880" y="955800"/>
            <a:chExt cx="1742760" cy="635760"/>
          </a:xfrm>
        </p:grpSpPr>
        <p:sp>
          <p:nvSpPr>
            <p:cNvPr id="194" name="圆角矩形 14"/>
            <p:cNvSpPr/>
            <p:nvPr/>
          </p:nvSpPr>
          <p:spPr>
            <a:xfrm rot="555600">
              <a:off x="4673160" y="104364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圆角矩形 15"/>
            <p:cNvSpPr/>
            <p:nvPr/>
          </p:nvSpPr>
          <p:spPr>
            <a:xfrm rot="20470800">
              <a:off x="4268520" y="104832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圆角矩形 16"/>
            <p:cNvSpPr/>
            <p:nvPr/>
          </p:nvSpPr>
          <p:spPr>
            <a:xfrm rot="319200">
              <a:off x="3849120" y="104832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圆角矩形 17"/>
            <p:cNvSpPr/>
            <p:nvPr/>
          </p:nvSpPr>
          <p:spPr>
            <a:xfrm rot="21148200">
              <a:off x="3439800" y="105408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198" name="矩形 1"/>
            <p:cNvSpPr/>
            <p:nvPr/>
          </p:nvSpPr>
          <p:spPr>
            <a:xfrm>
              <a:off x="3404880" y="95580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文体知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7"/>
          <p:cNvSpPr/>
          <p:nvPr/>
        </p:nvSpPr>
        <p:spPr>
          <a:xfrm>
            <a:off x="336240" y="2679840"/>
            <a:ext cx="2723040" cy="3801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>
            <a:noFill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numCol="1" spcCol="0" horzOverflow="overflow" vertOverflow="overflow" lIns="90000" rIns="90000" tIns="45000" bIns="45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议论文的一般结构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1"/>
          <p:cNvSpPr/>
          <p:nvPr/>
        </p:nvSpPr>
        <p:spPr>
          <a:xfrm>
            <a:off x="1758960" y="3245400"/>
            <a:ext cx="729720" cy="363960"/>
          </a:xfrm>
          <a:prstGeom prst="rect">
            <a:avLst/>
          </a:prstGeom>
          <a:solidFill>
            <a:srgbClr val="b2f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出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2"/>
          <p:cNvSpPr/>
          <p:nvPr/>
        </p:nvSpPr>
        <p:spPr>
          <a:xfrm>
            <a:off x="3966840" y="3245400"/>
            <a:ext cx="729720" cy="363960"/>
          </a:xfrm>
          <a:prstGeom prst="rect">
            <a:avLst/>
          </a:prstGeom>
          <a:solidFill>
            <a:srgbClr val="b2f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析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3"/>
          <p:cNvSpPr/>
          <p:nvPr/>
        </p:nvSpPr>
        <p:spPr>
          <a:xfrm>
            <a:off x="6188760" y="3245400"/>
            <a:ext cx="729720" cy="363960"/>
          </a:xfrm>
          <a:prstGeom prst="rect">
            <a:avLst/>
          </a:prstGeom>
          <a:solidFill>
            <a:srgbClr val="b2f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决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右箭头 18"/>
          <p:cNvSpPr/>
          <p:nvPr/>
        </p:nvSpPr>
        <p:spPr>
          <a:xfrm>
            <a:off x="2828880" y="3359880"/>
            <a:ext cx="791640" cy="162000"/>
          </a:xfrm>
          <a:prstGeom prst="rightArrow">
            <a:avLst>
              <a:gd name="adj1" fmla="val 50000"/>
              <a:gd name="adj2" fmla="val 101759"/>
            </a:avLst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04" name="右箭头 19"/>
          <p:cNvSpPr/>
          <p:nvPr/>
        </p:nvSpPr>
        <p:spPr>
          <a:xfrm>
            <a:off x="5050800" y="3359880"/>
            <a:ext cx="791640" cy="162000"/>
          </a:xfrm>
          <a:prstGeom prst="rightArrow">
            <a:avLst>
              <a:gd name="adj1" fmla="val 50000"/>
              <a:gd name="adj2" fmla="val 101759"/>
            </a:avLst>
          </a:prstGeom>
          <a:solidFill>
            <a:srgbClr val="000000"/>
          </a:solidFill>
          <a:ln>
            <a:solidFill>
              <a:srgbClr val="0000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205" name="圆角矩形标注 23"/>
          <p:cNvSpPr/>
          <p:nvPr/>
        </p:nvSpPr>
        <p:spPr>
          <a:xfrm>
            <a:off x="1188720" y="3755880"/>
            <a:ext cx="2206440" cy="651600"/>
          </a:xfrm>
          <a:prstGeom prst="wedgeRoundRectCallout">
            <a:avLst>
              <a:gd name="adj1" fmla="val -20844"/>
              <a:gd name="adj2" fmla="val -68589"/>
              <a:gd name="adj3" fmla="val 16667"/>
            </a:avLst>
          </a:prstGeom>
          <a:noFill/>
          <a:ln w="12700">
            <a:solidFill>
              <a:srgbClr val="333399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提出问题就是引出论述中心，提出论点。（引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24"/>
          <p:cNvSpPr/>
          <p:nvPr/>
        </p:nvSpPr>
        <p:spPr>
          <a:xfrm>
            <a:off x="3724920" y="3755880"/>
            <a:ext cx="1903320" cy="651600"/>
          </a:xfrm>
          <a:prstGeom prst="wedgeRoundRectCallout">
            <a:avLst>
              <a:gd name="adj1" fmla="val -20844"/>
              <a:gd name="adj2" fmla="val -68589"/>
              <a:gd name="adj3" fmla="val 16667"/>
            </a:avLst>
          </a:prstGeom>
          <a:noFill/>
          <a:ln w="12700">
            <a:solidFill>
              <a:srgbClr val="333399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分析问题就是摆出论据来证明论点。（本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圆角矩形标注 25"/>
          <p:cNvSpPr/>
          <p:nvPr/>
        </p:nvSpPr>
        <p:spPr>
          <a:xfrm>
            <a:off x="6016680" y="3755880"/>
            <a:ext cx="1755360" cy="587160"/>
          </a:xfrm>
          <a:prstGeom prst="wedgeRoundRectCallout">
            <a:avLst>
              <a:gd name="adj1" fmla="val -20844"/>
              <a:gd name="adj2" fmla="val -68589"/>
              <a:gd name="adj3" fmla="val 16667"/>
            </a:avLst>
          </a:prstGeom>
          <a:noFill/>
          <a:ln w="12700">
            <a:solidFill>
              <a:srgbClr val="333399">
                <a:lumMod val="75000"/>
              </a:srgbClr>
            </a:solidFill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宋体"/>
              </a:rPr>
              <a:t>解决问题就是得出结论。（结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"/>
          <p:cNvSpPr/>
          <p:nvPr/>
        </p:nvSpPr>
        <p:spPr>
          <a:xfrm>
            <a:off x="323640" y="1491480"/>
            <a:ext cx="8349120" cy="4186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议论文：以议论为主要表达方式，通过摆事实、讲道理，直接表达作者的观点和主张的常用文体。议论文分为立论文和驳论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2"/>
          <p:cNvGrpSpPr/>
          <p:nvPr/>
        </p:nvGrpSpPr>
        <p:grpSpPr>
          <a:xfrm>
            <a:off x="539640" y="1091880"/>
            <a:ext cx="1496520" cy="635760"/>
            <a:chOff x="539640" y="1091880"/>
            <a:chExt cx="1496520" cy="635760"/>
          </a:xfrm>
        </p:grpSpPr>
        <p:sp>
          <p:nvSpPr>
            <p:cNvPr id="210" name="圆角矩形 56"/>
            <p:cNvSpPr/>
            <p:nvPr/>
          </p:nvSpPr>
          <p:spPr>
            <a:xfrm rot="20326200">
              <a:off x="1532880" y="118224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1" name="圆角矩形 57"/>
            <p:cNvSpPr/>
            <p:nvPr/>
          </p:nvSpPr>
          <p:spPr>
            <a:xfrm rot="319200">
              <a:off x="1045800" y="11844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2" name="圆角矩形 58"/>
            <p:cNvSpPr/>
            <p:nvPr/>
          </p:nvSpPr>
          <p:spPr>
            <a:xfrm rot="21148200">
              <a:off x="574560" y="11901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矩形 1"/>
            <p:cNvSpPr/>
            <p:nvPr/>
          </p:nvSpPr>
          <p:spPr>
            <a:xfrm>
              <a:off x="539640" y="1091880"/>
              <a:ext cx="149652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读一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8"/>
          <p:cNvGrpSpPr/>
          <p:nvPr/>
        </p:nvGrpSpPr>
        <p:grpSpPr>
          <a:xfrm>
            <a:off x="0" y="666720"/>
            <a:ext cx="2050920" cy="516240"/>
            <a:chOff x="0" y="666720"/>
            <a:chExt cx="2050920" cy="516240"/>
          </a:xfrm>
        </p:grpSpPr>
        <p:sp>
          <p:nvSpPr>
            <p:cNvPr id="215" name="文本框 6"/>
            <p:cNvSpPr/>
            <p:nvPr/>
          </p:nvSpPr>
          <p:spPr>
            <a:xfrm>
              <a:off x="723240" y="6667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预习检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直线连接符 9"/>
            <p:cNvCxnSpPr/>
            <p:nvPr/>
          </p:nvCxnSpPr>
          <p:spPr>
            <a:xfrm>
              <a:off x="0" y="103068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17" name="菱形 63"/>
            <p:cNvSpPr/>
            <p:nvPr/>
          </p:nvSpPr>
          <p:spPr>
            <a:xfrm>
              <a:off x="7920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18" name="矩形 2"/>
          <p:cNvSpPr/>
          <p:nvPr/>
        </p:nvSpPr>
        <p:spPr>
          <a:xfrm>
            <a:off x="1167120" y="169344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u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6902640" y="1694160"/>
            <a:ext cx="48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"/>
          <p:cNvSpPr/>
          <p:nvPr/>
        </p:nvSpPr>
        <p:spPr>
          <a:xfrm>
            <a:off x="4516560" y="266544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2467800" y="1639440"/>
            <a:ext cx="371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1224720" y="2665440"/>
            <a:ext cx="434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7520040" y="2665440"/>
            <a:ext cx="548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ǐ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2455920" y="266544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9"/>
          <p:cNvSpPr/>
          <p:nvPr/>
        </p:nvSpPr>
        <p:spPr>
          <a:xfrm>
            <a:off x="4438800" y="1693440"/>
            <a:ext cx="472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"/>
          <p:cNvSpPr/>
          <p:nvPr/>
        </p:nvSpPr>
        <p:spPr>
          <a:xfrm>
            <a:off x="916920" y="1923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恩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0"/>
          <p:cNvSpPr/>
          <p:nvPr/>
        </p:nvSpPr>
        <p:spPr>
          <a:xfrm>
            <a:off x="2715840" y="1932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契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1"/>
          <p:cNvSpPr/>
          <p:nvPr/>
        </p:nvSpPr>
        <p:spPr>
          <a:xfrm>
            <a:off x="4674960" y="1923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卸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2"/>
          <p:cNvSpPr/>
          <p:nvPr/>
        </p:nvSpPr>
        <p:spPr>
          <a:xfrm>
            <a:off x="7053480" y="192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释重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3"/>
          <p:cNvSpPr/>
          <p:nvPr/>
        </p:nvSpPr>
        <p:spPr>
          <a:xfrm>
            <a:off x="962640" y="2904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4"/>
          <p:cNvSpPr/>
          <p:nvPr/>
        </p:nvSpPr>
        <p:spPr>
          <a:xfrm>
            <a:off x="2529000" y="2949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5"/>
          <p:cNvSpPr/>
          <p:nvPr/>
        </p:nvSpPr>
        <p:spPr>
          <a:xfrm>
            <a:off x="4746960" y="29588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赔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6"/>
          <p:cNvSpPr/>
          <p:nvPr/>
        </p:nvSpPr>
        <p:spPr>
          <a:xfrm>
            <a:off x="7125480" y="2958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悲天悯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"/>
          <p:cNvGrpSpPr/>
          <p:nvPr/>
        </p:nvGrpSpPr>
        <p:grpSpPr>
          <a:xfrm>
            <a:off x="539640" y="1091880"/>
            <a:ext cx="1498320" cy="635760"/>
            <a:chOff x="539640" y="1091880"/>
            <a:chExt cx="1498320" cy="635760"/>
          </a:xfrm>
        </p:grpSpPr>
        <p:sp>
          <p:nvSpPr>
            <p:cNvPr id="235" name="圆角矩形 2"/>
            <p:cNvSpPr/>
            <p:nvPr/>
          </p:nvSpPr>
          <p:spPr>
            <a:xfrm rot="20326200">
              <a:off x="1532880" y="118224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36" name="圆角矩形 3"/>
            <p:cNvSpPr/>
            <p:nvPr/>
          </p:nvSpPr>
          <p:spPr>
            <a:xfrm rot="319200">
              <a:off x="1047240" y="11844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37" name="圆角矩形 4"/>
            <p:cNvSpPr/>
            <p:nvPr/>
          </p:nvSpPr>
          <p:spPr>
            <a:xfrm rot="21148200">
              <a:off x="574560" y="11901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矩形 1"/>
            <p:cNvSpPr/>
            <p:nvPr/>
          </p:nvSpPr>
          <p:spPr>
            <a:xfrm>
              <a:off x="539640" y="1091880"/>
              <a:ext cx="149832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形近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1"/>
          <p:cNvSpPr/>
          <p:nvPr/>
        </p:nvSpPr>
        <p:spPr>
          <a:xfrm>
            <a:off x="323640" y="2325240"/>
            <a:ext cx="3444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陪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1152360" y="2763360"/>
            <a:ext cx="1003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倍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5496480" y="134388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卸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5513400" y="208008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御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左大括号 21"/>
          <p:cNvSpPr/>
          <p:nvPr/>
        </p:nvSpPr>
        <p:spPr>
          <a:xfrm>
            <a:off x="456840" y="2031120"/>
            <a:ext cx="267840" cy="1503360"/>
          </a:xfrm>
          <a:prstGeom prst="leftBrace">
            <a:avLst>
              <a:gd name="adj1" fmla="val 31792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44" name="左大括号 22"/>
          <p:cNvSpPr/>
          <p:nvPr/>
        </p:nvSpPr>
        <p:spPr>
          <a:xfrm>
            <a:off x="4589640" y="1510920"/>
            <a:ext cx="248760" cy="887760"/>
          </a:xfrm>
          <a:prstGeom prst="leftBrace">
            <a:avLst>
              <a:gd name="adj1" fmla="val 31792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grpSp>
        <p:nvGrpSpPr>
          <p:cNvPr id="245" name="组合 8"/>
          <p:cNvGrpSpPr/>
          <p:nvPr/>
        </p:nvGrpSpPr>
        <p:grpSpPr>
          <a:xfrm>
            <a:off x="0" y="666720"/>
            <a:ext cx="2050920" cy="516240"/>
            <a:chOff x="0" y="666720"/>
            <a:chExt cx="2050920" cy="516240"/>
          </a:xfrm>
        </p:grpSpPr>
        <p:sp>
          <p:nvSpPr>
            <p:cNvPr id="246" name="文本框 6"/>
            <p:cNvSpPr/>
            <p:nvPr/>
          </p:nvSpPr>
          <p:spPr>
            <a:xfrm>
              <a:off x="723240" y="6667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预习检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直线连接符 9"/>
            <p:cNvCxnSpPr/>
            <p:nvPr/>
          </p:nvCxnSpPr>
          <p:spPr>
            <a:xfrm>
              <a:off x="0" y="103068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48" name="菱形 28"/>
            <p:cNvSpPr/>
            <p:nvPr/>
          </p:nvSpPr>
          <p:spPr>
            <a:xfrm>
              <a:off x="7920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49" name="TextBox 1"/>
          <p:cNvSpPr/>
          <p:nvPr/>
        </p:nvSpPr>
        <p:spPr>
          <a:xfrm>
            <a:off x="323640" y="1857240"/>
            <a:ext cx="2808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赔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152360" y="3296880"/>
            <a:ext cx="1003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焙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121560" y="18572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赔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163680" y="232524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陪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163680" y="276336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加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3182760" y="329796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烘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1789560" y="185724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1789560" y="229464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1789560" y="276300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è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803240" y="329724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è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7002360" y="2080080"/>
            <a:ext cx="569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防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7125120" y="134388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卸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5852520" y="1303560"/>
            <a:ext cx="472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5886720" y="2051640"/>
            <a:ext cx="421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549760" y="261648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契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5630760" y="361296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楔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左大括号 20"/>
          <p:cNvSpPr/>
          <p:nvPr/>
        </p:nvSpPr>
        <p:spPr>
          <a:xfrm>
            <a:off x="4661640" y="2841840"/>
            <a:ext cx="248760" cy="1092240"/>
          </a:xfrm>
          <a:prstGeom prst="leftBrace">
            <a:avLst>
              <a:gd name="adj1" fmla="val 31792"/>
              <a:gd name="adj2" fmla="val 5000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7017840" y="3614400"/>
            <a:ext cx="569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楔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7176600" y="261648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契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5929560" y="2576160"/>
            <a:ext cx="371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5987880" y="3614400"/>
            <a:ext cx="472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i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5549760" y="3097440"/>
            <a:ext cx="830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7451280" y="30974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锲而不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5914440" y="3097440"/>
            <a:ext cx="4842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1"/>
          <p:cNvGrpSpPr/>
          <p:nvPr/>
        </p:nvGrpSpPr>
        <p:grpSpPr>
          <a:xfrm>
            <a:off x="3255840" y="1066680"/>
            <a:ext cx="1742760" cy="635760"/>
            <a:chOff x="3255840" y="1066680"/>
            <a:chExt cx="1742760" cy="635760"/>
          </a:xfrm>
        </p:grpSpPr>
        <p:sp>
          <p:nvSpPr>
            <p:cNvPr id="274" name="圆角矩形 7"/>
            <p:cNvSpPr/>
            <p:nvPr/>
          </p:nvSpPr>
          <p:spPr>
            <a:xfrm rot="555600">
              <a:off x="4524120" y="11545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75" name="圆角矩形 8"/>
            <p:cNvSpPr/>
            <p:nvPr/>
          </p:nvSpPr>
          <p:spPr>
            <a:xfrm rot="20470800">
              <a:off x="4119480" y="11595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76" name="圆角矩形 9"/>
            <p:cNvSpPr/>
            <p:nvPr/>
          </p:nvSpPr>
          <p:spPr>
            <a:xfrm rot="319200">
              <a:off x="3700080" y="11592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圆角矩形 10"/>
            <p:cNvSpPr/>
            <p:nvPr/>
          </p:nvSpPr>
          <p:spPr>
            <a:xfrm rot="21148200">
              <a:off x="3290760" y="1164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278" name="矩形 1"/>
            <p:cNvSpPr/>
            <p:nvPr/>
          </p:nvSpPr>
          <p:spPr>
            <a:xfrm>
              <a:off x="3255840" y="106668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8"/>
          <p:cNvGrpSpPr/>
          <p:nvPr/>
        </p:nvGrpSpPr>
        <p:grpSpPr>
          <a:xfrm>
            <a:off x="0" y="666720"/>
            <a:ext cx="2050920" cy="516240"/>
            <a:chOff x="0" y="666720"/>
            <a:chExt cx="2050920" cy="516240"/>
          </a:xfrm>
        </p:grpSpPr>
        <p:sp>
          <p:nvSpPr>
            <p:cNvPr id="280" name="文本框 6"/>
            <p:cNvSpPr/>
            <p:nvPr/>
          </p:nvSpPr>
          <p:spPr>
            <a:xfrm>
              <a:off x="723240" y="6667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预习检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直线连接符 9"/>
            <p:cNvCxnSpPr/>
            <p:nvPr/>
          </p:nvCxnSpPr>
          <p:spPr>
            <a:xfrm>
              <a:off x="0" y="103068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82" name="菱形 28"/>
            <p:cNvSpPr/>
            <p:nvPr/>
          </p:nvSpPr>
          <p:spPr>
            <a:xfrm>
              <a:off x="7920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83" name="矩形 2"/>
          <p:cNvSpPr/>
          <p:nvPr/>
        </p:nvSpPr>
        <p:spPr>
          <a:xfrm>
            <a:off x="693000" y="1539000"/>
            <a:ext cx="1940760" cy="301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契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达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阔天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安理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1637640" y="1539000"/>
            <a:ext cx="66384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证明出卖、抵押、租赁等关系的文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3566880" y="2005920"/>
            <a:ext cx="2923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不如意的事情看得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"/>
          <p:cNvSpPr/>
          <p:nvPr/>
        </p:nvSpPr>
        <p:spPr>
          <a:xfrm>
            <a:off x="2376360" y="2508480"/>
            <a:ext cx="6372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容大自然的广阔，也比喻想象或说话毫无拘束，漫无边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2305800" y="3466440"/>
            <a:ext cx="58370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信事情做得合理，心里很坦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"/>
          <p:cNvSpPr/>
          <p:nvPr/>
        </p:nvSpPr>
        <p:spPr>
          <a:xfrm>
            <a:off x="467640" y="1693800"/>
            <a:ext cx="2539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重而道远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2469960" y="1766880"/>
            <a:ext cx="65523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务繁重，道路遥远。比喻责任重大而艰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"/>
          <p:cNvSpPr/>
          <p:nvPr/>
        </p:nvSpPr>
        <p:spPr>
          <a:xfrm>
            <a:off x="2213640" y="2597400"/>
            <a:ext cx="646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死了以后才停止。指奋斗到死为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"/>
          <p:cNvSpPr/>
          <p:nvPr/>
        </p:nvSpPr>
        <p:spPr>
          <a:xfrm>
            <a:off x="2195640" y="3128400"/>
            <a:ext cx="690372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仁爱之心的人；品德高尚，有志向、有抱负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8"/>
          <p:cNvGrpSpPr/>
          <p:nvPr/>
        </p:nvGrpSpPr>
        <p:grpSpPr>
          <a:xfrm>
            <a:off x="0" y="666720"/>
            <a:ext cx="2050920" cy="516240"/>
            <a:chOff x="0" y="666720"/>
            <a:chExt cx="2050920" cy="516240"/>
          </a:xfrm>
        </p:grpSpPr>
        <p:sp>
          <p:nvSpPr>
            <p:cNvPr id="293" name="文本框 6"/>
            <p:cNvSpPr/>
            <p:nvPr/>
          </p:nvSpPr>
          <p:spPr>
            <a:xfrm>
              <a:off x="723240" y="6667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预习检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直线连接符 9"/>
            <p:cNvCxnSpPr/>
            <p:nvPr/>
          </p:nvCxnSpPr>
          <p:spPr>
            <a:xfrm>
              <a:off x="0" y="1030680"/>
              <a:ext cx="2051280" cy="360"/>
            </a:xfrm>
            <a:prstGeom prst="straightConnector1">
              <a:avLst/>
            </a:prstGeom>
            <a:ln>
              <a:solidFill>
                <a:srgbClr val="0fb746"/>
              </a:solidFill>
            </a:ln>
          </p:spPr>
        </p:cxnSp>
        <p:sp>
          <p:nvSpPr>
            <p:cNvPr id="295" name="菱形 14"/>
            <p:cNvSpPr/>
            <p:nvPr/>
          </p:nvSpPr>
          <p:spPr>
            <a:xfrm>
              <a:off x="79200" y="767880"/>
              <a:ext cx="350640" cy="262800"/>
            </a:xfrm>
            <a:prstGeom prst="diamond">
              <a:avLst/>
            </a:prstGeom>
            <a:solidFill>
              <a:srgbClr val="0fb7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96" name="矩形 5"/>
          <p:cNvSpPr/>
          <p:nvPr/>
        </p:nvSpPr>
        <p:spPr>
          <a:xfrm>
            <a:off x="1127880" y="2516760"/>
            <a:ext cx="866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死而后已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6"/>
          <p:cNvSpPr/>
          <p:nvPr/>
        </p:nvSpPr>
        <p:spPr>
          <a:xfrm>
            <a:off x="1127880" y="3043800"/>
            <a:ext cx="866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仁人志士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"/>
          <p:cNvGrpSpPr/>
          <p:nvPr/>
        </p:nvGrpSpPr>
        <p:grpSpPr>
          <a:xfrm>
            <a:off x="3255840" y="1174680"/>
            <a:ext cx="1742760" cy="635760"/>
            <a:chOff x="3255840" y="1174680"/>
            <a:chExt cx="1742760" cy="635760"/>
          </a:xfrm>
        </p:grpSpPr>
        <p:sp>
          <p:nvSpPr>
            <p:cNvPr id="299" name="圆角矩形 16"/>
            <p:cNvSpPr/>
            <p:nvPr/>
          </p:nvSpPr>
          <p:spPr>
            <a:xfrm rot="555600">
              <a:off x="4524120" y="1262520"/>
              <a:ext cx="442440" cy="313920"/>
            </a:xfrm>
            <a:prstGeom prst="roundRect">
              <a:avLst>
                <a:gd name="adj" fmla="val 16667"/>
              </a:avLst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300" name="圆角矩形 17"/>
            <p:cNvSpPr/>
            <p:nvPr/>
          </p:nvSpPr>
          <p:spPr>
            <a:xfrm rot="20470800">
              <a:off x="4119480" y="1267560"/>
              <a:ext cx="442440" cy="315000"/>
            </a:xfrm>
            <a:prstGeom prst="roundRect">
              <a:avLst>
                <a:gd name="adj" fmla="val 16667"/>
              </a:avLst>
            </a:prstGeom>
            <a:solidFill>
              <a:schemeClr val="accent3">
                <a:lumMod val="50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301" name="圆角矩形 18"/>
            <p:cNvSpPr/>
            <p:nvPr/>
          </p:nvSpPr>
          <p:spPr>
            <a:xfrm rot="319200">
              <a:off x="3700080" y="126720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302" name="圆角矩形 19"/>
            <p:cNvSpPr/>
            <p:nvPr/>
          </p:nvSpPr>
          <p:spPr>
            <a:xfrm rot="21148200">
              <a:off x="3290760" y="1272960"/>
              <a:ext cx="441000" cy="315000"/>
            </a:xfrm>
            <a:prstGeom prst="roundRect">
              <a:avLst>
                <a:gd name="adj" fmla="val 16667"/>
              </a:avLst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chemeClr val="dk1"/>
                </a:solidFill>
                <a:latin typeface="Arial"/>
                <a:ea typeface="宋体"/>
              </a:endParaRPr>
            </a:p>
          </p:txBody>
        </p:sp>
        <p:sp>
          <p:nvSpPr>
            <p:cNvPr id="303" name="矩形 1"/>
            <p:cNvSpPr/>
            <p:nvPr/>
          </p:nvSpPr>
          <p:spPr>
            <a:xfrm>
              <a:off x="3255840" y="1174680"/>
              <a:ext cx="1742760" cy="635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词语解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Words>5544</Words>
  <Paragraphs>2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4:2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29T06:14:58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9</vt:lpwstr>
  </property>
  <property fmtid="{D5CDD505-2E9C-101B-9397-08002B2CF9AE}" pid="3" name="Notes">
    <vt:r8>1</vt:r8>
  </property>
  <property fmtid="{D5CDD505-2E9C-101B-9397-08002B2CF9AE}" pid="4" name="PresentationFormat">
    <vt:lpwstr>全屏显示(16:9)</vt:lpwstr>
  </property>
  <property fmtid="{D5CDD505-2E9C-101B-9397-08002B2CF9AE}" pid="5" name="Slides">
    <vt:r8>43</vt:r8>
  </property>
</Properties>
</file>